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C057-C251-4F1E-A427-5F7109FA56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ACA6-9EEF-4FCE-8858-413E9B5E0F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6997-A875-447A-80AF-E07B5E2660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64F4-33FF-4CEF-AC71-891EC85D52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9686-70F1-496F-89CC-7C9A71EB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B0EB-5681-4931-8EA5-B3ABBCB1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FBCE-CD00-4726-848A-1D9568AF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D885-C7C5-4887-ACCA-8B148D29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4A5E-6D7B-470C-8EA1-83D27147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1BAE-98A4-48FF-9ABB-36221D9F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7158-DFE3-4498-8751-EC53CD12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7EBA-52CB-4C7B-92C9-4CA6D8AF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74A4-B1E6-4FEA-B0A3-C0CC4F25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B722-F236-477F-98D8-41FB4D7C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CE8B-86F2-4A04-BE01-2291B334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2B58-ACB9-4C57-AE4D-90CBE1F8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0004-C54D-4A2D-AEAE-7AB9E4B2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D99B-1F80-4C8C-8C57-DDD4C096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8E1E-C9D7-46F0-983A-34BEB4E0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8EEF-E3B3-450D-9FF6-5B8E0DD5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C049-5628-4DE3-8D76-6130F8DFB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6B4C-9FA1-4A92-BCC9-D6775A3C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32CC-4330-4E69-A794-178E9181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ED5F-9BF2-4202-BF7A-995257E1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16B-B753-4E11-B069-97B60539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D2A3-4C9B-436D-A5CD-59AFD928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4AD-242F-4621-BD5D-645A2A1F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FAF-57CE-42EC-AD83-688E08BC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6DE3-A78B-4045-87EC-509628532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ableau 6"/>
          <p:cNvGrpSpPr/>
          <p:nvPr/>
        </p:nvGrpSpPr>
        <p:grpSpPr>
          <a:xfrm>
            <a:off x="357120" y="214200"/>
            <a:ext cx="8501040" cy="411120"/>
            <a:chOff x="357120" y="214200"/>
            <a:chExt cx="8501040" cy="411120"/>
          </a:xfrm>
        </p:grpSpPr>
        <p:sp>
          <p:nvSpPr>
            <p:cNvPr id="42" name=""/>
            <p:cNvSpPr/>
            <p:nvPr/>
          </p:nvSpPr>
          <p:spPr>
            <a:xfrm>
              <a:off x="357120" y="214200"/>
              <a:ext cx="59133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0" bIns="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808080"/>
                  </a:solidFill>
                  <a:latin typeface="Arial"/>
                  <a:ea typeface="Times New Roman"/>
                </a:rPr>
                <a:t>NOM  PLAN STRATÉGIQUE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70480" y="214200"/>
              <a:ext cx="2587680" cy="41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8800" rIns="28800" tIns="0" bIns="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PLAN  D’A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5E45-8273-4D8D-993E-1A3375DEBA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ZoneTexte 3"/>
          <p:cNvGrpSpPr/>
          <p:nvPr/>
        </p:nvGrpSpPr>
        <p:grpSpPr>
          <a:xfrm>
            <a:off x="378000" y="1579680"/>
            <a:ext cx="2498400" cy="534960"/>
            <a:chOff x="378000" y="1579680"/>
            <a:chExt cx="2498400" cy="534960"/>
          </a:xfrm>
        </p:grpSpPr>
        <p:pic>
          <p:nvPicPr>
            <p:cNvPr id="93" name="ZoneTexte 3" descr=""/>
            <p:cNvPicPr/>
            <p:nvPr/>
          </p:nvPicPr>
          <p:blipFill>
            <a:blip r:embed="rId1"/>
            <a:stretch/>
          </p:blipFill>
          <p:spPr>
            <a:xfrm>
              <a:off x="378000" y="1579680"/>
              <a:ext cx="249840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01560" y="1643040"/>
              <a:ext cx="211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Objectifs générau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Diagramme 4" descr=""/>
          <p:cNvPicPr/>
          <p:nvPr/>
        </p:nvPicPr>
        <p:blipFill>
          <a:blip r:embed="rId2"/>
          <a:stretch/>
        </p:blipFill>
        <p:spPr>
          <a:xfrm>
            <a:off x="281160" y="1322280"/>
            <a:ext cx="82296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ZoneTexte 3"/>
          <p:cNvGrpSpPr/>
          <p:nvPr/>
        </p:nvGrpSpPr>
        <p:grpSpPr>
          <a:xfrm>
            <a:off x="450720" y="1006560"/>
            <a:ext cx="1768680" cy="536400"/>
            <a:chOff x="450720" y="1006560"/>
            <a:chExt cx="1768680" cy="536400"/>
          </a:xfrm>
        </p:grpSpPr>
        <p:pic>
          <p:nvPicPr>
            <p:cNvPr id="97" name="ZoneTexte 3" descr=""/>
            <p:cNvPicPr/>
            <p:nvPr/>
          </p:nvPicPr>
          <p:blipFill>
            <a:blip r:embed="rId1"/>
            <a:stretch/>
          </p:blipFill>
          <p:spPr>
            <a:xfrm>
              <a:off x="450720" y="1006560"/>
              <a:ext cx="17686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80680" y="107172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Théma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Diagramme 4" descr=""/>
          <p:cNvPicPr/>
          <p:nvPr/>
        </p:nvPicPr>
        <p:blipFill>
          <a:blip r:embed="rId2"/>
          <a:stretch/>
        </p:blipFill>
        <p:spPr>
          <a:xfrm>
            <a:off x="493560" y="1395360"/>
            <a:ext cx="82965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ZoneTexte 3"/>
          <p:cNvGrpSpPr/>
          <p:nvPr/>
        </p:nvGrpSpPr>
        <p:grpSpPr>
          <a:xfrm>
            <a:off x="311040" y="1079640"/>
            <a:ext cx="2816280" cy="536400"/>
            <a:chOff x="311040" y="1079640"/>
            <a:chExt cx="2816280" cy="536400"/>
          </a:xfrm>
        </p:grpSpPr>
        <p:pic>
          <p:nvPicPr>
            <p:cNvPr id="101" name="ZoneTexte 3" descr=""/>
            <p:cNvPicPr/>
            <p:nvPr/>
          </p:nvPicPr>
          <p:blipFill>
            <a:blip r:embed="rId1"/>
            <a:stretch/>
          </p:blipFill>
          <p:spPr>
            <a:xfrm>
              <a:off x="311040" y="1079640"/>
              <a:ext cx="28162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43880" y="1143000"/>
              <a:ext cx="25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Classement des ac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857160" y="2214720"/>
          <a:ext cx="7500960" cy="4197240"/>
        </p:xfrm>
        <a:graphic>
          <a:graphicData uri="http://schemas.openxmlformats.org/drawingml/2006/table">
            <a:tbl>
              <a:tblPr/>
              <a:tblGrid>
                <a:gridCol w="2500560"/>
                <a:gridCol w="2500200"/>
                <a:gridCol w="2500200"/>
              </a:tblGrid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émat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orité (1-2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ude sur les mar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è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ude sur les 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è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finition des règles de g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iè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herche des loca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gist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chmark des solutions logici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èmes d’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tre en place une formation spécif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r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ruter des commerciau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sources huma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4:00:51Z</dcterms:created>
  <dc:creator>Utilisateur Windows</dc:creator>
  <dc:description/>
  <dc:language>en-US</dc:language>
  <cp:lastModifiedBy>Utilisateur Windows</cp:lastModifiedBy>
  <dcterms:modified xsi:type="dcterms:W3CDTF">2008-11-28T13:20:31Z</dcterms:modified>
  <cp:revision>5</cp:revision>
  <dc:subject/>
  <dc:title>Diapositive 1</dc:title>
</cp:coreProperties>
</file>