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6F2F-F028-48A0-A3F3-A2B23619FF8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E1B9-D762-4C4D-9F0B-95684CBA00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1DA5-403C-4F0F-9D60-30199C342C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C6B6-6F1D-4CC1-BB19-004BD0C1954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99F9-E955-4231-A49D-99A4B445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46E3-85C9-441D-94CC-12C2A62C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667D-D00A-45A9-B358-D6DF2EFF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FFDC-0D19-4D83-8F6F-7534EFFA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935F-4D29-418E-A1E9-64004C9E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AFD9-B1F4-4E04-B779-840BBEB2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A753-5C69-4D22-B50A-94F5EEE3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223C-3158-4DB2-95FE-0C638804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5E73-C3E2-4FAA-AA1E-57B7F428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C6E8-89C7-45DA-A4DA-8ACD6146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C40E-39EC-46BE-A838-D41E6440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B116-7561-43D5-93FA-A40A9087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52BA-C715-49CD-88E2-910067C8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BE12-E05D-416B-930B-8CB05B37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1AC4-9FB3-4419-8CF0-4F8C6CB5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867E-E9AE-4BE4-BE79-82F5D86C6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98E5-0708-4BAA-BF9E-0F06C772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B023-4741-453F-B995-A81B35B1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45E-B046-418C-ABEE-68FDF1AE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2E07-9D13-485B-A6CB-00B4AC0D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3B81-7C5C-437B-923D-1C78F3E1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F4CA-35D8-40FE-AEF8-1B3E2998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AB8C-94E5-4557-B2BF-42B6835A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D15E-5A75-46ED-B979-13556EFB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7378-6D24-4DA5-9D7E-83D824C25A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ableau 6"/>
          <p:cNvGrpSpPr/>
          <p:nvPr/>
        </p:nvGrpSpPr>
        <p:grpSpPr>
          <a:xfrm>
            <a:off x="357120" y="214200"/>
            <a:ext cx="8501040" cy="411120"/>
            <a:chOff x="357120" y="214200"/>
            <a:chExt cx="8501040" cy="411120"/>
          </a:xfrm>
        </p:grpSpPr>
        <p:sp>
          <p:nvSpPr>
            <p:cNvPr id="42" name=""/>
            <p:cNvSpPr/>
            <p:nvPr/>
          </p:nvSpPr>
          <p:spPr>
            <a:xfrm>
              <a:off x="357120" y="214200"/>
              <a:ext cx="59133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0" bIns="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808080"/>
                  </a:solidFill>
                  <a:latin typeface="Arial"/>
                  <a:ea typeface="Times New Roman"/>
                </a:rPr>
                <a:t>NOM  PLAN STRATÉGIQUE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70480" y="214200"/>
              <a:ext cx="2587680" cy="41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0" bIns="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PLAN  D’A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BC5B-8E3D-4825-A25A-FA74FA4A6C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ZoneTexte 3"/>
          <p:cNvGrpSpPr/>
          <p:nvPr/>
        </p:nvGrpSpPr>
        <p:grpSpPr>
          <a:xfrm>
            <a:off x="378000" y="1579680"/>
            <a:ext cx="2498400" cy="534960"/>
            <a:chOff x="378000" y="1579680"/>
            <a:chExt cx="2498400" cy="534960"/>
          </a:xfrm>
        </p:grpSpPr>
        <p:pic>
          <p:nvPicPr>
            <p:cNvPr id="93" name="ZoneTexte 3" descr=""/>
            <p:cNvPicPr/>
            <p:nvPr/>
          </p:nvPicPr>
          <p:blipFill>
            <a:blip r:embed="rId1"/>
            <a:stretch/>
          </p:blipFill>
          <p:spPr>
            <a:xfrm>
              <a:off x="378000" y="1579680"/>
              <a:ext cx="249840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01560" y="1643040"/>
              <a:ext cx="211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alibri"/>
                </a:rPr>
                <a:t>Objectifs générau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Diagramme 4" descr=""/>
          <p:cNvPicPr/>
          <p:nvPr/>
        </p:nvPicPr>
        <p:blipFill>
          <a:blip r:embed="rId2"/>
          <a:stretch/>
        </p:blipFill>
        <p:spPr>
          <a:xfrm>
            <a:off x="281160" y="1322280"/>
            <a:ext cx="82296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ZoneTexte 3"/>
          <p:cNvGrpSpPr/>
          <p:nvPr/>
        </p:nvGrpSpPr>
        <p:grpSpPr>
          <a:xfrm>
            <a:off x="450720" y="1006560"/>
            <a:ext cx="1768680" cy="536400"/>
            <a:chOff x="450720" y="1006560"/>
            <a:chExt cx="1768680" cy="536400"/>
          </a:xfrm>
        </p:grpSpPr>
        <p:pic>
          <p:nvPicPr>
            <p:cNvPr id="97" name="ZoneTexte 3" descr=""/>
            <p:cNvPicPr/>
            <p:nvPr/>
          </p:nvPicPr>
          <p:blipFill>
            <a:blip r:embed="rId1"/>
            <a:stretch/>
          </p:blipFill>
          <p:spPr>
            <a:xfrm>
              <a:off x="450720" y="1006560"/>
              <a:ext cx="17686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80680" y="107172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alibri"/>
                </a:rPr>
                <a:t>Théma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Diagramme 4" descr=""/>
          <p:cNvPicPr/>
          <p:nvPr/>
        </p:nvPicPr>
        <p:blipFill>
          <a:blip r:embed="rId2"/>
          <a:stretch/>
        </p:blipFill>
        <p:spPr>
          <a:xfrm>
            <a:off x="493560" y="1395360"/>
            <a:ext cx="82965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ZoneTexte 3"/>
          <p:cNvGrpSpPr/>
          <p:nvPr/>
        </p:nvGrpSpPr>
        <p:grpSpPr>
          <a:xfrm>
            <a:off x="311040" y="1079640"/>
            <a:ext cx="2816280" cy="536400"/>
            <a:chOff x="311040" y="1079640"/>
            <a:chExt cx="2816280" cy="536400"/>
          </a:xfrm>
        </p:grpSpPr>
        <p:pic>
          <p:nvPicPr>
            <p:cNvPr id="101" name="ZoneTexte 3" descr=""/>
            <p:cNvPicPr/>
            <p:nvPr/>
          </p:nvPicPr>
          <p:blipFill>
            <a:blip r:embed="rId1"/>
            <a:stretch/>
          </p:blipFill>
          <p:spPr>
            <a:xfrm>
              <a:off x="311040" y="1079640"/>
              <a:ext cx="28162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43880" y="1143000"/>
              <a:ext cx="25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alibri"/>
                </a:rPr>
                <a:t>Classement des ac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857160" y="2214720"/>
          <a:ext cx="7500960" cy="4197240"/>
        </p:xfrm>
        <a:graphic>
          <a:graphicData uri="http://schemas.openxmlformats.org/drawingml/2006/table">
            <a:tbl>
              <a:tblPr/>
              <a:tblGrid>
                <a:gridCol w="2500560"/>
                <a:gridCol w="2500200"/>
                <a:gridCol w="2500200"/>
              </a:tblGrid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émat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orité (1-2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ude sur les mar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è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ude sur les 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è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finition des règles de g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è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herche des locau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gist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chmark des solutions logiciel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èmes d’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tre en place une formation spécif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r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ruter des commerciau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sources humai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4:00:51Z</dcterms:created>
  <dc:creator>Utilisateur Windows</dc:creator>
  <dc:description/>
  <dc:language>en-US</dc:language>
  <cp:lastModifiedBy>Utilisateur Windows</cp:lastModifiedBy>
  <dcterms:modified xsi:type="dcterms:W3CDTF">2008-11-28T13:20:31Z</dcterms:modified>
  <cp:revision>5</cp:revision>
  <dc:subject/>
  <dc:title>Diapositive 1</dc:title>
</cp:coreProperties>
</file>