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5B05-BB2C-40C7-8FC8-27D1081359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069B-04BB-4691-97AC-AEF94C6106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2EDC-0E18-4505-9C0F-79EB347460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A811-A97B-4BA6-8186-D2D5418665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E6D-460C-45B1-8852-7C3563D7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16D-34DD-4749-BA75-A46FF785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142-9626-4798-9325-41DE10C3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629-8184-42B5-A429-1F643C8C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81D5-65E2-4C28-A7C3-C5C206DF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7A48-B897-460C-B1D9-A42A3547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C06B-323C-4D8C-B514-59074A06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D834-A0D9-429C-ACD7-B3105568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CA4-430A-446F-9631-038BC8E0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68F7-9092-40E9-A152-5E791A99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7608-8839-4F9C-A551-CD3352D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AD4-B1A4-4782-BCBD-22E377FB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D478-B8BC-48C8-8D8A-3EF40CCC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1DC4-7EE0-4204-8BE6-A541B5E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29C3-C4D8-4153-98DE-C792B3C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080-5555-41A2-A786-80EA627F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A5A-82D1-4D56-AF0E-C208641E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838-C103-467F-B7FE-6BE32EE4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81C-34AF-49AF-B534-096644AA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C8E-8E0D-404D-96CD-38505E03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16B-AF26-477D-AB1E-C6191ABC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6B0-6D1D-4C0C-9C03-84B56B8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743-23DD-4D87-A015-6DFD7C9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6D0-FCCB-42C1-9A3E-061488C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9E1-320B-42FF-B0A1-7C38CFA4D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504E-9185-4C09-8979-E2B994F67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371448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17T17:07:52Z</dcterms:modified>
  <cp:revision>3</cp:revision>
  <dc:subject/>
  <dc:title>Diapositive 1</dc:title>
</cp:coreProperties>
</file>