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A040-D4D5-4DB8-BBCC-5C259A6ACA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52B0-8BE7-4AA6-994F-8B8A347F6A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D63D-22FF-42D7-9E80-2EA6231F92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67C3-B7AE-4617-B35E-36BB7DE128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23C-C4CB-4278-B957-A2619692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F70-3AAB-4FB8-AF82-B7838D10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3EB-5E37-406E-BC76-DD6D649D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88E-93D8-47DA-BABB-4A5EADF9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B231-ABF6-42E8-B2AB-6CF9FFD8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85F5-F3D8-41BB-9F57-B903429E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32CD-4E53-4603-BA56-9684227F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9B57-1E04-46C1-A799-779AB78F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6A9F-0048-4CE0-A98F-042F53BB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BEAD-01B9-4B3C-A621-27F2894B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EDA3-44FC-401C-9BC0-B67DC60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080-E9AA-41A9-84FB-C01A3491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2835-8A07-4291-95B6-FFC67BB3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D19E-F896-49DD-B909-95864939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EDEF-DB0F-4283-9DA6-08F4E722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518E-2540-40AD-9497-AE4A74A6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6643-B144-42D6-B4C6-E0E8B049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017-4B89-48D9-9E7E-ABCBA0DB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050-CB0C-4B29-8A53-EE4CE593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2BF-7170-477A-AA7E-6F7E54FD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6B9-F198-4F6A-9751-CD0C8436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459-EB47-462F-B963-1F44765D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2F9-DB5F-486B-89B9-9214792C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05E-8056-419F-B65C-0CBBD75F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9C33-4A43-4444-A2C1-E188FEA02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au 6"/>
          <p:cNvGrpSpPr/>
          <p:nvPr/>
        </p:nvGrpSpPr>
        <p:grpSpPr>
          <a:xfrm>
            <a:off x="357120" y="214200"/>
            <a:ext cx="8501040" cy="411120"/>
            <a:chOff x="357120" y="214200"/>
            <a:chExt cx="8501040" cy="411120"/>
          </a:xfrm>
        </p:grpSpPr>
        <p:sp>
          <p:nvSpPr>
            <p:cNvPr id="42" name=""/>
            <p:cNvSpPr/>
            <p:nvPr/>
          </p:nvSpPr>
          <p:spPr>
            <a:xfrm>
              <a:off x="357120" y="214200"/>
              <a:ext cx="591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8080"/>
                  </a:solidFill>
                  <a:latin typeface="Arial"/>
                  <a:ea typeface="Times New Roman"/>
                </a:rPr>
                <a:t>NOM  PLAN STRATÉGIQUE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70480" y="214200"/>
              <a:ext cx="2587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LAN  D’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6CAF-8A5F-4945-B5D5-65F6753DC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ZoneTexte 3"/>
          <p:cNvGrpSpPr/>
          <p:nvPr/>
        </p:nvGrpSpPr>
        <p:grpSpPr>
          <a:xfrm>
            <a:off x="378000" y="1579680"/>
            <a:ext cx="2498400" cy="534960"/>
            <a:chOff x="378000" y="1579680"/>
            <a:chExt cx="2498400" cy="534960"/>
          </a:xfrm>
        </p:grpSpPr>
        <p:pic>
          <p:nvPicPr>
            <p:cNvPr id="93" name="ZoneTexte 3" descr=""/>
            <p:cNvPicPr/>
            <p:nvPr/>
          </p:nvPicPr>
          <p:blipFill>
            <a:blip r:embed="rId1"/>
            <a:stretch/>
          </p:blipFill>
          <p:spPr>
            <a:xfrm>
              <a:off x="378000" y="1579680"/>
              <a:ext cx="24984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1560" y="164304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Objectifs génér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Diagramme 4" descr=""/>
          <p:cNvPicPr/>
          <p:nvPr/>
        </p:nvPicPr>
        <p:blipFill>
          <a:blip r:embed="rId2"/>
          <a:stretch/>
        </p:blipFill>
        <p:spPr>
          <a:xfrm>
            <a:off x="281160" y="1322280"/>
            <a:ext cx="8229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ZoneTexte 3"/>
          <p:cNvGrpSpPr/>
          <p:nvPr/>
        </p:nvGrpSpPr>
        <p:grpSpPr>
          <a:xfrm>
            <a:off x="450720" y="1006560"/>
            <a:ext cx="1768680" cy="536400"/>
            <a:chOff x="450720" y="1006560"/>
            <a:chExt cx="1768680" cy="536400"/>
          </a:xfrm>
        </p:grpSpPr>
        <p:pic>
          <p:nvPicPr>
            <p:cNvPr id="97" name="ZoneTexte 3" descr=""/>
            <p:cNvPicPr/>
            <p:nvPr/>
          </p:nvPicPr>
          <p:blipFill>
            <a:blip r:embed="rId1"/>
            <a:stretch/>
          </p:blipFill>
          <p:spPr>
            <a:xfrm>
              <a:off x="450720" y="1006560"/>
              <a:ext cx="1768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0680" y="10717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Théma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Diagramme 4" descr=""/>
          <p:cNvPicPr/>
          <p:nvPr/>
        </p:nvPicPr>
        <p:blipFill>
          <a:blip r:embed="rId2"/>
          <a:stretch/>
        </p:blipFill>
        <p:spPr>
          <a:xfrm>
            <a:off x="493560" y="1395360"/>
            <a:ext cx="8296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ZoneTexte 3"/>
          <p:cNvGrpSpPr/>
          <p:nvPr/>
        </p:nvGrpSpPr>
        <p:grpSpPr>
          <a:xfrm>
            <a:off x="311040" y="1079640"/>
            <a:ext cx="2816280" cy="536400"/>
            <a:chOff x="311040" y="1079640"/>
            <a:chExt cx="2816280" cy="536400"/>
          </a:xfrm>
        </p:grpSpPr>
        <p:pic>
          <p:nvPicPr>
            <p:cNvPr id="101" name="ZoneTexte 3" descr=""/>
            <p:cNvPicPr/>
            <p:nvPr/>
          </p:nvPicPr>
          <p:blipFill>
            <a:blip r:embed="rId1"/>
            <a:stretch/>
          </p:blipFill>
          <p:spPr>
            <a:xfrm>
              <a:off x="311040" y="1079640"/>
              <a:ext cx="2816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3880" y="114300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Classement des 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857160" y="2214720"/>
          <a:ext cx="7500960" cy="419724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éma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orité (1-2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 sur les mar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 sur les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finition des règles de 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herche des loc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st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chmark des solutions logici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èmes d’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tre en place une formation spécif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ruter des commerci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ources huma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00:51Z</dcterms:created>
  <dc:creator>Utilisateur Windows</dc:creator>
  <dc:description/>
  <dc:language>en-US</dc:language>
  <cp:lastModifiedBy>Utilisateur Windows</cp:lastModifiedBy>
  <dcterms:modified xsi:type="dcterms:W3CDTF">2008-11-28T13:20:31Z</dcterms:modified>
  <cp:revision>5</cp:revision>
  <dc:subject/>
  <dc:title>Diapositive 1</dc:title>
</cp:coreProperties>
</file>