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471-7349-417F-A518-2611E4ABF0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E8D-5402-4A95-B82D-C8E38112A2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7AF4-2FDC-46C3-8B11-A7D5D830E1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356-F2C5-42BE-978A-9096AE1F5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44C-E7D1-4B3B-BF8C-B430B975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C47-672C-433F-81FD-E7A3927D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9B0-4F1D-43AF-B43C-0E83EF9F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405-BBAD-4B55-9648-62DF27CE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5EE-13F8-4E92-AC9E-2EFBECCE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7C1-02B6-4204-BE2D-FE47D4E5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84F-2EE2-41A1-A7E4-FA8A72F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B19-4029-476A-9D20-83CCDC1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76A8-FCC8-410A-91F0-4D6DFED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ED2-D273-49D6-889A-4936C787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5058-A833-4D2D-82DE-8D333C2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8CB-0B31-4947-999B-36C72A02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0EDD-CF15-42D1-90DC-F180AEE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490-CE5B-488E-BC27-FBB076E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79A-9D0F-44B3-9FF4-99FBAA2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58EB-F045-4396-9419-5A9904BA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42B2-8C6F-4CDE-B46D-D521DB80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986-AA2C-4104-A967-D54A93B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329-E423-4B36-BE89-D6493CA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D86-162E-4F1B-B044-A8080E18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60E-E3D9-4BA4-92BB-8207AB7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E4F-6C30-45DB-8E24-C4B9490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5AA-8FE8-48DB-B911-F36F2B2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528-2E54-45CD-A187-843A369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5911-060D-453E-9931-7B46A46B1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918-F2B4-4AB7-B4EE-2FC843232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419724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m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des règles de 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erche des loc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chmark des solutions logici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s d’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en place une formation spécif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uter des commerc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ources hum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28T13:20:31Z</dcterms:modified>
  <cp:revision>5</cp:revision>
  <dc:subject/>
  <dc:title>Diapositive 1</dc:title>
</cp:coreProperties>
</file>