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EE6C-808E-4C87-9036-E01B43D414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F0FC-F1C2-475B-AF7F-291589424F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6FDF-42C2-4D0C-9789-CF245DCE49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2FCD-B2F7-4F7F-B8E9-8E5CC1D468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9B4-4DA6-4A6D-9AD3-A3845796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707-ABC5-4341-9A60-5BEE966C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C67-B0F5-42EA-873B-D95D8318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FE7-E216-4500-AEA7-67CE0F15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CD94-5206-406F-90BC-61B34FC4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5E4F-D435-4AEA-B1CD-DA59C39E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4A8B-6119-4DF8-A867-5C63E74A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40A6-EC43-4885-B010-6A4A3AC9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F91F-F7E8-4EDF-92CB-B75753AD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A984-383E-4C8A-872D-B4FDB780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FE83-7A86-40A8-8B3D-B3C4EF40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12F-AC51-4D4D-B787-D5FD5C45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C074-C4D7-4382-BD33-981D1EAF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599B-1F76-42B0-BBAF-01709DF2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0C0F-5301-4A4F-BEBC-91F9433A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16D0-DF96-4AD5-9ADF-4D931757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CA3D-97A7-402E-B2A2-006CD441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33A-0D5E-4A14-819A-4E0FF507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2E6-F4A1-4663-B48D-275AD902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281-6ADB-46F2-98CD-B839C6EF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00B-4E3B-4029-8D7E-EC2397DC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FC2-7710-4C1F-B1F4-1D40014A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DFB-191A-488B-A765-E6A84C7E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49F-2412-468A-9960-038125B7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1AEB-D94A-45FA-BFE7-360798C47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ableau 6"/>
          <p:cNvGrpSpPr/>
          <p:nvPr/>
        </p:nvGrpSpPr>
        <p:grpSpPr>
          <a:xfrm>
            <a:off x="357120" y="214200"/>
            <a:ext cx="8501040" cy="411120"/>
            <a:chOff x="357120" y="214200"/>
            <a:chExt cx="8501040" cy="411120"/>
          </a:xfrm>
        </p:grpSpPr>
        <p:sp>
          <p:nvSpPr>
            <p:cNvPr id="42" name=""/>
            <p:cNvSpPr/>
            <p:nvPr/>
          </p:nvSpPr>
          <p:spPr>
            <a:xfrm>
              <a:off x="357120" y="214200"/>
              <a:ext cx="591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8080"/>
                  </a:solidFill>
                  <a:latin typeface="Arial"/>
                  <a:ea typeface="Times New Roman"/>
                </a:rPr>
                <a:t>NOM  PLAN STRATÉGIQUE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70480" y="214200"/>
              <a:ext cx="2587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LAN  D’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EB55-B6F7-458C-AE0F-78FE2A093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ZoneTexte 3"/>
          <p:cNvGrpSpPr/>
          <p:nvPr/>
        </p:nvGrpSpPr>
        <p:grpSpPr>
          <a:xfrm>
            <a:off x="378000" y="1579680"/>
            <a:ext cx="2498400" cy="534960"/>
            <a:chOff x="378000" y="1579680"/>
            <a:chExt cx="2498400" cy="534960"/>
          </a:xfrm>
        </p:grpSpPr>
        <p:pic>
          <p:nvPicPr>
            <p:cNvPr id="93" name="ZoneTexte 3" descr=""/>
            <p:cNvPicPr/>
            <p:nvPr/>
          </p:nvPicPr>
          <p:blipFill>
            <a:blip r:embed="rId1"/>
            <a:stretch/>
          </p:blipFill>
          <p:spPr>
            <a:xfrm>
              <a:off x="378000" y="1579680"/>
              <a:ext cx="24984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1560" y="164304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Objectifs génér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Diagramme 4" descr=""/>
          <p:cNvPicPr/>
          <p:nvPr/>
        </p:nvPicPr>
        <p:blipFill>
          <a:blip r:embed="rId2"/>
          <a:stretch/>
        </p:blipFill>
        <p:spPr>
          <a:xfrm>
            <a:off x="281160" y="1322280"/>
            <a:ext cx="8229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ZoneTexte 3"/>
          <p:cNvGrpSpPr/>
          <p:nvPr/>
        </p:nvGrpSpPr>
        <p:grpSpPr>
          <a:xfrm>
            <a:off x="450720" y="1006560"/>
            <a:ext cx="1768680" cy="536400"/>
            <a:chOff x="450720" y="1006560"/>
            <a:chExt cx="1768680" cy="536400"/>
          </a:xfrm>
        </p:grpSpPr>
        <p:pic>
          <p:nvPicPr>
            <p:cNvPr id="97" name="ZoneTexte 3" descr=""/>
            <p:cNvPicPr/>
            <p:nvPr/>
          </p:nvPicPr>
          <p:blipFill>
            <a:blip r:embed="rId1"/>
            <a:stretch/>
          </p:blipFill>
          <p:spPr>
            <a:xfrm>
              <a:off x="450720" y="1006560"/>
              <a:ext cx="1768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0680" y="10717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Théma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Diagramme 4" descr=""/>
          <p:cNvPicPr/>
          <p:nvPr/>
        </p:nvPicPr>
        <p:blipFill>
          <a:blip r:embed="rId2"/>
          <a:stretch/>
        </p:blipFill>
        <p:spPr>
          <a:xfrm>
            <a:off x="493560" y="1395360"/>
            <a:ext cx="8296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ZoneTexte 3"/>
          <p:cNvGrpSpPr/>
          <p:nvPr/>
        </p:nvGrpSpPr>
        <p:grpSpPr>
          <a:xfrm>
            <a:off x="311040" y="1079640"/>
            <a:ext cx="2816280" cy="536400"/>
            <a:chOff x="311040" y="1079640"/>
            <a:chExt cx="2816280" cy="536400"/>
          </a:xfrm>
        </p:grpSpPr>
        <p:pic>
          <p:nvPicPr>
            <p:cNvPr id="101" name="ZoneTexte 3" descr=""/>
            <p:cNvPicPr/>
            <p:nvPr/>
          </p:nvPicPr>
          <p:blipFill>
            <a:blip r:embed="rId1"/>
            <a:stretch/>
          </p:blipFill>
          <p:spPr>
            <a:xfrm>
              <a:off x="311040" y="1079640"/>
              <a:ext cx="2816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43880" y="114300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Classement des 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857160" y="2214720"/>
          <a:ext cx="7500960" cy="371448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éma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orité (1-2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4:00:51Z</dcterms:created>
  <dc:creator>Utilisateur Windows</dc:creator>
  <dc:description/>
  <dc:language>en-US</dc:language>
  <cp:lastModifiedBy>Utilisateur Windows</cp:lastModifiedBy>
  <dcterms:modified xsi:type="dcterms:W3CDTF">2008-11-17T17:07:52Z</dcterms:modified>
  <cp:revision>3</cp:revision>
  <dc:subject/>
  <dc:title>Diapositive 1</dc:title>
</cp:coreProperties>
</file>