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slideMaster4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9.xml" ContentType="application/vnd.openxmlformats-officedocument.presentationml.slideMaster+xml"/>
  <Override PartName="/ppt/theme/theme56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9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</p:sldMasterIdLst>
  <p:notesMasterIdLst>
    <p:notesMasterId r:id="rId61"/>
  </p:notesMasterIdLst>
  <p:sldIdLst>
    <p:sldId id="256" r:id="rId62"/>
    <p:sldId id="257" r:id="rId63"/>
  </p:sldIdLst>
  <p:sldSz cx="9723438" cy="7559675"/>
  <p:notesSz cx="6897688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notesMaster" Target="notesMasters/notesMaster1.xml"/><Relationship Id="rId62" Type="http://schemas.openxmlformats.org/officeDocument/2006/relationships/slide" Target="slides/slide1.xml"/><Relationship Id="rId63" Type="http://schemas.openxmlformats.org/officeDocument/2006/relationships/slide" Target="slides/slide2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"/>
          <p:cNvSpPr/>
          <p:nvPr/>
        </p:nvSpPr>
        <p:spPr>
          <a:xfrm>
            <a:off x="0" y="0"/>
            <a:ext cx="6897600" cy="100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sldImg"/>
          </p:nvPr>
        </p:nvSpPr>
        <p:spPr>
          <a:xfrm>
            <a:off x="603360" y="1023480"/>
            <a:ext cx="5673600" cy="4411800"/>
          </a:xfrm>
          <a:prstGeom prst="rect">
            <a:avLst/>
          </a:prstGeom>
          <a:noFill/>
          <a:ln w="12600">
            <a:solidFill>
              <a:srgbClr val="d9caa7"/>
            </a:solidFill>
            <a:miter/>
          </a:ln>
        </p:spPr>
        <p:txBody>
          <a:bodyPr lIns="89280" rIns="89280" tIns="44640" bIns="4464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move the slide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grpSp>
        <p:nvGrpSpPr>
          <p:cNvPr id="2501" name="Group 87"/>
          <p:cNvGrpSpPr/>
          <p:nvPr/>
        </p:nvGrpSpPr>
        <p:grpSpPr>
          <a:xfrm>
            <a:off x="628560" y="6035760"/>
            <a:ext cx="5626080" cy="3686040"/>
            <a:chOff x="628560" y="6035760"/>
            <a:chExt cx="5626080" cy="3686040"/>
          </a:xfrm>
        </p:grpSpPr>
        <p:sp>
          <p:nvSpPr>
            <p:cNvPr id="2502" name=""/>
            <p:cNvSpPr/>
            <p:nvPr/>
          </p:nvSpPr>
          <p:spPr>
            <a:xfrm>
              <a:off x="628560" y="603576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28560" y="640404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28560" y="6772320"/>
              <a:ext cx="5626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28560" y="714204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28560" y="751032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28560" y="7878600"/>
              <a:ext cx="56260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28560" y="824724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28560" y="8615520"/>
              <a:ext cx="5626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28560" y="898524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28560" y="935352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28560" y="640404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28560" y="677232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28560" y="714204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28560" y="751032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28560" y="787860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28560" y="824724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28560" y="861552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28560" y="898524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28560" y="935352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21" name="PlaceHolder 2"/>
          <p:cNvSpPr>
            <a:spLocks noGrp="1"/>
          </p:cNvSpPr>
          <p:nvPr>
            <p:ph type="body"/>
          </p:nvPr>
        </p:nvSpPr>
        <p:spPr>
          <a:xfrm>
            <a:off x="689760" y="4765680"/>
            <a:ext cx="5517720" cy="45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sldImg"/>
          </p:nvPr>
        </p:nvSpPr>
        <p:spPr>
          <a:xfrm>
            <a:off x="603360" y="1023840"/>
            <a:ext cx="5673600" cy="4411800"/>
          </a:xfrm>
          <a:prstGeom prst="rect">
            <a:avLst/>
          </a:prstGeom>
          <a:ln w="0">
            <a:noFill/>
          </a:ln>
        </p:spPr>
      </p:sp>
      <p:sp>
        <p:nvSpPr>
          <p:cNvPr id="2578" name="PlaceHolder 2"/>
          <p:cNvSpPr>
            <a:spLocks noGrp="1"/>
          </p:cNvSpPr>
          <p:nvPr>
            <p:ph type="body"/>
          </p:nvPr>
        </p:nvSpPr>
        <p:spPr>
          <a:xfrm>
            <a:off x="689040" y="4763880"/>
            <a:ext cx="5518080" cy="451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9" name="Espace réservé de l'en-tête 3"/>
          <p:cNvSpPr/>
          <p:nvPr/>
        </p:nvSpPr>
        <p:spPr>
          <a:xfrm>
            <a:off x="0" y="0"/>
            <a:ext cx="29876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 Black"/>
              </a:rPr>
              <a:t>Titre du stage ou lot de transparen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Espace réservé du numéro de diapositive 4"/>
          <p:cNvSpPr/>
          <p:nvPr/>
        </p:nvSpPr>
        <p:spPr>
          <a:xfrm>
            <a:off x="3906720" y="9528120"/>
            <a:ext cx="29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4E56-4C95-4986-95ED-3A3972C316E6}" type="slidenum">
              <a:rPr b="0" lang="fr-FR" sz="1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sldImg"/>
          </p:nvPr>
        </p:nvSpPr>
        <p:spPr>
          <a:xfrm>
            <a:off x="603360" y="1023840"/>
            <a:ext cx="5673600" cy="4411800"/>
          </a:xfrm>
          <a:prstGeom prst="rect">
            <a:avLst/>
          </a:prstGeom>
          <a:ln w="0">
            <a:noFill/>
          </a:ln>
        </p:spPr>
      </p:sp>
      <p:sp>
        <p:nvSpPr>
          <p:cNvPr id="2582" name="PlaceHolder 2"/>
          <p:cNvSpPr>
            <a:spLocks noGrp="1"/>
          </p:cNvSpPr>
          <p:nvPr>
            <p:ph type="body"/>
          </p:nvPr>
        </p:nvSpPr>
        <p:spPr>
          <a:xfrm>
            <a:off x="689040" y="4763880"/>
            <a:ext cx="5518080" cy="451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0" i="1" lang="fr-FR" sz="1100" spc="-1" strike="noStrike">
                <a:solidFill>
                  <a:srgbClr val="000000"/>
                </a:solidFill>
                <a:latin typeface="Tahoma"/>
              </a:rPr>
              <a:t>blog seeding</a:t>
            </a:r>
            <a:r>
              <a:rPr b="0" lang="fr-FR" sz="1100" spc="-1" strike="noStrike">
                <a:solidFill>
                  <a:srgbClr val="000000"/>
                </a:solidFill>
                <a:latin typeface="Tahoma"/>
              </a:rPr>
              <a:t> consiste à envoyer en avant première aux blogueurs sélectionnés un produit.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3" name="Espace réservé du numéro de diapositive 3"/>
          <p:cNvSpPr/>
          <p:nvPr/>
        </p:nvSpPr>
        <p:spPr>
          <a:xfrm>
            <a:off x="3906720" y="9528120"/>
            <a:ext cx="29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EC68-DA5C-4D07-99AE-0F2347E1ABA3}" type="slidenum">
              <a:rPr b="0" lang="fr-FR" sz="1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BB50-B7C8-4744-ADE3-3CC3905B9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65AE-8AB8-4D2D-A72D-6AE76DCF2D1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3EC290-FE1F-4049-AA95-12A460D5CB5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B14639-A4E1-43B7-A771-B01C007050A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E1361E-3206-4AE5-8D06-069112CD8B0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AD10E7-1C1E-453F-A013-5DDB189EAF6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7739AA-4CD9-4A4B-A475-A5BEB5D2843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5C72EE-5A3D-4E71-9C2C-ADF60BD4B32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825BD9-77B0-45DC-AE72-F73F73C1846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64BA1F-8E75-4574-84D8-8D5B2B6CE11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8F0A29-463B-4DDC-A1CD-662A8C0BE0E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58CA5E-EB5E-435D-AF13-77DB39FE3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B328E-D6F0-487C-A9C8-F62236AFB89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816B1D-DE42-4331-B972-681B976D37A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6CF4E9-2528-4164-B89B-374455772EB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55394D-0825-4E03-8A95-141B827CE87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C94577-5A3D-4F99-8466-BF8E172AF7A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FE9247-84CD-46BD-BC7A-998AEA9DE5C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6B7914-B08C-4A97-822D-699C1AFD300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D99DD5-65E5-46DE-82B0-05797CCBE8C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7A854E-381B-4904-91C0-288CA076EFB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2604BA-31DF-47DD-9ADF-E8AA3644724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F2B30D-4E81-48E5-940E-AE7EF82B5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AFFF-5856-496B-89C6-B3CAF96F540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C2857F-FB7C-4B29-9B5D-9B54151720D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312C5-2FC7-4F45-8043-ACE55639E0B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159C9-8DA1-4A69-A8A8-8D351A9263C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A7FAA-4456-4FF3-8343-1DDDC968E5F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EF016-541E-4B54-9277-AB5D8D506F7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31AA2-B634-4D43-8C5B-DA35BBC185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026BB-A557-423B-968F-A3108BAAD9A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E790F-E19F-4C36-AD90-C1F2CF0E794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A8325-433F-443B-BD4E-7BCEF6F6111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B5DED-0CE1-4539-9D69-9ED40D4087B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16566-50B0-4B4D-A06C-3FC999460B9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74873-DD83-478E-BD78-E944A513740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2265B-DD53-4FB5-A859-13B98530A07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E91EEA-7F45-42BB-8930-AE3D56E4857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4EC005-2336-4A24-90CE-D72D302E02D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72AA09-4E79-4A50-81D6-1A7B987798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E4FE03-EAC5-4E27-ADCA-907D8A22295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75A862-6341-4E8C-861F-4767A3E19BA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86BE43-3FA5-4AB9-8C90-5F7AA5C0B7B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066B64-2689-42A7-AA07-4BFD6D3D63F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6A02A2-D7E4-4BA1-91CA-1759F3C2646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CDCB96-2034-4A01-A14C-25BC2151AC0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35DEAA-479D-4ABC-993C-6A69B2D6427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CF58FD-826D-41C2-A7F0-C18F89E7DF0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94A5A5-F2C2-46B6-9160-4905E2DA4CA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A4D89C-5C2F-4030-8F2C-3E2ACF9E53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83C447-757A-4797-A2A7-C3D1BEA4AC0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0E98AB-FDA7-4FDE-84CB-B914BF2EE82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80CD12-7B1E-407D-B66B-515116F1547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83E49F-C7CA-47D5-9668-81514F58F18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933A5D-3ADA-404E-B172-0DE982D305B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492169-F708-46AA-9D7A-542D58043AC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AB9869-E72C-487F-AE56-F8082F70727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061E09-44FD-479A-9CAE-AAEED73E315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F67C95-A949-48D8-9DCD-5BECE084DA0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26B6CE-4C78-4804-B76F-6C784DA5F2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E7E3C7-E87F-45EC-871F-6AB30BF404F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256D8-214B-4DC4-A68A-0275C4A5A93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9D3C3-DE5F-41F6-93B6-9480E9897A4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438FA-F972-4E60-946F-40A28436814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4DA52-D5C5-4B09-8BCF-0032B6426C4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13424-10A4-4BAC-A302-48311A51119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410D2-9E84-4CAC-B142-FCD4D876786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1D020-C449-48BC-997E-B907442D35C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87A9D-04E5-47DD-BA1B-43A5777ED5A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BBC5F-8944-4C50-8B1B-6ECC607359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901B6-4F3F-40ED-8C38-246333477A3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F3C2D-A57B-4644-BB90-93F0951A56C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7F1C6-D48B-48C4-8A1C-2528DB7AB57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35BA29-1943-4747-9DFA-E3462FD1A38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BF0478-E162-48F5-B1C1-E8D3C4601A8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73FA18-562B-4186-A8F6-CF0877BB168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1E6603-9318-4349-9B65-F3D8D44BA6A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D3C5F0-806F-49AF-9496-10B1D13D303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F8CBED-5180-4922-B583-E541C4F624A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D70C48-0DC8-4404-AE9D-C1E63E5A62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3B5F5-DF48-4BC1-9795-A6EA719BF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EE1C33-390A-4C52-8F07-9A316721848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90C9D0-9D7C-4B61-9EDC-490D822F629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E2FE6D-EBD8-4640-B10B-F9DA3A098A8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52C0C5-C150-4901-9DC0-D89602B62EE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4326C6-ABE1-4470-BFAC-D33E23E0E48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BC68E-A014-4E8D-A02F-D6E60AF58A3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5FE635-7D80-4759-BF53-2FABF4C9B8D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FA1CF6-E439-44CB-A03E-0D8F7A1D396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92913F-8728-42B3-9A2B-A30646DCB5A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1233EF-5FC1-4D85-A110-406E727A6F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2B03E-91C9-45C5-8D55-8A3B9F9229C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F549CE-C4C7-4E0D-AA8C-9F2CBDBAA96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F46C6C-A2F4-432F-AD2A-9D14301055E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348AA5-14A1-4EF3-A1F6-1026D82225D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961EB3-32CF-4144-925B-52A9DF3FE39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EC0384-5E04-46E0-B928-C8D6E58C39B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7B29A4-9A17-4794-94D5-2BAFBC716EF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057B6-9979-45C7-932E-8165846CE0C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90CFF-52FE-4630-AF01-7A053A4A1CB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303CD-F88C-41E5-A6C0-3DBCD2497B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B350F-4813-4539-852D-4EB2B1AE175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00363-3B80-48CF-ABC3-2FF4DE9307F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52427-A256-4964-AC9A-F937121B242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4AE7A-A9D1-49D8-A4D8-82E1CFCEB9A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6C2B5-6C91-4B0A-8A26-3804D38B30B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0A96B-E882-4B9A-9CFC-7B0D833E74B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A021A-369F-48A1-B994-24096A2781A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A5083-DA40-4CA4-B244-DF5F82744D9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38587-BA55-4335-8074-53A8AF3D023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EC3D7B-5A7B-46E5-B113-737BF9F67B9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288D6F-06E9-4E0D-AF19-28E8BA07995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4A3225-1147-4E7D-9116-43D62084825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3CFD67-93CB-4D15-9205-32D2C0C6164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56DEF1-DC94-453A-ABEB-59466B6A229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52DF33-2C41-4EC4-BB8E-9E556C56C80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7F4E8B-C954-4B15-82B7-F7C79B98219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B45D2E-5C62-4190-A8DF-53E48E69D16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246F0A-CF6F-4658-8781-23CDCA9340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C917-8C61-4C47-B37C-C7CEE836D8F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EAA5BC-6774-4D52-95D1-495782CC456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F06160-34B4-4160-B4A6-B0E58D434AB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C4E3EE-E180-4814-AAAC-F8BC42EBDC7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014250-0899-4567-AE1C-0D49718D6B8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6A3C9F-B731-4438-8115-C1A256B55F8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24F09D-2A12-4BFB-A40E-B7ED445D740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0D82C1-0AFD-4029-9CFF-C9E5526E51C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B9E03D-DB09-4386-B941-7D4862F4391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9E221C-FF9C-4BE2-AC6E-371A515CAD7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10326D-45D5-4E2E-BAB9-3543D2C105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86E2-E4D2-4774-B904-C9BCFB27E0F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B473E0-EFE0-415F-9E6D-3350C5AC6B0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FC4A92-1C55-4BA7-A2A4-424CB43562E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DEE89E-7583-4A38-9EBD-930661D93C6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5B36C4-D7E6-428B-BB4B-948F5D5655C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F48E5B-951E-4470-A6BD-A508D64C9DC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5CF22-3DF4-4509-A081-15477A6141C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1D8E6-79BF-4B74-AC85-86F45B45C91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A54E0-C011-453F-8C6D-C9EA8455061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9ADC5-B274-4A0F-B3F7-2965A85B810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A755D-F9AF-47D6-B063-7ABAC459D3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7CA5-AE56-49A0-A300-6518E910B49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2F78A-FB6A-4694-B9DF-9DE5EE45EA3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93DDF-8597-4073-A693-E1914F12B6A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86C3A-ED0C-490D-A1AF-D8B6CBCD432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50655-5776-4B77-B69A-0E8D6D6B4B8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15935-C04B-4C4B-BBA5-A0CD0D048C6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A21F0-84B9-4708-8530-685BD4B5715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540F1-438C-474E-AA5D-A43FBADFE50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F0A3C2-618D-4154-AED7-40D68187DBB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836BC4-3321-470D-8FAD-8213FBDD1CC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1223D1-8E72-41A0-B560-FBCB08181C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5E31-4266-43A9-BFC2-AD0DBC52DB6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6CB80E-6C4B-411B-8B3E-D53CDC56462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ABFF5A-17E3-47FE-BE00-5D5A8015277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157198-B4EF-4594-9512-AACBF2F19F0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41C761-6D5D-444F-8754-1093F07CE11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BD7CE7-BF41-41A3-8ECD-A20EC4C7EA8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DDFF97-4668-48B2-9434-A41DE65C8AD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6FDF60-C65B-4C3D-A357-1E59A00F755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7B3EFC-F3C0-4B29-B3AA-E0FB7E96E85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4DA764-20DB-4DA4-B2BE-F68E7C9A070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AE81D4A-8875-4511-AE8E-D67ACF567AF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CACD-50F0-453D-B61A-1EDCD95B330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013034-C821-4C31-AAAD-8AD2C3F7953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7477F20-45F2-4CFA-98E5-95D199438E3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CD859F-CE47-4468-A823-6B8024660A2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4D9C78-7CAC-41C5-A520-F50541E3297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5828FEA-0757-41CD-8E73-A0DEE3FE052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1EC82F4-E985-4392-85E5-7CF3F4842AA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D43FAF-1DF1-41C3-BA6A-6FD797BBC29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028771-F928-43A7-9732-AAA75D34136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38A617-0885-4848-B985-E833A518A99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1591B4-F036-41E3-AEEF-4E07CC1D1E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3E63-C67A-41F7-91BF-A1D1F08DB8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69B9-FF84-48E3-B3D8-413F616A24E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C572E17-3FE6-42A7-A61C-E2513149E77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F2FC64-5EC8-42A3-93B9-B865B96A2DD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1D8D3-BB25-4D1D-9675-2A4CC3201E8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57E61C-5819-4C49-A125-A27495EFFCE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95A1FE-771C-4288-9E61-54CAFB92A37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C26D3-CA96-4EFF-B197-53ED4471B55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04D9AE-EE01-4943-9704-4569D44D39F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266C71-81CD-46F3-8277-41C45051E6D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EFCAE0-152F-4006-9DBE-BBBD1DD0E4D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C20A8-5657-4BDF-8A63-689709625D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DF38-D565-4B26-B605-1760B294078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22D4BF-414B-45BC-B8FB-2A1C2C062B0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6860A-E277-44BB-BAE3-BA732CD2BD9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29991-2320-45B4-9670-3D610CCF9477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26F18A5-C5B2-42D6-96EB-6EDEB96A26C9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82EEF0B-0014-4F5A-B535-47E003D113CD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0EAD73-73BB-42E3-A610-0C081BD9421F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5D94EE4-26A4-4AA0-BA7F-88D1C9459222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A14CD3-FB64-43CC-9DE4-00CDC6B54717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22184F-8DC5-4683-A108-F1937549EB19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155FBC-9F56-4C02-953A-30B4737482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E7CF-A14E-4AF7-9437-242BF4CAF25E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52E6288-E855-4807-8DCE-7A6B8E69294E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B5AED3-C07B-4C1C-AA00-51D4382E0EF3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4E4F0C-703C-452F-BF8E-E1291A4C2931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5959F8-ED7F-4097-B4D1-6D58987FB7AA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EB44709-B2B1-4122-A46A-779AA63EDFEB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FCBE-E8A3-49C9-B85B-6B4EC85ED5A3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E839FA8-5429-44E9-A522-78A43EC71A41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DE4859D-D7A3-459E-848F-CAE408F01166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AE80B6D-AF71-4D9D-B9D3-18C426BC0D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8BBC-599C-4BB5-9BCB-47F6AB64641F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08ABEF1-DF84-4DCA-83D9-B4EBFF01B817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11FA350-50F6-4029-89AF-5FD479FC1DB1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92A3DF0-5761-497B-A9A0-0AA27EA43717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758AFA3-9A15-4E20-B57F-24BF456FD489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E895742-7B95-4961-9D46-CF1A52BAC329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F71C953-F5FA-4D89-8A77-F6A5AEAF1F50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0F52960-E244-4C8B-BB90-7833DDBD732A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E4DF04A-E376-4AB5-B22E-0A7CC1B15753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47FBB3A-B2C4-4C25-AF44-C9044C9DC96F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E18F6A-89C5-43CB-86D9-C7AFEA5BB7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5DA2-34C8-438E-8132-111AFC515BB6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D66CAB-3410-4806-8865-7A20F9F1FB53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431BD0-971E-463C-9086-F04AEADE84B9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EEEE66-2B81-44C4-80C4-994AC0C81664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0F3B8C-7124-471B-87EE-FACFA63C5DAE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5A9A19-9EB8-41C6-90FE-A6821361D35E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9099BA-A51C-49A7-8373-A2AE83B40913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6658FB-ADE4-4DD4-8B75-436DC0171901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4AFD46-F8B2-4D61-9222-FAE7E603FB2E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7820FB-4DE8-4E22-B8D9-FD297E8CF7BC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43A147-AE51-4C82-A32B-D8C5BE3696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B574-A946-42C6-84A0-9BCFC2EF77F3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C80FA3-86EF-4ED5-8F98-EAE4706AE71D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53E6342-B3A7-4D05-8B48-152DAF00112D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B151178-EDB3-44C2-AE60-5D4B61C5A797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BCAB4EB-83C7-4668-B1ED-B1187606199F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4DD78FF-3428-4F69-B486-C0C8739E95B1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04A3FC6-E6D7-4F28-8D2E-14CA8DAF5A57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790E188-78BA-480C-BC2E-A7BBD02758A4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32058F5-A9DC-4BAF-920A-7C0E713058B6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53FB193-0ACD-4ABA-AD3E-9EB27F6AD9EB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6C5D3CB-1815-4E22-94D5-5632AAEAC68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58BDC5C-DA66-4F27-BC81-81AC03DD8900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319724A-93DF-48F7-8AF9-8315C8866331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BAAD47-CB09-400C-852A-9E725BCA50D3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6DEF9DF-A29B-454C-A8C3-1FB3EC9B91B6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9E7BCA7-EEFC-47AE-AD9F-F2068F8654AB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E41DBEB-7A83-4BA6-9906-A4302BFB5FFB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14115E1-59F2-459F-9DB5-DD6C894CC0BB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772F1FC-9535-4D2D-B335-1BD064EF46E3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7179223-463E-4A0A-AFDE-9B5E2353C50F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E0BD435-4BBE-40E6-AC53-89E0AF745DA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ACA5344-9025-44C8-98D4-829C0A6A0DFE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EF6564C-1074-446C-B23D-793B951EB3B8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C73F934-8A1B-4293-9679-5139C2C304A5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9A94E9D-C1D5-440C-98D4-40D5990A14AF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70B3CB6-7619-4971-9102-EE071A4F3FFE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E75038-18D8-4F1F-B8D6-9A5FB7702A16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006EBA-42E0-49D2-ADD5-CFC45C39E95E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830820-EBA0-42EE-91C3-85A763428372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7027D6-BB9A-4961-B78B-625CABD24A0F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C71242-C4E8-4557-A8F6-3F9A169E2C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B10649-EE0A-4003-BFC1-6DD247A7168F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6277B1-C38E-4305-96E6-77EDBD6993D0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5FB85E-8B91-4FE3-8A20-62FE2E1F864A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AC8115-BD70-44EA-BA76-C2FE378C97E0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F0FB0A-5F99-4662-8BD9-95B4FBCB8230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3AEC29-F749-4F45-A5A1-EEAEE32EE042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46E6C8-976A-405A-BBE7-30E7B2D49F15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6CD989D-F0EC-452F-A06E-67AF9708E421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8BB5945-178C-4F74-8112-32158985F447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0C3C9C9-CCE0-4B80-BDB9-E263AEBFB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9DBA2-704B-46AA-9A76-322BB7BF4B8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576FD93-20FB-4F78-8422-7A0145B4ABC1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A74E3D9-416A-4BFB-B1D7-F51514F375F8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222FD5F-4B11-47D2-A81D-7A8BEA8EA1FD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74F9BD0-3093-43BD-A1DC-1FC3CF53E46D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8B66D49-414B-4D29-BAB1-39EFDCCBE5C1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7EAE825-A857-4C2F-9370-1C8C02D2FE7A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B1D24CA-DD02-4934-92D8-580F0189B728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ED7A38C-741E-466D-9B15-DE65F1097107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A3CB4BE-C604-4168-9CF6-25025B0447ED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FB5474F-5942-41C3-B910-507C044521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2FB0D1E-6245-4D9D-945D-02B53E52B518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8605563-BA2E-4C52-87FC-B4C1561A6396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9366CA7-E5A6-4903-9DCF-A20F75DFF57B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EB71D42-5C2D-4065-A709-4E6D0ED5B857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1CE2DBC-6448-4A7D-A898-8A269CC24C43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621FA15-59ED-4B1F-B5FE-5745299E3237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6AA1F85-1FB0-4A9A-AE11-6451CAF00C43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FD00D58-D88B-49FC-8C4A-3A3D5022F9F8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FA3304E-361C-4C81-9835-615238E9D885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653141B-758F-4EF5-BB4E-DAF95507ADA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A70B54B-1A86-4EBB-ABF3-3ABBB3014012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0891F4-983A-4255-B5A3-5F3E6BB490BF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44ECFF-187B-43C9-AAF5-371980F97DC7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70C210-559E-44EF-A126-3E492ED035B6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D7B641-1DE4-4299-AA01-A8A9261476DC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D1065A-150E-4186-A620-7D5AD48DD50B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5488B2-5E4A-4C3F-8533-76F86DBCCE84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77AAEB-F20E-4C0E-BDC5-DDB31678ED3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EDC3EF-CB61-4606-B779-439ACC7C5F9A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7A33F2-D68F-46EC-A82B-AF85BD2726B2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95B2B0-4BEE-49B2-B4A3-39D71F62ADD9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999345-6CC6-4BAF-BB03-FB04AAFE0562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BE841E-8908-40B2-96BB-A8C6BC9956C6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A48B14A-7804-4230-99AD-71504276D6D0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833D54B-E08F-46CB-8C1B-15EF2F02C062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DF4D2B3-BF3E-48BD-9B83-DEF837E74D03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93B2CFC-828D-4E8D-9408-B39BE8A05E35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1B1B2D7-54E3-44CE-AC89-0A417064488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C98E6B9-BBFF-4153-A1AA-812501048EFA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DD54BAE-8668-4097-910F-B033FB27D4BC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C07897B-7C2C-489D-BDDB-CDAEBDEE841B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2075D24-2FC6-4D24-9064-ED9CB0140C6F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181A71C-EAB5-4CD8-9B9D-E927A8805941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31313C1-0D82-43BA-85DF-EF62A5CB71B8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EB2D219-5285-40B2-A0D0-EB0A24FE679D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F58A5B2-E644-4093-BA7C-C7033D9018FE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40E2EF5-37D0-484B-9451-7DDFA3180B09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E5595DD-268C-4593-8918-A3601477A3C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56CADE7-8F9D-48E9-BA64-C454656BC825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0748F42-5833-4566-B8F4-6A1A587A635B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BE264C2-42A6-4A46-99ED-DA7CC94322B7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D465140-FC05-4654-8B69-4A9C22E7408D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69917EB-23F4-4FCA-95C7-EB8C81288CD1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2432F79-904B-4884-A990-39D376D5546D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87B74BC-B666-4889-894F-AB8EC1280E74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F9EEBE9-F4C2-417B-9CC2-A574F0E9D907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6521FDF-551B-4AB9-BA7F-03448E872D3E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AE01C6-F314-4B39-80D4-07EF0A482A1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890F3E-336F-4F7D-B926-1DD129CA0E18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E56543-93C8-495D-BCC4-EF52E96BD3A0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527815-F961-4A55-A2CF-4A46590A3D52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244D85-F960-4578-833E-A9DA42747B67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643D2F-1BD1-4A77-8901-35A493056D11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5FDE6D-045B-4A4F-A2E6-0528F28F66A6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3F5CF0-5113-41DA-BE3D-5F33201C20CB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EF5A10-B4C5-4DDC-883F-F32B34841668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2A2562-38A9-496E-9CAB-CDF8FC7879A4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DB6FD5-6EF9-42BB-96B6-A915D33A2C8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BC847A-2F6A-4292-8278-95CE5C8DB921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4DFF2FE-676C-4998-AA59-5459E5D443D6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96CE2FC-F3EE-43AB-A638-FA18EA78B87C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4487D8A-F15E-4FBA-8EA2-793214046B0F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77E6AF2-7E01-4DEE-88DA-316547FDFC42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60C1BF4-11A7-4B51-BE62-EB5E2D0E2D07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DD961A9-504F-4D4F-939D-DDBBD9600BFE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17398D0-9CC9-4CC2-BFAA-D724C1B23A46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C6F53B7-DCF4-4A17-8FE4-66948F7D1B13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9C87B21-4586-409A-AB65-DB9DD756DEB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0F889-2E54-4EAF-A241-11801DAB83F8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1F4929F-73BA-4FA9-8EAC-1A6C3B92778B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4F40F59-8912-4563-9319-ECEBA332F024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6D11783-62BC-464B-950E-A08A57B18786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6245144-D331-4978-8202-6F39A73100B7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A8D6C0F-25CA-4BC6-AD88-7E5DBEB91AEE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82BFC72-21C9-4B0D-A1ED-51500E10372E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8BDC224-0DED-439B-B92B-56E60EBD4EDD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3F275D6-D944-4F12-9AA2-ABE2183D2D6E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3D3C952-00D1-4BDF-BE9B-365470E80015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3F74D14-82BF-4F5A-89D1-E6CA06354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92CFC-63CB-475E-9959-B0CF14A91F5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5EAC6-A6DC-4388-88DF-D504D4515494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613D275-C651-4347-8C58-2817F877C415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DBF8BE2-543E-4984-951A-94B8E4121824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72A38E5-3A75-477E-A306-19F8FC04CA1D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D62BD93-92C0-491C-B2C0-5E2C4C7B5A7B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C61E6D8-643D-419F-AA72-42EA0A14272E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C4A30E-8C49-42B3-BC6B-5911A75E896B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78CB24-8422-45F5-AB35-9F2C70090AAC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1E52A4-0C10-4059-A4D5-5BD269C1A7CD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978FA5-D80B-47A9-890B-C2596F475A2B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0A99DB-E837-43D4-B240-7E9CBC0BE1E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D4257-9810-4EBF-BC8F-76E0C2A4FEF0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6280DB-9DC5-4C1C-BED3-799CD4428D66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5962C1-873D-46BB-8BBA-F530A781C50C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0908C9-8C72-485F-8990-28D722F393AA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249D09-D07E-4C85-AD8A-ADD19AEE9D5E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21B336-7A85-4096-BD82-E8E1B20676B9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04D35F-0597-4B0F-961C-016F642BA1E1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CD6F49-7B73-4F0D-88DD-56C2B00BEE07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31577-12E5-401C-AB2B-261B5C3006C7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1A05F9D-CEBD-4BA8-AB2B-D8ED34112A1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29333-312D-4399-92EE-B840813E8ACF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EB3A298-DB3A-46B0-B32F-993C0A397090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D4E77BE-3407-42BB-8A72-7F89DA822ECF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F660A49-3A1A-4D76-8E5D-064F98103E9F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497FB3F-0B1B-43D1-A48B-23839D1DA6E0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7AE2A66-EE9B-46E3-93E1-135E04245AAC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F89B72E-374A-4D1E-B978-64A36180DE6A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9C7E0A1-9E86-4466-960C-EBE518E2111F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EA77452-7E60-4E72-9906-8306E177FDAE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3B7E851-F319-41EE-9BA3-391337B2925F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EBE0614-62D4-45B1-AEA1-9E85BD06BBF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BB4B0-468A-464D-B238-3A31BC36B70B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01AC234-FA0F-461F-AC98-82A76CCEA91C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E6B63A5-5090-48B1-86E0-A2CA63CBAF10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987CBAA-1DAA-42F0-AB45-1C3A78B913F0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100923A-F782-4EE4-978E-C8279DAE1FC2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9A0C0E5-7D51-4CC6-87BF-6DDACFCFB530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7E36CA1-0161-4143-8E84-532A299D77E0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A551B77-5234-4E7C-AA40-AD83D806F75B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BEB9B2B-C9BB-4715-B344-413BD8E63F53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47BD35A-1B80-481D-93ED-27F885573B7E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B3CE2BC-8348-40AE-AAD8-EBD4C8511D9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E2D35-10D2-4FFF-A98E-F1EBCDB6A194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741F373-4522-4661-8FA6-72AAEBA89CD5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9690EAC-97C9-4FF9-871D-887735168089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A15843D-A0A6-4837-8E8D-817609127F7C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C044D1-91DE-4A9D-A559-15A4535349D9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EA4391-ACCC-4084-A4EC-F769A0DCA2A2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18C160-ACDD-4691-B9C9-97A2C0DD8B38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49BCBF-A8A1-49E9-B53A-31A21B84EBCE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856C32-E7D7-42FD-B749-1113746BF3F8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EF6285-7743-4B7D-A1E4-5B8F12BD2F07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B6C072-A426-4CD9-8A52-6F9E9F89B21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A4DE7-3E05-49EC-836B-72BB5ADE870C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66B05A-773F-4B1B-B409-6D9C8D9C8DB2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82464F-69BB-4785-BD47-030CB9AAA154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856297-20A2-4881-B8DE-53C5DF6715E2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905165-0A79-4D57-9BD3-69EE6003C251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975B95-1021-456E-A120-8A71300CA981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A36E773-89B3-4338-9BA6-064481EEF51F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4B40120-C51F-45BB-99D6-1EC2AD2A103B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9B4235E-7494-422D-B479-C71BE0C34CD2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5913962-4097-4089-B6C1-7DECA924DFD3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E9B7E7B-A106-4ADF-8EF6-E0BD07E0FE0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CA92D-0C88-4DA5-A0C2-B01CA403EA45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92E9E70-76B0-4C8F-A8AE-F5A99245E978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4335D4C-46DC-44B2-9E61-D2D0FB0AB29E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BE364CB-2B5E-4602-95E3-4FCE686D39F0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A2AFC6F-3ED0-4721-A7AD-75511108C7BC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B0F4E3F-D01B-4162-B14C-E9E4A012E077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05D0487-43C7-4A88-9EFB-BE24EFAE1ECF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1E187D2-4222-40F7-B5D5-6D193A554503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894C25A-FEA4-4F74-BE31-DC3C16435221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50292F2-C701-4255-B6BF-A3CCC7CF2103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C0D782D-AB70-4C94-A8A1-1310870C5C2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5D390-7B3F-4964-B598-02CF59783644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95C7677-3E3E-4592-8E55-388EED14FC3E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320E975-AE18-4828-810F-695A397C08C7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E7335AC-E612-4A67-841A-5B8ECC9A2CC1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68500A3-C9EE-4168-9711-33C232A5CBC1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82A826C-25D0-4F2B-BD16-9960C26723D7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1036949-3798-4B1D-AAB1-0A163E572C35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B230539-5BCE-4705-9B96-C6F1B93CAF59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89714A4-4E9D-4263-9F9E-5DD4B43A4C8B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7F9BF18-9490-4005-B92D-9DAD6A9D6128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C490A9-FDA5-4626-AB0A-0770AD13A27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CDF26-129A-4955-93A3-C6D78150E81D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B0EC66-D5D6-42A3-912C-F5F9E5B32C34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825FA4-1D2A-4E2D-B5DA-C7759C1894FF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482753-B629-4733-9C99-13318D288154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4FA560-4D48-47B8-A34A-F065B8C5C496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95C889-4B3A-41D9-AA70-075CC899D11C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7840F1-178A-4246-B290-9685A072AB97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4E3010-5B8A-48AA-B61C-E42160A7177E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82C31E-8E94-402D-B591-B45632FC4119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E27C95-BBD3-4D88-B2F6-DD2454941328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6817BB-AD04-4475-908D-FDFAA3A31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B3C8-BDAF-44D9-8D49-C3947CDC13A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C754B-E701-4198-85DE-9E181D5F9278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7F8BE7-79FF-4F75-9DDD-6AF971BD4EEF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BC990DF-670C-4B87-980D-15E233F232D1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0404CA4-6A54-49A9-8EDC-E10937F53E95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1D4BC15-5F85-4F71-B95A-C4D7D541B69C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50D9887-83FA-4F5E-B9BB-7716730AC11A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7CC0CE9-9299-4B9C-A1FF-3719A9BCA198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6CB1293-B7C2-4CF7-9A17-54CAC0B69E57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DBFCF05-A694-4492-8AB5-EB87C7690CB5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62CDB77-7819-4CB0-A33C-10D917374842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252F5F1-FA3C-40EF-B529-EDC71BE9493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C458C1-B3A6-4916-A6CE-BA0D0200010A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6708DDC-C8A4-43E2-82C4-77A627AF517D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69D28F5-6AC0-4EA9-B93B-7059BCB99422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8A068D3-C057-4E78-9D68-1EF2D35360A1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36AE82-AFE6-4DD1-93FE-38A9E171C08E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D012A86-0AFE-4FBA-AC15-72878F2E78C1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CA8B30A-99BA-464D-9BF9-FDBCB4FBA5BD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2E10BB9-BF23-4EE8-8244-80D7F15DC6B0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B9F6E02-64C6-4388-9094-74B320EF39B4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8DC83CA-48B6-4CC1-8117-4A7DC6039D2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53BD3F-6EC8-479D-8F6B-CB8F421BB0B6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5B5B47F-FA38-477A-9353-987D447BAEC3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38F3B4A-2B94-45C4-B3AA-F6523229E664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D98A9A7-C78B-498F-B3A8-47243958CCD1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C362842-7B4C-482C-8FF2-BA07A4A012F9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1B64F57-7871-4BC4-AECF-DAD87CA3DB4F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CC555CA-D044-4750-985E-4208432F89FB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0085491-E282-444B-A8C7-2425A3844031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39B7DE-5E79-46F4-9A71-FAAE182BCB8E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996E48-977D-4164-AFC3-7DE3145863A1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A02609-94B2-4DEB-9F2C-1DDE5F3E126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861A33-3061-479D-97D5-590ED57DA97E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1DF99F-C5E5-4167-BAD2-2AA5D0518EA4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03478A-9766-4D25-88A5-25C4F04B8539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AA12BE-E1EB-4180-B2E8-6F53504DC521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7906FE-176B-4647-977E-7ABB2A5B03CA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11D61D-A974-45EF-BCF6-F4E269A26150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DDDEC8-8563-40FB-A5F0-60A770E4CD58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A1805B-1382-484D-9F15-5A8CE57CBBBA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816DA9-2FB2-4501-938F-F00A53223109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9BD591-ACFE-482B-A32D-E8410D805DE7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B324519-7830-4E82-B508-4213E11B901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E6D582-8025-4A86-A9CB-9349FDECD232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1B96444-95D9-4169-8DC2-0858073A0F20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2D99B0E-E368-4CB1-8E9B-F245B63ADE1D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5F04189-3417-4507-8F24-B8B7110E08B6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DCC2967-6881-46FE-AF5F-D2BEF0A6174A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3E711E4-FA8E-4B6C-A196-ED21250BBCF4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821D389-EBC3-47FA-9886-86987BE202BA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9F89F3F-3271-4C63-A6AA-5861D3CA474E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D6940A6-BAB5-4F02-A6D8-8281FC00CD9C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52CB998-667B-44C7-A9DA-0FCD232907AD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2C4D59D-F4A3-4266-9984-B38405C7691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5C4DF0-F6FE-4238-80C0-092232DA88E4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2130D9C-4AB0-493A-BF9C-CC6E5269E4B3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270B6F3-EF0B-4190-BC5F-3CCF5CA38170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B0E0DA4-D626-44EA-B53E-7F9B4FCD9BD0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53E776D-F14E-4622-B4B5-B5AB18E5843D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2E6766A-09BB-4FED-B0B9-2191077A727A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12F811A-B0F5-46F7-9D71-77658958F1FE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5CBF2BB-35CF-4D30-87D4-63CC4D635CB4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702EEF9-BF7E-4B05-BEBA-9E252C8C3971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0813021-95A6-4402-9EA6-55C80EBACE09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B00F14D-FEA3-452F-BCEA-5B7566B5FB6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21CA44-571A-4A88-B589-47243CB0868C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9726D69-6C16-4D12-87A1-B4E37D437A0C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36D107C-53FB-4B71-8142-1CEE729586CD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065DB67-B4C6-47C1-857A-ACDBEBE68CDF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254B29-6935-44DF-BF62-D49F0E26EE7B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D5986F-AEEE-4369-88D6-31792077D560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0AAAF7-2BCB-4D1B-B94D-897439C50B97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7F9567-354C-4C6B-8433-4CC983259790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C232BFC-AB95-4CFB-9E10-FA987F69B08F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EF1A44-557D-480A-803D-A4C211D1315F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1C713E-27FA-4E81-B0BF-5C386900AC4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F6EAF3-EC67-424B-A885-3E016E5BF34F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818106-5CBE-45EE-BAAF-A9EBCF6E496A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DBBE67-CDFA-405A-B2BB-B6BCD02EE7CA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66300B-39B0-4569-9345-8AAD8F948732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BD404B-D06D-4492-AED4-89CA95052778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3D1751-0439-4852-A867-8F497E352FC4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6CE16D0-A2A0-45AA-A995-0D39284A0CE4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70C9665-4478-42D4-B3D1-E8E067CDC252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1F0B10F-D71D-4C83-B8D4-D4E3EB30415C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71CB3F9-3100-428B-8564-A44FABCF3F5A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8323339-C9C9-428A-8FE6-18FC2E4B32A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FC9CD4-264C-4B74-B350-340B93090FE2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B7D2B24-7B35-4110-A560-39F5959BE04D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C04F500-7332-4EF2-96E3-DDD6E8DA5024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81CDAB3-44C5-4C11-9334-484C0646477A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80BBEC6-9661-4F28-BB4E-3EBCB3EACCFE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73C5F7C-D300-43F8-85FF-2FE91E95F8D0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C5D2198-561E-482A-816D-35D453E01873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B0B9AD0-30F9-4B2B-BFD4-388B89BC7BB6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F0034C5-605A-4846-B80F-8E81C1C677E7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0F02C11-0DF3-411F-B88F-CA3F41664078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8232523-8AB6-4652-A3F0-E5EB4D7D6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35D5F-E056-425D-BDFC-B1E2AD0FC5B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963FD9-C5EA-400B-80FE-FA308D387493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ADECB44-567D-438C-95E3-55E0DA9BD9BD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99BD9D9-F9D9-4A05-B480-714EF4D0C21B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2E25FA6-A890-4C1C-BAE0-E7593E8B8D7F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6E21E3F-C7CD-46D2-AD09-3382D45B7A02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968883E-8C62-4B5F-84AD-A0C6418BC706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085D3A5-FAD2-4A4E-9068-C3F12ED15D20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5BA0D10-2362-4684-99B1-D335EF85FEEC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2610650-2D57-4423-844D-A7EC53064D6E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3E7BC1D-D7E0-453B-8923-39F7CAAE5A4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9E411D-27D3-4116-A7E0-FD09DF10B36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184A27-137E-4324-9633-9FE14AE3F70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3A5CF-4BA3-4393-B997-AE0AF44CA98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558EE-BD0F-4215-B877-48FEEE06AA1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06EF0-43EB-4931-B756-A4F040A03D5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0E58A-FC12-484C-9A08-3CBA5D5DE22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D181A-2AA1-469D-8E0D-CB82469037F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D53AA-E17C-4DBD-A2AE-F2E77A23297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4A1E7-A4E3-4315-8692-73738B04F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9A17B-B70A-4829-9EBB-01DF4AB1C24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F39A4-4BDA-4B41-B9A8-583ACC14CFE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88F13-A506-4F15-A9FB-2CAAAB73659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05EF2-B870-4BC1-9194-6D39ACF31FD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1292B-5FFD-4429-8BCF-2E88CF9C2A2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2FFA6-0CDC-4DAC-A9D9-E409BAEC737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17EB-29D7-4277-A84F-6E26DBE6EF1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11CC74-FDC5-4F65-81BE-8B7B479036F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DA266A-4962-4FCD-8745-CAA1BA33D15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3B8F02-FE52-4138-9245-F789E4708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flèche et barres"/>
          <p:cNvPicPr/>
          <p:nvPr/>
        </p:nvPicPr>
        <p:blipFill>
          <a:blip r:embed="rId2"/>
          <a:stretch/>
        </p:blipFill>
        <p:spPr>
          <a:xfrm>
            <a:off x="0" y="898560"/>
            <a:ext cx="998640" cy="743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71560" y="752400"/>
            <a:ext cx="837864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9e8464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9e846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70120" y="1890720"/>
            <a:ext cx="8416800" cy="5099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401"/>
              </a:spcBef>
              <a:buClr>
                <a:srgbClr val="cb7a14"/>
              </a:buClr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4120" indent="-282600">
              <a:spcBef>
                <a:spcPts val="2401"/>
              </a:spcBef>
              <a:buClr>
                <a:srgbClr val="673b15"/>
              </a:buClr>
              <a:buSzPct val="9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63640" indent="-206280">
              <a:spcBef>
                <a:spcPts val="2401"/>
              </a:spcBef>
              <a:buClr>
                <a:srgbClr val="673b15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35000" indent="-169920">
              <a:spcBef>
                <a:spcPts val="2401"/>
              </a:spcBef>
              <a:buClr>
                <a:srgbClr val="000000"/>
              </a:buClr>
              <a:buSzPct val="95000"/>
              <a:buFont typeface="Verdana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19320" indent="-182520">
              <a:spcBef>
                <a:spcPts val="240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19320" indent="-18252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19320" indent="-18252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87960" y="7226280"/>
            <a:ext cx="490680" cy="224280"/>
          </a:xfrm>
          <a:prstGeom prst="rect">
            <a:avLst/>
          </a:prstGeom>
          <a:solidFill>
            <a:srgbClr val="6a8c9d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DE37-7204-4F64-9479-DCB94237B546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9" descr="logo-2,5cm-+-ombre"/>
          <p:cNvPicPr/>
          <p:nvPr/>
        </p:nvPicPr>
        <p:blipFill>
          <a:blip r:embed="rId3"/>
          <a:stretch/>
        </p:blipFill>
        <p:spPr>
          <a:xfrm>
            <a:off x="8721720" y="6516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6" descr="Bandeau"/>
          <p:cNvPicPr/>
          <p:nvPr/>
        </p:nvPicPr>
        <p:blipFill>
          <a:blip r:embed="rId4"/>
          <a:stretch/>
        </p:blipFill>
        <p:spPr>
          <a:xfrm>
            <a:off x="0" y="0"/>
            <a:ext cx="5581800" cy="755640"/>
          </a:xfrm>
          <a:prstGeom prst="rect">
            <a:avLst/>
          </a:prstGeom>
          <a:ln w="0">
            <a:noFill/>
          </a:ln>
        </p:spPr>
      </p:pic>
      <p:sp>
        <p:nvSpPr>
          <p:cNvPr id="6" name="Text Box 17"/>
          <p:cNvSpPr/>
          <p:nvPr/>
        </p:nvSpPr>
        <p:spPr>
          <a:xfrm>
            <a:off x="3421440" y="7323120"/>
            <a:ext cx="31438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Slid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I_010c43d-1.3,CURRENT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ftr" idx="1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13"/>
          </p:nvPr>
        </p:nvSpPr>
        <p:spPr>
          <a:xfrm>
            <a:off x="8168760" y="480600"/>
            <a:ext cx="43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A47E-5395-4DB3-B5AD-88096C246E9C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1" descr="IMAGE-PAGE-DE-COUV2"/>
          <p:cNvPicPr/>
          <p:nvPr/>
        </p:nvPicPr>
        <p:blipFill>
          <a:blip r:embed="rId2"/>
          <a:stretch/>
        </p:blipFill>
        <p:spPr>
          <a:xfrm>
            <a:off x="69840" y="54000"/>
            <a:ext cx="9582120" cy="74534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CEGOS_VOCATION_quad"/>
          <p:cNvPicPr/>
          <p:nvPr/>
        </p:nvPicPr>
        <p:blipFill>
          <a:blip r:embed="rId3"/>
          <a:stretch/>
        </p:blipFill>
        <p:spPr>
          <a:xfrm>
            <a:off x="3341520" y="6226200"/>
            <a:ext cx="3426120" cy="10447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71560" y="752400"/>
            <a:ext cx="837864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9e8464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9e846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70120" y="1890720"/>
            <a:ext cx="8416800" cy="5099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401"/>
              </a:spcBef>
              <a:buClr>
                <a:srgbClr val="cb7a14"/>
              </a:buClr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4120" indent="-282600">
              <a:spcBef>
                <a:spcPts val="2401"/>
              </a:spcBef>
              <a:buClr>
                <a:srgbClr val="673b15"/>
              </a:buClr>
              <a:buSzPct val="9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63640" indent="-206280">
              <a:spcBef>
                <a:spcPts val="2401"/>
              </a:spcBef>
              <a:buClr>
                <a:srgbClr val="673b15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35000" indent="-169920">
              <a:spcBef>
                <a:spcPts val="2401"/>
              </a:spcBef>
              <a:buClr>
                <a:srgbClr val="000000"/>
              </a:buClr>
              <a:buSzPct val="95000"/>
              <a:buFont typeface="Verdana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19320" indent="-182520">
              <a:spcBef>
                <a:spcPts val="240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19320" indent="-18252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19320" indent="-18252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ftr" idx="1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sldNum" idx="1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94C6-4D4F-4C1F-81CE-B9A83FB26460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ftr" idx="1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sldNum" idx="1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FC42-E6BD-4FC8-8CEC-776031B00CE6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ftr" idx="1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sldNum" idx="1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A7CC-D2DF-4B99-AF73-FF46DE00E06B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C9BD-407E-47A4-910C-902FE781AC2B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ftr" idx="2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sldNum" idx="2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36EC-75F9-45D1-ACD0-63908C94E7E5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ftr" idx="2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sldNum" idx="2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DC48-DAFF-4E00-9005-F1F0C0C37761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757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ftr" idx="2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sldNum" idx="2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0CA1-786C-4246-BB3F-EA46B5C4D79A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IMAGE-PAGE-DE-SS-TITRE"/>
          <p:cNvPicPr/>
          <p:nvPr/>
        </p:nvPicPr>
        <p:blipFill>
          <a:blip r:embed="rId2"/>
          <a:stretch/>
        </p:blipFill>
        <p:spPr>
          <a:xfrm>
            <a:off x="69840" y="54000"/>
            <a:ext cx="9582120" cy="7453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67040" y="4132440"/>
            <a:ext cx="5749920" cy="12585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0" anchor="b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000" spc="-1" strike="noStrike">
                <a:solidFill>
                  <a:srgbClr val="673b15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673b15"/>
              </a:solidFill>
              <a:latin typeface="Verdana"/>
            </a:endParaRPr>
          </a:p>
        </p:txBody>
      </p:sp>
      <p:pic>
        <p:nvPicPr>
          <p:cNvPr id="46" name="Picture 4" descr="logo-2,5cm-+-ombre"/>
          <p:cNvPicPr/>
          <p:nvPr/>
        </p:nvPicPr>
        <p:blipFill>
          <a:blip r:embed="rId3"/>
          <a:stretch/>
        </p:blipFill>
        <p:spPr>
          <a:xfrm>
            <a:off x="4549680" y="6342120"/>
            <a:ext cx="819360" cy="819000"/>
          </a:xfrm>
          <a:prstGeom prst="rect">
            <a:avLst/>
          </a:prstGeom>
          <a:ln w="0">
            <a:noFill/>
          </a:ln>
        </p:spPr>
      </p:pic>
      <p:sp>
        <p:nvSpPr>
          <p:cNvPr id="47" name="SlideMasterXYZ"/>
          <p:cNvSpPr/>
          <p:nvPr/>
        </p:nvSpPr>
        <p:spPr>
          <a:xfrm rot="16200000">
            <a:off x="12600" y="541296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I_010c43d-1.3,CURRENT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ftr" idx="2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sldNum" idx="2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5854-4EEA-4EFA-8E88-2744EBF389F5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882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ftr" idx="3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sldNum" idx="3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B218-A833-4B64-9CEE-65DA4C2DD95F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925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AD1A-B880-4D9F-B9D4-78C121C31023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96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ftr" idx="3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sldNum" idx="3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6AE9-464F-4FBC-9001-8BA49EF46853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011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ftr" idx="3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sldNum" idx="3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F3AA-6D8D-4BE5-B543-6AD1E114B4BC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054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ftr" idx="3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sldNum" idx="3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6AC9-481E-4E02-828B-7525C91B0C01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097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ftr" idx="4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sldNum" idx="4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7304-FB5A-4741-844A-28784B2066D9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17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 type="ftr" idx="4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 type="sldNum" idx="4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B5E1-24A4-4D64-8ED3-C842D960A93F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3"/>
          </p:nvPr>
        </p:nvSpPr>
        <p:spPr>
          <a:xfrm>
            <a:off x="8168760" y="479160"/>
            <a:ext cx="436680" cy="2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7CCB-5672-48FF-AC03-83F0CE821314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222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ftr" idx="4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sldNum" idx="4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05B4-88F4-4D30-A0C8-CACC4DD0D778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265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ftr" idx="4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sldNum" idx="4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67D1-8EFF-40FD-94D9-5547773D04E3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30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ftr" idx="4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sldNum" idx="4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71F4-9494-4B0B-A253-A1C7F4202169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ftr" idx="5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sldNum" idx="5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DAEC-1509-46F4-8D11-ED939A22E25C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394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ftr" idx="5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sldNum" idx="5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243B-8F85-4B88-A209-49D1AF84F9DF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437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ftr" idx="5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sldNum" idx="5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CA2A-FB5B-46EC-A2C9-E44FB9575E5B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51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 type="ftr" idx="5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 type="sldNum" idx="5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9372-5DC2-44EF-A074-85B902A73C6A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562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 type="ftr" idx="5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 type="sldNum" idx="5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0FC7-208F-40CE-86DB-1356444D6AE7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605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 type="ftr" idx="6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 type="sldNum" idx="6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6D86-603D-4BAF-AD18-23EEF0EA9E82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3" descr="Cegos-Image_6ter"/>
          <p:cNvPicPr/>
          <p:nvPr/>
        </p:nvPicPr>
        <p:blipFill>
          <a:blip r:embed="rId2"/>
          <a:stretch/>
        </p:blipFill>
        <p:spPr>
          <a:xfrm>
            <a:off x="0" y="2651040"/>
            <a:ext cx="9721800" cy="2067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777840" y="1790280"/>
            <a:ext cx="5675400" cy="1258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000" spc="-1" strike="noStrike">
                <a:solidFill>
                  <a:srgbClr val="d2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d20000"/>
              </a:solidFill>
              <a:latin typeface="Arial Narrow"/>
            </a:endParaRPr>
          </a:p>
        </p:txBody>
      </p:sp>
      <p:pic>
        <p:nvPicPr>
          <p:cNvPr id="129" name="Picture 4" descr="logo-2,5cm-+-ombre"/>
          <p:cNvPicPr/>
          <p:nvPr/>
        </p:nvPicPr>
        <p:blipFill>
          <a:blip r:embed="rId3"/>
          <a:stretch/>
        </p:blipFill>
        <p:spPr>
          <a:xfrm>
            <a:off x="4549680" y="6342120"/>
            <a:ext cx="819360" cy="819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532480" y="5345280"/>
            <a:ext cx="3921120" cy="131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marL="136440" indent="0">
              <a:spcBef>
                <a:spcPts val="60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Freeform 12"/>
          <p:cNvSpPr/>
          <p:nvPr/>
        </p:nvSpPr>
        <p:spPr>
          <a:xfrm>
            <a:off x="2500200" y="4960800"/>
            <a:ext cx="2941920" cy="636840"/>
          </a:xfrm>
          <a:custGeom>
            <a:avLst/>
            <a:gdLst/>
            <a:ahLst/>
            <a:rect l="l" t="t" r="r" b="b"/>
            <a:pathLst>
              <a:path w="1853" h="401">
                <a:moveTo>
                  <a:pt x="0" y="0"/>
                </a:moveTo>
                <a:lnTo>
                  <a:pt x="1330" y="0"/>
                </a:lnTo>
                <a:lnTo>
                  <a:pt x="1328" y="401"/>
                </a:lnTo>
                <a:lnTo>
                  <a:pt x="1853" y="401"/>
                </a:lnTo>
              </a:path>
            </a:pathLst>
          </a:custGeom>
          <a:noFill/>
          <a:ln w="19080">
            <a:solidFill>
              <a:srgbClr val="00516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64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 type="ftr" idx="6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 type="sldNum" idx="6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C185-F61A-494E-AB99-693A620BFF2A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691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 type="ftr" idx="6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 type="sldNum" idx="6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F590-3904-4E13-A11E-8E0F4232F375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734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B6B2-BD7C-4F0C-AEF5-60F0FFDFFE83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777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 type="ftr" idx="6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 type="sldNum" idx="6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B6E6-588C-4CFE-BA53-95B994E46864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85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 type="ftr" idx="7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 type="sldNum" idx="7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F314-A8BA-47A1-8409-1E7108DEEC85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902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 type="ftr" idx="7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 type="sldNum" idx="7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47CD-7825-4E8D-8E1E-4DBB61427B55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945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 type="ftr" idx="7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 type="sldNum" idx="7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B69B-E74C-4765-B778-B2685505FEEF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98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 type="ftr" idx="7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 type="sldNum" idx="7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C2DA-57BF-4107-88C8-73D2BE13FE81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031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 type="ftr" idx="7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 type="sldNum" idx="7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DAAA-BB01-4D58-9B43-EB6008A4978A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5"/>
          </p:nvPr>
        </p:nvSpPr>
        <p:spPr>
          <a:xfrm>
            <a:off x="8168760" y="479160"/>
            <a:ext cx="436680" cy="2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8DE1-BA94-4CB0-8E41-555ECAA528AD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074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 type="ftr" idx="8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 type="sldNum" idx="8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46C0-DFE5-49E9-856C-CAC9FE4CB66F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117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 type="ftr" idx="8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 type="sldNum" idx="8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C34D-83A9-421B-9B75-560B5B68BD60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199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 type="ftr" idx="8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 type="sldNum" idx="85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1FE7-A26B-4270-9702-DE050B2A8C80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242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 type="ftr" idx="8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 type="sldNum" idx="87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5883-1879-490D-A4CB-81FA66E82B68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285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 type="ftr" idx="8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 type="sldNum" idx="89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DCAC-7091-4931-9CA0-2541F03C339E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328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 type="ftr" idx="9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 type="sldNum" idx="91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F3CA-205E-4A4B-95BA-7DC70BD424DB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371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 type="ftr" idx="9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6" name="PlaceHolder 4"/>
          <p:cNvSpPr>
            <a:spLocks noGrp="1"/>
          </p:cNvSpPr>
          <p:nvPr>
            <p:ph type="sldNum" idx="93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AF3F-74FC-4E63-8D68-E7D5D9E9B337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414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 type="ftr" idx="9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 type="sldNum" idx="95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4233-134E-4646-9305-8EB8C499E094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457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 type="ftr" idx="9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 type="sldNum" idx="97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E87A-23B3-4540-9C59-0EB448DC9915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7"/>
          </p:nvPr>
        </p:nvSpPr>
        <p:spPr>
          <a:xfrm>
            <a:off x="8168760" y="479160"/>
            <a:ext cx="436680" cy="2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C09E-B521-400B-BD8A-18C03D59AAF6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9"/>
          </p:nvPr>
        </p:nvSpPr>
        <p:spPr>
          <a:xfrm>
            <a:off x="8168760" y="479160"/>
            <a:ext cx="436680" cy="2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9F04-8A6C-4F8B-86B8-906CF629ABA8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ftr" idx="1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1"/>
          </p:nvPr>
        </p:nvSpPr>
        <p:spPr>
          <a:xfrm>
            <a:off x="8168760" y="479160"/>
            <a:ext cx="436680" cy="2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5E0E-78FF-4548-9F5A-E518FDC700E5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3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397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19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397.xml"/><Relationship Id="rId10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2" name="Ellipse 9" descr=""/>
          <p:cNvPicPr/>
          <p:nvPr/>
        </p:nvPicPr>
        <p:blipFill>
          <a:blip r:embed="rId1"/>
          <a:stretch/>
        </p:blipFill>
        <p:spPr>
          <a:xfrm>
            <a:off x="7234200" y="4602240"/>
            <a:ext cx="2668680" cy="1639800"/>
          </a:xfrm>
          <a:prstGeom prst="rect">
            <a:avLst/>
          </a:prstGeom>
          <a:ln w="0">
            <a:noFill/>
          </a:ln>
        </p:spPr>
      </p:pic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fr-FR" sz="4200" spc="-1" strike="noStrike">
                <a:solidFill>
                  <a:srgbClr val="9e8464"/>
                </a:solidFill>
                <a:latin typeface="Arial Narrow"/>
              </a:rPr>
              <a:t>Des objectifs </a:t>
            </a:r>
            <a:r>
              <a:rPr b="1" lang="fr-FR" sz="4200" spc="-1" strike="noStrike">
                <a:solidFill>
                  <a:srgbClr val="9e8464"/>
                </a:solidFill>
                <a:latin typeface="Wingdings"/>
                <a:ea typeface="Wingdings"/>
              </a:rPr>
              <a:t></a:t>
            </a:r>
            <a:r>
              <a:rPr b="1" lang="fr-FR" sz="4200" spc="-1" strike="noStrike">
                <a:solidFill>
                  <a:srgbClr val="9e8464"/>
                </a:solidFill>
                <a:latin typeface="Arial Narrow"/>
              </a:rPr>
              <a:t> des moyens !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524" name="Espace réservé du numéro de diapositive 3"/>
          <p:cNvSpPr/>
          <p:nvPr/>
        </p:nvSpPr>
        <p:spPr>
          <a:xfrm>
            <a:off x="7378560" y="7161120"/>
            <a:ext cx="22687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633B-D405-4540-9C70-33BCB543B1E7}" type="slidenum">
              <a:rPr b="0" lang="fr-FR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5" name="Ellipse 4" descr=""/>
          <p:cNvPicPr/>
          <p:nvPr/>
        </p:nvPicPr>
        <p:blipFill>
          <a:blip r:embed="rId2"/>
          <a:stretch/>
        </p:blipFill>
        <p:spPr>
          <a:xfrm>
            <a:off x="403200" y="1914480"/>
            <a:ext cx="2530440" cy="1639800"/>
          </a:xfrm>
          <a:prstGeom prst="rect">
            <a:avLst/>
          </a:prstGeom>
          <a:ln w="0">
            <a:noFill/>
          </a:ln>
        </p:spPr>
      </p:pic>
      <p:sp>
        <p:nvSpPr>
          <p:cNvPr id="2526" name="Text Box 6"/>
          <p:cNvSpPr/>
          <p:nvPr/>
        </p:nvSpPr>
        <p:spPr>
          <a:xfrm>
            <a:off x="879480" y="2143080"/>
            <a:ext cx="1467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qué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27" name="Ellipse 5"/>
          <p:cNvGrpSpPr/>
          <p:nvPr/>
        </p:nvGrpSpPr>
        <p:grpSpPr>
          <a:xfrm>
            <a:off x="2719440" y="1925640"/>
            <a:ext cx="2333520" cy="1592280"/>
            <a:chOff x="2719440" y="1925640"/>
            <a:chExt cx="2333520" cy="1592280"/>
          </a:xfrm>
        </p:grpSpPr>
        <p:pic>
          <p:nvPicPr>
            <p:cNvPr id="2528" name="Ellipse 5" descr=""/>
            <p:cNvPicPr/>
            <p:nvPr/>
          </p:nvPicPr>
          <p:blipFill>
            <a:blip r:embed="rId3"/>
            <a:stretch/>
          </p:blipFill>
          <p:spPr>
            <a:xfrm>
              <a:off x="2719440" y="1925640"/>
              <a:ext cx="233352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9" name=""/>
            <p:cNvSpPr/>
            <p:nvPr/>
          </p:nvSpPr>
          <p:spPr>
            <a:xfrm>
              <a:off x="3041640" y="2141640"/>
              <a:ext cx="136044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ff"/>
                  </a:solidFill>
                  <a:latin typeface="Arial"/>
                </a:rPr>
                <a:t>Fidélise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0" name="Ellipse 6"/>
          <p:cNvGrpSpPr/>
          <p:nvPr/>
        </p:nvGrpSpPr>
        <p:grpSpPr>
          <a:xfrm>
            <a:off x="4992840" y="1925640"/>
            <a:ext cx="2590560" cy="1592280"/>
            <a:chOff x="4992840" y="1925640"/>
            <a:chExt cx="2590560" cy="1592280"/>
          </a:xfrm>
        </p:grpSpPr>
        <p:pic>
          <p:nvPicPr>
            <p:cNvPr id="2531" name="Ellipse 6" descr=""/>
            <p:cNvPicPr/>
            <p:nvPr/>
          </p:nvPicPr>
          <p:blipFill>
            <a:blip r:embed="rId4"/>
            <a:stretch/>
          </p:blipFill>
          <p:spPr>
            <a:xfrm>
              <a:off x="4992840" y="1925640"/>
              <a:ext cx="259056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2" name=""/>
            <p:cNvSpPr/>
            <p:nvPr/>
          </p:nvSpPr>
          <p:spPr>
            <a:xfrm>
              <a:off x="5357880" y="2141640"/>
              <a:ext cx="153828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Informer, active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3" name="Ellipse 7"/>
          <p:cNvGrpSpPr/>
          <p:nvPr/>
        </p:nvGrpSpPr>
        <p:grpSpPr>
          <a:xfrm>
            <a:off x="201600" y="4681440"/>
            <a:ext cx="2511360" cy="1590840"/>
            <a:chOff x="201600" y="4681440"/>
            <a:chExt cx="2511360" cy="1590840"/>
          </a:xfrm>
        </p:grpSpPr>
        <p:pic>
          <p:nvPicPr>
            <p:cNvPr id="2534" name="Ellipse 7" descr=""/>
            <p:cNvPicPr/>
            <p:nvPr/>
          </p:nvPicPr>
          <p:blipFill>
            <a:blip r:embed="rId5"/>
            <a:stretch/>
          </p:blipFill>
          <p:spPr>
            <a:xfrm>
              <a:off x="201600" y="4681440"/>
              <a:ext cx="25113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5" name=""/>
            <p:cNvSpPr/>
            <p:nvPr/>
          </p:nvSpPr>
          <p:spPr>
            <a:xfrm>
              <a:off x="550800" y="4898880"/>
              <a:ext cx="1487520" cy="8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Qualifier la BDD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6" name="Group 16"/>
          <p:cNvGrpSpPr/>
          <p:nvPr/>
        </p:nvGrpSpPr>
        <p:grpSpPr>
          <a:xfrm>
            <a:off x="2563920" y="4672080"/>
            <a:ext cx="2528280" cy="1639440"/>
            <a:chOff x="2563920" y="4672080"/>
            <a:chExt cx="2528280" cy="1639440"/>
          </a:xfrm>
        </p:grpSpPr>
        <p:pic>
          <p:nvPicPr>
            <p:cNvPr id="2537" name="Ellipse 8" descr=""/>
            <p:cNvPicPr/>
            <p:nvPr/>
          </p:nvPicPr>
          <p:blipFill>
            <a:blip r:embed="rId6"/>
            <a:stretch/>
          </p:blipFill>
          <p:spPr>
            <a:xfrm>
              <a:off x="2563920" y="4672080"/>
              <a:ext cx="2528280" cy="163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8" name="Text Box 18"/>
            <p:cNvSpPr/>
            <p:nvPr/>
          </p:nvSpPr>
          <p:spPr>
            <a:xfrm>
              <a:off x="2869200" y="4899240"/>
              <a:ext cx="1684800" cy="8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ff"/>
                  </a:solidFill>
                  <a:latin typeface="Arial"/>
                </a:rPr>
                <a:t>Promouvoi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9" name="Group 19"/>
          <p:cNvGrpSpPr/>
          <p:nvPr/>
        </p:nvGrpSpPr>
        <p:grpSpPr>
          <a:xfrm>
            <a:off x="4861080" y="4672080"/>
            <a:ext cx="2667960" cy="1639440"/>
            <a:chOff x="4861080" y="4672080"/>
            <a:chExt cx="2667960" cy="1639440"/>
          </a:xfrm>
        </p:grpSpPr>
        <p:pic>
          <p:nvPicPr>
            <p:cNvPr id="2540" name="Ellipse 9" descr=""/>
            <p:cNvPicPr/>
            <p:nvPr/>
          </p:nvPicPr>
          <p:blipFill>
            <a:blip r:embed="rId7"/>
            <a:stretch/>
          </p:blipFill>
          <p:spPr>
            <a:xfrm>
              <a:off x="4861080" y="4672080"/>
              <a:ext cx="2667960" cy="163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1" name="Text Box 21"/>
            <p:cNvSpPr/>
            <p:nvPr/>
          </p:nvSpPr>
          <p:spPr>
            <a:xfrm>
              <a:off x="5244120" y="4899240"/>
              <a:ext cx="1544040" cy="8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ff"/>
                  </a:solidFill>
                  <a:latin typeface="Arial"/>
                </a:rPr>
                <a:t>Traiter la prestation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542" name="Ellipse 18" descr=""/>
          <p:cNvPicPr/>
          <p:nvPr/>
        </p:nvPicPr>
        <p:blipFill>
          <a:blip r:embed="rId8"/>
          <a:stretch/>
        </p:blipFill>
        <p:spPr>
          <a:xfrm>
            <a:off x="7238880" y="1914480"/>
            <a:ext cx="2111400" cy="1639800"/>
          </a:xfrm>
          <a:prstGeom prst="rect">
            <a:avLst/>
          </a:prstGeom>
          <a:ln w="0">
            <a:noFill/>
          </a:ln>
        </p:spPr>
      </p:pic>
      <p:sp>
        <p:nvSpPr>
          <p:cNvPr id="2543" name="Text Box 23"/>
          <p:cNvSpPr/>
          <p:nvPr/>
        </p:nvSpPr>
        <p:spPr>
          <a:xfrm>
            <a:off x="7388280" y="2143080"/>
            <a:ext cx="1612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Générer du bouche à oreill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4" name="Rectangle 11"/>
          <p:cNvSpPr/>
          <p:nvPr/>
        </p:nvSpPr>
        <p:spPr>
          <a:xfrm>
            <a:off x="0" y="6300720"/>
            <a:ext cx="9721800" cy="1260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5" name="Text Box 28"/>
          <p:cNvSpPr/>
          <p:nvPr/>
        </p:nvSpPr>
        <p:spPr>
          <a:xfrm>
            <a:off x="7604280" y="4813200"/>
            <a:ext cx="15444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nd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4200" spc="-1" strike="noStrike">
                <a:solidFill>
                  <a:srgbClr val="6a8c9d"/>
                </a:solidFill>
                <a:latin typeface="Arial Narrow"/>
              </a:rPr>
              <a:t>Des objectifs </a:t>
            </a:r>
            <a:r>
              <a:rPr b="0" lang="fr-FR" sz="4200" spc="-1" strike="noStrike">
                <a:solidFill>
                  <a:srgbClr val="6a8c9d"/>
                </a:solidFill>
                <a:latin typeface="Wingdings"/>
                <a:ea typeface="Wingdings"/>
              </a:rPr>
              <a:t></a:t>
            </a:r>
            <a:r>
              <a:rPr b="0" lang="fr-FR" sz="4200" spc="-1" strike="noStrike">
                <a:solidFill>
                  <a:srgbClr val="6a8c9d"/>
                </a:solidFill>
                <a:latin typeface="Arial Narrow"/>
              </a:rPr>
              <a:t> des moyens !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grpSp>
        <p:nvGrpSpPr>
          <p:cNvPr id="2547" name="Ellipse 4"/>
          <p:cNvGrpSpPr/>
          <p:nvPr/>
        </p:nvGrpSpPr>
        <p:grpSpPr>
          <a:xfrm>
            <a:off x="281160" y="1889280"/>
            <a:ext cx="2481120" cy="1592280"/>
            <a:chOff x="281160" y="1889280"/>
            <a:chExt cx="2481120" cy="1592280"/>
          </a:xfrm>
        </p:grpSpPr>
        <p:pic>
          <p:nvPicPr>
            <p:cNvPr id="2548" name="Ellipse 4" descr=""/>
            <p:cNvPicPr/>
            <p:nvPr/>
          </p:nvPicPr>
          <p:blipFill>
            <a:blip r:embed="rId1"/>
            <a:stretch/>
          </p:blipFill>
          <p:spPr>
            <a:xfrm>
              <a:off x="281160" y="1889280"/>
              <a:ext cx="248112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9" name=""/>
            <p:cNvSpPr/>
            <p:nvPr/>
          </p:nvSpPr>
          <p:spPr>
            <a:xfrm>
              <a:off x="627120" y="2104920"/>
              <a:ext cx="1463760" cy="8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ff"/>
                  </a:solidFill>
                  <a:latin typeface="Arial"/>
                </a:rPr>
                <a:t>Conquéri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50" name="Ellipse 5"/>
          <p:cNvGrpSpPr/>
          <p:nvPr/>
        </p:nvGrpSpPr>
        <p:grpSpPr>
          <a:xfrm>
            <a:off x="2646360" y="1925640"/>
            <a:ext cx="2406600" cy="1592280"/>
            <a:chOff x="2646360" y="1925640"/>
            <a:chExt cx="2406600" cy="1592280"/>
          </a:xfrm>
        </p:grpSpPr>
        <p:pic>
          <p:nvPicPr>
            <p:cNvPr id="2551" name="Ellipse 5" descr=""/>
            <p:cNvPicPr/>
            <p:nvPr/>
          </p:nvPicPr>
          <p:blipFill>
            <a:blip r:embed="rId2"/>
            <a:stretch/>
          </p:blipFill>
          <p:spPr>
            <a:xfrm>
              <a:off x="2646360" y="1925640"/>
              <a:ext cx="240660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2" name=""/>
            <p:cNvSpPr/>
            <p:nvPr/>
          </p:nvSpPr>
          <p:spPr>
            <a:xfrm>
              <a:off x="2979720" y="2141640"/>
              <a:ext cx="14112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ff"/>
                  </a:solidFill>
                  <a:latin typeface="Arial"/>
                </a:rPr>
                <a:t>Fidélise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53" name="Ellipse 6"/>
          <p:cNvGrpSpPr/>
          <p:nvPr/>
        </p:nvGrpSpPr>
        <p:grpSpPr>
          <a:xfrm>
            <a:off x="4870440" y="1725480"/>
            <a:ext cx="2567160" cy="1792440"/>
            <a:chOff x="4870440" y="1725480"/>
            <a:chExt cx="2567160" cy="1792440"/>
          </a:xfrm>
        </p:grpSpPr>
        <p:pic>
          <p:nvPicPr>
            <p:cNvPr id="2554" name="Ellipse 6" descr=""/>
            <p:cNvPicPr/>
            <p:nvPr/>
          </p:nvPicPr>
          <p:blipFill>
            <a:blip r:embed="rId3"/>
            <a:stretch/>
          </p:blipFill>
          <p:spPr>
            <a:xfrm>
              <a:off x="4870440" y="1725480"/>
              <a:ext cx="256716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5" name=""/>
            <p:cNvSpPr/>
            <p:nvPr/>
          </p:nvSpPr>
          <p:spPr>
            <a:xfrm>
              <a:off x="5229360" y="1969920"/>
              <a:ext cx="152244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Informe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active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56" name="Ellipse 7"/>
          <p:cNvGrpSpPr/>
          <p:nvPr/>
        </p:nvGrpSpPr>
        <p:grpSpPr>
          <a:xfrm>
            <a:off x="201600" y="4743360"/>
            <a:ext cx="2449440" cy="1596960"/>
            <a:chOff x="201600" y="4743360"/>
            <a:chExt cx="2449440" cy="1596960"/>
          </a:xfrm>
        </p:grpSpPr>
        <p:pic>
          <p:nvPicPr>
            <p:cNvPr id="2557" name="Ellipse 7" descr=""/>
            <p:cNvPicPr/>
            <p:nvPr/>
          </p:nvPicPr>
          <p:blipFill>
            <a:blip r:embed="rId4"/>
            <a:stretch/>
          </p:blipFill>
          <p:spPr>
            <a:xfrm>
              <a:off x="201600" y="4743360"/>
              <a:ext cx="244944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>
              <a:off x="542880" y="4962600"/>
              <a:ext cx="144468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Qualifier la BDD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559" name="Ellipse 8" descr=""/>
          <p:cNvPicPr/>
          <p:nvPr/>
        </p:nvPicPr>
        <p:blipFill>
          <a:blip r:embed="rId5"/>
          <a:stretch/>
        </p:blipFill>
        <p:spPr>
          <a:xfrm>
            <a:off x="2868480" y="4672080"/>
            <a:ext cx="2068560" cy="1639800"/>
          </a:xfrm>
          <a:prstGeom prst="rect">
            <a:avLst/>
          </a:prstGeom>
          <a:ln w="0">
            <a:noFill/>
          </a:ln>
        </p:spPr>
      </p:pic>
      <p:sp>
        <p:nvSpPr>
          <p:cNvPr id="2560" name="Text Box 17"/>
          <p:cNvSpPr/>
          <p:nvPr/>
        </p:nvSpPr>
        <p:spPr>
          <a:xfrm>
            <a:off x="2876400" y="4892760"/>
            <a:ext cx="167976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romouvo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61" name="Ellipse 9"/>
          <p:cNvGrpSpPr/>
          <p:nvPr/>
        </p:nvGrpSpPr>
        <p:grpSpPr>
          <a:xfrm>
            <a:off x="4816440" y="4681440"/>
            <a:ext cx="2754360" cy="1590840"/>
            <a:chOff x="4816440" y="4681440"/>
            <a:chExt cx="2754360" cy="1590840"/>
          </a:xfrm>
        </p:grpSpPr>
        <p:pic>
          <p:nvPicPr>
            <p:cNvPr id="2562" name="Ellipse 9" descr=""/>
            <p:cNvPicPr/>
            <p:nvPr/>
          </p:nvPicPr>
          <p:blipFill>
            <a:blip r:embed="rId6"/>
            <a:stretch/>
          </p:blipFill>
          <p:spPr>
            <a:xfrm>
              <a:off x="4816440" y="4681440"/>
              <a:ext cx="27543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3" name=""/>
            <p:cNvSpPr/>
            <p:nvPr/>
          </p:nvSpPr>
          <p:spPr>
            <a:xfrm>
              <a:off x="5203800" y="4898880"/>
              <a:ext cx="1655640" cy="8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Traiter la prestation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64" name="ZoneTexte 11"/>
          <p:cNvSpPr/>
          <p:nvPr/>
        </p:nvSpPr>
        <p:spPr>
          <a:xfrm>
            <a:off x="0" y="3192480"/>
            <a:ext cx="29750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éférencem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Prospection e-mail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Parraina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ampagnes pub onli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Annuai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5" name="ZoneTexte 12"/>
          <p:cNvSpPr/>
          <p:nvPr/>
        </p:nvSpPr>
        <p:spPr>
          <a:xfrm>
            <a:off x="2641680" y="3228840"/>
            <a:ext cx="254628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Optimiser la relation : e-mailing, newsletter, espace client, extran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6" name="ZoneTexte 13"/>
          <p:cNvSpPr/>
          <p:nvPr/>
        </p:nvSpPr>
        <p:spPr>
          <a:xfrm>
            <a:off x="5103720" y="3228840"/>
            <a:ext cx="174780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Site, site événementiel Newsletter, R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ZoneTexte 14"/>
          <p:cNvSpPr/>
          <p:nvPr/>
        </p:nvSpPr>
        <p:spPr>
          <a:xfrm>
            <a:off x="114480" y="6018120"/>
            <a:ext cx="272700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Newsletter, Jeux, Sondages, </a:t>
            </a:r>
            <a:br>
              <a:rPr sz="1900"/>
            </a:b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études, questionnaires, parrainage…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ZoneTexte 15"/>
          <p:cNvSpPr/>
          <p:nvPr/>
        </p:nvSpPr>
        <p:spPr>
          <a:xfrm>
            <a:off x="2563920" y="6018120"/>
            <a:ext cx="245412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ampagnes publicitaires onli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Bannières, </a:t>
            </a:r>
            <a:br>
              <a:rPr sz="1900"/>
            </a:b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Affili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9" name="ZoneTexte 16"/>
          <p:cNvSpPr/>
          <p:nvPr/>
        </p:nvSpPr>
        <p:spPr>
          <a:xfrm>
            <a:off x="5397480" y="6018120"/>
            <a:ext cx="174960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Forums, SAV, FAQ, Gérer la relation client via SM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0" name="Ellipse 18" descr=""/>
          <p:cNvPicPr/>
          <p:nvPr/>
        </p:nvPicPr>
        <p:blipFill>
          <a:blip r:embed="rId7"/>
          <a:stretch/>
        </p:blipFill>
        <p:spPr>
          <a:xfrm>
            <a:off x="7238880" y="1785960"/>
            <a:ext cx="2519640" cy="1969920"/>
          </a:xfrm>
          <a:prstGeom prst="rect">
            <a:avLst/>
          </a:prstGeom>
          <a:ln w="0">
            <a:noFill/>
          </a:ln>
        </p:spPr>
      </p:pic>
      <p:sp>
        <p:nvSpPr>
          <p:cNvPr id="2571" name="Text Box 28"/>
          <p:cNvSpPr/>
          <p:nvPr/>
        </p:nvSpPr>
        <p:spPr>
          <a:xfrm>
            <a:off x="7534440" y="2143080"/>
            <a:ext cx="1460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Générer du bouche à oreil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ZoneTexte 19"/>
          <p:cNvSpPr/>
          <p:nvPr/>
        </p:nvSpPr>
        <p:spPr>
          <a:xfrm>
            <a:off x="7066080" y="3228840"/>
            <a:ext cx="238896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uzz, Marketing vir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unauté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orums, chats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éseaux sociaux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log seeding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73" name="Ellipse 9"/>
          <p:cNvGrpSpPr/>
          <p:nvPr/>
        </p:nvGrpSpPr>
        <p:grpSpPr>
          <a:xfrm>
            <a:off x="7321680" y="4664160"/>
            <a:ext cx="2547720" cy="1590480"/>
            <a:chOff x="7321680" y="4664160"/>
            <a:chExt cx="2547720" cy="1590480"/>
          </a:xfrm>
        </p:grpSpPr>
        <p:pic>
          <p:nvPicPr>
            <p:cNvPr id="2574" name="Ellipse 9" descr=""/>
            <p:cNvPicPr/>
            <p:nvPr/>
          </p:nvPicPr>
          <p:blipFill>
            <a:blip r:embed="rId8"/>
            <a:stretch/>
          </p:blipFill>
          <p:spPr>
            <a:xfrm>
              <a:off x="7321680" y="4664160"/>
              <a:ext cx="254772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5" name=""/>
            <p:cNvSpPr/>
            <p:nvPr/>
          </p:nvSpPr>
          <p:spPr>
            <a:xfrm>
              <a:off x="7678800" y="4881600"/>
              <a:ext cx="150804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Vendre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76" name="ZoneTexte 16"/>
          <p:cNvSpPr/>
          <p:nvPr/>
        </p:nvSpPr>
        <p:spPr>
          <a:xfrm>
            <a:off x="7629480" y="5961240"/>
            <a:ext cx="174780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Site e-comme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Affili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omparateur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06:38:31Z</dcterms:created>
  <dc:creator/>
  <dc:description/>
  <dc:language>en-US</dc:language>
  <cp:lastModifiedBy/>
  <dcterms:modified xsi:type="dcterms:W3CDTF">2014-11-23T15:59:22Z</dcterms:modified>
  <cp:revision>1</cp:revision>
  <dc:subject/>
  <dc:title/>
</cp:coreProperties>
</file>