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slideMaster4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9.xml" ContentType="application/vnd.openxmlformats-officedocument.presentationml.slideMaster+xml"/>
  <Override PartName="/ppt/theme/theme56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theme/theme5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9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</p:sldMasterIdLst>
  <p:notesMasterIdLst>
    <p:notesMasterId r:id="rId61"/>
  </p:notesMasterIdLst>
  <p:sldIdLst>
    <p:sldId id="256" r:id="rId62"/>
    <p:sldId id="257" r:id="rId63"/>
  </p:sldIdLst>
  <p:sldSz cx="9723438" cy="7559675"/>
  <p:notesSz cx="6897688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notesMaster" Target="notesMasters/notesMaster1.xml"/><Relationship Id="rId62" Type="http://schemas.openxmlformats.org/officeDocument/2006/relationships/slide" Target="slides/slide1.xml"/><Relationship Id="rId63" Type="http://schemas.openxmlformats.org/officeDocument/2006/relationships/slide" Target="slides/slide2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"/>
          <p:cNvSpPr/>
          <p:nvPr/>
        </p:nvSpPr>
        <p:spPr>
          <a:xfrm>
            <a:off x="0" y="0"/>
            <a:ext cx="6897600" cy="100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1"/>
          <p:cNvSpPr>
            <a:spLocks noGrp="1"/>
          </p:cNvSpPr>
          <p:nvPr>
            <p:ph type="sldImg"/>
          </p:nvPr>
        </p:nvSpPr>
        <p:spPr>
          <a:xfrm>
            <a:off x="603360" y="1023480"/>
            <a:ext cx="5673600" cy="4411800"/>
          </a:xfrm>
          <a:prstGeom prst="rect">
            <a:avLst/>
          </a:prstGeom>
          <a:noFill/>
          <a:ln w="12600">
            <a:solidFill>
              <a:srgbClr val="d9caa7"/>
            </a:solidFill>
            <a:miter/>
          </a:ln>
        </p:spPr>
        <p:txBody>
          <a:bodyPr lIns="89280" rIns="89280" tIns="44640" bIns="4464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move the slide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grpSp>
        <p:nvGrpSpPr>
          <p:cNvPr id="2501" name="Group 87"/>
          <p:cNvGrpSpPr/>
          <p:nvPr/>
        </p:nvGrpSpPr>
        <p:grpSpPr>
          <a:xfrm>
            <a:off x="628560" y="6035760"/>
            <a:ext cx="5626080" cy="3686040"/>
            <a:chOff x="628560" y="6035760"/>
            <a:chExt cx="5626080" cy="3686040"/>
          </a:xfrm>
        </p:grpSpPr>
        <p:sp>
          <p:nvSpPr>
            <p:cNvPr id="2502" name=""/>
            <p:cNvSpPr/>
            <p:nvPr/>
          </p:nvSpPr>
          <p:spPr>
            <a:xfrm>
              <a:off x="628560" y="603576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28560" y="640404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28560" y="6772320"/>
              <a:ext cx="5626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628560" y="714204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28560" y="751032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28560" y="7878600"/>
              <a:ext cx="562608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628560" y="824724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28560" y="8615520"/>
              <a:ext cx="5626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28560" y="898524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28560" y="9353520"/>
              <a:ext cx="56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680" bIns="49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28560" y="640404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628560" y="677232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628560" y="714204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28560" y="751032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28560" y="787860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28560" y="824724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628560" y="861552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28560" y="898524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28560" y="9353520"/>
              <a:ext cx="5626080" cy="0"/>
            </a:xfrm>
            <a:prstGeom prst="line">
              <a:avLst/>
            </a:prstGeom>
            <a:ln w="12600">
              <a:solidFill>
                <a:srgbClr val="f3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21" name="PlaceHolder 2"/>
          <p:cNvSpPr>
            <a:spLocks noGrp="1"/>
          </p:cNvSpPr>
          <p:nvPr>
            <p:ph type="body"/>
          </p:nvPr>
        </p:nvSpPr>
        <p:spPr>
          <a:xfrm>
            <a:off x="689760" y="4765680"/>
            <a:ext cx="5517720" cy="45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sldImg"/>
          </p:nvPr>
        </p:nvSpPr>
        <p:spPr>
          <a:xfrm>
            <a:off x="603360" y="1023840"/>
            <a:ext cx="5673600" cy="4411800"/>
          </a:xfrm>
          <a:prstGeom prst="rect">
            <a:avLst/>
          </a:prstGeom>
          <a:ln w="0">
            <a:noFill/>
          </a:ln>
        </p:spPr>
      </p:sp>
      <p:sp>
        <p:nvSpPr>
          <p:cNvPr id="2578" name="PlaceHolder 2"/>
          <p:cNvSpPr>
            <a:spLocks noGrp="1"/>
          </p:cNvSpPr>
          <p:nvPr>
            <p:ph type="body"/>
          </p:nvPr>
        </p:nvSpPr>
        <p:spPr>
          <a:xfrm>
            <a:off x="689040" y="4763880"/>
            <a:ext cx="5518080" cy="451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9" name="Espace réservé de l'en-tête 3"/>
          <p:cNvSpPr/>
          <p:nvPr/>
        </p:nvSpPr>
        <p:spPr>
          <a:xfrm>
            <a:off x="0" y="0"/>
            <a:ext cx="29876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 Black"/>
              </a:rPr>
              <a:t>Titre du stage ou lot de transparen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0" name="Espace réservé du numéro de diapositive 4"/>
          <p:cNvSpPr/>
          <p:nvPr/>
        </p:nvSpPr>
        <p:spPr>
          <a:xfrm>
            <a:off x="3906720" y="9528120"/>
            <a:ext cx="29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E9C2-CBF0-4C54-A60E-512805CB8DB1}" type="slidenum">
              <a:rPr b="0" lang="fr-FR" sz="1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sldImg"/>
          </p:nvPr>
        </p:nvSpPr>
        <p:spPr>
          <a:xfrm>
            <a:off x="603360" y="1023840"/>
            <a:ext cx="5673600" cy="4411800"/>
          </a:xfrm>
          <a:prstGeom prst="rect">
            <a:avLst/>
          </a:prstGeom>
          <a:ln w="0">
            <a:noFill/>
          </a:ln>
        </p:spPr>
      </p:sp>
      <p:sp>
        <p:nvSpPr>
          <p:cNvPr id="2582" name="PlaceHolder 2"/>
          <p:cNvSpPr>
            <a:spLocks noGrp="1"/>
          </p:cNvSpPr>
          <p:nvPr>
            <p:ph type="body"/>
          </p:nvPr>
        </p:nvSpPr>
        <p:spPr>
          <a:xfrm>
            <a:off x="689040" y="4763880"/>
            <a:ext cx="5518080" cy="451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0" i="1" lang="fr-FR" sz="1100" spc="-1" strike="noStrike">
                <a:solidFill>
                  <a:srgbClr val="000000"/>
                </a:solidFill>
                <a:latin typeface="Tahoma"/>
              </a:rPr>
              <a:t>blog seeding</a:t>
            </a:r>
            <a:r>
              <a:rPr b="0" lang="fr-FR" sz="1100" spc="-1" strike="noStrike">
                <a:solidFill>
                  <a:srgbClr val="000000"/>
                </a:solidFill>
                <a:latin typeface="Tahoma"/>
              </a:rPr>
              <a:t> consiste à envoyer en avant première aux blogueurs sélectionnés un produit.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3" name="Espace réservé du numéro de diapositive 3"/>
          <p:cNvSpPr/>
          <p:nvPr/>
        </p:nvSpPr>
        <p:spPr>
          <a:xfrm>
            <a:off x="3906720" y="9528120"/>
            <a:ext cx="29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1A90-E746-4E95-9B77-07BC03BABCAC}" type="slidenum">
              <a:rPr b="0" lang="fr-FR" sz="1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F14BC-A0D3-4A88-AB41-96F344C12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A8EF6-EA7C-49AD-96BC-E032807BD2E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ADA9B0-F21B-4CE4-B3A2-2F7CCC4C1D8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51EA25-1ABF-4B8D-9C09-7CA9AE5108E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E81C2D-B657-4793-A897-716802AF673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712AD7-5B35-40D2-A9AC-E917BA7A8BB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5848F1-4CC2-49E9-BE7E-C63808507D3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60AAA0-AA20-47B2-81EC-12624EA5F07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11476F-F536-48F0-9FCD-CA26E03D92B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B57844-EF1B-4F7D-8DF3-1FA30B877A3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A1C265-532F-4C14-8AFD-D8C21AF80DD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05B3CF-2354-4F90-95E9-137320391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89033-E95C-4AE9-B9C9-3C1B40D929A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1D1230-D316-47CD-BA64-F28E1561FD2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53C832-5418-4DFC-884A-48037EA0723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FFDB4B-9891-4ACE-A85C-748F53465E6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9DBB11-2AF7-4649-BAAA-936BDC21C04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640649-A80D-4377-975F-8DB1765815A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BBE7FD-D012-41DA-BB82-1AAADA0F038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EE61DB-5A62-4459-BCC2-C34EAEF8BB7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62AE4C-21AD-4FCD-A5D3-7FD32CF8C66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DB2E53-BF11-42F2-90A1-DFCB5BC73F3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E16736-3FB3-48D1-AA6D-D22F58774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9A7B7-C62D-472A-B124-C12C7DFE402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33C7C4-4DA2-497F-BCD1-A97C7F325EB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6A00E-9A0B-4A84-92EE-6CBB53FAFB5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31F47-8C41-4B7F-BE82-D61E559A367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BF1E4-7F59-43F8-9C4E-EC3410B1413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8362E-95A8-4F2D-8B7D-CFD4E142F0D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13854-03C9-49C1-AEE0-25B2ED84DF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70EA8-C091-40EB-9F89-079EEDABF22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38EAF-C874-4BC6-BC58-6619E5EBAD9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1AD65-AE13-431C-845E-2EE3A953FCF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835CF-2DF1-4185-807F-7DDFA1D57FD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8CA38-2B18-4948-84F8-DD93F193E75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9CFBA-324E-4B13-855B-68646388FEE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9CC41-5D0B-4E4B-A844-F2A738E537A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10BA99-7B2D-4151-8F65-7F4B52320B6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642EF7-1629-4257-A4CD-49B9963FE56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DC0966-3957-45BE-96E7-E2CF4E776D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BF7C06-DA2F-4EB4-8AC8-E8C46CE0699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BC1FD8-080D-446B-BA1B-CECB0E7A641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2B3B03-15CD-4465-A2F1-09EFA905EB1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E98B89-45D9-44B1-83BA-87157557525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312EBF-9F5F-42FC-8855-8C7F63327F6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87FEDE-11B4-4E3F-A9AD-FF0BA535B0C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DFBDC8-4FDD-44B9-9513-66E4C1A5AE2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CE0056-FF25-4CD6-8B3E-4A67988E621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9C5198-05C0-4A6D-8156-1FA08FB2958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103EC9-3DF6-4629-B9A0-94D4897846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5BB693-95AE-45F4-B2A3-012C594E212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82DB35-6F3A-4721-AFC4-A83B5DC18BE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7E44DF-CEC1-4013-B9FA-37E882879DE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DA77FD-2177-4103-B2D4-1EFD72FD0DE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ED5A95-EC47-4B02-9800-953F6DBC807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6FBBE8-BB2F-49CB-803D-1BAC11D117C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A16867-53E1-45BA-BB45-41035CB4893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8FE7CF-7471-463C-ACC5-EE588F1C966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F2DED0-0760-4A17-87FA-4D8B4A29B74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903627-1D67-4DDB-B7BC-045EBA7023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5E057E-2E7E-45B9-8F04-514433C49EB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CCD19-6DA9-4382-84EF-6FC8BF95977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A0E64-DCB8-41A5-8A31-F6E87F31C97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4FEE3-834F-44B5-9648-FAFB6F002A3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457F3-FCD4-4D7E-8A56-6F231971F17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DCE9C-5276-4DEE-B9FB-66E6D1EE886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10079-3E09-4EEF-B8B1-00125AD2672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940E6-F891-4CD9-BD89-786CDAF5903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D7051-FF7D-44B2-B468-989DC263085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8F1EC-EB09-48DD-9374-621D961EB4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79EA9-6B3A-40DB-8EEE-476E464BF3E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40B8B-F79D-4B31-83E9-49869EA99A4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E7242-AEEC-4037-8032-E14D40E6932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BF5E8A-4512-4C78-8135-39A0B2E42A5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130D5A-F18D-4ABF-B8F0-D693BC44A4A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2D6C13-FDA9-4D1B-9181-1E6CCA477B5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4C1E0C-E9CB-46FF-BB6B-09D936A9D4A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939026-0FA6-481F-A860-3554D154CAF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209AB5-10BB-41E5-9287-0BCF8926210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EF9DE1-DF0F-44A6-A177-7DE1FFDA5F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408A2-B690-41C4-9601-A882033F12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43218E-DD7A-4C9D-B354-79B4AD734E8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8F843B-E88C-444D-BA8E-A8E77ACDA21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F2B281-37BD-4B3D-925C-F0A44E76983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29B933-7DE0-4DB0-A31D-6778107D512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E32F19-BB94-48B6-8404-1F0A03A0AB0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53C4B3-5C64-416A-8F06-BD6CAB5E077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786F1D-D606-41F0-B293-8C53AACD205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3A3354-9D67-4B2C-9BAD-82F55D57704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E454AE-F5AA-4350-A4BC-11479815228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EB173D-CF66-48D2-8208-455692B232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FDA451-A772-44EB-831E-BDC053B60BC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BE8D8B-4028-45B9-9390-978A01C5174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6D3F18-CB5B-40D0-A407-88316B568BA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128787-D500-40DA-B08A-F030B401316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52394E-29CD-453B-AD80-45029751EDD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700DED-A015-4910-BF7C-450B534C782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ECE7BB-0370-42E5-A53E-DAEF1070BF1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339A8-ADCD-45EF-8DCB-C29B74E2273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4458A-9AF6-4DC7-AF9D-06D3647CDC6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69959-9365-444A-8F18-A44F603B5E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5C376-8A3E-42F8-990E-40ADFFE4D8F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9D8E1-23F8-49FA-8F13-5BA04B588C6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4EDC7-5607-4505-BCE3-3272A14AE30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8EDD2-2B48-4236-9E69-97FC9DCD363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A2183-8EFF-42CD-9ACC-81DF324368A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390D4-71BE-4623-9D3B-F4C6DEC2F89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8F5EC-28EB-47BD-91F4-86083AFFC88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D6FEC-E613-4B8A-B4FA-9141190A294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1B38D-1CB5-4355-AD96-D6076B44C04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B61679-3AD6-4C83-8993-EB0EA76E0B1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4EF674-0BDA-4C53-8FB2-24F7E687144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6E12D9-8898-4533-BA08-F1BFEF2D48F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24FC7F-ACAE-4277-B5AD-368FD317259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D5B4C0-C514-4D9A-8799-A01F086202F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6A0EFE-C764-47AB-B5E3-56C6D676DD0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0A84EF-4364-4FA1-AAB1-F658A996518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624222-1AD2-4EB1-A292-D5A97D895DE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B3E703-2C5A-4DCA-B7BE-CAD946239A8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C075-407F-4BED-B74F-313D5952AB7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C4712B-0539-45DE-8578-E7640395A9E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81D3F3-C491-4C56-BB9B-DB1959D19DC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571EDD-562F-43D2-BE1B-34D008F9921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2961AB-A54B-48A3-AF51-564D47934A9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6083FA-EC33-4C50-9555-996F636BF9D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15B8C3-6A17-40EE-B906-45284474E42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2D362A0-5A6A-429C-A0B1-17478FA585D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349DC6-88BC-40AE-898F-AD382D52419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031FBE-E40A-4D76-8B2A-3CF1B639F03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A0160D-E894-432E-9590-AE1BA2B17B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4F49-3494-47FB-B4E2-F1700814D8A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A7AA74-D204-4927-BCAC-5FF0A28C11D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AD4F88-9B49-4DAF-9641-69524808C3D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D05AF4-0733-41C2-B7D6-2DC44CA07D1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BA9D1D-4C58-4264-8ED6-69A20B1F84C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26C880-8718-4AB3-9305-F58F8CCB44D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1816E-6C72-45D7-BDF2-81A7A4FFA33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971DB-6C90-4307-AB7E-EC2348DDB95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36D4D-3EC2-4535-8186-366F43D96CD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B4283-7C0A-4E04-B6B3-7DB85F44A34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9A833-A354-4E32-BF92-D35B8AB6C9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A3DF-49A4-4D4C-9FA6-2C6AFFE65C8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2111E-797E-4296-AF99-0F0A9E65F20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F201B-ED4D-4A88-9B98-3B297D7066C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209B6-207D-468F-9793-2503ADDD7D8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59C7A-5882-488D-BDED-96DCE7617B6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403A8-7C14-4746-AC40-1D920E554FB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B9398-B3C1-4AC7-AD31-1964FC517E0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ADE03-C5A8-4F7E-BF0D-30144CA1459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1314EF-9BBE-4FFE-9582-95E30116209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3102D8-A421-411E-AFDC-0203B5CB9DE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F4BAC2-2DAB-47EB-A569-5FAEFAF19F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ADE4-8AE3-45A5-AB32-67FE106489C6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421A41-1E46-4211-91DF-046E09D0F00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BA1118-8BA4-4656-819C-09C53A56E37A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1B0D60-6BD0-40B6-8B6E-4E419B19DFB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5A33D7-12F6-4220-B5D0-911BB1A812C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C03DFB-15F1-452F-8C2C-018CA37AD78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6A9FF6-05F6-436D-9652-D093C51073D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834659-6CB1-46E8-974C-4EFF68B2F99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1EF8DE-A7D1-4CE6-AD77-9398C9FB58F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459AC2-6F3A-4D32-AFD5-46F6CB12BD9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9FCFEE-6F4C-4185-B138-285C2479E4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84DB-64F9-487C-B27F-FB23462E5C8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6A5D710-50F7-437B-B7F8-9612313345C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E2B0F0A-C0AE-47AD-AA9A-C80CDEEA1CC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AC848B7-108C-4EE0-8BAE-F448BEE9B38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D120E6C-EB35-45B6-B61C-685A84E89EA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DB9943D-5792-47B0-8F80-9CC98D742EF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B22CAE8-88E3-41F8-ABBB-89D163DB201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50DF769-EF91-4C78-86D7-ECD642154AF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0EF2AAF-F5B1-48DE-88D6-B67DA263521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E50FC90-07BA-4D84-BDEA-03EF777792D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4461090-7558-4452-B34D-C1BB71B259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495CD-A30A-455E-BAAE-A9E7C5D560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FC6-4062-4414-A046-E44528C6F6F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C1DB662-639A-4B7F-A294-EA6980F2DAC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60033C-5903-49B0-9AB2-BAEAC6344142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6616A3-71D3-4B4C-8762-13BC0601174E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72B99D-245E-4A1E-8AD8-5A6077748C9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9DEEA9-4B07-467B-A2FC-98546086F35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F65679-9A2D-4576-B2AA-F04ECFAA221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EFB0A4-71DD-4547-9FA8-0C4C6B593F8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C52134-19FD-483B-B39D-8B2D279212B4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34502B-CD42-4C00-BCB8-467FD2E6488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98F9AF-3FDD-4166-BFD1-44F9CE2510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B9E9-44DB-4281-A79A-E3060FFE451F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1220B9-F315-45B6-B7AC-834C301A95F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A813B6-71C2-4266-9032-E6D50883B6C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977D31-2328-41E5-AAFC-EE1EFF6E246B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C23E3FA-3BDA-42A2-8817-E46F8A5B85DE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464920A-329B-49A6-9B8F-335898A6A924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6A96FD5-1079-41FD-84E4-5B219147AED5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FB8F8C2-8AFA-4549-B806-0D55E6CECF0C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3BA1F60-CBC3-4625-91AD-752BEB21B96E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CFD6460-E1E1-49AF-95F0-8510D1D28124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D2ED1BE-0A03-4228-B152-929FB3C1E55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92DD-BA80-41B8-B3F7-63E66D9CB610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701427A-E761-4194-B35F-7EB29A53B7A2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8E53D8F-3CBA-4CF5-B6CC-300494B82A25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DAC906B-FD8C-4AA4-8256-8750395253AC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EC29011-8C3A-4DC4-8346-AF64BCA62CEB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F8473B-DC84-467A-8585-E3416E1E2047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7CB5-9698-41F0-8797-5DA53B3D7254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D6F1084-9270-4556-9A9F-AB3967DD7289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A6BF259-4960-40AD-9F16-486D7F5FCB87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66606EF-4C37-4B9A-A35E-262E1B3190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6D05-A56A-414C-BC25-655FBB211D54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3C42A67-2930-414F-897C-6089A528618F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450D369-BE88-44D2-9CC4-EC05B8703CAE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BC16525-E5D0-4DB8-896F-7E42253ED672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68F1989-5909-449E-83CB-C04C63306EEE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EFF1169-AD93-41A8-8FDF-3A9D3DD343EB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C4D028E-7B4F-4154-8D9E-19CD5F0FFEFE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29FCAA5-67B4-4C1C-AF27-F49859D74E3A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37FCC97-5782-4303-AE94-92FF295F99C8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0F3CBD4-4C95-42AA-9587-C67EACA6E379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0967F2-FF83-4F6B-9612-807259EF2F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86C0-50FD-416F-8DB7-DFC351970836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1DDE11-0520-4D2D-9CA3-880AD134E19A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022C6D-10A4-4747-9211-FB31E8C04613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88F446-0285-4138-AF48-E686909AA4A2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90EE97-0320-49A7-A5DC-D60DACD4DAC3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0F1EA6-6D0E-4762-BA7F-BA67B1D87EB7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25FCAE-E611-40BD-9161-E39046EAD546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BF24F4-9558-42C6-B063-3C5127B5A6A9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9AC512-7645-457F-A520-B9E9A9BFEC96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B90DAA-6002-441B-A2BC-EF42AAD5D58E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566022-76F9-48FC-8AB0-F3C90964B2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C998-5290-4797-B580-F0806CA2AB7A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4941A9-5095-4510-B8C1-04D6687455EE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1689C81-ED1A-4A64-B484-8E569BD5CAE5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815D64C-8251-4851-A786-0F574D28C45D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C895011-E840-4507-AA81-13981CE58758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A2CE655-C014-4560-B4EB-3B1EED83A2EB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B84DF4F-B8D6-4C09-A093-4942B4F4FC8D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8047D61-6D6D-4E8E-B5BE-76A9E4EA6ECD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1784BD8-0417-48D7-9826-2E76E16D0F49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6EF8AFD-EB75-42B6-90B9-B62AB159F36C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990B053-7525-4482-91A8-6A22F078EB5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75C7CD5-CB69-4C13-A5E4-E148ECD10A50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C04C29B-E84A-43AD-9D8E-7D6B9FA967DC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8F96AED-9EB9-4710-8F4F-A1B4A2103BC5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E1E6392-B63F-4A1E-9DFD-3765FEEA05D7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5DE5AED-E84B-4D48-8780-ACEC251D50E1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D0C6595-23EF-4B42-87E5-DF9957EAD5A0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F58D0ED-BFA2-4052-B574-13757323AF98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F9EA7E0-2330-4D08-A039-DCAF1CA906D9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80A5588-6FBF-40F9-BB2C-CDBC10104C89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5293AB8-9E76-4FD0-81FC-087D5262150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9F6C520-356F-4115-80C6-09F25932EBF9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1A7627A-AEFE-478C-8FB0-0AF53AD853FB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1A6473C-2CB7-423C-A014-CA809FB5D0DF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BA817D3-0F30-4D33-9101-6AEC907A8F7F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8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9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6AE8222-E772-4227-B01F-2BDFF78C78DA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1179DB-9B95-4485-BA4E-744D8FC1E404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C5628D-31E8-47FE-98C4-E1A9E72129F3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6E5CEC-5275-4978-B89D-A4ED388139B8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8677A4-EC8B-421C-92F8-C54DE3539DFA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3463F8-4BAA-4308-8FB5-A89B5008824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55DC69-FFE9-4B61-82EA-325913A30D95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6F980B-EA4D-418E-94A1-9C4339A760E8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ED2A9A-7EF4-4BF6-B54B-146EFE9A2BAE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5CFCBD-8407-4370-9BAF-AF5C0471D1D6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9A2CC6-4EBD-4BBC-98E9-A6F2AD974034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8F092D-2C98-425F-9006-4C445494F78D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8CAA73-D9F2-46CE-B858-92935739F9E1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607ECA8-89EC-4622-A652-514B82177A4F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BE79766-081D-4BB3-B378-EF33526D1149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3640DA9-5DC6-499A-A6A0-3DDD7241D8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144A8-AF2F-4815-99B1-134B783FD19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F466A84-24B6-4115-930D-F71C40100102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32E2FC7-EB8D-480E-A622-2C894BBDD4C6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857F46A-5BC1-4EF8-B044-3F18B5B3B4EC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5E568FD-AF64-4F5F-9B15-53DD2061D338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0C358D4-96BA-402E-9696-BEA266B0A7AC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A81012A-40B6-40CA-AAEA-1296D8FCAD9F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6C88157-9D8C-4A57-ACC5-99060B620A50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D14AE45-2DDD-477E-96E0-268071010CD1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22DC711-01F1-4632-B889-72BE106B5CA2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88E8118-BF96-4F5A-BB39-770ED70CEB0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7E44C5C-2821-4151-BAA0-13520C0DA4C5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D7B0A84-87F0-4DA2-BA38-255A500CD213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5F7296E-F107-4831-8022-B066A3EF72B0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587C232-8ADF-4448-8618-CA01766922BC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565DE08-0076-4EB6-9BD4-DA1677F30A99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9E22A4E-C7B1-4CD6-8399-FCB25F4A8847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BB78D27-6646-47F2-AF15-BB7D362B0C8A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916F0D6-0ABC-40AE-BBB5-5661D20AEDC9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FAFD1A7-3C3F-477A-9ACE-F56C206A57A9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10965CA-F200-4F1E-AE99-FEC3977BF09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E456A14-9C24-44D0-ABB7-58699FBDE07B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B703A4-802F-4D60-9795-2908C2840CDB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7F86A6-F0A3-420A-BB05-9D70280CCF36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7DC7B6-9D35-429D-988E-E83B1D8E6D6D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1BFB5B-6ABA-412F-8C41-AFA0D95CCC71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287B83-3987-4F38-9C97-67827D7D45F8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F155C1-8939-409B-ACA7-DB6F82632A29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E74C0C-07FA-47F1-9F18-C9968765B3E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EA55E2-8E93-4B16-B7C2-418D57605DEE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709FD1-43D5-4161-85CF-F9020B5317C9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FFA2D2-8365-43D7-8FC4-D97DD1AEDA8E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D9F4DF-E691-4394-BED9-2CF99D578ED7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527C2C-4106-4CA4-95CD-413CB4E6A2B9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7463103-DCEC-4340-8D45-E771611B0E1A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5E70C35-542D-4696-8D6A-04AC84735DA3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62304BC-171F-478E-954C-8B2B98FDB748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1EB3AD3-127F-42F9-9E58-21CAFC02BA5C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09AA78A-806F-4575-AB75-3A6E30E23C2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D712EAA-86FA-487C-A3F1-55B9A49A9E97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ED68D94-47A7-4275-A18E-245C410D883E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FC8C461-5C49-4A07-8F0F-7276DF2C49B6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CC93963-96E0-4DA7-BC8B-EDE8ED30E399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0E50B0F-FE5A-4127-AF99-C54522A0762A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822C0D8-1A0E-4D99-BA67-B43DE44406E9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964E2EC-D4F8-4DDD-A3B0-7859B04A942E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81F1263-1A74-4C05-B684-429F92937915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38CC4E4-3051-4107-9844-26E047122F1B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C29506A-F7D5-4A2D-BBE4-1D596DC369F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1DFFFB7-8AA5-4B43-946D-1CC5B2270079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91EAD0D-96CE-4748-A3F5-6D8CA1475627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DBEDA1E-14B4-49C1-A38E-CD919B4AF79F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D4E27FD-2E1C-4770-81E9-D629FA26E970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FF6A3D5-CD9D-4DE6-A054-425687598750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264542F-E05C-42E2-9774-D1C27286F2B7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59AA51E-0F04-4017-B201-6C9EFA7C3355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AB533CB-553D-4E48-B07E-1F0D16F451FA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5D788BC-C06A-4512-9275-90FE42FA23BE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005728-5FD0-4827-A436-5673DC8768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0D546F-C8E1-44C1-B573-E878D918A526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A2E275-D66F-49A8-AED2-109E940C30F4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7E0548-2BF1-428C-9295-8A7E5B5EC258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CB6DFF-56F6-4399-9B8E-4E5182898E43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C100A2-F9B7-4880-B327-1CA30D6F4F52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5D17EA-FD7A-4539-8EF2-0242AE1D4236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85E106-49D5-4B8B-826E-61148998F99C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DC65F1-920B-449C-8F3A-0909AF3A8D8B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84C5A1-5E9D-428D-83D1-70ABB0402931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DE215A-1277-4CC9-9E31-DDF34297C2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7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8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9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E617D4-791A-428D-8C41-BA4E8C11E2CE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4336B81-9641-47B3-8072-69B77B55E4C0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0F8E782-C632-4CF0-8E79-85FEB2AD4B68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CECBEC9-BD9F-464A-81E0-B328CA57196F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B9F0363-6228-4A77-B8ED-4CAD7422AD23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1C45941-4EB1-4B96-A4A7-66808E0E4D6D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9272945-DBC3-41FF-98FC-FCC4330C0F05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97B9868-6D2F-48F5-9B6A-0FF36523A16B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7EB5B71-3BBF-4A2D-9149-C524330E2958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D14B5C8-C51E-45EF-A831-D5F23580552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F3ED2-0C8D-441C-A760-988FEE10739E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EE3124D-90BF-4360-BD9F-D6841D0AE7EF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3B73E2C-C9AE-4613-95F8-9B99D88A9FA7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6CB2FF4-3C0F-4D08-B51A-5525C736B870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9D82CBC-9E65-4C05-89BF-FAD44A482ACB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8D93B41-1F63-43A9-A9FD-0E6985D3E560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8D31E86-57FD-4013-94F1-B73211E2D717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72B0FDD-BB40-4A86-854D-95CB5D6B1E29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EB28B25-B6BF-469D-BE95-5AED564553A7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C11FA03-CAE3-4129-B6A3-77D0DFD38A19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235BDA6-22C2-472C-808C-8830FECD2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73ABF-3682-44D8-A4E8-3CE2B3356F2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04FFE-8C68-4A92-9F9C-9BF65292D7E6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9CC8952-92FB-46DA-9EAA-B5CE9E88CAE5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8279CE8-EB18-491F-9B94-677CF97203CA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810ABD4-25A5-497D-9086-BEB347E52969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E0E1472-E5DC-4AA5-AED5-891682EC4183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2D6D74D-5FBD-4C90-8432-4C5595BD239B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22B09B-484E-454C-AD09-8B51906CA250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9C1632-6477-428D-B7C4-C4309A46FF2E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C81A24-DF2E-49A7-A123-DD81F8D5664E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281444-EEF0-4609-A847-21BC41B25161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BF49AE-F9D2-41A1-802B-5063D06E53D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01964-5739-432E-AA3B-1CD26689399A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3FED81-0278-41C3-8F7D-BDBC207C230B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C246CA-BD73-46FA-845D-833EAA375E15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F8E125-82E2-4ADC-80E6-E127DD22D909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059595-B0E0-42EB-A28A-76EF5CBA931C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F7BEA3-4044-423F-97EB-926BAF140B07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F5E5B4-3058-4806-A2A9-F4E456D59F40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9D92DB-7A2C-4ABB-83E6-EA273610FFEE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D1E69-8851-49D2-BB20-DE8210B3584A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A20ED3D-0736-4E63-B6E6-A5B563787C9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8052B-F7D2-4CB7-BBFA-02562ABD442D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92995F8-4C3F-4B07-BCFA-819CB06C5095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63434AA-97D4-41CF-AABB-A29874310B67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299DFBD-6423-47CB-BAB2-ACBA39BE4522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D6742D7-A6C4-4E46-A8A6-7573A6973002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58DE486-7474-4421-B9A8-22CE84EEBE9E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98DBCC5-3630-4A50-97E0-65F84E62926E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46DF4E9-BB33-471D-80BA-096F20F1B949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94F3976-1514-4D99-A891-8D7873994A3B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254856C-6641-4693-A4B5-F7B217AE33EA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AC4AEF3-5C9E-4994-A8C1-DCBF539F020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03D50-6D75-43E0-AB4B-421EDD31BB34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9B0EE5C-2B94-4735-B409-7939E02155D6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DE0795D-C96D-43F4-858A-B90DA6C31BE1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243A175-CF31-48F9-B1A0-F67CD96C1633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C4E75CA-CAF5-4EF7-BEF9-30F10B0D977A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BA294A8-F0DC-411B-A124-D119DEE6EFF6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2FEB1EE-0025-4E1B-9572-14D32BE16E51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B8B627C-E165-484E-B6CE-0F3B2D6D3441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51B5ACC-D3A7-4AB5-9041-017C04E81706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7DBDCA5-01A5-4D9C-8140-81FEFBEDC75C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1427C72-83C1-4A46-81D0-3A03D6B9CCD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30A06-66A8-4E47-A297-E0DDDE95B977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0087839-468B-4B04-998E-220A1F06929D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851781B-32FB-4C75-B31B-08BAEC187A9B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E1ACC4B-C8DF-48C2-AF89-1050AA092529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58417A-869F-437A-9B9F-EFB68C33AD50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1C645B-4CB1-4E6C-AF74-DE626094F3FE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EC999A-8A8A-41FE-9FC0-CE7BDF3EB2C8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8D1362-0239-45A5-9B18-8ABB114C0A15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7D69B2-D32F-4BB7-8D4B-70807D2FCCF1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E0F369-212E-4DD6-A971-8338F2C083D0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63E009-4BC2-40E1-B556-2EACFF3714E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640FA-64BE-42E9-ADE7-8A7728D0C5C0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C9D815-425A-4A4D-B2C2-7C341315BB53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A0DDC1-A9E1-4FD0-90F9-E8DE76131D48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EEF094-1CF7-4F11-AA0B-B7287D80F6BF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90B9DE-694B-4138-9630-CAA7C1ED4228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C1CD54-0A95-42CC-890A-8125EC72EE4B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00FDA5A-65A1-4905-8BB9-EE1DFCF8BAE6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72910AE-F2FB-4F3A-A699-742744D72E90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CF55D38-B1D3-4C32-80B3-42F6C83E624C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469BC13-A5AB-4865-8398-456DEDD5E08C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0978C8C-E040-45CA-A528-EA3A89F27DE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8DCF4-1437-451A-9B6C-8AB1C2FE9E12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6344147-2865-43D0-A152-9CE2429155CF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DBC6FC5-0088-467A-92A2-A9E6D0B18CCF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BA1A6C1-A38C-4953-89C8-A1C0766E7E62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26C643D-2A2A-429A-B127-68C20B05200A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F6E9E80-15F5-4AE8-8B8A-DCDBA3FF0DE2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2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1C60DDB-B998-410F-A015-14C502B5A450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8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9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7268ABE-122C-4EF6-9B3F-6B8663CBDD76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F0D567F-1541-47CA-AC9B-18F9C7FCB190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3C3BF9B-12E6-40C7-A280-B30F604EFEA5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0D90EEF-E292-4924-80BE-FB0CDE5534F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3309E-0723-4093-8292-32A6CA557978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366B3CA-D29F-48A6-9C3B-9E611DAAE22B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D4730F0-2AA7-429A-8074-F88B346BD5E6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41857B9-2FDF-4AC9-AF20-2EB6CE1AD8F0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19729C9-5375-4A88-8853-EBFA0C4ED9FE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C7927CE-14AB-4B52-84FC-F93DB0CA7833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92CF53F-FA69-4967-928F-6A5833E397CD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3C1EFD5-3F78-4A09-8008-8B9356FF14DF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2B5B6CE-7638-4766-8400-FA7C16D9EB17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B7C20E2-28C6-4155-B590-48BC7266FAE1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4E99D8-797A-4374-ACFD-D4B474AE464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D54D8-3FF7-4F37-A420-40151DA0872C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2CEE71-28FD-438C-9591-2596E2EA3F2A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7FBF2A-3A69-49A7-820A-95600519D3F7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4488FF-C1DB-4526-9CAF-5D57BE21AAEA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E62DAD-A614-47AE-BBDE-93F9C1C66A24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66CAF3-DD2A-4C77-99B9-793AC046BBD2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408B57-54F9-486F-802C-D822DB73A04D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C9AF13-DB0E-41C6-ACC2-03B6BCB1CE0C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7EE0F0-D8DD-478A-A438-433BD4C9E146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3A8F0B-85A0-4A7E-A7E5-4704032149A2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5C4478-B22B-4BE4-9253-A0D9A7105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840EF-DA40-4648-9BE9-D0852FFC160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F0691-6A33-4C28-9369-A419BE436695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5BF911-580A-4699-A9BB-AFFFC0D29157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78A37BF-5EE0-41DE-ADF7-5BED3CD87605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6E7D70E-B887-41E4-B6EB-C4A4A3DA570C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9262C3E-AFD7-49F5-8F2C-966239CF64A8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B7822B2-27D9-431D-88DE-6381DCF4CE40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FFDCE84-716D-4F4B-926A-70694C853294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3F4A2E2-F57D-4602-9FBB-EE7259DE9274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90430D0-CF60-4C79-98C5-B5B647F2AE22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6E17D26-AE20-486F-BAA5-0AA24F390265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FE068AF-7760-4343-99CF-AA38A8CE29D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41EE84-F77B-49AA-9253-CF9B35260D5B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F1EF164-36F9-4A0B-BB85-474D0887DFA8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89E0CC9-B0F3-42CF-8512-AFA163A3EF21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1A8F014-B48C-4F3E-80A5-D3C48784C330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B9E535-ECEC-4DB3-BE96-34B91553522A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0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5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6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7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4CC749F-33C5-4A83-B2B9-1B9F184D2CCA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99BB84C-16BD-42FD-B3E9-425B4E3AA230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10AEAD4-1EB6-485A-A84A-3CBFCC035CF7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202DCB6D-29DD-4ACB-8584-2DC48085202B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E10A0BE-C091-4955-97E6-0EFF6C917C3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D89689-8760-4139-A26F-A2C66645EC85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0555BDD-9CA2-47DD-AA3E-EEFB20B54BD5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08E861C-3B5C-45C3-87CC-54AE0B11A4A3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1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E07694B-9577-4170-A23C-40BD480ADB9D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C783EF4-0238-4AE2-A463-756D9AE18552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10FCDC0-86D8-4075-9266-AEC76672F4CF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3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5FC7CAC-ECCE-415B-8FB8-5CD723DF4415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7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8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9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0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1E49084-1EEA-4F40-A97E-6829E8B1E05F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4B1AEC-42F6-453C-8039-ABB50EFDC722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6E2A8CB-0D2E-47D4-8C12-8B88A4B08710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BEA261-3CE2-4C7E-9FBA-96505B1E965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97EE8F-BDC0-4A51-BDA1-A838B6F7EB89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0993F3-DC5E-44C6-8FCA-3A146593DED7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056313-5F07-4B5A-93D0-F369C2C2AE86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CA611A-4AB5-4E13-A6C7-29B02DA08017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7D4AD3-BD54-44D2-9EA7-77D557D8A8C7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AA7010-6B68-48F0-9F2D-2FE00A1D5BA5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FAE016C-3AC8-46B2-9D3F-8A2A720E2BB7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F0E1042-E500-4A62-B78A-2EFD301F91D0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90035F-EE6A-440C-B0E9-995E8FCA67B8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7F385B-FBD9-4E18-98B3-71FE9C28DB8E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218B39F-864A-4921-B7C0-309B6021F88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5E35CB-1B2C-4FB6-BD6F-6C8C0257A73F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D2B0AF0-2CD8-4F8C-963E-AB5DAB8BEDF5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4EB10C2-104D-433B-AC85-B4D74DAD21B8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F86B5AE-FD65-484A-A727-F612855266D1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7F996CB-B2C7-4D63-AF1E-8B051DDC25AA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5DD2566-0ACA-475E-8656-EC5BA6040063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1055696-3A7D-433E-87DD-0DD15E9AC7BB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F31C870-14EC-4F1F-9D4D-2C5F6F96700F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E2C2B7C-B21C-495F-9849-B56D90CC8F13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49AB54C-65D8-47BC-8B26-9E9D661C5AB2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8FE79A4-E36C-40B2-8C64-5DBBE8E4F6C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BF1570-0C14-4DBB-B8BE-3CB0AED68E50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6C4CC73-E450-4C79-8E24-C35D0EE1B078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4D8F33C-AFF9-4F7E-88E2-5BBBB5447758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0022191-C9BD-45F3-AE0E-6F3E612C80E8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D8A4854-2450-4D6D-A5B6-BF4780859070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1DE0E4F-412E-4155-B85F-6ABEC030DFCA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EF2443C-9AC6-4967-AD21-144EC168C5CF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A2B9AC8-004F-422D-8789-A09D71024647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3F95A0D-1216-4A78-9662-794D92E2129E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A179EE6-0F26-4F46-972A-A0D01DE19EE3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1ADA0AA-04E5-4AF4-BA03-86F890B56B0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B9E7E7-74FC-48E8-93D5-BCBC40C7ADC2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09420F6-C7AB-48F5-9D78-3852265A03BF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4CAF9A1-DB72-4815-A9D2-0886DEA79D97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3D556A2-0019-4A78-AC9D-4DAD0F805638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A64408-B205-4E75-898D-582F02149D86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79CD0D-6C94-4D6D-BAD8-E64BD69F7855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911191-D103-447F-8FAE-846A6936F3ED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14DDC1-729F-42C8-8DDC-AB479CF2474C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65C4B3-F2BA-462E-BB96-B5F5E203B72E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9A36D98-A33C-4C40-9D8A-023EC861006B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05FB58-1773-4E71-8641-638D70B3E5B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A45A16-811A-43B2-8BE2-197CD7782488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E289D9-097D-42DD-9105-00EB4BBD642C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B4AD3F-4FA0-40DA-B778-C529210895CB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16018B2-B334-437C-BB80-B9B8E8C3BD6A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C5FF443-0905-469D-A502-8960B9E4158C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81914E-FB21-45A4-9FFB-C29E5DA873E6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912B31F-B218-41F8-A30E-1ED61EA5F942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FAD99AB-0F5E-469F-A5CF-793FB988D25E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4D70A20-8769-41F6-B8A3-CDB2A240863C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BC8D23A-A859-4114-A8E7-9B9210BEB847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BD87904-DE61-4923-B8CB-0B2C2156D6E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632399-4483-42C8-912F-C85615C8C4DD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1F7A22F-54DD-4917-8505-E7DF5DE732D8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2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738F1B7-446E-4723-A41F-2CCF5AA3AEE0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EE611EB-DC3A-401C-A9A9-FD4A637D3053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0026385-1D00-49E7-A2CA-97C5A24E2035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F9D45D5-9262-4B10-85DA-09ADDAC29C5A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8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DD1EE83-5091-4989-908F-03A752614D6B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2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3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4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5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1D8C136-9593-4EA2-8B59-2F3F996E5142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3A5024F-2177-41C4-98B7-D9706A523F71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4A1994E-5228-456D-BF56-A5241B0336E9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013D98D-5DA6-49B9-9455-6C739FEC1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C2FBF-7C58-4B11-AE11-7E0D622BC3C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B78B50-6DF8-4E89-8373-799D5D3A8171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0A37D06-7F78-4DCA-ADDA-C58B86ABEE70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8BF4CC2-6654-433B-B313-66DBBD53F2D1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A7A017F-4CB0-4D4A-8723-3427B0678282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D05DFFD-5D27-42A7-A7E6-68CC5DC49D6D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95FBC68-015A-4FA4-AC04-5219D8DC738B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C26F6A8-CC34-4D86-A67F-66A8315E7929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B7BFD88-A705-40D6-8029-FF5A9FCA3CAE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0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1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96A26C9-97B6-45DB-9D29-5C3C3B9992B2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5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6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7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8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ABE636A-5A3A-45AB-AAFF-202389C57F9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26BADE-B8BD-4578-8B78-FFE8B80387A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EC43E4-D218-4B85-9B20-05B41C4DE08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B8D91-CD41-40AA-ADD0-29AAA6A5831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64312-E8E3-4774-B7C5-F2377B605D5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9D5E8-7C0E-4796-8E52-B5224F07557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88113-DE37-4F1F-B1C2-C779B2CDEEC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2DF9B-B75C-4298-87C4-FDAD2B3C15D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BC9E8-7825-46E9-8FF3-A768DFF3346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80270-E15C-4C49-86B8-E453476B75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3C2E-452C-46F3-A7BC-AD80C77879A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B9EF1-4C3E-4F89-8584-C8F0511981E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C398B-0113-47F1-9674-F175EBC6207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BAC11-825D-4481-9356-71DE27E8C70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644EE-4B52-4DD4-B4C2-6EFF57A2F8F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32EB9-6176-47C8-A238-4F3D9777A73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C2479-A675-4F1C-A7CF-FFBA690590F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248760" y="190440"/>
            <a:ext cx="78598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870120" y="4416840"/>
            <a:ext cx="841680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83280" y="16034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7012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183280" y="4416840"/>
            <a:ext cx="410724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71592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562080" y="16034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8701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71592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562080" y="4416840"/>
            <a:ext cx="2710080" cy="256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5CAA3E-6254-4A6E-8223-5598C84F223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28E86F-4222-4A2A-87C9-A01B8D15156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82C610-052F-4E20-B342-646DAD90C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flèche et barres"/>
          <p:cNvPicPr/>
          <p:nvPr/>
        </p:nvPicPr>
        <p:blipFill>
          <a:blip r:embed="rId2"/>
          <a:stretch/>
        </p:blipFill>
        <p:spPr>
          <a:xfrm>
            <a:off x="0" y="898560"/>
            <a:ext cx="998640" cy="743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71560" y="752400"/>
            <a:ext cx="837864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9e8464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9e8464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70120" y="1890720"/>
            <a:ext cx="8416800" cy="5099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401"/>
              </a:spcBef>
              <a:buClr>
                <a:srgbClr val="cb7a14"/>
              </a:buClr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4120" indent="-282600">
              <a:spcBef>
                <a:spcPts val="2401"/>
              </a:spcBef>
              <a:buClr>
                <a:srgbClr val="673b15"/>
              </a:buClr>
              <a:buSzPct val="9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63640" indent="-206280">
              <a:spcBef>
                <a:spcPts val="2401"/>
              </a:spcBef>
              <a:buClr>
                <a:srgbClr val="673b15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35000" indent="-169920">
              <a:spcBef>
                <a:spcPts val="2401"/>
              </a:spcBef>
              <a:buClr>
                <a:srgbClr val="000000"/>
              </a:buClr>
              <a:buSzPct val="95000"/>
              <a:buFont typeface="Verdana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219320" indent="-182520">
              <a:spcBef>
                <a:spcPts val="240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219320" indent="-18252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219320" indent="-18252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87960" y="7226280"/>
            <a:ext cx="490680" cy="224280"/>
          </a:xfrm>
          <a:prstGeom prst="rect">
            <a:avLst/>
          </a:prstGeom>
          <a:solidFill>
            <a:srgbClr val="6a8c9d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3A40-D13E-4475-9E3F-039030150EDE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9" descr="logo-2,5cm-+-ombre"/>
          <p:cNvPicPr/>
          <p:nvPr/>
        </p:nvPicPr>
        <p:blipFill>
          <a:blip r:embed="rId3"/>
          <a:stretch/>
        </p:blipFill>
        <p:spPr>
          <a:xfrm>
            <a:off x="8721720" y="6516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6" descr="Bandeau"/>
          <p:cNvPicPr/>
          <p:nvPr/>
        </p:nvPicPr>
        <p:blipFill>
          <a:blip r:embed="rId4"/>
          <a:stretch/>
        </p:blipFill>
        <p:spPr>
          <a:xfrm>
            <a:off x="0" y="0"/>
            <a:ext cx="5581800" cy="755640"/>
          </a:xfrm>
          <a:prstGeom prst="rect">
            <a:avLst/>
          </a:prstGeom>
          <a:ln w="0">
            <a:noFill/>
          </a:ln>
        </p:spPr>
      </p:pic>
      <p:sp>
        <p:nvSpPr>
          <p:cNvPr id="6" name="Text Box 17"/>
          <p:cNvSpPr/>
          <p:nvPr/>
        </p:nvSpPr>
        <p:spPr>
          <a:xfrm>
            <a:off x="3421440" y="7323120"/>
            <a:ext cx="31438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Slid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I_010c43d-1.3,CURRENT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ftr" idx="1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13"/>
          </p:nvPr>
        </p:nvSpPr>
        <p:spPr>
          <a:xfrm>
            <a:off x="8168760" y="480600"/>
            <a:ext cx="43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25C9-36F0-4775-8342-8F8EB42E79D9}" type="slidenum">
              <a:rPr b="0" lang="fr-FR" sz="1800" spc="-1" strike="noStrike">
                <a:solidFill>
                  <a:srgbClr val="d2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1" descr="IMAGE-PAGE-DE-COUV2"/>
          <p:cNvPicPr/>
          <p:nvPr/>
        </p:nvPicPr>
        <p:blipFill>
          <a:blip r:embed="rId2"/>
          <a:stretch/>
        </p:blipFill>
        <p:spPr>
          <a:xfrm>
            <a:off x="69840" y="54000"/>
            <a:ext cx="9582120" cy="74534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CEGOS_VOCATION_quad"/>
          <p:cNvPicPr/>
          <p:nvPr/>
        </p:nvPicPr>
        <p:blipFill>
          <a:blip r:embed="rId3"/>
          <a:stretch/>
        </p:blipFill>
        <p:spPr>
          <a:xfrm>
            <a:off x="3341520" y="6226200"/>
            <a:ext cx="3426120" cy="10447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71560" y="752400"/>
            <a:ext cx="837864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9e8464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9e846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70120" y="1890720"/>
            <a:ext cx="8416800" cy="5099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401"/>
              </a:spcBef>
              <a:buClr>
                <a:srgbClr val="cb7a14"/>
              </a:buClr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4120" indent="-282600">
              <a:spcBef>
                <a:spcPts val="2401"/>
              </a:spcBef>
              <a:buClr>
                <a:srgbClr val="673b15"/>
              </a:buClr>
              <a:buSzPct val="9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63640" indent="-206280">
              <a:spcBef>
                <a:spcPts val="2401"/>
              </a:spcBef>
              <a:buClr>
                <a:srgbClr val="673b15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35000" indent="-169920">
              <a:spcBef>
                <a:spcPts val="2401"/>
              </a:spcBef>
              <a:buClr>
                <a:srgbClr val="000000"/>
              </a:buClr>
              <a:buSzPct val="95000"/>
              <a:buFont typeface="Verdana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219320" indent="-182520">
              <a:spcBef>
                <a:spcPts val="240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219320" indent="-18252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219320" indent="-18252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ftr" idx="1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sldNum" idx="1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B4E0-73E9-4204-A626-0FA655883C36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ftr" idx="1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sldNum" idx="1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9004-0763-4708-BFBA-B0D9A00AF854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ftr" idx="1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sldNum" idx="1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8266-5222-44D1-85A2-495B5A358FBA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2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2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E404-0063-4835-99D7-CDEE123A1355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ftr" idx="2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sldNum" idx="2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5A86-47E2-4094-8092-2F51F31BA1E3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ftr" idx="2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sldNum" idx="2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DCF7-D974-457D-828A-2B52CDC7BE46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757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ftr" idx="2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sldNum" idx="2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19BD-3A49-4BCD-A08C-FA3577D41CB5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IMAGE-PAGE-DE-SS-TITRE"/>
          <p:cNvPicPr/>
          <p:nvPr/>
        </p:nvPicPr>
        <p:blipFill>
          <a:blip r:embed="rId2"/>
          <a:stretch/>
        </p:blipFill>
        <p:spPr>
          <a:xfrm>
            <a:off x="69840" y="54000"/>
            <a:ext cx="9582120" cy="7453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67040" y="4132440"/>
            <a:ext cx="5749920" cy="12585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0" anchor="b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000" spc="-1" strike="noStrike">
                <a:solidFill>
                  <a:srgbClr val="673b15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673b15"/>
              </a:solidFill>
              <a:latin typeface="Verdana"/>
            </a:endParaRPr>
          </a:p>
        </p:txBody>
      </p:sp>
      <p:pic>
        <p:nvPicPr>
          <p:cNvPr id="46" name="Picture 4" descr="logo-2,5cm-+-ombre"/>
          <p:cNvPicPr/>
          <p:nvPr/>
        </p:nvPicPr>
        <p:blipFill>
          <a:blip r:embed="rId3"/>
          <a:stretch/>
        </p:blipFill>
        <p:spPr>
          <a:xfrm>
            <a:off x="4549680" y="6342120"/>
            <a:ext cx="819360" cy="819000"/>
          </a:xfrm>
          <a:prstGeom prst="rect">
            <a:avLst/>
          </a:prstGeom>
          <a:ln w="0">
            <a:noFill/>
          </a:ln>
        </p:spPr>
      </p:pic>
      <p:sp>
        <p:nvSpPr>
          <p:cNvPr id="47" name="SlideMasterXYZ"/>
          <p:cNvSpPr/>
          <p:nvPr/>
        </p:nvSpPr>
        <p:spPr>
          <a:xfrm rot="16200000">
            <a:off x="12600" y="541296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I_010c43d-1.3,CURRENT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ftr" idx="2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sldNum" idx="2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6285-E095-413D-840F-B983ABF79B4B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882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ftr" idx="3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sldNum" idx="3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7025-A2C4-484C-BB51-18AC74543619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925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A248-4EB7-4122-BAE9-CDED4C5393E5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968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ftr" idx="3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sldNum" idx="3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5389-07C6-452A-ACD8-411F53C96FA6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011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ftr" idx="3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sldNum" idx="3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9BC2-5D47-495A-9F97-BE34CE0B1B98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054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ftr" idx="3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sldNum" idx="3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6476-07BF-4C68-B002-9E43034360CC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097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ftr" idx="4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sldNum" idx="4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101D-A4A8-4FA8-BB01-C8BEFD470FDB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17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 type="ftr" idx="4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 type="sldNum" idx="4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EE9D-72DC-4F50-BDC6-65021947C15F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3"/>
          </p:nvPr>
        </p:nvSpPr>
        <p:spPr>
          <a:xfrm>
            <a:off x="8168760" y="479160"/>
            <a:ext cx="436680" cy="2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3CCF-04BC-409C-979D-5F2A4AD3FB20}" type="slidenum">
              <a:rPr b="0" lang="fr-FR" sz="1800" spc="-1" strike="noStrike">
                <a:solidFill>
                  <a:srgbClr val="d2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222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ftr" idx="4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sldNum" idx="4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A022-0777-40AE-B1DB-E040AF5EE7CE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265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 type="ftr" idx="4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 type="sldNum" idx="4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5FD7-37CE-4862-8489-1F9D0440F3B1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7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308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 type="ftr" idx="4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 type="sldNum" idx="4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188F-D044-4E3D-9D5E-1F578F2CB3F1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0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ftr" idx="5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sldNum" idx="5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5DA0-E67E-4EA5-8B4E-4E39754818C9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394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ftr" idx="5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sldNum" idx="5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63E1-AA8B-48F8-9D89-A9EE3E66F45C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437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ftr" idx="5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sldNum" idx="5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9F4D-2190-49C9-A27E-3A0CBE77D206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51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 type="ftr" idx="5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 type="sldNum" idx="5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029E-89F0-40AB-84F1-2BB8FA420F19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562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 type="ftr" idx="5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 type="sldNum" idx="5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B810-5781-4773-AE8B-64D69323E3DE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605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 type="ftr" idx="6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 type="sldNum" idx="6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04FA-AA14-4A04-B938-592CCC251EBB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3" descr="Cegos-Image_6ter"/>
          <p:cNvPicPr/>
          <p:nvPr/>
        </p:nvPicPr>
        <p:blipFill>
          <a:blip r:embed="rId2"/>
          <a:stretch/>
        </p:blipFill>
        <p:spPr>
          <a:xfrm>
            <a:off x="0" y="2651040"/>
            <a:ext cx="9721800" cy="2067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777840" y="1790280"/>
            <a:ext cx="5675400" cy="1258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000" spc="-1" strike="noStrike">
                <a:solidFill>
                  <a:srgbClr val="d2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d20000"/>
              </a:solidFill>
              <a:latin typeface="Arial Narrow"/>
            </a:endParaRPr>
          </a:p>
        </p:txBody>
      </p:sp>
      <p:pic>
        <p:nvPicPr>
          <p:cNvPr id="129" name="Picture 4" descr="logo-2,5cm-+-ombre"/>
          <p:cNvPicPr/>
          <p:nvPr/>
        </p:nvPicPr>
        <p:blipFill>
          <a:blip r:embed="rId3"/>
          <a:stretch/>
        </p:blipFill>
        <p:spPr>
          <a:xfrm>
            <a:off x="4549680" y="6342120"/>
            <a:ext cx="819360" cy="819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532480" y="5345280"/>
            <a:ext cx="3921120" cy="131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marL="136440" indent="0">
              <a:spcBef>
                <a:spcPts val="60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136440" indent="-136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6440" indent="-1364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6440" indent="-136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36440" indent="-13644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36440" indent="-13644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36440" indent="-13644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Freeform 12"/>
          <p:cNvSpPr/>
          <p:nvPr/>
        </p:nvSpPr>
        <p:spPr>
          <a:xfrm>
            <a:off x="2500200" y="4960800"/>
            <a:ext cx="2941920" cy="636840"/>
          </a:xfrm>
          <a:custGeom>
            <a:avLst/>
            <a:gdLst/>
            <a:ahLst/>
            <a:rect l="l" t="t" r="r" b="b"/>
            <a:pathLst>
              <a:path w="1853" h="401">
                <a:moveTo>
                  <a:pt x="0" y="0"/>
                </a:moveTo>
                <a:lnTo>
                  <a:pt x="1330" y="0"/>
                </a:lnTo>
                <a:lnTo>
                  <a:pt x="1328" y="401"/>
                </a:lnTo>
                <a:lnTo>
                  <a:pt x="1853" y="401"/>
                </a:lnTo>
              </a:path>
            </a:pathLst>
          </a:custGeom>
          <a:noFill/>
          <a:ln w="19080">
            <a:solidFill>
              <a:srgbClr val="00516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7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648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 type="ftr" idx="6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 type="sldNum" idx="6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7C30-3D2B-4BDD-B3B9-BFE92BBAA9E3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0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691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 type="ftr" idx="6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 type="sldNum" idx="6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1A96-61F4-4A37-ACC9-C9CFD74B12F2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734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5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ftr" idx="6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sldNum" idx="6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2E02-22DE-4C60-9818-324C53C31703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777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 type="ftr" idx="6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 type="sldNum" idx="6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1AA2-7C06-4962-BDD3-764B6CFA381E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85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 type="ftr" idx="7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 type="sldNum" idx="7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5901-880F-4006-85FA-E0FF80395222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902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3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 type="ftr" idx="7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 type="sldNum" idx="7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8E6C-299B-4243-9E78-18E7F6396792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945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6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 type="ftr" idx="7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 type="sldNum" idx="75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8704-D625-4AFC-B583-A4EB8796C7A5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7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988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 type="ftr" idx="7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 type="sldNum" idx="77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ED46-C687-49CF-8CFE-3BF10A7134E6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0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031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 type="ftr" idx="7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 type="sldNum" idx="79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5B9E-9216-4E6A-889D-1B3C24A9785E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5"/>
          </p:nvPr>
        </p:nvSpPr>
        <p:spPr>
          <a:xfrm>
            <a:off x="8168760" y="479160"/>
            <a:ext cx="436680" cy="2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319B-99A4-4395-87E0-9978EB70E599}" type="slidenum">
              <a:rPr b="0" lang="fr-FR" sz="1800" spc="-1" strike="noStrike">
                <a:solidFill>
                  <a:srgbClr val="d2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074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5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 type="ftr" idx="8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 type="sldNum" idx="81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9DB6-1AC6-47B4-B8E7-37D522B8FA7C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117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8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 type="ftr" idx="8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 type="sldNum" idx="83"/>
          </p:nvPr>
        </p:nvSpPr>
        <p:spPr>
          <a:xfrm>
            <a:off x="8168760" y="340920"/>
            <a:ext cx="4366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C4AF-54E9-4481-9AB2-5CE916CEC11B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8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199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 type="ftr" idx="8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 type="sldNum" idx="85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1C04-F9FB-4713-892B-59AC8CC5965A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242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3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 type="ftr" idx="8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 type="sldNum" idx="87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ED39-DB12-43AB-99A4-FE64332F5353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285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6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 type="ftr" idx="8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 type="sldNum" idx="89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9F45-D685-4E32-82D4-23A69892D0D8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7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328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 type="ftr" idx="9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 type="sldNum" idx="91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F1D3-31C1-41F6-A460-793644132F77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371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5" name="PlaceHolder 3"/>
          <p:cNvSpPr>
            <a:spLocks noGrp="1"/>
          </p:cNvSpPr>
          <p:nvPr>
            <p:ph type="ftr" idx="92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6" name="PlaceHolder 4"/>
          <p:cNvSpPr>
            <a:spLocks noGrp="1"/>
          </p:cNvSpPr>
          <p:nvPr>
            <p:ph type="sldNum" idx="93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3F01-D644-45B2-9818-B1F7BCE3F203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414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5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 type="ftr" idx="94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4"/>
          <p:cNvSpPr>
            <a:spLocks noGrp="1"/>
          </p:cNvSpPr>
          <p:nvPr>
            <p:ph type="sldNum" idx="95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9B55-6A69-4033-AA84-ECD7ACDBCAB6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6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457" name="Text Box 8"/>
          <p:cNvSpPr/>
          <p:nvPr/>
        </p:nvSpPr>
        <p:spPr>
          <a:xfrm>
            <a:off x="664524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5560" indent="-28404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5080" indent="-20772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6800" indent="-1717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20760" indent="-18396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20760" indent="-18396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1" name="PlaceHolder 3"/>
          <p:cNvSpPr>
            <a:spLocks noGrp="1"/>
          </p:cNvSpPr>
          <p:nvPr>
            <p:ph type="ftr" idx="9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2" name="PlaceHolder 4"/>
          <p:cNvSpPr>
            <a:spLocks noGrp="1"/>
          </p:cNvSpPr>
          <p:nvPr>
            <p:ph type="sldNum" idx="97"/>
          </p:nvPr>
        </p:nvSpPr>
        <p:spPr>
          <a:xfrm>
            <a:off x="8168760" y="462240"/>
            <a:ext cx="436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0BB4-D583-4D00-BC14-F85596D383B4}" type="slidenum">
              <a:rPr b="0" lang="fr-FR" sz="1800" spc="-1" strike="noStrike">
                <a:solidFill>
                  <a:srgbClr val="d2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6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7"/>
          </p:nvPr>
        </p:nvSpPr>
        <p:spPr>
          <a:xfrm>
            <a:off x="8168760" y="479160"/>
            <a:ext cx="436680" cy="2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2516-459D-48AE-A78C-805ADCF55765}" type="slidenum">
              <a:rPr b="0" lang="fr-FR" sz="1800" spc="-1" strike="noStrike">
                <a:solidFill>
                  <a:srgbClr val="d2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8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9"/>
          </p:nvPr>
        </p:nvSpPr>
        <p:spPr>
          <a:xfrm>
            <a:off x="8168760" y="479160"/>
            <a:ext cx="436680" cy="2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B2FE-D709-4CFF-8B19-2B6A3A0B1468}" type="slidenum">
              <a:rPr b="0" lang="fr-FR" sz="1800" spc="-1" strike="noStrike">
                <a:solidFill>
                  <a:srgbClr val="d2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2" descr="Bandeau-L"/>
          <p:cNvPicPr/>
          <p:nvPr/>
        </p:nvPicPr>
        <p:blipFill>
          <a:blip r:embed="rId2"/>
          <a:stretch/>
        </p:blipFill>
        <p:spPr>
          <a:xfrm>
            <a:off x="0" y="0"/>
            <a:ext cx="9721800" cy="14590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200" spc="-1" strike="noStrike">
                <a:solidFill>
                  <a:srgbClr val="6a8c9d"/>
                </a:solidFill>
                <a:latin typeface="Arial Narrow"/>
              </a:rPr>
              <a:t>Click to edit the title text format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70120" y="1603440"/>
            <a:ext cx="8416800" cy="5386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8280" indent="-368280">
              <a:spcBef>
                <a:spcPts val="2251"/>
              </a:spcBef>
              <a:buClr>
                <a:srgbClr val="d20000"/>
              </a:buClr>
              <a:buSzPct val="70000"/>
              <a:buFont typeface="Wingdings 2" charset="2"/>
              <a:buChar char="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54120" indent="-282600">
              <a:spcBef>
                <a:spcPts val="2251"/>
              </a:spcBef>
              <a:buClr>
                <a:srgbClr val="9e8464"/>
              </a:buClr>
              <a:buSzPct val="65000"/>
              <a:buFont typeface="Wingdings 2" charset="2"/>
              <a:buChar char="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863640" indent="-206280">
              <a:spcBef>
                <a:spcPts val="2251"/>
              </a:spcBef>
              <a:buClr>
                <a:srgbClr val="005169"/>
              </a:buClr>
              <a:buSzPct val="90000"/>
              <a:buFont typeface="Symbol" charset="2"/>
              <a:buChar char="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035000" indent="-169920">
              <a:spcBef>
                <a:spcPts val="2251"/>
              </a:spcBef>
              <a:buClr>
                <a:srgbClr val="000000"/>
              </a:buClr>
              <a:buSzPct val="95000"/>
              <a:buFont typeface="Arial Narrow"/>
              <a:buChar char="&gt;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219320" indent="-182520">
              <a:spcBef>
                <a:spcPts val="2251"/>
              </a:spcBef>
              <a:buClr>
                <a:srgbClr val="ff99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219320" indent="-182520">
              <a:spcBef>
                <a:spcPts val="2251"/>
              </a:spcBef>
              <a:buClr>
                <a:srgbClr val="000000"/>
              </a:buClr>
              <a:buFont typeface="Times New Roman"/>
              <a:buChar char="»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ftr" idx="10"/>
          </p:nvPr>
        </p:nvSpPr>
        <p:spPr>
          <a:xfrm>
            <a:off x="0" y="7192800"/>
            <a:ext cx="3078000" cy="36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1"/>
          </p:nvPr>
        </p:nvSpPr>
        <p:spPr>
          <a:xfrm>
            <a:off x="8168760" y="479160"/>
            <a:ext cx="436680" cy="2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d2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4955-17DB-489F-B953-50587CB28C60}" type="slidenum">
              <a:rPr b="0" lang="fr-FR" sz="1800" spc="-1" strike="noStrike">
                <a:solidFill>
                  <a:srgbClr val="d2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6659280" y="7340760"/>
            <a:ext cx="292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</a:t>
            </a: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Toute reproduction interdite sans autorisation écrite préalable de Ceg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itleMasterXYZ"/>
          <p:cNvSpPr/>
          <p:nvPr/>
        </p:nvSpPr>
        <p:spPr>
          <a:xfrm rot="16200000">
            <a:off x="0" y="5460480"/>
            <a:ext cx="127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 Narrow"/>
              </a:rPr>
              <a:t>Referenc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3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397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19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397.xml"/><Relationship Id="rId10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2" name="Ellipse 9" descr=""/>
          <p:cNvPicPr/>
          <p:nvPr/>
        </p:nvPicPr>
        <p:blipFill>
          <a:blip r:embed="rId1"/>
          <a:stretch/>
        </p:blipFill>
        <p:spPr>
          <a:xfrm>
            <a:off x="7234200" y="4602240"/>
            <a:ext cx="2668680" cy="1639800"/>
          </a:xfrm>
          <a:prstGeom prst="rect">
            <a:avLst/>
          </a:prstGeom>
          <a:ln w="0">
            <a:noFill/>
          </a:ln>
        </p:spPr>
      </p:pic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fr-FR" sz="4200" spc="-1" strike="noStrike">
                <a:solidFill>
                  <a:srgbClr val="9e8464"/>
                </a:solidFill>
                <a:latin typeface="Arial Narrow"/>
              </a:rPr>
              <a:t>Des objectifs </a:t>
            </a:r>
            <a:r>
              <a:rPr b="1" lang="fr-FR" sz="4200" spc="-1" strike="noStrike">
                <a:solidFill>
                  <a:srgbClr val="9e8464"/>
                </a:solidFill>
                <a:latin typeface="Wingdings"/>
                <a:ea typeface="Wingdings"/>
              </a:rPr>
              <a:t></a:t>
            </a:r>
            <a:r>
              <a:rPr b="1" lang="fr-FR" sz="4200" spc="-1" strike="noStrike">
                <a:solidFill>
                  <a:srgbClr val="9e8464"/>
                </a:solidFill>
                <a:latin typeface="Arial Narrow"/>
              </a:rPr>
              <a:t> des moyens !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sp>
        <p:nvSpPr>
          <p:cNvPr id="2524" name="Espace réservé du numéro de diapositive 3"/>
          <p:cNvSpPr/>
          <p:nvPr/>
        </p:nvSpPr>
        <p:spPr>
          <a:xfrm>
            <a:off x="7378560" y="7161120"/>
            <a:ext cx="22687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AB06-D1D8-46FC-A08B-ED518EBFB64B}" type="slidenum">
              <a:rPr b="0" lang="fr-FR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5" name="Ellipse 4" descr=""/>
          <p:cNvPicPr/>
          <p:nvPr/>
        </p:nvPicPr>
        <p:blipFill>
          <a:blip r:embed="rId2"/>
          <a:stretch/>
        </p:blipFill>
        <p:spPr>
          <a:xfrm>
            <a:off x="403200" y="1914480"/>
            <a:ext cx="2530440" cy="1639800"/>
          </a:xfrm>
          <a:prstGeom prst="rect">
            <a:avLst/>
          </a:prstGeom>
          <a:ln w="0">
            <a:noFill/>
          </a:ln>
        </p:spPr>
      </p:pic>
      <p:sp>
        <p:nvSpPr>
          <p:cNvPr id="2526" name="Text Box 6"/>
          <p:cNvSpPr/>
          <p:nvPr/>
        </p:nvSpPr>
        <p:spPr>
          <a:xfrm>
            <a:off x="879480" y="2143080"/>
            <a:ext cx="1467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quér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27" name="Ellipse 5"/>
          <p:cNvGrpSpPr/>
          <p:nvPr/>
        </p:nvGrpSpPr>
        <p:grpSpPr>
          <a:xfrm>
            <a:off x="2719440" y="1925640"/>
            <a:ext cx="2333520" cy="1592280"/>
            <a:chOff x="2719440" y="1925640"/>
            <a:chExt cx="2333520" cy="1592280"/>
          </a:xfrm>
        </p:grpSpPr>
        <p:pic>
          <p:nvPicPr>
            <p:cNvPr id="2528" name="Ellipse 5" descr=""/>
            <p:cNvPicPr/>
            <p:nvPr/>
          </p:nvPicPr>
          <p:blipFill>
            <a:blip r:embed="rId3"/>
            <a:stretch/>
          </p:blipFill>
          <p:spPr>
            <a:xfrm>
              <a:off x="2719440" y="1925640"/>
              <a:ext cx="233352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9" name=""/>
            <p:cNvSpPr/>
            <p:nvPr/>
          </p:nvSpPr>
          <p:spPr>
            <a:xfrm>
              <a:off x="3041640" y="2141640"/>
              <a:ext cx="136044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ffffff"/>
                  </a:solidFill>
                  <a:latin typeface="Arial"/>
                </a:rPr>
                <a:t>Fidélise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30" name="Ellipse 6"/>
          <p:cNvGrpSpPr/>
          <p:nvPr/>
        </p:nvGrpSpPr>
        <p:grpSpPr>
          <a:xfrm>
            <a:off x="4992840" y="1925640"/>
            <a:ext cx="2590560" cy="1592280"/>
            <a:chOff x="4992840" y="1925640"/>
            <a:chExt cx="2590560" cy="1592280"/>
          </a:xfrm>
        </p:grpSpPr>
        <p:pic>
          <p:nvPicPr>
            <p:cNvPr id="2531" name="Ellipse 6" descr=""/>
            <p:cNvPicPr/>
            <p:nvPr/>
          </p:nvPicPr>
          <p:blipFill>
            <a:blip r:embed="rId4"/>
            <a:stretch/>
          </p:blipFill>
          <p:spPr>
            <a:xfrm>
              <a:off x="4992840" y="1925640"/>
              <a:ext cx="259056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2" name=""/>
            <p:cNvSpPr/>
            <p:nvPr/>
          </p:nvSpPr>
          <p:spPr>
            <a:xfrm>
              <a:off x="5357880" y="2141640"/>
              <a:ext cx="153828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Informer, active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33" name="Ellipse 7"/>
          <p:cNvGrpSpPr/>
          <p:nvPr/>
        </p:nvGrpSpPr>
        <p:grpSpPr>
          <a:xfrm>
            <a:off x="201600" y="4681440"/>
            <a:ext cx="2511360" cy="1590840"/>
            <a:chOff x="201600" y="4681440"/>
            <a:chExt cx="2511360" cy="1590840"/>
          </a:xfrm>
        </p:grpSpPr>
        <p:pic>
          <p:nvPicPr>
            <p:cNvPr id="2534" name="Ellipse 7" descr=""/>
            <p:cNvPicPr/>
            <p:nvPr/>
          </p:nvPicPr>
          <p:blipFill>
            <a:blip r:embed="rId5"/>
            <a:stretch/>
          </p:blipFill>
          <p:spPr>
            <a:xfrm>
              <a:off x="201600" y="4681440"/>
              <a:ext cx="25113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5" name=""/>
            <p:cNvSpPr/>
            <p:nvPr/>
          </p:nvSpPr>
          <p:spPr>
            <a:xfrm>
              <a:off x="550800" y="4898880"/>
              <a:ext cx="1487520" cy="8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Qualifier la BDD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36" name="Group 16"/>
          <p:cNvGrpSpPr/>
          <p:nvPr/>
        </p:nvGrpSpPr>
        <p:grpSpPr>
          <a:xfrm>
            <a:off x="2563920" y="4672080"/>
            <a:ext cx="2528280" cy="1639440"/>
            <a:chOff x="2563920" y="4672080"/>
            <a:chExt cx="2528280" cy="1639440"/>
          </a:xfrm>
        </p:grpSpPr>
        <p:pic>
          <p:nvPicPr>
            <p:cNvPr id="2537" name="Ellipse 8" descr=""/>
            <p:cNvPicPr/>
            <p:nvPr/>
          </p:nvPicPr>
          <p:blipFill>
            <a:blip r:embed="rId6"/>
            <a:stretch/>
          </p:blipFill>
          <p:spPr>
            <a:xfrm>
              <a:off x="2563920" y="4672080"/>
              <a:ext cx="2528280" cy="163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8" name="Text Box 18"/>
            <p:cNvSpPr/>
            <p:nvPr/>
          </p:nvSpPr>
          <p:spPr>
            <a:xfrm>
              <a:off x="2869200" y="4899240"/>
              <a:ext cx="1684800" cy="8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ffffff"/>
                  </a:solidFill>
                  <a:latin typeface="Arial"/>
                </a:rPr>
                <a:t>Promouvoi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39" name="Group 19"/>
          <p:cNvGrpSpPr/>
          <p:nvPr/>
        </p:nvGrpSpPr>
        <p:grpSpPr>
          <a:xfrm>
            <a:off x="4861080" y="4672080"/>
            <a:ext cx="2667960" cy="1639440"/>
            <a:chOff x="4861080" y="4672080"/>
            <a:chExt cx="2667960" cy="1639440"/>
          </a:xfrm>
        </p:grpSpPr>
        <p:pic>
          <p:nvPicPr>
            <p:cNvPr id="2540" name="Ellipse 9" descr=""/>
            <p:cNvPicPr/>
            <p:nvPr/>
          </p:nvPicPr>
          <p:blipFill>
            <a:blip r:embed="rId7"/>
            <a:stretch/>
          </p:blipFill>
          <p:spPr>
            <a:xfrm>
              <a:off x="4861080" y="4672080"/>
              <a:ext cx="2667960" cy="163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1" name="Text Box 21"/>
            <p:cNvSpPr/>
            <p:nvPr/>
          </p:nvSpPr>
          <p:spPr>
            <a:xfrm>
              <a:off x="5244120" y="4899240"/>
              <a:ext cx="1544040" cy="8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ffffff"/>
                  </a:solidFill>
                  <a:latin typeface="Arial"/>
                </a:rPr>
                <a:t>Traiter la prestation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542" name="Ellipse 18" descr=""/>
          <p:cNvPicPr/>
          <p:nvPr/>
        </p:nvPicPr>
        <p:blipFill>
          <a:blip r:embed="rId8"/>
          <a:stretch/>
        </p:blipFill>
        <p:spPr>
          <a:xfrm>
            <a:off x="7238880" y="1914480"/>
            <a:ext cx="2111400" cy="1639800"/>
          </a:xfrm>
          <a:prstGeom prst="rect">
            <a:avLst/>
          </a:prstGeom>
          <a:ln w="0">
            <a:noFill/>
          </a:ln>
        </p:spPr>
      </p:pic>
      <p:sp>
        <p:nvSpPr>
          <p:cNvPr id="2543" name="Text Box 23"/>
          <p:cNvSpPr/>
          <p:nvPr/>
        </p:nvSpPr>
        <p:spPr>
          <a:xfrm>
            <a:off x="7388280" y="2143080"/>
            <a:ext cx="1612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Arial"/>
              </a:rPr>
              <a:t>Générer du bouche à oreill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4" name="Rectangle 11"/>
          <p:cNvSpPr/>
          <p:nvPr/>
        </p:nvSpPr>
        <p:spPr>
          <a:xfrm>
            <a:off x="0" y="6300720"/>
            <a:ext cx="9721800" cy="1260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5" name="Text Box 28"/>
          <p:cNvSpPr/>
          <p:nvPr/>
        </p:nvSpPr>
        <p:spPr>
          <a:xfrm>
            <a:off x="7604280" y="4813200"/>
            <a:ext cx="154440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nd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248760" y="190440"/>
            <a:ext cx="7859880" cy="946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fr-FR" sz="4200" spc="-1" strike="noStrike">
                <a:solidFill>
                  <a:srgbClr val="6a8c9d"/>
                </a:solidFill>
                <a:latin typeface="Arial Narrow"/>
              </a:rPr>
              <a:t>Des objectifs </a:t>
            </a:r>
            <a:r>
              <a:rPr b="0" lang="fr-FR" sz="4200" spc="-1" strike="noStrike">
                <a:solidFill>
                  <a:srgbClr val="6a8c9d"/>
                </a:solidFill>
                <a:latin typeface="Wingdings"/>
                <a:ea typeface="Wingdings"/>
              </a:rPr>
              <a:t></a:t>
            </a:r>
            <a:r>
              <a:rPr b="0" lang="fr-FR" sz="4200" spc="-1" strike="noStrike">
                <a:solidFill>
                  <a:srgbClr val="6a8c9d"/>
                </a:solidFill>
                <a:latin typeface="Arial Narrow"/>
              </a:rPr>
              <a:t> des moyens !</a:t>
            </a:r>
            <a:endParaRPr b="0" lang="en-US" sz="4200" spc="-1" strike="noStrike">
              <a:solidFill>
                <a:srgbClr val="6a8c9d"/>
              </a:solidFill>
              <a:latin typeface="Arial Narrow"/>
            </a:endParaRPr>
          </a:p>
        </p:txBody>
      </p:sp>
      <p:grpSp>
        <p:nvGrpSpPr>
          <p:cNvPr id="2547" name="Ellipse 4"/>
          <p:cNvGrpSpPr/>
          <p:nvPr/>
        </p:nvGrpSpPr>
        <p:grpSpPr>
          <a:xfrm>
            <a:off x="281160" y="1889280"/>
            <a:ext cx="2481120" cy="1592280"/>
            <a:chOff x="281160" y="1889280"/>
            <a:chExt cx="2481120" cy="1592280"/>
          </a:xfrm>
        </p:grpSpPr>
        <p:pic>
          <p:nvPicPr>
            <p:cNvPr id="2548" name="Ellipse 4" descr=""/>
            <p:cNvPicPr/>
            <p:nvPr/>
          </p:nvPicPr>
          <p:blipFill>
            <a:blip r:embed="rId1"/>
            <a:stretch/>
          </p:blipFill>
          <p:spPr>
            <a:xfrm>
              <a:off x="281160" y="1889280"/>
              <a:ext cx="248112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9" name=""/>
            <p:cNvSpPr/>
            <p:nvPr/>
          </p:nvSpPr>
          <p:spPr>
            <a:xfrm>
              <a:off x="627120" y="2104920"/>
              <a:ext cx="1463760" cy="8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ffffff"/>
                  </a:solidFill>
                  <a:latin typeface="Arial"/>
                </a:rPr>
                <a:t>Conquéri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50" name="Ellipse 5"/>
          <p:cNvGrpSpPr/>
          <p:nvPr/>
        </p:nvGrpSpPr>
        <p:grpSpPr>
          <a:xfrm>
            <a:off x="2646360" y="1925640"/>
            <a:ext cx="2406600" cy="1592280"/>
            <a:chOff x="2646360" y="1925640"/>
            <a:chExt cx="2406600" cy="1592280"/>
          </a:xfrm>
        </p:grpSpPr>
        <p:pic>
          <p:nvPicPr>
            <p:cNvPr id="2551" name="Ellipse 5" descr=""/>
            <p:cNvPicPr/>
            <p:nvPr/>
          </p:nvPicPr>
          <p:blipFill>
            <a:blip r:embed="rId2"/>
            <a:stretch/>
          </p:blipFill>
          <p:spPr>
            <a:xfrm>
              <a:off x="2646360" y="1925640"/>
              <a:ext cx="240660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2" name=""/>
            <p:cNvSpPr/>
            <p:nvPr/>
          </p:nvSpPr>
          <p:spPr>
            <a:xfrm>
              <a:off x="2979720" y="2141640"/>
              <a:ext cx="14112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ffffff"/>
                  </a:solidFill>
                  <a:latin typeface="Arial"/>
                </a:rPr>
                <a:t>Fidélise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53" name="Ellipse 6"/>
          <p:cNvGrpSpPr/>
          <p:nvPr/>
        </p:nvGrpSpPr>
        <p:grpSpPr>
          <a:xfrm>
            <a:off x="4870440" y="1725480"/>
            <a:ext cx="2567160" cy="1792440"/>
            <a:chOff x="4870440" y="1725480"/>
            <a:chExt cx="2567160" cy="1792440"/>
          </a:xfrm>
        </p:grpSpPr>
        <p:pic>
          <p:nvPicPr>
            <p:cNvPr id="2554" name="Ellipse 6" descr=""/>
            <p:cNvPicPr/>
            <p:nvPr/>
          </p:nvPicPr>
          <p:blipFill>
            <a:blip r:embed="rId3"/>
            <a:stretch/>
          </p:blipFill>
          <p:spPr>
            <a:xfrm>
              <a:off x="4870440" y="1725480"/>
              <a:ext cx="256716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5" name=""/>
            <p:cNvSpPr/>
            <p:nvPr/>
          </p:nvSpPr>
          <p:spPr>
            <a:xfrm>
              <a:off x="5229360" y="1969920"/>
              <a:ext cx="152244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Informe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activer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56" name="Ellipse 7"/>
          <p:cNvGrpSpPr/>
          <p:nvPr/>
        </p:nvGrpSpPr>
        <p:grpSpPr>
          <a:xfrm>
            <a:off x="201600" y="4743360"/>
            <a:ext cx="2449440" cy="1596960"/>
            <a:chOff x="201600" y="4743360"/>
            <a:chExt cx="2449440" cy="1596960"/>
          </a:xfrm>
        </p:grpSpPr>
        <p:pic>
          <p:nvPicPr>
            <p:cNvPr id="2557" name="Ellipse 7" descr=""/>
            <p:cNvPicPr/>
            <p:nvPr/>
          </p:nvPicPr>
          <p:blipFill>
            <a:blip r:embed="rId4"/>
            <a:stretch/>
          </p:blipFill>
          <p:spPr>
            <a:xfrm>
              <a:off x="201600" y="4743360"/>
              <a:ext cx="244944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8" name=""/>
            <p:cNvSpPr/>
            <p:nvPr/>
          </p:nvSpPr>
          <p:spPr>
            <a:xfrm>
              <a:off x="542880" y="4962600"/>
              <a:ext cx="1444680" cy="8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Qualifier la BDD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559" name="Ellipse 8" descr=""/>
          <p:cNvPicPr/>
          <p:nvPr/>
        </p:nvPicPr>
        <p:blipFill>
          <a:blip r:embed="rId5"/>
          <a:stretch/>
        </p:blipFill>
        <p:spPr>
          <a:xfrm>
            <a:off x="2868480" y="4672080"/>
            <a:ext cx="2068560" cy="1639800"/>
          </a:xfrm>
          <a:prstGeom prst="rect">
            <a:avLst/>
          </a:prstGeom>
          <a:ln w="0">
            <a:noFill/>
          </a:ln>
        </p:spPr>
      </p:pic>
      <p:sp>
        <p:nvSpPr>
          <p:cNvPr id="2560" name="Text Box 17"/>
          <p:cNvSpPr/>
          <p:nvPr/>
        </p:nvSpPr>
        <p:spPr>
          <a:xfrm>
            <a:off x="2876400" y="4892760"/>
            <a:ext cx="167976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romouvo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61" name="Ellipse 9"/>
          <p:cNvGrpSpPr/>
          <p:nvPr/>
        </p:nvGrpSpPr>
        <p:grpSpPr>
          <a:xfrm>
            <a:off x="4816440" y="4681440"/>
            <a:ext cx="2754360" cy="1590840"/>
            <a:chOff x="4816440" y="4681440"/>
            <a:chExt cx="2754360" cy="1590840"/>
          </a:xfrm>
        </p:grpSpPr>
        <p:pic>
          <p:nvPicPr>
            <p:cNvPr id="2562" name="Ellipse 9" descr=""/>
            <p:cNvPicPr/>
            <p:nvPr/>
          </p:nvPicPr>
          <p:blipFill>
            <a:blip r:embed="rId6"/>
            <a:stretch/>
          </p:blipFill>
          <p:spPr>
            <a:xfrm>
              <a:off x="4816440" y="4681440"/>
              <a:ext cx="27543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3" name=""/>
            <p:cNvSpPr/>
            <p:nvPr/>
          </p:nvSpPr>
          <p:spPr>
            <a:xfrm>
              <a:off x="5203800" y="4898880"/>
              <a:ext cx="1655640" cy="8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Traiter la prestation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64" name="ZoneTexte 11"/>
          <p:cNvSpPr/>
          <p:nvPr/>
        </p:nvSpPr>
        <p:spPr>
          <a:xfrm>
            <a:off x="0" y="3192480"/>
            <a:ext cx="29750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Référenceme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Prospection e-mail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Parraina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ampagnes pub onlin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Annuair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5" name="ZoneTexte 12"/>
          <p:cNvSpPr/>
          <p:nvPr/>
        </p:nvSpPr>
        <p:spPr>
          <a:xfrm>
            <a:off x="2641680" y="3228840"/>
            <a:ext cx="254628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Optimiser la relation : e-mailing, newsletter, espace client, extran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6" name="ZoneTexte 13"/>
          <p:cNvSpPr/>
          <p:nvPr/>
        </p:nvSpPr>
        <p:spPr>
          <a:xfrm>
            <a:off x="5103720" y="3228840"/>
            <a:ext cx="174780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Site, site événementiel Newsletter, R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7" name="ZoneTexte 14"/>
          <p:cNvSpPr/>
          <p:nvPr/>
        </p:nvSpPr>
        <p:spPr>
          <a:xfrm>
            <a:off x="114480" y="6018120"/>
            <a:ext cx="272700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Newsletter, Jeux, Sondages, </a:t>
            </a:r>
            <a:br>
              <a:rPr sz="1900"/>
            </a:b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études, questionnaires, parrainage…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ZoneTexte 15"/>
          <p:cNvSpPr/>
          <p:nvPr/>
        </p:nvSpPr>
        <p:spPr>
          <a:xfrm>
            <a:off x="2563920" y="6018120"/>
            <a:ext cx="245412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ampagnes publicitaires onlin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Bannières, </a:t>
            </a:r>
            <a:br>
              <a:rPr sz="1900"/>
            </a:b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Affili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9" name="ZoneTexte 16"/>
          <p:cNvSpPr/>
          <p:nvPr/>
        </p:nvSpPr>
        <p:spPr>
          <a:xfrm>
            <a:off x="5397480" y="6018120"/>
            <a:ext cx="174960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Forums, SAV, FAQ, Gérer la relation client via SM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0" name="Ellipse 18" descr=""/>
          <p:cNvPicPr/>
          <p:nvPr/>
        </p:nvPicPr>
        <p:blipFill>
          <a:blip r:embed="rId7"/>
          <a:stretch/>
        </p:blipFill>
        <p:spPr>
          <a:xfrm>
            <a:off x="7238880" y="1785960"/>
            <a:ext cx="2519640" cy="1969920"/>
          </a:xfrm>
          <a:prstGeom prst="rect">
            <a:avLst/>
          </a:prstGeom>
          <a:ln w="0">
            <a:noFill/>
          </a:ln>
        </p:spPr>
      </p:pic>
      <p:sp>
        <p:nvSpPr>
          <p:cNvPr id="2571" name="Text Box 28"/>
          <p:cNvSpPr/>
          <p:nvPr/>
        </p:nvSpPr>
        <p:spPr>
          <a:xfrm>
            <a:off x="7534440" y="2143080"/>
            <a:ext cx="1460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Générer du bouche à oreil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2" name="ZoneTexte 19"/>
          <p:cNvSpPr/>
          <p:nvPr/>
        </p:nvSpPr>
        <p:spPr>
          <a:xfrm>
            <a:off x="7066080" y="3228840"/>
            <a:ext cx="238896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uzz, Marketing vir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munauté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orums, chats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éseaux sociaux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log seeding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73" name="Ellipse 9"/>
          <p:cNvGrpSpPr/>
          <p:nvPr/>
        </p:nvGrpSpPr>
        <p:grpSpPr>
          <a:xfrm>
            <a:off x="7321680" y="4664160"/>
            <a:ext cx="2547720" cy="1590480"/>
            <a:chOff x="7321680" y="4664160"/>
            <a:chExt cx="2547720" cy="1590480"/>
          </a:xfrm>
        </p:grpSpPr>
        <p:pic>
          <p:nvPicPr>
            <p:cNvPr id="2574" name="Ellipse 9" descr=""/>
            <p:cNvPicPr/>
            <p:nvPr/>
          </p:nvPicPr>
          <p:blipFill>
            <a:blip r:embed="rId8"/>
            <a:stretch/>
          </p:blipFill>
          <p:spPr>
            <a:xfrm>
              <a:off x="7321680" y="4664160"/>
              <a:ext cx="254772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5" name=""/>
            <p:cNvSpPr/>
            <p:nvPr/>
          </p:nvSpPr>
          <p:spPr>
            <a:xfrm>
              <a:off x="7678800" y="4881600"/>
              <a:ext cx="1508040" cy="8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Vendre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76" name="ZoneTexte 16"/>
          <p:cNvSpPr/>
          <p:nvPr/>
        </p:nvSpPr>
        <p:spPr>
          <a:xfrm>
            <a:off x="7629480" y="5961240"/>
            <a:ext cx="174780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Site e-comme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Affili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omparateur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06:38:31Z</dcterms:created>
  <dc:creator/>
  <dc:description/>
  <dc:language>en-US</dc:language>
  <cp:lastModifiedBy/>
  <dcterms:modified xsi:type="dcterms:W3CDTF">2014-11-23T15:59:22Z</dcterms:modified>
  <cp:revision>1</cp:revision>
  <dc:subject/>
  <dc:title/>
</cp:coreProperties>
</file>