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6F831E1-0A7E-42CB-AAF9-AAD9C6E306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1B7F77-F634-41DB-B411-9A6DA5F63E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33520" y="20574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304812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33520" y="3505320"/>
            <a:ext cx="8118360" cy="5331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3520" y="4038480"/>
            <a:ext cx="811836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8200" y="4508640"/>
            <a:ext cx="8118360" cy="502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533520" y="50292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538200" y="551016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33520" y="160020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95024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1. Identifier la problématique et les objectifs de l’é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11280" y="2089080"/>
            <a:ext cx="7846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2. Préciser les objectifs de l’étude qualit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611280" y="3110040"/>
            <a:ext cx="864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4. Dresser la liste des questions à traiter durant les phases d’interaction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11280" y="3597120"/>
            <a:ext cx="7662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5. Rédiger un questionnaire de sélection des participants à l’entretien du gro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611280" y="4148280"/>
            <a:ext cx="828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6. Elaborer le guide d’animation et les supports visuels utilisés pour l’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611280" y="4559400"/>
            <a:ext cx="7815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ener les interactions clients en fonction du choix méthodologique effect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611280" y="5049720"/>
            <a:ext cx="73436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8. Analyser les données enregistrées pendant les interaction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611280" y="5556240"/>
            <a:ext cx="82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9. Présenter les conclusions, en tirer des directives et rédiger la synthè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8200" y="2563920"/>
            <a:ext cx="8118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611280" y="2612880"/>
            <a:ext cx="8064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3. Choisir la méthode et le type d’interactions  à réaliser fonction des obje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9 étapes clés pour réussi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étude qualit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0:20:49Z</dcterms:created>
  <dc:creator>FUAL6625</dc:creator>
  <dc:description/>
  <dc:language>en-US</dc:language>
  <cp:lastModifiedBy>Nathalie Schipounoff</cp:lastModifiedBy>
  <dcterms:modified xsi:type="dcterms:W3CDTF">2014-11-23T16:33:11Z</dcterms:modified>
  <cp:revision>161</cp:revision>
  <dc:subject/>
  <dc:title> PROGRAMME INNOVATION EVERYWHERE  EXPLO CEN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2196742</vt:r8>
  </property>
  <property fmtid="{D5CDD505-2E9C-101B-9397-08002B2CF9AE}" pid="3" name="_AuthorEmail">
    <vt:lpwstr>fabienne.auffray@orange-ft.com</vt:lpwstr>
  </property>
  <property fmtid="{D5CDD505-2E9C-101B-9397-08002B2CF9AE}" pid="4" name="_AuthorEmailDisplayName">
    <vt:lpwstr>AUFFRAY Fabienne NSM/TECH</vt:lpwstr>
  </property>
  <property fmtid="{D5CDD505-2E9C-101B-9397-08002B2CF9AE}" pid="5" name="_EmailSubject">
    <vt:lpwstr>matinée explOpen : agenda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