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slideMaster4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9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</p:sldMasterIdLst>
  <p:notesMasterIdLst>
    <p:notesMasterId r:id="rId61"/>
  </p:notesMasterIdLst>
  <p:sldIdLst>
    <p:sldId id="256" r:id="rId62"/>
    <p:sldId id="257" r:id="rId63"/>
  </p:sldIdLst>
  <p:sldSz cx="9723438" cy="7559675"/>
  <p:notesSz cx="6897688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notesMaster" Target="notesMasters/notesMaster1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976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603360" y="1023480"/>
            <a:ext cx="5673600" cy="4411800"/>
          </a:xfrm>
          <a:prstGeom prst="rect">
            <a:avLst/>
          </a:prstGeom>
          <a:noFill/>
          <a:ln w="12600">
            <a:solidFill>
              <a:srgbClr val="d9caa7"/>
            </a:solidFill>
            <a:miter/>
          </a:ln>
        </p:spPr>
        <p:txBody>
          <a:bodyPr lIns="89280" rIns="89280" tIns="44640" bIns="446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move the slide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01" name="Group 87"/>
          <p:cNvGrpSpPr/>
          <p:nvPr/>
        </p:nvGrpSpPr>
        <p:grpSpPr>
          <a:xfrm>
            <a:off x="628560" y="6035760"/>
            <a:ext cx="5626080" cy="3686040"/>
            <a:chOff x="628560" y="6035760"/>
            <a:chExt cx="5626080" cy="3686040"/>
          </a:xfrm>
        </p:grpSpPr>
        <p:sp>
          <p:nvSpPr>
            <p:cNvPr id="2502" name=""/>
            <p:cNvSpPr/>
            <p:nvPr/>
          </p:nvSpPr>
          <p:spPr>
            <a:xfrm>
              <a:off x="628560" y="603576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28560" y="6404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8560" y="67723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8560" y="7142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28560" y="75103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28560" y="7878600"/>
              <a:ext cx="562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28560" y="8247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28560" y="86155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28560" y="8985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28560" y="93535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28560" y="6404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28560" y="6772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28560" y="7142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28560" y="7510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28560" y="787860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28560" y="8247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28560" y="8615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28560" y="8985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28560" y="9353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9760" y="4765680"/>
            <a:ext cx="5517720" cy="45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Espace réservé de l'en-tête 3"/>
          <p:cNvSpPr/>
          <p:nvPr/>
        </p:nvSpPr>
        <p:spPr>
          <a:xfrm>
            <a:off x="0" y="0"/>
            <a:ext cx="2987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 Black"/>
              </a:rPr>
              <a:t>Titre du stage ou lot de transpar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Espace réservé du numéro de diapositive 4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DD3C-805C-4587-A681-96BBDB28C80E}" type="slidenum">
              <a:rPr b="0" lang="fr-FR" sz="1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i="1" lang="fr-FR" sz="1100" spc="-1" strike="noStrike">
                <a:solidFill>
                  <a:srgbClr val="000000"/>
                </a:solidFill>
                <a:latin typeface="Tahoma"/>
              </a:rPr>
              <a:t>blog seed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consiste à envoyer en avant première aux blogueurs sélectionnés un produit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Espace réservé du numéro de diapositive 3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5968-84B7-436F-A839-D85F329BEC1D}" type="slidenum">
              <a:rPr b="0" lang="fr-FR" sz="1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84D3-7175-4AD4-A9A7-9918733C8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C747-1E65-4B24-9B6B-8034FB6AA5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5ECFE-4269-4F96-A573-63F4AC0806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2AD52-88F4-49E7-83FB-443655010F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BC81A-48A7-4B43-95E8-D88EF779E6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A8CA1-D9F2-4783-AA59-C098E201A1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C0611-6F90-462A-BD6E-DF092E131FE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39A49-124F-4CE4-939C-CFBAC0AB57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5629A-9004-414B-8BE2-67A0FD55CD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9E186-009E-4B1F-A5AD-91A710A3D6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22E78-81B3-4ACC-989B-2D83AE2606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DD3A6-D691-464F-8187-ACFACBF8C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DCE0-2CFD-4698-8C3E-48215D4912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F4A50-B96C-4F90-9333-C66A0CC4D2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8C7A1-09ED-452F-9B14-B9A6921C2A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1BAA2-110D-4936-BA27-72FD0E1152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3DF04-3439-4DDB-847D-62641CCDF8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15D50-CFF8-41A1-A962-F2F3DC6182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DDFF85-8005-4560-B820-33F01034EC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AC20A-9A27-43D8-8518-07AE618AC4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4A1814-96AE-4E95-898E-44B726369E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B3ABB-8CFF-4C07-BC99-14FD2FFA1F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FBBEC-09C2-4E05-9F74-0D62A9B0C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4AB4-982B-4EB2-9D74-43796EDC7B9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03C646-E9FA-4919-B779-37CF1A1B0DB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4B8F-DDE6-43DF-81E5-11A3C29D105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3FCF-D528-4225-8962-72FD07825AD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86DD4-9655-456B-83F1-24443915F35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DA42-971E-45B9-B32E-9C4814CEB54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555FB-6918-4E32-8647-D948CC63A5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9F859-BA9C-496A-B9CC-E3F788A2C1A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7F8F-E237-423C-ABD5-FE32609FA37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D9B1-CF56-4A8E-87B6-C091197C00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D62A-DA57-46CD-A73C-435BFA1FB7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09F06-F616-4F10-AFA6-B9D10F74AC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E78F-4885-4633-B810-C7ADEE5F90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0E12-9726-406D-B2FA-13BF6B06C4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D65C6-5227-4956-8E47-DBABFD965B9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11C3D-10ED-4028-B23C-82BE051C4E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1C9B2-FEB4-43C4-9817-8285C45FB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9C749-1F85-4374-AA86-7810BDB9A53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1011D-75FF-4AB1-88EB-F6A9C38E1A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F4299-0DD6-4B3F-A418-F43CAD7662A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D4280-0E00-4483-BBFC-94669D59D9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13F58-3256-4371-9F13-E32B4CD4574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7806C-9121-4E44-8D30-4AA6CC186F2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1A77C-64FB-4C99-9A02-04EFD7BEEB3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E8DB3-05BE-49D0-AD6E-968DC7C238B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FC129-8AE2-48D5-85F1-1A73E741C27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57A4F-060C-4D71-A21C-FAF4518C4B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F1B4C6-ED2D-4046-AAAE-7952EE70BED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7C9D12-35F6-4033-8FF6-BD7F9D3F91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736228-BA80-4339-A981-F4F9698073C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EB3795-2B88-43E3-9377-B57597643C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BAD843-464B-4E40-BB04-33218B789A1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CE17B5-3371-42DC-8D10-3CD629D0098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A32F2-36CB-437D-8276-E31302ADC17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C7061-3AF3-45AF-B490-2BC806F84A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EF71CA-8840-423B-B7E1-D64432086B2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7E4FC8-453F-4D67-A727-28A6B47261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3724D-B5BB-4D94-A6A5-82CBCE32751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0D82-E39B-4F83-B01D-372E6D78A2A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C54D3-8A7C-49D3-BD40-A3F8ADED0CE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7FD4-78A9-4D21-8F34-3B5B5443AF6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13831-7FFF-407C-BB05-F3A28E3F7FA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83AC-E1D4-414F-A237-12BE0A99824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C2FB-70CC-4E43-8827-0735A1B2B18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2C88-3286-494B-AFE8-50DC8A1FFAB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F0CE-9F5E-493E-B020-5233873F9B1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4FA2-2391-4A97-A5A6-B55161709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1080-E5CA-4F31-B17E-EFFECBDF1A8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3606-A89C-4D70-BAE0-07457E68C31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BCA7-3E3D-4692-9AEE-B14A50DA555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236B0-37E4-4711-A89D-E75DCBA1312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E0D57-2ADE-45F4-AD0C-4864F82A4B5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D0CB3-BF00-4178-9AC8-B55A24CB8D7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95083-CFA4-4A42-9653-710E4A80159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D3EF8-A0F1-4520-9E6C-5C610F7FF4D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FC6B4-43BE-47A7-8E37-B0D88E9A372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4E6B74-5B19-4B63-8B49-25C1289F5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FA01-6137-4575-B7DE-48976133A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5C918-757B-4F33-9158-630A907F1AE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C3916-9F29-4C17-977F-4ADF8D50CD4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F3F16-7508-49A2-8996-514C333A835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B25B9-FE75-4EB7-931B-7ABED3A68FD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D91BB-EC3C-46AA-930B-B0418833889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7B209-6323-46B2-A862-A0A90E95ABB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059DB-94D5-43FA-B757-AFC34A8F227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1E5B0-FE00-4995-B38A-8D55DE54EC2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E33B5-2D1A-4C11-825E-F19A8144A2A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4620C-4152-4970-8362-5D425F4D4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33B6D-2B92-4464-976B-87F39119445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C417B-0397-4021-BE43-5CB9E2FD25F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1411E-1FFA-4F65-A4CA-5164BD5FC33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F2C41-695E-4889-B375-DEB102267C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BED94-C3D4-4DC6-8C88-837743B076F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E6DB9-40EB-46C8-A105-F78E65FABB7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71847-D320-4F6C-83EF-AED969A0171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61106-7102-4297-90D1-3DD4D6C041A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33C0F-6944-4A71-A3CC-BC30441587F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27321-85BE-465C-BDF0-5819CB8BF1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B8F2B-B103-44FB-A23A-1D86021E639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38B47-B676-4863-A698-CA90ADD1489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82514-9885-4B00-9661-9D0B4331FE7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FFCD3-4C4F-4F9C-B329-FA3B811DACD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F82A0-82C1-469B-936D-B880ADEE57A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9D312-FC33-4A21-B7DE-19145248F5E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CD6A5-799F-4D5C-A883-E0624DFA1CF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0D643-1C8A-4FE6-B76D-3C6E284CAC0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5089-8D53-4E5F-81BE-CE3C2276F4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C0E67-3436-496F-99B8-6F20EDB7705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44F990-A180-4956-A2C2-37A78894656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0E0CC5-C05A-46F0-A2AD-60D17D4EE63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B376A3-7836-466D-B6C1-6C1AABA9E00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28076A-2372-4F0E-B214-6822AA36C5F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A2A59-DC56-4122-B7FF-985EEDA0488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C80CEE-F471-4709-844F-23917515515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E9B02-490B-4BF0-95C9-E52CBE6ACB8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D01D1-C397-48F0-B53F-88B3748011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E45-D975-48CF-A599-EED40124847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E3005-B285-4068-9F14-67CEA354AA4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CD193B-B00F-4F71-807F-4D5977B694F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44698D-56F8-4AA7-A9E7-DE5A9C45DA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3AD7FB-65FC-4190-96E0-6F6375BE3E6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F4F541-143D-4F71-842A-9553489E7D2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4408AA-31D5-4772-A997-97091A7EA6D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599B35-1F29-4D71-BBAF-A4B5AD71F3A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0E2FA5-9AF1-4979-9B50-3B5A237CBC4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634D51-D3C7-4F93-A423-06F32B214CA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B467EC-25DA-4908-B21B-47F7AA9F14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A6D-7B90-4C5E-8F6D-814B41A7F90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D8B0A7-B600-4EA4-A3E1-B126506E6AE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727BF0-74BE-41AD-9A86-7635165A226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CA55B0-8E0E-4C47-ABA2-D29E46FA504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F1659C-B40B-46E9-B3DF-82861B55CE8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0CFE7F-FBEF-4CF2-9CC0-46E6297920E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B1CA5-5856-400D-A686-B3D1F8BB7BC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8006B-6C0C-45FA-8EFB-1DFB682D6BE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FEFCE-0C27-4906-B9BD-A95AB8AB295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0EB6-9F15-493A-A26C-939E8C0A329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38014-35DE-4C30-94CD-191E168AC8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C05-6912-41DF-9BCC-53D619C80B7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A362C-EFEA-460B-B354-955C8CC0D63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7C47-CA05-4F6E-AE90-181BFB79244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E6903-D077-4CEC-8002-A7F352ABE88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D9095-B0AF-450D-93A9-EC1221E61A3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AAB1-BB59-4C27-818A-88B63F3702B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0D315-A1AD-4D97-812D-D23501DDFEC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0F24A-FCA6-4E51-9731-BC47DC8C00E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D57489-6ABB-4B78-B776-6E5E0658E5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5961B7-3D14-477D-AF59-C861BC0CBA3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E57DC6-9B18-4462-98B8-7D08268580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78F-A088-4395-BF6D-420C913EED7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A24365-4984-4D06-973F-16A30AFA970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37BBF6-BB7F-4244-84CE-26836A29DFB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EE4EE7-B096-4A8F-B4FA-90CC511FD80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AC8D23-0BA5-4EF1-8F27-6B9FB80BD2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4D9C7F-02FB-4346-8D70-9A8268A5A58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446379-0D7F-4677-87F1-C42EF77AA54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CEB818-6617-463D-A9F4-93972488255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FC9405-73BE-4B72-BF0C-13583EFFCB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7A0CAA-A425-4738-BCF6-C445111031F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F9011B-1671-4811-BBF6-73B14DE9A3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BF7-5FB7-46B4-BB0E-E4FFAD9B44E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0B277E-349A-414F-A274-93CD0539E6E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F6DFDF-CA8D-402E-8003-896A283BB10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8C5F70-B164-4679-A2FC-2CB6085A722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7B91CE-DECE-45EF-B4FF-45B65FA6D5F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BBCB04-F153-4AF0-A36A-6AF57DAC60A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53C72-29B1-47EC-AF17-F6EF9D8B62C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ADEB03-9C26-47B2-B41E-BB28E324266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E8E132-FDA7-4826-8F21-E29758D7EFA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0969FC-9B2A-4DE2-84AC-FA0EC9F3DE5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2AEE7B-1AA6-4724-AA5E-91C5C967C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07E4-1DD8-4428-B9A6-AF3CF9DEC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44E-A84B-4CCC-B89E-A80DFF9A468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F255CF-44C5-4612-8234-AF79013E359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757DC-5231-4345-8B0D-57092C21617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4FBC8-705B-4F52-80FD-2865BFDF1ED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B8793-2F2E-4629-BDA3-10D6CB771F9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DF14C-63B1-4D15-BE9D-E779F742084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F4721-2C5F-421E-864E-26CBE94A6EB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C462D-8810-4EC3-943F-70F0948F221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54350-A957-4853-8193-EF0ED1E6029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5C257-5A5D-4653-A1DE-9A6033DD50C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40AA1-5BEB-4EB2-BFBB-D9DA41AB4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E95-DA14-426F-A1CD-2C79B3B8302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A84BE-8281-4BD0-BBBB-F34686BDAF5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6E0A2-6B32-4F86-BB54-0DEBFD0EF03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55020-DE64-4BA8-AA5B-51623751A14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7B4D1B-5623-41FC-967C-3ACB9161AAC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982B85-C3C1-4210-BFA7-C4D5A8CFA21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8EDEE1-464C-4DAC-AF36-ABE9FF60823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A82691-013B-4978-9698-41BA6CDB394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C5BA3E-BEF8-4E71-B6B5-5F0540F02CC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AA7D45-B58E-45C1-B233-EDC2EA6092A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5B9912-F9C4-4741-BD09-4ED8A472CB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B41-43EA-411F-9B84-CBEC202214D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DDE468-4104-460F-A5D2-0E8C4354AD6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C26D34-BFC4-4EED-BC30-C4228ACE4FC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CED05C-8D21-414C-943A-7FE710B408B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FD0B62-AE86-417F-90C4-5E8B18421D8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65D3D1-A705-49A6-A07E-07902598536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516-6BB9-434E-B95B-F2234551E1A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EC8764-FEF9-48B9-98CD-ED26FA17778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C1C600-179D-4346-84B0-8E439A5E7AD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2F6290-DE0F-4C40-A7E2-F077E26FF8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FD5-F5B2-47CF-BFC9-2D9D3339308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D050D0-B31D-4E8A-AC93-840B5F83857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E5B25B-3A48-41C4-88B7-9829A7CF096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081FE1-9941-426E-ACAA-22ED7DAA395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A298F6-5658-405A-A930-1CBB6C216F9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6E365F-A290-42DE-B696-A0A439F3B4C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F646AD-F0D2-4B42-9109-D04A8478ABC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2BD734-7685-48C3-81D5-E25F1101D4E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F4EB68-CCE1-41F2-A115-5E579854907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0C4CD7-D259-4815-8605-BFD02FAAB5A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8ACB0-C24C-41C4-BF9E-1E112A8F07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EB0-83A2-4AF6-966D-53FDF524788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7A614-0977-4482-BE67-A1397C12C8C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6853F-E553-4811-BF4A-F210E29DA13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67021-CF95-4E11-8064-19BD8137122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40657-5055-4A11-9D55-4173A3CF7A7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1B688-2394-4974-8818-AE3AF542A98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A756D-6CEA-497C-B1C5-29B3E39BD97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7B684-40A9-42FC-9596-255BE50079C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403F0-6984-42BF-809E-BD4D151E1BA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77C64-89F1-4FF3-B793-CD4EDE13D4D0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ACC14-4637-4381-929A-ED2E57C3B2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64C-827B-4EA1-BD57-EB75B8D48A1F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DB9C3-3716-40D0-9896-6A9A355D691C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86FAA2-5641-4852-9B1C-E6E1FF1AA20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628584-AB12-4746-AE65-75C02F16ECB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A6AE11-F59A-44FF-9592-CF82ED988C9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2F2BDE-355F-4519-9F7F-2AFD7C72EC2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61E691-309F-4124-8DD6-903E367D050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8B528A-8300-495B-AD6C-AA302C6C505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05F92A-1CC4-41AE-B135-D010DF2EDA1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E2999D-9937-4A16-965D-82C6315B50D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BFBE6A-CF26-4431-ACB6-DC00577697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3DC6AB-359B-4831-90E2-BA13373C2C7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1F5BCB-81A1-46D3-B587-7ABF0C47B21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A35323-EB9E-47D9-BD68-D311DE075E6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9A546D-11A8-42BE-821A-9CD6B0DEA0A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EA7590-AE20-456C-B4D3-1E65B651DDE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BAFDB7-6EB3-43E8-9B80-610EF3D5009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6727FD-50AE-4553-ADC0-A92136E7484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99159C-1A5A-4F1A-BEE5-CDAB06CFCD2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BB2B0C-E371-48A9-A917-170F668CB38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659E76-9313-4046-B7E8-AF38A5ACE8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5CC7B3-93FC-4F73-824B-DD4A7A19E2D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FD0F58-92F6-4FFB-83A5-353829B2F7F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BD32DC-820B-428E-BD2B-92954E96A5F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F5581D-B1B1-4AB5-8B05-B31BC186D50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847FCE-6C7D-43AF-84C1-1E3F8B1EEC2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1003B-0310-4B01-B5AE-848890807F8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C2A13-868B-430B-BB5F-7CE15DC1B21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A9F9E-2533-4505-BE7A-DC4A7A1E98C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67B4C-DB7A-402B-AF34-168E05EE067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78ABF-85B4-47B6-9BED-476E01D2AE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7A323-2B89-4837-8D41-8073E267D77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F5038-8F77-41A6-981F-FAA936D84E9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860A7-0C7B-4B9E-9BCE-D59AE8B91C7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66482-F0FA-4528-B7C6-0D2139B54FB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C0DDC-C806-4BCA-9CF2-FB94F03D60B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EF069-387C-4B40-8DBB-254E4EF5689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B85AD-B7D0-4DAB-A805-287A51D5481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9D5A85-234F-4E38-BD53-28E92571403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DB353C-A5BA-4AA0-B73D-B2B94DFCB2F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09A389-5F83-4AA0-8200-43FB05E56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D921-3B00-4916-8418-921C44E731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04C295-5CB0-4355-8808-A775DDDE4FC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17BB42-4361-4B79-B295-D8750E905619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C9332D-332B-4B11-BC8B-0C66D5521D81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AF6B07-C5A6-4BF0-A2AB-603BBB0534C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F290A5-9688-4017-9830-A1086CE4F42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6AD616-D576-4F94-9790-1C72CFC2F5C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46FEAE-70DB-4DCE-ACCB-F957DB2270A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26071C-C3A7-467B-BEB1-F38440468FF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BCDF2C-E05E-4091-B1EC-990BD149B69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E0277B-5B47-410A-B2D3-DFAFF7B699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81F2F4-361E-4B33-BA0E-52E57C9F59C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E31276-6F29-4345-94FE-C5A10B35AF1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D9863A-F5F9-4A36-93EB-289E9BAECBC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F8BCF7-5617-45F9-8811-C3A70491054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3E351B-6D2D-4459-BF8A-85E6EAFAC46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C0AAB2-25FB-4012-B225-802B7DAD09D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6D352F-4755-4F08-8770-1A5BC7D3C86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27CC35-5C35-41F1-8DDD-FE5B311D5A7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089331-E73B-48FD-9CAA-8AF0D712191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D42C79-9DBA-4F86-A5BC-987A8907E1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264793-1103-4868-B3CA-9F537ADDC5D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6F07D-497B-43B4-AB87-285830BCE00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51928-120A-4BF6-A361-9E692E4D0F50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CD113-2B77-4B82-B526-346F0C0CAB7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09C5E-09C1-46D8-B62E-8B628FDC5D7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A0210-6C16-4721-B8C7-C9C3074E720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AA471-67D5-4C30-BB4F-74BC9FD78A2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5D151-A3D0-45F2-83ED-74A0891116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50CC3-141C-49F6-8DF8-56559B37651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56F83-DEE9-4DB1-B439-30346D23E3D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6D225-B125-40D0-B26D-2A88D6870E7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9FA4E-8F92-40EA-95FD-E34761FEF88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110BF-ED6B-4AC7-820D-F58AEFBAE13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92F496-0F19-4F5B-A585-CAF5D442787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EC6860-2C69-497F-AB7A-008B8F07314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7F0825-E9BF-462E-8327-88555A5FAEA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47E19C-ADA6-4BA9-A91B-701DB2F444C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8F8F77-BEDF-46B4-8849-A9A0AEE11C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24A1F3C-1877-48FF-AB7C-54FE58FDB36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168214-D19A-455F-8B09-6DB6BDFBEA8F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1F064D-5A06-4A9D-AAD2-DB1B49B388C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BE2EA3-6680-4407-A204-09363FEDDD2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1B4505-0551-4BED-BC7F-C75CE6E8D25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2D154E-A664-4466-BC42-6A76665C4FB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D16B93-C5BA-4653-989B-5AF7A66F5EB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23DAAD-8964-462B-BBB9-7408382F3D4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EC365D-CE13-4C8E-899E-25A7E91F4B1C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E224DA-EAFF-45CA-A9FE-B17FCE833C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7EC758-984B-4859-B46C-2D2D06DBA5D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9F595F-EA9F-471B-BF40-8D056295EF8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00D65A-6EDC-446D-8309-DDDDEEDD658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A0F6DC-D74B-4895-B89B-EFD4B3A422B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33AE31-C6E0-487E-AC13-4BEF2CBDEA29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BB228D-6CFB-4E97-B187-5ABE9A8250F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01940C-837F-46AA-98F9-811ACAE2936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3E9987-53B8-4E30-8563-D09BF8BA9BD3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CC3721-340B-4F01-8DA5-A939A4693030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15AB48-9011-483F-AA4A-28909205DE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ECB22-54E1-4BFC-B6F2-F14AC2CFDDB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C5312-9906-4B6A-9FF5-28D04F3584A6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86307-9D21-4B61-904F-545D9E8BDE7E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A7CFF-2555-4237-A374-D5CEE992447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64289-465C-4BE8-84A1-039FEE5EAEB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4A783-23A7-42EB-AF27-8149230177D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F814D-BB17-44D1-8BDC-314D5AD958B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FF5CF-6F84-4EA4-AA5A-38D6E135B50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BD065-BDB2-40CB-8FA7-568E7970632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92911-85D3-46CF-A3F3-62D73FC378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9041F-D076-473F-AD81-7EC14C6B27DB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7159F2-C6D9-4E01-9555-75B2C7A583C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9185252-5623-41A1-9F69-2902310B0F7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AA1BA6-12C5-42DB-B927-8B4A676070D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169C7A-093A-4F74-96F2-89A123C9A7DC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138FB9-7526-4AE8-9383-58FA671F33C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3AC486-17A9-4D17-8EBF-C302FCE69BA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74EA1A4-068A-4BB5-98B1-64919F7E4EF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9343490-F2E7-4010-9F3F-DFAD74ECE96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129185-4DC0-4B60-B467-EADE4AAB8B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98076-8408-4FAC-BFA1-F04144F61C5B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96AEF6-B7AF-427B-B029-D26735730EEF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C4EA43-D478-4208-B3F6-51CDA034510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568275B-76B8-4AF2-AC2C-52C595A8ED1C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687E68-D535-4539-A349-CBAC1E0F17E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CF1AC1-74C7-4165-8763-1AE1FC156F8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858B796-ED61-48DA-A6A9-26288EF237A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1780FE-8C2F-4D7E-B9F8-0E333E31DE1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95E28D-9866-476B-9E0F-BF728B2111A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16571B-F892-403B-BFEF-6828EE04A32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7045FF-BE27-4BA3-958E-F6505BC16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E952-54FD-4263-B759-C49C65988F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AED6C-51E3-42DE-AC2C-7F61A32C2C03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5F183BB-FF34-446C-8C84-1B80A098029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9ABD7CB-DF99-4AE0-BCD7-DC33328B6CC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4E0A2A-F96D-4ED3-8C02-A651CF4C264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95C6D7-01CA-4BE2-9CA2-E9A05373A79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A5F40EA-5AC9-4FCD-8B42-333F5F56EB5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B6A01-76A8-4A13-B974-D2FE1A4298C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EE57C4-7EEC-4E89-85F7-C3C44AD6915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3E29E-3D7C-40C0-BA45-C0B2E13EE91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1C5C4D-3A37-4D41-AD57-25C7C9A6DDE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50976A-BA42-45D6-87CF-3357F80005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EC644-528B-402A-BE5C-BA38FFE26B8C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ABA49-3286-4EF8-AB23-B123D8F43A9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5DAAA-197C-4B9B-BFEA-CB0FA2F17E9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5C821E-C129-407F-AB07-3DD08234EBB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0D1ECF-BF1B-46BD-AB82-FB93A83246E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5F653-DAC6-4E5B-B91F-BCF44BBFD14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21405-8368-457B-87F9-9F3FECA7668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476D7F-E8CC-4DB6-AC00-06F15AFE5F3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1A3B6-042B-4366-B25A-D04EE43732E5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69733A-DED9-4B58-B48A-E7D0B002BE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374AF-40E3-41D2-A165-9A176894EE3A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8E9D07-5152-4CD5-80B3-247651A3538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CF0C996-36E7-438E-A429-06E9E1DF3097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B257D2-154B-41BB-B84E-F65C802F05A7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83F961-6146-4EB1-880A-139FF7C2AF6D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84E1AC-1526-47B0-AC3D-4667989329CC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8E7B98-9778-47FD-AB41-6E41922AD85E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12BABFE-E83B-4E9E-BA5D-D0F52978715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9C2CBA5-51D1-4B86-84E0-5543A3569C4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BF3FFF9-3DA8-49ED-BDDE-57FD503E53C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7C42ED-B983-453F-B03F-768BF6E201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72C48-3BA2-44E8-9ECE-18368C2C5A01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D56899-FFAB-4BE1-A8FE-36581C7B6D0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97EE22-23E9-401D-9CC7-19680B78EC7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51E56E-443B-4D65-B56C-CA58FC91112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BEB9C1-53D6-40A9-A675-CDE5D955CA2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5F45C8-F6B6-484B-AEB8-75B7E97F695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E235F5-6F70-442A-836C-96D8031CB6D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5EE194-B6B1-4938-A31C-CA242B94C56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7C804E1-8BBF-442E-8756-5B3A2ACBA0B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A1C624-3650-48B9-9B31-2B6F1663FE5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DFEB3E-898B-426E-859D-D5306922F0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1CD4A-E085-4395-B79E-7DE7A71E1240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BC40367-54A9-4849-B014-FE2B2F8571C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C3A628-7CA3-4A58-99A1-36EC9B57F81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D239992-4960-4104-8041-58A6DC2427DC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1273C-52E3-411C-A935-F70F64305FD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30A2E0-8FCA-4306-8387-FBC034F08B4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7A196C-9AD7-49D1-A396-8D6F4CD63A0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AD11EC-B965-48C0-8614-83D0280446F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C3FF81-4169-4317-BFA2-101661573AF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32F4EB-2C65-4D14-8CC4-B90835BDCE2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2452CC-1098-4007-82A2-5150FD1E06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E4DB1-47BC-4ACF-8136-1E668D9903C8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E0ECD-314F-4AEF-B221-5653CFD5B7B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E572C-B7E3-43CB-8129-26B94409E620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DC7F6D-EDB9-4492-90A8-9E524EB4200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F5E41-F101-499F-AEDC-680FC1D718C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1AD5C1-C58E-49DB-8B69-81589CA7B88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530D18-7E5E-4BCD-8901-B467AB18AF1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D25358-9EDB-4DA4-80F1-A0932415992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4F941EC-9C04-4EA3-840D-8A9E9274914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011D11D-D132-4B6E-BE2A-71DE66DA03A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3C18018-CD0B-472A-A398-87418EDB02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0AB3-4CAE-4E9F-93F4-2FF9C807067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EDADA7-7939-4B23-B01A-271F18E8B5D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4BFA7C-E0AA-4AE7-A5A8-FA9628858E1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8B295C3-216F-4500-B7D6-D84FFC38663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1FCBEEF-7012-4BC1-803C-CBDE400651F9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087EA8-D070-4FFD-BF26-19FA596A29D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4206A7-10F2-4C35-9A98-C124E413C74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2351B5-2CEB-433D-89F7-253139CFAB4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561F10E-EE46-4ECE-B531-FE90604A335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FB269E-9C9A-4613-B2B3-9578B3E1C1E0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268B304-9607-494A-B159-A2BE14A85F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0AF4C-5B23-45ED-82BD-5A1624AF6643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69E8842-582F-4C3E-B1B6-F05C647354AD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241B2C8-3D33-42FF-A63C-E77CDB7FEC0C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E1EDD06-8F1B-4F08-9CE3-F1444641484B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52D526-CBE4-4198-B5AB-F260A577A5E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9802BE3-3891-467F-8460-A8401C6E910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0782060-D1C6-49B0-A980-A260E6CC969A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69A50C5-0913-4BB5-9883-8992D972642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87562A4-0798-47DA-9A0F-17597A61AF09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EC8CBCE-B68A-40B1-9D5F-E2D2156657A6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94047F-47A7-4B65-B47B-46F206B3458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24B1-7C41-4B7C-AD37-5280E6F5AF83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5CC114-731C-4702-85EB-A7C88E75CA6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F20CA2-C2EC-4E06-98F0-3A2595912C5B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1AE534-4A75-414E-BCAA-73315F8CF04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06E4D9-5F8F-4EFF-8EDC-2B1BF56AD60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016FD5-B2F3-436F-A103-73B87D56E91C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18F551-8127-4045-A6F4-0C8EF109AE6C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C8A91C-6C4A-45DB-A613-69C22E148DDC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57DDD5-90FE-4248-8ADA-F1E8B3CCCE0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D9429B-0043-4ACA-B58D-3CDA60B19D1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72D5A0-7C1B-4C23-8CFC-B5C41D6F2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342F-E9D0-4266-8ACE-BB473FFFD2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B16CD-0AD9-4C44-BAD4-17E63F3C06F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1681DA-C86B-47D4-99FA-A6DBFAAAEE7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CDC3D99-82B2-4BBA-A524-FBF1E6EC887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47C3FB5-05F1-4733-8E7B-8A1192184F0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14D708-7131-45B3-9BE7-22282809B4C1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A3B5014-0755-4D6D-BE07-A1A3CA183883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8A5B1AA-59F1-4635-8E26-290622EC426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8C9499-2BD6-4015-A442-C18629271683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B5C0947-9E6F-49E6-9E71-D40507110BD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B01A43B-1868-4F94-BA29-473B805C387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AAF883F-C504-442A-8F93-F6D3CF74D6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41FB9-DEC5-45D2-B035-E56DEA5B227D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0B9786-6D45-4B24-B4DD-84E1998BECE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1F88F85-BB6E-47A6-9E81-DEBD471AE8A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9E3094-8C5D-4C24-B20D-810B60EB3F8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53E00-A13D-43B4-A99D-D4D271A606E4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F7F37EC-C1FE-438F-AE5D-6201AF39A365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A09A206-90B3-4E3B-A959-80A49D1E1914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E837974-9BD2-4609-A87F-1A8B227B034C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FC988AA-A132-40C4-ADD6-D4501B009FD0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974EFCB-5A22-4D39-8D6E-30C50C611F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B174D-D45D-4A9B-BF36-C6F8711A25F3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4A9E822-EAD6-4154-BAB1-5D516874EEF8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11B7C3A-E99E-492E-933B-AC73EFFF06D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AFA66F7-2F47-45EA-BB06-A89627378328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253B620-DC45-4DC4-BC04-3E8885AF663B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9CC22E7-0070-4647-A0AA-4E2A5B3AF43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4DF4076-EA8A-4ED0-8CDD-74EB52BD404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9C6AA48-00A1-47C7-9CE1-98E5D5E18B0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83751A-7927-4FD4-8577-AB45B1806579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F3A242-5862-4F56-9365-BA91E64CFBEB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E0F706-DACC-4F35-BDD0-E5B54D230D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D9E58-7E9C-4ED7-8EC4-A512A4E1894C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9DA422-8538-4516-85B9-9D332861E888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22A49F-AEF8-48AA-9C27-0A5C2C62DEB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C6B714-F5F7-4131-BCFB-0B67094D6D05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430F23-F8C4-4136-A4E0-B227E5795665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A1DE75-4566-476E-9FE2-FCA1363DC9D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99CF66-A8F3-4E6B-86A8-683AC29CADB8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B0D962-12FB-451A-9E2C-DA3E1A87BF9C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4BBA0F-C054-4B1D-9361-549146ECAD1B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52B0A-E38A-4AD1-9668-D232C81D8CD1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16D1DD-8AA9-467F-A259-617D7D82C8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C161C-832B-4101-B64C-18C7DAE212B3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B790AFC-ADC8-499D-8ECB-D0E509AEA7DF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0FD093B-4F78-48B8-9011-6C206D1C18A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29238CE-DC1A-4311-AA85-0FAAAA29A13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D1573B1-B152-4F78-9300-868932FE9A7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202ABB8-5278-472E-A67C-F0B99BA2505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C6B6C5B-6330-44F7-8488-59CCE4716F4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970E7D8-1873-4352-AA82-36AE0F3C467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77675C3-2ECF-449D-8703-6D3279420E6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38E43E0-0154-4C81-90AF-8703E62AE435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C8B0318-A177-4E1B-98E2-C0AFBB30E6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18163-BC19-4164-A0C2-FCBA68B657B1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0518006-E799-4E04-ABB5-0F5CE02E271E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485A06A-33B9-4E90-AE9C-30CDB73CA73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CD907B7-F3E0-4D80-ABCB-7B0678741180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928651A-BB6A-4451-A836-DECCB70BE66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45920FB-471C-46D6-967F-8C5BE74D39B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763D69B-F913-4E48-BD42-71D844D1DF2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56D5618-7B03-477F-94F9-292D22140E8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DBC7BF2-A479-443B-AD8D-C34F6DA45D4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6E74A5D-00C4-4841-9B0D-F2304727453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8A149BA-C310-41C7-8427-71F080C31E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C69E9-4966-469F-A59B-7A1E54A62296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75B6790-E197-46E7-A276-BE76FD0679F3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66387BB-6C86-425D-8EBB-0EA7780E0D8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FA901DA-365A-45F6-892A-44A6056F919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374318-5A52-403D-BF0B-8C1ECC8ABB6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32D417-9C72-4704-92A8-06C43117FCF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80FAA2-0032-4E6A-868D-64D405F31890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223A8B-09BF-4379-A158-3E73C1B5339C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A76EA9-885E-465E-8F34-F4A4C021D46C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5C6E67-7E56-4F25-BAA4-19159F2374A3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5D2997-E866-4D2B-ADB5-25F9F7C5D7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0F817-082E-4EA3-B750-1D0AD689E4D9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9D7E97-D21B-4CA1-B03F-F02FC863E148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99B29C-1BDC-40C8-A1CE-75C7E18F7B0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EC296-6366-4F32-A06B-C9B93B7C968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BBF139-4CE8-47B8-A4E5-4A4EC84E15E5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5446B4-32A3-4A32-8A45-938437E8C1D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73E11A0-EC87-4D10-A6D5-3E30BD1B2FA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743EBB6-D655-4B60-9066-D483445DB61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B0B032C-549A-4478-9BAF-DEE0F849514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13A9CDF-4646-486D-B5DA-7986883B3501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BAC72C4-C969-4BF0-9CF6-7370FDC1FB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42ED2-7349-4160-BB1E-4B8082286E23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79D9B2-25F7-402C-92CF-0FF37F48AE30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3E2F645-B218-49BA-B3B0-05824CB5733E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79CCBEF-08E0-47C0-B89B-DF9B115382E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E357474-978C-43ED-BD7C-638E50558C7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0D97FA0-592F-4818-AB28-996C3BBC1F05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FE355C1-638B-408B-A82D-A4AB20899C0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CE0BB83-2D45-4BED-A1A0-E4C5653C66A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170CC23-0C7C-4E39-BC59-AB85F5FCBFA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52FC354-F9D8-4963-BF23-4F1D73B5153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8957F77-7899-4A18-B5B3-BBDCD4B0D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5963-7EE7-4395-AF12-7D81AD0F9E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434BE-E2AD-4E33-B8D2-13F7C52FFD5C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5A0313-7B6C-4C2D-AD1A-9BEACC58193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616BCC0-7552-4E57-96D0-CB91844D3215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3B4043E-D96F-4FC6-B122-764ED873E3C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2C09493-27D4-4443-9B74-860BD6A708C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AE76100-6F13-4B71-ACC6-403A848F842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3CBA6EA-A856-4F7F-8D71-01698FE41F6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1ECBDA1-10B1-4455-AE9D-D709F37A1A5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EB8DE05-452D-450E-937A-948B9E48406B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040B8B-CA4A-4D69-A2FD-C5036C4409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BB92C-093C-464C-BD89-667B5CAE8A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25BF5-C26F-417D-845E-68F54379A6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8F08-0DA6-4741-A007-A27851793B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CEC4-AA15-4F86-AD5D-D6EC93C5EB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75B1-E923-4506-A3F9-8544B748F1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F77E-9AD4-43D9-AA1F-BDD8E39E8C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B77A-315D-493E-A750-118BC54D0C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E516-FDEB-4D6E-8973-AD8507871B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CE21-7A0A-47BD-A1FF-F8E64CFE3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5050-8651-4A9A-9C3D-4E43C47A84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9B3F-0057-4609-9965-7D0EADDADA1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C38C-306C-4A33-9161-7350A923D5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49A8-7523-4322-B107-092F6F1DE3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F689-35F2-47B0-8906-0798620C6C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5E7A-1037-4EBA-BADE-CE3D59E0A8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0EC3-9B4B-448C-AAE8-52C39B3A13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2AD5F-7225-4CF4-B202-93115F90A4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F4E1A-1322-4440-A4D9-752008A80C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1E58A-1481-48AA-9651-51049D4F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lèche et barres"/>
          <p:cNvPicPr/>
          <p:nvPr/>
        </p:nvPicPr>
        <p:blipFill>
          <a:blip r:embed="rId2"/>
          <a:stretch/>
        </p:blipFill>
        <p:spPr>
          <a:xfrm>
            <a:off x="0" y="898560"/>
            <a:ext cx="998640" cy="74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87960" y="7226280"/>
            <a:ext cx="490680" cy="224280"/>
          </a:xfrm>
          <a:prstGeom prst="rect">
            <a:avLst/>
          </a:prstGeom>
          <a:solidFill>
            <a:srgbClr val="6a8c9d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7D37-A8A2-48EB-BED3-4FA39517118D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logo-2,5cm-+-ombre"/>
          <p:cNvPicPr/>
          <p:nvPr/>
        </p:nvPicPr>
        <p:blipFill>
          <a:blip r:embed="rId3"/>
          <a:stretch/>
        </p:blipFill>
        <p:spPr>
          <a:xfrm>
            <a:off x="8721720" y="65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Bandeau"/>
          <p:cNvPicPr/>
          <p:nvPr/>
        </p:nvPicPr>
        <p:blipFill>
          <a:blip r:embed="rId4"/>
          <a:stretch/>
        </p:blipFill>
        <p:spPr>
          <a:xfrm>
            <a:off x="0" y="0"/>
            <a:ext cx="5581800" cy="755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3421440" y="7323120"/>
            <a:ext cx="3143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Slid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3"/>
          </p:nvPr>
        </p:nvSpPr>
        <p:spPr>
          <a:xfrm>
            <a:off x="8168760" y="480600"/>
            <a:ext cx="43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BAF-7E06-4854-BA31-DB1241761511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1" descr="IMAGE-PAGE-DE-COUV2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EGOS_VOCATION_quad"/>
          <p:cNvPicPr/>
          <p:nvPr/>
        </p:nvPicPr>
        <p:blipFill>
          <a:blip r:embed="rId3"/>
          <a:stretch/>
        </p:blipFill>
        <p:spPr>
          <a:xfrm>
            <a:off x="3341520" y="6226200"/>
            <a:ext cx="3426120" cy="1044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AB6A-5B89-4565-94FB-F903DA2AF6D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1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1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FCBE-E986-40BA-A968-8D6EB4B0EE4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1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40C9-BE3E-49A0-B1A0-59C7F0CA135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3F16-1481-4E68-8F70-B47B2995F1A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B23-755B-4DED-9B10-CB1AF91CFB9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756-F00B-4364-8495-D628570DC44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ftr" idx="2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2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CB2-E6BE-475D-92D2-A96099A3F49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IMAGE-PAGE-DE-SS-TITRE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7040" y="4132440"/>
            <a:ext cx="5749920" cy="1258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b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673b1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673b15"/>
              </a:solidFill>
              <a:latin typeface="Verdana"/>
            </a:endParaRPr>
          </a:p>
        </p:txBody>
      </p:sp>
      <p:pic>
        <p:nvPicPr>
          <p:cNvPr id="46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47" name="SlideMasterXYZ"/>
          <p:cNvSpPr/>
          <p:nvPr/>
        </p:nvSpPr>
        <p:spPr>
          <a:xfrm rot="16200000">
            <a:off x="12600" y="541296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2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2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3CE9-B11A-46CF-917B-ECA3E34F2AD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3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3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191-4A49-4A03-BAF8-1C4CA51763B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B5ED-1616-48D8-AE72-017184C84B0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412-78D4-40A1-8E1F-F64A0B308C4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3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3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FE93-8838-4AFC-973F-32DE5DF1F25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3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3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7A40-DC99-4873-80BB-6FA6E183654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4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4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AB4F-9030-4F83-8BD1-5FE8B141778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4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4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E54-FDF7-459D-A078-E689AFA4A83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FCC-1313-4D74-94FE-FB6516B81585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4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45C8-06A4-4846-8127-8A9EEAEF4A0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4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4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D26-947C-4415-BF39-23BA8DA96E0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4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sldNum" idx="4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E207-E1AF-40BE-A4EA-B0CA8D3599F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5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5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2241-776E-40FE-B88A-A3F36665673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5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5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C98-AC15-4621-B361-78DCCEB7D7C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ftr" idx="5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sldNum" idx="5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EE7-41C5-4740-90BA-FB111D2848B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1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ftr" idx="5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5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82C-4578-45D2-9B66-5076A8B82CB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6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D9D-3298-4ABC-9B78-3B6B359DE68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ftr" idx="6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sldNum" idx="6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6DE-67E9-42F4-BDA6-CF29A729426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3" descr="Cegos-Image_6ter"/>
          <p:cNvPicPr/>
          <p:nvPr/>
        </p:nvPicPr>
        <p:blipFill>
          <a:blip r:embed="rId2"/>
          <a:stretch/>
        </p:blipFill>
        <p:spPr>
          <a:xfrm>
            <a:off x="0" y="2651040"/>
            <a:ext cx="9721800" cy="206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77840" y="1790280"/>
            <a:ext cx="5675400" cy="1258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d2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20000"/>
              </a:solidFill>
              <a:latin typeface="Arial Narrow"/>
            </a:endParaRPr>
          </a:p>
        </p:txBody>
      </p:sp>
      <p:pic>
        <p:nvPicPr>
          <p:cNvPr id="129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532480" y="5345280"/>
            <a:ext cx="3921120" cy="13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6440" indent="0"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2500200" y="4960800"/>
            <a:ext cx="2941920" cy="636840"/>
          </a:xfrm>
          <a:custGeom>
            <a:avLst/>
            <a:gdLst/>
            <a:ahLst/>
            <a:rect l="l" t="t" r="r" b="b"/>
            <a:pathLst>
              <a:path w="1853" h="401">
                <a:moveTo>
                  <a:pt x="0" y="0"/>
                </a:moveTo>
                <a:lnTo>
                  <a:pt x="1330" y="0"/>
                </a:lnTo>
                <a:lnTo>
                  <a:pt x="1328" y="401"/>
                </a:lnTo>
                <a:lnTo>
                  <a:pt x="1853" y="401"/>
                </a:lnTo>
              </a:path>
            </a:pathLst>
          </a:custGeom>
          <a:noFill/>
          <a:ln w="19080">
            <a:solidFill>
              <a:srgbClr val="00516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4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ftr" idx="6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sldNum" idx="6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EB7-EDBE-4A07-9D47-E15962FCF33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ftr" idx="6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sldNum" idx="6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441-6A3E-4AF3-A64C-8E9FE6FDABA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3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24A-F997-4E92-8328-B536CE6BC54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ftr" idx="6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sldNum" idx="6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7A8-B5ED-40C1-9B76-BB4259EEA82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8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ftr" idx="7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sldNum" idx="7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AEC-9984-4168-9DED-1193ECE3C49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0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ftr" idx="7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7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83D-BA37-417D-BA13-6F0E86297F3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4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 type="ftr" idx="7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 type="sldNum" idx="7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21A-F0CD-493D-9348-B2866099965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8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ftr" idx="7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sldNum" idx="7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BF0F-13F4-4B16-A8FD-77F48243CBB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3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ftr" idx="7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sldNum" idx="7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277-8BBD-46DD-B2CA-5D8EAEEBE8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5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4EA-ECDF-4668-BEE5-F4ED7958F71F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7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 type="ftr" idx="8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 type="sldNum" idx="8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03E-F7AF-48EA-B8C2-78289194220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ftr" idx="8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 type="sldNum" idx="8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FEA8-DBF9-4705-936C-23804DCFC9C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99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ftr" idx="8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sldNum" idx="8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934-E9AE-4726-A24B-3738D77C6DC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42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 type="ftr" idx="8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 type="sldNum" idx="8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D57B-F098-42AE-8849-D0BE3B5C327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85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ftr" idx="8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sldNum" idx="89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FD6-1543-43D4-939B-804127C8C90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28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9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91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75D-546A-4143-AB41-BC6C46A2769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7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 type="ftr" idx="9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 type="sldNum" idx="93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80B5-7EAD-44CF-B245-868D1F858CC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14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 type="ftr" idx="9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 type="sldNum" idx="9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D456-B4A6-4B95-BAC1-C918C526455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57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ftr" idx="9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sldNum" idx="9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AE4-9349-4AEE-998C-B5D58C55F0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7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9E16-8BEC-468E-9430-F346BCC2E523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9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EB86-9D83-4308-9FDB-6F38D5915285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57C-6D93-4AB7-AB3C-17E191332D17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19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2" name="Ellipse 9" descr=""/>
          <p:cNvPicPr/>
          <p:nvPr/>
        </p:nvPicPr>
        <p:blipFill>
          <a:blip r:embed="rId1"/>
          <a:stretch/>
        </p:blipFill>
        <p:spPr>
          <a:xfrm>
            <a:off x="7234200" y="4602240"/>
            <a:ext cx="2668680" cy="1639800"/>
          </a:xfrm>
          <a:prstGeom prst="rect">
            <a:avLst/>
          </a:prstGeom>
          <a:ln w="0">
            <a:noFill/>
          </a:ln>
        </p:spPr>
      </p:pic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Des objectifs </a:t>
            </a:r>
            <a:r>
              <a:rPr b="1" lang="fr-FR" sz="4200" spc="-1" strike="noStrike">
                <a:solidFill>
                  <a:srgbClr val="9e8464"/>
                </a:solidFill>
                <a:latin typeface="Wingdings"/>
                <a:ea typeface="Wingdings"/>
              </a:rPr>
              <a:t></a:t>
            </a: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24" name="Espace réservé du numéro de diapositive 3"/>
          <p:cNvSpPr/>
          <p:nvPr/>
        </p:nvSpPr>
        <p:spPr>
          <a:xfrm>
            <a:off x="7378560" y="7161120"/>
            <a:ext cx="226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050-724A-402C-AD2F-4340C7EE209E}" type="slidenum">
              <a:rPr b="0" lang="fr-F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5" name="Ellipse 4" descr=""/>
          <p:cNvPicPr/>
          <p:nvPr/>
        </p:nvPicPr>
        <p:blipFill>
          <a:blip r:embed="rId2"/>
          <a:stretch/>
        </p:blipFill>
        <p:spPr>
          <a:xfrm>
            <a:off x="403200" y="1914480"/>
            <a:ext cx="2530440" cy="1639800"/>
          </a:xfrm>
          <a:prstGeom prst="rect">
            <a:avLst/>
          </a:prstGeom>
          <a:ln w="0">
            <a:noFill/>
          </a:ln>
        </p:spPr>
      </p:pic>
      <p:sp>
        <p:nvSpPr>
          <p:cNvPr id="2526" name="Text Box 6"/>
          <p:cNvSpPr/>
          <p:nvPr/>
        </p:nvSpPr>
        <p:spPr>
          <a:xfrm>
            <a:off x="879480" y="2143080"/>
            <a:ext cx="1467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qué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7" name="Ellipse 5"/>
          <p:cNvGrpSpPr/>
          <p:nvPr/>
        </p:nvGrpSpPr>
        <p:grpSpPr>
          <a:xfrm>
            <a:off x="2719440" y="1925640"/>
            <a:ext cx="2333520" cy="1592280"/>
            <a:chOff x="2719440" y="1925640"/>
            <a:chExt cx="2333520" cy="1592280"/>
          </a:xfrm>
        </p:grpSpPr>
        <p:pic>
          <p:nvPicPr>
            <p:cNvPr id="2528" name="Ellipse 5" descr=""/>
            <p:cNvPicPr/>
            <p:nvPr/>
          </p:nvPicPr>
          <p:blipFill>
            <a:blip r:embed="rId3"/>
            <a:stretch/>
          </p:blipFill>
          <p:spPr>
            <a:xfrm>
              <a:off x="2719440" y="1925640"/>
              <a:ext cx="23335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3041640" y="2141640"/>
              <a:ext cx="13604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0" name="Ellipse 6"/>
          <p:cNvGrpSpPr/>
          <p:nvPr/>
        </p:nvGrpSpPr>
        <p:grpSpPr>
          <a:xfrm>
            <a:off x="4992840" y="1925640"/>
            <a:ext cx="2590560" cy="1592280"/>
            <a:chOff x="4992840" y="1925640"/>
            <a:chExt cx="2590560" cy="1592280"/>
          </a:xfrm>
        </p:grpSpPr>
        <p:pic>
          <p:nvPicPr>
            <p:cNvPr id="2531" name="Ellipse 6" descr=""/>
            <p:cNvPicPr/>
            <p:nvPr/>
          </p:nvPicPr>
          <p:blipFill>
            <a:blip r:embed="rId4"/>
            <a:stretch/>
          </p:blipFill>
          <p:spPr>
            <a:xfrm>
              <a:off x="4992840" y="1925640"/>
              <a:ext cx="25905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2" name=""/>
            <p:cNvSpPr/>
            <p:nvPr/>
          </p:nvSpPr>
          <p:spPr>
            <a:xfrm>
              <a:off x="5357880" y="2141640"/>
              <a:ext cx="1538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Informer, 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3" name="Ellipse 7"/>
          <p:cNvGrpSpPr/>
          <p:nvPr/>
        </p:nvGrpSpPr>
        <p:grpSpPr>
          <a:xfrm>
            <a:off x="201600" y="4681440"/>
            <a:ext cx="2511360" cy="1590840"/>
            <a:chOff x="201600" y="4681440"/>
            <a:chExt cx="2511360" cy="1590840"/>
          </a:xfrm>
        </p:grpSpPr>
        <p:pic>
          <p:nvPicPr>
            <p:cNvPr id="2534" name="Ellipse 7" descr=""/>
            <p:cNvPicPr/>
            <p:nvPr/>
          </p:nvPicPr>
          <p:blipFill>
            <a:blip r:embed="rId5"/>
            <a:stretch/>
          </p:blipFill>
          <p:spPr>
            <a:xfrm>
              <a:off x="201600" y="4681440"/>
              <a:ext cx="2511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"/>
            <p:cNvSpPr/>
            <p:nvPr/>
          </p:nvSpPr>
          <p:spPr>
            <a:xfrm>
              <a:off x="550800" y="4898880"/>
              <a:ext cx="148752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6" name="Group 16"/>
          <p:cNvGrpSpPr/>
          <p:nvPr/>
        </p:nvGrpSpPr>
        <p:grpSpPr>
          <a:xfrm>
            <a:off x="2563920" y="4672080"/>
            <a:ext cx="2528280" cy="1639440"/>
            <a:chOff x="2563920" y="4672080"/>
            <a:chExt cx="2528280" cy="1639440"/>
          </a:xfrm>
        </p:grpSpPr>
        <p:pic>
          <p:nvPicPr>
            <p:cNvPr id="2537" name="Ellipse 8" descr=""/>
            <p:cNvPicPr/>
            <p:nvPr/>
          </p:nvPicPr>
          <p:blipFill>
            <a:blip r:embed="rId6"/>
            <a:stretch/>
          </p:blipFill>
          <p:spPr>
            <a:xfrm>
              <a:off x="2563920" y="4672080"/>
              <a:ext cx="252828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Text Box 18"/>
            <p:cNvSpPr/>
            <p:nvPr/>
          </p:nvSpPr>
          <p:spPr>
            <a:xfrm>
              <a:off x="2869200" y="4899240"/>
              <a:ext cx="168480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Promouvo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9" name="Group 19"/>
          <p:cNvGrpSpPr/>
          <p:nvPr/>
        </p:nvGrpSpPr>
        <p:grpSpPr>
          <a:xfrm>
            <a:off x="4861080" y="4672080"/>
            <a:ext cx="2667960" cy="1639440"/>
            <a:chOff x="4861080" y="4672080"/>
            <a:chExt cx="2667960" cy="1639440"/>
          </a:xfrm>
        </p:grpSpPr>
        <p:pic>
          <p:nvPicPr>
            <p:cNvPr id="2540" name="Ellipse 9" descr=""/>
            <p:cNvPicPr/>
            <p:nvPr/>
          </p:nvPicPr>
          <p:blipFill>
            <a:blip r:embed="rId7"/>
            <a:stretch/>
          </p:blipFill>
          <p:spPr>
            <a:xfrm>
              <a:off x="4861080" y="4672080"/>
              <a:ext cx="266796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Text Box 21"/>
            <p:cNvSpPr/>
            <p:nvPr/>
          </p:nvSpPr>
          <p:spPr>
            <a:xfrm>
              <a:off x="5244120" y="4899240"/>
              <a:ext cx="15440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42" name="Ellipse 18" descr=""/>
          <p:cNvPicPr/>
          <p:nvPr/>
        </p:nvPicPr>
        <p:blipFill>
          <a:blip r:embed="rId8"/>
          <a:stretch/>
        </p:blipFill>
        <p:spPr>
          <a:xfrm>
            <a:off x="7238880" y="1914480"/>
            <a:ext cx="2111400" cy="1639800"/>
          </a:xfrm>
          <a:prstGeom prst="rect">
            <a:avLst/>
          </a:prstGeom>
          <a:ln w="0">
            <a:noFill/>
          </a:ln>
        </p:spPr>
      </p:pic>
      <p:sp>
        <p:nvSpPr>
          <p:cNvPr id="2543" name="Text Box 23"/>
          <p:cNvSpPr/>
          <p:nvPr/>
        </p:nvSpPr>
        <p:spPr>
          <a:xfrm>
            <a:off x="7388280" y="2143080"/>
            <a:ext cx="1612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4" name="Rectangle 11"/>
          <p:cNvSpPr/>
          <p:nvPr/>
        </p:nvSpPr>
        <p:spPr>
          <a:xfrm>
            <a:off x="0" y="6300720"/>
            <a:ext cx="9721800" cy="126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5" name="Text Box 28"/>
          <p:cNvSpPr/>
          <p:nvPr/>
        </p:nvSpPr>
        <p:spPr>
          <a:xfrm>
            <a:off x="7604280" y="4813200"/>
            <a:ext cx="1544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Des objectifs </a:t>
            </a:r>
            <a:r>
              <a:rPr b="0" lang="fr-FR" sz="4200" spc="-1" strike="noStrike">
                <a:solidFill>
                  <a:srgbClr val="6a8c9d"/>
                </a:solidFill>
                <a:latin typeface="Wingdings"/>
                <a:ea typeface="Wingdings"/>
              </a:rPr>
              <a:t></a:t>
            </a: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47" name="Ellipse 4"/>
          <p:cNvGrpSpPr/>
          <p:nvPr/>
        </p:nvGrpSpPr>
        <p:grpSpPr>
          <a:xfrm>
            <a:off x="281160" y="1889280"/>
            <a:ext cx="2481120" cy="1592280"/>
            <a:chOff x="281160" y="1889280"/>
            <a:chExt cx="2481120" cy="1592280"/>
          </a:xfrm>
        </p:grpSpPr>
        <p:pic>
          <p:nvPicPr>
            <p:cNvPr id="2548" name="Ellipse 4" descr=""/>
            <p:cNvPicPr/>
            <p:nvPr/>
          </p:nvPicPr>
          <p:blipFill>
            <a:blip r:embed="rId1"/>
            <a:stretch/>
          </p:blipFill>
          <p:spPr>
            <a:xfrm>
              <a:off x="281160" y="1889280"/>
              <a:ext cx="24811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9" name=""/>
            <p:cNvSpPr/>
            <p:nvPr/>
          </p:nvSpPr>
          <p:spPr>
            <a:xfrm>
              <a:off x="627120" y="2104920"/>
              <a:ext cx="1463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Conquér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0" name="Ellipse 5"/>
          <p:cNvGrpSpPr/>
          <p:nvPr/>
        </p:nvGrpSpPr>
        <p:grpSpPr>
          <a:xfrm>
            <a:off x="2646360" y="1925640"/>
            <a:ext cx="2406600" cy="1592280"/>
            <a:chOff x="2646360" y="1925640"/>
            <a:chExt cx="2406600" cy="1592280"/>
          </a:xfrm>
        </p:grpSpPr>
        <p:pic>
          <p:nvPicPr>
            <p:cNvPr id="2551" name="Ellipse 5" descr=""/>
            <p:cNvPicPr/>
            <p:nvPr/>
          </p:nvPicPr>
          <p:blipFill>
            <a:blip r:embed="rId2"/>
            <a:stretch/>
          </p:blipFill>
          <p:spPr>
            <a:xfrm>
              <a:off x="2646360" y="1925640"/>
              <a:ext cx="2406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2" name=""/>
            <p:cNvSpPr/>
            <p:nvPr/>
          </p:nvSpPr>
          <p:spPr>
            <a:xfrm>
              <a:off x="2979720" y="2141640"/>
              <a:ext cx="1411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3" name="Ellipse 6"/>
          <p:cNvGrpSpPr/>
          <p:nvPr/>
        </p:nvGrpSpPr>
        <p:grpSpPr>
          <a:xfrm>
            <a:off x="4870440" y="1725480"/>
            <a:ext cx="2567160" cy="1792440"/>
            <a:chOff x="4870440" y="1725480"/>
            <a:chExt cx="2567160" cy="1792440"/>
          </a:xfrm>
        </p:grpSpPr>
        <p:pic>
          <p:nvPicPr>
            <p:cNvPr id="2554" name="Ellipse 6" descr=""/>
            <p:cNvPicPr/>
            <p:nvPr/>
          </p:nvPicPr>
          <p:blipFill>
            <a:blip r:embed="rId3"/>
            <a:stretch/>
          </p:blipFill>
          <p:spPr>
            <a:xfrm>
              <a:off x="4870440" y="1725480"/>
              <a:ext cx="25671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5" name=""/>
            <p:cNvSpPr/>
            <p:nvPr/>
          </p:nvSpPr>
          <p:spPr>
            <a:xfrm>
              <a:off x="5229360" y="1969920"/>
              <a:ext cx="15224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Inform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6" name="Ellipse 7"/>
          <p:cNvGrpSpPr/>
          <p:nvPr/>
        </p:nvGrpSpPr>
        <p:grpSpPr>
          <a:xfrm>
            <a:off x="201600" y="4743360"/>
            <a:ext cx="2449440" cy="1596960"/>
            <a:chOff x="201600" y="4743360"/>
            <a:chExt cx="2449440" cy="1596960"/>
          </a:xfrm>
        </p:grpSpPr>
        <p:pic>
          <p:nvPicPr>
            <p:cNvPr id="2557" name="Ellipse 7" descr=""/>
            <p:cNvPicPr/>
            <p:nvPr/>
          </p:nvPicPr>
          <p:blipFill>
            <a:blip r:embed="rId4"/>
            <a:stretch/>
          </p:blipFill>
          <p:spPr>
            <a:xfrm>
              <a:off x="201600" y="4743360"/>
              <a:ext cx="2449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542880" y="4962600"/>
              <a:ext cx="14446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59" name="Ellipse 8" descr=""/>
          <p:cNvPicPr/>
          <p:nvPr/>
        </p:nvPicPr>
        <p:blipFill>
          <a:blip r:embed="rId5"/>
          <a:stretch/>
        </p:blipFill>
        <p:spPr>
          <a:xfrm>
            <a:off x="2868480" y="4672080"/>
            <a:ext cx="2068560" cy="1639800"/>
          </a:xfrm>
          <a:prstGeom prst="rect">
            <a:avLst/>
          </a:prstGeom>
          <a:ln w="0">
            <a:noFill/>
          </a:ln>
        </p:spPr>
      </p:pic>
      <p:sp>
        <p:nvSpPr>
          <p:cNvPr id="2560" name="Text Box 17"/>
          <p:cNvSpPr/>
          <p:nvPr/>
        </p:nvSpPr>
        <p:spPr>
          <a:xfrm>
            <a:off x="2876400" y="4892760"/>
            <a:ext cx="16797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romouvo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61" name="Ellipse 9"/>
          <p:cNvGrpSpPr/>
          <p:nvPr/>
        </p:nvGrpSpPr>
        <p:grpSpPr>
          <a:xfrm>
            <a:off x="4816440" y="4681440"/>
            <a:ext cx="2754360" cy="1590840"/>
            <a:chOff x="4816440" y="4681440"/>
            <a:chExt cx="2754360" cy="1590840"/>
          </a:xfrm>
        </p:grpSpPr>
        <p:pic>
          <p:nvPicPr>
            <p:cNvPr id="2562" name="Ellipse 9" descr=""/>
            <p:cNvPicPr/>
            <p:nvPr/>
          </p:nvPicPr>
          <p:blipFill>
            <a:blip r:embed="rId6"/>
            <a:stretch/>
          </p:blipFill>
          <p:spPr>
            <a:xfrm>
              <a:off x="4816440" y="4681440"/>
              <a:ext cx="2754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3" name=""/>
            <p:cNvSpPr/>
            <p:nvPr/>
          </p:nvSpPr>
          <p:spPr>
            <a:xfrm>
              <a:off x="5203800" y="4898880"/>
              <a:ext cx="1655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4" name="ZoneTexte 11"/>
          <p:cNvSpPr/>
          <p:nvPr/>
        </p:nvSpPr>
        <p:spPr>
          <a:xfrm>
            <a:off x="0" y="3192480"/>
            <a:ext cx="29750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férenc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ospection e-mai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arraina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nnu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5" name="ZoneTexte 12"/>
          <p:cNvSpPr/>
          <p:nvPr/>
        </p:nvSpPr>
        <p:spPr>
          <a:xfrm>
            <a:off x="2641680" y="3228840"/>
            <a:ext cx="2546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Optimiser la relation : e-mailing, newsletter, espace client, extra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ZoneTexte 13"/>
          <p:cNvSpPr/>
          <p:nvPr/>
        </p:nvSpPr>
        <p:spPr>
          <a:xfrm>
            <a:off x="5103720" y="32288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, site événementiel Newsletter, R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ZoneTexte 14"/>
          <p:cNvSpPr/>
          <p:nvPr/>
        </p:nvSpPr>
        <p:spPr>
          <a:xfrm>
            <a:off x="114480" y="6018120"/>
            <a:ext cx="2727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Newsletter, Jeux, Sondag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études, questionnaires, parrainag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ZoneTexte 15"/>
          <p:cNvSpPr/>
          <p:nvPr/>
        </p:nvSpPr>
        <p:spPr>
          <a:xfrm>
            <a:off x="2563920" y="6018120"/>
            <a:ext cx="2454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licitaires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Bannièr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ZoneTexte 16"/>
          <p:cNvSpPr/>
          <p:nvPr/>
        </p:nvSpPr>
        <p:spPr>
          <a:xfrm>
            <a:off x="5397480" y="6018120"/>
            <a:ext cx="17496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Forums, SAV, FAQ, Gérer la relation client via S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0" name="Ellipse 18" descr=""/>
          <p:cNvPicPr/>
          <p:nvPr/>
        </p:nvPicPr>
        <p:blipFill>
          <a:blip r:embed="rId7"/>
          <a:stretch/>
        </p:blipFill>
        <p:spPr>
          <a:xfrm>
            <a:off x="7238880" y="1785960"/>
            <a:ext cx="2519640" cy="1969920"/>
          </a:xfrm>
          <a:prstGeom prst="rect">
            <a:avLst/>
          </a:prstGeom>
          <a:ln w="0">
            <a:noFill/>
          </a:ln>
        </p:spPr>
      </p:pic>
      <p:sp>
        <p:nvSpPr>
          <p:cNvPr id="2571" name="Text Box 28"/>
          <p:cNvSpPr/>
          <p:nvPr/>
        </p:nvSpPr>
        <p:spPr>
          <a:xfrm>
            <a:off x="7534440" y="2143080"/>
            <a:ext cx="1460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ZoneTexte 19"/>
          <p:cNvSpPr/>
          <p:nvPr/>
        </p:nvSpPr>
        <p:spPr>
          <a:xfrm>
            <a:off x="7066080" y="3228840"/>
            <a:ext cx="23889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uzz, Marketing vi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unauté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ums, chats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éseaux sociaux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log seeding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3" name="Ellipse 9"/>
          <p:cNvGrpSpPr/>
          <p:nvPr/>
        </p:nvGrpSpPr>
        <p:grpSpPr>
          <a:xfrm>
            <a:off x="7321680" y="4664160"/>
            <a:ext cx="2547720" cy="1590480"/>
            <a:chOff x="7321680" y="4664160"/>
            <a:chExt cx="2547720" cy="1590480"/>
          </a:xfrm>
        </p:grpSpPr>
        <p:pic>
          <p:nvPicPr>
            <p:cNvPr id="2574" name="Ellipse 9" descr=""/>
            <p:cNvPicPr/>
            <p:nvPr/>
          </p:nvPicPr>
          <p:blipFill>
            <a:blip r:embed="rId8"/>
            <a:stretch/>
          </p:blipFill>
          <p:spPr>
            <a:xfrm>
              <a:off x="7321680" y="4664160"/>
              <a:ext cx="2547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5" name=""/>
            <p:cNvSpPr/>
            <p:nvPr/>
          </p:nvSpPr>
          <p:spPr>
            <a:xfrm>
              <a:off x="7678800" y="4881600"/>
              <a:ext cx="15080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Vendr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6" name="ZoneTexte 16"/>
          <p:cNvSpPr/>
          <p:nvPr/>
        </p:nvSpPr>
        <p:spPr>
          <a:xfrm>
            <a:off x="7629480" y="59612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 e-comme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mparateu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8:31Z</dcterms:created>
  <dc:creator/>
  <dc:description/>
  <dc:language>en-US</dc:language>
  <cp:lastModifiedBy/>
  <dcterms:modified xsi:type="dcterms:W3CDTF">2014-11-23T15:59:22Z</dcterms:modified>
  <cp:revision>1</cp:revision>
  <dc:subject/>
  <dc:title/>
</cp:coreProperties>
</file>