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41C8-34DD-4DFA-9EBE-C00A3DEA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B716-F06F-48A3-B8AA-FA923070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00F9-761F-4965-AAE0-43742F405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8146-CB33-4FE8-8F34-23331D486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7A45-AA40-43AB-B213-6ACC49B8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2F37-6D7F-4DA3-9FC7-660864E7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6D2E-7AD4-4470-B73E-16F2DB32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3CEA-166A-4A3B-90F7-2E4863CF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A5FE-A934-4372-A87F-2CD37167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91FF-C8CC-4347-9950-01F0D0FF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5EE5-0AFE-4624-9B47-17A33082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2D71-A24D-4362-987B-EB9FA576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1B2F-4E69-44BC-8AD4-44A78E54C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8120" y="13716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440" y="13716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15000" y="1371600"/>
            <a:ext cx="379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4120" y="13716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371600"/>
            <a:ext cx="381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0574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1148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7432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20574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7432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41148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34290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20574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2057400"/>
            <a:ext cx="381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41148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34290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7432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20574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2057400"/>
            <a:ext cx="379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440" y="20574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924680" y="20574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924680" y="34290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924680" y="27432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440" y="27432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2743200"/>
            <a:ext cx="379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2743200"/>
            <a:ext cx="381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4120" y="27432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3429000"/>
            <a:ext cx="381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924680" y="41148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15000" y="3429000"/>
            <a:ext cx="379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440" y="41148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440" y="34290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4120" y="41148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4120" y="34290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4114800"/>
            <a:ext cx="381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4114800"/>
            <a:ext cx="379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33520"/>
            <a:ext cx="3048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ctions prév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13716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533520"/>
            <a:ext cx="114156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440" y="533520"/>
            <a:ext cx="3811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ctions à entreprend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48006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54864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1722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48006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54864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48006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4864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61722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924680" y="48006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440" y="48006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48006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800600"/>
            <a:ext cx="381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800600"/>
            <a:ext cx="379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924680" y="54864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440" y="54864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54864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5486400"/>
            <a:ext cx="381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15000" y="5486400"/>
            <a:ext cx="379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924680" y="61722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440" y="61722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61722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24680" y="13716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BLEAU DES AL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3716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13716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13716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91440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91440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914400"/>
            <a:ext cx="3794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533520"/>
            <a:ext cx="3808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533520"/>
            <a:ext cx="11415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mp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440" y="914400"/>
            <a:ext cx="1830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é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914400"/>
            <a:ext cx="19814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é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533520"/>
            <a:ext cx="15238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lé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ossi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6-08-03T09:25:16Z</dcterms:modified>
  <cp:revision>71</cp:revision>
  <dc:subject/>
  <dc:title>Contrôle interne des risques</dc:title>
</cp:coreProperties>
</file>