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5243-3A4A-403E-8629-71EB490F7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3F67-BA27-4AD3-AC34-4CC25F007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8765-BE9C-4DB7-8DB2-E41A3DEBE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D71D-AA7A-4B48-B34E-8F082EC94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295D-D2AC-40BD-97E8-33DE34D5B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EF20-9A70-44A9-9284-9766EDB1B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C39E-8540-4588-9B27-AB9993326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8EBD-D318-409A-B787-C7F7DB1CA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1D66-AB89-40E2-82A2-E76356E0C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EF54-D7F3-4536-9DAA-429205DE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DAC9-D60C-4DD5-B174-FAEB82D9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7E86-5E3C-4BD1-8A64-46EE46F2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9BAD2-420D-4F6F-9F72-097B42E80E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061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ARTE DES FORCES EN PRE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49440" y="1600200"/>
            <a:ext cx="11253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dhé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99600" y="2747880"/>
            <a:ext cx="14331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oopé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162920" y="4572000"/>
            <a:ext cx="17524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408640" y="4572000"/>
            <a:ext cx="1754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05120" y="4572000"/>
            <a:ext cx="17524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657600" y="4572000"/>
            <a:ext cx="17510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162920" y="1143000"/>
            <a:ext cx="17524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162920" y="2286000"/>
            <a:ext cx="17524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08640" y="3429000"/>
            <a:ext cx="1754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162920" y="3429000"/>
            <a:ext cx="17524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657600" y="3429000"/>
            <a:ext cx="17510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657600" y="2286000"/>
            <a:ext cx="17510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57600" y="1143000"/>
            <a:ext cx="17510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08640" y="1143000"/>
            <a:ext cx="1754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08640" y="2286000"/>
            <a:ext cx="1754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05120" y="3429000"/>
            <a:ext cx="17524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5120" y="2286000"/>
            <a:ext cx="17524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05120" y="1143000"/>
            <a:ext cx="17524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905120" y="1143000"/>
            <a:ext cx="701028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45640" y="3809880"/>
            <a:ext cx="9043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ntérê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31880" y="4957920"/>
            <a:ext cx="10843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assivit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073240" y="5943600"/>
            <a:ext cx="13921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oncili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86000" y="5948280"/>
            <a:ext cx="9990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rit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585400" y="5948280"/>
            <a:ext cx="1297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Op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528680" y="5948280"/>
            <a:ext cx="10494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Hostilit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906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enri-Pierre Maders, Jean-Luc Masselin</dc:creator>
  <dc:description/>
  <dc:language>en-US</dc:language>
  <cp:lastModifiedBy>rochas</cp:lastModifiedBy>
  <cp:lastPrinted>2000-05-11T10:17:14Z</cp:lastPrinted>
  <dcterms:modified xsi:type="dcterms:W3CDTF">2004-04-01T13:36:16Z</dcterms:modified>
  <cp:revision>72</cp:revision>
  <dc:subject/>
  <dc:title>Contrôle interne des risques</dc:title>
</cp:coreProperties>
</file>