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18F-8475-4722-863D-ECB40ABF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8C42-D177-4366-8938-7003318C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2B7-087C-4AD5-A465-5BFBC0EA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CC2-2003-495D-A8FB-BADF122B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5B6-2320-4DC9-9EDD-0372F87D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F28-B950-441C-86B7-30B1FEDA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028-12B1-4F29-A505-7F6B2CDC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865-7BC8-420A-98A8-EBEFE958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721-3A1A-45BD-BFBF-48AF6609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A10-7D1B-44B0-9033-37A572E6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86C-9791-49EA-86A6-7689E104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F14-C203-4644-BC2E-79CF27E9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F740-3FF0-4A45-85D5-3322C8307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00" y="83808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S A COLLE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080" y="4495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and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" y="3276720"/>
            <a:ext cx="5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ù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o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9568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3520"/>
            <a:ext cx="7696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i ? Quoi ? Où ? Quand ? 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533520"/>
            <a:ext cx="2133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bie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8380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205740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327672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44956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571500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8080" y="5715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0:06Z</dcterms:modified>
  <cp:revision>70</cp:revision>
  <dc:subject/>
  <dc:title>Contrôle interne des risques</dc:title>
</cp:coreProperties>
</file>