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140-15A6-4E46-91F2-9EE10885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7D9-B965-4E31-A65C-21C94F35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87B-724A-4941-9F98-4033CEEF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A9F-3ED7-4DCB-BBAE-19F320CF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1E4-CE8B-40CC-B687-2DC4D61B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685-FBAC-402D-A917-BC9059BE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BBB-B677-4959-A78B-59385741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3DF-14EF-49E2-809A-F5684BDE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8A75-A51D-4F77-BD92-AD66C1B0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263-2794-45EB-B6E0-CED23E3C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021D-405F-4491-B532-7C5CC662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63B-6D20-4571-8B4C-1968AEED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97A4-53D6-4FD7-9D18-F7842F790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28800"/>
            <a:ext cx="6934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69343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69343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52560" y="53352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 princip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0320" y="1828800"/>
            <a:ext cx="20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(s) secondaire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5280" y="3657600"/>
            <a:ext cx="171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(s) d’es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ALYSE FONCTIONNELLE – RIS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952880"/>
            <a:ext cx="6934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traintes inte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867280"/>
            <a:ext cx="69343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traintes exte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533520"/>
            <a:ext cx="289584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18288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3657600"/>
            <a:ext cx="28958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952880"/>
            <a:ext cx="2895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5867280"/>
            <a:ext cx="28958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85440" y="53352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85440" y="182880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85440" y="49528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85440" y="365760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5440" y="58672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2:50Z</dcterms:modified>
  <cp:revision>71</cp:revision>
  <dc:subject/>
  <dc:title>Contrôle interne des risques</dc:title>
</cp:coreProperties>
</file>