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EEA-9356-4FFF-81A4-77E4534D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98D-D76A-4709-BF90-3115D907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471-623E-433B-8BA0-CB6CFDDD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B2F-096B-4A99-A598-56A16748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60F-8CD2-42E4-B15C-7D6E17B5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9D9-B1B6-4C65-B6C2-7C710814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243-AA74-4EA3-BBB8-A597E529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3FF-A3D8-4A6A-8C8A-344502A1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3E7-9715-462E-8C3A-C1276DE3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AC63-E560-49B2-BB01-17C6A5E9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6F7-1459-484D-B1A7-359E5F40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A5F-6AE2-4036-920E-A5527A5B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B5E2-167B-431D-BFD1-8319C366B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’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0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01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1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0" y="53352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63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7242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4100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81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952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386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24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4100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81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952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6386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0" y="1219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763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63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6324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58672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763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63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763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0" y="5410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0" y="5638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63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763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0" y="5181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63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0" y="4952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0" y="47242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352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à réali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0" y="4727520"/>
            <a:ext cx="15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ersonnes concer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8672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095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0" y="6094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J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0" y="6095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0" y="662940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30600" y="4952880"/>
            <a:ext cx="87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nsul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600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01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1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0" y="1600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763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981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0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0" y="1981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63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362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1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0" y="2362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763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743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0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1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0" y="2743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63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124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0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0" y="3124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3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505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01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1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0" y="3505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763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886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01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1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15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38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0" y="3886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763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267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4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0" y="4267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62940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mité de pilotage (X) dans les cases correspond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</dc:creator>
  <dc:description/>
  <dc:language>en-US</dc:language>
  <cp:lastModifiedBy>rochas</cp:lastModifiedBy>
  <cp:lastPrinted>2000-05-11T10:17:14Z</cp:lastPrinted>
  <dcterms:modified xsi:type="dcterms:W3CDTF">2004-04-01T13:42:18Z</dcterms:modified>
  <cp:revision>70</cp:revision>
  <dc:subject/>
  <dc:title>Contrôle interne des risques</dc:title>
</cp:coreProperties>
</file>