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A9C-58DA-49BB-A6DC-81263D88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A61-F3C8-4A56-9E7F-753BE0B6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F68-4585-47D7-927E-D13BD20E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2F3-02BB-4B0A-8BA3-42389CF6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236-E081-401C-8BE0-963B8C35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FFA-C223-4134-96EB-0A5138A1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D8C-5711-4E97-BAB4-94D3F3CC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45D-0D11-4091-BFBD-381329BC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81E-8B07-4675-A8B1-9A6ED15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A8F-5BF6-4A90-8826-A6FA48A7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280-5984-4450-993D-3341442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217-2C48-4582-AB8B-21B052C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EB11-809B-47F6-962E-C5DEECFE3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800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800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4114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4114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4290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34290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743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743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685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685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es/Mo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371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1371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1:27Z</dcterms:modified>
  <cp:revision>71</cp:revision>
  <dc:subject/>
  <dc:title>Contrôle interne des risques</dc:title>
</cp:coreProperties>
</file>