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AB42-FCA8-47F0-BE45-529E6FD1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D65A-B1B8-4084-BEF5-7C6AD814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2C7-F1D5-4A6B-8FD5-996A8757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AB7-2CF0-48C0-92B3-EA4F7E4F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947-47B5-4E3D-AD7A-A23EDCE5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CC2E-ABB6-4881-A698-FE17F10C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295-3461-47E0-AF9B-AFE134B7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BAC-FBFD-40CD-B188-704EAB92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045-B102-4433-8B0F-10514A3A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8DA-0B4E-456A-A127-D37DE323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749-0372-4DBA-BD04-7FB88626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126-21E4-4D75-89F8-69982CBF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7ABC-C5ED-43BE-A32F-B3D153FF8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5024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502480" y="0"/>
            <a:ext cx="14036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84720" y="838080"/>
            <a:ext cx="12380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1160" y="838080"/>
            <a:ext cx="13208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2760" y="838080"/>
            <a:ext cx="123840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82000" y="838080"/>
            <a:ext cx="132048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02480" y="838080"/>
            <a:ext cx="14036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838080"/>
            <a:ext cx="14036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198108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82000" y="380880"/>
            <a:ext cx="13204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02480" y="380880"/>
            <a:ext cx="14036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1160" y="380880"/>
            <a:ext cx="13208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22760" y="380880"/>
            <a:ext cx="12384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84720" y="380880"/>
            <a:ext cx="1238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380880"/>
            <a:ext cx="14036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80880"/>
            <a:ext cx="1981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3000" y="45720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3:55Z</dcterms:modified>
  <cp:revision>71</cp:revision>
  <dc:subject/>
  <dc:title>Contrôle interne des risques</dc:title>
</cp:coreProperties>
</file>