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D11-D8C5-451C-B7CB-C1F57217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026-81A5-4F9B-A7C6-59C5080A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A8E-AF94-49A0-8857-C1E233B1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032-55D7-4A7D-A378-D97B0956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475-6031-4754-9F05-83CF72F5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8B9-5FB8-4DD5-BE1C-FCF6792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579-2E59-4D92-A9D7-F85E28A2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27D-C324-4CAC-B4CC-37F05C4E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957-2909-49E2-9AEA-A11197A3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ABA-0B90-4147-9E69-BE5002F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A02-A1C7-47E0-AB69-7B12151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AA9-E6CE-450A-9D29-8EE4CB4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82B-D4CD-49A5-8F47-59B28200C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906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906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8080" y="53352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ème de la ré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0" y="1828800"/>
            <a:ext cx="50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bjectif de la réunion (résultat à atteindre à la fin de la réu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720" y="2971800"/>
            <a:ext cx="70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 de la réunion (animateur, rapporteur, points abordés, durée de chaque séquence,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CHE DE PREPARATION DE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8:21Z</dcterms:modified>
  <cp:revision>71</cp:revision>
  <dc:subject/>
  <dc:title>Contrôle interne des risques</dc:title>
</cp:coreProperties>
</file>