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9F0-70E2-40E9-BB7B-6F43E6FE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0DF-F304-4BA7-B73B-A2FE0911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02B-56C9-473F-839C-D347B514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68C-B2CC-4FB2-8620-1434793B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29E-F82A-4588-ABD6-3595B52B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42D-5790-47D9-B5DA-D6E30890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B10-E078-4F4C-8E27-A6C45C1E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DD6-D8E5-4A43-ABDB-5A313FD4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E4A-CABD-47D7-9C6F-21BBC983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BDA-A9BF-4BEC-BACC-427A09A6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154-638F-4DA0-8D3B-85B7F9F2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5795-B352-442C-A620-F996D713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D540-00A0-4416-9835-A39D5F7DD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U CONTRÔL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61722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54864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00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48006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343400"/>
            <a:ext cx="9906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rôles au second degré (audit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5812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35812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35812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35812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954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8954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28954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8954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096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22096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2096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22096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066680"/>
            <a:ext cx="9906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rôles au premier degré (opérationn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1676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ture du ris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685800"/>
            <a:ext cx="1676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esponsable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685800"/>
            <a:ext cx="1981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odalités prat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685800"/>
            <a:ext cx="2438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estinataires des résultats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685800"/>
            <a:ext cx="2133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réquence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581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8954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2209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5486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800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6172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38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5238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15238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15238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1523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8:28Z</dcterms:modified>
  <cp:revision>70</cp:revision>
  <dc:subject/>
  <dc:title>Contrôle interne des risques</dc:title>
</cp:coreProperties>
</file>