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F8A-AE2F-4264-BBC6-505C3A90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9EC-6F14-4B30-85FB-2F7630C9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56F-8AFB-4F73-AB77-9DAE395F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EB9-F5D4-44FB-8271-00316F4E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13D-D386-4719-91ED-AF5D7A07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C2B-087D-4D05-A85B-8377611F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F6B-36E7-4761-A594-255EA772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1FC-47D3-45D5-A75B-5A074108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AB5-3224-4107-9366-2802664F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219-84C7-44B8-B3FB-2C2F0E9E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791-1DA5-425C-B1B5-56BEF1D6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DB2-49F7-4AC6-B98A-5124D7BF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B19B-8453-4CE9-A3D3-05CEA9D05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1680"/>
            <a:ext cx="9906120" cy="74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71600"/>
            <a:ext cx="990612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90612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772080"/>
            <a:ext cx="9906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58040"/>
            <a:ext cx="308124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92480" y="6458040"/>
            <a:ext cx="352116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24520" y="6458040"/>
            <a:ext cx="308160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71960"/>
            <a:ext cx="99061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906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716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ype de risque identifi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UILLE DE RI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aits consta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432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uses explic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720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séquences réelles ou pos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196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comma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58040"/>
            <a:ext cx="30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audi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92480" y="6458040"/>
            <a:ext cx="35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Chef de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24520" y="6458040"/>
            <a:ext cx="308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Directeur géné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. Anto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7:19Z</dcterms:modified>
  <cp:revision>70</cp:revision>
  <dc:subject/>
  <dc:title>Contrôle interne des risques</dc:title>
</cp:coreProperties>
</file>