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BA4-3832-48F0-9828-E1FE3128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C6C-0713-4818-877E-973BA411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316-8B8C-43C4-B1C0-047689FA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D78-0203-4EF0-BB03-9671D240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2AC-4EDC-476D-8BC9-81DCFD89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E21-FE34-477F-84E3-736FD157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3352-05B4-46B8-92A2-D1FD1C8E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442-B425-4192-9C0A-2F850C5D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EDF-8978-4AC5-83B3-83968D20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24E-EC9D-467C-97FD-C68E8DA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38B-5976-4629-BA07-97040476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BB0-8C10-4348-8850-C6C1DBA3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FB1A-667B-4D03-B560-3E4A4AF2F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75720" y="5859360"/>
            <a:ext cx="3952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tâch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9560" y="1438200"/>
            <a:ext cx="5924880" cy="397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63800" y="5859360"/>
            <a:ext cx="498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support d’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9560" y="549360"/>
            <a:ext cx="5924880" cy="49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72840" y="5859360"/>
            <a:ext cx="395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Exemple de symboles de flow-chart – Symboles de liais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06640" y="728640"/>
            <a:ext cx="5133960" cy="494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3:09Z</dcterms:modified>
  <cp:revision>79</cp:revision>
  <dc:subject/>
  <dc:title>Présentation PowerPoint</dc:title>
</cp:coreProperties>
</file>