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5251-6A6E-43C3-89FD-E3C9E12BF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1F42-1C69-48A8-A309-A597F14DC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C917-0CDF-4DB0-995F-C4BD425A6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9323-5D54-4DA6-8C26-56D416801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BA21-6BFC-481D-B1A3-805BB6C13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85BE-5834-40BF-BA2B-3438F1E9B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1495-D324-4043-B725-F87D753A2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CFCD-C47B-4B77-9F2C-C289DC81B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A4E8-227C-4A85-AC2C-F9C65C9B8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4136-ACF1-4E4F-8F2C-1E8632BB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90C7-A5B5-486E-A422-56EAD4E8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3B85-1842-4A02-8463-62DF4971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94978-7D2D-4630-89AB-D4902C6F0E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828800"/>
            <a:ext cx="69343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533520"/>
            <a:ext cx="693432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657600"/>
            <a:ext cx="69343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-52560" y="53352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Fonction princip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0320" y="1828800"/>
            <a:ext cx="207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Fonction(s) secondaire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35280" y="3657600"/>
            <a:ext cx="171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Fonction(s) d’es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906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ALYSE FONCTIONNELLE – RIS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952880"/>
            <a:ext cx="69343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ontraintes inter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5867280"/>
            <a:ext cx="69343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ontraintes exter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010280" y="533520"/>
            <a:ext cx="289584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010280" y="1828800"/>
            <a:ext cx="28958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010280" y="3657600"/>
            <a:ext cx="289584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4952880"/>
            <a:ext cx="289584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5867280"/>
            <a:ext cx="289584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985440" y="533520"/>
            <a:ext cx="76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Ris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85440" y="1828800"/>
            <a:ext cx="76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Ris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85440" y="4952880"/>
            <a:ext cx="76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Ris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985440" y="3657600"/>
            <a:ext cx="76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Ris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85440" y="5867280"/>
            <a:ext cx="76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Ris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enri-Pierre Maders, Jean-Luc Masselin</dc:creator>
  <dc:description/>
  <dc:language>en-US</dc:language>
  <cp:lastModifiedBy>rochas</cp:lastModifiedBy>
  <cp:lastPrinted>2000-05-11T10:17:14Z</cp:lastPrinted>
  <dcterms:modified xsi:type="dcterms:W3CDTF">2004-04-01T13:32:50Z</dcterms:modified>
  <cp:revision>71</cp:revision>
  <dc:subject/>
  <dc:title>Contrôle interne des risques</dc:title>
</cp:coreProperties>
</file>