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C619-E51F-4D8C-B7D0-10EC3AB5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32E-4A90-45AC-9CAC-B43FB436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22B-9484-44F7-9DA4-D2C0AC50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826-D7C7-409B-917B-BC77B49F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6BB7-A1F3-42AB-812D-567EA152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583-09A4-4CB9-A085-6A2FA233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B12-FDBE-43B7-8361-3762F8B3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668-087B-4E84-BC01-FEC49BC6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576-51FB-44B3-ACBF-817CC958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D3F-875D-400C-9534-5B7B0341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CD17-BBDB-46AE-A1DC-9CC70C52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15C-A235-4972-B1AB-AEC7A71E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ACC5-19BD-46C7-AF98-25A41DF2E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BLEAU DU CONTRÔLE IN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61722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61722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54864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480060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480060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4343400"/>
            <a:ext cx="9906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rôles au second degré (audit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5812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35812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35812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35812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8954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28954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28954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8954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2096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22096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22096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22096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066680"/>
            <a:ext cx="9906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trôles au premier degré (opérationn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5800"/>
            <a:ext cx="1676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ature du ris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685800"/>
            <a:ext cx="1676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esponsable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685800"/>
            <a:ext cx="1981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odalités prati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685800"/>
            <a:ext cx="2438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estinataires des résultats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685800"/>
            <a:ext cx="2133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réquence du contrô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3581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28954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4120" y="22096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54864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8006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617220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52388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152388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1523880"/>
            <a:ext cx="1981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15238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15238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8:28Z</dcterms:modified>
  <cp:revision>70</cp:revision>
  <dc:subject/>
  <dc:title>Contrôle interne des risques</dc:title>
</cp:coreProperties>
</file>