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0E05-65AC-49FA-B124-9958A96A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0C3-15E7-440C-9E93-DD944D26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2C2A-578C-461F-8B2D-C247C462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C1BF-D711-4A1A-9A63-D7E9AF87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BDC4-7FB0-4423-A5B1-D81C7D36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E1E-0AD9-44A9-81C0-26164ED7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0D63-4B25-4618-A7C4-B4F36736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155A-6F81-4FA0-8F86-2B1F5D4B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CDE-2960-46CB-9BF8-53B96289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20B-0CF6-4207-80AC-F8FED574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8A0-E425-4ADE-AA31-AF4B9638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13C-9994-437D-B403-14D5D249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3183-DBA9-4777-94EE-50B11A59F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75720" y="5859360"/>
            <a:ext cx="3952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Exemple de symboles de flow-chart – Symboles de tâch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9560" y="1438200"/>
            <a:ext cx="5924880" cy="397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63800" y="5859360"/>
            <a:ext cx="498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Exemple de symboles de flow-chart – Symboles de support d’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9560" y="549360"/>
            <a:ext cx="5924880" cy="493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72840" y="5859360"/>
            <a:ext cx="3955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Exemple de symboles de flow-chart – Symboles de liais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6640" y="728640"/>
            <a:ext cx="5133960" cy="494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02:01Z</dcterms:created>
  <dc:creator>HPM</dc:creator>
  <dc:description/>
  <dc:language>en-US</dc:language>
  <cp:lastModifiedBy>rochas</cp:lastModifiedBy>
  <dcterms:modified xsi:type="dcterms:W3CDTF">2006-08-03T09:13:09Z</dcterms:modified>
  <cp:revision>79</cp:revision>
  <dc:subject/>
  <dc:title>Présentation PowerPoint</dc:title>
</cp:coreProperties>
</file>