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357-D347-4B24-9E43-4D717F6C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1C3-5C39-4DDF-BE8D-E8841FA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610-191E-4DFE-992C-51BF0C57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F5F-8000-4927-813D-5DD35580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04E-0215-44E7-8E7E-7384ADB9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09A-6635-477C-8B92-86273606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64C-EA9A-4467-91FE-0BC7262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D0F-7B26-44CE-B59F-E82EE1D2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B31-5E07-43C8-8BF5-D29D080B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2F1-C524-4FF0-B009-91CB92B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33E-4832-4633-861E-5D9ECD3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9F30-9C7A-44CF-9CC8-B8001B62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D89-EFA5-44A6-9960-6ED3F8D57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5024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02480" y="0"/>
            <a:ext cx="14036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84720" y="838080"/>
            <a:ext cx="12380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1160" y="838080"/>
            <a:ext cx="13208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838080"/>
            <a:ext cx="123840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82000" y="838080"/>
            <a:ext cx="13204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5024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838080"/>
            <a:ext cx="140364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1981080" cy="6019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82000" y="380880"/>
            <a:ext cx="13204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5024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1160" y="380880"/>
            <a:ext cx="13208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22760" y="380880"/>
            <a:ext cx="123840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80880"/>
            <a:ext cx="1238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380880"/>
            <a:ext cx="1403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80880"/>
            <a:ext cx="1981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3000" y="45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3:55Z</dcterms:modified>
  <cp:revision>71</cp:revision>
  <dc:subject/>
  <dc:title>Contrôle interne des risques</dc:title>
</cp:coreProperties>
</file>