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DD6-F913-4E2B-8977-3C153227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805-202E-4CBB-A876-D94BD498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613-3B92-44AD-8870-1A1FA5DE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BC3-44B9-4807-9585-296C05CB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8A6-6D2E-42B0-8EBF-1B65CCF4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0E0-C44C-4E57-8651-3B07813D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1C1-2807-4B0B-B566-7EB7A2DB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0F1-AFA2-4DAC-A6FD-523171D1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D40-022D-4BB2-9ED9-3A9E938E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694-257D-4C4E-9473-4214EE1B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720-ACF0-432F-B673-A4E94B43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D8D-4D1B-4957-B84D-3DADE9FA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A2E9-288A-417F-A0E6-59BE282F1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76520" y="317520"/>
            <a:ext cx="5486400" cy="5613480"/>
            <a:chOff x="1676520" y="317520"/>
            <a:chExt cx="5486400" cy="5613480"/>
          </a:xfrm>
        </p:grpSpPr>
        <p:sp>
          <p:nvSpPr>
            <p:cNvPr id="42" name=""/>
            <p:cNvSpPr/>
            <p:nvPr/>
          </p:nvSpPr>
          <p:spPr>
            <a:xfrm>
              <a:off x="1676520" y="1003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BJECTIF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819520" y="1003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'assurer que 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réglementation est respectée (affichage de la tarificatio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e plan d'affichage défini est mis en oeuv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la P.L.V. est actualis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6520" y="198432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TURE DES RIS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19520" y="198432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respect de la réglemen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usion d'une information périmée ou erroné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Affichage incohérent par rapport aux actions commerciales en co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2971800"/>
              <a:ext cx="11430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PPORTS DE CONTRO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2971800"/>
              <a:ext cx="4343400" cy="987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 Affiches Conditions Génér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ffiches et P.L.V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 Communiqués Publicité du développ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6520" y="3952800"/>
              <a:ext cx="11430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OLES POSSIBLES A EFFECTU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19520" y="3952800"/>
              <a:ext cx="4343400" cy="19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ôler la présence dans les locaux accessibles au public de l'affiche Conditions Générales (avec tarifs à jou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Veiller à la présence des moyens nécessaires à l'affichage et à la P.L.V. (porte-affiches, présentoirs ...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S'assurer que les affiches et la P.L.V. sont conformes au plan d'affich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ériodicité : contrôle semestri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6520" y="317520"/>
              <a:ext cx="11430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ICH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HOD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9520" y="317520"/>
              <a:ext cx="43434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601640" y="6084720"/>
            <a:ext cx="58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dispositif de contrôle – Information clientèle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" y="-10335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7311960"/>
            <a:ext cx="9144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28800" y="457200"/>
            <a:ext cx="5847840" cy="5359320"/>
            <a:chOff x="1828800" y="457200"/>
            <a:chExt cx="5847840" cy="5359320"/>
          </a:xfrm>
        </p:grpSpPr>
        <p:sp>
          <p:nvSpPr>
            <p:cNvPr id="56" name=""/>
            <p:cNvSpPr/>
            <p:nvPr/>
          </p:nvSpPr>
          <p:spPr>
            <a:xfrm>
              <a:off x="1828800" y="826920"/>
              <a:ext cx="5847840" cy="431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NATURE ET ETENDUE DES CONTRO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Natur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le porte sur les différents contrôles possibles à effectuer. Elle dépend de " l'analyse générale et préalable du risque " qu'aura effectuée le Manager, en liaison notamment avec son Responsable Hiérarchique. Les contrôles à effectuer seront d'autant plus variés et précis que le risque apparaîtra important et plus ciblé. Les facteurs aggravants de risque sont divers : événements nouveaux (nouvelle procédure , nouvel environnement ...), " indicateurs d'alerte " (augmentation des débiteurs &gt; 30 jours ...), mission d'inspection ayant révélé des dysfonctionnements, connaissance propre du Directeur d'agence sur des zones à risque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Etendue des contrôles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: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s'agit de l'importance plus ou moins grande de l'échantillon de contrôl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NOMALIES CONSTATE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MESURES CORRECTR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l convient de rappeler l'importance des actions correctrices et la nécessité d'un suivi de qualité desdites actions (rappels de procédures, formations internes, mise en oeuvre d'outils de suivi ...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21960" y="457200"/>
              <a:ext cx="40546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HEM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Noter dans cette rubrique les intitulés des fiches méthod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457200"/>
              <a:ext cx="179316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C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DE CONTRO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5130720"/>
              <a:ext cx="1871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00080" y="5130720"/>
              <a:ext cx="1949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49480" y="5130720"/>
              <a:ext cx="20271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om et visa du hiérarchiqu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5359320"/>
              <a:ext cx="18712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00080" y="5359320"/>
              <a:ext cx="1949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49480" y="5359320"/>
              <a:ext cx="2027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14560" y="594360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2000" y="6039000"/>
            <a:ext cx="3997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éma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 fiche de contrôle – Agence banc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27000" y="512640"/>
            <a:ext cx="7335720" cy="5391000"/>
            <a:chOff x="927000" y="512640"/>
            <a:chExt cx="7335720" cy="5391000"/>
          </a:xfrm>
        </p:grpSpPr>
        <p:sp>
          <p:nvSpPr>
            <p:cNvPr id="68" name=""/>
            <p:cNvSpPr/>
            <p:nvPr/>
          </p:nvSpPr>
          <p:spPr>
            <a:xfrm>
              <a:off x="2247120" y="911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cédures et publications internes, archiv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47120" y="11116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formation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47120" y="1311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gistre de servi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47120" y="1510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itement du courrier, NPAI, domicilié à l’agence, réclama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47120" y="17107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Équipements et consignes de 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47120" y="1910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nsibilisation du perso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47120" y="2109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fidentialité informati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47120" y="23097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isse fran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47120" y="2509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AB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47120" y="27090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evi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47120" y="29088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de voyag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47120" y="31082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ons d’éparg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47120" y="33080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équiers de banqu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47120" y="350784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47120" y="37072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artes capturé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47120" y="39070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vierg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47120" y="410688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dépô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47120" y="43063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hèques aller compensation retournés impay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47120" y="45061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uvertures de comptes-chè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7120" y="470592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êts à la consomm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7120" y="49053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tr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47120" y="51051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ivrets en anomali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47120" y="530496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tion des dispositions anti-blanchi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47120" y="55044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position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7120" y="5704200"/>
              <a:ext cx="4695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ffres clientè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47120" y="512640"/>
              <a:ext cx="4695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hèmes de contrô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270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Rubriqu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27000" y="911880"/>
              <a:ext cx="1320120" cy="79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27000" y="171072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7000" y="2309760"/>
              <a:ext cx="1320120" cy="59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nd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27000" y="2908800"/>
              <a:ext cx="1320120" cy="159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Valeu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27000" y="450612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lientèle de particuli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27000" y="4905360"/>
              <a:ext cx="1320120" cy="99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tivités communes à différents march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42600" y="512640"/>
              <a:ext cx="1320120" cy="39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es des contrô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42600" y="911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42600" y="11116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42600" y="1311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2600" y="1510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42600" y="17107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42600" y="1910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42600" y="2109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42600" y="23097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42600" y="2509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42600" y="27090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42600" y="29088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2600" y="31082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2600" y="33080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42600" y="350784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42600" y="37072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42600" y="39070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42600" y="410688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2600" y="43063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42600" y="45061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42600" y="470592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42600" y="49053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42600" y="51051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42600" y="530496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42600" y="55044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42600" y="5704200"/>
              <a:ext cx="1320120" cy="19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09:15:14Z</dcterms:modified>
  <cp:revision>79</cp:revision>
  <dc:subject/>
  <dc:title>Présentation PowerPoint</dc:title>
</cp:coreProperties>
</file>