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5D02-0827-4DAE-9B6A-7A2E21B31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AF4F-114A-436A-87C6-FF2C6C42E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E0C0-8904-4754-9F55-31E7909AB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0D71-E58A-480C-937B-AEC599CD3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40BE-4435-4A05-A5CA-4B49DB834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816A-11B5-4BBD-A993-5D898C29C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02B5-7F51-4DB8-996B-F6F6F262C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6D7F-4469-4D59-BC2B-475E68133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7EF0-E5DD-4A37-95A9-E99DA8FEE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881E-A302-43B9-8EFD-56B602CCD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4871-C9AE-4524-BFC1-340336782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2744-813F-4C41-A0B5-7B619914C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A8BF6-72E1-4B42-B662-BA564E0994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rot="5385000">
            <a:off x="3546000" y="-2827080"/>
            <a:ext cx="2232000" cy="788652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7886520"/>
              <a:gd name="textAreaBottom" fmla="*/ 7886880 h 788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22280" y="2362320"/>
            <a:ext cx="8580600" cy="2361960"/>
          </a:xfrm>
          <a:custGeom>
            <a:avLst/>
            <a:gdLst>
              <a:gd name="textAreaLeft" fmla="*/ 0 w 8580600"/>
              <a:gd name="textAreaRight" fmla="*/ 8580960 w 8580600"/>
              <a:gd name="textAreaTop" fmla="*/ 0 h 2361960"/>
              <a:gd name="textAreaBottom" fmla="*/ 2362320 h 2361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449" y="0"/>
                </a:lnTo>
                <a:lnTo>
                  <a:pt x="21600" y="10800"/>
                </a:lnTo>
                <a:lnTo>
                  <a:pt x="2044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66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971880" y="2438280"/>
            <a:ext cx="13924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P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978520" y="152280"/>
            <a:ext cx="1758960" cy="838440"/>
          </a:xfrm>
          <a:prstGeom prst="flowChartOffpageConnector">
            <a:avLst/>
          </a:prstGeom>
          <a:solidFill>
            <a:srgbClr val="99ff33"/>
          </a:solidFill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Planifier les activités de la fo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587760" y="533520"/>
            <a:ext cx="1968480" cy="838080"/>
          </a:xfrm>
          <a:prstGeom prst="flowChartOffpageConnector">
            <a:avLst/>
          </a:prstGeom>
          <a:solidFill>
            <a:srgbClr val="99ff33"/>
          </a:solidFill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Mettre en œuvre la politique de reporting pour la fo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106160" y="76320"/>
            <a:ext cx="10616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PILOT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492120" y="4844520"/>
            <a:ext cx="8089920" cy="1936800"/>
          </a:xfrm>
          <a:prstGeom prst="flowChartOffpageConnector">
            <a:avLst/>
          </a:prstGeom>
          <a:solidFill>
            <a:srgbClr val="339966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181240" y="5987880"/>
            <a:ext cx="1476360" cy="719280"/>
          </a:xfrm>
          <a:prstGeom prst="rect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Maîtriser 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S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61960" y="5562720"/>
            <a:ext cx="1477800" cy="914400"/>
          </a:xfrm>
          <a:prstGeom prst="rect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Déplo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méthodes 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démarche qualit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034040" y="5562720"/>
            <a:ext cx="1476720" cy="914400"/>
          </a:xfrm>
          <a:prstGeom prst="rect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Développer 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res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huma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798720" y="5573880"/>
            <a:ext cx="1476720" cy="914400"/>
          </a:xfrm>
          <a:prstGeom prst="rect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Manager 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connaissances (référentiels.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057560" y="4952880"/>
            <a:ext cx="10951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UPPOR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9840" y="1828800"/>
            <a:ext cx="539640" cy="3276720"/>
          </a:xfrm>
          <a:prstGeom prst="ellipse">
            <a:avLst/>
          </a:prstGeom>
          <a:solidFill>
            <a:srgbClr val="f1cb0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 baseline="30000">
                <a:solidFill>
                  <a:srgbClr val="000000"/>
                </a:solidFill>
                <a:latin typeface="Comic Sans MS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 baseline="30000">
                <a:solidFill>
                  <a:srgbClr val="000000"/>
                </a:solidFill>
                <a:latin typeface="Comic Sans MS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 baseline="30000">
                <a:solidFill>
                  <a:srgbClr val="000000"/>
                </a:solidFill>
                <a:latin typeface="Comic Sans MS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 baseline="30000">
                <a:solidFill>
                  <a:srgbClr val="000000"/>
                </a:solidFill>
                <a:latin typeface="Comic Sans MS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 baseline="30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 baseline="30000">
                <a:solidFill>
                  <a:srgbClr val="000000"/>
                </a:solidFill>
                <a:latin typeface="Comic Sans M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 baseline="30000">
                <a:solidFill>
                  <a:srgbClr val="000000"/>
                </a:solidFill>
                <a:latin typeface="Comic Sans MS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 baseline="30000">
                <a:solidFill>
                  <a:srgbClr val="000000"/>
                </a:solidFill>
                <a:latin typeface="Comic Sans MS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 baseline="30000">
                <a:solidFill>
                  <a:srgbClr val="000000"/>
                </a:solidFill>
                <a:latin typeface="Comic Sans MS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 baseline="30000">
                <a:solidFill>
                  <a:srgbClr val="000000"/>
                </a:solidFill>
                <a:latin typeface="Comic Sans MS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 baseline="30000">
                <a:solidFill>
                  <a:srgbClr val="000000"/>
                </a:solidFill>
                <a:latin typeface="Comic Sans MS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 baseline="30000">
                <a:solidFill>
                  <a:srgbClr val="000000"/>
                </a:solidFill>
                <a:latin typeface="Comic Sans MS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627520" y="2666880"/>
            <a:ext cx="2883240" cy="1828800"/>
          </a:xfrm>
          <a:custGeom>
            <a:avLst/>
            <a:gdLst>
              <a:gd name="textAreaLeft" fmla="*/ 0 w 2883240"/>
              <a:gd name="textAreaRight" fmla="*/ 2883600 w 288324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60" y="0"/>
                </a:lnTo>
                <a:lnTo>
                  <a:pt x="21600" y="10800"/>
                </a:lnTo>
                <a:lnTo>
                  <a:pt x="1846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Accompagner la stratégie de l’entreprise (mesure de la performance, analyses financières, communication financière.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73280" y="2895480"/>
            <a:ext cx="4431960" cy="762120"/>
          </a:xfrm>
          <a:custGeom>
            <a:avLst/>
            <a:gdLst>
              <a:gd name="textAreaLeft" fmla="*/ 0 w 4431960"/>
              <a:gd name="textAreaRight" fmla="*/ 4431960 w 443196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60" y="0"/>
                </a:lnTo>
                <a:lnTo>
                  <a:pt x="21600" y="10800"/>
                </a:lnTo>
                <a:lnTo>
                  <a:pt x="1846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Produire les informations de g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(collecte des données, activités de back-office, reporting de gestion, comptes de groupe .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195560" y="4267080"/>
            <a:ext cx="3868560" cy="381240"/>
          </a:xfrm>
          <a:custGeom>
            <a:avLst/>
            <a:gdLst>
              <a:gd name="textAreaLeft" fmla="*/ 0 w 3868560"/>
              <a:gd name="textAreaRight" fmla="*/ 3868920 w 386856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60" y="0"/>
                </a:lnTo>
                <a:lnTo>
                  <a:pt x="21600" y="10800"/>
                </a:lnTo>
                <a:lnTo>
                  <a:pt x="1846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Gérer les arrêté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534520" y="2057400"/>
            <a:ext cx="492120" cy="2895480"/>
          </a:xfrm>
          <a:prstGeom prst="ellipse">
            <a:avLst/>
          </a:prstGeom>
          <a:solidFill>
            <a:srgbClr val="f1cb0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762520" y="1066680"/>
            <a:ext cx="1476360" cy="838440"/>
          </a:xfrm>
          <a:prstGeom prst="flowChartOffpageConnector">
            <a:avLst/>
          </a:prstGeom>
          <a:solidFill>
            <a:srgbClr val="99ff33"/>
          </a:solidFill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Maîtriser les risq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416560" y="6024600"/>
            <a:ext cx="1476360" cy="719280"/>
          </a:xfrm>
          <a:prstGeom prst="rect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Maîtriser les coû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81240" y="5186520"/>
            <a:ext cx="1476360" cy="718920"/>
          </a:xfrm>
          <a:prstGeom prst="rect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Respecter la déontolog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416560" y="5186520"/>
            <a:ext cx="1476360" cy="718920"/>
          </a:xfrm>
          <a:prstGeom prst="rect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Définir, appliquer, respecter les nor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143000" y="152280"/>
            <a:ext cx="1547640" cy="838440"/>
          </a:xfrm>
          <a:prstGeom prst="flowChartOffpageConnector">
            <a:avLst/>
          </a:prstGeom>
          <a:solidFill>
            <a:srgbClr val="99ff33"/>
          </a:solidFill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Définir la stratégie de la fo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05120" y="1066680"/>
            <a:ext cx="1477800" cy="838440"/>
          </a:xfrm>
          <a:prstGeom prst="flowChartOffpageConnector">
            <a:avLst/>
          </a:prstGeom>
          <a:solidFill>
            <a:srgbClr val="99ff33"/>
          </a:solidFill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Piloter les proj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27440" y="1447920"/>
            <a:ext cx="1758960" cy="685800"/>
          </a:xfrm>
          <a:prstGeom prst="flowChartOffpageConnector">
            <a:avLst/>
          </a:prstGeom>
          <a:solidFill>
            <a:srgbClr val="99ff33"/>
          </a:solidFill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Définir la stratégie de commun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90720" y="3809880"/>
            <a:ext cx="3024000" cy="381240"/>
          </a:xfrm>
          <a:custGeom>
            <a:avLst/>
            <a:gdLst>
              <a:gd name="textAreaLeft" fmla="*/ 0 w 3024000"/>
              <a:gd name="textAreaRight" fmla="*/ 3024360 w 30240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60" y="0"/>
                </a:lnTo>
                <a:lnTo>
                  <a:pt x="21600" y="10800"/>
                </a:lnTo>
                <a:lnTo>
                  <a:pt x="1846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Gérer les opérations de trésoreri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06668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Référenti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5T06:52:57Z</dcterms:created>
  <dc:creator>Henri-Pierre Maders, Jean-Luc Masselin</dc:creator>
  <dc:description/>
  <dc:language>en-US</dc:language>
  <cp:lastModifiedBy>HPM</cp:lastModifiedBy>
  <dcterms:modified xsi:type="dcterms:W3CDTF">2004-04-02T06:43:36Z</dcterms:modified>
  <cp:revision>6</cp:revision>
  <dc:subject/>
  <dc:title>Contrôle interne des risques</dc:title>
</cp:coreProperties>
</file>