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46D-78A4-4A26-9735-98F1DEF8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FB9-A1D0-4F58-BB61-135F7A0C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BAF-6406-417F-A0A8-88DB52C6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E3F-9396-411D-B2CC-48E82BF4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F06-F277-451F-BA98-35296C90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FDE4-D77B-4926-B2D8-0204F76A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255B-F646-4F20-A8EF-FEBAECE9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BA9-E329-48C2-B25D-0C40EB51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DBE-E1F9-492D-B4C5-8F132BD3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16A-A81A-46D4-85AC-53CE9AAA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4DE6-5116-4A8E-B17F-3FB83818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133-1010-46A7-B53A-236C5A7A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923F-4F3B-4138-BD25-ADF325016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4800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800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4114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4114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4290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34290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743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2743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685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685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es/Mo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és de 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371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1371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1:27Z</dcterms:modified>
  <cp:revision>71</cp:revision>
  <dc:subject/>
  <dc:title>Contrôle interne des risques</dc:title>
</cp:coreProperties>
</file>