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FA6-56B8-4593-8AE4-97A07DBB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02F-4E80-40D2-AEE2-A37078C0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7B20-CA88-488B-B66D-DCC43FBF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140-EDF9-429E-8429-4BD19C1C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C1E-C612-4C1B-8DAE-1BC00DF0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B5A-4E91-489E-9A25-F620135A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07D-B3A5-4EB1-A1BA-BA5E4EE0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1F3-4E7C-41D0-8DC4-5057E66D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B1A-4B0C-4888-A9A5-16DC9E0B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19C-56B6-41C4-A67C-D81A0718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46E-5599-4EDE-BD54-8CF1313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EEBE-CDAC-4091-8047-1D6CAE03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7DE-DDFB-4DF9-9EFA-049BB596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’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5335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63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0" y="1219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6324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5867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5410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5638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3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3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0" y="5181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0" y="4724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352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ré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0" y="472752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sonnes concer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67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5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6094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0" y="6095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6629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0600" y="49528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nsul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0" y="1600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81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1981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63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62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2362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743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124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0" y="3124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05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01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1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0" y="3505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1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0" y="3886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63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267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2940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mité de pilotage (X) dans les cases correspo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</dc:creator>
  <dc:description/>
  <dc:language>en-US</dc:language>
  <cp:lastModifiedBy>rochas</cp:lastModifiedBy>
  <cp:lastPrinted>2000-05-11T10:17:14Z</cp:lastPrinted>
  <dcterms:modified xsi:type="dcterms:W3CDTF">2004-04-01T13:42:18Z</dcterms:modified>
  <cp:revision>70</cp:revision>
  <dc:subject/>
  <dc:title>Contrôle interne des risques</dc:title>
</cp:coreProperties>
</file>