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8BB-740E-4B70-B0BD-52093725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256-FB7A-4476-AF1B-42DC11F1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9D9-931A-4ABC-A4EB-768620F5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F70-4361-4276-9585-03B014E1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A2C-ED47-457D-A894-8022D424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81E-6617-4920-BA80-50D7CCD1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D17-87A6-4E95-BF5F-818DD988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D83-D61F-49A6-A96E-31EAE0EE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10B-824D-42DC-80E3-A5A65390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325-8D1E-4533-8F13-E9D770B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2A2-4D5B-4364-BAED-BCB8FC66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472-EDE3-4DEF-ABA4-804FA8E5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1226-5DCC-4452-BEF2-672233B6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U CONTRÔ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1722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54864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8006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43400"/>
            <a:ext cx="9906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second degré (audit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812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812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5812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5812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954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8954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96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2096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2096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2209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906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premier degré (opératio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ture du r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85800"/>
            <a:ext cx="1676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sponsabl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685800"/>
            <a:ext cx="1981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685800"/>
            <a:ext cx="2438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stinataires des résultats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8580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équenc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581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895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5238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5238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15238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1523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8:28Z</dcterms:modified>
  <cp:revision>70</cp:revision>
  <dc:subject/>
  <dc:title>Contrôle interne des risques</dc:title>
</cp:coreProperties>
</file>