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EEC9-A5AF-41C4-809A-DC7DCA2AF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33A1-AAFB-43E8-B2FD-D1A7EB87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8736-E8AA-4BEF-A461-834515192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5F9A-A131-4DD5-9B6F-FB48175D8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DBD7-E065-48D0-9BDA-FB3F8346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8727-BBF2-499D-AD27-B4B591B7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5D74-B7B9-4239-82F0-32801314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A66E-7DE0-415B-98BE-DF4D2138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0A69-48D3-4507-A908-B549D81E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11E0-47BE-4B65-AF5A-53905506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AC0D-CB08-4342-9406-2135622D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222D-C165-4B06-B707-022DAE72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434D-3B4E-4639-A092-5A0EC350B9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RCES ET FAIBLESSES APPAR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33520"/>
            <a:ext cx="99061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o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90612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aibl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39:22Z</dcterms:modified>
  <cp:revision>70</cp:revision>
  <dc:subject/>
  <dc:title>Contrôle interne des risques</dc:title>
</cp:coreProperties>
</file>