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DA3-8D73-4E3C-8F47-3814F1B4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6FD-2B7F-4EED-8958-3F5CEEE5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CA2-BD4B-4253-B4A4-7E8F821E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172B-146F-4147-B4DC-E833F24C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6BF9-22CA-4D03-AFD8-1F9160D3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306-9AD0-4EFC-974E-462CA9B2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4B4-A38D-4454-BFBF-6F3FBA2B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D4A-DBD5-42C9-BCA2-AEC5F136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CF2-86F1-4D67-8C38-41321C1C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E13-6594-4BE0-99A0-0BD78E10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08C-4B2C-4B5D-A457-383AD386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B30-E8F2-45ED-A72F-4BCDB504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B410-CBE8-4B59-A329-F60CD916A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371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440" y="13716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13716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412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3716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1148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0574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7432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41148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4290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057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20574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1148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4290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743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2057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0574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440" y="20574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2057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24680" y="34290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2743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440" y="27432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27432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7432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2743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34290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41148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4290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440" y="41148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440" y="34290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41148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34290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1148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41148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33520"/>
            <a:ext cx="3048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prév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33520"/>
            <a:ext cx="11415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440" y="533520"/>
            <a:ext cx="3811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à entrepren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8006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4864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1722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800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54864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4800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486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6172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4800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440" y="48006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4800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8006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8006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24680" y="5486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440" y="54864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5486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54864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54864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24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440" y="61722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6172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24680" y="1371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ES AL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1371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91440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91440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914400"/>
            <a:ext cx="379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33520"/>
            <a:ext cx="380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533520"/>
            <a:ext cx="1141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440" y="914400"/>
            <a:ext cx="1830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é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914400"/>
            <a:ext cx="1981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é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33520"/>
            <a:ext cx="1523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é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ss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6-08-03T09:25:16Z</dcterms:modified>
  <cp:revision>71</cp:revision>
  <dc:subject/>
  <dc:title>Contrôle interne des risques</dc:title>
</cp:coreProperties>
</file>