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625-53EE-4F43-8099-50838F8F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E11-FE92-4D83-8796-FC0CBF2D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462-642D-44C1-8B9A-238D7224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2CF-6C50-4038-8BC2-B651D36C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710-2DFE-4E3B-BF07-BEA46CE7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7AD-F19D-4A06-B4A0-A12D48CC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3B9-7870-4188-ABDB-2FDC74CE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D5B-43F2-422C-8241-1A979EB6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DBB-E312-4028-B3C4-93E21FC7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B294-8898-43CC-9223-9DF9085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23A-F24E-4EB1-8005-E040227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D49-146F-4257-9E76-EAFC2B3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FDFC-0B58-4165-966F-4B615A224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TE DES FORCES EN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9440" y="1600200"/>
            <a:ext cx="1125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hé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9600" y="2747880"/>
            <a:ext cx="1433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opé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4572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4572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4572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8640" y="3429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3429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2286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1143000"/>
            <a:ext cx="1751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08640" y="1143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8640" y="2286000"/>
            <a:ext cx="1754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429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286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14300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905120" y="1143000"/>
            <a:ext cx="701028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640" y="3809880"/>
            <a:ext cx="90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érê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880" y="4957920"/>
            <a:ext cx="1084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ssiv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3240" y="5943600"/>
            <a:ext cx="139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il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86000" y="5948280"/>
            <a:ext cx="99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ri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5400" y="5948280"/>
            <a:ext cx="1297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p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28680" y="5948280"/>
            <a:ext cx="1049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osti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6:16Z</dcterms:modified>
  <cp:revision>72</cp:revision>
  <dc:subject/>
  <dc:title>Contrôle interne des risques</dc:title>
</cp:coreProperties>
</file>