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3234-888E-4408-9B36-63A4F329F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54BA-4FB1-455A-9599-588A71B1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5EDD-BB24-41DD-9CAB-80DAAF37D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1A60-4768-4444-BC41-6E32856C6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17B9-218D-400F-96FA-DD6E779F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91A6-063C-4120-89A0-DEE71A49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FFAF-1F52-4566-AD4F-2B679F56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C89C-A15B-4E8A-B423-56B442BA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888B-6616-4799-B3CB-0A89BF51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D789-BCE9-447B-9BCE-228AF154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726C-56E5-430D-AE7D-718808F4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FFC4-7FB7-45C3-9681-4D06E86B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F0C2-E943-407B-922D-AD0821979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061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LAN DE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62940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05920" y="61722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95288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2940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05920" y="61722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5288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2940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05920" y="61722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2940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05920" y="61722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05920" y="61722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2940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05920" y="61722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61722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05920" y="61722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05920" y="54864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800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76520" y="48006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4800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29400" y="4800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05920" y="48006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4114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76520" y="41148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4114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29400" y="4114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05920" y="41148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4290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34290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952880" y="34290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34290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05920" y="34290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743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27432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52880" y="2743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2743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05920" y="27432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20574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288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2940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05920" y="20574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85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estinata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e l’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6858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Objectifs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’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685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up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’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29400" y="685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Émet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es inform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05920" y="6858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ates/Mo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lés de dif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371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13716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1371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1371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05920" y="13716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41:27Z</dcterms:modified>
  <cp:revision>71</cp:revision>
  <dc:subject/>
  <dc:title>Contrôle interne des risques</dc:title>
</cp:coreProperties>
</file>