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9047-520C-409F-9C92-B56E32251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F243-904D-4034-98AF-E97428AFA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4822-56C2-4216-B75E-00451F0A1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3358-6866-4769-A4FC-98CB8788C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4E5A-4A0B-4A3B-B172-84DA8FC20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933F-31C6-4764-8464-F0F0DB58A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8F30-F707-4CB4-9E5A-607567DE9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9EEE-3D95-438D-A107-F123FABA6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8FBF-9392-4ED7-B6CB-E5EBCA987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B0AB-B7CA-4177-9277-2744A9C57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9CAA-5670-473F-A853-2673843A1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B6EB-CA28-4D68-A8AF-02FACD1F4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DC6F6-D897-4B5E-A1D3-3249072A33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0612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ABLEAU DES RE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61722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553080" y="6172200"/>
            <a:ext cx="3353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76520" y="61722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76520" y="61722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61722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61722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76520" y="61722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52680" y="61722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61722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52680" y="61722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76520" y="54864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352680" y="54864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553080" y="5486400"/>
            <a:ext cx="3353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48006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48006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48006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553080" y="4800600"/>
            <a:ext cx="3353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41148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41148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41148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553080" y="4114800"/>
            <a:ext cx="3353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4290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76520" y="34290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352680" y="34290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553080" y="3429000"/>
            <a:ext cx="3353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2743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76520" y="27432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352680" y="27432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553080" y="2743200"/>
            <a:ext cx="3353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0574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76520" y="20574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352680" y="20574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553080" y="2057400"/>
            <a:ext cx="3353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6858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Nom de 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erson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76520" y="6858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Fo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6858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Prescripte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Décide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553080" y="685800"/>
            <a:ext cx="3353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ctions à entreprend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54864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13716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76520" y="13716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2680" y="13716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553080" y="1371600"/>
            <a:ext cx="3353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19720" y="68580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État des re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actuel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419720" y="137160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19720" y="342900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419720" y="274320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19720" y="205740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19720" y="548640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19720" y="480060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419720" y="411480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419720" y="617220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enri-Pierre Maders, Jean-Luc Masselin</dc:creator>
  <dc:description/>
  <dc:language>en-US</dc:language>
  <cp:lastModifiedBy>rochas</cp:lastModifiedBy>
  <cp:lastPrinted>2000-05-11T10:17:14Z</cp:lastPrinted>
  <dcterms:modified xsi:type="dcterms:W3CDTF">2004-04-01T13:50:09Z</dcterms:modified>
  <cp:revision>70</cp:revision>
  <dc:subject/>
  <dc:title>Contrôle interne des risques</dc:title>
</cp:coreProperties>
</file>