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48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8A6B-AB0B-43E6-8498-1CCAB6CDA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CA90-12E5-4001-965C-62B273B8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F164-CD27-475F-9D5A-7FFD0750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BBA0-9421-4D26-8F98-D94D8B41B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3CE2-C6AB-41AB-8A5F-5733D723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0C85-DEB5-4C93-B60B-A5863629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8968-4E42-4742-B28C-45C67A0E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40A9-2EE4-417E-85D7-8ACBD464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7C70-678B-411C-92F9-BF3EF982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5D9F-B4DD-4818-854D-129E0E84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147D-66D7-4CE4-A794-6AB08F5D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4247-434C-4F0F-A108-10894E5D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5E81-A514-4D32-81CF-128C7B4C5F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82960" y="5778360"/>
            <a:ext cx="5232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Les standards de qualification anglo-sax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ituation à un moment donné - - et 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16360" y="2550960"/>
            <a:ext cx="1195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naccep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16360" y="3160800"/>
            <a:ext cx="1195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lar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16360" y="2855880"/>
            <a:ext cx="1195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41640" y="2550960"/>
            <a:ext cx="77472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Very b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-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16360" y="3465360"/>
            <a:ext cx="1195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angero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16360" y="3770280"/>
            <a:ext cx="1195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r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10200" y="331308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tras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10200" y="3618000"/>
            <a:ext cx="1332000" cy="31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10200" y="392256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eterogeneo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10200" y="422748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spa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10200" y="4532400"/>
            <a:ext cx="1332000" cy="31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10200" y="483696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eg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10200" y="514188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 maste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10200" y="209376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nsatisfact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0200" y="239868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ea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10200" y="117936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occupy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10200" y="148428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erio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10200" y="1789200"/>
            <a:ext cx="1332000" cy="31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orry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10200" y="2703600"/>
            <a:ext cx="1332000" cy="31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g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10200" y="300816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elicate/Trick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35480" y="1179360"/>
            <a:ext cx="774720" cy="427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23880" y="5815080"/>
            <a:ext cx="63248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Les standards de qualification anglo-sax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ituation à un moment donné + et +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1000" y="2973240"/>
            <a:ext cx="1195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xcell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91000" y="3278160"/>
            <a:ext cx="1195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mark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39920" y="1449360"/>
            <a:ext cx="11955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ui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ppropri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39920" y="2058840"/>
            <a:ext cx="1195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ste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84520" y="2978280"/>
            <a:ext cx="906480" cy="90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ery g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+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7000" y="1449360"/>
            <a:ext cx="77292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G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39920" y="2363760"/>
            <a:ext cx="1195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omogene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39920" y="2668680"/>
            <a:ext cx="1195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G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39920" y="2973240"/>
            <a:ext cx="1195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39920" y="3278160"/>
            <a:ext cx="1195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a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39920" y="3583080"/>
            <a:ext cx="1195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ffic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39920" y="4040280"/>
            <a:ext cx="1195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ccep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39920" y="4344840"/>
            <a:ext cx="1195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atisfa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39920" y="4649760"/>
            <a:ext cx="11955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ound/Abo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1000" y="3583080"/>
            <a:ext cx="1195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usta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22360" y="5935320"/>
            <a:ext cx="64245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Les standards de qualification anglo-sax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ituation en évolu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417680" y="1359000"/>
            <a:ext cx="5719680" cy="3938400"/>
            <a:chOff x="1417680" y="1359000"/>
            <a:chExt cx="5719680" cy="3938400"/>
          </a:xfrm>
        </p:grpSpPr>
        <p:sp>
          <p:nvSpPr>
            <p:cNvPr id="81" name=""/>
            <p:cNvSpPr/>
            <p:nvPr/>
          </p:nvSpPr>
          <p:spPr>
            <a:xfrm>
              <a:off x="1417680" y="4622760"/>
              <a:ext cx="2132280" cy="674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onsistently improv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(from + to ++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49960" y="4611600"/>
              <a:ext cx="12664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gr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17680" y="4162320"/>
              <a:ext cx="2132280" cy="44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Improv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(from - to +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49960" y="4154400"/>
              <a:ext cx="12664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prov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17680" y="3705120"/>
              <a:ext cx="2132280" cy="44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At a standsti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(- or +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49960" y="3697200"/>
              <a:ext cx="12664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ationa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17680" y="2797200"/>
              <a:ext cx="2132280" cy="90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Worsen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(from + to -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49960" y="2782800"/>
              <a:ext cx="12664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eaken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17680" y="1359000"/>
              <a:ext cx="2132280" cy="142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Getting consistant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wor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(from - to --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49960" y="1359000"/>
              <a:ext cx="1266480" cy="50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ff cour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49960" y="3240000"/>
              <a:ext cx="12664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lter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49960" y="1868400"/>
              <a:ext cx="12664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alling apa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49960" y="2173320"/>
              <a:ext cx="1266480" cy="62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teriorat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48600" y="1487520"/>
              <a:ext cx="16887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xtre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48600" y="1792440"/>
              <a:ext cx="16887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portant/Gre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48600" y="2097000"/>
              <a:ext cx="16887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48600" y="2401920"/>
              <a:ext cx="16887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ar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48600" y="2706840"/>
              <a:ext cx="16887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erman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48600" y="3316320"/>
              <a:ext cx="16887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onsider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48600" y="4840200"/>
              <a:ext cx="16887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nu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48600" y="3621240"/>
              <a:ext cx="16887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ignifica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48600" y="3925800"/>
              <a:ext cx="16887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Mod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48600" y="4230720"/>
              <a:ext cx="16887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Notice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48600" y="4535640"/>
              <a:ext cx="16887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ligh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48600" y="3011400"/>
              <a:ext cx="16887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le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6171840"/>
            <a:ext cx="77724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br>
              <a:rPr sz="1100"/>
            </a:b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Les termes de hiérarchisation anglo-sax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81160" y="368280"/>
            <a:ext cx="8651880" cy="5486400"/>
            <a:chOff x="281160" y="368280"/>
            <a:chExt cx="8651880" cy="5486400"/>
          </a:xfrm>
        </p:grpSpPr>
        <p:sp>
          <p:nvSpPr>
            <p:cNvPr id="108" name=""/>
            <p:cNvSpPr/>
            <p:nvPr/>
          </p:nvSpPr>
          <p:spPr>
            <a:xfrm>
              <a:off x="281160" y="1739880"/>
              <a:ext cx="12664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explain another id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1160" y="3111480"/>
              <a:ext cx="126648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In fa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Si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ecau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35320" y="1739880"/>
              <a:ext cx="12668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e the consequence of another id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35320" y="3111480"/>
              <a:ext cx="126684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As a resul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Consequent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Theref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Th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That is wh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That is the reas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87680" y="1739880"/>
              <a:ext cx="140796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e opposed to another idea, or make a conces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87680" y="3111480"/>
              <a:ext cx="14079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Even s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Howe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Neverthel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On the other h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I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Except th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Despite the fact th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In spite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26160" y="1739880"/>
              <a:ext cx="14068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e situated in time compared with anoth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26160" y="3111480"/>
              <a:ext cx="140688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First of all….Second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Firstly… Last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Initially… Then…Final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On the one hand… On the oth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Yesterday, Today, Tomorr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19640" y="1739880"/>
              <a:ext cx="126540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e added to anoth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19640" y="3111480"/>
              <a:ext cx="126540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Equal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Furtherm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Moreo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In addi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Als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esid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On top of th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41840" y="1739880"/>
              <a:ext cx="13366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e the final outcome of previous ide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41840" y="3111480"/>
              <a:ext cx="133668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Final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On bal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When all is said and d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rief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In a nutshe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In conclu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To sum 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97160" y="368280"/>
              <a:ext cx="26020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An idea can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20" idx="4"/>
              <a:endCxn id="116" idx="0"/>
            </p:cNvCxnSpPr>
            <p:nvPr/>
          </p:nvCxnSpPr>
          <p:spPr>
            <a:xfrm>
              <a:off x="4498920" y="977400"/>
              <a:ext cx="225504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2" name=""/>
            <p:cNvCxnSpPr>
              <a:stCxn id="120" idx="4"/>
              <a:endCxn id="118" idx="0"/>
            </p:cNvCxnSpPr>
            <p:nvPr/>
          </p:nvCxnSpPr>
          <p:spPr>
            <a:xfrm>
              <a:off x="4498920" y="977400"/>
              <a:ext cx="81216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3" name=""/>
            <p:cNvCxnSpPr>
              <a:stCxn id="120" idx="4"/>
              <a:endCxn id="110" idx="0"/>
            </p:cNvCxnSpPr>
            <p:nvPr/>
          </p:nvCxnSpPr>
          <p:spPr>
            <a:xfrm flipH="1">
              <a:off x="3867840" y="977400"/>
              <a:ext cx="63108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4" name=""/>
            <p:cNvCxnSpPr>
              <a:stCxn id="120" idx="4"/>
              <a:endCxn id="114" idx="0"/>
            </p:cNvCxnSpPr>
            <p:nvPr/>
          </p:nvCxnSpPr>
          <p:spPr>
            <a:xfrm>
              <a:off x="4498560" y="977400"/>
              <a:ext cx="373140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5" name=""/>
            <p:cNvCxnSpPr>
              <a:stCxn id="120" idx="4"/>
              <a:endCxn id="108" idx="0"/>
            </p:cNvCxnSpPr>
            <p:nvPr/>
          </p:nvCxnSpPr>
          <p:spPr>
            <a:xfrm flipH="1">
              <a:off x="913680" y="977400"/>
              <a:ext cx="358524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" name=""/>
            <p:cNvCxnSpPr>
              <a:stCxn id="120" idx="4"/>
              <a:endCxn id="112" idx="0"/>
            </p:cNvCxnSpPr>
            <p:nvPr/>
          </p:nvCxnSpPr>
          <p:spPr>
            <a:xfrm flipH="1">
              <a:off x="2391840" y="977400"/>
              <a:ext cx="210744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7" name=""/>
            <p:cNvCxnSpPr>
              <a:stCxn id="108" idx="2"/>
              <a:endCxn id="109" idx="0"/>
            </p:cNvCxnSpPr>
            <p:nvPr/>
          </p:nvCxnSpPr>
          <p:spPr>
            <a:xfrm>
              <a:off x="914040" y="2501640"/>
              <a:ext cx="108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12" idx="2"/>
              <a:endCxn id="113" idx="0"/>
            </p:cNvCxnSpPr>
            <p:nvPr/>
          </p:nvCxnSpPr>
          <p:spPr>
            <a:xfrm>
              <a:off x="2391840" y="2501640"/>
              <a:ext cx="108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10" idx="2"/>
              <a:endCxn id="111" idx="0"/>
            </p:cNvCxnSpPr>
            <p:nvPr/>
          </p:nvCxnSpPr>
          <p:spPr>
            <a:xfrm>
              <a:off x="3868200" y="2501640"/>
              <a:ext cx="108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18" idx="2"/>
              <a:endCxn id="119" idx="0"/>
            </p:cNvCxnSpPr>
            <p:nvPr/>
          </p:nvCxnSpPr>
          <p:spPr>
            <a:xfrm>
              <a:off x="5310000" y="2501640"/>
              <a:ext cx="108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16" idx="2"/>
              <a:endCxn id="117" idx="0"/>
            </p:cNvCxnSpPr>
            <p:nvPr/>
          </p:nvCxnSpPr>
          <p:spPr>
            <a:xfrm>
              <a:off x="6752880" y="2501640"/>
              <a:ext cx="108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14" idx="2"/>
              <a:endCxn id="115" idx="0"/>
            </p:cNvCxnSpPr>
            <p:nvPr/>
          </p:nvCxnSpPr>
          <p:spPr>
            <a:xfrm>
              <a:off x="8229240" y="2501640"/>
              <a:ext cx="108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5949720"/>
            <a:ext cx="77724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Les expressions de recommandation anglo-saxonnes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Degrés d’insist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924200" y="503280"/>
            <a:ext cx="5879520" cy="5255640"/>
            <a:chOff x="1924200" y="503280"/>
            <a:chExt cx="5879520" cy="5255640"/>
          </a:xfrm>
        </p:grpSpPr>
        <p:sp>
          <p:nvSpPr>
            <p:cNvPr id="135" name=""/>
            <p:cNvSpPr/>
            <p:nvPr/>
          </p:nvSpPr>
          <p:spPr>
            <a:xfrm>
              <a:off x="1924200" y="4247640"/>
              <a:ext cx="1847520" cy="151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hen an auditor would like to see corrective action tak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86120" y="4252680"/>
              <a:ext cx="2391840" cy="28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t would be desirable 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24200" y="1655280"/>
              <a:ext cx="1847520" cy="25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hen an auditor needs to request corrective a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86120" y="1645920"/>
              <a:ext cx="2391840" cy="28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t would be best 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24200" y="509400"/>
              <a:ext cx="1847520" cy="114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hen an auditor needs to insist strongly on corrective a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86120" y="503280"/>
              <a:ext cx="2391840" cy="428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t is imperative th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08400" y="2429280"/>
              <a:ext cx="895320" cy="85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ithout fa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mphatical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bsolute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igorous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rong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86120" y="931680"/>
              <a:ext cx="2391840" cy="31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t is necessary th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86120" y="3947760"/>
              <a:ext cx="2391840" cy="28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po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86120" y="2374560"/>
              <a:ext cx="2391840" cy="33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rongly recomm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86120" y="2728440"/>
              <a:ext cx="239184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qu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86120" y="3033360"/>
              <a:ext cx="2391840" cy="28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sk you to consi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86120" y="3642840"/>
              <a:ext cx="239184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dvi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3338280"/>
              <a:ext cx="2391840" cy="28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r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6120" y="4862160"/>
              <a:ext cx="2391840" cy="28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ould lik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86120" y="5167080"/>
              <a:ext cx="2391840" cy="28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ugg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86120" y="4557240"/>
              <a:ext cx="239184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cour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86120" y="1942920"/>
              <a:ext cx="2391840" cy="44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comm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86120" y="1265040"/>
              <a:ext cx="2391840" cy="387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rongly recommend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86120" y="5471640"/>
              <a:ext cx="239184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sk you to consi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4584600"/>
            <a:ext cx="61214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Les expressions de recommandation anglo-saxonnes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Degrés d’urge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27640" y="2533320"/>
            <a:ext cx="1928880" cy="161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mmediate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Without further d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 the short-te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Rapid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By the end of the y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Before the next financial y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s soon as possi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By the year-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 the medium-te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 the long-te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0:02:01Z</dcterms:created>
  <dc:creator>HPM</dc:creator>
  <dc:description/>
  <dc:language>en-US</dc:language>
  <cp:lastModifiedBy>rochas</cp:lastModifiedBy>
  <dcterms:modified xsi:type="dcterms:W3CDTF">2006-08-03T10:04:09Z</dcterms:modified>
  <cp:revision>79</cp:revision>
  <dc:subject/>
  <dc:title>Présentation PowerPoint</dc:title>
</cp:coreProperties>
</file>