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FD6-7A1E-49E1-9A31-C722C1CC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CB7-EE03-4440-AF7F-5FCF6EFA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61E-579B-40A3-8BD2-5673961A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1AF-BB2B-4953-8A4A-ED492265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8BF4-63CC-4166-84E1-D21F323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B94-A5CF-4BAA-8DF4-E9AEB924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964-FD58-47FA-8650-9EA7937D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30A-BC20-4AD4-A334-31D52991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7F4-B37B-4D35-B761-F8E2059E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CBA-0091-4B1F-BA30-8D8A181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AB1-311E-481B-B918-21C52CA9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35A4-D5D4-4189-88F0-1E46AB0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9EE-E615-40F1-9A00-C3B8428A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71680"/>
            <a:ext cx="9906120" cy="74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71600"/>
            <a:ext cx="990612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906120" cy="9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772080"/>
            <a:ext cx="9906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58040"/>
            <a:ext cx="308124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92480" y="6458040"/>
            <a:ext cx="352116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24520" y="6458040"/>
            <a:ext cx="3081600" cy="39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71960"/>
            <a:ext cx="99061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906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6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ype de risque identifi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EUILLE DE RI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its consta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7432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auses explic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7208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séquences réelles ou possi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196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command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58040"/>
            <a:ext cx="30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audit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92480" y="6458040"/>
            <a:ext cx="35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Chef de 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24520" y="6458040"/>
            <a:ext cx="308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isa Directeur géné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. Anto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7:19Z</dcterms:modified>
  <cp:revision>70</cp:revision>
  <dc:subject/>
  <dc:title>Contrôle interne des risques</dc:title>
</cp:coreProperties>
</file>