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CF1-C882-4303-8AEC-261C75FE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296-DA0A-4AF9-BED0-FF105370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07C-E719-4E09-BA52-34435533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98DF-2B3E-4673-A9A6-3370E63C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E87-A340-4967-8106-27FFAB76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7B7-7203-4B0F-ACBD-E0C3B6DD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F97-749A-48A1-B790-811140C3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124-72E2-4D73-8FCC-320EB339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535-BB28-4717-B52F-AE01E9FE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CD4-0C7D-42A1-9B72-345FF46F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A2D-E1DA-4841-937F-30A03BA1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902-CC65-431D-AFAF-EF0EB40C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92BE-281D-4360-80BE-1F1FE693A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19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 D’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0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01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1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0" y="533520"/>
            <a:ext cx="762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763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1219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7242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4100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81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952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386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24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4100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814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952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6386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0" y="1219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763120" y="1219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52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6312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6324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6324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0" y="6324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1880" y="6095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5867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58672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763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63120" y="6095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6386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01000" y="5867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54100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763120" y="56386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0100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0" y="5410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0" y="5638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63120" y="54100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1880" y="51814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763120" y="51814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0" y="5181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63120" y="4952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49528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47242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0" y="4952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1880" y="472428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0" y="47242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3352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ctions à réali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15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53352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1880" y="53352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55200" y="4727520"/>
            <a:ext cx="159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ersonnes concerné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8672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609588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0" y="6094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J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0" y="6095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38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0" y="662940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30600" y="4952880"/>
            <a:ext cx="87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nsul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600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01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1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77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1600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0" y="1600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763120" y="1600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981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0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01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1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5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38880" y="1981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0" y="1981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763120" y="1981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362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1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77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4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0" y="2362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763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743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0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1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7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52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238880" y="2743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0" y="2743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63120" y="2743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124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0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1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1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52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3124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0" y="3124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63120" y="3124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50532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01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1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15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505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0" y="35053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763120" y="3505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886200"/>
            <a:ext cx="4495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0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01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1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15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38880" y="3886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0" y="38862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7631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4267080"/>
            <a:ext cx="4495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0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5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4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52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42670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0" y="4267080"/>
            <a:ext cx="762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629400"/>
            <a:ext cx="4495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mité de pilotage (X) dans les cases correspond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</dc:creator>
  <dc:description/>
  <dc:language>en-US</dc:language>
  <cp:lastModifiedBy>rochas</cp:lastModifiedBy>
  <cp:lastPrinted>2000-05-11T10:17:14Z</cp:lastPrinted>
  <dcterms:modified xsi:type="dcterms:W3CDTF">2004-04-01T13:42:18Z</dcterms:modified>
  <cp:revision>70</cp:revision>
  <dc:subject/>
  <dc:title>Contrôle interne des risques</dc:title>
</cp:coreProperties>
</file>