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87E7-ED0B-4811-8105-67F14F8B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DDE-2631-4880-9731-3935BCAF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AD5-EC75-4142-B161-EEFF2C5A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AC85-DB75-4B29-B85B-96BFDCCD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330-89B9-4337-87DD-51652CD2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CB9-177C-473C-80A3-0D49933F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0D4-08E4-460E-9A50-AA9C1374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A08-415C-4302-A0D1-3020B82E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787E-DB12-4C6C-AC3C-72D4F6FA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42CF-8BAC-4B42-A550-A9D5174D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4B9-595F-46F7-AE17-727CB826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CE6B-5027-4445-B3E8-363640BE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3015-348B-4631-B140-920385E86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TE DES FORCES EN 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9440" y="1600200"/>
            <a:ext cx="1125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dhé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9600" y="2747880"/>
            <a:ext cx="1433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opé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62920" y="4572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08640" y="4572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4572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4572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1143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2286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08640" y="3429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3429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3429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2286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1143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08640" y="1143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8640" y="2286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3429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286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1143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05120" y="1143000"/>
            <a:ext cx="701028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640" y="3809880"/>
            <a:ext cx="904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térê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880" y="4957920"/>
            <a:ext cx="1084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ssiv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73240" y="5943600"/>
            <a:ext cx="1392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cil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86000" y="5948280"/>
            <a:ext cx="999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ri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85400" y="5948280"/>
            <a:ext cx="1297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p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28680" y="5948280"/>
            <a:ext cx="1049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stil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6:16Z</dcterms:modified>
  <cp:revision>72</cp:revision>
  <dc:subject/>
  <dc:title>Contrôle interne des risques</dc:title>
</cp:coreProperties>
</file>