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4F5-672E-4029-80E0-1003B221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0C9-260E-407C-8AA8-10125CC8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87B-8F48-4A60-81E4-6BA6552C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2ED-D9DD-4B08-A632-92831809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583-E51D-4770-B8C7-24D14040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132-27B7-46BE-8E3D-78DC420F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332-CF1C-4F24-A9AC-E15AE4AF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4DC-F892-4481-8377-C3FE2AD7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F58-F765-4954-ABC4-BF453793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BF7-FEE0-430C-96C2-5D7A88C6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716-82F7-42FE-8812-71C9DC50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93E-DFD9-4DD1-9C68-9F066E5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4376-1D36-461A-B585-FDF61E0B1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1680"/>
            <a:ext cx="9906120" cy="74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71600"/>
            <a:ext cx="990612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90612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72080"/>
            <a:ext cx="9906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8040"/>
            <a:ext cx="308124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92480" y="6458040"/>
            <a:ext cx="352116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24520" y="6458040"/>
            <a:ext cx="308160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71960"/>
            <a:ext cx="99061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906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716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risque identifi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UILLE DE RI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aits consta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432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uses explic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720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séquences réelles ou pos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196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comma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58040"/>
            <a:ext cx="30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audi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2480" y="6458040"/>
            <a:ext cx="35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Chef de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24520" y="6458040"/>
            <a:ext cx="308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Directeur géné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. Anto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7:19Z</dcterms:modified>
  <cp:revision>70</cp:revision>
  <dc:subject/>
  <dc:title>Contrôle interne des risques</dc:title>
</cp:coreProperties>
</file>