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148-C522-4416-AC7F-3C519747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ACE-6898-4F6D-8E84-88C42DD7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732-F950-45C1-834F-377D6EF0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5CF-44D4-49C9-812E-915386C7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E3A-BACC-4E16-A397-4224C0D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71D-C570-41DE-A6C4-7F26372E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4410-F241-46CD-B36A-88B7003B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448-3829-461D-904B-448AA4B3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0D5-954E-41B8-97F7-F14AE579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976-3315-43A8-B6F7-51DB668C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331-CD5D-44C6-BAD3-A286A8D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3BA-CB06-4E15-A3CA-DBA0504E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5E55-030C-4799-9ABC-C94C40A67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28800"/>
            <a:ext cx="69343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6934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7600"/>
            <a:ext cx="69343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52560" y="53352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 princip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0320" y="1828800"/>
            <a:ext cx="20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secondaire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35280" y="3657600"/>
            <a:ext cx="171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onction(s) d’es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906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YSE FONCTIONNELLE – RIS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952880"/>
            <a:ext cx="6934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in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867280"/>
            <a:ext cx="69343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traintes exter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33520"/>
            <a:ext cx="28958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1828800"/>
            <a:ext cx="28958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3657600"/>
            <a:ext cx="28958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952880"/>
            <a:ext cx="2895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867280"/>
            <a:ext cx="2895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85440" y="53352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85440" y="18288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85440" y="4952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85440" y="365760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5440" y="58672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enri-Pierre Maders, Jean-Luc Masselin</dc:creator>
  <dc:description/>
  <dc:language>en-US</dc:language>
  <cp:lastModifiedBy>rochas</cp:lastModifiedBy>
  <cp:lastPrinted>2000-05-11T10:17:14Z</cp:lastPrinted>
  <dcterms:modified xsi:type="dcterms:W3CDTF">2004-04-01T13:32:50Z</dcterms:modified>
  <cp:revision>71</cp:revision>
  <dc:subject/>
  <dc:title>Contrôle interne des risques</dc:title>
</cp:coreProperties>
</file>