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0E7-B306-4D2D-B45D-303682C3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5DD-6BE8-4805-B6B4-A251F7BF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B0A3-6553-4B2A-8167-527E27F0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643-ECB6-483C-97A9-2FA41702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431-27CF-4266-897A-D8A1CE7E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DA4-9CEB-40AA-855E-EE8B7D16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A33-3944-484C-AEDD-FF6C953D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8D6E-DED8-4485-803F-6D6733D4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E5CC-884F-48E2-956D-CA309699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0AC-8EAD-4203-B65C-89F9A70C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F657-1A91-48E5-9663-EAA7C62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200-1D41-4479-9CD6-539F3CB9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C8C0-3964-4386-AFB2-D14E7A503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99061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99061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9061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8080" y="533520"/>
            <a:ext cx="174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ème de la réu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0" y="1828800"/>
            <a:ext cx="50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bjectif de la réunion (résultat à atteindre à la fin de la réu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2720" y="2971800"/>
            <a:ext cx="70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 de la réunion (animateur, rapporteur, points abordés, durée de chaque séquence,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CHE DE PREPARATION DE RE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8:21Z</dcterms:modified>
  <cp:revision>71</cp:revision>
  <dc:subject/>
  <dc:title>Contrôle interne des risques</dc:title>
</cp:coreProperties>
</file>