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647-1C37-45C4-BF14-4722FBC8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4A8-0066-4FF1-8945-A99A08BF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0CF-6F21-4901-993A-D711D841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661-AA66-4D12-9FDF-1D53FE54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00A-74AD-436A-8137-158FD9F8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512-42B5-42BA-A450-D88AED72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1C50-21A2-44B1-AE69-F4EE2800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6FA-8D60-4BD5-9F3B-DD65361A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562-DC94-4548-9740-350AF0FE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772-4C8D-4AD2-AB4B-3EB1699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859-4C13-4E30-A4BD-ECA62C3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454-0697-4F4D-BA99-6162E4C2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C94F-68EB-4478-A8CB-AD04C281C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440" y="1371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1371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371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1148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057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7432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1148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4290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057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057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057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440" y="2057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2057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34290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24680" y="2743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440" y="2743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27432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743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4290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24680" y="41148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4290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41148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440" y="34290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1148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4290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1148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41148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33520"/>
            <a:ext cx="3048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prév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33520"/>
            <a:ext cx="1141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440" y="533520"/>
            <a:ext cx="3811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entrepren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800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864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1722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4800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54864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440" y="48006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4800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8006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8006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4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440" y="54864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4864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5486400"/>
            <a:ext cx="381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486400"/>
            <a:ext cx="379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440" y="6172200"/>
            <a:ext cx="1830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61722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1371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ES AL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1371600"/>
            <a:ext cx="1523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371600"/>
            <a:ext cx="3808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914400"/>
            <a:ext cx="381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914400"/>
            <a:ext cx="380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914400"/>
            <a:ext cx="379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33520"/>
            <a:ext cx="380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533520"/>
            <a:ext cx="1141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440" y="914400"/>
            <a:ext cx="1830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é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914400"/>
            <a:ext cx="1981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3352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é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ss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6-08-03T09:25:16Z</dcterms:modified>
  <cp:revision>71</cp:revision>
  <dc:subject/>
  <dc:title>Contrôle interne des risques</dc:title>
</cp:coreProperties>
</file>