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B4C-DEF3-4ECE-93C5-730AB10C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B48-552B-4BCF-BB03-1AFC3B5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64F-AFC4-4352-813C-5EA4C4DA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3B6-0326-443B-A300-9C01E111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1E2-174E-4FC1-AAD1-426AD3E3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682-C488-4ADA-9B6A-3C5E21E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60A-D145-42D8-A701-4BBDB886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B84-70B3-463E-A33C-EDDB3ECA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81C-90B7-42D3-8FBB-58B984B3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D5F-B6A8-43A4-8EF8-15635BD7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5294-D1B5-4D8A-95B7-A88ED77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E51-A634-44AB-B87E-2E92E980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4AF-9089-49E8-9034-0A79217A5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00" y="83808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S A COLLE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080" y="4495680"/>
            <a:ext cx="80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and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" y="3276720"/>
            <a:ext cx="51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ù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7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oi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71500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9568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76960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3520"/>
            <a:ext cx="7696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Qui ? Quoi ? Où ? Quand ? 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533520"/>
            <a:ext cx="2133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bie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8380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0574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327672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449568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5715000"/>
            <a:ext cx="21337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8080" y="57150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mmen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40:06Z</dcterms:modified>
  <cp:revision>70</cp:revision>
  <dc:subject/>
  <dc:title>Contrôle interne des risques</dc:title>
</cp:coreProperties>
</file>