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6C0-1B19-46D8-8D96-9F444C88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36A-0696-4554-9B55-F7D27101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079-1AC8-437D-AC05-9C32929C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5DB-1042-417B-9701-DF316042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B1E1-8F29-4AFD-A885-1A717BC1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A4F-75DD-4316-A31B-A4BA1898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FF9-044E-49C2-BCCC-405F9420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9AA-2825-4B6A-AEF6-EF8F3398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D33-F323-4F2F-B4D9-3EDB78F5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47D-D383-4518-B8AB-FF32BAAA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631-0CE7-4FF7-AD02-616BB07C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3F9-DC2B-4BAF-B8BA-8D97FE65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0D58-9CAE-4CA2-8443-49BE03CC3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00" y="83808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i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ORMATIONS A COLLE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05740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080" y="4495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and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160" y="3276720"/>
            <a:ext cx="5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ù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057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oi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1500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9568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7672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3520"/>
            <a:ext cx="7696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i ? Quoi ? Où ? Quand ? Commen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533520"/>
            <a:ext cx="2133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mbien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2400" y="83808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205740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327672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449568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72400" y="571500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8080" y="57150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mmen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0:06Z</dcterms:modified>
  <cp:revision>70</cp:revision>
  <dc:subject/>
  <dc:title>Contrôle interne des risques</dc:title>
</cp:coreProperties>
</file>