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B3A-9B9E-4072-BD01-FB9C6C63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92E9-CFD0-496E-8D6D-920FB3A9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B406-1038-48EA-9A71-4628472D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E87-0914-4A46-85BC-5FECE5FD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719-E23C-4084-B1E1-EE5C3151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6D9E-9F52-499A-9631-453CDD03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D60-3DB2-4C0F-B415-D4973370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349D-FBF6-46EF-988C-5C43779F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D742-4DA8-48B7-8146-68C2C026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5B1-D627-487D-9191-F92ABC5D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7BBA-5B6C-4B74-953A-C4ECE6A6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6EC-DA2B-4429-8377-94A485C5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1360-1ACD-40DB-B875-2661F2738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Note de cadr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838080"/>
            <a:ext cx="5029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Yoan, responsable qua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rigine du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Pierre, chef du service courri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029200" y="838080"/>
            <a:ext cx="1828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4/01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057400"/>
            <a:ext cx="685800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jectif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courrier avec amélioration de la qualité perçue par les clients et sécur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295272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érimètre projet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 siège social de la banque. Les agences ne font donc pas partie du périmètre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382284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ntrainte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ombre d’acteurs, technicité et diversité des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555948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esponsabilités chef de projet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animation et gestion des plannings, des intervenants et des budge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esponsabilité équipe projet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expertise organisationnelle et techniq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7010280"/>
            <a:ext cx="6858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Moyen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. Yoan, chef de projet à 25 %, M. Pierre et M. Antoine à 50 % + un groupe de travail de secrétaires et quelques jours d’experts de février à juin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0" y="6429240"/>
            <a:ext cx="685800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mité de pilotag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G + directeurs + chef de projet : réunions à chaque phase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469260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scription de l’équipe projet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. Pierre et M. Antoine (organisateur) à 50 % de leur temps sur toute la durée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8153280"/>
            <a:ext cx="6858000" cy="8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émarch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 de l’existant (février), organisation cible (mars) et conduite du changement (avril/jui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0" y="903600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chéanc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 30 juin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52:21Z</dcterms:modified>
  <cp:revision>104</cp:revision>
  <dc:subject/>
  <dc:title>Présentation PowerPoint</dc:title>
</cp:coreProperties>
</file>