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546-E864-483F-BE90-ED5F7750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C33-18AC-4CAA-84F8-69645D8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D72-356D-479B-A44C-37C6B709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0CD-93AB-4346-B80A-49D05C12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5FC-616C-4AF9-B86A-2299BFD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CCE-1437-4A53-8F0F-C4657197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6A1-E898-4AFF-8B66-FDA449F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F75-A8B5-4DD4-B5B4-CECB1CFE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639-5EE4-4930-95F9-795A6B9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B4B-7CC7-45C3-9EAB-FA3093E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01C-39C2-4A71-ABA0-237BAC9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DDF-D52D-4946-AA66-A718075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24D5-56CC-4C9B-A794-79AA5CD75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fo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Agence de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Directeur d’ag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Anthony, agence de Biarrit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Jean-Lou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me Christiane (adjoint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04/03/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er, gérer et organiser une équipe (Manageme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 CA de l’agence sur sa zone (Commercia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er la banque sur la zone (Imag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xer les objectifs et évalu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partir le travail entre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érer le planning des cong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ivre la consommation des budg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ptimiser l’utilisation des res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pôts et éparg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’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uvrir de nouveaux comp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déliser les cli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réd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e crédit immobili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rveiller les risq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aliser des actions de sponsoring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Être présent dans les salons et foires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s relations avec les notables de la z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réun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jours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entreti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gré polyval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aux couver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% 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comptes tot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’a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prése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ngagements : prêt habitat &lt; 250 000 €, prêt consommation &lt; 10 000 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tournes de frais : 10 000 € / 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tthieu Montaudouin</cp:lastModifiedBy>
  <dcterms:modified xsi:type="dcterms:W3CDTF">2009-06-08T09:42:34Z</dcterms:modified>
  <cp:revision>6</cp:revision>
  <dc:subject/>
  <dc:title>Présentation PowerPoint</dc:title>
</cp:coreProperties>
</file>