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A86A-1763-438F-A280-B683F5752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3AE5-53A2-44FD-8264-196FC5C93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5260-66B4-42ED-8484-1FFE782B4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4C4A-7A80-4F23-8B3A-A09C219A4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20CB-294E-426B-9CF3-A6DD550C9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65AC-FB16-4052-B88C-4D6C476AC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9ED6-5B7C-4A34-B942-742A4931D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D920-7690-4CA8-A2FF-852094E45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8876-D836-4184-8CAB-FFA8739DA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1C8A-16BB-4D0E-BE55-E46D4561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7AAB-F1B3-4303-BDBF-9865B07A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6123-FE3E-4BA9-B7E2-15EA8CCE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1635D-BC6D-458E-ACA0-5A61B45465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9"/>
          <p:cNvGrpSpPr/>
          <p:nvPr/>
        </p:nvGrpSpPr>
        <p:grpSpPr>
          <a:xfrm>
            <a:off x="0" y="0"/>
            <a:ext cx="6858000" cy="9906120"/>
            <a:chOff x="0" y="0"/>
            <a:chExt cx="6858000" cy="9906120"/>
          </a:xfrm>
        </p:grpSpPr>
        <p:sp>
          <p:nvSpPr>
            <p:cNvPr id="42" name="Rectangle 4"/>
            <p:cNvSpPr/>
            <p:nvPr/>
          </p:nvSpPr>
          <p:spPr>
            <a:xfrm>
              <a:off x="0" y="0"/>
              <a:ext cx="6858000" cy="866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Dossier d’étude d’opportunité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5"/>
            <p:cNvSpPr/>
            <p:nvPr/>
          </p:nvSpPr>
          <p:spPr>
            <a:xfrm>
              <a:off x="0" y="866880"/>
              <a:ext cx="4876920" cy="119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Structure :</a:t>
              </a: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Rédacteur :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Projet :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6"/>
            <p:cNvSpPr/>
            <p:nvPr/>
          </p:nvSpPr>
          <p:spPr>
            <a:xfrm>
              <a:off x="4876920" y="866880"/>
              <a:ext cx="1981080" cy="119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Date :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8"/>
            <p:cNvSpPr/>
            <p:nvPr/>
          </p:nvSpPr>
          <p:spPr>
            <a:xfrm>
              <a:off x="0" y="2057400"/>
              <a:ext cx="6858000" cy="895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Objet :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9"/>
            <p:cNvSpPr/>
            <p:nvPr/>
          </p:nvSpPr>
          <p:spPr>
            <a:xfrm>
              <a:off x="0" y="2952720"/>
              <a:ext cx="68580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Objectifs et enjeux :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10"/>
            <p:cNvSpPr/>
            <p:nvPr/>
          </p:nvSpPr>
          <p:spPr>
            <a:xfrm>
              <a:off x="0" y="3822840"/>
              <a:ext cx="6858000" cy="869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Description de l’objet du changement :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1"/>
            <p:cNvSpPr/>
            <p:nvPr/>
          </p:nvSpPr>
          <p:spPr>
            <a:xfrm>
              <a:off x="0" y="5559480"/>
              <a:ext cx="6858000" cy="869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Impacts organisationnels et humains :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12"/>
            <p:cNvSpPr/>
            <p:nvPr/>
          </p:nvSpPr>
          <p:spPr>
            <a:xfrm>
              <a:off x="0" y="7299360"/>
              <a:ext cx="6858000" cy="866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Volumes prévus :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13"/>
            <p:cNvSpPr/>
            <p:nvPr/>
          </p:nvSpPr>
          <p:spPr>
            <a:xfrm>
              <a:off x="0" y="6429240"/>
              <a:ext cx="68580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Exigence de qualité :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14"/>
            <p:cNvSpPr/>
            <p:nvPr/>
          </p:nvSpPr>
          <p:spPr>
            <a:xfrm>
              <a:off x="0" y="4692600"/>
              <a:ext cx="6858000" cy="866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Acteurs :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15"/>
            <p:cNvSpPr/>
            <p:nvPr/>
          </p:nvSpPr>
          <p:spPr>
            <a:xfrm>
              <a:off x="0" y="8166240"/>
              <a:ext cx="6858000" cy="869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Coûts prévus :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16"/>
            <p:cNvSpPr/>
            <p:nvPr/>
          </p:nvSpPr>
          <p:spPr>
            <a:xfrm>
              <a:off x="0" y="9036000"/>
              <a:ext cx="68580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Délais de mise en œuvre :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PM</dc:creator>
  <dc:description/>
  <dc:language>en-US</dc:language>
  <cp:lastModifiedBy>Matthieu Montaudouin</cp:lastModifiedBy>
  <cp:lastPrinted>2000-05-11T10:17:14Z</cp:lastPrinted>
  <dcterms:modified xsi:type="dcterms:W3CDTF">2009-06-08T09:37:38Z</dcterms:modified>
  <cp:revision>102</cp:revision>
  <dc:subject/>
  <dc:title>Présentation PowerPoint</dc:title>
</cp:coreProperties>
</file>