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A28-1E0E-434A-B78B-B05C06B9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2CE-FD56-4CBC-85E3-4E6690EB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9315-8883-48A1-8820-CBA7DA98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0AA-BF1F-4E0D-B4D2-FF6A2E8F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BD9F-D4BE-42DE-8549-6D39D9FC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792-5250-4287-B501-801E890D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1611-0CBF-4B6B-9045-E7C75831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62BA-DDEF-49BF-BDC3-31316593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30DA-CAAA-4E0E-943B-1B8A7B20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AEE-6091-4775-8102-A1300181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13BF-8D36-46E9-83A0-2301396D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B893-55F6-428E-9B0B-51F0FF83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7540-8BAF-4F6D-A62A-79C6B93DEB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Dossier de choi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609480"/>
            <a:ext cx="6858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858000" y="609480"/>
            <a:ext cx="2286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04/04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289548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cénario 1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courriers sont traités par les agents du siège en work-fl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388620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cénario 2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courriers sont traités par le service qua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4876920"/>
            <a:ext cx="2743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cénario 3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courriers sont traités en partie par les secrétaires avec des lettres 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0" y="586728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cénario 4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1905120"/>
            <a:ext cx="2743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olution actuell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courriers sont traités manuellement par les agents su siè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1371600"/>
            <a:ext cx="2743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ol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2743200" y="1371600"/>
            <a:ext cx="1828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ûts de fonctionn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4572000" y="137160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6858000" y="137160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nconvén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2743200" y="1905120"/>
            <a:ext cx="1828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5 avec des pointes à 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4572000" y="19051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ntrôles hiérarchiq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émorisation des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6858000" y="19051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lais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isque de non exhaustiv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bsence de traçabi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2743200" y="2895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5 avec des pointes à 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nformatique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20 K€ par 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4572000" y="28954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émor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6858000" y="28954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nvestissement informatique init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lais de mise en pl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2743200" y="388620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2 avec appels à experti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4572000" y="388620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orme commerciale des répon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s statistiq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6858000" y="388620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responsabilisation des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2743200" y="4876920"/>
            <a:ext cx="1828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27"/>
          <p:cNvSpPr/>
          <p:nvPr/>
        </p:nvSpPr>
        <p:spPr>
          <a:xfrm>
            <a:off x="4572000" y="48769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ain de temps pour les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28"/>
          <p:cNvSpPr/>
          <p:nvPr/>
        </p:nvSpPr>
        <p:spPr>
          <a:xfrm>
            <a:off x="6858000" y="48769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isque de standardisation des répon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2743200" y="5867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30"/>
          <p:cNvSpPr/>
          <p:nvPr/>
        </p:nvSpPr>
        <p:spPr>
          <a:xfrm>
            <a:off x="4572000" y="58672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31"/>
          <p:cNvSpPr/>
          <p:nvPr/>
        </p:nvSpPr>
        <p:spPr>
          <a:xfrm>
            <a:off x="6858000" y="58672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tthieu Montaudouin</cp:lastModifiedBy>
  <dcterms:modified xsi:type="dcterms:W3CDTF">2009-06-08T10:04:52Z</dcterms:modified>
  <cp:revision>10</cp:revision>
  <dc:subject/>
  <dc:title>Présentation PowerPoint</dc:title>
</cp:coreProperties>
</file>