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446-3FEC-4263-BDA5-8EA8CFA2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5FD-65DA-4810-BB59-D8602DAD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113-6ABB-4EB5-9188-F70775FB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7A5-A5E7-4D6C-BFC3-64229D99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BB9-EF11-45EF-A4C2-F1978F2C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B80-B16C-4C34-A068-B5E822B3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4DE-0B7E-4E8B-9723-1482199A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74D-07E0-4853-B29D-57DFB312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67B-C282-4027-BBD4-AB4CD6D1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82E2-1DBB-4E36-B29A-30B1B459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02C-D201-411F-8EE3-F676C652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2CA-916B-43CB-A3E3-3269239A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BFC8-D8C3-4BCC-B058-864798EFE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e 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51055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ntité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nction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itulaire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ponsable hiérarchique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uppléant en cas d’absenc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5335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te de mise à jour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6858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ssion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5181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tributions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2590920"/>
            <a:ext cx="16765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cateur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848720"/>
            <a:ext cx="6858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élégation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7:50:07Z</dcterms:created>
  <dc:creator>MADERS</dc:creator>
  <dc:description/>
  <dc:language>en-US</dc:language>
  <cp:lastModifiedBy>MADERS</cp:lastModifiedBy>
  <dcterms:modified xsi:type="dcterms:W3CDTF">2002-03-09T11:13:09Z</dcterms:modified>
  <cp:revision>5</cp:revision>
  <dc:subject/>
  <dc:title>Présentation PowerPoint</dc:title>
</cp:coreProperties>
</file>