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E34-549A-4131-9730-590931A9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2B4-E816-4060-8AB2-86D12B3C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534-9A6A-4228-A000-18404D99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B61-7BB4-49E0-AB9D-73A415E4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F07-D18A-449A-A5ED-E8ABE114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D5C-9404-44F1-8693-48918DC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A4B-3386-407E-8152-223D0D3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C7A-A6C5-4EDB-A0AB-85A86E7A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B4A-91CD-42DA-A757-5E777C58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1E4-A52E-42B1-9A31-A6B7E59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347-EA6A-422D-80AA-C6BC9E8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9AA-CCA8-42BE-9E9C-F0AFB947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398-23D8-46A9-A309-125FA319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3886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4495680"/>
            <a:ext cx="239724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6095880"/>
            <a:ext cx="30193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rot="5400000">
            <a:off x="2202480" y="4848840"/>
            <a:ext cx="835200" cy="165924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flipH="1" rot="16200000">
            <a:off x="3828960" y="4881240"/>
            <a:ext cx="835200" cy="159408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3449520" y="4038480"/>
            <a:ext cx="1764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228600" y="76960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s de trav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28T07:57:50Z</dcterms:modified>
  <cp:revision>100</cp:revision>
  <dc:subject/>
  <dc:title>Présentation PowerPoint</dc:title>
</cp:coreProperties>
</file>