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589-045C-4793-A97E-ABD72A91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2D4-7413-4016-A92F-D3852F5F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E72-CA2E-469A-AC2A-39D2C3FC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406-E65E-4567-96BE-B9029A71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32C-7F15-456C-93E6-A65A8FA5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690-DCF5-4EDE-8E06-7F0621FC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F7E-184E-4462-848D-CE982004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0B4-614A-4443-B821-00D4999A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872-EAA7-4202-A390-E957BD66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87E-4CDC-42F5-B206-B4248413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1F3-E95D-4F2F-B9C2-8ECF5AE2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6EF-7DFD-4BC2-A40C-8D49F3F2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9078-6AA4-4D90-A9EE-EB27B18C6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42" name=""/>
            <p:cNvGrpSpPr/>
            <p:nvPr/>
          </p:nvGrpSpPr>
          <p:grpSpPr>
            <a:xfrm>
              <a:off x="3960" y="3600"/>
              <a:ext cx="6849000" cy="9135360"/>
              <a:chOff x="3960" y="3600"/>
              <a:chExt cx="6849000" cy="91353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3960" y="3600"/>
                <a:ext cx="2653920" cy="938520"/>
                <a:chOff x="3960" y="3600"/>
                <a:chExt cx="2653920" cy="9385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44640" y="3600"/>
                  <a:ext cx="25718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3960" y="3600"/>
                  <a:ext cx="26539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2657880" y="3600"/>
                <a:ext cx="300960" cy="938520"/>
                <a:chOff x="2657880" y="3600"/>
                <a:chExt cx="300960" cy="93852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6985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6578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2959200" y="3600"/>
                <a:ext cx="300960" cy="938520"/>
                <a:chOff x="2959200" y="3600"/>
                <a:chExt cx="300960" cy="93852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0002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95920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3260160" y="3600"/>
                <a:ext cx="301320" cy="938520"/>
                <a:chOff x="3260160" y="3600"/>
                <a:chExt cx="301320" cy="938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30120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26016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561480" y="3600"/>
                <a:ext cx="300960" cy="938520"/>
                <a:chOff x="3561480" y="3600"/>
                <a:chExt cx="300960" cy="9385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6021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5614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862800" y="3600"/>
                <a:ext cx="301320" cy="938520"/>
                <a:chOff x="3862800" y="3600"/>
                <a:chExt cx="301320" cy="9385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9038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8628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164120" y="3600"/>
                <a:ext cx="300960" cy="938520"/>
                <a:chOff x="4164120" y="3600"/>
                <a:chExt cx="300960" cy="9385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2048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1641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465080" y="3600"/>
                <a:ext cx="300960" cy="938520"/>
                <a:chOff x="4465080" y="3600"/>
                <a:chExt cx="300960" cy="9385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50612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4650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766400" y="3600"/>
                <a:ext cx="301320" cy="938520"/>
                <a:chOff x="4766400" y="3600"/>
                <a:chExt cx="301320" cy="9385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8074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7664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067720" y="3600"/>
                <a:ext cx="300960" cy="938520"/>
                <a:chOff x="5067720" y="3600"/>
                <a:chExt cx="300960" cy="9385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1084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0677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369040" y="3600"/>
                <a:ext cx="301320" cy="938520"/>
                <a:chOff x="5369040" y="3600"/>
                <a:chExt cx="301320" cy="9385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41008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36904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670360" y="3600"/>
                <a:ext cx="300960" cy="938520"/>
                <a:chOff x="5670360" y="3600"/>
                <a:chExt cx="300960" cy="9385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71104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67036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5971320" y="3600"/>
                <a:ext cx="881640" cy="938520"/>
                <a:chOff x="5971320" y="3600"/>
                <a:chExt cx="881640" cy="9385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012360" y="3600"/>
                  <a:ext cx="79956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ouver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971320" y="3600"/>
                  <a:ext cx="88164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960" y="942120"/>
                <a:ext cx="2653920" cy="659160"/>
                <a:chOff x="3960" y="942120"/>
                <a:chExt cx="2653920" cy="6591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4640" y="942120"/>
                  <a:ext cx="25718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960" y="942120"/>
                  <a:ext cx="26539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57880" y="942120"/>
                <a:ext cx="300960" cy="659160"/>
                <a:chOff x="2657880" y="942120"/>
                <a:chExt cx="300960" cy="659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985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578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959200" y="942120"/>
                <a:ext cx="300960" cy="659160"/>
                <a:chOff x="2959200" y="942120"/>
                <a:chExt cx="300960" cy="6591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0002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95920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260160" y="942120"/>
                <a:ext cx="301320" cy="659160"/>
                <a:chOff x="3260160" y="942120"/>
                <a:chExt cx="301320" cy="6591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30120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26016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561480" y="942120"/>
                <a:ext cx="300960" cy="659160"/>
                <a:chOff x="3561480" y="942120"/>
                <a:chExt cx="300960" cy="6591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6021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5614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862800" y="942120"/>
                <a:ext cx="301320" cy="659160"/>
                <a:chOff x="3862800" y="942120"/>
                <a:chExt cx="301320" cy="6591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9038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8628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164120" y="942120"/>
                <a:ext cx="300960" cy="659160"/>
                <a:chOff x="4164120" y="942120"/>
                <a:chExt cx="300960" cy="659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2048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1641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465080" y="942120"/>
                <a:ext cx="300960" cy="659160"/>
                <a:chOff x="4465080" y="942120"/>
                <a:chExt cx="300960" cy="6591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50612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4650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766400" y="942120"/>
                <a:ext cx="301320" cy="659160"/>
                <a:chOff x="4766400" y="942120"/>
                <a:chExt cx="301320" cy="6591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8074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664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067720" y="942120"/>
                <a:ext cx="300960" cy="659160"/>
                <a:chOff x="5067720" y="942120"/>
                <a:chExt cx="300960" cy="6591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1084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0677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369040" y="942120"/>
                <a:ext cx="301320" cy="659160"/>
                <a:chOff x="5369040" y="942120"/>
                <a:chExt cx="301320" cy="6591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41008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36904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70360" y="942120"/>
                <a:ext cx="300960" cy="659160"/>
                <a:chOff x="5670360" y="942120"/>
                <a:chExt cx="300960" cy="6591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71104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67036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971320" y="942120"/>
                <a:ext cx="881640" cy="659160"/>
                <a:chOff x="5971320" y="942120"/>
                <a:chExt cx="881640" cy="6591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012360" y="942120"/>
                  <a:ext cx="7995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71320" y="942120"/>
                  <a:ext cx="88164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960" y="1601280"/>
                <a:ext cx="2653920" cy="519120"/>
                <a:chOff x="3960" y="1601280"/>
                <a:chExt cx="2653920" cy="519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4640" y="1601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60" y="1601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57880" y="1601280"/>
                <a:ext cx="300960" cy="519120"/>
                <a:chOff x="2657880" y="1601280"/>
                <a:chExt cx="300960" cy="519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985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578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959200" y="1601280"/>
                <a:ext cx="300960" cy="519120"/>
                <a:chOff x="2959200" y="1601280"/>
                <a:chExt cx="300960" cy="519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002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95920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260160" y="1601280"/>
                <a:ext cx="301320" cy="519120"/>
                <a:chOff x="3260160" y="1601280"/>
                <a:chExt cx="301320" cy="5191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30120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6016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561480" y="1601280"/>
                <a:ext cx="300960" cy="519120"/>
                <a:chOff x="3561480" y="1601280"/>
                <a:chExt cx="300960" cy="519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6021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5614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862800" y="1601280"/>
                <a:ext cx="301320" cy="519120"/>
                <a:chOff x="3862800" y="1601280"/>
                <a:chExt cx="301320" cy="519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9038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628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164120" y="1601280"/>
                <a:ext cx="300960" cy="519120"/>
                <a:chOff x="4164120" y="1601280"/>
                <a:chExt cx="300960" cy="519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2048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641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465080" y="1601280"/>
                <a:ext cx="300960" cy="519120"/>
                <a:chOff x="4465080" y="1601280"/>
                <a:chExt cx="300960" cy="519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50612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4650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766400" y="1601280"/>
                <a:ext cx="301320" cy="519120"/>
                <a:chOff x="4766400" y="1601280"/>
                <a:chExt cx="301320" cy="519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8074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7664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067720" y="1601280"/>
                <a:ext cx="300960" cy="519120"/>
                <a:chOff x="5067720" y="1601280"/>
                <a:chExt cx="300960" cy="519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1084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677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369040" y="1601280"/>
                <a:ext cx="301320" cy="519120"/>
                <a:chOff x="5369040" y="1601280"/>
                <a:chExt cx="301320" cy="519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41008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36904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670360" y="1601280"/>
                <a:ext cx="300960" cy="519120"/>
                <a:chOff x="5670360" y="1601280"/>
                <a:chExt cx="300960" cy="5191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71104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67036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971320" y="1601280"/>
                <a:ext cx="881640" cy="519120"/>
                <a:chOff x="5971320" y="1601280"/>
                <a:chExt cx="881640" cy="5191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12360" y="1601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971320" y="1601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960" y="2120760"/>
                <a:ext cx="2653920" cy="519120"/>
                <a:chOff x="3960" y="2120760"/>
                <a:chExt cx="2653920" cy="5191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4640" y="21207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60" y="21207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657880" y="2120760"/>
                <a:ext cx="300960" cy="519120"/>
                <a:chOff x="2657880" y="2120760"/>
                <a:chExt cx="300960" cy="519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6985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6578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959200" y="2120760"/>
                <a:ext cx="300960" cy="519120"/>
                <a:chOff x="2959200" y="2120760"/>
                <a:chExt cx="300960" cy="519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002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95920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260160" y="2120760"/>
                <a:ext cx="301320" cy="519120"/>
                <a:chOff x="3260160" y="2120760"/>
                <a:chExt cx="301320" cy="5191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30120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26016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561480" y="2120760"/>
                <a:ext cx="300960" cy="519120"/>
                <a:chOff x="3561480" y="2120760"/>
                <a:chExt cx="300960" cy="5191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6021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5614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862800" y="2120760"/>
                <a:ext cx="301320" cy="519120"/>
                <a:chOff x="3862800" y="2120760"/>
                <a:chExt cx="301320" cy="5191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9038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628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164120" y="2120760"/>
                <a:ext cx="300960" cy="519120"/>
                <a:chOff x="4164120" y="2120760"/>
                <a:chExt cx="300960" cy="5191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2048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641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465080" y="2120760"/>
                <a:ext cx="300960" cy="519120"/>
                <a:chOff x="4465080" y="2120760"/>
                <a:chExt cx="300960" cy="5191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50612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4650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766400" y="2120760"/>
                <a:ext cx="301320" cy="519120"/>
                <a:chOff x="4766400" y="2120760"/>
                <a:chExt cx="301320" cy="5191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8074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664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067720" y="2120760"/>
                <a:ext cx="300960" cy="519120"/>
                <a:chOff x="5067720" y="2120760"/>
                <a:chExt cx="300960" cy="5191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1084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0677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369040" y="2120760"/>
                <a:ext cx="301320" cy="519120"/>
                <a:chOff x="5369040" y="2120760"/>
                <a:chExt cx="301320" cy="5191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41008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6904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670360" y="2120760"/>
                <a:ext cx="300960" cy="519120"/>
                <a:chOff x="5670360" y="2120760"/>
                <a:chExt cx="300960" cy="519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71104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67036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971320" y="2120760"/>
                <a:ext cx="881640" cy="519120"/>
                <a:chOff x="5971320" y="2120760"/>
                <a:chExt cx="881640" cy="5191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012360" y="21207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71320" y="21207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960" y="2639880"/>
                <a:ext cx="2653920" cy="519480"/>
                <a:chOff x="3960" y="2639880"/>
                <a:chExt cx="2653920" cy="5194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4640" y="2639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960" y="2639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657880" y="2639880"/>
                <a:ext cx="300960" cy="519480"/>
                <a:chOff x="2657880" y="2639880"/>
                <a:chExt cx="300960" cy="5194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6985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6578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959200" y="2639880"/>
                <a:ext cx="300960" cy="519480"/>
                <a:chOff x="2959200" y="2639880"/>
                <a:chExt cx="300960" cy="5194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0002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95920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260160" y="2639880"/>
                <a:ext cx="301320" cy="519480"/>
                <a:chOff x="3260160" y="2639880"/>
                <a:chExt cx="301320" cy="5194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30120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26016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561480" y="2639880"/>
                <a:ext cx="300960" cy="519480"/>
                <a:chOff x="3561480" y="2639880"/>
                <a:chExt cx="300960" cy="5194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6021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5614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862800" y="2639880"/>
                <a:ext cx="301320" cy="519480"/>
                <a:chOff x="3862800" y="2639880"/>
                <a:chExt cx="301320" cy="5194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9038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8628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164120" y="2639880"/>
                <a:ext cx="300960" cy="519480"/>
                <a:chOff x="4164120" y="2639880"/>
                <a:chExt cx="300960" cy="5194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2048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1641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465080" y="2639880"/>
                <a:ext cx="300960" cy="519480"/>
                <a:chOff x="4465080" y="2639880"/>
                <a:chExt cx="300960" cy="5194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50612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4650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766400" y="2639880"/>
                <a:ext cx="301320" cy="519480"/>
                <a:chOff x="4766400" y="2639880"/>
                <a:chExt cx="301320" cy="519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8074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7664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067720" y="2639880"/>
                <a:ext cx="300960" cy="519480"/>
                <a:chOff x="5067720" y="2639880"/>
                <a:chExt cx="300960" cy="5194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1084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0677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369040" y="2639880"/>
                <a:ext cx="301320" cy="519480"/>
                <a:chOff x="5369040" y="2639880"/>
                <a:chExt cx="301320" cy="5194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41008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6904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670360" y="2639880"/>
                <a:ext cx="300960" cy="519480"/>
                <a:chOff x="5670360" y="2639880"/>
                <a:chExt cx="300960" cy="51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71104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67036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971320" y="2639880"/>
                <a:ext cx="881640" cy="519480"/>
                <a:chOff x="5971320" y="2639880"/>
                <a:chExt cx="881640" cy="5194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012360" y="2639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71320" y="2639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960" y="3159360"/>
                <a:ext cx="2653920" cy="519120"/>
                <a:chOff x="3960" y="3159360"/>
                <a:chExt cx="2653920" cy="519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4640" y="3159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960" y="3159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657880" y="3159360"/>
                <a:ext cx="300960" cy="519120"/>
                <a:chOff x="2657880" y="3159360"/>
                <a:chExt cx="300960" cy="5191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6985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6578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959200" y="3159360"/>
                <a:ext cx="300960" cy="519120"/>
                <a:chOff x="2959200" y="3159360"/>
                <a:chExt cx="300960" cy="519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002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95920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260160" y="3159360"/>
                <a:ext cx="301320" cy="519120"/>
                <a:chOff x="3260160" y="3159360"/>
                <a:chExt cx="301320" cy="519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30120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6016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561480" y="3159360"/>
                <a:ext cx="300960" cy="519120"/>
                <a:chOff x="3561480" y="3159360"/>
                <a:chExt cx="300960" cy="519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6021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5614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862800" y="3159360"/>
                <a:ext cx="301320" cy="519120"/>
                <a:chOff x="3862800" y="3159360"/>
                <a:chExt cx="301320" cy="5191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39038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8628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164120" y="3159360"/>
                <a:ext cx="300960" cy="519120"/>
                <a:chOff x="4164120" y="3159360"/>
                <a:chExt cx="300960" cy="5191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2048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1641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465080" y="3159360"/>
                <a:ext cx="300960" cy="519120"/>
                <a:chOff x="4465080" y="3159360"/>
                <a:chExt cx="300960" cy="5191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50612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4650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766400" y="3159360"/>
                <a:ext cx="301320" cy="519120"/>
                <a:chOff x="4766400" y="3159360"/>
                <a:chExt cx="301320" cy="5191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8074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664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067720" y="3159360"/>
                <a:ext cx="300960" cy="519120"/>
                <a:chOff x="5067720" y="3159360"/>
                <a:chExt cx="300960" cy="5191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1084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0677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369040" y="3159360"/>
                <a:ext cx="301320" cy="519120"/>
                <a:chOff x="5369040" y="3159360"/>
                <a:chExt cx="301320" cy="5191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41008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6904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670360" y="3159360"/>
                <a:ext cx="300960" cy="519120"/>
                <a:chOff x="5670360" y="3159360"/>
                <a:chExt cx="300960" cy="5191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71104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67036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5971320" y="3159360"/>
                <a:ext cx="881640" cy="519120"/>
                <a:chOff x="5971320" y="3159360"/>
                <a:chExt cx="881640" cy="5191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12360" y="3159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71320" y="3159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960" y="3678840"/>
                <a:ext cx="2653920" cy="519480"/>
                <a:chOff x="3960" y="3678840"/>
                <a:chExt cx="2653920" cy="5194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4640" y="3678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60" y="3678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657880" y="3678840"/>
                <a:ext cx="300960" cy="519480"/>
                <a:chOff x="2657880" y="3678840"/>
                <a:chExt cx="300960" cy="5194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6985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6578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959200" y="3678840"/>
                <a:ext cx="300960" cy="519480"/>
                <a:chOff x="2959200" y="3678840"/>
                <a:chExt cx="300960" cy="5194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0002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95920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260160" y="3678840"/>
                <a:ext cx="301320" cy="519480"/>
                <a:chOff x="3260160" y="3678840"/>
                <a:chExt cx="301320" cy="5194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30120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26016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561480" y="3678840"/>
                <a:ext cx="300960" cy="519480"/>
                <a:chOff x="3561480" y="3678840"/>
                <a:chExt cx="300960" cy="519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6021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5614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862800" y="3678840"/>
                <a:ext cx="301320" cy="519480"/>
                <a:chOff x="3862800" y="3678840"/>
                <a:chExt cx="301320" cy="519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9038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628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164120" y="3678840"/>
                <a:ext cx="300960" cy="519480"/>
                <a:chOff x="4164120" y="3678840"/>
                <a:chExt cx="300960" cy="519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2048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1641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465080" y="3678840"/>
                <a:ext cx="300960" cy="519480"/>
                <a:chOff x="4465080" y="3678840"/>
                <a:chExt cx="300960" cy="519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0612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4650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766400" y="3678840"/>
                <a:ext cx="301320" cy="519480"/>
                <a:chOff x="4766400" y="3678840"/>
                <a:chExt cx="301320" cy="519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8074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7664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067720" y="3678840"/>
                <a:ext cx="300960" cy="519480"/>
                <a:chOff x="5067720" y="3678840"/>
                <a:chExt cx="300960" cy="519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1084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0677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369040" y="3678840"/>
                <a:ext cx="301320" cy="519480"/>
                <a:chOff x="5369040" y="3678840"/>
                <a:chExt cx="301320" cy="5194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41008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36904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670360" y="3678840"/>
                <a:ext cx="300960" cy="519480"/>
                <a:chOff x="5670360" y="3678840"/>
                <a:chExt cx="300960" cy="519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71104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67036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971320" y="3678840"/>
                <a:ext cx="881640" cy="519480"/>
                <a:chOff x="5971320" y="3678840"/>
                <a:chExt cx="881640" cy="519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12360" y="3678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971320" y="3678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960" y="4198320"/>
                <a:ext cx="2653920" cy="519120"/>
                <a:chOff x="3960" y="4198320"/>
                <a:chExt cx="2653920" cy="5191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4640" y="4198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960" y="4198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657880" y="4198320"/>
                <a:ext cx="300960" cy="519120"/>
                <a:chOff x="2657880" y="4198320"/>
                <a:chExt cx="300960" cy="5191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6985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578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959200" y="4198320"/>
                <a:ext cx="300960" cy="519120"/>
                <a:chOff x="2959200" y="4198320"/>
                <a:chExt cx="300960" cy="5191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002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5920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260160" y="4198320"/>
                <a:ext cx="301320" cy="519120"/>
                <a:chOff x="3260160" y="4198320"/>
                <a:chExt cx="301320" cy="5191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30120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26016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561480" y="4198320"/>
                <a:ext cx="300960" cy="519120"/>
                <a:chOff x="3561480" y="4198320"/>
                <a:chExt cx="300960" cy="5191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6021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614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862800" y="4198320"/>
                <a:ext cx="301320" cy="519120"/>
                <a:chOff x="3862800" y="4198320"/>
                <a:chExt cx="301320" cy="5191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9038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8628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164120" y="4198320"/>
                <a:ext cx="300960" cy="519120"/>
                <a:chOff x="4164120" y="4198320"/>
                <a:chExt cx="300960" cy="5191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2048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641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465080" y="4198320"/>
                <a:ext cx="300960" cy="519120"/>
                <a:chOff x="4465080" y="4198320"/>
                <a:chExt cx="300960" cy="5191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0612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650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766400" y="4198320"/>
                <a:ext cx="301320" cy="519120"/>
                <a:chOff x="4766400" y="4198320"/>
                <a:chExt cx="301320" cy="5191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8074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7664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067720" y="4198320"/>
                <a:ext cx="300960" cy="519120"/>
                <a:chOff x="5067720" y="4198320"/>
                <a:chExt cx="300960" cy="5191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1084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0677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369040" y="4198320"/>
                <a:ext cx="301320" cy="519120"/>
                <a:chOff x="5369040" y="4198320"/>
                <a:chExt cx="301320" cy="5191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41008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36904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670360" y="4198320"/>
                <a:ext cx="300960" cy="519120"/>
                <a:chOff x="5670360" y="4198320"/>
                <a:chExt cx="300960" cy="5191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71104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67036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971320" y="4198320"/>
                <a:ext cx="881640" cy="519120"/>
                <a:chOff x="5971320" y="4198320"/>
                <a:chExt cx="881640" cy="5191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012360" y="4198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971320" y="4198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3960" y="4717800"/>
                <a:ext cx="2653920" cy="519480"/>
                <a:chOff x="3960" y="4717800"/>
                <a:chExt cx="2653920" cy="519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4640" y="471780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960" y="471780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657880" y="4717800"/>
                <a:ext cx="300960" cy="519480"/>
                <a:chOff x="2657880" y="4717800"/>
                <a:chExt cx="300960" cy="5194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6985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6578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959200" y="4717800"/>
                <a:ext cx="300960" cy="519480"/>
                <a:chOff x="2959200" y="4717800"/>
                <a:chExt cx="300960" cy="5194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002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95920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260160" y="4717800"/>
                <a:ext cx="301320" cy="519480"/>
                <a:chOff x="3260160" y="4717800"/>
                <a:chExt cx="301320" cy="5194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30120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26016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561480" y="4717800"/>
                <a:ext cx="300960" cy="519480"/>
                <a:chOff x="3561480" y="4717800"/>
                <a:chExt cx="300960" cy="5194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6021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5614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862800" y="4717800"/>
                <a:ext cx="301320" cy="519480"/>
                <a:chOff x="3862800" y="4717800"/>
                <a:chExt cx="301320" cy="5194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9038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628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164120" y="4717800"/>
                <a:ext cx="300960" cy="519480"/>
                <a:chOff x="4164120" y="4717800"/>
                <a:chExt cx="300960" cy="5194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2048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641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465080" y="4717800"/>
                <a:ext cx="300960" cy="519480"/>
                <a:chOff x="4465080" y="4717800"/>
                <a:chExt cx="300960" cy="5194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50612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4650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766400" y="4717800"/>
                <a:ext cx="301320" cy="519480"/>
                <a:chOff x="4766400" y="4717800"/>
                <a:chExt cx="301320" cy="519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8074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7664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067720" y="4717800"/>
                <a:ext cx="300960" cy="519480"/>
                <a:chOff x="5067720" y="4717800"/>
                <a:chExt cx="300960" cy="519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1084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0677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369040" y="4717800"/>
                <a:ext cx="301320" cy="519480"/>
                <a:chOff x="5369040" y="4717800"/>
                <a:chExt cx="301320" cy="5194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41008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36904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670360" y="4717800"/>
                <a:ext cx="300960" cy="519480"/>
                <a:chOff x="5670360" y="4717800"/>
                <a:chExt cx="300960" cy="5194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71104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67036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5971320" y="4717800"/>
                <a:ext cx="881640" cy="519480"/>
                <a:chOff x="5971320" y="4717800"/>
                <a:chExt cx="881640" cy="5194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012360" y="471780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971320" y="471780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960" y="5237280"/>
                <a:ext cx="2653920" cy="519120"/>
                <a:chOff x="3960" y="5237280"/>
                <a:chExt cx="2653920" cy="519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4640" y="5237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960" y="5237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2657880" y="5237280"/>
                <a:ext cx="300960" cy="519120"/>
                <a:chOff x="2657880" y="5237280"/>
                <a:chExt cx="300960" cy="519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6985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6578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959200" y="5237280"/>
                <a:ext cx="300960" cy="519120"/>
                <a:chOff x="2959200" y="5237280"/>
                <a:chExt cx="300960" cy="519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002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95920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260160" y="5237280"/>
                <a:ext cx="301320" cy="519120"/>
                <a:chOff x="3260160" y="5237280"/>
                <a:chExt cx="301320" cy="519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30120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26016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561480" y="5237280"/>
                <a:ext cx="300960" cy="519120"/>
                <a:chOff x="3561480" y="5237280"/>
                <a:chExt cx="300960" cy="519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6021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5614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862800" y="5237280"/>
                <a:ext cx="301320" cy="519120"/>
                <a:chOff x="3862800" y="5237280"/>
                <a:chExt cx="301320" cy="5191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9038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8628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164120" y="5237280"/>
                <a:ext cx="300960" cy="519120"/>
                <a:chOff x="4164120" y="5237280"/>
                <a:chExt cx="300960" cy="519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048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641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465080" y="5237280"/>
                <a:ext cx="300960" cy="519120"/>
                <a:chOff x="4465080" y="5237280"/>
                <a:chExt cx="300960" cy="519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50612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4650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766400" y="5237280"/>
                <a:ext cx="301320" cy="519120"/>
                <a:chOff x="4766400" y="5237280"/>
                <a:chExt cx="301320" cy="5191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8074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7664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067720" y="5237280"/>
                <a:ext cx="300960" cy="519120"/>
                <a:chOff x="5067720" y="5237280"/>
                <a:chExt cx="300960" cy="5191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1084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0677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369040" y="5237280"/>
                <a:ext cx="301320" cy="519120"/>
                <a:chOff x="5369040" y="5237280"/>
                <a:chExt cx="301320" cy="519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41008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36904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5670360" y="5237280"/>
                <a:ext cx="300960" cy="519120"/>
                <a:chOff x="5670360" y="5237280"/>
                <a:chExt cx="300960" cy="5191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71104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67036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5971320" y="5237280"/>
                <a:ext cx="881640" cy="519120"/>
                <a:chOff x="5971320" y="5237280"/>
                <a:chExt cx="881640" cy="5191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12360" y="5237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971320" y="5237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960" y="5756400"/>
                <a:ext cx="2653920" cy="519120"/>
                <a:chOff x="3960" y="5756400"/>
                <a:chExt cx="2653920" cy="5191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4640" y="575640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960" y="575640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657880" y="5756400"/>
                <a:ext cx="300960" cy="519120"/>
                <a:chOff x="2657880" y="5756400"/>
                <a:chExt cx="300960" cy="519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6985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6578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2959200" y="5756400"/>
                <a:ext cx="300960" cy="519120"/>
                <a:chOff x="2959200" y="5756400"/>
                <a:chExt cx="300960" cy="5191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0002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95920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260160" y="5756400"/>
                <a:ext cx="301320" cy="519120"/>
                <a:chOff x="3260160" y="5756400"/>
                <a:chExt cx="301320" cy="5191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30120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26016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561480" y="5756400"/>
                <a:ext cx="300960" cy="519120"/>
                <a:chOff x="3561480" y="5756400"/>
                <a:chExt cx="300960" cy="5191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021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5614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862800" y="5756400"/>
                <a:ext cx="301320" cy="519120"/>
                <a:chOff x="3862800" y="5756400"/>
                <a:chExt cx="301320" cy="5191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9038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628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164120" y="5756400"/>
                <a:ext cx="300960" cy="519120"/>
                <a:chOff x="4164120" y="5756400"/>
                <a:chExt cx="300960" cy="5191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2048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1641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465080" y="5756400"/>
                <a:ext cx="300960" cy="519120"/>
                <a:chOff x="4465080" y="5756400"/>
                <a:chExt cx="300960" cy="5191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50612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4650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766400" y="5756400"/>
                <a:ext cx="301320" cy="519120"/>
                <a:chOff x="4766400" y="5756400"/>
                <a:chExt cx="301320" cy="5191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8074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7664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067720" y="5756400"/>
                <a:ext cx="300960" cy="519120"/>
                <a:chOff x="5067720" y="5756400"/>
                <a:chExt cx="300960" cy="5191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1084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0677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369040" y="5756400"/>
                <a:ext cx="301320" cy="519120"/>
                <a:chOff x="5369040" y="5756400"/>
                <a:chExt cx="301320" cy="5191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41008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36904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670360" y="5756400"/>
                <a:ext cx="300960" cy="519120"/>
                <a:chOff x="5670360" y="5756400"/>
                <a:chExt cx="300960" cy="5191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71104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67036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971320" y="5756400"/>
                <a:ext cx="881640" cy="519120"/>
                <a:chOff x="5971320" y="5756400"/>
                <a:chExt cx="881640" cy="5191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012360" y="575640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71320" y="575640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3960" y="6275880"/>
                <a:ext cx="2653920" cy="519480"/>
                <a:chOff x="3960" y="6275880"/>
                <a:chExt cx="2653920" cy="5194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4640" y="6275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960" y="6275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657880" y="6275880"/>
                <a:ext cx="300960" cy="519480"/>
                <a:chOff x="2657880" y="6275880"/>
                <a:chExt cx="300960" cy="5194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6985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6578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959200" y="6275880"/>
                <a:ext cx="300960" cy="519480"/>
                <a:chOff x="2959200" y="6275880"/>
                <a:chExt cx="300960" cy="5194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0002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95920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260160" y="6275880"/>
                <a:ext cx="301320" cy="519480"/>
                <a:chOff x="3260160" y="6275880"/>
                <a:chExt cx="301320" cy="5194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30120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26016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3561480" y="6275880"/>
                <a:ext cx="300960" cy="519480"/>
                <a:chOff x="3561480" y="6275880"/>
                <a:chExt cx="300960" cy="5194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6021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5614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862800" y="6275880"/>
                <a:ext cx="301320" cy="519480"/>
                <a:chOff x="3862800" y="6275880"/>
                <a:chExt cx="301320" cy="5194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9038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628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164120" y="6275880"/>
                <a:ext cx="300960" cy="519480"/>
                <a:chOff x="4164120" y="6275880"/>
                <a:chExt cx="300960" cy="5194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2048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1641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465080" y="6275880"/>
                <a:ext cx="300960" cy="519480"/>
                <a:chOff x="4465080" y="6275880"/>
                <a:chExt cx="300960" cy="5194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50612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4650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766400" y="6275880"/>
                <a:ext cx="301320" cy="519480"/>
                <a:chOff x="4766400" y="6275880"/>
                <a:chExt cx="301320" cy="5194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8074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7664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5067720" y="6275880"/>
                <a:ext cx="300960" cy="519480"/>
                <a:chOff x="5067720" y="6275880"/>
                <a:chExt cx="300960" cy="5194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1084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0677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369040" y="6275880"/>
                <a:ext cx="301320" cy="519480"/>
                <a:chOff x="5369040" y="6275880"/>
                <a:chExt cx="301320" cy="51948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41008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36904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670360" y="6275880"/>
                <a:ext cx="300960" cy="519480"/>
                <a:chOff x="5670360" y="6275880"/>
                <a:chExt cx="300960" cy="5194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71104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67036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5971320" y="6275880"/>
                <a:ext cx="881640" cy="519480"/>
                <a:chOff x="5971320" y="6275880"/>
                <a:chExt cx="881640" cy="5194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012360" y="6275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71320" y="6275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3960" y="6795360"/>
                <a:ext cx="2653920" cy="519120"/>
                <a:chOff x="3960" y="6795360"/>
                <a:chExt cx="2653920" cy="5191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4640" y="6795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960" y="6795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657880" y="6795360"/>
                <a:ext cx="300960" cy="519120"/>
                <a:chOff x="2657880" y="6795360"/>
                <a:chExt cx="300960" cy="5191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6985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578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2959200" y="6795360"/>
                <a:ext cx="300960" cy="519120"/>
                <a:chOff x="2959200" y="6795360"/>
                <a:chExt cx="300960" cy="5191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0002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95920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260160" y="6795360"/>
                <a:ext cx="301320" cy="519120"/>
                <a:chOff x="3260160" y="6795360"/>
                <a:chExt cx="301320" cy="5191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30120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26016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561480" y="6795360"/>
                <a:ext cx="300960" cy="519120"/>
                <a:chOff x="3561480" y="6795360"/>
                <a:chExt cx="300960" cy="5191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6021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5614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862800" y="6795360"/>
                <a:ext cx="301320" cy="519120"/>
                <a:chOff x="3862800" y="6795360"/>
                <a:chExt cx="301320" cy="5191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9038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8628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164120" y="6795360"/>
                <a:ext cx="300960" cy="519120"/>
                <a:chOff x="4164120" y="6795360"/>
                <a:chExt cx="300960" cy="5191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2048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1641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465080" y="6795360"/>
                <a:ext cx="300960" cy="519120"/>
                <a:chOff x="4465080" y="6795360"/>
                <a:chExt cx="300960" cy="5191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50612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4650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766400" y="6795360"/>
                <a:ext cx="301320" cy="519120"/>
                <a:chOff x="4766400" y="6795360"/>
                <a:chExt cx="301320" cy="5191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48074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7664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067720" y="6795360"/>
                <a:ext cx="300960" cy="519120"/>
                <a:chOff x="5067720" y="6795360"/>
                <a:chExt cx="300960" cy="51912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1084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0677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369040" y="6795360"/>
                <a:ext cx="301320" cy="519120"/>
                <a:chOff x="5369040" y="6795360"/>
                <a:chExt cx="301320" cy="5191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41008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36904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670360" y="6795360"/>
                <a:ext cx="300960" cy="519120"/>
                <a:chOff x="5670360" y="6795360"/>
                <a:chExt cx="300960" cy="5191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71104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67036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5971320" y="6795360"/>
                <a:ext cx="881640" cy="519120"/>
                <a:chOff x="5971320" y="6795360"/>
                <a:chExt cx="881640" cy="5191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012360" y="6795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971320" y="6795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3960" y="7314840"/>
                <a:ext cx="2653920" cy="519480"/>
                <a:chOff x="3960" y="7314840"/>
                <a:chExt cx="2653920" cy="51948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44640" y="7314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960" y="7314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657880" y="7314840"/>
                <a:ext cx="300960" cy="519480"/>
                <a:chOff x="2657880" y="7314840"/>
                <a:chExt cx="300960" cy="51948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6985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6578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2959200" y="7314840"/>
                <a:ext cx="300960" cy="519480"/>
                <a:chOff x="2959200" y="7314840"/>
                <a:chExt cx="300960" cy="51948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0002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95920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3260160" y="7314840"/>
                <a:ext cx="301320" cy="519480"/>
                <a:chOff x="3260160" y="7314840"/>
                <a:chExt cx="301320" cy="51948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30120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6016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561480" y="7314840"/>
                <a:ext cx="300960" cy="519480"/>
                <a:chOff x="3561480" y="7314840"/>
                <a:chExt cx="300960" cy="51948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6021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5614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3862800" y="7314840"/>
                <a:ext cx="301320" cy="519480"/>
                <a:chOff x="3862800" y="7314840"/>
                <a:chExt cx="301320" cy="5194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39038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8628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164120" y="7314840"/>
                <a:ext cx="300960" cy="519480"/>
                <a:chOff x="4164120" y="7314840"/>
                <a:chExt cx="300960" cy="5194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2048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1641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465080" y="7314840"/>
                <a:ext cx="300960" cy="519480"/>
                <a:chOff x="4465080" y="7314840"/>
                <a:chExt cx="300960" cy="5194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50612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4650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766400" y="7314840"/>
                <a:ext cx="301320" cy="519480"/>
                <a:chOff x="4766400" y="7314840"/>
                <a:chExt cx="301320" cy="5194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8074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7664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5067720" y="7314840"/>
                <a:ext cx="300960" cy="519480"/>
                <a:chOff x="5067720" y="7314840"/>
                <a:chExt cx="300960" cy="51948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51084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0677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369040" y="7314840"/>
                <a:ext cx="301320" cy="519480"/>
                <a:chOff x="5369040" y="7314840"/>
                <a:chExt cx="301320" cy="5194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41008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36904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670360" y="7314840"/>
                <a:ext cx="300960" cy="519480"/>
                <a:chOff x="5670360" y="7314840"/>
                <a:chExt cx="300960" cy="5194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71104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67036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5971320" y="7314840"/>
                <a:ext cx="881640" cy="519480"/>
                <a:chOff x="5971320" y="7314840"/>
                <a:chExt cx="881640" cy="5194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012360" y="7314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971320" y="7314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3960" y="7834320"/>
                <a:ext cx="2653920" cy="519120"/>
                <a:chOff x="3960" y="7834320"/>
                <a:chExt cx="2653920" cy="51912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4640" y="7834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960" y="7834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2657880" y="7834320"/>
                <a:ext cx="300960" cy="519120"/>
                <a:chOff x="2657880" y="7834320"/>
                <a:chExt cx="300960" cy="5191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6985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6578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2959200" y="7834320"/>
                <a:ext cx="300960" cy="519120"/>
                <a:chOff x="2959200" y="7834320"/>
                <a:chExt cx="300960" cy="5191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0002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95920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260160" y="7834320"/>
                <a:ext cx="301320" cy="519120"/>
                <a:chOff x="3260160" y="7834320"/>
                <a:chExt cx="301320" cy="51912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30120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6016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561480" y="7834320"/>
                <a:ext cx="300960" cy="519120"/>
                <a:chOff x="3561480" y="7834320"/>
                <a:chExt cx="300960" cy="5191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6021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14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862800" y="7834320"/>
                <a:ext cx="301320" cy="519120"/>
                <a:chOff x="3862800" y="7834320"/>
                <a:chExt cx="301320" cy="51912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39038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8628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164120" y="7834320"/>
                <a:ext cx="300960" cy="519120"/>
                <a:chOff x="4164120" y="7834320"/>
                <a:chExt cx="300960" cy="5191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2048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1641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465080" y="7834320"/>
                <a:ext cx="300960" cy="519120"/>
                <a:chOff x="4465080" y="7834320"/>
                <a:chExt cx="300960" cy="5191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50612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4650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766400" y="7834320"/>
                <a:ext cx="301320" cy="519120"/>
                <a:chOff x="4766400" y="7834320"/>
                <a:chExt cx="301320" cy="51912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8074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664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067720" y="7834320"/>
                <a:ext cx="300960" cy="519120"/>
                <a:chOff x="5067720" y="7834320"/>
                <a:chExt cx="300960" cy="5191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1084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0677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5369040" y="7834320"/>
                <a:ext cx="301320" cy="519120"/>
                <a:chOff x="5369040" y="7834320"/>
                <a:chExt cx="301320" cy="5191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41008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904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5670360" y="7834320"/>
                <a:ext cx="300960" cy="519120"/>
                <a:chOff x="5670360" y="7834320"/>
                <a:chExt cx="300960" cy="51912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571104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67036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5971320" y="7834320"/>
                <a:ext cx="881640" cy="519120"/>
                <a:chOff x="5971320" y="7834320"/>
                <a:chExt cx="881640" cy="5191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012360" y="7834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971320" y="7834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960" y="8353440"/>
                <a:ext cx="2653920" cy="785520"/>
                <a:chOff x="3960" y="8353440"/>
                <a:chExt cx="2653920" cy="7855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4640" y="8353440"/>
                  <a:ext cx="25718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iversité par personn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60" y="8353440"/>
                  <a:ext cx="26539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657880" y="8353440"/>
                <a:ext cx="300960" cy="785520"/>
                <a:chOff x="2657880" y="8353440"/>
                <a:chExt cx="300960" cy="7855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6985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6578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2959200" y="8353440"/>
                <a:ext cx="300960" cy="785520"/>
                <a:chOff x="2959200" y="8353440"/>
                <a:chExt cx="300960" cy="7855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0002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95920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260160" y="8353440"/>
                <a:ext cx="301320" cy="785520"/>
                <a:chOff x="3260160" y="8353440"/>
                <a:chExt cx="301320" cy="7855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30120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26016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561480" y="8353440"/>
                <a:ext cx="300960" cy="785520"/>
                <a:chOff x="3561480" y="8353440"/>
                <a:chExt cx="300960" cy="7855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6021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5614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862800" y="8353440"/>
                <a:ext cx="301320" cy="785520"/>
                <a:chOff x="3862800" y="8353440"/>
                <a:chExt cx="301320" cy="7855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9038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8628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164120" y="8353440"/>
                <a:ext cx="300960" cy="785520"/>
                <a:chOff x="4164120" y="8353440"/>
                <a:chExt cx="300960" cy="7855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2048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1641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465080" y="8353440"/>
                <a:ext cx="300960" cy="785520"/>
                <a:chOff x="4465080" y="8353440"/>
                <a:chExt cx="300960" cy="7855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50612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650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766400" y="8353440"/>
                <a:ext cx="301320" cy="785520"/>
                <a:chOff x="4766400" y="8353440"/>
                <a:chExt cx="301320" cy="7855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8074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7664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5067720" y="8353440"/>
                <a:ext cx="300960" cy="785520"/>
                <a:chOff x="5067720" y="8353440"/>
                <a:chExt cx="300960" cy="7855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51084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0677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5369040" y="8353440"/>
                <a:ext cx="301320" cy="785520"/>
                <a:chOff x="5369040" y="8353440"/>
                <a:chExt cx="301320" cy="78552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541008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36904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670360" y="8353440"/>
                <a:ext cx="300960" cy="785520"/>
                <a:chOff x="5670360" y="8353440"/>
                <a:chExt cx="300960" cy="7855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571104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7036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5971320" y="8353440"/>
                <a:ext cx="881640" cy="785520"/>
                <a:chOff x="5971320" y="8353440"/>
                <a:chExt cx="881640" cy="78552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012360" y="8353440"/>
                  <a:ext cx="79956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971320" y="8353440"/>
                  <a:ext cx="88164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7" name="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20:32Z</dcterms:created>
  <dc:creator>MADERS</dc:creator>
  <dc:description/>
  <dc:language>en-US</dc:language>
  <cp:lastModifiedBy>MADERS</cp:lastModifiedBy>
  <dcterms:modified xsi:type="dcterms:W3CDTF">2002-03-09T11:30:03Z</dcterms:modified>
  <cp:revision>3</cp:revision>
  <dc:subject/>
  <dc:title>Présentation PowerPoint</dc:title>
</cp:coreProperties>
</file>