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F64-8516-4F34-B965-44CB4404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D9B-B329-49EA-8B8A-07625F2E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066-7935-49E9-B143-58E86CEB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EA4-123F-4822-8A96-A47D1942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DD3-CE86-4050-9893-4777B07D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EF5-409A-46D5-B1E9-8D7A808D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678-AC28-40AA-B56D-B910AF45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8AB-27F1-4B52-848B-CC724155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910-CE04-44E2-ACFF-C7252915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A7A-5F57-43A7-8952-524F42F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322-57AC-4B2B-9717-C0F0D5E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22F-9D0B-4A99-A5ED-A477D32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1BCA-6027-43DB-81E5-7B081B542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Text Box 5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Oval 34"/>
          <p:cNvSpPr/>
          <p:nvPr/>
        </p:nvSpPr>
        <p:spPr>
          <a:xfrm>
            <a:off x="1523880" y="2819520"/>
            <a:ext cx="1752840" cy="2514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Groupe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Oval 35"/>
          <p:cNvSpPr/>
          <p:nvPr/>
        </p:nvSpPr>
        <p:spPr>
          <a:xfrm>
            <a:off x="2514600" y="12193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irec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6705720" y="4267080"/>
            <a:ext cx="1600200" cy="1067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entrepr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Oval 39"/>
          <p:cNvSpPr/>
          <p:nvPr/>
        </p:nvSpPr>
        <p:spPr>
          <a:xfrm>
            <a:off x="3809880" y="2438280"/>
            <a:ext cx="3581640" cy="1981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erciau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3657600" y="21337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Oval 40"/>
          <p:cNvSpPr/>
          <p:nvPr/>
        </p:nvSpPr>
        <p:spPr>
          <a:xfrm>
            <a:off x="3200400" y="4191120"/>
            <a:ext cx="2286000" cy="838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s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Oval 41"/>
          <p:cNvSpPr/>
          <p:nvPr/>
        </p:nvSpPr>
        <p:spPr>
          <a:xfrm>
            <a:off x="1676520" y="5181480"/>
            <a:ext cx="2743200" cy="838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ersonnel administrat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Oval 42"/>
          <p:cNvSpPr/>
          <p:nvPr/>
        </p:nvSpPr>
        <p:spPr>
          <a:xfrm>
            <a:off x="1676520" y="304920"/>
            <a:ext cx="175248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29:47Z</dcterms:modified>
  <cp:revision>98</cp:revision>
  <dc:subject/>
  <dc:title>Présentation PowerPoint</dc:title>
</cp:coreProperties>
</file>