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E9B-3436-40C9-B81A-79B9C2EC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0EB-4C8B-4FF3-8E76-F0139221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788-713A-4371-B516-65EE1362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D2F-4CA5-4EB7-B76D-81C2DB47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3B4-F442-4C86-BC2A-4F04932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AE2-BE39-4FE6-8CD6-EAB0E4D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83A-4A4E-4EF9-9037-F77E496C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E8A-5E15-4EE9-BC93-1CDBB635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0C4-C786-4148-84EC-D6A20FFB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12F-3B03-481D-8D42-459D79A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CF9-2712-4B92-B226-2BCA1003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F37-82AD-4978-BC6B-5E485FDA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C388-1585-424A-82EA-8A20B7B40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rvice Formation / Service Comptabilité Fourniss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Jean-François, Directeur de la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u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4/07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arantir aux fournisseurs de la formation (organismes de formations, hôtels, restaurants, compagnie de transport…) le règlement de leurs factures à la date prévue dans le contrat signé avec eu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cevoir les documents comptables suffisamment tôt pour procéder aux contrôles obligatoires et à l’établissement des règl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 s’engage à fournir au service comptabilité fournisseurs les documents suivants : copie du contrat passé avec le fournisseur précisant la date de règlement dès la signature de celui-ci + original de la facture fournisseur dès réception et au plus tard une semaine avant la date du règlemen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 s’engage à effectuer un virement correspondant au montant de la facture le jour précisé sur le contr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contrats adressés par le service formation plus d’un mois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adressées par le service formation plus d’une semaine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réglées dans les délais par le service règlement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arlow Solid Italic"/>
              </a:rPr>
              <a:t>Jean-Franço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Harlow Solid Italic"/>
              </a:rPr>
              <a:t>Oliv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33:33Z</dcterms:modified>
  <cp:revision>5</cp:revision>
  <dc:subject/>
  <dc:title>Présentation PowerPoint</dc:title>
</cp:coreProperties>
</file>