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5F2-44C2-461D-8B62-07BAA38E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E37-DB34-4F94-85F8-814DBB6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2E8-C969-44EA-8F4E-BF40EE20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BBA-6CAC-4E99-9179-CC960BE1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CDD-6AF1-44BA-8CAF-DC215E8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921-9565-4C51-94A9-70DA2C0A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448-4872-475B-916E-2ED54ED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D3C-5C8E-4072-A3C3-35532BD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C7F-DB96-4EE7-9D6E-C6F404F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E61-2A16-4276-84B5-1DBA840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35C-C90B-4711-BBC3-23158D9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3DE-35AC-411C-ACEF-DC724E2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9F5-EE76-4003-B878-437807718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31:13Z</dcterms:modified>
  <cp:revision>100</cp:revision>
  <dc:subject/>
  <dc:title>Présentation PowerPoint</dc:title>
</cp:coreProperties>
</file>