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A05-331F-44B6-AE78-D3204DEB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DF1-91E8-425F-A922-7A259F79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F1A-1617-4407-BC14-FE708FB9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DBE-B67C-41C2-8DF3-DEDEC6C4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974-1CA9-4755-8282-C39198A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3F4-B1EF-4A18-8D6D-3005337A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930-0A5A-4AF9-B8EE-847B6AC2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741-56B9-4518-AB75-EEA3C330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DF4-2287-4FB8-B521-AF2C2DCC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D9D-93CA-4414-B2AC-F5272ACA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48C-75F0-4BE1-A761-B95A47F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737-8277-482C-9688-127D4B9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73B5-3619-4588-B953-846D86B85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2:12Z</dcterms:modified>
  <cp:revision>101</cp:revision>
  <dc:subject/>
  <dc:title>Présentation PowerPoint</dc:title>
</cp:coreProperties>
</file>