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E69-2FDD-4809-8B39-C5EAA025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5AC-EBD5-425C-8A98-9C8C9AC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557-80AE-4918-9A3E-EA057731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AF6-7404-49B7-A50C-AF361F5A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F39-B1AA-4350-9790-35C8547B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8F0-A929-42C9-AA60-86454FF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A86-D324-4606-9F2B-34D0D27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E68-F50E-4143-A5B5-B41F519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6EF-C0D0-4E21-8CEB-2A73B22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336-8BA0-4263-97DD-F5CF8B60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DBC-A6E4-4C25-8B3B-258750F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B82-8281-4FD1-BA3F-63DCFD1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5BA-5EEF-4644-8482-44E038183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fo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Agence de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Directeur d’ag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Anthony, agence de Biarrit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Jean-Lou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me Christiane (adjoint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04/03/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er, gérer et organiser une équipe (Managem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 CA de l’agence sur sa zone (Commercia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er la banque sur la zone (Im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xer les objectifs et évalu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partir le travail entre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érer le planning des cong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ivre la consommation des budg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ptimiser l’utilisation des res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pôts et éparg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’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uvrir de nouveaux comp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déliser les cli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réd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e crédit immobili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rveiller les risq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aliser des actions de sponsoring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Être présent dans les salons et foire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s relations avec les notables de la z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réun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jours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entreti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gré polyval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aux couver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% 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comptes to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’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prés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ngagements : prêt habitat &lt; 250 000 €, prêt consommation &lt; 10 000 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tournes de frais : 10 000 € / 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tthieu Montaudouin</cp:lastModifiedBy>
  <dcterms:modified xsi:type="dcterms:W3CDTF">2009-06-08T09:42:34Z</dcterms:modified>
  <cp:revision>6</cp:revision>
  <dc:subject/>
  <dc:title>Présentation PowerPoint</dc:title>
</cp:coreProperties>
</file>