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AC51-8F0C-4156-B8CE-CE5BF75A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EC6-4E98-4513-8E35-EC9A3B0D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17A-6A5A-4808-90CD-B9BAD17F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114-0E05-409C-8E45-659ED80B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AFF7-F8B0-4450-8140-1FABBE72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23D0-4ED5-4080-BF9C-1F07907C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3244-CFCB-4B54-B152-2409227E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B03-6DC9-4864-8B5C-0172E163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090E-A596-4EB5-A2D5-26F7188B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D12E-A0A8-43B7-A2BD-CCF8F76E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6822-33B7-4057-A27E-CF90C5B0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6F19-2F60-464C-9024-FD955458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B5B1-DE4B-40B8-9D88-AF9981D57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54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che d’évaluation des ch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44680"/>
            <a:ext cx="7848720" cy="59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ef de 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848720" y="544680"/>
            <a:ext cx="2057400" cy="59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4495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de démarrage du 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de fin de projet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574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623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6668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9718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767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1911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1055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8006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114300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114300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4872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686800" y="1143000"/>
            <a:ext cx="12193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û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ta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199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tal j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17524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23623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20574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872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17524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60199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23623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20574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60199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4872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4872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4872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86800" y="23623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86800" y="20574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686800" y="60199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J/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686800" y="17524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324480"/>
            <a:ext cx="4495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ût/Ac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63244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63244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86800" y="6324480"/>
            <a:ext cx="1219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100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5812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8862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4956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150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03600" y="26668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4204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8012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8200" y="26668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5664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694720" y="26668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03600" y="29718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4204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8012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8200" y="29718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5664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694720" y="29718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03600" y="32767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204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8012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8200" y="32767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5664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694720" y="32767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03600" y="35812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4204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8012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8200" y="35812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5664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94720" y="35812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03600" y="38862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4204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8012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8200" y="38862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5664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94720" y="38862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3600" y="41911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4204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8012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8200" y="41911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5664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694720" y="41911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3600" y="44956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4204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8012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8200" y="44956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5664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694720" y="44956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03600" y="48006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204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8012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8200" y="48006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5664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694720" y="48006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03600" y="51055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4204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8012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8200" y="51055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5664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94720" y="51055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03600" y="54100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204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8012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8200" y="54100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5664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694720" y="54100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3600" y="57150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4204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8012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8200" y="57150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5664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694720" y="57150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22:18Z</dcterms:modified>
  <cp:revision>105</cp:revision>
  <dc:subject/>
  <dc:title>Présentation PowerPoint</dc:title>
</cp:coreProperties>
</file>