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FF34-D4C0-47AC-874E-41FB615FE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15C6-85BC-4C9E-87BF-69841C2A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CB92-FC29-41E8-A69E-81AB47CDE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F7F4-AB80-4737-A6A8-230B1C01A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FE60-BA4D-4FAC-B3AD-930DFD2F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CF5A-F44D-482E-8253-15FF94E5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9C3E-DD89-455C-8877-2ECA68C0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76CF-C020-4927-BD90-5655ABA3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8EFE-5EAD-4375-B938-35D96065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632A-7AA5-4A01-B16D-886CF6B1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74FB-8A45-45A3-91F8-B0592A23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BAA4-61F6-4BCA-B6AF-A086B3DA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FB7D-6454-45B0-B4B6-740639219F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3880" y="2286000"/>
            <a:ext cx="38102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omité de pilotag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. François, Directeur généra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me Brigitte, Directeur financier et du SI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me Alice, Directeur des engagemen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me Pauline, Directeur commercial et qualité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me Fannie, Directeur opérations bancair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me Nicole, DR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30560" y="4495680"/>
            <a:ext cx="2396880" cy="7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hef de proje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. Yoha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28600" y="6095880"/>
            <a:ext cx="31240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Équipe proje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. Pierre, Chef du service courrie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. Antoine, Organisateu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3533760" y="6095880"/>
            <a:ext cx="3095640" cy="127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orrespondan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me Anaïs, Chef du service marketin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me Audrey, Chef du service informatiqu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me Alexandra, Responsable communi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me Alice, Contrôleur de ges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5" name="AutoShape 7"/>
          <p:cNvCxnSpPr>
            <a:stCxn id="42" idx="2"/>
            <a:endCxn id="43" idx="0"/>
          </p:cNvCxnSpPr>
          <p:nvPr/>
        </p:nvCxnSpPr>
        <p:spPr>
          <a:xfrm rot="5400000">
            <a:off x="2192040" y="4859280"/>
            <a:ext cx="835200" cy="1638720"/>
          </a:xfrm>
          <a:prstGeom prst="bentConnector3">
            <a:avLst>
              <a:gd name="adj1" fmla="val 49978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6" name="AutoShape 8"/>
          <p:cNvCxnSpPr>
            <a:stCxn id="42" idx="2"/>
            <a:endCxn id="44" idx="0"/>
          </p:cNvCxnSpPr>
          <p:nvPr/>
        </p:nvCxnSpPr>
        <p:spPr>
          <a:xfrm flipH="1" rot="16200000">
            <a:off x="3837960" y="4852080"/>
            <a:ext cx="835200" cy="1652760"/>
          </a:xfrm>
          <a:prstGeom prst="bentConnector3">
            <a:avLst>
              <a:gd name="adj1" fmla="val 50021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7" name="AutoShape 9"/>
          <p:cNvCxnSpPr>
            <a:stCxn id="41" idx="2"/>
            <a:endCxn id="42" idx="0"/>
          </p:cNvCxnSpPr>
          <p:nvPr/>
        </p:nvCxnSpPr>
        <p:spPr>
          <a:xfrm>
            <a:off x="3429000" y="4038480"/>
            <a:ext cx="360" cy="457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8" name="Rectangle 10"/>
          <p:cNvSpPr/>
          <p:nvPr/>
        </p:nvSpPr>
        <p:spPr>
          <a:xfrm>
            <a:off x="228600" y="7696080"/>
            <a:ext cx="312408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Groupe de travai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La secrétaire du DG et les secrétaires de direction et de servic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9" name="AutoShape 11"/>
          <p:cNvCxnSpPr>
            <a:stCxn id="43" idx="2"/>
            <a:endCxn id="48" idx="0"/>
          </p:cNvCxnSpPr>
          <p:nvPr/>
        </p:nvCxnSpPr>
        <p:spPr>
          <a:xfrm>
            <a:off x="1790640" y="6934320"/>
            <a:ext cx="360" cy="76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tthieu Montaudouin</cp:lastModifiedBy>
  <cp:lastPrinted>2000-05-11T10:17:14Z</cp:lastPrinted>
  <dcterms:modified xsi:type="dcterms:W3CDTF">2009-06-08T09:55:38Z</dcterms:modified>
  <cp:revision>101</cp:revision>
  <dc:subject/>
  <dc:title>Présentation PowerPoint</dc:title>
</cp:coreProperties>
</file>