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9642-C5FE-494D-BBE3-A2A49C87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60FC-F4BF-494A-B5DC-DF979609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C33-31F4-46FB-803F-E2E7CC22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2382-7D7F-4C2D-B369-91A2B853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4FAF-B629-48D3-B876-CAEB5D33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91D6-D779-42D7-950D-E3D9CB0F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45A3-EF00-4EB0-A06B-AAA87E43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EC1F-BF28-4F7D-AE13-5579F836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E008-DDB1-4152-B8A1-A85CBFB1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52D2-5272-4262-892A-C7EC8A0B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30FA-A529-497D-A3CB-751078C8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E29C-C45A-4B92-9770-DEE334B1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244F-B9FC-4164-BCE0-F60A82422B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Compte-rendu de réun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609480"/>
            <a:ext cx="5105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105520" y="60948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02/03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129528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éunion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Groupe des secrétai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articipant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Yohan, Mmes Hélène, Anne, Boranie, Anne-Marie et Pasca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xcusés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Mmes Marie-Claire et Christia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297180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rdre du jour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escription du processus de traitement des courriers des clients au sein de la banq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nventaire des motifs classiques des réclam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Évaluation des encours et des déla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0" y="830592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chaine réunion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 15/06/09 de 10 H à 12 H en salle « L’Imbertière 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4648320"/>
            <a:ext cx="68580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ésumé des points traité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escription du processus de traitement des courriers des clients au sein de la banqu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rocessus variés selon les Directions et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as de procédure de traitement formalisé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nventaire des motifs classiques des réclamation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Beaucoup de réclamations causées par la baisse de la Bour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Beaucoup de demandes de renseignement concernant la déclaration des revenus 200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Évaluation des encours et des délai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es délais variables et plutôt en détérior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Un stock de courriers en augmen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tthieu Montaudouin</cp:lastModifiedBy>
  <dcterms:modified xsi:type="dcterms:W3CDTF">2009-06-08T10:04:09Z</dcterms:modified>
  <cp:revision>12</cp:revision>
  <dc:subject/>
  <dc:title>Présentation PowerPoint</dc:title>
</cp:coreProperties>
</file>