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3BD-9836-4146-ACCB-E7FA8B20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20F-23B3-4236-8261-0F8A8069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D42-9198-4AB0-A49A-D1370695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ED3-2254-420C-B445-E44A5580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593-A793-4C08-ADFD-B6D68115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FC8-E2F2-4582-BC9D-2C42AE9C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F40-7AF5-4CC8-9584-78D887C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723-1740-466A-A496-8BE8B5B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F1D-A4C4-4BE7-ADB3-C962EA3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BF0-DB2E-4F84-9287-B220564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308-6946-416E-9D87-68DDC4D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67D-64A4-460A-92A2-0D8166DB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B80-E8D0-4363-BB23-5A11AF387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0/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24:31Z</dcterms:modified>
  <cp:revision>2</cp:revision>
  <dc:subject/>
  <dc:title>Présentation PowerPoint</dc:title>
</cp:coreProperties>
</file>