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DD7-795B-4B79-8362-7BD8EADF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B65-F0A3-4E93-9106-B4A84C56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F63-E3EE-4191-9C41-DE41F580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81E-2BB7-47BB-A392-7B2F0D53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ABE-AC3C-4C12-94C4-8F5F0FE6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29A6-B499-43E1-89F9-5A035AFD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0B6-167B-40A4-AC74-1CC58660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8AD-11A8-4A51-89C0-048C31A0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054A-3ECC-499C-9ECE-0CB886D6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8814-7955-4D86-BF5C-0BB2161A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955-25BE-419A-9932-59E813CE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F18-65E0-41DF-B641-44974B04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BD3E-E658-42EE-BF72-818261BCE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che de relevé de dé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5105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6094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6858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éun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articipan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cusé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68580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écision à prend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vantag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nconvénient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53080"/>
            <a:ext cx="685800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servations des participant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53452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écisio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23:18Z</dcterms:modified>
  <cp:revision>9</cp:revision>
  <dc:subject/>
  <dc:title>Présentation PowerPoint</dc:title>
</cp:coreProperties>
</file>