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F15-C970-4C20-B441-54D6518A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1C9-BEE4-4CD7-A78F-6989014F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3B2-4688-4646-B347-C9F60DCF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5CE-B8AC-4E98-9EFD-9833CAC8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A51-81FA-4A7F-B1D4-13463E7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372-CE03-4EEE-BCEB-F9E4286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216-D5CA-4899-B300-A25DCFB6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FEE-3847-442F-9848-A2EDDE9D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26F-7079-45CE-9E54-98A2065C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F7E-A11A-4BFF-9BDC-7379674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D28-D566-4A48-82FD-773C407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7EB-0EF8-4791-AC3A-4F6D218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F42-DDE7-4A82-A95D-5C42F6A7F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MADERS</cp:lastModifiedBy>
  <dcterms:modified xsi:type="dcterms:W3CDTF">2002-03-09T10:25:50Z</dcterms:modified>
  <cp:revision>6</cp:revision>
  <dc:subject/>
  <dc:title>Présentation PowerPoint</dc:title>
</cp:coreProperties>
</file>