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BC5-B6F2-4045-9D48-768FABDE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EB2-5675-4A1F-A007-699B8E47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DDE-166D-4112-A85A-B6B4201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2F3-9297-483B-800F-3699475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9F1-6B4F-472B-A0DB-366BDEE2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8B9-992D-4E13-A2BA-FBFC5254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F48-EB76-4337-A6D1-022263EB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C61-C182-4545-AC04-08AEA35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F97-EE82-4049-A240-9BB5C25C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D51-FB5C-4212-8F49-95FE6868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01A-660D-416D-9CB6-FC70DC7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F14-62FF-47F5-8114-33D1992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9C0B-689B-4DD1-BA0E-E47A9B88A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8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3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0" y="1981080"/>
            <a:ext cx="25909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anque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5"/>
          <p:cNvSpPr/>
          <p:nvPr/>
        </p:nvSpPr>
        <p:spPr>
          <a:xfrm>
            <a:off x="2590920" y="1981080"/>
            <a:ext cx="2133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Le client est la personne la plus performante de l’entreprise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47242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° ve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2590920" y="30481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Notre métier est de servir le cli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4732200" y="30481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dédié rattaché à la D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37339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aîne d’hôtels 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590920" y="37339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s suggestions nous intéress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37339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s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590920" y="44197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us êtes ici chez vous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732200" y="44197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ndages réguliers auprès des clients abonn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51055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pagnie d’aviation 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Contre-exe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2590920" y="5105520"/>
            <a:ext cx="21333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Faire du ciel le plus bel endroit de la ter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4724280" y="5105520"/>
            <a:ext cx="2133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réponse aux lettres de récla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4732200" y="2438280"/>
            <a:ext cx="212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ercles d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0" y="64771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51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dre à 100 %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52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des lettr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53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3:16Z</dcterms:modified>
  <cp:revision>13</cp:revision>
  <dc:subject/>
  <dc:title>Présentation PowerPoint</dc:title>
</cp:coreProperties>
</file>