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CF6-BC8C-4FAF-B8A3-9DC3EA2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AF1-95BB-4DD3-920E-0DADDF8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1DC-5166-4A38-8396-88923B7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A4D-C7DA-4F39-9C81-8961F7FB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0A8-E41B-4CD0-AEE6-98C8DD6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B76-2841-4E63-8676-C238A2C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257-E07F-4910-B9C1-66DC120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176-5EA7-49E3-B0E7-B548E12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A93-B639-457B-8AAD-CC758E2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A90-C2E5-41BB-81FC-F778B2B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76A-D273-4BCE-9073-39C13F0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BF5-C938-42E7-9D74-F215460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19AC-2969-4084-9E91-8DBF822AB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/01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8/02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1/03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0/06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>
            <a:off x="1219320" y="3124440"/>
            <a:ext cx="16765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6"/>
            <a:endCxn id="44" idx="2"/>
          </p:cNvCxnSpPr>
          <p:nvPr/>
        </p:nvCxnSpPr>
        <p:spPr>
          <a:xfrm>
            <a:off x="5867280" y="3124440"/>
            <a:ext cx="2896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6"/>
            <a:endCxn id="43" idx="2"/>
          </p:cNvCxnSpPr>
          <p:nvPr/>
        </p:nvCxnSpPr>
        <p:spPr>
          <a:xfrm>
            <a:off x="3657600" y="3124440"/>
            <a:ext cx="14482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4"/>
            <a:endCxn id="44" idx="4"/>
          </p:cNvCxnSpPr>
          <p:nvPr/>
        </p:nvCxnSpPr>
        <p:spPr>
          <a:xfrm rot="16200000">
            <a:off x="4991040" y="-647640"/>
            <a:ext cx="360" cy="83059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0"/>
            <a:endCxn id="44" idx="0"/>
          </p:cNvCxnSpPr>
          <p:nvPr/>
        </p:nvCxnSpPr>
        <p:spPr>
          <a:xfrm rot="16200000">
            <a:off x="4991040" y="-1409760"/>
            <a:ext cx="360" cy="8305920"/>
          </a:xfrm>
          <a:prstGeom prst="bentConnector3">
            <a:avLst>
              <a:gd name="adj1" fmla="val -6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055880" y="254016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e de l’ex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254016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sation c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4840" y="25401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duite du chan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6760" y="139716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unication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1320" y="52671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stio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1" idx="4"/>
            <a:endCxn id="43" idx="4"/>
          </p:cNvCxnSpPr>
          <p:nvPr/>
        </p:nvCxnSpPr>
        <p:spPr>
          <a:xfrm rot="16200000">
            <a:off x="3162240" y="1181160"/>
            <a:ext cx="360" cy="46483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640240" y="42004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515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 </cp:lastModifiedBy>
  <cp:lastPrinted>2000-05-11T10:17:14Z</cp:lastPrinted>
  <dcterms:modified xsi:type="dcterms:W3CDTF">2009-05-05T08:51:23Z</dcterms:modified>
  <cp:revision>99</cp:revision>
  <dc:subject/>
  <dc:title>Présentation PowerPoint</dc:title>
</cp:coreProperties>
</file>