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613-18E9-4217-B931-2B55C7B0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6FE-4F84-4002-8F22-230890E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7F-7C55-43B5-A3FE-A06D68C2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81D-5F9F-4088-AAA8-CD9F32B3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BC6-B126-4A07-844A-8683456F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EDB-D91D-4D8B-A539-FB90B1D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25A-210E-4DEE-9EB7-29B4C3E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C29-36AB-4382-8B71-56329826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7C2-01F2-4739-9881-F921C998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318-187E-4064-AAFE-ADD6B77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D89-FDAC-4E8F-8E77-D49E54C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F8A-435B-40F8-AE99-3CC920E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AFA-F322-49E7-9CE7-B7E209CE3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’étude d’opportun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66880"/>
            <a:ext cx="487692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tructur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Servic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dacteur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. Anto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76920" y="866880"/>
            <a:ext cx="198108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organisation du processus courrier siè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et enjeu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ation de la qualité perçue par les clients et sécurisation du process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objet du changemen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ircuits de circulation de l’information, outil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mpacts organisationnels et humai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tandards de temps, de forme et de fond, nouveau processus de traitement et spécialisation des fo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729936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Volume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e processus au détriment de la qualité technique et commerciale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642924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igence de qualit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 de réponse, exhaustivité des réponses, traçabilité et conser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eur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générale, directeurs, chefs de service et agents d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81662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ût de fonctionnement identique à ceux actuels / Investissement informatique très fa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lais de mise en œuvr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contrainte spécifique (pas d’obligation réglementai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10:05:14Z</dcterms:modified>
  <cp:revision>102</cp:revision>
  <dc:subject/>
  <dc:title>Présentation PowerPoint</dc:title>
</cp:coreProperties>
</file>