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CA3-4C2B-4E4A-B21D-7DFC9F27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CD2-5730-44BD-B772-13A68879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76C-7F9F-42C1-ACA7-82F5DE43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DF7-47D7-4784-869C-908BDA65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664-4221-439E-92C0-2FF4D3A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D26-7FE2-4F6C-8087-82C360C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A5A-6FC4-4442-8666-05588ECE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F8B-96F7-4267-86FC-A09C59C3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111-909D-444E-962A-89269FE2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E04-9E9B-49DE-B726-57F73AFE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70A-77D0-4F53-BD86-2980113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487-771F-4C1E-9771-90CEE341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BD7F-CE4D-49CC-A722-E0184262B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ossier de cho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9:14Z</dcterms:modified>
  <cp:revision>8</cp:revision>
  <dc:subject/>
  <dc:title>Présentation PowerPoint</dc:title>
</cp:coreProperties>
</file>