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A594-ACA8-4D9B-8AB7-424F8899C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84D0-BEF8-4E9A-903D-FCA2A0BE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54FF-0E14-43F9-91E9-3C2F6E736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4899-C20C-4167-B2C7-D5771721D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5B40-61E2-481A-99F9-C82DD1E8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AFEB-779D-4842-8B00-33988909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37F4-B129-4DA5-A678-5F4394B7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934C-A1E6-4F00-8989-654AD73A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FCE8-5F1B-47F4-8903-D25FCCE7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1A2B-2AD0-4694-B26D-8FE310DD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3AAD-FF9A-44C7-B6FB-3E7A7270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C548-A4C1-4D40-8ADA-C8D81A5A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7A1A-1E41-4AEA-8BCB-2F3061713D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037"/>
          <p:cNvGrpSpPr/>
          <p:nvPr/>
        </p:nvGrpSpPr>
        <p:grpSpPr>
          <a:xfrm>
            <a:off x="0" y="0"/>
            <a:ext cx="6858000" cy="9905400"/>
            <a:chOff x="0" y="0"/>
            <a:chExt cx="6858000" cy="9905400"/>
          </a:xfrm>
        </p:grpSpPr>
        <p:sp>
          <p:nvSpPr>
            <p:cNvPr id="42" name="Rectangle 1027"/>
            <p:cNvSpPr/>
            <p:nvPr/>
          </p:nvSpPr>
          <p:spPr>
            <a:xfrm>
              <a:off x="0" y="0"/>
              <a:ext cx="6858000" cy="86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Banque de Bel Air - Fiche d’expression de besoin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1028"/>
            <p:cNvSpPr/>
            <p:nvPr/>
          </p:nvSpPr>
          <p:spPr>
            <a:xfrm>
              <a:off x="0" y="868320"/>
              <a:ext cx="519768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Structure : </a:t>
              </a: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Service courrier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Rédacteur : </a:t>
              </a: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M. Pierre, chef du service courrier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1029"/>
            <p:cNvSpPr/>
            <p:nvPr/>
          </p:nvSpPr>
          <p:spPr>
            <a:xfrm>
              <a:off x="5197680" y="868320"/>
              <a:ext cx="165996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Date : </a:t>
              </a: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19/09/08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1030"/>
            <p:cNvSpPr/>
            <p:nvPr/>
          </p:nvSpPr>
          <p:spPr>
            <a:xfrm>
              <a:off x="0" y="1911240"/>
              <a:ext cx="6858000" cy="17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Contexte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La banque de Bel Air reçoit plusieurs centaines de lettres de ses clients chaque jour. Personne n’a la visibilité sur ces courriers et encore moins sur les réponses qui y sont apportées… ou pas ! Ceci est grave dans un contexte de forte concurrence.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1031"/>
            <p:cNvSpPr/>
            <p:nvPr/>
          </p:nvSpPr>
          <p:spPr>
            <a:xfrm>
              <a:off x="0" y="364932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Objet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Il serait souhaitable de réorganiser ce processus.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1032"/>
            <p:cNvSpPr/>
            <p:nvPr/>
          </p:nvSpPr>
          <p:spPr>
            <a:xfrm>
              <a:off x="0" y="469188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Objectifs poursuivis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Amélioration de la qualité perçue par les clients et sécurisation du processu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33"/>
            <p:cNvSpPr/>
            <p:nvPr/>
          </p:nvSpPr>
          <p:spPr>
            <a:xfrm>
              <a:off x="0" y="573480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Rappel de l’existant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Toutes les directions du siège sont concernées par ce processus, y compris la direction général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1034"/>
            <p:cNvSpPr/>
            <p:nvPr/>
          </p:nvSpPr>
          <p:spPr>
            <a:xfrm>
              <a:off x="0" y="677736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Gains attendus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Délai de traitement et exhaustivité des réponse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1035"/>
            <p:cNvSpPr/>
            <p:nvPr/>
          </p:nvSpPr>
          <p:spPr>
            <a:xfrm>
              <a:off x="0" y="886284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Risques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Améliorer le processus au détriment de la qualité technique et commerciale des réponse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1036"/>
            <p:cNvSpPr/>
            <p:nvPr/>
          </p:nvSpPr>
          <p:spPr>
            <a:xfrm>
              <a:off x="0" y="781992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Contraintes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Diversité des acteurs, des thèmes des courriers et nombre de courrier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tthieu Montaudouin</cp:lastModifiedBy>
  <cp:lastPrinted>2000-05-11T10:17:14Z</cp:lastPrinted>
  <dcterms:modified xsi:type="dcterms:W3CDTF">2009-06-08T09:47:49Z</dcterms:modified>
  <cp:revision>102</cp:revision>
  <dc:subject/>
  <dc:title>Présentation PowerPoint</dc:title>
</cp:coreProperties>
</file>