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907588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47320" y="228600"/>
            <a:ext cx="94107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b1272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47320" y="914400"/>
            <a:ext cx="94107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4186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247320" y="3740400"/>
            <a:ext cx="94107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4186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7320" y="228600"/>
            <a:ext cx="94107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b127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7320" y="914400"/>
            <a:ext cx="45921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418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69520" y="914400"/>
            <a:ext cx="45921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4186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47320" y="3740400"/>
            <a:ext cx="45921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4186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069520" y="3740400"/>
            <a:ext cx="45921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4186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47320" y="228600"/>
            <a:ext cx="94107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b1272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47320" y="914400"/>
            <a:ext cx="30301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418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29360" y="914400"/>
            <a:ext cx="30301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418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611400" y="914400"/>
            <a:ext cx="30301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418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47320" y="3740400"/>
            <a:ext cx="30301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4186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429360" y="3740400"/>
            <a:ext cx="30301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4186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611400" y="3740400"/>
            <a:ext cx="30301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4186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7320" y="228600"/>
            <a:ext cx="94107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b1272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247320" y="914400"/>
            <a:ext cx="941076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12726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320" y="228600"/>
            <a:ext cx="94107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b12726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320" y="914400"/>
            <a:ext cx="941076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4186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320" y="228600"/>
            <a:ext cx="94107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b1272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320" y="914400"/>
            <a:ext cx="459216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4186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069520" y="914400"/>
            <a:ext cx="459216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4186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47320" y="228600"/>
            <a:ext cx="94107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b1272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247320" y="228600"/>
            <a:ext cx="941076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12726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320" y="228600"/>
            <a:ext cx="94107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b127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47320" y="914400"/>
            <a:ext cx="45921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418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69520" y="914400"/>
            <a:ext cx="459216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4186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247320" y="3740400"/>
            <a:ext cx="45921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4186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47320" y="228600"/>
            <a:ext cx="94107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b127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247320" y="914400"/>
            <a:ext cx="941076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12726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320" y="228600"/>
            <a:ext cx="94107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b1272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7320" y="914400"/>
            <a:ext cx="459216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418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69520" y="914400"/>
            <a:ext cx="45921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418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69520" y="3740400"/>
            <a:ext cx="45921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4186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320" y="228600"/>
            <a:ext cx="94107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b1272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7320" y="914400"/>
            <a:ext cx="45921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418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69520" y="914400"/>
            <a:ext cx="45921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418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47320" y="3740400"/>
            <a:ext cx="94107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4186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320" y="228600"/>
            <a:ext cx="94107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b1272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320" y="914400"/>
            <a:ext cx="94107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418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47320" y="3740400"/>
            <a:ext cx="94107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4186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47320" y="228600"/>
            <a:ext cx="94107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b1272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47320" y="914400"/>
            <a:ext cx="45921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418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69520" y="914400"/>
            <a:ext cx="45921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418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47320" y="3740400"/>
            <a:ext cx="45921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4186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5069520" y="3740400"/>
            <a:ext cx="45921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4186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320" y="228600"/>
            <a:ext cx="94107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b127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320" y="914400"/>
            <a:ext cx="30301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418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429360" y="914400"/>
            <a:ext cx="30301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418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611400" y="914400"/>
            <a:ext cx="30301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418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247320" y="3740400"/>
            <a:ext cx="30301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4186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429360" y="3740400"/>
            <a:ext cx="30301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4186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611400" y="3740400"/>
            <a:ext cx="30301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4186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47320" y="228600"/>
            <a:ext cx="94107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b1272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247320" y="914400"/>
            <a:ext cx="941076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4186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47320" y="228600"/>
            <a:ext cx="94107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b1272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47320" y="914400"/>
            <a:ext cx="459216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4186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069520" y="914400"/>
            <a:ext cx="459216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4186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7320" y="228600"/>
            <a:ext cx="94107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b1272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247320" y="228600"/>
            <a:ext cx="941076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12726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47320" y="228600"/>
            <a:ext cx="94107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b1272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47320" y="914400"/>
            <a:ext cx="45921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418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69520" y="914400"/>
            <a:ext cx="459216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4186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247320" y="3740400"/>
            <a:ext cx="45921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4186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7320" y="228600"/>
            <a:ext cx="94107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b1272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47320" y="914400"/>
            <a:ext cx="459216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4186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69520" y="914400"/>
            <a:ext cx="45921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4186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069520" y="3740400"/>
            <a:ext cx="45921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4186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47320" y="228600"/>
            <a:ext cx="94107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b1272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47320" y="914400"/>
            <a:ext cx="45921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4186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69520" y="914400"/>
            <a:ext cx="45921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4186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247320" y="3740400"/>
            <a:ext cx="94107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4186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7320" y="228600"/>
            <a:ext cx="94107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12726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b1272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7320" y="914400"/>
            <a:ext cx="941076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3680" indent="-193680">
              <a:spcBef>
                <a:spcPts val="476"/>
              </a:spcBef>
              <a:buClr>
                <a:srgbClr val="b1272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4186"/>
                </a:solidFill>
                <a:latin typeface="Arial"/>
              </a:rPr>
              <a:t>Click to edit the outline text format</a:t>
            </a:r>
            <a:endParaRPr b="0" lang="en-US" sz="1900" spc="-1" strike="noStrike">
              <a:solidFill>
                <a:srgbClr val="004186"/>
              </a:solidFill>
              <a:latin typeface="Arial"/>
            </a:endParaRPr>
          </a:p>
          <a:p>
            <a:pPr lvl="1" marL="760320" indent="-285480">
              <a:spcBef>
                <a:spcPts val="476"/>
              </a:spcBef>
              <a:buClr>
                <a:srgbClr val="004186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4186"/>
                </a:solidFill>
                <a:latin typeface="Arial"/>
              </a:rPr>
              <a:t>Second Outline Level</a:t>
            </a:r>
            <a:endParaRPr b="0" lang="en-US" sz="1900" spc="-1" strike="noStrike">
              <a:solidFill>
                <a:srgbClr val="004186"/>
              </a:solidFill>
              <a:latin typeface="Arial"/>
            </a:endParaRPr>
          </a:p>
          <a:p>
            <a:pPr lvl="2" marL="1179360" indent="-228600">
              <a:spcBef>
                <a:spcPts val="476"/>
              </a:spcBef>
              <a:buClr>
                <a:srgbClr val="004186"/>
              </a:buClr>
              <a:buSzPct val="5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4186"/>
                </a:solidFill>
                <a:latin typeface="Arial"/>
              </a:rPr>
              <a:t>Third Outline Level</a:t>
            </a:r>
            <a:endParaRPr b="0" lang="en-US" sz="1900" spc="-1" strike="noStrike">
              <a:solidFill>
                <a:srgbClr val="004186"/>
              </a:solidFill>
              <a:latin typeface="Arial"/>
            </a:endParaRPr>
          </a:p>
          <a:p>
            <a:pPr lvl="3" marL="1600200" indent="-228600">
              <a:spcBef>
                <a:spcPts val="476"/>
              </a:spcBef>
              <a:buClr>
                <a:srgbClr val="00418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4186"/>
                </a:solidFill>
                <a:latin typeface="Arial"/>
              </a:rPr>
              <a:t>Fourth Outline Level</a:t>
            </a:r>
            <a:endParaRPr b="0" lang="en-US" sz="1900" spc="-1" strike="noStrike">
              <a:solidFill>
                <a:srgbClr val="004186"/>
              </a:solidFill>
              <a:latin typeface="Arial"/>
            </a:endParaRPr>
          </a:p>
          <a:p>
            <a:pPr lvl="4" marL="2057400" indent="-228600">
              <a:spcBef>
                <a:spcPts val="476"/>
              </a:spcBef>
              <a:buClr>
                <a:srgbClr val="00418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4186"/>
                </a:solidFill>
                <a:latin typeface="Arial"/>
              </a:rPr>
              <a:t>Fifth Outline Level</a:t>
            </a:r>
            <a:endParaRPr b="0" lang="en-US" sz="1900" spc="-1" strike="noStrike">
              <a:solidFill>
                <a:srgbClr val="004186"/>
              </a:solidFill>
              <a:latin typeface="Arial"/>
            </a:endParaRPr>
          </a:p>
          <a:p>
            <a:pPr lvl="5" marL="2057400" indent="-228600">
              <a:spcBef>
                <a:spcPts val="47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4186"/>
                </a:solidFill>
                <a:latin typeface="Arial"/>
              </a:rPr>
              <a:t>Sixth Outline Level</a:t>
            </a:r>
            <a:endParaRPr b="0" lang="en-US" sz="1900" spc="-1" strike="noStrike">
              <a:solidFill>
                <a:srgbClr val="004186"/>
              </a:solidFill>
              <a:latin typeface="Arial"/>
            </a:endParaRPr>
          </a:p>
          <a:p>
            <a:pPr lvl="6" marL="2057400" indent="-228600">
              <a:spcBef>
                <a:spcPts val="47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4186"/>
                </a:solidFill>
                <a:latin typeface="Arial"/>
              </a:rPr>
              <a:t>Seventh Outline Level</a:t>
            </a:r>
            <a:endParaRPr b="0" lang="en-US" sz="1900" spc="-1" strike="noStrike">
              <a:solidFill>
                <a:srgbClr val="00418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mzgcoulOK" descr=""/>
          <p:cNvPicPr/>
          <p:nvPr/>
        </p:nvPicPr>
        <p:blipFill>
          <a:blip r:embed="rId2"/>
          <a:stretch/>
        </p:blipFill>
        <p:spPr>
          <a:xfrm>
            <a:off x="7427880" y="6095880"/>
            <a:ext cx="2478240" cy="520920"/>
          </a:xfrm>
          <a:prstGeom prst="rect">
            <a:avLst/>
          </a:prstGeom>
          <a:ln w="0">
            <a:noFill/>
          </a:ln>
        </p:spPr>
      </p:pic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33040" y="1752120"/>
            <a:ext cx="635652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12726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b12726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>
            <a:off x="7099200" y="6095880"/>
            <a:ext cx="24764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0" y="6629400"/>
            <a:ext cx="9906120" cy="228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bb11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1828800"/>
            <a:ext cx="12193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1371600"/>
            <a:ext cx="12193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Horai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219320" y="1371600"/>
            <a:ext cx="30477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Thè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267080" y="1371600"/>
            <a:ext cx="30481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Objectif recherch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219320" y="1828800"/>
            <a:ext cx="30477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267080" y="1828800"/>
            <a:ext cx="30481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315200" y="1371600"/>
            <a:ext cx="25909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Modalités pédagogiq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315200" y="1828800"/>
            <a:ext cx="25909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2286000"/>
            <a:ext cx="12193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219320" y="2286000"/>
            <a:ext cx="30477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267080" y="2286000"/>
            <a:ext cx="30481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315200" y="2286000"/>
            <a:ext cx="25909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4114800"/>
            <a:ext cx="12193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219320" y="2743200"/>
            <a:ext cx="30477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267080" y="2743200"/>
            <a:ext cx="30481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315200" y="2743200"/>
            <a:ext cx="25909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3200400"/>
            <a:ext cx="12193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219320" y="3200400"/>
            <a:ext cx="30477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267080" y="3200400"/>
            <a:ext cx="30481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315200" y="3200400"/>
            <a:ext cx="25909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2743200"/>
            <a:ext cx="12193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19320" y="4114800"/>
            <a:ext cx="30477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267080" y="4114800"/>
            <a:ext cx="30481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315200" y="4114800"/>
            <a:ext cx="25909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3657600"/>
            <a:ext cx="12193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219320" y="3657600"/>
            <a:ext cx="30477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267080" y="3657600"/>
            <a:ext cx="30481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315200" y="3657600"/>
            <a:ext cx="25909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219320" y="4572000"/>
            <a:ext cx="30477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267080" y="4572000"/>
            <a:ext cx="30481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315200" y="4572000"/>
            <a:ext cx="25909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4572000"/>
            <a:ext cx="12193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5486400"/>
            <a:ext cx="12193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19320" y="5486400"/>
            <a:ext cx="30477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267080" y="5486400"/>
            <a:ext cx="30481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315200" y="5486400"/>
            <a:ext cx="25909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5029200"/>
            <a:ext cx="12193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219320" y="5029200"/>
            <a:ext cx="30477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267080" y="5029200"/>
            <a:ext cx="30481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315200" y="5029200"/>
            <a:ext cx="25909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5943600"/>
            <a:ext cx="12193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219320" y="5943600"/>
            <a:ext cx="30477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267080" y="5943600"/>
            <a:ext cx="30481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315200" y="5943600"/>
            <a:ext cx="25909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6400800"/>
            <a:ext cx="12193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219320" y="6400800"/>
            <a:ext cx="30477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267080" y="6400800"/>
            <a:ext cx="30481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5200" y="6400800"/>
            <a:ext cx="25909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0"/>
            <a:ext cx="990612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ormation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Population concernée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Durée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838080"/>
            <a:ext cx="990612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Objectif pédagogique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24T10:45:18Z</dcterms:created>
  <dc:creator>HPM</dc:creator>
  <dc:description/>
  <dc:language>en-US</dc:language>
  <cp:lastModifiedBy>MADERS</cp:lastModifiedBy>
  <cp:lastPrinted>1999-05-21T13:25:32Z</cp:lastPrinted>
  <dcterms:modified xsi:type="dcterms:W3CDTF">2002-03-09T10:40:03Z</dcterms:modified>
  <cp:revision>55</cp:revision>
  <dc:subject/>
  <dc:title> PROCESSUS-FILIERES  un outil d’analyse des processus </dc:title>
</cp:coreProperties>
</file>