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7F06-B921-446D-ABD4-37ABC52E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AAD2-0433-464A-B867-4896B140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E23C-8611-4982-BFCA-8E14FA627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9400-481F-46E6-B833-2504451A6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6B83-1F62-4D42-86F9-968EA1D6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2331-95EF-473D-97D8-5C587E21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FE17-BF65-453C-9423-CBD20789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9970-7143-4969-A8FE-99B2E35C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B0CD-DF01-4B09-A8AC-04E15862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74CD-0E00-4469-B9C8-E8B6C59F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F311-57D7-484B-BE8B-B5F8356B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7340-8125-427D-BCEB-407B856C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DCB1-7692-44DE-B03C-E77954202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grpSp>
          <p:nvGrpSpPr>
            <p:cNvPr id="42" name=""/>
            <p:cNvGrpSpPr/>
            <p:nvPr/>
          </p:nvGrpSpPr>
          <p:grpSpPr>
            <a:xfrm>
              <a:off x="3960" y="3600"/>
              <a:ext cx="6849000" cy="9135360"/>
              <a:chOff x="3960" y="3600"/>
              <a:chExt cx="6849000" cy="913536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3960" y="3600"/>
                <a:ext cx="2653920" cy="938520"/>
                <a:chOff x="3960" y="3600"/>
                <a:chExt cx="2653920" cy="93852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44640" y="3600"/>
                  <a:ext cx="25718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ctivité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3960" y="3600"/>
                  <a:ext cx="26539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" name=""/>
              <p:cNvGrpSpPr/>
              <p:nvPr/>
            </p:nvGrpSpPr>
            <p:grpSpPr>
              <a:xfrm>
                <a:off x="2657880" y="3600"/>
                <a:ext cx="300960" cy="938520"/>
                <a:chOff x="2657880" y="3600"/>
                <a:chExt cx="300960" cy="93852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269856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265788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" name=""/>
              <p:cNvGrpSpPr/>
              <p:nvPr/>
            </p:nvGrpSpPr>
            <p:grpSpPr>
              <a:xfrm>
                <a:off x="2959200" y="3600"/>
                <a:ext cx="300960" cy="938520"/>
                <a:chOff x="2959200" y="3600"/>
                <a:chExt cx="300960" cy="93852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300024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295920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" name=""/>
              <p:cNvGrpSpPr/>
              <p:nvPr/>
            </p:nvGrpSpPr>
            <p:grpSpPr>
              <a:xfrm>
                <a:off x="3260160" y="3600"/>
                <a:ext cx="301320" cy="938520"/>
                <a:chOff x="3260160" y="3600"/>
                <a:chExt cx="301320" cy="9385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330120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260160" y="3600"/>
                  <a:ext cx="3013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3561480" y="3600"/>
                <a:ext cx="300960" cy="938520"/>
                <a:chOff x="3561480" y="3600"/>
                <a:chExt cx="300960" cy="93852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360216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356148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3862800" y="3600"/>
                <a:ext cx="301320" cy="938520"/>
                <a:chOff x="3862800" y="3600"/>
                <a:chExt cx="301320" cy="93852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390384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862800" y="3600"/>
                  <a:ext cx="3013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4164120" y="3600"/>
                <a:ext cx="300960" cy="938520"/>
                <a:chOff x="4164120" y="3600"/>
                <a:chExt cx="300960" cy="93852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420480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416412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4465080" y="3600"/>
                <a:ext cx="300960" cy="938520"/>
                <a:chOff x="4465080" y="3600"/>
                <a:chExt cx="300960" cy="9385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50612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46508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4766400" y="3600"/>
                <a:ext cx="301320" cy="938520"/>
                <a:chOff x="4766400" y="3600"/>
                <a:chExt cx="301320" cy="93852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480744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766400" y="3600"/>
                  <a:ext cx="3013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5067720" y="3600"/>
                <a:ext cx="300960" cy="938520"/>
                <a:chOff x="5067720" y="3600"/>
                <a:chExt cx="300960" cy="9385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510840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06772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5369040" y="3600"/>
                <a:ext cx="301320" cy="938520"/>
                <a:chOff x="5369040" y="3600"/>
                <a:chExt cx="301320" cy="9385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541008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369040" y="3600"/>
                  <a:ext cx="3013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5670360" y="3600"/>
                <a:ext cx="300960" cy="938520"/>
                <a:chOff x="5670360" y="3600"/>
                <a:chExt cx="300960" cy="93852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571104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67036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5971320" y="3600"/>
                <a:ext cx="881640" cy="938520"/>
                <a:chOff x="5971320" y="3600"/>
                <a:chExt cx="881640" cy="9385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6012360" y="3600"/>
                  <a:ext cx="79956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Couvertur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a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ctivité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971320" y="3600"/>
                  <a:ext cx="88164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3960" y="942120"/>
                <a:ext cx="2653920" cy="659160"/>
                <a:chOff x="3960" y="942120"/>
                <a:chExt cx="2653920" cy="65916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44640" y="942120"/>
                  <a:ext cx="25718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960" y="942120"/>
                  <a:ext cx="26539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2657880" y="942120"/>
                <a:ext cx="300960" cy="659160"/>
                <a:chOff x="2657880" y="942120"/>
                <a:chExt cx="300960" cy="65916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269856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65788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2959200" y="942120"/>
                <a:ext cx="300960" cy="659160"/>
                <a:chOff x="2959200" y="942120"/>
                <a:chExt cx="300960" cy="65916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300024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95920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3260160" y="942120"/>
                <a:ext cx="301320" cy="659160"/>
                <a:chOff x="3260160" y="942120"/>
                <a:chExt cx="301320" cy="65916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330120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260160" y="942120"/>
                  <a:ext cx="3013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3561480" y="942120"/>
                <a:ext cx="300960" cy="659160"/>
                <a:chOff x="3561480" y="942120"/>
                <a:chExt cx="300960" cy="65916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360216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56148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3862800" y="942120"/>
                <a:ext cx="301320" cy="659160"/>
                <a:chOff x="3862800" y="942120"/>
                <a:chExt cx="301320" cy="65916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390384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862800" y="942120"/>
                  <a:ext cx="3013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4164120" y="942120"/>
                <a:ext cx="300960" cy="659160"/>
                <a:chOff x="4164120" y="942120"/>
                <a:chExt cx="300960" cy="65916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420480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16412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4465080" y="942120"/>
                <a:ext cx="300960" cy="659160"/>
                <a:chOff x="4465080" y="942120"/>
                <a:chExt cx="300960" cy="65916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450612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46508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766400" y="942120"/>
                <a:ext cx="301320" cy="659160"/>
                <a:chOff x="4766400" y="942120"/>
                <a:chExt cx="301320" cy="65916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80744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766400" y="942120"/>
                  <a:ext cx="3013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067720" y="942120"/>
                <a:ext cx="300960" cy="659160"/>
                <a:chOff x="5067720" y="942120"/>
                <a:chExt cx="300960" cy="6591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10840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06772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369040" y="942120"/>
                <a:ext cx="301320" cy="659160"/>
                <a:chOff x="5369040" y="942120"/>
                <a:chExt cx="301320" cy="6591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41008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369040" y="942120"/>
                  <a:ext cx="3013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5670360" y="942120"/>
                <a:ext cx="300960" cy="659160"/>
                <a:chOff x="5670360" y="942120"/>
                <a:chExt cx="300960" cy="6591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71104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67036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5971320" y="942120"/>
                <a:ext cx="881640" cy="659160"/>
                <a:chOff x="5971320" y="942120"/>
                <a:chExt cx="881640" cy="65916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6012360" y="942120"/>
                  <a:ext cx="79956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971320" y="942120"/>
                  <a:ext cx="88164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3960" y="1601280"/>
                <a:ext cx="2653920" cy="519120"/>
                <a:chOff x="3960" y="1601280"/>
                <a:chExt cx="2653920" cy="5191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4640" y="160128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960" y="160128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2657880" y="1601280"/>
                <a:ext cx="300960" cy="519120"/>
                <a:chOff x="2657880" y="1601280"/>
                <a:chExt cx="300960" cy="5191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69856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65788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2959200" y="1601280"/>
                <a:ext cx="300960" cy="519120"/>
                <a:chOff x="2959200" y="1601280"/>
                <a:chExt cx="300960" cy="5191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00024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95920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3260160" y="1601280"/>
                <a:ext cx="301320" cy="519120"/>
                <a:chOff x="3260160" y="1601280"/>
                <a:chExt cx="301320" cy="51912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330120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260160" y="1601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561480" y="1601280"/>
                <a:ext cx="300960" cy="519120"/>
                <a:chOff x="3561480" y="1601280"/>
                <a:chExt cx="300960" cy="5191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60216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56148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3862800" y="1601280"/>
                <a:ext cx="301320" cy="519120"/>
                <a:chOff x="3862800" y="1601280"/>
                <a:chExt cx="301320" cy="5191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390384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862800" y="1601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4164120" y="1601280"/>
                <a:ext cx="300960" cy="519120"/>
                <a:chOff x="4164120" y="1601280"/>
                <a:chExt cx="300960" cy="5191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20480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16412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4465080" y="1601280"/>
                <a:ext cx="300960" cy="519120"/>
                <a:chOff x="4465080" y="1601280"/>
                <a:chExt cx="300960" cy="5191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450612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46508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4766400" y="1601280"/>
                <a:ext cx="301320" cy="519120"/>
                <a:chOff x="4766400" y="1601280"/>
                <a:chExt cx="301320" cy="5191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480744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766400" y="1601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5067720" y="1601280"/>
                <a:ext cx="300960" cy="519120"/>
                <a:chOff x="5067720" y="1601280"/>
                <a:chExt cx="300960" cy="5191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510840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06772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369040" y="1601280"/>
                <a:ext cx="301320" cy="519120"/>
                <a:chOff x="5369040" y="1601280"/>
                <a:chExt cx="301320" cy="5191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41008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369040" y="1601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5670360" y="1601280"/>
                <a:ext cx="300960" cy="519120"/>
                <a:chOff x="5670360" y="1601280"/>
                <a:chExt cx="300960" cy="5191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571104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67036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5971320" y="1601280"/>
                <a:ext cx="881640" cy="519120"/>
                <a:chOff x="5971320" y="1601280"/>
                <a:chExt cx="881640" cy="5191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6012360" y="160128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971320" y="160128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3960" y="2120760"/>
                <a:ext cx="2653920" cy="519120"/>
                <a:chOff x="3960" y="2120760"/>
                <a:chExt cx="2653920" cy="5191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44640" y="212076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960" y="212076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2657880" y="2120760"/>
                <a:ext cx="300960" cy="519120"/>
                <a:chOff x="2657880" y="2120760"/>
                <a:chExt cx="300960" cy="5191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269856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65788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2959200" y="2120760"/>
                <a:ext cx="300960" cy="519120"/>
                <a:chOff x="2959200" y="2120760"/>
                <a:chExt cx="300960" cy="5191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300024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95920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260160" y="2120760"/>
                <a:ext cx="301320" cy="519120"/>
                <a:chOff x="3260160" y="2120760"/>
                <a:chExt cx="301320" cy="5191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30120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260160" y="21207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3561480" y="2120760"/>
                <a:ext cx="300960" cy="519120"/>
                <a:chOff x="3561480" y="2120760"/>
                <a:chExt cx="300960" cy="5191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360216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56148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3862800" y="2120760"/>
                <a:ext cx="301320" cy="519120"/>
                <a:chOff x="3862800" y="2120760"/>
                <a:chExt cx="301320" cy="5191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90384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62800" y="21207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4164120" y="2120760"/>
                <a:ext cx="300960" cy="519120"/>
                <a:chOff x="4164120" y="2120760"/>
                <a:chExt cx="300960" cy="5191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420480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16412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4465080" y="2120760"/>
                <a:ext cx="300960" cy="519120"/>
                <a:chOff x="4465080" y="2120760"/>
                <a:chExt cx="300960" cy="5191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450612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46508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4766400" y="2120760"/>
                <a:ext cx="301320" cy="519120"/>
                <a:chOff x="4766400" y="2120760"/>
                <a:chExt cx="301320" cy="51912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480744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66400" y="21207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5067720" y="2120760"/>
                <a:ext cx="300960" cy="519120"/>
                <a:chOff x="5067720" y="2120760"/>
                <a:chExt cx="300960" cy="51912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510840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06772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5369040" y="2120760"/>
                <a:ext cx="301320" cy="519120"/>
                <a:chOff x="5369040" y="2120760"/>
                <a:chExt cx="301320" cy="5191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41008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369040" y="21207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670360" y="2120760"/>
                <a:ext cx="300960" cy="519120"/>
                <a:chOff x="5670360" y="2120760"/>
                <a:chExt cx="300960" cy="5191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571104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67036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5971320" y="2120760"/>
                <a:ext cx="881640" cy="519120"/>
                <a:chOff x="5971320" y="2120760"/>
                <a:chExt cx="881640" cy="5191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6012360" y="212076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971320" y="212076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3960" y="2639880"/>
                <a:ext cx="2653920" cy="519480"/>
                <a:chOff x="3960" y="2639880"/>
                <a:chExt cx="2653920" cy="51948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44640" y="263988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960" y="263988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2657880" y="2639880"/>
                <a:ext cx="300960" cy="519480"/>
                <a:chOff x="2657880" y="2639880"/>
                <a:chExt cx="300960" cy="5194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269856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65788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2959200" y="2639880"/>
                <a:ext cx="300960" cy="519480"/>
                <a:chOff x="2959200" y="2639880"/>
                <a:chExt cx="300960" cy="5194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00024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95920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3260160" y="2639880"/>
                <a:ext cx="301320" cy="519480"/>
                <a:chOff x="3260160" y="2639880"/>
                <a:chExt cx="301320" cy="51948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330120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260160" y="2639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561480" y="2639880"/>
                <a:ext cx="300960" cy="519480"/>
                <a:chOff x="3561480" y="2639880"/>
                <a:chExt cx="300960" cy="51948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60216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56148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862800" y="2639880"/>
                <a:ext cx="301320" cy="519480"/>
                <a:chOff x="3862800" y="2639880"/>
                <a:chExt cx="301320" cy="51948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90384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862800" y="2639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4164120" y="2639880"/>
                <a:ext cx="300960" cy="519480"/>
                <a:chOff x="4164120" y="2639880"/>
                <a:chExt cx="300960" cy="51948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420480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16412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4465080" y="2639880"/>
                <a:ext cx="300960" cy="519480"/>
                <a:chOff x="4465080" y="2639880"/>
                <a:chExt cx="300960" cy="51948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450612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46508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4766400" y="2639880"/>
                <a:ext cx="301320" cy="519480"/>
                <a:chOff x="4766400" y="2639880"/>
                <a:chExt cx="301320" cy="5194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480744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766400" y="2639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5067720" y="2639880"/>
                <a:ext cx="300960" cy="519480"/>
                <a:chOff x="5067720" y="2639880"/>
                <a:chExt cx="300960" cy="51948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10840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06772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5369040" y="2639880"/>
                <a:ext cx="301320" cy="519480"/>
                <a:chOff x="5369040" y="2639880"/>
                <a:chExt cx="301320" cy="51948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541008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369040" y="2639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5670360" y="2639880"/>
                <a:ext cx="300960" cy="519480"/>
                <a:chOff x="5670360" y="2639880"/>
                <a:chExt cx="300960" cy="5194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571104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67036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5971320" y="2639880"/>
                <a:ext cx="881640" cy="519480"/>
                <a:chOff x="5971320" y="2639880"/>
                <a:chExt cx="881640" cy="5194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012360" y="263988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971320" y="263988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3960" y="3159360"/>
                <a:ext cx="2653920" cy="519120"/>
                <a:chOff x="3960" y="3159360"/>
                <a:chExt cx="2653920" cy="51912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44640" y="315936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960" y="315936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2657880" y="3159360"/>
                <a:ext cx="300960" cy="519120"/>
                <a:chOff x="2657880" y="3159360"/>
                <a:chExt cx="300960" cy="5191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269856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65788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2959200" y="3159360"/>
                <a:ext cx="300960" cy="519120"/>
                <a:chOff x="2959200" y="3159360"/>
                <a:chExt cx="300960" cy="5191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00024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95920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3260160" y="3159360"/>
                <a:ext cx="301320" cy="519120"/>
                <a:chOff x="3260160" y="3159360"/>
                <a:chExt cx="301320" cy="51912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330120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260160" y="3159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3561480" y="3159360"/>
                <a:ext cx="300960" cy="519120"/>
                <a:chOff x="3561480" y="3159360"/>
                <a:chExt cx="300960" cy="5191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360216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56148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3862800" y="3159360"/>
                <a:ext cx="301320" cy="519120"/>
                <a:chOff x="3862800" y="3159360"/>
                <a:chExt cx="301320" cy="51912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390384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862800" y="3159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4164120" y="3159360"/>
                <a:ext cx="300960" cy="519120"/>
                <a:chOff x="4164120" y="3159360"/>
                <a:chExt cx="300960" cy="51912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20480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16412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4465080" y="3159360"/>
                <a:ext cx="300960" cy="519120"/>
                <a:chOff x="4465080" y="3159360"/>
                <a:chExt cx="300960" cy="51912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450612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46508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4766400" y="3159360"/>
                <a:ext cx="301320" cy="519120"/>
                <a:chOff x="4766400" y="3159360"/>
                <a:chExt cx="301320" cy="5191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480744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766400" y="3159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5067720" y="3159360"/>
                <a:ext cx="300960" cy="519120"/>
                <a:chOff x="5067720" y="3159360"/>
                <a:chExt cx="300960" cy="5191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510840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06772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5369040" y="3159360"/>
                <a:ext cx="301320" cy="519120"/>
                <a:chOff x="5369040" y="3159360"/>
                <a:chExt cx="301320" cy="5191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541008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369040" y="3159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5670360" y="3159360"/>
                <a:ext cx="300960" cy="519120"/>
                <a:chOff x="5670360" y="3159360"/>
                <a:chExt cx="300960" cy="51912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571104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67036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5971320" y="3159360"/>
                <a:ext cx="881640" cy="519120"/>
                <a:chOff x="5971320" y="3159360"/>
                <a:chExt cx="881640" cy="5191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6012360" y="315936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971320" y="315936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3960" y="3678840"/>
                <a:ext cx="2653920" cy="519480"/>
                <a:chOff x="3960" y="3678840"/>
                <a:chExt cx="2653920" cy="5194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44640" y="367884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960" y="367884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2657880" y="3678840"/>
                <a:ext cx="300960" cy="519480"/>
                <a:chOff x="2657880" y="3678840"/>
                <a:chExt cx="300960" cy="5194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269856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65788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2959200" y="3678840"/>
                <a:ext cx="300960" cy="519480"/>
                <a:chOff x="2959200" y="3678840"/>
                <a:chExt cx="300960" cy="5194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300024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95920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3260160" y="3678840"/>
                <a:ext cx="301320" cy="519480"/>
                <a:chOff x="3260160" y="3678840"/>
                <a:chExt cx="301320" cy="5194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330120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260160" y="3678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561480" y="3678840"/>
                <a:ext cx="300960" cy="519480"/>
                <a:chOff x="3561480" y="3678840"/>
                <a:chExt cx="300960" cy="5194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60216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56148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3862800" y="3678840"/>
                <a:ext cx="301320" cy="519480"/>
                <a:chOff x="3862800" y="3678840"/>
                <a:chExt cx="301320" cy="5194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390384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862800" y="3678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4164120" y="3678840"/>
                <a:ext cx="300960" cy="519480"/>
                <a:chOff x="4164120" y="3678840"/>
                <a:chExt cx="300960" cy="5194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420480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16412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4465080" y="3678840"/>
                <a:ext cx="300960" cy="519480"/>
                <a:chOff x="4465080" y="3678840"/>
                <a:chExt cx="300960" cy="5194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450612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46508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4766400" y="3678840"/>
                <a:ext cx="301320" cy="519480"/>
                <a:chOff x="4766400" y="3678840"/>
                <a:chExt cx="301320" cy="5194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480744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766400" y="3678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5067720" y="3678840"/>
                <a:ext cx="300960" cy="519480"/>
                <a:chOff x="5067720" y="3678840"/>
                <a:chExt cx="300960" cy="51948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510840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06772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5369040" y="3678840"/>
                <a:ext cx="301320" cy="519480"/>
                <a:chOff x="5369040" y="3678840"/>
                <a:chExt cx="301320" cy="51948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541008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369040" y="3678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5670360" y="3678840"/>
                <a:ext cx="300960" cy="519480"/>
                <a:chOff x="5670360" y="3678840"/>
                <a:chExt cx="300960" cy="51948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571104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67036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5971320" y="3678840"/>
                <a:ext cx="881640" cy="519480"/>
                <a:chOff x="5971320" y="3678840"/>
                <a:chExt cx="881640" cy="5194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6012360" y="367884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971320" y="367884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3960" y="4198320"/>
                <a:ext cx="2653920" cy="519120"/>
                <a:chOff x="3960" y="4198320"/>
                <a:chExt cx="2653920" cy="5191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44640" y="419832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960" y="419832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657880" y="4198320"/>
                <a:ext cx="300960" cy="519120"/>
                <a:chOff x="2657880" y="4198320"/>
                <a:chExt cx="300960" cy="5191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69856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65788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2959200" y="4198320"/>
                <a:ext cx="300960" cy="519120"/>
                <a:chOff x="2959200" y="4198320"/>
                <a:chExt cx="300960" cy="5191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300024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95920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3260160" y="4198320"/>
                <a:ext cx="301320" cy="519120"/>
                <a:chOff x="3260160" y="4198320"/>
                <a:chExt cx="301320" cy="5191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330120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260160" y="4198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3561480" y="4198320"/>
                <a:ext cx="300960" cy="519120"/>
                <a:chOff x="3561480" y="4198320"/>
                <a:chExt cx="300960" cy="5191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360216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56148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3862800" y="4198320"/>
                <a:ext cx="301320" cy="519120"/>
                <a:chOff x="3862800" y="4198320"/>
                <a:chExt cx="301320" cy="5191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390384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862800" y="4198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4164120" y="4198320"/>
                <a:ext cx="300960" cy="519120"/>
                <a:chOff x="4164120" y="4198320"/>
                <a:chExt cx="300960" cy="5191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420480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16412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4465080" y="4198320"/>
                <a:ext cx="300960" cy="519120"/>
                <a:chOff x="4465080" y="4198320"/>
                <a:chExt cx="300960" cy="51912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450612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46508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4766400" y="4198320"/>
                <a:ext cx="301320" cy="519120"/>
                <a:chOff x="4766400" y="4198320"/>
                <a:chExt cx="301320" cy="51912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480744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766400" y="4198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5067720" y="4198320"/>
                <a:ext cx="300960" cy="519120"/>
                <a:chOff x="5067720" y="4198320"/>
                <a:chExt cx="300960" cy="51912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510840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06772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5369040" y="4198320"/>
                <a:ext cx="301320" cy="519120"/>
                <a:chOff x="5369040" y="4198320"/>
                <a:chExt cx="301320" cy="51912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541008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5369040" y="4198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5670360" y="4198320"/>
                <a:ext cx="300960" cy="519120"/>
                <a:chOff x="5670360" y="4198320"/>
                <a:chExt cx="300960" cy="51912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571104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67036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5971320" y="4198320"/>
                <a:ext cx="881640" cy="519120"/>
                <a:chOff x="5971320" y="4198320"/>
                <a:chExt cx="881640" cy="51912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6012360" y="419832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971320" y="419832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3960" y="4717800"/>
                <a:ext cx="2653920" cy="519480"/>
                <a:chOff x="3960" y="4717800"/>
                <a:chExt cx="2653920" cy="51948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44640" y="471780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960" y="471780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2657880" y="4717800"/>
                <a:ext cx="300960" cy="519480"/>
                <a:chOff x="2657880" y="4717800"/>
                <a:chExt cx="300960" cy="51948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269856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65788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2959200" y="4717800"/>
                <a:ext cx="300960" cy="519480"/>
                <a:chOff x="2959200" y="4717800"/>
                <a:chExt cx="300960" cy="51948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300024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95920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3260160" y="4717800"/>
                <a:ext cx="301320" cy="519480"/>
                <a:chOff x="3260160" y="4717800"/>
                <a:chExt cx="301320" cy="51948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330120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260160" y="471780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3561480" y="4717800"/>
                <a:ext cx="300960" cy="519480"/>
                <a:chOff x="3561480" y="4717800"/>
                <a:chExt cx="300960" cy="51948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360216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56148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3862800" y="4717800"/>
                <a:ext cx="301320" cy="519480"/>
                <a:chOff x="3862800" y="4717800"/>
                <a:chExt cx="301320" cy="51948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390384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3862800" y="471780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4164120" y="4717800"/>
                <a:ext cx="300960" cy="519480"/>
                <a:chOff x="4164120" y="4717800"/>
                <a:chExt cx="300960" cy="51948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420480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16412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4465080" y="4717800"/>
                <a:ext cx="300960" cy="519480"/>
                <a:chOff x="4465080" y="4717800"/>
                <a:chExt cx="300960" cy="51948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450612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46508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4766400" y="4717800"/>
                <a:ext cx="301320" cy="519480"/>
                <a:chOff x="4766400" y="4717800"/>
                <a:chExt cx="301320" cy="51948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480744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766400" y="471780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5067720" y="4717800"/>
                <a:ext cx="300960" cy="519480"/>
                <a:chOff x="5067720" y="4717800"/>
                <a:chExt cx="300960" cy="51948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510840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06772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5369040" y="4717800"/>
                <a:ext cx="301320" cy="519480"/>
                <a:chOff x="5369040" y="4717800"/>
                <a:chExt cx="301320" cy="51948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41008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369040" y="471780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5670360" y="4717800"/>
                <a:ext cx="300960" cy="519480"/>
                <a:chOff x="5670360" y="4717800"/>
                <a:chExt cx="300960" cy="51948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571104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67036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5971320" y="4717800"/>
                <a:ext cx="881640" cy="519480"/>
                <a:chOff x="5971320" y="4717800"/>
                <a:chExt cx="881640" cy="51948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6012360" y="471780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5971320" y="471780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3960" y="5237280"/>
                <a:ext cx="2653920" cy="519120"/>
                <a:chOff x="3960" y="5237280"/>
                <a:chExt cx="2653920" cy="5191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44640" y="523728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3960" y="523728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2657880" y="5237280"/>
                <a:ext cx="300960" cy="519120"/>
                <a:chOff x="2657880" y="5237280"/>
                <a:chExt cx="300960" cy="5191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269856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65788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2959200" y="5237280"/>
                <a:ext cx="300960" cy="519120"/>
                <a:chOff x="2959200" y="5237280"/>
                <a:chExt cx="300960" cy="5191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300024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95920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3260160" y="5237280"/>
                <a:ext cx="301320" cy="519120"/>
                <a:chOff x="3260160" y="5237280"/>
                <a:chExt cx="301320" cy="5191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330120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260160" y="5237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3561480" y="5237280"/>
                <a:ext cx="300960" cy="519120"/>
                <a:chOff x="3561480" y="5237280"/>
                <a:chExt cx="300960" cy="5191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360216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56148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3862800" y="5237280"/>
                <a:ext cx="301320" cy="519120"/>
                <a:chOff x="3862800" y="5237280"/>
                <a:chExt cx="301320" cy="5191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390384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862800" y="5237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4164120" y="5237280"/>
                <a:ext cx="300960" cy="519120"/>
                <a:chOff x="4164120" y="5237280"/>
                <a:chExt cx="300960" cy="5191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420480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16412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4465080" y="5237280"/>
                <a:ext cx="300960" cy="519120"/>
                <a:chOff x="4465080" y="5237280"/>
                <a:chExt cx="300960" cy="5191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450612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46508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4766400" y="5237280"/>
                <a:ext cx="301320" cy="519120"/>
                <a:chOff x="4766400" y="5237280"/>
                <a:chExt cx="301320" cy="51912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480744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766400" y="5237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5067720" y="5237280"/>
                <a:ext cx="300960" cy="519120"/>
                <a:chOff x="5067720" y="5237280"/>
                <a:chExt cx="300960" cy="51912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510840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06772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5369040" y="5237280"/>
                <a:ext cx="301320" cy="519120"/>
                <a:chOff x="5369040" y="5237280"/>
                <a:chExt cx="301320" cy="51912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541008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5369040" y="5237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5670360" y="5237280"/>
                <a:ext cx="300960" cy="519120"/>
                <a:chOff x="5670360" y="5237280"/>
                <a:chExt cx="300960" cy="51912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571104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67036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5971320" y="5237280"/>
                <a:ext cx="881640" cy="519120"/>
                <a:chOff x="5971320" y="5237280"/>
                <a:chExt cx="881640" cy="51912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6012360" y="523728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5971320" y="523728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3960" y="5756400"/>
                <a:ext cx="2653920" cy="519120"/>
                <a:chOff x="3960" y="5756400"/>
                <a:chExt cx="2653920" cy="51912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4640" y="575640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960" y="575640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2657880" y="5756400"/>
                <a:ext cx="300960" cy="519120"/>
                <a:chOff x="2657880" y="5756400"/>
                <a:chExt cx="300960" cy="51912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269856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265788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2959200" y="5756400"/>
                <a:ext cx="300960" cy="519120"/>
                <a:chOff x="2959200" y="5756400"/>
                <a:chExt cx="300960" cy="51912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300024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295920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3260160" y="5756400"/>
                <a:ext cx="301320" cy="519120"/>
                <a:chOff x="3260160" y="5756400"/>
                <a:chExt cx="301320" cy="51912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330120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260160" y="575640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3561480" y="5756400"/>
                <a:ext cx="300960" cy="519120"/>
                <a:chOff x="3561480" y="5756400"/>
                <a:chExt cx="300960" cy="51912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60216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56148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3862800" y="5756400"/>
                <a:ext cx="301320" cy="519120"/>
                <a:chOff x="3862800" y="5756400"/>
                <a:chExt cx="301320" cy="51912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390384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862800" y="575640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4164120" y="5756400"/>
                <a:ext cx="300960" cy="519120"/>
                <a:chOff x="4164120" y="5756400"/>
                <a:chExt cx="300960" cy="5191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420480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416412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4465080" y="5756400"/>
                <a:ext cx="300960" cy="519120"/>
                <a:chOff x="4465080" y="5756400"/>
                <a:chExt cx="300960" cy="5191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450612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46508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4766400" y="5756400"/>
                <a:ext cx="301320" cy="519120"/>
                <a:chOff x="4766400" y="5756400"/>
                <a:chExt cx="301320" cy="51912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480744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766400" y="575640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5067720" y="5756400"/>
                <a:ext cx="300960" cy="519120"/>
                <a:chOff x="5067720" y="5756400"/>
                <a:chExt cx="300960" cy="51912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510840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506772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5369040" y="5756400"/>
                <a:ext cx="301320" cy="519120"/>
                <a:chOff x="5369040" y="5756400"/>
                <a:chExt cx="301320" cy="5191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541008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5369040" y="575640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5670360" y="5756400"/>
                <a:ext cx="300960" cy="519120"/>
                <a:chOff x="5670360" y="5756400"/>
                <a:chExt cx="300960" cy="51912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571104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67036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5971320" y="5756400"/>
                <a:ext cx="881640" cy="519120"/>
                <a:chOff x="5971320" y="5756400"/>
                <a:chExt cx="881640" cy="51912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6012360" y="575640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971320" y="575640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3960" y="6275880"/>
                <a:ext cx="2653920" cy="519480"/>
                <a:chOff x="3960" y="6275880"/>
                <a:chExt cx="2653920" cy="51948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44640" y="627588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3960" y="627588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2657880" y="6275880"/>
                <a:ext cx="300960" cy="519480"/>
                <a:chOff x="2657880" y="6275880"/>
                <a:chExt cx="300960" cy="51948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269856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65788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2959200" y="6275880"/>
                <a:ext cx="300960" cy="519480"/>
                <a:chOff x="2959200" y="6275880"/>
                <a:chExt cx="300960" cy="51948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300024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95920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3260160" y="6275880"/>
                <a:ext cx="301320" cy="519480"/>
                <a:chOff x="3260160" y="6275880"/>
                <a:chExt cx="301320" cy="51948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330120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260160" y="6275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3561480" y="6275880"/>
                <a:ext cx="300960" cy="519480"/>
                <a:chOff x="3561480" y="6275880"/>
                <a:chExt cx="300960" cy="51948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360216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356148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3862800" y="6275880"/>
                <a:ext cx="301320" cy="519480"/>
                <a:chOff x="3862800" y="6275880"/>
                <a:chExt cx="301320" cy="5194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390384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862800" y="6275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164120" y="6275880"/>
                <a:ext cx="300960" cy="519480"/>
                <a:chOff x="4164120" y="6275880"/>
                <a:chExt cx="300960" cy="51948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20480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416412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4465080" y="6275880"/>
                <a:ext cx="300960" cy="519480"/>
                <a:chOff x="4465080" y="6275880"/>
                <a:chExt cx="300960" cy="51948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450612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446508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4766400" y="6275880"/>
                <a:ext cx="301320" cy="519480"/>
                <a:chOff x="4766400" y="6275880"/>
                <a:chExt cx="301320" cy="51948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480744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4766400" y="6275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5067720" y="6275880"/>
                <a:ext cx="300960" cy="519480"/>
                <a:chOff x="5067720" y="6275880"/>
                <a:chExt cx="300960" cy="51948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510840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06772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5369040" y="6275880"/>
                <a:ext cx="301320" cy="519480"/>
                <a:chOff x="5369040" y="6275880"/>
                <a:chExt cx="301320" cy="51948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541008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369040" y="6275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5670360" y="6275880"/>
                <a:ext cx="300960" cy="519480"/>
                <a:chOff x="5670360" y="6275880"/>
                <a:chExt cx="300960" cy="51948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571104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67036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5971320" y="6275880"/>
                <a:ext cx="881640" cy="519480"/>
                <a:chOff x="5971320" y="6275880"/>
                <a:chExt cx="881640" cy="51948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6012360" y="627588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5971320" y="627588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3960" y="6795360"/>
                <a:ext cx="2653920" cy="519120"/>
                <a:chOff x="3960" y="6795360"/>
                <a:chExt cx="2653920" cy="51912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44640" y="679536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960" y="679536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2657880" y="6795360"/>
                <a:ext cx="300960" cy="519120"/>
                <a:chOff x="2657880" y="6795360"/>
                <a:chExt cx="300960" cy="51912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269856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65788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2959200" y="6795360"/>
                <a:ext cx="300960" cy="519120"/>
                <a:chOff x="2959200" y="6795360"/>
                <a:chExt cx="300960" cy="51912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300024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95920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3260160" y="6795360"/>
                <a:ext cx="301320" cy="519120"/>
                <a:chOff x="3260160" y="6795360"/>
                <a:chExt cx="301320" cy="51912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330120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260160" y="6795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3561480" y="6795360"/>
                <a:ext cx="300960" cy="519120"/>
                <a:chOff x="3561480" y="6795360"/>
                <a:chExt cx="300960" cy="51912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360216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56148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3862800" y="6795360"/>
                <a:ext cx="301320" cy="519120"/>
                <a:chOff x="3862800" y="6795360"/>
                <a:chExt cx="301320" cy="51912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390384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862800" y="6795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4164120" y="6795360"/>
                <a:ext cx="300960" cy="519120"/>
                <a:chOff x="4164120" y="6795360"/>
                <a:chExt cx="300960" cy="51912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420480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16412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4465080" y="6795360"/>
                <a:ext cx="300960" cy="519120"/>
                <a:chOff x="4465080" y="6795360"/>
                <a:chExt cx="300960" cy="51912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450612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46508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4766400" y="6795360"/>
                <a:ext cx="301320" cy="519120"/>
                <a:chOff x="4766400" y="6795360"/>
                <a:chExt cx="301320" cy="51912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480744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766400" y="6795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5067720" y="6795360"/>
                <a:ext cx="300960" cy="519120"/>
                <a:chOff x="5067720" y="6795360"/>
                <a:chExt cx="300960" cy="51912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510840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506772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"/>
              <p:cNvGrpSpPr/>
              <p:nvPr/>
            </p:nvGrpSpPr>
            <p:grpSpPr>
              <a:xfrm>
                <a:off x="5369040" y="6795360"/>
                <a:ext cx="301320" cy="519120"/>
                <a:chOff x="5369040" y="6795360"/>
                <a:chExt cx="301320" cy="51912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541008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369040" y="6795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5670360" y="6795360"/>
                <a:ext cx="300960" cy="519120"/>
                <a:chOff x="5670360" y="6795360"/>
                <a:chExt cx="300960" cy="51912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571104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567036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"/>
              <p:cNvGrpSpPr/>
              <p:nvPr/>
            </p:nvGrpSpPr>
            <p:grpSpPr>
              <a:xfrm>
                <a:off x="5971320" y="6795360"/>
                <a:ext cx="881640" cy="519120"/>
                <a:chOff x="5971320" y="6795360"/>
                <a:chExt cx="881640" cy="51912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6012360" y="679536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5971320" y="679536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3960" y="7314840"/>
                <a:ext cx="2653920" cy="519480"/>
                <a:chOff x="3960" y="7314840"/>
                <a:chExt cx="2653920" cy="51948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44640" y="731484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960" y="731484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2657880" y="7314840"/>
                <a:ext cx="300960" cy="519480"/>
                <a:chOff x="2657880" y="7314840"/>
                <a:chExt cx="300960" cy="51948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269856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65788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2959200" y="7314840"/>
                <a:ext cx="300960" cy="519480"/>
                <a:chOff x="2959200" y="7314840"/>
                <a:chExt cx="300960" cy="51948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300024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295920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3260160" y="7314840"/>
                <a:ext cx="301320" cy="519480"/>
                <a:chOff x="3260160" y="7314840"/>
                <a:chExt cx="301320" cy="51948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330120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260160" y="7314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3561480" y="7314840"/>
                <a:ext cx="300960" cy="519480"/>
                <a:chOff x="3561480" y="7314840"/>
                <a:chExt cx="300960" cy="51948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360216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56148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3862800" y="7314840"/>
                <a:ext cx="301320" cy="519480"/>
                <a:chOff x="3862800" y="7314840"/>
                <a:chExt cx="301320" cy="51948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390384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862800" y="7314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"/>
              <p:cNvGrpSpPr/>
              <p:nvPr/>
            </p:nvGrpSpPr>
            <p:grpSpPr>
              <a:xfrm>
                <a:off x="4164120" y="7314840"/>
                <a:ext cx="300960" cy="519480"/>
                <a:chOff x="4164120" y="7314840"/>
                <a:chExt cx="300960" cy="51948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420480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416412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4465080" y="7314840"/>
                <a:ext cx="300960" cy="519480"/>
                <a:chOff x="4465080" y="7314840"/>
                <a:chExt cx="300960" cy="51948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450612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46508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4766400" y="7314840"/>
                <a:ext cx="301320" cy="519480"/>
                <a:chOff x="4766400" y="7314840"/>
                <a:chExt cx="301320" cy="51948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480744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766400" y="7314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5067720" y="7314840"/>
                <a:ext cx="300960" cy="519480"/>
                <a:chOff x="5067720" y="7314840"/>
                <a:chExt cx="300960" cy="51948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510840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506772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5369040" y="7314840"/>
                <a:ext cx="301320" cy="519480"/>
                <a:chOff x="5369040" y="7314840"/>
                <a:chExt cx="301320" cy="51948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541008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5369040" y="7314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5670360" y="7314840"/>
                <a:ext cx="300960" cy="519480"/>
                <a:chOff x="5670360" y="7314840"/>
                <a:chExt cx="300960" cy="51948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571104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567036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5971320" y="7314840"/>
                <a:ext cx="881640" cy="519480"/>
                <a:chOff x="5971320" y="7314840"/>
                <a:chExt cx="881640" cy="51948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6012360" y="731484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5971320" y="731484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3960" y="7834320"/>
                <a:ext cx="2653920" cy="519120"/>
                <a:chOff x="3960" y="7834320"/>
                <a:chExt cx="2653920" cy="51912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44640" y="783432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960" y="783432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2657880" y="7834320"/>
                <a:ext cx="300960" cy="519120"/>
                <a:chOff x="2657880" y="7834320"/>
                <a:chExt cx="300960" cy="51912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269856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65788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2959200" y="7834320"/>
                <a:ext cx="300960" cy="519120"/>
                <a:chOff x="2959200" y="7834320"/>
                <a:chExt cx="300960" cy="51912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300024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95920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8" name=""/>
              <p:cNvGrpSpPr/>
              <p:nvPr/>
            </p:nvGrpSpPr>
            <p:grpSpPr>
              <a:xfrm>
                <a:off x="3260160" y="7834320"/>
                <a:ext cx="301320" cy="519120"/>
                <a:chOff x="3260160" y="7834320"/>
                <a:chExt cx="301320" cy="51912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330120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260160" y="7834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" name=""/>
              <p:cNvGrpSpPr/>
              <p:nvPr/>
            </p:nvGrpSpPr>
            <p:grpSpPr>
              <a:xfrm>
                <a:off x="3561480" y="7834320"/>
                <a:ext cx="300960" cy="519120"/>
                <a:chOff x="3561480" y="7834320"/>
                <a:chExt cx="300960" cy="51912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360216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56148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3862800" y="7834320"/>
                <a:ext cx="301320" cy="519120"/>
                <a:chOff x="3862800" y="7834320"/>
                <a:chExt cx="301320" cy="51912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390384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862800" y="7834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4164120" y="7834320"/>
                <a:ext cx="300960" cy="519120"/>
                <a:chOff x="4164120" y="7834320"/>
                <a:chExt cx="300960" cy="51912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420480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416412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4465080" y="7834320"/>
                <a:ext cx="300960" cy="519120"/>
                <a:chOff x="4465080" y="7834320"/>
                <a:chExt cx="300960" cy="51912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450612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46508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4766400" y="7834320"/>
                <a:ext cx="301320" cy="519120"/>
                <a:chOff x="4766400" y="7834320"/>
                <a:chExt cx="301320" cy="51912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480744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766400" y="7834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5067720" y="7834320"/>
                <a:ext cx="300960" cy="519120"/>
                <a:chOff x="5067720" y="7834320"/>
                <a:chExt cx="300960" cy="51912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510840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506772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9" name=""/>
              <p:cNvGrpSpPr/>
              <p:nvPr/>
            </p:nvGrpSpPr>
            <p:grpSpPr>
              <a:xfrm>
                <a:off x="5369040" y="7834320"/>
                <a:ext cx="301320" cy="519120"/>
                <a:chOff x="5369040" y="7834320"/>
                <a:chExt cx="301320" cy="51912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541008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369040" y="7834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5670360" y="7834320"/>
                <a:ext cx="300960" cy="519120"/>
                <a:chOff x="5670360" y="7834320"/>
                <a:chExt cx="300960" cy="51912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571104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67036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5971320" y="7834320"/>
                <a:ext cx="881640" cy="519120"/>
                <a:chOff x="5971320" y="7834320"/>
                <a:chExt cx="881640" cy="51912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6012360" y="783432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5971320" y="783432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3960" y="8353440"/>
                <a:ext cx="2653920" cy="785520"/>
                <a:chOff x="3960" y="8353440"/>
                <a:chExt cx="2653920" cy="7855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44640" y="8353440"/>
                  <a:ext cx="25718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Diversité par personn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3960" y="8353440"/>
                  <a:ext cx="26539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2657880" y="8353440"/>
                <a:ext cx="300960" cy="785520"/>
                <a:chOff x="2657880" y="8353440"/>
                <a:chExt cx="300960" cy="78552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269856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265788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2959200" y="8353440"/>
                <a:ext cx="300960" cy="785520"/>
                <a:chOff x="2959200" y="8353440"/>
                <a:chExt cx="300960" cy="78552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300024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295920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3260160" y="8353440"/>
                <a:ext cx="301320" cy="785520"/>
                <a:chOff x="3260160" y="8353440"/>
                <a:chExt cx="301320" cy="78552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330120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3260160" y="8353440"/>
                  <a:ext cx="3013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3561480" y="8353440"/>
                <a:ext cx="300960" cy="785520"/>
                <a:chOff x="3561480" y="8353440"/>
                <a:chExt cx="300960" cy="78552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360216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56148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3862800" y="8353440"/>
                <a:ext cx="301320" cy="785520"/>
                <a:chOff x="3862800" y="8353440"/>
                <a:chExt cx="301320" cy="78552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390384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862800" y="8353440"/>
                  <a:ext cx="3013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6" name=""/>
              <p:cNvGrpSpPr/>
              <p:nvPr/>
            </p:nvGrpSpPr>
            <p:grpSpPr>
              <a:xfrm>
                <a:off x="4164120" y="8353440"/>
                <a:ext cx="300960" cy="785520"/>
                <a:chOff x="4164120" y="8353440"/>
                <a:chExt cx="300960" cy="78552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420480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416412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4465080" y="8353440"/>
                <a:ext cx="300960" cy="785520"/>
                <a:chOff x="4465080" y="8353440"/>
                <a:chExt cx="300960" cy="78552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450612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6508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4766400" y="8353440"/>
                <a:ext cx="301320" cy="785520"/>
                <a:chOff x="4766400" y="8353440"/>
                <a:chExt cx="301320" cy="78552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480744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766400" y="8353440"/>
                  <a:ext cx="3013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5067720" y="8353440"/>
                <a:ext cx="300960" cy="785520"/>
                <a:chOff x="5067720" y="8353440"/>
                <a:chExt cx="300960" cy="78552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510840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06772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5369040" y="8353440"/>
                <a:ext cx="301320" cy="785520"/>
                <a:chOff x="5369040" y="8353440"/>
                <a:chExt cx="301320" cy="78552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541008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5369040" y="8353440"/>
                  <a:ext cx="3013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5670360" y="8353440"/>
                <a:ext cx="300960" cy="785520"/>
                <a:chOff x="5670360" y="8353440"/>
                <a:chExt cx="300960" cy="78552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571104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67036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5971320" y="8353440"/>
                <a:ext cx="881640" cy="785520"/>
                <a:chOff x="5971320" y="8353440"/>
                <a:chExt cx="881640" cy="78552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6012360" y="8353440"/>
                  <a:ext cx="79956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5971320" y="8353440"/>
                  <a:ext cx="88164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67" name=""/>
            <p:cNvSpPr/>
            <p:nvPr/>
          </p:nvSpPr>
          <p:spPr>
            <a:xfrm>
              <a:off x="0" y="0"/>
              <a:ext cx="6858000" cy="9144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9T11:20:32Z</dcterms:created>
  <dc:creator>MADERS</dc:creator>
  <dc:description/>
  <dc:language>en-US</dc:language>
  <cp:lastModifiedBy>MADERS</cp:lastModifiedBy>
  <dcterms:modified xsi:type="dcterms:W3CDTF">2002-03-09T11:30:03Z</dcterms:modified>
  <cp:revision>3</cp:revision>
  <dc:subject/>
  <dc:title>Présentation PowerPoint</dc:title>
</cp:coreProperties>
</file>