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043-FDD4-41DC-BD8E-4955A97F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CDD-9D57-448F-AB6E-D7401F8D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A9A-278B-4E36-A492-580A6EAE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1A6-DCAA-4ECA-ACBA-F42EBA6E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74F-BE66-452B-A345-C9250A41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A13-D94A-4368-8886-E2CEA811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71C-C254-4062-AFFB-73A4BC46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133-33DF-4BF6-BDFD-2861E77B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7BD-2E36-494D-A4D2-051D0803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7D8-7E65-4D84-861F-39E4E89B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186-A384-4D02-BA6A-2357CBC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36E-EDD4-4067-88A8-060B3820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2DC0-B0DE-4660-9B1C-20B28DF70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Note de cadr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838080"/>
            <a:ext cx="5029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an, responsable qua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rigine du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Pierre, chef du service courri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029200" y="838080"/>
            <a:ext cx="1828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4/01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057400"/>
            <a:ext cx="68580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ctif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courrier avec amélioration de la qualité perçue par les clients et sécur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295272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érimètre proje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 siège social de la banque. Les agences ne font donc pas partie du périmètre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38228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trainte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ombre d’acteurs, technicité et diversité d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555948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sponsabilités chef de projet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animation et gestion des plannings, des intervenants et des budge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sponsabilité équipe projet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expertise organisationnelle et techniq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701028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Moyen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. Yoan, chef de projet à 25 %, M. Pierre et M. Antoine à 50 % + un groupe de travail de secrétaires et quelques jours d’experts de février à juin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6429240"/>
            <a:ext cx="685800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ité de pilotag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G + directeurs + chef de projet : réunions à chaque phase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469260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cription de l’équipe proje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. Pierre et M. Antoine (organisateur) à 50 % de leur temps sur toute la durée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8153280"/>
            <a:ext cx="6858000" cy="8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émarch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 de l’existant (février), organisation cible (mars) et conduite du changement (avril/jui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0" y="903600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chéanc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 30 juin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2:21Z</dcterms:modified>
  <cp:revision>104</cp:revision>
  <dc:subject/>
  <dc:title>Présentation PowerPoint</dc:title>
</cp:coreProperties>
</file>