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936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140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4732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936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140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47320" y="228600"/>
            <a:ext cx="94107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936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11400" y="914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732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2936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11400" y="3740400"/>
            <a:ext cx="3030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47320" y="228600"/>
            <a:ext cx="94107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272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520" y="3740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520" y="914400"/>
            <a:ext cx="4592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7320" y="3740400"/>
            <a:ext cx="9410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22860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72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476"/>
              </a:spcBef>
              <a:buClr>
                <a:srgbClr val="b1272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1" marL="760320" indent="-285480">
              <a:spcBef>
                <a:spcPts val="476"/>
              </a:spcBef>
              <a:buClr>
                <a:srgbClr val="00418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2" marL="1179360" indent="-228600">
              <a:spcBef>
                <a:spcPts val="476"/>
              </a:spcBef>
              <a:buClr>
                <a:srgbClr val="004186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00418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4" marL="2057400" indent="-228600">
              <a:spcBef>
                <a:spcPts val="476"/>
              </a:spcBef>
              <a:buClr>
                <a:srgbClr val="0041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186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41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mzgcoulOK" descr=""/>
          <p:cNvPicPr/>
          <p:nvPr/>
        </p:nvPicPr>
        <p:blipFill>
          <a:blip r:embed="rId2"/>
          <a:stretch/>
        </p:blipFill>
        <p:spPr>
          <a:xfrm>
            <a:off x="7427880" y="6095880"/>
            <a:ext cx="2478240" cy="520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33040" y="1752120"/>
            <a:ext cx="6356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27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b12726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099200" y="6095880"/>
            <a:ext cx="247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29400"/>
            <a:ext cx="9906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b1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28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9 H 00 / 9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71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371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1371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ctif recherch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828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ésentation objectifs et contenu du stage, animateur et particip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828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dentifier le niveau de connaissance et de pertinence du sujet pour les particip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371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dalités pédagog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1828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osé anima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our de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9 H 30 / 10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860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ésentation de la démarche : objectifs et logique d’ense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2860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onner une vision d’ensemble de la démarche + présenter des exe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22860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osé anima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14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4 H 30 / 15 H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7432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27432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27432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00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0 H 45 / 12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2004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e en pratique : carte mé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2004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ire construire une carte mé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léter la liste de conse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32004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vail en équipes de 3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ébriefing en plén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43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0 H 30 / 10 H 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114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e en pratique : carte syst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114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ire construire une carte syst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4114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vail en équipes de 3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ébriefing en plén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57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3 H 45 / 14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657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e en pratique : carte phys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657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ire construire une carte phys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657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vail en équipes de 3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ébriefing en plén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5720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5720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45720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5 H 15 / 15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86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6 H 15 / 17 H 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864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e en pratique : carte contrôle int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4864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ire construire une carte contrôle int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54864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vail en équipes de 3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ébriefing en plén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029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5 H 30 / 16 H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292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e en pratique : carte com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0292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ire construire une carte com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0292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vail en équipes de 3 perso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ébriefing en plén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 H 00 / 17 H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9436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ynthèse du s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59436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appeler les objectifs de la démarche et la vision d’ense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943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xposé animateur et/ou questionnement particp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00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 H 30 / 17 H 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6400800"/>
            <a:ext cx="3047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Évaluation du s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640080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voir un feed-back à cha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64008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our de table et support d’é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matio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arte fili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pulation concerné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organisateurs et audi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é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une jour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3808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 pédagogiqu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à la fin de la journée, les participants ont compris l’intérêt de la carte filières et sont capable de l’utiliser dans le cadre de leur poste de tr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0:45:18Z</dcterms:created>
  <dc:creator>HPM</dc:creator>
  <dc:description/>
  <dc:language>en-US</dc:language>
  <cp:lastModifiedBy>MADERS</cp:lastModifiedBy>
  <cp:lastPrinted>1999-05-21T13:25:32Z</cp:lastPrinted>
  <dcterms:modified xsi:type="dcterms:W3CDTF">2002-02-25T08:13:03Z</dcterms:modified>
  <cp:revision>54</cp:revision>
  <dc:subject/>
  <dc:title> PROCESSUS-FILIERES  un outil d’analyse des processus </dc:title>
</cp:coreProperties>
</file>