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5BB-F929-4F90-80F7-65C1BDF9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9FE-3269-4870-8168-2FA2207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C3F-CED2-4DA7-893C-AB0CB1B3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153-3BE3-40FD-A252-A0067BDB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57C-D5DC-49A8-A0A9-C04A12C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8A8-D377-43EF-A16D-925FCC4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0DE-7F55-4985-9586-45691F1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B27-9DC2-4504-87F1-E42AE097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138-B8D7-4C3D-8B5C-006C7704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A33-E5F8-4275-A093-5BC4936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457-6B7B-4A45-8D67-140A29F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F75-1926-41F0-8775-5E07933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ADD7-006B-46F3-B1F8-119684B0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1:10:45Z</dcterms:modified>
  <cp:revision>98</cp:revision>
  <dc:subject/>
  <dc:title>Présentation PowerPoint</dc:title>
</cp:coreProperties>
</file>