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3D7-9AEA-498F-9413-DC593A3A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8FE-7A0E-4E7C-8517-834E9C17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955-9CAF-4177-96B9-EACFDC8C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6D0-9E2D-432D-A5EE-DD5CE450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08AF-89D7-475A-B77B-66D83B6B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AA02-3050-433F-BFD1-596BE8D3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EBF-1F0A-4CF2-8D3E-577A8D95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3B1-3E52-4705-AD89-BBFD427E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E58D-F499-4D61-BCF3-B4CB0850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77F-AC7B-4D33-AE45-77079E1A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538-DB84-4544-8061-F0CF2995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D27-37FB-44A3-863F-FBE7B0CE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9A01-7DE8-4CF9-9C6F-0A404D01C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te-rendu de ré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105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6094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union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articipan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xcusés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rdre du jou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0592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haine réunio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648320"/>
            <a:ext cx="68580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ésumé des points traité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37:52Z</dcterms:modified>
  <cp:revision>10</cp:revision>
  <dc:subject/>
  <dc:title>Présentation PowerPoint</dc:title>
</cp:coreProperties>
</file>