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A7E-EFBF-46CF-9967-BCDDFE82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3BB-493F-4F53-8A8B-BC1E6DD4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915-2656-4EBF-9EC0-491D0E59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B51-85C2-48E0-A251-F1182AC3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242-21AE-471D-9971-DDDC37E9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021-3442-48DF-B121-3BA0D62A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4B9-2ABB-409C-91A8-B8F04D6B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BBD-14C6-4B79-BAAC-7C76BE1F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929-480C-4697-AB96-11AA1BA9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741-0256-437F-8399-EC4C89F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229-AFE5-44B2-A68A-9AD867E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CB8-F5BE-4DBF-9271-0AD1CA39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1E2E-E779-49AE-AB26-9B7F51A1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ossier de cho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9:14Z</dcterms:modified>
  <cp:revision>8</cp:revision>
  <dc:subject/>
  <dc:title>Présentation PowerPoint</dc:title>
</cp:coreProperties>
</file>