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BC4-5666-4FF7-82B0-30DCAB27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283-8E13-4C77-A6B9-AC71E1CD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E77-A486-4FAF-9FF7-E83370F2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161-C514-4C7B-9E93-C41483A6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715-70B7-441A-85D4-F77FAE92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92F-1CCB-4E2F-8317-5CBCE4BE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B07-98C1-480B-9EC3-D12ED1D6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9D5-7F80-4E3F-8983-32C5BFD9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332-B132-4C5F-82D3-6A5BC0C2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6FA-9FFB-40A4-8C5A-B826F4D9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27A-DD81-4E02-8779-B95E223D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8C3-6804-410F-99A0-F7C3B057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7F71-5538-422F-B9FE-C0EBFA59B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Dossier de choi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60948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858000" y="609480"/>
            <a:ext cx="2286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04/04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8954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1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par les agents du siège en work-f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388620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2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par le service qua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48769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3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en partie par les secrétaires avec des lettres 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0" y="58672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4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19051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olution actuell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manuellement par les agents su siè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1371600"/>
            <a:ext cx="2743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2743200" y="1371600"/>
            <a:ext cx="1828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s de fonctionn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4572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6858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convén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2743200" y="19051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5 avec des pointes à 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4572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ntrôles hiérarchiq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émorisation d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6858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lais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isque de non exhaustiv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bsence de traçabi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2743200" y="2895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5 avec des pointes à 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formatiqu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20 K€ par 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4572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émor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6858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vestissement informatique init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lais de mise en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2743200" y="388620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2 avec appels à experti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4572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orme commerciale des répon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s statistiq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6858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responsabilisation des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2743200" y="48769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4572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ain de temps pour les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6858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isque de standardisation des répon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2743200" y="5867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4572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1"/>
          <p:cNvSpPr/>
          <p:nvPr/>
        </p:nvSpPr>
        <p:spPr>
          <a:xfrm>
            <a:off x="6858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10:04:52Z</dcterms:modified>
  <cp:revision>10</cp:revision>
  <dc:subject/>
  <dc:title>Présentation PowerPoint</dc:title>
</cp:coreProperties>
</file>