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F72-A30E-47BE-82D0-020183A7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CF3-BB9F-40ED-A299-AC574999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7D3-5795-43E6-98E0-53F7491E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88F-01C9-44E0-908F-1D057B76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E35-F30E-428D-8E77-FD89697B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07E-EE26-46F1-9A11-79B0045E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992-882D-4F53-8625-AB332FD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A99-7627-4090-8EF6-DDD0CBB3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752-BB7F-4BAE-BEA5-70D1EBA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9B5-A17F-4E0A-8ADF-97F50C1F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2C2-0731-4F76-8399-50B6EF3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30E-3F66-4481-810F-FF02E5A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6731-00E1-4A89-AF79-2BCAE355D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Tableau Gan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34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65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9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93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07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221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235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249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63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77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82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/Compléter l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83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84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85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86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87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88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89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90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91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Yoa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94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95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6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97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298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99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00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01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02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03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04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06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07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08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09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10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11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12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14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15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16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17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18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19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20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21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22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23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24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25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26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27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28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29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30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31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32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33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34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35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36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37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38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39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40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41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42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3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4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45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46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47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48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9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0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51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52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53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54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55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56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57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58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59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60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61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62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63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64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65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66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68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69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70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71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72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73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74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75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76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77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78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79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0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81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82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83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84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85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86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87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88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89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90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91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2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93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94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95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96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97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98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99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00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01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02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03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04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05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06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07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08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09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10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11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2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13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15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6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17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18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19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20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21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22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23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24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25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26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27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28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29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30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31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32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3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34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35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36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37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38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39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40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41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42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43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44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45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46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47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48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49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50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51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53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Févri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54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55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56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57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458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59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460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461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62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63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464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65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66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67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68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9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70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71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72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73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74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75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76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77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478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9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80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81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82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83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4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85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86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487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88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89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90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91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92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93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vri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94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95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96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97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498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499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00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01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02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03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04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05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06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07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08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09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10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11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12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13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i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14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15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16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17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18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19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20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21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22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23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24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25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26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27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28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529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30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531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32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533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Jui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534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35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536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37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38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39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40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541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542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543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44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545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46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47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548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49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51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552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53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573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574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575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76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77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578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79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580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81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82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583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84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85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586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587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88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89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90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91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8:29Z</dcterms:modified>
  <cp:revision>104</cp:revision>
  <dc:subject/>
  <dc:title>Présentation PowerPoint</dc:title>
</cp:coreProperties>
</file>