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795-9EAE-4019-BD3E-78510DD0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1A7-AA76-43BD-9EDC-12BDEC41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A5F-8A45-4332-8C08-74207BFC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BB4-1293-42C8-9724-9089D018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8FD-BE05-48D6-8EA4-70E0D1CE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579-9873-4AA6-ACAF-86C8DBAA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24F-3DE4-454A-AA8A-BD326AB2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2BC-76A0-48E2-8FE0-F60383E0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43E-7B4D-4FB8-8277-4168C1D5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B01-A2E9-46AA-9474-F75E0CF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1BF-5230-42BA-9D8C-C437B5A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7DF-3D58-438B-AB91-F17E8CC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F228-EFD4-45AE-9166-A6A6DAF2A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DERS</cp:lastModifiedBy>
  <dcterms:modified xsi:type="dcterms:W3CDTF">2002-03-09T11:04:46Z</dcterms:modified>
  <cp:revision>4</cp:revision>
  <dc:subject/>
  <dc:title>Présentation PowerPoint</dc:title>
</cp:coreProperties>
</file>