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243-220E-4445-A4C7-43C173C1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E7C-72F9-4C69-9F73-D3406836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63B-ABC0-4E2F-AE22-F60E64E1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382-D8E2-4404-AF95-D3C39DCE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5C9-073A-47E6-A643-8E9B528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890-1BBD-468D-8054-879A1F5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D47-D947-4F92-80EC-0D2ABD2C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A38-7B94-4E8E-A4EF-3367B7B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E88-940E-4FE6-B11E-80D9E335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859-34D0-46C5-8DB4-50CDD71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FA7-856B-47CA-AD15-16743FA4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B33-E426-48A8-B685-BE626899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E45E-B5E6-4D29-80F6-FF323F44C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Ga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8:49Z</dcterms:modified>
  <cp:revision>104</cp:revision>
  <dc:subject/>
  <dc:title>Présentation PowerPoint</dc:title>
</cp:coreProperties>
</file>