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FB9A-8AB8-4B9D-8EFD-2E6D78F5D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17F6-CCA2-484A-8808-8F30D0D8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D543-2489-47D3-9738-D47A6A8B6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8A4E-1689-4B17-B303-A2CFCE3E0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7EF7-663E-44D4-9592-1CEB3DB75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5A7E-D872-4208-89C7-2B246CBF7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46E4-FF18-4273-B93E-0D258159A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FA30-7F33-4EE2-A420-94BB74187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4210-8D42-4721-BEA4-6B3EBC1F4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D7C1-CE7F-486A-A957-38E9196E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6FCA-B2A6-4130-AE54-166DCB4F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6BE9-4639-414E-941A-CE0DBFCE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93C49-8809-4D30-AD96-930DD69F3F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743200"/>
            <a:ext cx="76212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17/01/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2743200"/>
            <a:ext cx="76212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28/02/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105520" y="2743200"/>
            <a:ext cx="76176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31/03/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763120" y="2743200"/>
            <a:ext cx="76176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30/06/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" name=""/>
          <p:cNvCxnSpPr>
            <a:stCxn id="41" idx="6"/>
            <a:endCxn id="42" idx="2"/>
          </p:cNvCxnSpPr>
          <p:nvPr/>
        </p:nvCxnSpPr>
        <p:spPr>
          <a:xfrm>
            <a:off x="1219320" y="3124440"/>
            <a:ext cx="1676520" cy="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" name=""/>
          <p:cNvCxnSpPr>
            <a:stCxn id="43" idx="6"/>
            <a:endCxn id="44" idx="2"/>
          </p:cNvCxnSpPr>
          <p:nvPr/>
        </p:nvCxnSpPr>
        <p:spPr>
          <a:xfrm>
            <a:off x="5867280" y="3124440"/>
            <a:ext cx="2896200" cy="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stCxn id="42" idx="6"/>
            <a:endCxn id="43" idx="2"/>
          </p:cNvCxnSpPr>
          <p:nvPr/>
        </p:nvCxnSpPr>
        <p:spPr>
          <a:xfrm>
            <a:off x="3657600" y="3124440"/>
            <a:ext cx="1448280" cy="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4"/>
            <a:endCxn id="44" idx="4"/>
          </p:cNvCxnSpPr>
          <p:nvPr/>
        </p:nvCxnSpPr>
        <p:spPr>
          <a:xfrm rot="16200000">
            <a:off x="4991040" y="-647640"/>
            <a:ext cx="360" cy="8305920"/>
          </a:xfrm>
          <a:prstGeom prst="bentConnector3">
            <a:avLst>
              <a:gd name="adj1" fmla="val 643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1" idx="0"/>
            <a:endCxn id="44" idx="0"/>
          </p:cNvCxnSpPr>
          <p:nvPr/>
        </p:nvCxnSpPr>
        <p:spPr>
          <a:xfrm rot="16200000">
            <a:off x="4991040" y="-1409760"/>
            <a:ext cx="360" cy="8305920"/>
          </a:xfrm>
          <a:prstGeom prst="bentConnector3">
            <a:avLst>
              <a:gd name="adj1" fmla="val -644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1055880" y="2540160"/>
            <a:ext cx="187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alyse de l’exist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98840" y="2540160"/>
            <a:ext cx="170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rganisation c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144840" y="2540160"/>
            <a:ext cx="23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duite du chan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66760" y="1397160"/>
            <a:ext cx="205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munication proj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81320" y="5267160"/>
            <a:ext cx="162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estion de proj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>
            <a:stCxn id="41" idx="4"/>
            <a:endCxn id="43" idx="4"/>
          </p:cNvCxnSpPr>
          <p:nvPr/>
        </p:nvCxnSpPr>
        <p:spPr>
          <a:xfrm rot="16200000">
            <a:off x="3162240" y="1181160"/>
            <a:ext cx="360" cy="4648320"/>
          </a:xfrm>
          <a:prstGeom prst="bentConnector3">
            <a:avLst>
              <a:gd name="adj1" fmla="val 643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2640240" y="4200480"/>
            <a:ext cx="11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enchma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5159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PM</dc:creator>
  <dc:description/>
  <dc:language>en-US</dc:language>
  <cp:lastModifiedBy> </cp:lastModifiedBy>
  <cp:lastPrinted>2000-05-11T10:17:14Z</cp:lastPrinted>
  <dcterms:modified xsi:type="dcterms:W3CDTF">2009-05-05T08:51:23Z</dcterms:modified>
  <cp:revision>99</cp:revision>
  <dc:subject/>
  <dc:title>Présentation PowerPoint</dc:title>
</cp:coreProperties>
</file>