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74F-18AE-4F82-BC92-FC043C82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3F3-1B75-453B-84B8-A9ACB1F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8CB-06CB-42AF-98B5-8E1CEFE0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D8C-F014-4B81-8D22-13923B81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016-AEAE-46B6-9603-624ABC0A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C53-1018-4E68-8194-0E2934A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FDF-1123-4939-B58B-85BD5C5C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AC7-B856-43A1-80D4-A7860D9A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5B5-4A66-4994-8C91-146234D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A2-A9D9-4E1C-8E4A-7286FFC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F56-D105-4E56-9BA9-2FDD714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949-6989-426C-BBB2-4F02055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8A20-72BB-4D2A-BE1A-016170A0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DERS</cp:lastModifiedBy>
  <dcterms:modified xsi:type="dcterms:W3CDTF">2002-03-09T18:16:12Z</dcterms:modified>
  <cp:revision>7</cp:revision>
  <dc:subject/>
  <dc:title>Présentation PowerPoint</dc:title>
</cp:coreProperties>
</file>