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5DD3-35FF-4AEA-A45E-3D223D86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6F6-F7AE-4303-8597-1BBCA227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C27-3901-4DA9-ADB9-2FC3A165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416D-1E4D-4CBA-9A74-D4801DF9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76E-01D3-4133-9B08-80DF5D0E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EB3-4D67-4147-ABB6-33FD15DC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2803-DAEC-40F0-9D27-DC615842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B20-CCBC-4E16-B743-814CD188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8FF-13A8-4BAA-B085-EA3C42A9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468-E099-40BD-A892-3C7DA5F1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D0C-7BED-4735-8AB7-599CEB75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726-D965-4EF8-8950-917340A4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707C-027A-4450-9694-86EA44F2E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lan de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2940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05920" y="6172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486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05920" y="5486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480204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05920" y="480204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411480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05920" y="411480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42756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5920" y="342756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274320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2743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tinat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 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762120"/>
            <a:ext cx="32763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jectif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met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76212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s clés de dif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2057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05920" y="2057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6172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31:13Z</dcterms:modified>
  <cp:revision>100</cp:revision>
  <dc:subject/>
  <dc:title>Présentation PowerPoint</dc:title>
</cp:coreProperties>
</file>