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6A9-F09B-4CAD-BB6B-B2001E20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2BE-1E7C-41C1-8516-5EF1D46E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4DD2-BCD6-44B6-9BEF-E9961028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455-A497-47F7-9F0F-A483F166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9F9-CCE8-4873-924E-FF6D0780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C12-87F8-4F29-A565-F984D4F9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433-3C15-49E9-A649-619B37B4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ED5F-6BF2-404F-8B9B-126D1241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E78-6E12-4415-9953-9F371F96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94B-91F4-40E0-BB7A-6C1B1706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5F3-038E-4085-B7B3-5A07FD02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59E-BEF5-4D1D-8B53-CE784873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C406-EE35-4640-B93C-95A037544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42" name=""/>
            <p:cNvGrpSpPr/>
            <p:nvPr/>
          </p:nvGrpSpPr>
          <p:grpSpPr>
            <a:xfrm>
              <a:off x="7200" y="6120"/>
              <a:ext cx="6842520" cy="9130680"/>
              <a:chOff x="7200" y="6120"/>
              <a:chExt cx="6842520" cy="913068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7200" y="6120"/>
                <a:ext cx="2731320" cy="1059840"/>
                <a:chOff x="7200" y="6120"/>
                <a:chExt cx="2731320" cy="105984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48960" y="6120"/>
                  <a:ext cx="2646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7200" y="6120"/>
                  <a:ext cx="273132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2738520" y="6120"/>
                <a:ext cx="309600" cy="1059840"/>
                <a:chOff x="2738520" y="6120"/>
                <a:chExt cx="309600" cy="105984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78028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73852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3048480" y="6120"/>
                <a:ext cx="309600" cy="1059840"/>
                <a:chOff x="3048480" y="6120"/>
                <a:chExt cx="309600" cy="105984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09060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304848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3358440" y="6120"/>
                <a:ext cx="309960" cy="1059840"/>
                <a:chOff x="3358440" y="6120"/>
                <a:chExt cx="309960" cy="105984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40056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35844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668400" y="6120"/>
                <a:ext cx="309600" cy="1059840"/>
                <a:chOff x="3668400" y="6120"/>
                <a:chExt cx="309600" cy="105984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71016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66840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978360" y="6120"/>
                <a:ext cx="309960" cy="1059840"/>
                <a:chOff x="3978360" y="6120"/>
                <a:chExt cx="309960" cy="10598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402048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97836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288680" y="6120"/>
                <a:ext cx="309600" cy="1059840"/>
                <a:chOff x="4288680" y="6120"/>
                <a:chExt cx="309600" cy="10598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33044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28868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598640" y="6120"/>
                <a:ext cx="309600" cy="1059840"/>
                <a:chOff x="4598640" y="6120"/>
                <a:chExt cx="309600" cy="10598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64076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59864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908240" y="6120"/>
                <a:ext cx="309960" cy="1059840"/>
                <a:chOff x="4908240" y="6120"/>
                <a:chExt cx="309960" cy="10598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95036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90824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218560" y="6120"/>
                <a:ext cx="309600" cy="1059840"/>
                <a:chOff x="5218560" y="6120"/>
                <a:chExt cx="309600" cy="10598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26032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21856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528520" y="6120"/>
                <a:ext cx="309960" cy="1059840"/>
                <a:chOff x="5528520" y="6120"/>
                <a:chExt cx="309960" cy="10598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57064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52852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838840" y="6120"/>
                <a:ext cx="309600" cy="1059840"/>
                <a:chOff x="5838840" y="6120"/>
                <a:chExt cx="309600" cy="10598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88060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K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83884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148440" y="6120"/>
                <a:ext cx="701280" cy="1059840"/>
                <a:chOff x="6148440" y="6120"/>
                <a:chExt cx="701280" cy="10598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190560" y="6120"/>
                  <a:ext cx="61668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ouvertur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148440" y="6120"/>
                  <a:ext cx="70128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7200" y="1065960"/>
                <a:ext cx="2731320" cy="648000"/>
                <a:chOff x="7200" y="1065960"/>
                <a:chExt cx="2731320" cy="6480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8960" y="1065960"/>
                  <a:ext cx="2646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nimation, gestion et organisation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200" y="1065960"/>
                  <a:ext cx="273132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738520" y="1065960"/>
                <a:ext cx="309600" cy="648000"/>
                <a:chOff x="2738520" y="1065960"/>
                <a:chExt cx="309600" cy="6480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78028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73852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048480" y="1065960"/>
                <a:ext cx="309600" cy="648000"/>
                <a:chOff x="3048480" y="1065960"/>
                <a:chExt cx="309600" cy="6480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09060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04848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358440" y="1065960"/>
                <a:ext cx="309960" cy="648000"/>
                <a:chOff x="3358440" y="1065960"/>
                <a:chExt cx="309960" cy="6480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40056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35844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668400" y="1065960"/>
                <a:ext cx="309600" cy="648000"/>
                <a:chOff x="3668400" y="1065960"/>
                <a:chExt cx="309600" cy="6480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71016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66840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978360" y="1065960"/>
                <a:ext cx="309960" cy="648000"/>
                <a:chOff x="3978360" y="1065960"/>
                <a:chExt cx="309960" cy="6480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02048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97836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288680" y="1065960"/>
                <a:ext cx="309600" cy="648000"/>
                <a:chOff x="4288680" y="1065960"/>
                <a:chExt cx="309600" cy="6480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33044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8868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598640" y="1065960"/>
                <a:ext cx="309600" cy="648000"/>
                <a:chOff x="4598640" y="1065960"/>
                <a:chExt cx="309600" cy="648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64076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59864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908240" y="1065960"/>
                <a:ext cx="309960" cy="648000"/>
                <a:chOff x="4908240" y="1065960"/>
                <a:chExt cx="309960" cy="64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95036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90824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218560" y="1065960"/>
                <a:ext cx="309600" cy="648000"/>
                <a:chOff x="5218560" y="1065960"/>
                <a:chExt cx="309600" cy="6480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26032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21856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528520" y="1065960"/>
                <a:ext cx="309960" cy="648000"/>
                <a:chOff x="5528520" y="1065960"/>
                <a:chExt cx="309960" cy="6480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57064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52852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838840" y="1065960"/>
                <a:ext cx="309600" cy="648000"/>
                <a:chOff x="5838840" y="1065960"/>
                <a:chExt cx="309600" cy="6480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88060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83884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148440" y="1065960"/>
                <a:ext cx="701280" cy="648000"/>
                <a:chOff x="6148440" y="1065960"/>
                <a:chExt cx="701280" cy="6480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190560" y="1065960"/>
                  <a:ext cx="61668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148440" y="1065960"/>
                  <a:ext cx="70128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200" y="1713960"/>
                <a:ext cx="2731320" cy="510120"/>
                <a:chOff x="7200" y="1713960"/>
                <a:chExt cx="2731320" cy="510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8960" y="171396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uivi des engagements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200" y="171396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738520" y="1713960"/>
                <a:ext cx="309600" cy="510120"/>
                <a:chOff x="2738520" y="1713960"/>
                <a:chExt cx="309600" cy="510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78028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73852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048480" y="1713960"/>
                <a:ext cx="309600" cy="510120"/>
                <a:chOff x="3048480" y="1713960"/>
                <a:chExt cx="309600" cy="510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9060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848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358440" y="1713960"/>
                <a:ext cx="309960" cy="510120"/>
                <a:chOff x="3358440" y="1713960"/>
                <a:chExt cx="309960" cy="5101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40056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35844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668400" y="1713960"/>
                <a:ext cx="309600" cy="510120"/>
                <a:chOff x="3668400" y="1713960"/>
                <a:chExt cx="309600" cy="510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71016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66840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978360" y="1713960"/>
                <a:ext cx="309960" cy="510120"/>
                <a:chOff x="3978360" y="1713960"/>
                <a:chExt cx="309960" cy="510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02048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7836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288680" y="1713960"/>
                <a:ext cx="309600" cy="510120"/>
                <a:chOff x="4288680" y="1713960"/>
                <a:chExt cx="309600" cy="510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33044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8868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598640" y="1713960"/>
                <a:ext cx="309600" cy="510120"/>
                <a:chOff x="4598640" y="1713960"/>
                <a:chExt cx="309600" cy="510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64076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59864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908240" y="1713960"/>
                <a:ext cx="309960" cy="510120"/>
                <a:chOff x="4908240" y="1713960"/>
                <a:chExt cx="309960" cy="510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95036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90824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218560" y="1713960"/>
                <a:ext cx="309600" cy="510120"/>
                <a:chOff x="5218560" y="1713960"/>
                <a:chExt cx="309600" cy="510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26032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1856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528520" y="1713960"/>
                <a:ext cx="309960" cy="510120"/>
                <a:chOff x="5528520" y="1713960"/>
                <a:chExt cx="309960" cy="510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57064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52852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838840" y="1713960"/>
                <a:ext cx="309600" cy="510120"/>
                <a:chOff x="5838840" y="1713960"/>
                <a:chExt cx="309600" cy="5101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88060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83884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148440" y="1713960"/>
                <a:ext cx="701280" cy="510120"/>
                <a:chOff x="6148440" y="1713960"/>
                <a:chExt cx="701280" cy="5101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190560" y="171396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148440" y="171396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200" y="2224440"/>
                <a:ext cx="2731320" cy="510480"/>
                <a:chOff x="7200" y="2224440"/>
                <a:chExt cx="2731320" cy="510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8960" y="222444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entrepris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200" y="222444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738520" y="2224440"/>
                <a:ext cx="309600" cy="510480"/>
                <a:chOff x="2738520" y="2224440"/>
                <a:chExt cx="309600" cy="510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78028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73852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048480" y="2224440"/>
                <a:ext cx="309600" cy="510480"/>
                <a:chOff x="3048480" y="2224440"/>
                <a:chExt cx="309600" cy="510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9060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04848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358440" y="2224440"/>
                <a:ext cx="309960" cy="510480"/>
                <a:chOff x="3358440" y="2224440"/>
                <a:chExt cx="309960" cy="510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40056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35844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668400" y="2224440"/>
                <a:ext cx="309600" cy="510480"/>
                <a:chOff x="3668400" y="2224440"/>
                <a:chExt cx="309600" cy="510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71016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66840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978360" y="2224440"/>
                <a:ext cx="309960" cy="510480"/>
                <a:chOff x="3978360" y="2224440"/>
                <a:chExt cx="309960" cy="5104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02048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97836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288680" y="2224440"/>
                <a:ext cx="309600" cy="510480"/>
                <a:chOff x="4288680" y="2224440"/>
                <a:chExt cx="309600" cy="510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33044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28868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598640" y="2224440"/>
                <a:ext cx="309600" cy="510480"/>
                <a:chOff x="4598640" y="2224440"/>
                <a:chExt cx="309600" cy="5104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64076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59864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908240" y="2224440"/>
                <a:ext cx="309960" cy="510480"/>
                <a:chOff x="4908240" y="2224440"/>
                <a:chExt cx="309960" cy="5104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95036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90824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218560" y="2224440"/>
                <a:ext cx="309600" cy="510480"/>
                <a:chOff x="5218560" y="2224440"/>
                <a:chExt cx="309600" cy="5104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26032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21856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28520" y="2224440"/>
                <a:ext cx="309960" cy="510480"/>
                <a:chOff x="5528520" y="2224440"/>
                <a:chExt cx="309960" cy="5104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7064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2852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838840" y="2224440"/>
                <a:ext cx="309600" cy="510480"/>
                <a:chOff x="5838840" y="2224440"/>
                <a:chExt cx="309600" cy="5104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88060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83884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48440" y="2224440"/>
                <a:ext cx="701280" cy="510480"/>
                <a:chOff x="6148440" y="2224440"/>
                <a:chExt cx="701280" cy="5104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190560" y="222444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148440" y="222444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7200" y="2735280"/>
                <a:ext cx="2731320" cy="510120"/>
                <a:chOff x="7200" y="2735280"/>
                <a:chExt cx="2731320" cy="5101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8960" y="273528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clients haut de gamm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200" y="273528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738520" y="2735280"/>
                <a:ext cx="309600" cy="510120"/>
                <a:chOff x="2738520" y="2735280"/>
                <a:chExt cx="309600" cy="5101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78028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73852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048480" y="2735280"/>
                <a:ext cx="309600" cy="510120"/>
                <a:chOff x="3048480" y="2735280"/>
                <a:chExt cx="309600" cy="5101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09060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04848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358440" y="2735280"/>
                <a:ext cx="309960" cy="510120"/>
                <a:chOff x="3358440" y="2735280"/>
                <a:chExt cx="309960" cy="5101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40056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35844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668400" y="2735280"/>
                <a:ext cx="309600" cy="510120"/>
                <a:chOff x="3668400" y="2735280"/>
                <a:chExt cx="309600" cy="5101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71016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66840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978360" y="2735280"/>
                <a:ext cx="309960" cy="510120"/>
                <a:chOff x="3978360" y="2735280"/>
                <a:chExt cx="309960" cy="5101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02048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97836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288680" y="2735280"/>
                <a:ext cx="309600" cy="510120"/>
                <a:chOff x="4288680" y="2735280"/>
                <a:chExt cx="309600" cy="5101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33044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28868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598640" y="2735280"/>
                <a:ext cx="309600" cy="510120"/>
                <a:chOff x="4598640" y="2735280"/>
                <a:chExt cx="309600" cy="5101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64076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9864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908240" y="2735280"/>
                <a:ext cx="309960" cy="510120"/>
                <a:chOff x="4908240" y="2735280"/>
                <a:chExt cx="309960" cy="5101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95036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0824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218560" y="2735280"/>
                <a:ext cx="309600" cy="510120"/>
                <a:chOff x="5218560" y="2735280"/>
                <a:chExt cx="309600" cy="5101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26032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21856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528520" y="2735280"/>
                <a:ext cx="309960" cy="510120"/>
                <a:chOff x="5528520" y="2735280"/>
                <a:chExt cx="309960" cy="5101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57064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52852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838840" y="2735280"/>
                <a:ext cx="309600" cy="510120"/>
                <a:chOff x="5838840" y="2735280"/>
                <a:chExt cx="309600" cy="5101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88060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83884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6148440" y="2735280"/>
                <a:ext cx="701280" cy="510120"/>
                <a:chOff x="6148440" y="2735280"/>
                <a:chExt cx="701280" cy="5101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190560" y="273528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148440" y="273528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7200" y="3245760"/>
                <a:ext cx="2731320" cy="510480"/>
                <a:chOff x="7200" y="3245760"/>
                <a:chExt cx="2731320" cy="5104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8960" y="324576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particul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200" y="324576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738520" y="3245760"/>
                <a:ext cx="309600" cy="510480"/>
                <a:chOff x="2738520" y="3245760"/>
                <a:chExt cx="309600" cy="5104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78028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73852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048480" y="3245760"/>
                <a:ext cx="309600" cy="510480"/>
                <a:chOff x="3048480" y="3245760"/>
                <a:chExt cx="309600" cy="5104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9060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04848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358440" y="3245760"/>
                <a:ext cx="309960" cy="510480"/>
                <a:chOff x="3358440" y="3245760"/>
                <a:chExt cx="309960" cy="5104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40056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35844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668400" y="3245760"/>
                <a:ext cx="309600" cy="510480"/>
                <a:chOff x="3668400" y="3245760"/>
                <a:chExt cx="309600" cy="5104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71016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66840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978360" y="3245760"/>
                <a:ext cx="309960" cy="510480"/>
                <a:chOff x="3978360" y="3245760"/>
                <a:chExt cx="309960" cy="5104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402048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97836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288680" y="3245760"/>
                <a:ext cx="309600" cy="510480"/>
                <a:chOff x="4288680" y="3245760"/>
                <a:chExt cx="309600" cy="5104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33044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28868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598640" y="3245760"/>
                <a:ext cx="309600" cy="510480"/>
                <a:chOff x="4598640" y="3245760"/>
                <a:chExt cx="309600" cy="5104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64076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59864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908240" y="3245760"/>
                <a:ext cx="309960" cy="510480"/>
                <a:chOff x="4908240" y="3245760"/>
                <a:chExt cx="309960" cy="5104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95036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90824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218560" y="3245760"/>
                <a:ext cx="309600" cy="510480"/>
                <a:chOff x="5218560" y="3245760"/>
                <a:chExt cx="309600" cy="5104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26032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21856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528520" y="3245760"/>
                <a:ext cx="309960" cy="510480"/>
                <a:chOff x="5528520" y="3245760"/>
                <a:chExt cx="309960" cy="5104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57064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52852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838840" y="3245760"/>
                <a:ext cx="309600" cy="510480"/>
                <a:chOff x="5838840" y="3245760"/>
                <a:chExt cx="309600" cy="5104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88060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83884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6148440" y="3245760"/>
                <a:ext cx="701280" cy="510480"/>
                <a:chOff x="6148440" y="3245760"/>
                <a:chExt cx="701280" cy="5104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190560" y="324576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148440" y="324576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7200" y="3756600"/>
                <a:ext cx="2731320" cy="510120"/>
                <a:chOff x="7200" y="3756600"/>
                <a:chExt cx="2731320" cy="5101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8960" y="375660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200" y="375660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738520" y="3756600"/>
                <a:ext cx="309600" cy="510120"/>
                <a:chOff x="2738520" y="3756600"/>
                <a:chExt cx="309600" cy="5101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78028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73852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3048480" y="3756600"/>
                <a:ext cx="309600" cy="510120"/>
                <a:chOff x="3048480" y="3756600"/>
                <a:chExt cx="309600" cy="5101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09060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4848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358440" y="3756600"/>
                <a:ext cx="309960" cy="510120"/>
                <a:chOff x="3358440" y="3756600"/>
                <a:chExt cx="309960" cy="5101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40056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35844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68400" y="3756600"/>
                <a:ext cx="309600" cy="510120"/>
                <a:chOff x="3668400" y="3756600"/>
                <a:chExt cx="309600" cy="5101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1016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6840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978360" y="3756600"/>
                <a:ext cx="309960" cy="510120"/>
                <a:chOff x="3978360" y="3756600"/>
                <a:chExt cx="309960" cy="5101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02048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97836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288680" y="3756600"/>
                <a:ext cx="309600" cy="510120"/>
                <a:chOff x="4288680" y="3756600"/>
                <a:chExt cx="309600" cy="5101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33044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28868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598640" y="3756600"/>
                <a:ext cx="309600" cy="510120"/>
                <a:chOff x="4598640" y="3756600"/>
                <a:chExt cx="309600" cy="5101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64076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59864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908240" y="3756600"/>
                <a:ext cx="309960" cy="510120"/>
                <a:chOff x="4908240" y="3756600"/>
                <a:chExt cx="309960" cy="5101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95036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90824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218560" y="3756600"/>
                <a:ext cx="309600" cy="510120"/>
                <a:chOff x="5218560" y="3756600"/>
                <a:chExt cx="309600" cy="5101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26032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21856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528520" y="3756600"/>
                <a:ext cx="309960" cy="510120"/>
                <a:chOff x="5528520" y="3756600"/>
                <a:chExt cx="309960" cy="5101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57064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52852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838840" y="3756600"/>
                <a:ext cx="309600" cy="510120"/>
                <a:chOff x="5838840" y="3756600"/>
                <a:chExt cx="309600" cy="5101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88060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83884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6148440" y="3756600"/>
                <a:ext cx="701280" cy="510120"/>
                <a:chOff x="6148440" y="3756600"/>
                <a:chExt cx="701280" cy="5101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190560" y="375660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48440" y="375660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7200" y="4266720"/>
                <a:ext cx="2731320" cy="510480"/>
                <a:chOff x="7200" y="4266720"/>
                <a:chExt cx="2731320" cy="5104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8960" y="426672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cueil clien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200" y="426672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738520" y="4266720"/>
                <a:ext cx="309600" cy="510480"/>
                <a:chOff x="2738520" y="4266720"/>
                <a:chExt cx="309600" cy="5104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78028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73852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048480" y="4266720"/>
                <a:ext cx="309600" cy="510480"/>
                <a:chOff x="3048480" y="4266720"/>
                <a:chExt cx="309600" cy="5104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9060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04848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358440" y="4266720"/>
                <a:ext cx="309960" cy="510480"/>
                <a:chOff x="3358440" y="4266720"/>
                <a:chExt cx="309960" cy="5104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40056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5844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668400" y="4266720"/>
                <a:ext cx="309600" cy="510480"/>
                <a:chOff x="3668400" y="4266720"/>
                <a:chExt cx="309600" cy="5104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71016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66840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978360" y="4266720"/>
                <a:ext cx="309960" cy="510480"/>
                <a:chOff x="3978360" y="4266720"/>
                <a:chExt cx="309960" cy="5104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02048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97836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288680" y="4266720"/>
                <a:ext cx="309600" cy="510480"/>
                <a:chOff x="4288680" y="4266720"/>
                <a:chExt cx="309600" cy="5104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33044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28868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598640" y="4266720"/>
                <a:ext cx="309600" cy="510480"/>
                <a:chOff x="4598640" y="4266720"/>
                <a:chExt cx="309600" cy="5104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64076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59864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908240" y="4266720"/>
                <a:ext cx="309960" cy="510480"/>
                <a:chOff x="4908240" y="4266720"/>
                <a:chExt cx="309960" cy="510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95036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90824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218560" y="4266720"/>
                <a:ext cx="309600" cy="510480"/>
                <a:chOff x="5218560" y="4266720"/>
                <a:chExt cx="309600" cy="5104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26032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21856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528520" y="4266720"/>
                <a:ext cx="309960" cy="510480"/>
                <a:chOff x="5528520" y="4266720"/>
                <a:chExt cx="309960" cy="5104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57064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52852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838840" y="4266720"/>
                <a:ext cx="309600" cy="510480"/>
                <a:chOff x="5838840" y="4266720"/>
                <a:chExt cx="309600" cy="5104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88060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83884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148440" y="4266720"/>
                <a:ext cx="701280" cy="510480"/>
                <a:chOff x="6148440" y="4266720"/>
                <a:chExt cx="701280" cy="5104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190560" y="426672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148440" y="426672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7200" y="4777560"/>
                <a:ext cx="2731320" cy="510120"/>
                <a:chOff x="7200" y="4777560"/>
                <a:chExt cx="2731320" cy="5101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8960" y="477756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tandard téléphoniqu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200" y="477756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738520" y="4777560"/>
                <a:ext cx="309600" cy="510120"/>
                <a:chOff x="2738520" y="4777560"/>
                <a:chExt cx="309600" cy="5101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78028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73852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3048480" y="4777560"/>
                <a:ext cx="309600" cy="510120"/>
                <a:chOff x="3048480" y="4777560"/>
                <a:chExt cx="309600" cy="5101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9060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04848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358440" y="4777560"/>
                <a:ext cx="309960" cy="510120"/>
                <a:chOff x="3358440" y="4777560"/>
                <a:chExt cx="309960" cy="5101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40056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35844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668400" y="4777560"/>
                <a:ext cx="309600" cy="510120"/>
                <a:chOff x="3668400" y="4777560"/>
                <a:chExt cx="309600" cy="5101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71016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66840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978360" y="4777560"/>
                <a:ext cx="309960" cy="510120"/>
                <a:chOff x="3978360" y="4777560"/>
                <a:chExt cx="309960" cy="5101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402048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97836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288680" y="4777560"/>
                <a:ext cx="309600" cy="510120"/>
                <a:chOff x="4288680" y="4777560"/>
                <a:chExt cx="309600" cy="5101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33044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28868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598640" y="4777560"/>
                <a:ext cx="309600" cy="510120"/>
                <a:chOff x="4598640" y="4777560"/>
                <a:chExt cx="309600" cy="5101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64076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59864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908240" y="4777560"/>
                <a:ext cx="309960" cy="510120"/>
                <a:chOff x="4908240" y="4777560"/>
                <a:chExt cx="309960" cy="5101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95036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90824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218560" y="4777560"/>
                <a:ext cx="309600" cy="510120"/>
                <a:chOff x="5218560" y="4777560"/>
                <a:chExt cx="309600" cy="5101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26032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21856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528520" y="4777560"/>
                <a:ext cx="309960" cy="510120"/>
                <a:chOff x="5528520" y="4777560"/>
                <a:chExt cx="309960" cy="5101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57064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52852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838840" y="4777560"/>
                <a:ext cx="309600" cy="510120"/>
                <a:chOff x="5838840" y="4777560"/>
                <a:chExt cx="309600" cy="5101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88060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83884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6148440" y="4777560"/>
                <a:ext cx="701280" cy="510120"/>
                <a:chOff x="6148440" y="4777560"/>
                <a:chExt cx="701280" cy="5101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190560" y="477756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148440" y="477756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200" y="5288040"/>
                <a:ext cx="2731320" cy="510120"/>
                <a:chOff x="7200" y="5288040"/>
                <a:chExt cx="2731320" cy="510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8960" y="528804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actylographie courr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200" y="528804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2738520" y="5288040"/>
                <a:ext cx="309600" cy="510120"/>
                <a:chOff x="2738520" y="5288040"/>
                <a:chExt cx="309600" cy="510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78028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73852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3048480" y="5288040"/>
                <a:ext cx="309600" cy="510120"/>
                <a:chOff x="3048480" y="5288040"/>
                <a:chExt cx="309600" cy="510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9060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04848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358440" y="5288040"/>
                <a:ext cx="309960" cy="510120"/>
                <a:chOff x="3358440" y="5288040"/>
                <a:chExt cx="309960" cy="510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40056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5844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668400" y="5288040"/>
                <a:ext cx="309600" cy="510120"/>
                <a:chOff x="3668400" y="5288040"/>
                <a:chExt cx="309600" cy="510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71016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66840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978360" y="5288040"/>
                <a:ext cx="309960" cy="510120"/>
                <a:chOff x="3978360" y="5288040"/>
                <a:chExt cx="309960" cy="5101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402048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97836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288680" y="5288040"/>
                <a:ext cx="309600" cy="510120"/>
                <a:chOff x="4288680" y="5288040"/>
                <a:chExt cx="309600" cy="510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33044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28868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598640" y="5288040"/>
                <a:ext cx="309600" cy="510120"/>
                <a:chOff x="4598640" y="5288040"/>
                <a:chExt cx="309600" cy="510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64076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59864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908240" y="5288040"/>
                <a:ext cx="309960" cy="510120"/>
                <a:chOff x="4908240" y="5288040"/>
                <a:chExt cx="309960" cy="5101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95036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90824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218560" y="5288040"/>
                <a:ext cx="309600" cy="510120"/>
                <a:chOff x="5218560" y="5288040"/>
                <a:chExt cx="309600" cy="5101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26032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21856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528520" y="5288040"/>
                <a:ext cx="309960" cy="510120"/>
                <a:chOff x="5528520" y="5288040"/>
                <a:chExt cx="309960" cy="510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57064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52852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5838840" y="5288040"/>
                <a:ext cx="309600" cy="510120"/>
                <a:chOff x="5838840" y="5288040"/>
                <a:chExt cx="309600" cy="5101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88060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83884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148440" y="5288040"/>
                <a:ext cx="701280" cy="510120"/>
                <a:chOff x="6148440" y="5288040"/>
                <a:chExt cx="701280" cy="5101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190560" y="528804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148440" y="528804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7200" y="5798520"/>
                <a:ext cx="2731320" cy="510480"/>
                <a:chOff x="7200" y="5798520"/>
                <a:chExt cx="2731320" cy="5104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8960" y="579852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administrative du personne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200" y="579852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738520" y="5798520"/>
                <a:ext cx="309600" cy="510480"/>
                <a:chOff x="2738520" y="5798520"/>
                <a:chExt cx="309600" cy="5104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78028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73852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3048480" y="5798520"/>
                <a:ext cx="309600" cy="510480"/>
                <a:chOff x="3048480" y="5798520"/>
                <a:chExt cx="309600" cy="5104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09060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04848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358440" y="5798520"/>
                <a:ext cx="309960" cy="510480"/>
                <a:chOff x="3358440" y="5798520"/>
                <a:chExt cx="309960" cy="5104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40056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35844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668400" y="5798520"/>
                <a:ext cx="309600" cy="510480"/>
                <a:chOff x="3668400" y="5798520"/>
                <a:chExt cx="309600" cy="51048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71016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66840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978360" y="5798520"/>
                <a:ext cx="309960" cy="510480"/>
                <a:chOff x="3978360" y="5798520"/>
                <a:chExt cx="309960" cy="5104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02048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97836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288680" y="5798520"/>
                <a:ext cx="309600" cy="510480"/>
                <a:chOff x="4288680" y="5798520"/>
                <a:chExt cx="309600" cy="51048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33044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28868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598640" y="5798520"/>
                <a:ext cx="309600" cy="510480"/>
                <a:chOff x="4598640" y="5798520"/>
                <a:chExt cx="309600" cy="51048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64076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59864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908240" y="5798520"/>
                <a:ext cx="309960" cy="510480"/>
                <a:chOff x="4908240" y="5798520"/>
                <a:chExt cx="309960" cy="5104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95036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90824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218560" y="5798520"/>
                <a:ext cx="309600" cy="510480"/>
                <a:chOff x="5218560" y="5798520"/>
                <a:chExt cx="309600" cy="5104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26032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21856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528520" y="5798520"/>
                <a:ext cx="309960" cy="510480"/>
                <a:chOff x="5528520" y="5798520"/>
                <a:chExt cx="309960" cy="5104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57064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52852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838840" y="5798520"/>
                <a:ext cx="309600" cy="510480"/>
                <a:chOff x="5838840" y="5798520"/>
                <a:chExt cx="309600" cy="5104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88060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83884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6148440" y="5798520"/>
                <a:ext cx="701280" cy="510480"/>
                <a:chOff x="6148440" y="5798520"/>
                <a:chExt cx="701280" cy="51048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190560" y="579852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148440" y="579852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200" y="6309360"/>
                <a:ext cx="2731320" cy="510120"/>
                <a:chOff x="7200" y="6309360"/>
                <a:chExt cx="2731320" cy="5101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8960" y="630936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hang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200" y="630936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738520" y="6309360"/>
                <a:ext cx="309600" cy="510120"/>
                <a:chOff x="2738520" y="6309360"/>
                <a:chExt cx="309600" cy="5101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78028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73852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3048480" y="6309360"/>
                <a:ext cx="309600" cy="510120"/>
                <a:chOff x="3048480" y="6309360"/>
                <a:chExt cx="309600" cy="5101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09060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04848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358440" y="6309360"/>
                <a:ext cx="309960" cy="510120"/>
                <a:chOff x="3358440" y="6309360"/>
                <a:chExt cx="309960" cy="5101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40056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35844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3668400" y="6309360"/>
                <a:ext cx="309600" cy="510120"/>
                <a:chOff x="3668400" y="6309360"/>
                <a:chExt cx="309600" cy="5101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71016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66840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978360" y="6309360"/>
                <a:ext cx="309960" cy="510120"/>
                <a:chOff x="3978360" y="6309360"/>
                <a:chExt cx="309960" cy="510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02048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97836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288680" y="6309360"/>
                <a:ext cx="309600" cy="510120"/>
                <a:chOff x="4288680" y="6309360"/>
                <a:chExt cx="309600" cy="510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33044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28868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598640" y="6309360"/>
                <a:ext cx="309600" cy="510120"/>
                <a:chOff x="4598640" y="6309360"/>
                <a:chExt cx="309600" cy="5101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64076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59864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908240" y="6309360"/>
                <a:ext cx="309960" cy="510120"/>
                <a:chOff x="4908240" y="6309360"/>
                <a:chExt cx="309960" cy="5101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95036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90824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5218560" y="6309360"/>
                <a:ext cx="309600" cy="510120"/>
                <a:chOff x="5218560" y="6309360"/>
                <a:chExt cx="309600" cy="5101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26032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21856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528520" y="6309360"/>
                <a:ext cx="309960" cy="510120"/>
                <a:chOff x="5528520" y="6309360"/>
                <a:chExt cx="309960" cy="51012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57064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52852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838840" y="6309360"/>
                <a:ext cx="309600" cy="510120"/>
                <a:chOff x="5838840" y="6309360"/>
                <a:chExt cx="309600" cy="51012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88060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83884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6148440" y="6309360"/>
                <a:ext cx="701280" cy="510120"/>
                <a:chOff x="6148440" y="6309360"/>
                <a:chExt cx="701280" cy="51012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190560" y="630936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148440" y="630936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7200" y="6819840"/>
                <a:ext cx="2731320" cy="510480"/>
                <a:chOff x="7200" y="6819840"/>
                <a:chExt cx="2731320" cy="51048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8960" y="681984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 l’en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200" y="681984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738520" y="6819840"/>
                <a:ext cx="309600" cy="510480"/>
                <a:chOff x="2738520" y="6819840"/>
                <a:chExt cx="309600" cy="51048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78028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73852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3048480" y="6819840"/>
                <a:ext cx="309600" cy="510480"/>
                <a:chOff x="3048480" y="6819840"/>
                <a:chExt cx="309600" cy="51048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09060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04848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358440" y="6819840"/>
                <a:ext cx="309960" cy="510480"/>
                <a:chOff x="3358440" y="6819840"/>
                <a:chExt cx="309960" cy="5104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40056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5844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668400" y="6819840"/>
                <a:ext cx="309600" cy="510480"/>
                <a:chOff x="3668400" y="6819840"/>
                <a:chExt cx="309600" cy="5104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71016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66840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978360" y="6819840"/>
                <a:ext cx="309960" cy="510480"/>
                <a:chOff x="3978360" y="6819840"/>
                <a:chExt cx="309960" cy="51048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402048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97836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288680" y="6819840"/>
                <a:ext cx="309600" cy="510480"/>
                <a:chOff x="4288680" y="6819840"/>
                <a:chExt cx="309600" cy="51048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33044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28868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598640" y="6819840"/>
                <a:ext cx="309600" cy="510480"/>
                <a:chOff x="4598640" y="6819840"/>
                <a:chExt cx="309600" cy="51048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64076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59864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908240" y="6819840"/>
                <a:ext cx="309960" cy="510480"/>
                <a:chOff x="4908240" y="6819840"/>
                <a:chExt cx="309960" cy="5104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495036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90824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218560" y="6819840"/>
                <a:ext cx="309600" cy="510480"/>
                <a:chOff x="5218560" y="6819840"/>
                <a:chExt cx="309600" cy="5104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26032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21856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528520" y="6819840"/>
                <a:ext cx="309960" cy="510480"/>
                <a:chOff x="5528520" y="6819840"/>
                <a:chExt cx="309960" cy="5104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57064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52852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838840" y="6819840"/>
                <a:ext cx="309600" cy="510480"/>
                <a:chOff x="5838840" y="6819840"/>
                <a:chExt cx="309600" cy="51048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88060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83884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6148440" y="6819840"/>
                <a:ext cx="701280" cy="510480"/>
                <a:chOff x="6148440" y="6819840"/>
                <a:chExt cx="701280" cy="51048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190560" y="681984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148440" y="681984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7200" y="7330680"/>
                <a:ext cx="2731320" cy="510120"/>
                <a:chOff x="7200" y="7330680"/>
                <a:chExt cx="2731320" cy="51012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48960" y="733068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s pièces comptabl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200" y="733068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738520" y="7330680"/>
                <a:ext cx="309600" cy="510120"/>
                <a:chOff x="2738520" y="7330680"/>
                <a:chExt cx="309600" cy="5101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8028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3852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3048480" y="7330680"/>
                <a:ext cx="309600" cy="510120"/>
                <a:chOff x="3048480" y="7330680"/>
                <a:chExt cx="309600" cy="5101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09060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4848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3358440" y="7330680"/>
                <a:ext cx="309960" cy="510120"/>
                <a:chOff x="3358440" y="7330680"/>
                <a:chExt cx="309960" cy="5101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40056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35844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668400" y="7330680"/>
                <a:ext cx="309600" cy="510120"/>
                <a:chOff x="3668400" y="7330680"/>
                <a:chExt cx="309600" cy="51012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71016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66840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3978360" y="7330680"/>
                <a:ext cx="309960" cy="510120"/>
                <a:chOff x="3978360" y="7330680"/>
                <a:chExt cx="309960" cy="51012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402048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97836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288680" y="7330680"/>
                <a:ext cx="309600" cy="510120"/>
                <a:chOff x="4288680" y="7330680"/>
                <a:chExt cx="309600" cy="5101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33044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28868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598640" y="7330680"/>
                <a:ext cx="309600" cy="510120"/>
                <a:chOff x="4598640" y="7330680"/>
                <a:chExt cx="309600" cy="51012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64076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59864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908240" y="7330680"/>
                <a:ext cx="309960" cy="510120"/>
                <a:chOff x="4908240" y="7330680"/>
                <a:chExt cx="309960" cy="5101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95036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90824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5218560" y="7330680"/>
                <a:ext cx="309600" cy="510120"/>
                <a:chOff x="5218560" y="7330680"/>
                <a:chExt cx="309600" cy="5101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526032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21856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528520" y="7330680"/>
                <a:ext cx="309960" cy="510120"/>
                <a:chOff x="5528520" y="7330680"/>
                <a:chExt cx="309960" cy="5101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57064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52852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838840" y="7330680"/>
                <a:ext cx="309600" cy="510120"/>
                <a:chOff x="5838840" y="7330680"/>
                <a:chExt cx="309600" cy="51012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88060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83884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6148440" y="7330680"/>
                <a:ext cx="701280" cy="510120"/>
                <a:chOff x="6148440" y="7330680"/>
                <a:chExt cx="701280" cy="51012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190560" y="733068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148440" y="733068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7200" y="7841160"/>
                <a:ext cx="2731320" cy="510480"/>
                <a:chOff x="7200" y="7841160"/>
                <a:chExt cx="2731320" cy="5104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8960" y="784116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raitements administratif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200" y="784116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2738520" y="7841160"/>
                <a:ext cx="309600" cy="510480"/>
                <a:chOff x="2738520" y="7841160"/>
                <a:chExt cx="309600" cy="510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78028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73852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3048480" y="7841160"/>
                <a:ext cx="309600" cy="510480"/>
                <a:chOff x="3048480" y="7841160"/>
                <a:chExt cx="309600" cy="51048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09060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04848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358440" y="7841160"/>
                <a:ext cx="309960" cy="510480"/>
                <a:chOff x="3358440" y="7841160"/>
                <a:chExt cx="309960" cy="51048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40056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35844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668400" y="7841160"/>
                <a:ext cx="309600" cy="510480"/>
                <a:chOff x="3668400" y="7841160"/>
                <a:chExt cx="309600" cy="5104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71016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6840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978360" y="7841160"/>
                <a:ext cx="309960" cy="510480"/>
                <a:chOff x="3978360" y="7841160"/>
                <a:chExt cx="309960" cy="5104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402048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97836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288680" y="7841160"/>
                <a:ext cx="309600" cy="510480"/>
                <a:chOff x="4288680" y="7841160"/>
                <a:chExt cx="309600" cy="51048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33044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28868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598640" y="7841160"/>
                <a:ext cx="309600" cy="510480"/>
                <a:chOff x="4598640" y="7841160"/>
                <a:chExt cx="309600" cy="51048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64076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59864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908240" y="7841160"/>
                <a:ext cx="309960" cy="510480"/>
                <a:chOff x="4908240" y="7841160"/>
                <a:chExt cx="309960" cy="51048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95036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90824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218560" y="7841160"/>
                <a:ext cx="309600" cy="510480"/>
                <a:chOff x="5218560" y="7841160"/>
                <a:chExt cx="309600" cy="5104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26032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21856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5528520" y="7841160"/>
                <a:ext cx="309960" cy="510480"/>
                <a:chOff x="5528520" y="7841160"/>
                <a:chExt cx="309960" cy="51048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57064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52852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5838840" y="7841160"/>
                <a:ext cx="309600" cy="510480"/>
                <a:chOff x="5838840" y="7841160"/>
                <a:chExt cx="309600" cy="51048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588060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83884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6148440" y="7841160"/>
                <a:ext cx="701280" cy="510480"/>
                <a:chOff x="6148440" y="7841160"/>
                <a:chExt cx="701280" cy="5104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190560" y="784116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148440" y="784116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7200" y="8351640"/>
                <a:ext cx="2731320" cy="785160"/>
                <a:chOff x="7200" y="8351640"/>
                <a:chExt cx="2731320" cy="7851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8960" y="8351640"/>
                  <a:ext cx="2646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iversité par personn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200" y="8351640"/>
                  <a:ext cx="273132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738520" y="8351640"/>
                <a:ext cx="309600" cy="785160"/>
                <a:chOff x="2738520" y="8351640"/>
                <a:chExt cx="309600" cy="78516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78028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73852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3048480" y="8351640"/>
                <a:ext cx="309600" cy="785160"/>
                <a:chOff x="3048480" y="8351640"/>
                <a:chExt cx="309600" cy="7851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09060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04848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358440" y="8351640"/>
                <a:ext cx="309960" cy="785160"/>
                <a:chOff x="3358440" y="8351640"/>
                <a:chExt cx="309960" cy="78516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40056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35844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668400" y="8351640"/>
                <a:ext cx="309600" cy="785160"/>
                <a:chOff x="3668400" y="8351640"/>
                <a:chExt cx="309600" cy="7851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71016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66840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978360" y="8351640"/>
                <a:ext cx="309960" cy="785160"/>
                <a:chOff x="3978360" y="8351640"/>
                <a:chExt cx="309960" cy="78516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402048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97836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288680" y="8351640"/>
                <a:ext cx="309600" cy="785160"/>
                <a:chOff x="4288680" y="8351640"/>
                <a:chExt cx="309600" cy="78516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33044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28868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598640" y="8351640"/>
                <a:ext cx="309600" cy="785160"/>
                <a:chOff x="4598640" y="8351640"/>
                <a:chExt cx="309600" cy="78516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64076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59864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908240" y="8351640"/>
                <a:ext cx="309960" cy="785160"/>
                <a:chOff x="4908240" y="8351640"/>
                <a:chExt cx="309960" cy="78516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95036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90824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5218560" y="8351640"/>
                <a:ext cx="309600" cy="785160"/>
                <a:chOff x="5218560" y="8351640"/>
                <a:chExt cx="309600" cy="78516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526032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21856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5528520" y="8351640"/>
                <a:ext cx="309960" cy="785160"/>
                <a:chOff x="5528520" y="8351640"/>
                <a:chExt cx="309960" cy="78516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557064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52852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838840" y="8351640"/>
                <a:ext cx="309600" cy="785160"/>
                <a:chOff x="5838840" y="8351640"/>
                <a:chExt cx="309600" cy="78516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588060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83884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6148440" y="8351640"/>
                <a:ext cx="701280" cy="785160"/>
                <a:chOff x="6148440" y="8351640"/>
                <a:chExt cx="701280" cy="78516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190560" y="8351640"/>
                  <a:ext cx="61668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6 / 15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148440" y="8351640"/>
                  <a:ext cx="70128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7" name="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noFill/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30:46Z</dcterms:created>
  <dc:creator>MADERS</dc:creator>
  <dc:description/>
  <dc:language>en-US</dc:language>
  <cp:lastModifiedBy>MADERS</cp:lastModifiedBy>
  <dcterms:modified xsi:type="dcterms:W3CDTF">2002-03-09T11:32:30Z</dcterms:modified>
  <cp:revision>2</cp:revision>
  <dc:subject/>
  <dc:title>Présentation PowerPoint</dc:title>
</cp:coreProperties>
</file>