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919-C355-41B9-8490-98DBC2AC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3B3-7351-4D3F-90EF-66CFBB69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AB3-68D5-4DAE-A9CB-7E7BE311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FA9-C880-4CE5-A658-ED0EC4B2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B8F-9A6C-48FC-B3D9-496D6AB8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4A5-4E4A-446E-A144-89AEC0E1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777-0084-4DFF-8487-43120DE5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A22-B016-49E9-95AF-7BA6F0FC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AA4-ABFF-48CE-B725-0409058B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29F-79D2-4D77-AC82-60D67493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FDE-13A5-438E-BE18-0FD90448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342-C282-4370-8BDA-FA26930A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1509-A6A5-4285-9FB2-EA2E3621E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5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’évaluation des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44680"/>
            <a:ext cx="78487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48720" y="544680"/>
            <a:ext cx="205740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de démarrage du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de fin de projet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668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718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1911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055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8006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86800" y="11430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ta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l j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87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23623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86800" y="20574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0199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86800" y="17524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3244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/Ac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86800" y="6324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812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862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956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36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420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80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566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694720" y="266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36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420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012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566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94720" y="29718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036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20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8012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82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566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94720" y="32767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36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420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8012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82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566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94720" y="35812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036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420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8012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82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566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94720" y="38862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420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8012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82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566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694720" y="41911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36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20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8012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82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566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94720" y="44956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36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20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0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82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566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94720" y="48006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36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420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8012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82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566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94720" y="51055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36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20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8012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82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566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9472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36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420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8012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82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566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94720" y="57150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22:18Z</dcterms:modified>
  <cp:revision>105</cp:revision>
  <dc:subject/>
  <dc:title>Présentation PowerPoint</dc:title>
</cp:coreProperties>
</file>