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FC15-2A00-4C28-AA70-975BFCBB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2923-1573-4B98-A7DB-52ECF814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190A-9782-4574-A17F-6AE0EDE6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C78C-A002-4EBC-B5C6-2BF6E4A9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713-1911-45CD-87BD-C49BBF2E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CA55-EA40-49E5-ACA1-6103F5B8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AB0B-26ED-4C8C-9C3F-5A3BA620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DBA-3ADB-4DF7-9A42-E6857CA4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924-C7F9-4430-8F4A-09EE4687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BF1-AF16-4429-ACA2-2347FB9E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9E5-EBCD-4EFF-9274-0C5CEB2E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437F-5EBD-4565-AD04-2DC9BC8F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29CB-D66B-415A-9267-0648B481D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Compte-rendu de réun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09480"/>
            <a:ext cx="5105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105520" y="6094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02/03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29528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union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Groupe des secrétai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articipant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Yohan, Mmes Hélène, Anne, Boranie, Anne-Marie et Pasca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xcusés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Mmes Marie-Claire et Christia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97180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rdre du jour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escription du processus de traitement des courriers des clients au sein de la banq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ventaire des motifs classiques des réclam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Évaluation des encours et des déla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0" y="830592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chaine réunion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 15/06/09 de 10 H à 12 H en salle « L’Imbertière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4648320"/>
            <a:ext cx="68580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sumé des points traité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escription du processus de traitement des courriers des clients au sein de la banqu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rocessus variés selon les Directions et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as de procédure de traitement formalisé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ventaire des motifs classiques des réclamation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Beaucoup de réclamations causées par la baisse de la Bour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Beaucoup de demandes de renseignement concernant la déclaration des revenus 200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Évaluation des encours et des délai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es délais variables et plutôt en détérior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Un stock de courriers en augmen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tthieu Montaudouin</cp:lastModifiedBy>
  <dcterms:modified xsi:type="dcterms:W3CDTF">2009-06-08T10:04:09Z</dcterms:modified>
  <cp:revision>12</cp:revision>
  <dc:subject/>
  <dc:title>Présentation PowerPoint</dc:title>
</cp:coreProperties>
</file>