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C92-3C8A-4626-BE4A-97C41746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2D8-ECAD-4F98-9989-328D6CA4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EC8-863F-4800-B8AE-EF9DA80A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2C2-B146-4E23-94AD-9414C38C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F83-43BC-439D-B153-C5771B3B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8C6-806D-4382-8A15-7DC76D58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1AC-A086-4E2E-8AEC-B7527A9F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430-AD94-4082-A20D-31A10D97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0D1-A2BD-4D61-BDBD-13FCB1AA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E3D-34C7-4392-8225-6C17A69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F7A-53EE-4021-9BC3-5922FA8A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EEF-AAED-41DA-B9E6-992F359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AC17-E196-4149-9D76-AE5BE6FE1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bilan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3/1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 et M. Antoine, Organisate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ibuteurs principaux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 Secrétaires de service et experts (informatique, commercial, juridiq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a qualité des réponses aux courriers des clients (fond et déla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rantir l’exhaustivité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sposer d’une traçabilité dans la rédaction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er les lettres et l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sous contrôle du processus (délais, exhaustivité, traçabilité, mémorisation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en place d’une bibliothèque permettant des réponses de meilleure qualité (fond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stimation un peu juste de la durée nécessaire pour rédiger les nombreuses lettres et paragraphes typ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écessité de formation des secrétaires à l’utilisation d’une base de données +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ploiement de la solution sur l’ensemble des secrétariats du siège terminée fin septembre 2009 au lieu de fin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temps nécessaire pour concevoir et valider des documents de travail en group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nécessaire accompagnement des personnes dans le cas de mise en œuvre de technologies nouvelles (base de donnée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09:39:21Z</dcterms:modified>
  <cp:revision>14</cp:revision>
  <dc:subject/>
  <dc:title>Présentation PowerPoint</dc:title>
</cp:coreProperties>
</file>