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EB7-D46C-4231-A4DA-106F7B8F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47C-8989-422B-B25C-C0149A02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346-7619-4899-82A1-3E5D7063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2D9-A6B6-4C9E-898E-64FA11C5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232-4752-4148-8D38-CF8B43C5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FBB-D37C-4A85-BF74-C6E7F3C8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115-2AAC-4E7D-8C2D-DA55A7CA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AAD-080D-4AF7-9E02-C7C51475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D95-54BF-4D05-BB68-50FC674A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CD0-4A12-4C73-9FDB-86D51664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48A-5B2C-45FE-AA51-5C3ECAA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AF3-6AFD-46C8-B427-7913D78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7BDD-2312-4A42-A5C6-B41894061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 de cad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7:01Z</dcterms:modified>
  <cp:revision>103</cp:revision>
  <dc:subject/>
  <dc:title>Présentation PowerPoint</dc:title>
</cp:coreProperties>
</file>