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D00-76E9-468A-AED3-B7FF6879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A88-251C-4E6B-AF56-A7FC73D2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81F-BFD9-4879-B8CF-9D2A1AC2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FAD-EFB4-4DD9-ADD8-A73F4C49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8CE-EEBC-4511-ACC7-9BB73F2D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1C0-BA3F-4225-B36A-4DC9C038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047-97A9-4317-9635-162BE558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583-9FB4-429C-BA46-65FC15A9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1ED-60EA-4617-9919-6B2D4A1F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6BE-A41D-4E8E-A92C-7C38A24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334-8226-4E5E-B054-FE69920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E9B-47A2-4DD6-8115-F33ECDBF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4B8E-AAAA-4595-88E5-2783063B5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3880" y="2286000"/>
            <a:ext cx="38102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ité de pilotag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François, Directeur génér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Brigitte, Directeur financier et du S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ice, Directeur des engageme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Pauline, Directeur commercial et qualité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Fannie, Directeur opérations bancai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Nicole, DR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30560" y="4495680"/>
            <a:ext cx="23968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Yoha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28600" y="6095880"/>
            <a:ext cx="3124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Pierre, Chef du service courri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Antoine, Organisateu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533760" y="6095880"/>
            <a:ext cx="3095640" cy="12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rresponda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naïs, Chef du service market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udrey, Chef du service informatiqu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exandra, Responsable communi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ice, Contrôleur de ges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5" name="AutoShape 7"/>
          <p:cNvCxnSpPr>
            <a:stCxn id="42" idx="2"/>
            <a:endCxn id="43" idx="0"/>
          </p:cNvCxnSpPr>
          <p:nvPr/>
        </p:nvCxnSpPr>
        <p:spPr>
          <a:xfrm rot="5400000">
            <a:off x="2192040" y="4859280"/>
            <a:ext cx="835200" cy="163872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AutoShape 8"/>
          <p:cNvCxnSpPr>
            <a:stCxn id="42" idx="2"/>
            <a:endCxn id="44" idx="0"/>
          </p:cNvCxnSpPr>
          <p:nvPr/>
        </p:nvCxnSpPr>
        <p:spPr>
          <a:xfrm flipH="1" rot="16200000">
            <a:off x="3837960" y="4852080"/>
            <a:ext cx="835200" cy="1652760"/>
          </a:xfrm>
          <a:prstGeom prst="bentConnector3">
            <a:avLst>
              <a:gd name="adj1" fmla="val 5002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AutoShape 9"/>
          <p:cNvCxnSpPr>
            <a:stCxn id="41" idx="2"/>
            <a:endCxn id="42" idx="0"/>
          </p:cNvCxnSpPr>
          <p:nvPr/>
        </p:nvCxnSpPr>
        <p:spPr>
          <a:xfrm>
            <a:off x="3429000" y="4038480"/>
            <a:ext cx="360" cy="457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" name="Rectangle 10"/>
          <p:cNvSpPr/>
          <p:nvPr/>
        </p:nvSpPr>
        <p:spPr>
          <a:xfrm>
            <a:off x="228600" y="7696080"/>
            <a:ext cx="312408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Groupe de travai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La secrétaire du DG et les secrétaires de direction et de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" name="AutoShape 11"/>
          <p:cNvCxnSpPr>
            <a:stCxn id="43" idx="2"/>
            <a:endCxn id="48" idx="0"/>
          </p:cNvCxnSpPr>
          <p:nvPr/>
        </p:nvCxnSpPr>
        <p:spPr>
          <a:xfrm>
            <a:off x="1790640" y="6934320"/>
            <a:ext cx="360" cy="76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5:38Z</dcterms:modified>
  <cp:revision>101</cp:revision>
  <dc:subject/>
  <dc:title>Présentation PowerPoint</dc:title>
</cp:coreProperties>
</file>