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A52-5154-485D-B853-36F38090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633-A45E-42BA-A04A-D3E56A19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835-31D1-4937-AE95-EA36DA72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74E-CD08-4D0E-9B36-F8E48630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5DE-A2D6-4CC1-B94A-67BE2A29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78B-8FEF-4C8D-BB16-09805770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153-BBC8-4988-90BC-09732F87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707-F185-4DD0-97D5-4C45CC36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636-F6D3-48B0-930E-8FF718CB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B56-1F61-4B02-95D2-F546F03F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6C1-695A-49E4-93B0-BBC77E29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4DE-E742-45F2-81CB-0C7497E6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BFC6-D5E4-4330-8087-2F5315E8B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nque de Bel air – Plan d’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7010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09480"/>
            <a:ext cx="2133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04/0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b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1371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ttre en place le logici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2057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efs d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2743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p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34290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148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4114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800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4800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86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5486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72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6172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 </cp:lastModifiedBy>
  <dcterms:modified xsi:type="dcterms:W3CDTF">2009-05-05T08:50:57Z</dcterms:modified>
  <cp:revision>10</cp:revision>
  <dc:subject/>
  <dc:title>Présentation PowerPoint</dc:title>
</cp:coreProperties>
</file>