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A27B-7C66-4F21-9CF1-1ADFED55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12D-CFFF-4124-ADA3-0924BE18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44A-1E0C-4FE2-824B-4A6A5D2C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EFB5-8D69-4721-8E43-40038EF1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421-8619-42CC-B68A-0D784D5B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DEB5-795C-4862-ABBD-CE0B70EF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E38-ECE4-4E31-963A-B4EEE8F5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E816-CC1B-42D0-B4FB-197DA4E6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B9AF-9AE7-41D2-8AFB-8C7C8AA5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2637-508B-4C40-BCB4-42602981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AEF6-6779-46D7-A169-905D5506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620-D38E-4A30-8DCA-2DCE34D2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2541-AC1C-46A3-A785-F98AE05194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nchma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4724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6094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ste des organisations réputées perform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12952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victions affich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12952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ncipes d’organisation identifi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781680"/>
            <a:ext cx="6858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ées à retenir pour le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3152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7724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2296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9810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9810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19810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6668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26668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6668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3526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3526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33526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384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40384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40384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7242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47242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47242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4100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54100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54100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0958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60958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60958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8:08:27Z</dcterms:modified>
  <cp:revision>10</cp:revision>
  <dc:subject/>
  <dc:title>Présentation PowerPoint</dc:title>
</cp:coreProperties>
</file>