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901-C9C7-4CA5-859D-52CED664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9E61-5861-4D33-A482-595EEBF3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65C2-8449-4221-B85A-ABC157DF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D625-66AE-47F9-8AA7-B367D2A2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F6D-E041-42A5-AB22-3E7CBBD7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790-DBD0-4964-BA24-85F115BD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0F8-1515-4F11-ADBF-3FDBC421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040-57DC-436F-8859-7FF8B226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3082-86C7-4A68-BFD4-58E4D1F8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B1E-8B9E-456A-8802-7A6F33B9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1343-D0C5-477B-829F-A79C10B3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E6CC-4C82-414B-B0C4-67C39307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D892-A8C2-47B1-9E7C-7E52660415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9"/>
          <p:cNvGrpSpPr/>
          <p:nvPr/>
        </p:nvGrpSpPr>
        <p:grpSpPr>
          <a:xfrm>
            <a:off x="0" y="0"/>
            <a:ext cx="6858000" cy="9906120"/>
            <a:chOff x="0" y="0"/>
            <a:chExt cx="6858000" cy="9906120"/>
          </a:xfrm>
        </p:grpSpPr>
        <p:sp>
          <p:nvSpPr>
            <p:cNvPr id="42" name="Rectangle 4"/>
            <p:cNvSpPr/>
            <p:nvPr/>
          </p:nvSpPr>
          <p:spPr>
            <a:xfrm>
              <a:off x="0" y="0"/>
              <a:ext cx="6858000" cy="86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ossier d’étude d’opportunit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0" y="866880"/>
              <a:ext cx="4876920" cy="119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Structure :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édacteur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Proje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4876920" y="866880"/>
              <a:ext cx="1981080" cy="119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ate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8"/>
            <p:cNvSpPr/>
            <p:nvPr/>
          </p:nvSpPr>
          <p:spPr>
            <a:xfrm>
              <a:off x="0" y="2057400"/>
              <a:ext cx="6858000" cy="89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bje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0" y="2952720"/>
              <a:ext cx="68580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bjectifs et enjeux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0" y="3822840"/>
              <a:ext cx="6858000" cy="86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escription de l’objet du changemen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1"/>
            <p:cNvSpPr/>
            <p:nvPr/>
          </p:nvSpPr>
          <p:spPr>
            <a:xfrm>
              <a:off x="0" y="5559480"/>
              <a:ext cx="6858000" cy="86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Impacts organisationnels et humain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0" y="7299360"/>
              <a:ext cx="6858000" cy="86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Volumes prévu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3"/>
            <p:cNvSpPr/>
            <p:nvPr/>
          </p:nvSpPr>
          <p:spPr>
            <a:xfrm>
              <a:off x="0" y="6429240"/>
              <a:ext cx="68580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Exigence de qualité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4"/>
            <p:cNvSpPr/>
            <p:nvPr/>
          </p:nvSpPr>
          <p:spPr>
            <a:xfrm>
              <a:off x="0" y="4692600"/>
              <a:ext cx="6858000" cy="86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Acteur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5"/>
            <p:cNvSpPr/>
            <p:nvPr/>
          </p:nvSpPr>
          <p:spPr>
            <a:xfrm>
              <a:off x="0" y="8166240"/>
              <a:ext cx="6858000" cy="86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Coûts prévu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6"/>
            <p:cNvSpPr/>
            <p:nvPr/>
          </p:nvSpPr>
          <p:spPr>
            <a:xfrm>
              <a:off x="0" y="9036000"/>
              <a:ext cx="68580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élais de mise en œuvre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37:38Z</dcterms:modified>
  <cp:revision>102</cp:revision>
  <dc:subject/>
  <dc:title>Présentation PowerPoint</dc:title>
</cp:coreProperties>
</file>