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081-1626-4AA1-8C3A-F3FB675B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356-39F1-488A-8020-BBB5FF62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89C-D0D7-4F7E-99F2-FCD85595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B95-CE10-457D-88D6-C53AF7AB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82B-FD99-41DB-8539-0BB8AFD6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97B-9D7B-4D9A-9FD9-B1E4BE05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CB7-35B9-4173-B86E-8A209476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D4D-77BA-46C9-B870-52870753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A8F-980B-47F3-9367-843EA9AC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7E8-9D8E-4D7B-859A-0C027B5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F63-7731-40E7-B036-665A56DC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2C8-9104-4EF5-BF9A-8AF37A5E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1A4-7B1D-4C62-8E3B-445CA6D47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905760" cy="6857280"/>
            <a:chOff x="0" y="0"/>
            <a:chExt cx="9905760" cy="6857280"/>
          </a:xfrm>
        </p:grpSpPr>
        <p:sp>
          <p:nvSpPr>
            <p:cNvPr id="42" name="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5160" y="202788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715360" y="202788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3412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271908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478944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0986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074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8120" y="271908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4074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478944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40986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1640" y="271908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5324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1640" y="478944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1640" y="40986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34074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412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5360" y="271908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5160" y="271908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71908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40986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34074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160" y="34074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15360" y="34074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324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412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5324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4680" y="478944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360" y="40986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160" y="478944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5160" y="40986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412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412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5324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5360" y="478944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185480"/>
              <a:ext cx="30481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3240" y="1185480"/>
              <a:ext cx="11419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5160" y="1185480"/>
              <a:ext cx="381060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ctions à entrepren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7812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6896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547812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616896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1640" y="547812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1640" y="616896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24680" y="547812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95160" y="547812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324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360" y="547812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4680" y="616896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160" y="616896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412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5324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360" y="616896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202788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905760" cy="57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ableau d’analyse des alé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02788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324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412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360" y="1568880"/>
              <a:ext cx="3794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1640" y="1185480"/>
              <a:ext cx="38124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3240" y="1185480"/>
              <a:ext cx="114192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160" y="1568880"/>
              <a:ext cx="182952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év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4680" y="1568880"/>
              <a:ext cx="19810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ég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1185480"/>
              <a:ext cx="152316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lé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ossi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79960"/>
              <a:ext cx="79246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oje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579960"/>
              <a:ext cx="19810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3:43Z</dcterms:modified>
  <cp:revision>99</cp:revision>
  <dc:subject/>
  <dc:title>Présentation PowerPoint</dc:title>
</cp:coreProperties>
</file>