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78E-489F-4160-9419-1E378C80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F06-9207-4473-9717-0D75336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1B4-0718-4410-AA97-7549F1E7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A68-D71B-44D9-8484-FEC6E607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AD1-B279-4FDF-B221-DE9E440E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37B-BC12-4040-9B11-67DE5258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3BB-BE0A-4F40-9ED5-79F591E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959-EDC8-4AFB-93E7-80FD112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E62-94C5-424F-8C03-474FA2A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750-56EF-4FB2-AC18-DAB0297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B90-0998-4BC3-9231-E524D99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D96-9E4D-4B43-BF1D-7562B86D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1389-1576-4BB9-8BF3-EF66C4140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DERS</cp:lastModifiedBy>
  <dcterms:modified xsi:type="dcterms:W3CDTF">2002-03-09T18:16:12Z</dcterms:modified>
  <cp:revision>7</cp:revision>
  <dc:subject/>
  <dc:title>Présentation PowerPoint</dc:title>
</cp:coreProperties>
</file>