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911-80FD-486E-9900-5E05B267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F79-7E01-4C3B-BA96-6DBBC2E9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907-AD44-440F-82BC-3ADBCE44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9D1-440D-4FA1-A29F-A67E9EE4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F43-8C2A-4438-8651-2381E5A9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870-65DF-4DA5-9286-A311E46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8E9-A82D-4463-B8C6-12FE009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850-D88B-4564-9FC5-4B1CD2E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EC7-6F06-4B78-A119-1C5F7166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64F-2F86-40E9-90C0-BA3FC6F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B89-A5C2-4B84-A05F-F5300CB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5A0-444B-4259-B000-81E48BA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C4F-7856-4BFB-864C-E6BC6C14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7200" y="6120"/>
              <a:ext cx="6842520" cy="9130680"/>
              <a:chOff x="7200" y="6120"/>
              <a:chExt cx="6842520" cy="91306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200" y="6120"/>
                <a:ext cx="2731320" cy="1059840"/>
                <a:chOff x="7200" y="6120"/>
                <a:chExt cx="2731320" cy="1059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8960" y="6120"/>
                  <a:ext cx="2646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200" y="6120"/>
                  <a:ext cx="273132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738520" y="6120"/>
                <a:ext cx="309600" cy="1059840"/>
                <a:chOff x="2738520" y="6120"/>
                <a:chExt cx="309600" cy="105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78028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3852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3048480" y="6120"/>
                <a:ext cx="309600" cy="1059840"/>
                <a:chOff x="3048480" y="6120"/>
                <a:chExt cx="309600" cy="10598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9060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0484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358440" y="6120"/>
                <a:ext cx="309960" cy="1059840"/>
                <a:chOff x="3358440" y="6120"/>
                <a:chExt cx="309960" cy="1059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4005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84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68400" y="6120"/>
                <a:ext cx="309600" cy="1059840"/>
                <a:chOff x="3668400" y="6120"/>
                <a:chExt cx="309600" cy="105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71016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6840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78360" y="6120"/>
                <a:ext cx="309960" cy="1059840"/>
                <a:chOff x="3978360" y="6120"/>
                <a:chExt cx="309960" cy="1059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2048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7836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88680" y="6120"/>
                <a:ext cx="309600" cy="1059840"/>
                <a:chOff x="4288680" y="6120"/>
                <a:chExt cx="309600" cy="10598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3044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886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598640" y="6120"/>
                <a:ext cx="309600" cy="1059840"/>
                <a:chOff x="4598640" y="6120"/>
                <a:chExt cx="309600" cy="1059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6407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5986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908240" y="6120"/>
                <a:ext cx="309960" cy="1059840"/>
                <a:chOff x="4908240" y="6120"/>
                <a:chExt cx="309960" cy="1059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9503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82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218560" y="6120"/>
                <a:ext cx="309600" cy="1059840"/>
                <a:chOff x="5218560" y="6120"/>
                <a:chExt cx="309600" cy="10598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26032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856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528520" y="6120"/>
                <a:ext cx="309960" cy="1059840"/>
                <a:chOff x="5528520" y="6120"/>
                <a:chExt cx="309960" cy="1059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57064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2852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838840" y="6120"/>
                <a:ext cx="309600" cy="1059840"/>
                <a:chOff x="5838840" y="6120"/>
                <a:chExt cx="309600" cy="10598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8060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388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48440" y="6120"/>
                <a:ext cx="701280" cy="1059840"/>
                <a:chOff x="6148440" y="6120"/>
                <a:chExt cx="701280" cy="1059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90560" y="6120"/>
                  <a:ext cx="61668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48440" y="6120"/>
                  <a:ext cx="70128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200" y="1065960"/>
                <a:ext cx="2731320" cy="648000"/>
                <a:chOff x="7200" y="1065960"/>
                <a:chExt cx="2731320" cy="648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960" y="1065960"/>
                  <a:ext cx="2646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00" y="1065960"/>
                  <a:ext cx="273132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738520" y="1065960"/>
                <a:ext cx="309600" cy="648000"/>
                <a:chOff x="2738520" y="1065960"/>
                <a:chExt cx="309600" cy="648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78028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3852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048480" y="1065960"/>
                <a:ext cx="309600" cy="648000"/>
                <a:chOff x="3048480" y="1065960"/>
                <a:chExt cx="309600" cy="64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9060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484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58440" y="1065960"/>
                <a:ext cx="309960" cy="648000"/>
                <a:chOff x="3358440" y="1065960"/>
                <a:chExt cx="309960" cy="648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005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84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668400" y="1065960"/>
                <a:ext cx="309600" cy="648000"/>
                <a:chOff x="3668400" y="1065960"/>
                <a:chExt cx="309600" cy="648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1016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6840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78360" y="1065960"/>
                <a:ext cx="309960" cy="648000"/>
                <a:chOff x="3978360" y="1065960"/>
                <a:chExt cx="309960" cy="648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2048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7836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288680" y="1065960"/>
                <a:ext cx="309600" cy="648000"/>
                <a:chOff x="4288680" y="1065960"/>
                <a:chExt cx="309600" cy="648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3044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886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598640" y="1065960"/>
                <a:ext cx="309600" cy="648000"/>
                <a:chOff x="4598640" y="1065960"/>
                <a:chExt cx="309600" cy="648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407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5986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908240" y="1065960"/>
                <a:ext cx="309960" cy="648000"/>
                <a:chOff x="4908240" y="1065960"/>
                <a:chExt cx="309960" cy="64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9503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082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218560" y="1065960"/>
                <a:ext cx="309600" cy="648000"/>
                <a:chOff x="5218560" y="1065960"/>
                <a:chExt cx="309600" cy="64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032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1856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28520" y="1065960"/>
                <a:ext cx="309960" cy="648000"/>
                <a:chOff x="5528520" y="1065960"/>
                <a:chExt cx="309960" cy="648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57064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2852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38840" y="1065960"/>
                <a:ext cx="309600" cy="648000"/>
                <a:chOff x="5838840" y="1065960"/>
                <a:chExt cx="309600" cy="64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8060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48440" y="1065960"/>
                <a:ext cx="701280" cy="648000"/>
                <a:chOff x="6148440" y="1065960"/>
                <a:chExt cx="701280" cy="64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90560" y="1065960"/>
                  <a:ext cx="61668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48440" y="1065960"/>
                  <a:ext cx="70128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00" y="1713960"/>
                <a:ext cx="2731320" cy="510120"/>
                <a:chOff x="7200" y="1713960"/>
                <a:chExt cx="2731320" cy="510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960" y="17139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00" y="17139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738520" y="1713960"/>
                <a:ext cx="309600" cy="510120"/>
                <a:chOff x="2738520" y="1713960"/>
                <a:chExt cx="309600" cy="510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8028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3852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048480" y="1713960"/>
                <a:ext cx="309600" cy="510120"/>
                <a:chOff x="3048480" y="1713960"/>
                <a:chExt cx="309600" cy="510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9060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4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58440" y="1713960"/>
                <a:ext cx="309960" cy="510120"/>
                <a:chOff x="3358440" y="1713960"/>
                <a:chExt cx="309960" cy="510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4005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584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68400" y="1713960"/>
                <a:ext cx="309600" cy="510120"/>
                <a:chOff x="3668400" y="1713960"/>
                <a:chExt cx="309600" cy="510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1016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840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8360" y="1713960"/>
                <a:ext cx="309960" cy="510120"/>
                <a:chOff x="3978360" y="1713960"/>
                <a:chExt cx="309960" cy="510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048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836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288680" y="1713960"/>
                <a:ext cx="309600" cy="510120"/>
                <a:chOff x="4288680" y="1713960"/>
                <a:chExt cx="309600" cy="510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3044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886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598640" y="1713960"/>
                <a:ext cx="309600" cy="510120"/>
                <a:chOff x="4598640" y="1713960"/>
                <a:chExt cx="309600" cy="510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6407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986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908240" y="1713960"/>
                <a:ext cx="309960" cy="510120"/>
                <a:chOff x="4908240" y="1713960"/>
                <a:chExt cx="309960" cy="510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503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9082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18560" y="1713960"/>
                <a:ext cx="309600" cy="510120"/>
                <a:chOff x="5218560" y="1713960"/>
                <a:chExt cx="309600" cy="510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6032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1856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28520" y="1713960"/>
                <a:ext cx="309960" cy="510120"/>
                <a:chOff x="5528520" y="1713960"/>
                <a:chExt cx="309960" cy="510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7064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2852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38840" y="1713960"/>
                <a:ext cx="309600" cy="510120"/>
                <a:chOff x="5838840" y="1713960"/>
                <a:chExt cx="309600" cy="510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8060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388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48440" y="1713960"/>
                <a:ext cx="701280" cy="510120"/>
                <a:chOff x="6148440" y="1713960"/>
                <a:chExt cx="701280" cy="510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0560" y="17139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48440" y="17139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200" y="2224440"/>
                <a:ext cx="2731320" cy="510480"/>
                <a:chOff x="7200" y="2224440"/>
                <a:chExt cx="2731320" cy="510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60" y="22244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00" y="22244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738520" y="2224440"/>
                <a:ext cx="309600" cy="510480"/>
                <a:chOff x="2738520" y="2224440"/>
                <a:chExt cx="309600" cy="510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78028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3852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48480" y="2224440"/>
                <a:ext cx="309600" cy="510480"/>
                <a:chOff x="3048480" y="2224440"/>
                <a:chExt cx="309600" cy="510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60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4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358440" y="2224440"/>
                <a:ext cx="309960" cy="510480"/>
                <a:chOff x="3358440" y="2224440"/>
                <a:chExt cx="309960" cy="510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4005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84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68400" y="2224440"/>
                <a:ext cx="309600" cy="510480"/>
                <a:chOff x="3668400" y="2224440"/>
                <a:chExt cx="309600" cy="510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6840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78360" y="2224440"/>
                <a:ext cx="309960" cy="510480"/>
                <a:chOff x="3978360" y="2224440"/>
                <a:chExt cx="309960" cy="510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2048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7836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288680" y="2224440"/>
                <a:ext cx="309600" cy="510480"/>
                <a:chOff x="4288680" y="2224440"/>
                <a:chExt cx="309600" cy="510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33044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886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98640" y="2224440"/>
                <a:ext cx="309600" cy="510480"/>
                <a:chOff x="4598640" y="2224440"/>
                <a:chExt cx="309600" cy="510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407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986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908240" y="2224440"/>
                <a:ext cx="309960" cy="510480"/>
                <a:chOff x="4908240" y="2224440"/>
                <a:chExt cx="309960" cy="510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503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082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18560" y="2224440"/>
                <a:ext cx="309600" cy="510480"/>
                <a:chOff x="5218560" y="2224440"/>
                <a:chExt cx="309600" cy="510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6032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856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28520" y="2224440"/>
                <a:ext cx="309960" cy="510480"/>
                <a:chOff x="5528520" y="2224440"/>
                <a:chExt cx="309960" cy="510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7064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2852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838840" y="2224440"/>
                <a:ext cx="309600" cy="510480"/>
                <a:chOff x="5838840" y="2224440"/>
                <a:chExt cx="309600" cy="51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8060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8388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48440" y="2224440"/>
                <a:ext cx="701280" cy="510480"/>
                <a:chOff x="6148440" y="2224440"/>
                <a:chExt cx="701280" cy="51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90560" y="22244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48440" y="22244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200" y="2735280"/>
                <a:ext cx="2731320" cy="510120"/>
                <a:chOff x="7200" y="2735280"/>
                <a:chExt cx="2731320" cy="51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8960" y="27352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0" y="27352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738520" y="2735280"/>
                <a:ext cx="309600" cy="510120"/>
                <a:chOff x="2738520" y="2735280"/>
                <a:chExt cx="309600" cy="51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8028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3852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048480" y="2735280"/>
                <a:ext cx="309600" cy="510120"/>
                <a:chOff x="3048480" y="2735280"/>
                <a:chExt cx="30960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9060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484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8440" y="2735280"/>
                <a:ext cx="309960" cy="510120"/>
                <a:chOff x="3358440" y="2735280"/>
                <a:chExt cx="309960" cy="510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005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84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668400" y="2735280"/>
                <a:ext cx="309600" cy="510120"/>
                <a:chOff x="3668400" y="2735280"/>
                <a:chExt cx="309600" cy="510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71016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840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78360" y="2735280"/>
                <a:ext cx="309960" cy="510120"/>
                <a:chOff x="3978360" y="2735280"/>
                <a:chExt cx="309960" cy="510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2048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7836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8680" y="2735280"/>
                <a:ext cx="309600" cy="510120"/>
                <a:chOff x="4288680" y="2735280"/>
                <a:chExt cx="309600" cy="510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3044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86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98640" y="2735280"/>
                <a:ext cx="309600" cy="510120"/>
                <a:chOff x="4598640" y="2735280"/>
                <a:chExt cx="309600" cy="51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407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986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2735280"/>
                <a:ext cx="309960" cy="510120"/>
                <a:chOff x="4908240" y="2735280"/>
                <a:chExt cx="309960" cy="510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503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218560" y="2735280"/>
                <a:ext cx="309600" cy="510120"/>
                <a:chOff x="5218560" y="2735280"/>
                <a:chExt cx="309600" cy="510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26032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1856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8520" y="2735280"/>
                <a:ext cx="309960" cy="510120"/>
                <a:chOff x="5528520" y="2735280"/>
                <a:chExt cx="309960" cy="510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57064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2852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838840" y="2735280"/>
                <a:ext cx="309600" cy="510120"/>
                <a:chOff x="5838840" y="2735280"/>
                <a:chExt cx="309600" cy="51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88060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388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148440" y="2735280"/>
                <a:ext cx="701280" cy="510120"/>
                <a:chOff x="6148440" y="2735280"/>
                <a:chExt cx="701280" cy="510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90560" y="27352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48440" y="27352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200" y="3245760"/>
                <a:ext cx="2731320" cy="510480"/>
                <a:chOff x="7200" y="3245760"/>
                <a:chExt cx="2731320" cy="51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8960" y="32457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00" y="32457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738520" y="3245760"/>
                <a:ext cx="309600" cy="510480"/>
                <a:chOff x="2738520" y="3245760"/>
                <a:chExt cx="309600" cy="510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028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852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8480" y="3245760"/>
                <a:ext cx="309600" cy="510480"/>
                <a:chOff x="3048480" y="3245760"/>
                <a:chExt cx="309600" cy="510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9060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484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8440" y="3245760"/>
                <a:ext cx="309960" cy="510480"/>
                <a:chOff x="3358440" y="3245760"/>
                <a:chExt cx="309960" cy="510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4005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584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668400" y="3245760"/>
                <a:ext cx="309600" cy="510480"/>
                <a:chOff x="3668400" y="3245760"/>
                <a:chExt cx="309600" cy="510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1016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66840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78360" y="3245760"/>
                <a:ext cx="309960" cy="510480"/>
                <a:chOff x="3978360" y="3245760"/>
                <a:chExt cx="309960" cy="510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2048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7836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288680" y="3245760"/>
                <a:ext cx="309600" cy="510480"/>
                <a:chOff x="4288680" y="3245760"/>
                <a:chExt cx="309600" cy="510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33044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2886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98640" y="3245760"/>
                <a:ext cx="309600" cy="510480"/>
                <a:chOff x="4598640" y="3245760"/>
                <a:chExt cx="309600" cy="510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07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86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8240" y="3245760"/>
                <a:ext cx="309960" cy="510480"/>
                <a:chOff x="4908240" y="3245760"/>
                <a:chExt cx="309960" cy="510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503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82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218560" y="3245760"/>
                <a:ext cx="309600" cy="510480"/>
                <a:chOff x="5218560" y="3245760"/>
                <a:chExt cx="309600" cy="510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26032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1856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528520" y="3245760"/>
                <a:ext cx="309960" cy="510480"/>
                <a:chOff x="5528520" y="3245760"/>
                <a:chExt cx="309960" cy="510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7064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2852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38840" y="3245760"/>
                <a:ext cx="309600" cy="510480"/>
                <a:chOff x="5838840" y="3245760"/>
                <a:chExt cx="309600" cy="510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8060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388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48440" y="3245760"/>
                <a:ext cx="701280" cy="510480"/>
                <a:chOff x="6148440" y="3245760"/>
                <a:chExt cx="701280" cy="510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90560" y="32457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48440" y="32457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200" y="3756600"/>
                <a:ext cx="2731320" cy="510120"/>
                <a:chOff x="7200" y="3756600"/>
                <a:chExt cx="2731320" cy="51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960" y="375660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200" y="375660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38520" y="3756600"/>
                <a:ext cx="309600" cy="510120"/>
                <a:chOff x="2738520" y="3756600"/>
                <a:chExt cx="309600" cy="51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8028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3852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048480" y="3756600"/>
                <a:ext cx="309600" cy="510120"/>
                <a:chOff x="3048480" y="3756600"/>
                <a:chExt cx="309600" cy="51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9060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484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8440" y="3756600"/>
                <a:ext cx="309960" cy="510120"/>
                <a:chOff x="3358440" y="3756600"/>
                <a:chExt cx="309960" cy="51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4005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84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68400" y="3756600"/>
                <a:ext cx="309600" cy="510120"/>
                <a:chOff x="3668400" y="3756600"/>
                <a:chExt cx="309600" cy="510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1016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6840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78360" y="3756600"/>
                <a:ext cx="309960" cy="510120"/>
                <a:chOff x="3978360" y="3756600"/>
                <a:chExt cx="309960" cy="510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02048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7836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88680" y="3756600"/>
                <a:ext cx="309600" cy="510120"/>
                <a:chOff x="4288680" y="3756600"/>
                <a:chExt cx="309600" cy="510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3044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886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598640" y="3756600"/>
                <a:ext cx="309600" cy="510120"/>
                <a:chOff x="4598640" y="3756600"/>
                <a:chExt cx="309600" cy="51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6407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5986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908240" y="3756600"/>
                <a:ext cx="309960" cy="510120"/>
                <a:chOff x="4908240" y="3756600"/>
                <a:chExt cx="309960" cy="510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9503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9082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218560" y="3756600"/>
                <a:ext cx="309600" cy="510120"/>
                <a:chOff x="5218560" y="3756600"/>
                <a:chExt cx="309600" cy="510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6032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1856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528520" y="3756600"/>
                <a:ext cx="309960" cy="510120"/>
                <a:chOff x="5528520" y="3756600"/>
                <a:chExt cx="309960" cy="510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57064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852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838840" y="3756600"/>
                <a:ext cx="309600" cy="510120"/>
                <a:chOff x="5838840" y="3756600"/>
                <a:chExt cx="309600" cy="510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8060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388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148440" y="3756600"/>
                <a:ext cx="701280" cy="510120"/>
                <a:chOff x="6148440" y="3756600"/>
                <a:chExt cx="701280" cy="510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90560" y="375660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48440" y="375660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200" y="4266720"/>
                <a:ext cx="2731320" cy="510480"/>
                <a:chOff x="7200" y="4266720"/>
                <a:chExt cx="2731320" cy="510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960" y="42667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0" y="42667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738520" y="4266720"/>
                <a:ext cx="309600" cy="510480"/>
                <a:chOff x="2738520" y="4266720"/>
                <a:chExt cx="309600" cy="510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8028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3852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048480" y="4266720"/>
                <a:ext cx="309600" cy="510480"/>
                <a:chOff x="3048480" y="4266720"/>
                <a:chExt cx="309600" cy="510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9060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0484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358440" y="4266720"/>
                <a:ext cx="309960" cy="510480"/>
                <a:chOff x="3358440" y="4266720"/>
                <a:chExt cx="309960" cy="510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05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84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668400" y="4266720"/>
                <a:ext cx="309600" cy="510480"/>
                <a:chOff x="3668400" y="4266720"/>
                <a:chExt cx="309600" cy="51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1016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6840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978360" y="4266720"/>
                <a:ext cx="309960" cy="510480"/>
                <a:chOff x="3978360" y="4266720"/>
                <a:chExt cx="309960" cy="51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2048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7836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8680" y="4266720"/>
                <a:ext cx="309600" cy="510480"/>
                <a:chOff x="4288680" y="4266720"/>
                <a:chExt cx="309600" cy="51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3044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86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98640" y="4266720"/>
                <a:ext cx="309600" cy="510480"/>
                <a:chOff x="4598640" y="4266720"/>
                <a:chExt cx="309600" cy="51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6407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86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08240" y="4266720"/>
                <a:ext cx="309960" cy="510480"/>
                <a:chOff x="4908240" y="4266720"/>
                <a:chExt cx="309960" cy="51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503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082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218560" y="4266720"/>
                <a:ext cx="309600" cy="510480"/>
                <a:chOff x="5218560" y="4266720"/>
                <a:chExt cx="309600" cy="510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26032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1856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528520" y="4266720"/>
                <a:ext cx="309960" cy="510480"/>
                <a:chOff x="5528520" y="4266720"/>
                <a:chExt cx="309960" cy="51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7064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52852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38840" y="4266720"/>
                <a:ext cx="309600" cy="510480"/>
                <a:chOff x="5838840" y="4266720"/>
                <a:chExt cx="309600" cy="51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8060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388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48440" y="4266720"/>
                <a:ext cx="701280" cy="510480"/>
                <a:chOff x="6148440" y="4266720"/>
                <a:chExt cx="701280" cy="51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190560" y="42667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8440" y="42667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200" y="4777560"/>
                <a:ext cx="2731320" cy="510120"/>
                <a:chOff x="7200" y="4777560"/>
                <a:chExt cx="2731320" cy="510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960" y="47775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00" y="47775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738520" y="4777560"/>
                <a:ext cx="309600" cy="510120"/>
                <a:chOff x="2738520" y="4777560"/>
                <a:chExt cx="309600" cy="510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8028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73852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48480" y="4777560"/>
                <a:ext cx="309600" cy="510120"/>
                <a:chOff x="3048480" y="4777560"/>
                <a:chExt cx="309600" cy="510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9060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84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58440" y="4777560"/>
                <a:ext cx="309960" cy="510120"/>
                <a:chOff x="3358440" y="4777560"/>
                <a:chExt cx="309960" cy="510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005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584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668400" y="4777560"/>
                <a:ext cx="309600" cy="510120"/>
                <a:chOff x="3668400" y="4777560"/>
                <a:chExt cx="309600" cy="510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1016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66840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78360" y="4777560"/>
                <a:ext cx="309960" cy="510120"/>
                <a:chOff x="3978360" y="4777560"/>
                <a:chExt cx="309960" cy="51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2048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7836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288680" y="4777560"/>
                <a:ext cx="309600" cy="510120"/>
                <a:chOff x="4288680" y="4777560"/>
                <a:chExt cx="309600" cy="510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3044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886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598640" y="4777560"/>
                <a:ext cx="309600" cy="510120"/>
                <a:chOff x="4598640" y="4777560"/>
                <a:chExt cx="309600" cy="5101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6407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986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908240" y="4777560"/>
                <a:ext cx="309960" cy="510120"/>
                <a:chOff x="4908240" y="4777560"/>
                <a:chExt cx="309960" cy="510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503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9082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218560" y="4777560"/>
                <a:ext cx="309600" cy="510120"/>
                <a:chOff x="5218560" y="4777560"/>
                <a:chExt cx="309600" cy="510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26032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21856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528520" y="4777560"/>
                <a:ext cx="309960" cy="510120"/>
                <a:chOff x="5528520" y="4777560"/>
                <a:chExt cx="309960" cy="510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7064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2852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38840" y="4777560"/>
                <a:ext cx="309600" cy="510120"/>
                <a:chOff x="5838840" y="4777560"/>
                <a:chExt cx="309600" cy="510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88060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388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148440" y="4777560"/>
                <a:ext cx="701280" cy="510120"/>
                <a:chOff x="6148440" y="4777560"/>
                <a:chExt cx="70128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190560" y="47775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48440" y="47775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00" y="5288040"/>
                <a:ext cx="2731320" cy="510120"/>
                <a:chOff x="7200" y="5288040"/>
                <a:chExt cx="273132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8960" y="528804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0" y="528804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738520" y="5288040"/>
                <a:ext cx="309600" cy="510120"/>
                <a:chOff x="2738520" y="5288040"/>
                <a:chExt cx="30960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78028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3852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48480" y="5288040"/>
                <a:ext cx="309600" cy="510120"/>
                <a:chOff x="3048480" y="5288040"/>
                <a:chExt cx="30960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9060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484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358440" y="5288040"/>
                <a:ext cx="309960" cy="510120"/>
                <a:chOff x="3358440" y="5288040"/>
                <a:chExt cx="309960" cy="510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005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584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668400" y="5288040"/>
                <a:ext cx="309600" cy="510120"/>
                <a:chOff x="3668400" y="5288040"/>
                <a:chExt cx="309600" cy="510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71016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6840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78360" y="5288040"/>
                <a:ext cx="309960" cy="510120"/>
                <a:chOff x="3978360" y="5288040"/>
                <a:chExt cx="309960" cy="510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2048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836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88680" y="5288040"/>
                <a:ext cx="309600" cy="510120"/>
                <a:chOff x="4288680" y="5288040"/>
                <a:chExt cx="309600" cy="510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33044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886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98640" y="5288040"/>
                <a:ext cx="309600" cy="510120"/>
                <a:chOff x="4598640" y="5288040"/>
                <a:chExt cx="309600" cy="510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407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986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08240" y="5288040"/>
                <a:ext cx="309960" cy="510120"/>
                <a:chOff x="4908240" y="5288040"/>
                <a:chExt cx="309960" cy="510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503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082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218560" y="5288040"/>
                <a:ext cx="309600" cy="510120"/>
                <a:chOff x="5218560" y="5288040"/>
                <a:chExt cx="309600" cy="510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26032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1856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528520" y="5288040"/>
                <a:ext cx="309960" cy="510120"/>
                <a:chOff x="5528520" y="5288040"/>
                <a:chExt cx="309960" cy="510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7064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852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838840" y="5288040"/>
                <a:ext cx="309600" cy="510120"/>
                <a:chOff x="5838840" y="5288040"/>
                <a:chExt cx="309600" cy="510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88060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388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48440" y="5288040"/>
                <a:ext cx="701280" cy="510120"/>
                <a:chOff x="6148440" y="5288040"/>
                <a:chExt cx="701280" cy="510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0560" y="528804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148440" y="528804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7200" y="5798520"/>
                <a:ext cx="2731320" cy="510480"/>
                <a:chOff x="7200" y="5798520"/>
                <a:chExt cx="2731320" cy="510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8960" y="57985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00" y="57985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738520" y="5798520"/>
                <a:ext cx="309600" cy="510480"/>
                <a:chOff x="2738520" y="5798520"/>
                <a:chExt cx="309600" cy="51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8028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3852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048480" y="5798520"/>
                <a:ext cx="309600" cy="510480"/>
                <a:chOff x="3048480" y="5798520"/>
                <a:chExt cx="309600" cy="510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9060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4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358440" y="5798520"/>
                <a:ext cx="309960" cy="510480"/>
                <a:chOff x="3358440" y="5798520"/>
                <a:chExt cx="309960" cy="510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4005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3584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68400" y="5798520"/>
                <a:ext cx="309600" cy="510480"/>
                <a:chOff x="3668400" y="5798520"/>
                <a:chExt cx="309600" cy="510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71016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66840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978360" y="5798520"/>
                <a:ext cx="309960" cy="510480"/>
                <a:chOff x="3978360" y="5798520"/>
                <a:chExt cx="309960" cy="510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02048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7836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288680" y="5798520"/>
                <a:ext cx="309600" cy="510480"/>
                <a:chOff x="4288680" y="5798520"/>
                <a:chExt cx="309600" cy="510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3044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2886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98640" y="5798520"/>
                <a:ext cx="309600" cy="510480"/>
                <a:chOff x="4598640" y="5798520"/>
                <a:chExt cx="309600" cy="510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6407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986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08240" y="5798520"/>
                <a:ext cx="309960" cy="510480"/>
                <a:chOff x="4908240" y="5798520"/>
                <a:chExt cx="309960" cy="510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9503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082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218560" y="5798520"/>
                <a:ext cx="309600" cy="510480"/>
                <a:chOff x="5218560" y="5798520"/>
                <a:chExt cx="309600" cy="510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6032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856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528520" y="5798520"/>
                <a:ext cx="309960" cy="510480"/>
                <a:chOff x="5528520" y="5798520"/>
                <a:chExt cx="309960" cy="51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57064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2852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838840" y="5798520"/>
                <a:ext cx="309600" cy="510480"/>
                <a:chOff x="5838840" y="5798520"/>
                <a:chExt cx="309600" cy="510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8060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88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148440" y="5798520"/>
                <a:ext cx="701280" cy="510480"/>
                <a:chOff x="6148440" y="5798520"/>
                <a:chExt cx="701280" cy="5104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90560" y="57985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48440" y="57985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200" y="6309360"/>
                <a:ext cx="2731320" cy="510120"/>
                <a:chOff x="7200" y="6309360"/>
                <a:chExt cx="2731320" cy="510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960" y="63093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00" y="63093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738520" y="6309360"/>
                <a:ext cx="309600" cy="510120"/>
                <a:chOff x="2738520" y="6309360"/>
                <a:chExt cx="309600" cy="510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8028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3852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048480" y="6309360"/>
                <a:ext cx="309600" cy="510120"/>
                <a:chOff x="3048480" y="6309360"/>
                <a:chExt cx="309600" cy="510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9060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84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58440" y="6309360"/>
                <a:ext cx="309960" cy="510120"/>
                <a:chOff x="3358440" y="6309360"/>
                <a:chExt cx="309960" cy="510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005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84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668400" y="6309360"/>
                <a:ext cx="309600" cy="510120"/>
                <a:chOff x="3668400" y="6309360"/>
                <a:chExt cx="309600" cy="510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71016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6840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78360" y="6309360"/>
                <a:ext cx="309960" cy="510120"/>
                <a:chOff x="3978360" y="6309360"/>
                <a:chExt cx="309960" cy="510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2048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7836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88680" y="6309360"/>
                <a:ext cx="309600" cy="510120"/>
                <a:chOff x="4288680" y="6309360"/>
                <a:chExt cx="309600" cy="510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3044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886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98640" y="6309360"/>
                <a:ext cx="309600" cy="510120"/>
                <a:chOff x="4598640" y="6309360"/>
                <a:chExt cx="309600" cy="510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407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986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908240" y="6309360"/>
                <a:ext cx="309960" cy="510120"/>
                <a:chOff x="4908240" y="6309360"/>
                <a:chExt cx="309960" cy="510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03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9082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218560" y="6309360"/>
                <a:ext cx="309600" cy="510120"/>
                <a:chOff x="5218560" y="6309360"/>
                <a:chExt cx="309600" cy="510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26032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21856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528520" y="6309360"/>
                <a:ext cx="309960" cy="510120"/>
                <a:chOff x="5528520" y="6309360"/>
                <a:chExt cx="309960" cy="5101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57064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2852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38840" y="6309360"/>
                <a:ext cx="309600" cy="510120"/>
                <a:chOff x="5838840" y="6309360"/>
                <a:chExt cx="309600" cy="510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88060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388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48440" y="6309360"/>
                <a:ext cx="701280" cy="510120"/>
                <a:chOff x="6148440" y="6309360"/>
                <a:chExt cx="701280" cy="5101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190560" y="63093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48440" y="63093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200" y="6819840"/>
                <a:ext cx="2731320" cy="510480"/>
                <a:chOff x="7200" y="6819840"/>
                <a:chExt cx="2731320" cy="5104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8960" y="68198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0" y="68198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738520" y="6819840"/>
                <a:ext cx="309600" cy="510480"/>
                <a:chOff x="2738520" y="6819840"/>
                <a:chExt cx="309600" cy="510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78028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3852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048480" y="6819840"/>
                <a:ext cx="309600" cy="510480"/>
                <a:chOff x="3048480" y="6819840"/>
                <a:chExt cx="309600" cy="510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9060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0484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358440" y="6819840"/>
                <a:ext cx="309960" cy="510480"/>
                <a:chOff x="3358440" y="6819840"/>
                <a:chExt cx="309960" cy="510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005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584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668400" y="6819840"/>
                <a:ext cx="309600" cy="510480"/>
                <a:chOff x="3668400" y="6819840"/>
                <a:chExt cx="309600" cy="51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71016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6840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978360" y="6819840"/>
                <a:ext cx="309960" cy="510480"/>
                <a:chOff x="3978360" y="6819840"/>
                <a:chExt cx="309960" cy="5104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02048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7836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88680" y="6819840"/>
                <a:ext cx="309600" cy="510480"/>
                <a:chOff x="4288680" y="6819840"/>
                <a:chExt cx="309600" cy="510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3044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86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598640" y="6819840"/>
                <a:ext cx="309600" cy="510480"/>
                <a:chOff x="4598640" y="6819840"/>
                <a:chExt cx="309600" cy="5104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07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986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08240" y="6819840"/>
                <a:ext cx="309960" cy="510480"/>
                <a:chOff x="4908240" y="6819840"/>
                <a:chExt cx="309960" cy="510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9503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082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18560" y="6819840"/>
                <a:ext cx="309600" cy="510480"/>
                <a:chOff x="5218560" y="6819840"/>
                <a:chExt cx="309600" cy="510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6032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856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28520" y="6819840"/>
                <a:ext cx="309960" cy="510480"/>
                <a:chOff x="5528520" y="6819840"/>
                <a:chExt cx="309960" cy="5104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7064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2852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38840" y="6819840"/>
                <a:ext cx="309600" cy="510480"/>
                <a:chOff x="5838840" y="6819840"/>
                <a:chExt cx="309600" cy="5104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88060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388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48440" y="6819840"/>
                <a:ext cx="701280" cy="510480"/>
                <a:chOff x="6148440" y="6819840"/>
                <a:chExt cx="701280" cy="5104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190560" y="68198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48440" y="68198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200" y="7330680"/>
                <a:ext cx="2731320" cy="510120"/>
                <a:chOff x="7200" y="7330680"/>
                <a:chExt cx="2731320" cy="5101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8960" y="73306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200" y="73306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8520" y="7330680"/>
                <a:ext cx="309600" cy="510120"/>
                <a:chOff x="2738520" y="7330680"/>
                <a:chExt cx="309600" cy="510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8028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48480" y="7330680"/>
                <a:ext cx="309600" cy="510120"/>
                <a:chOff x="3048480" y="7330680"/>
                <a:chExt cx="309600" cy="5101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9060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484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358440" y="7330680"/>
                <a:ext cx="309960" cy="510120"/>
                <a:chOff x="3358440" y="7330680"/>
                <a:chExt cx="309960" cy="510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4005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3584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68400" y="7330680"/>
                <a:ext cx="309600" cy="510120"/>
                <a:chOff x="3668400" y="7330680"/>
                <a:chExt cx="309600" cy="510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1016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6840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978360" y="7330680"/>
                <a:ext cx="309960" cy="510120"/>
                <a:chOff x="3978360" y="7330680"/>
                <a:chExt cx="309960" cy="510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2048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836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88680" y="7330680"/>
                <a:ext cx="309600" cy="510120"/>
                <a:chOff x="4288680" y="7330680"/>
                <a:chExt cx="309600" cy="510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33044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886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598640" y="7330680"/>
                <a:ext cx="309600" cy="510120"/>
                <a:chOff x="4598640" y="7330680"/>
                <a:chExt cx="309600" cy="5101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6407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86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908240" y="7330680"/>
                <a:ext cx="309960" cy="510120"/>
                <a:chOff x="4908240" y="7330680"/>
                <a:chExt cx="309960" cy="510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9503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082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218560" y="7330680"/>
                <a:ext cx="309600" cy="510120"/>
                <a:chOff x="5218560" y="7330680"/>
                <a:chExt cx="309600" cy="510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6032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1856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528520" y="7330680"/>
                <a:ext cx="309960" cy="510120"/>
                <a:chOff x="5528520" y="7330680"/>
                <a:chExt cx="309960" cy="510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7064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852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838840" y="7330680"/>
                <a:ext cx="309600" cy="510120"/>
                <a:chOff x="5838840" y="7330680"/>
                <a:chExt cx="309600" cy="510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88060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388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48440" y="7330680"/>
                <a:ext cx="701280" cy="510120"/>
                <a:chOff x="6148440" y="7330680"/>
                <a:chExt cx="701280" cy="510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90560" y="73306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48440" y="73306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200" y="7841160"/>
                <a:ext cx="2731320" cy="510480"/>
                <a:chOff x="7200" y="7841160"/>
                <a:chExt cx="2731320" cy="510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8960" y="78411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00" y="78411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738520" y="7841160"/>
                <a:ext cx="309600" cy="510480"/>
                <a:chOff x="2738520" y="7841160"/>
                <a:chExt cx="309600" cy="510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78028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3852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048480" y="7841160"/>
                <a:ext cx="309600" cy="510480"/>
                <a:chOff x="3048480" y="7841160"/>
                <a:chExt cx="309600" cy="5104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060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484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58440" y="7841160"/>
                <a:ext cx="309960" cy="510480"/>
                <a:chOff x="3358440" y="7841160"/>
                <a:chExt cx="309960" cy="510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4005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584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8400" y="7841160"/>
                <a:ext cx="309600" cy="510480"/>
                <a:chOff x="3668400" y="7841160"/>
                <a:chExt cx="309600" cy="5104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1016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840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978360" y="7841160"/>
                <a:ext cx="309960" cy="510480"/>
                <a:chOff x="3978360" y="7841160"/>
                <a:chExt cx="309960" cy="510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02048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7836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288680" y="7841160"/>
                <a:ext cx="309600" cy="510480"/>
                <a:chOff x="4288680" y="7841160"/>
                <a:chExt cx="309600" cy="51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33044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886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98640" y="7841160"/>
                <a:ext cx="309600" cy="510480"/>
                <a:chOff x="4598640" y="7841160"/>
                <a:chExt cx="309600" cy="510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6407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986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908240" y="7841160"/>
                <a:ext cx="309960" cy="510480"/>
                <a:chOff x="4908240" y="7841160"/>
                <a:chExt cx="309960" cy="5104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9503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9082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18560" y="7841160"/>
                <a:ext cx="309600" cy="510480"/>
                <a:chOff x="5218560" y="7841160"/>
                <a:chExt cx="309600" cy="510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26032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1856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528520" y="7841160"/>
                <a:ext cx="309960" cy="510480"/>
                <a:chOff x="5528520" y="7841160"/>
                <a:chExt cx="309960" cy="5104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57064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52852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838840" y="7841160"/>
                <a:ext cx="309600" cy="510480"/>
                <a:chOff x="5838840" y="7841160"/>
                <a:chExt cx="309600" cy="5104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88060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88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148440" y="7841160"/>
                <a:ext cx="701280" cy="510480"/>
                <a:chOff x="6148440" y="7841160"/>
                <a:chExt cx="70128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190560" y="78411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48440" y="78411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200" y="8351640"/>
                <a:ext cx="2731320" cy="785160"/>
                <a:chOff x="7200" y="8351640"/>
                <a:chExt cx="2731320" cy="785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8960" y="8351640"/>
                  <a:ext cx="2646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00" y="8351640"/>
                  <a:ext cx="273132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738520" y="8351640"/>
                <a:ext cx="309600" cy="785160"/>
                <a:chOff x="2738520" y="8351640"/>
                <a:chExt cx="309600" cy="785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78028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3852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048480" y="8351640"/>
                <a:ext cx="309600" cy="785160"/>
                <a:chOff x="3048480" y="8351640"/>
                <a:chExt cx="309600" cy="785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9060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0484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358440" y="8351640"/>
                <a:ext cx="309960" cy="785160"/>
                <a:chOff x="3358440" y="8351640"/>
                <a:chExt cx="309960" cy="785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005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3584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668400" y="8351640"/>
                <a:ext cx="309600" cy="785160"/>
                <a:chOff x="3668400" y="8351640"/>
                <a:chExt cx="309600" cy="785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71016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6840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978360" y="8351640"/>
                <a:ext cx="309960" cy="785160"/>
                <a:chOff x="3978360" y="8351640"/>
                <a:chExt cx="309960" cy="7851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02048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836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288680" y="8351640"/>
                <a:ext cx="309600" cy="785160"/>
                <a:chOff x="4288680" y="8351640"/>
                <a:chExt cx="309600" cy="785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3044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2886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98640" y="8351640"/>
                <a:ext cx="309600" cy="785160"/>
                <a:chOff x="4598640" y="8351640"/>
                <a:chExt cx="309600" cy="785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6407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986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08240" y="8351640"/>
                <a:ext cx="309960" cy="785160"/>
                <a:chOff x="4908240" y="8351640"/>
                <a:chExt cx="309960" cy="7851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503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082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218560" y="8351640"/>
                <a:ext cx="309600" cy="785160"/>
                <a:chOff x="5218560" y="8351640"/>
                <a:chExt cx="309600" cy="7851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26032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1856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528520" y="8351640"/>
                <a:ext cx="309960" cy="785160"/>
                <a:chOff x="5528520" y="8351640"/>
                <a:chExt cx="309960" cy="7851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57064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52852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838840" y="8351640"/>
                <a:ext cx="309600" cy="785160"/>
                <a:chOff x="5838840" y="8351640"/>
                <a:chExt cx="309600" cy="7851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88060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388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48440" y="8351640"/>
                <a:ext cx="701280" cy="785160"/>
                <a:chOff x="6148440" y="8351640"/>
                <a:chExt cx="701280" cy="78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90560" y="8351640"/>
                  <a:ext cx="61668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6 / 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48440" y="8351640"/>
                  <a:ext cx="70128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2:30Z</dcterms:modified>
  <cp:revision>2</cp:revision>
  <dc:subject/>
  <dc:title>Présentation PowerPoint</dc:title>
</cp:coreProperties>
</file>