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C22-6376-4B6F-889E-7230C383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C7C-DB35-4E00-9D1A-C617C6E5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3AB-6C70-43D6-A413-7B114CAA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3FC-4DD2-4329-9A7E-D78CBBF9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72E-D39D-40FB-94C7-7F8FD4DF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365-D6AC-4D09-B667-480D7A1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D16-0226-41E6-810C-FEDDA10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D6C-A25D-4BCD-9372-BA86B83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B5E-A82A-454C-8F0F-67B705C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3D0-7703-47A2-8731-34AD185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300-F3C8-4E31-9D0B-FB62303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AE1-FAC1-4C68-B91D-5EAF105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C710-3AC7-4170-9905-9741E6C2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2:12Z</dcterms:modified>
  <cp:revision>101</cp:revision>
  <dc:subject/>
  <dc:title>Présentation PowerPoint</dc:title>
</cp:coreProperties>
</file>