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A91-EEC6-48C4-8CE7-42D10A0E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94A-99C0-4CCE-900F-61F2B48B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279-625D-4DCD-AE8B-301BCF64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6C8-0789-4BAC-AAEA-A5F0E75E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D4C-8B78-4FB7-BC38-1CD30AF2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203-B33E-4805-BAEE-F5024572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8A0-D2C1-428E-9FE7-C5ABB664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671-6C30-4796-928D-C202C4E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C15-20C2-46C2-A902-0AB6FB9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493-5F2A-490E-AAAE-C54A405C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639-A564-4E56-95D6-1A25311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408-030A-40B2-A717-C1413B1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699-850D-4183-8E3E-F11087B0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relevé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cision à prend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68580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des participa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53452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cis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3:18Z</dcterms:modified>
  <cp:revision>9</cp:revision>
  <dc:subject/>
  <dc:title>Présentation PowerPoint</dc:title>
</cp:coreProperties>
</file>