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292-0957-4F8A-9B42-C0594F06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6B8-8B7F-4C5D-BB62-6596C833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EE1D-9C41-4AAA-BD7F-98EEE7AC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2FB-5125-4A52-8F8E-93D6BF75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2F2-326B-4E05-B75A-8F64257A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B83F-6AE1-414F-82A8-77759D1F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600D-7A44-40AF-875C-EB29F211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A5E-8D0A-4616-98DD-E2867C0D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855-743D-45E3-9CDF-EADA40E2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6AC6-0BEC-40E0-B2E4-3C355F9F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C477-A67B-4A0D-B5EF-0485B31C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281-F083-4855-B5C0-A335A47B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9316-CB03-4675-8345-5B0E6D1D1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Benchma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609480"/>
            <a:ext cx="4724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724280" y="6094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28/04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0" y="12952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Liste des organisations réputées performan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2"/>
          <p:cNvSpPr/>
          <p:nvPr/>
        </p:nvSpPr>
        <p:spPr>
          <a:xfrm>
            <a:off x="2590920" y="12952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nvictions affiché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33"/>
          <p:cNvSpPr/>
          <p:nvPr/>
        </p:nvSpPr>
        <p:spPr>
          <a:xfrm>
            <a:off x="4724280" y="12952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incipes d’organisation identifié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4"/>
          <p:cNvSpPr/>
          <p:nvPr/>
        </p:nvSpPr>
        <p:spPr>
          <a:xfrm>
            <a:off x="0" y="1981080"/>
            <a:ext cx="259092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Banque 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35"/>
          <p:cNvSpPr/>
          <p:nvPr/>
        </p:nvSpPr>
        <p:spPr>
          <a:xfrm>
            <a:off x="2590920" y="1981080"/>
            <a:ext cx="21333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Le client est la personne la plus performante de l’entreprise 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36"/>
          <p:cNvSpPr/>
          <p:nvPr/>
        </p:nvSpPr>
        <p:spPr>
          <a:xfrm>
            <a:off x="4724280" y="198108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° ve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37"/>
          <p:cNvSpPr/>
          <p:nvPr/>
        </p:nvSpPr>
        <p:spPr>
          <a:xfrm>
            <a:off x="2590920" y="304812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Notre métier est de servir le client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38"/>
          <p:cNvSpPr/>
          <p:nvPr/>
        </p:nvSpPr>
        <p:spPr>
          <a:xfrm>
            <a:off x="4732200" y="304812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ervice dédié rattaché à la D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0" y="3733920"/>
            <a:ext cx="25909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aîne d’hôtels 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2590920" y="373392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Vos suggestions nous intéressent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4724280" y="373392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ponses personnalisé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42"/>
          <p:cNvSpPr/>
          <p:nvPr/>
        </p:nvSpPr>
        <p:spPr>
          <a:xfrm>
            <a:off x="2590920" y="441972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Vous êtes ici chez vous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43"/>
          <p:cNvSpPr/>
          <p:nvPr/>
        </p:nvSpPr>
        <p:spPr>
          <a:xfrm>
            <a:off x="4732200" y="441972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ondages réguliers auprès des clients abonné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44"/>
          <p:cNvSpPr/>
          <p:nvPr/>
        </p:nvSpPr>
        <p:spPr>
          <a:xfrm>
            <a:off x="0" y="5105520"/>
            <a:ext cx="25909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mpagnie d’aviation 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Contre-exempl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45"/>
          <p:cNvSpPr/>
          <p:nvPr/>
        </p:nvSpPr>
        <p:spPr>
          <a:xfrm>
            <a:off x="2590920" y="5105520"/>
            <a:ext cx="21333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Faire du ciel le plus bel endroit de la terre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46"/>
          <p:cNvSpPr/>
          <p:nvPr/>
        </p:nvSpPr>
        <p:spPr>
          <a:xfrm>
            <a:off x="4724280" y="5105520"/>
            <a:ext cx="21337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as de réponse aux lettres de récla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49"/>
          <p:cNvSpPr/>
          <p:nvPr/>
        </p:nvSpPr>
        <p:spPr>
          <a:xfrm>
            <a:off x="4732200" y="2438280"/>
            <a:ext cx="2125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ercles de qua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50"/>
          <p:cNvSpPr/>
          <p:nvPr/>
        </p:nvSpPr>
        <p:spPr>
          <a:xfrm>
            <a:off x="0" y="647712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dées à retenir pour l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51"/>
          <p:cNvSpPr/>
          <p:nvPr/>
        </p:nvSpPr>
        <p:spPr>
          <a:xfrm>
            <a:off x="0" y="73152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pondre à 100 % des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52"/>
          <p:cNvSpPr/>
          <p:nvPr/>
        </p:nvSpPr>
        <p:spPr>
          <a:xfrm>
            <a:off x="0" y="77724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aire des lettres personnalisé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53"/>
          <p:cNvSpPr/>
          <p:nvPr/>
        </p:nvSpPr>
        <p:spPr>
          <a:xfrm>
            <a:off x="0" y="82296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réer un service dédié rattaché à la DG pour piloter l’ensem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54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réer un service dédié rattaché à la DG pour piloter l’ensem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tthieu Montaudouin</cp:lastModifiedBy>
  <dcterms:modified xsi:type="dcterms:W3CDTF">2009-06-08T10:03:16Z</dcterms:modified>
  <cp:revision>13</cp:revision>
  <dc:subject/>
  <dc:title>Présentation PowerPoint</dc:title>
</cp:coreProperties>
</file>