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09F3-7212-43D9-A6B3-AC71697AB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715F-2F3D-400A-B472-DBFC72F0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7DE6-CBA1-4CB7-BFC8-63EB00E4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C25A-B671-4111-AC94-29DB8895E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AF55-1F92-4055-B4C8-79DDA3AA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5946-0D80-4165-AF4C-F6863516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E93F-A50C-4624-A58A-AB2981B6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5E91-7623-4810-8A99-9FE54685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3CA8-46E9-45CF-A8CB-769C63C5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6D11-2EEB-40A1-9C06-EC35B09B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7509-7BEF-4E93-A473-50C8F144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3100-CFB0-4FA1-A415-7EBA7D4F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A55A-A5B0-4AEE-8F67-495AAE1E4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at de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5029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édacteur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609480"/>
            <a:ext cx="1828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ate 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68580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soins du service client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971800"/>
            <a:ext cx="68580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traintes du fournisseur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648320"/>
            <a:ext cx="6858000" cy="23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ngagements réciproques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7010280"/>
            <a:ext cx="685800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icateurs de mesur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8534520"/>
            <a:ext cx="3429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8534520"/>
            <a:ext cx="3429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4T10:47:46Z</dcterms:created>
  <dc:creator>MADERS</dc:creator>
  <dc:description/>
  <dc:language>en-US</dc:language>
  <cp:lastModifiedBy>MADERS</cp:lastModifiedBy>
  <dcterms:modified xsi:type="dcterms:W3CDTF">2002-03-09T11:04:46Z</dcterms:modified>
  <cp:revision>4</cp:revision>
  <dc:subject/>
  <dc:title>Présentation PowerPoint</dc:title>
</cp:coreProperties>
</file>