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E9F-745F-4D36-97F2-0E7617E7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CBA-D647-4845-9A8E-F66200A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9B-DB66-42D3-96BC-9A621B18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FF2-0F6B-4E0E-A4EA-5303B5A0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7B1-FAA3-4FCD-83C3-8A27ED6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8AE-0E26-4ADD-8FE8-557FF46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1C1-8311-4793-A596-C28FB7F6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3F5-7A3D-4489-8C58-5CF5D1C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4F6-4A25-4DE2-8A3C-2FA3CD1B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635-1254-4C82-BE74-EB8173D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4FC-6B82-4796-AB33-0E1B185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DAF-05FB-4FE5-9928-90C5FD2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8C6-C0B2-43A5-8797-D4A1C5E7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bila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 principau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8:06Z</dcterms:modified>
  <cp:revision>13</cp:revision>
  <dc:subject/>
  <dc:title>Présentation PowerPoint</dc:title>
</cp:coreProperties>
</file>