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AB8-5641-473D-B659-21DBF0B5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6C1-4741-49DF-B972-67BCAB16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105-9FE7-48AE-B16A-4C6A5784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070-EB47-46C1-B49C-C2778902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6BC-D460-420F-9597-40E50C57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52B-67FB-4030-98FF-26113FD8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223-5A15-459B-B171-70D4E29B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1FC-35E3-4A0D-A73D-34673B9D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224-CCE6-4C39-9F27-0EBF5F3C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EB9-CE89-4C5D-9CFA-A53CE0D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C04-72C5-4FFA-863B-966CED4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E94-7BC2-4CA2-AB95-5F4E5C43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6642-DEC9-46D2-84E3-62CD52C52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0:21Z</dcterms:modified>
  <cp:revision>10</cp:revision>
  <dc:subject/>
  <dc:title>Présentation PowerPoint</dc:title>
</cp:coreProperties>
</file>