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439-1AD3-4626-B241-FE5EA48C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F48-0C3A-4C89-9EE9-18090E02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319-1318-4AED-8D09-F0087DB2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94B-2CA5-46A9-B2A0-E7365D73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071-E796-4AEE-A3D9-DE955498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0EB-01B3-4143-997A-47A66D5C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1B4-705E-4AC4-8E08-4F5C1740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762-A196-43EC-B478-D25FEAE9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C6D-F07D-4962-8329-296F9982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2A2-2FBA-4B7A-9B65-09B6DFE5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B49-DB09-4293-A4C7-E308C3F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1EF-7F0B-4351-99B9-2F4B54C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4CAB-40DD-4F87-B82D-C44F2FA61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0:21Z</dcterms:modified>
  <cp:revision>10</cp:revision>
  <dc:subject/>
  <dc:title>Présentation PowerPoint</dc:title>
</cp:coreProperties>
</file>