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7AF-5F0F-44CF-8CDF-5D78CD3C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EF4-CA9F-4BED-8FBE-65637AA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C6F-75A2-4897-848D-5025AEDA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18B-756C-4578-852D-11C57EBC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287-E12C-4660-9A94-E64803C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C2A-8CBD-4757-AA32-227CE507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DF5-E14E-4E77-B55B-EA6EFCBB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C53-B074-427C-A527-693E5C7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1FA-7453-4F58-B6C2-50EB51C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2FD-E9D5-4FA9-A9C0-56AE63D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38B-AB2E-4A43-8ABF-3D04652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EE4-BD22-4149-AEF9-B5D1712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A8D-ED8F-4936-8733-E91FD458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Févr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8 au 13/02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ire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819520"/>
            <a:ext cx="304920" cy="304560"/>
          </a:xfrm>
          <a:prstGeom prst="smileyFace">
            <a:avLst>
              <a:gd name="adj" fmla="val 1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304920" cy="30456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64771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514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2767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 </cp:lastModifiedBy>
  <dcterms:modified xsi:type="dcterms:W3CDTF">2009-05-05T08:49:38Z</dcterms:modified>
  <cp:revision>7</cp:revision>
  <dc:subject/>
  <dc:title>Présentation PowerPoint</dc:title>
</cp:coreProperties>
</file>