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3DF-EAC0-4B1E-A445-6A58D6DE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64-293C-4640-9BC1-602A15A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B70-B4FE-4A56-AE00-71BDF08C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935-975C-44AA-A5F2-7C3BC20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1C8-C7D9-4F67-A3CF-65D2675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66E-3DFE-4333-9A78-09B95E1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FD1-43B8-42EF-A2E5-E2994BC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76B-2CD3-401D-9265-F4A6EA7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55B-EF9D-490E-B583-06551A1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34A-452F-4BC5-991D-3480928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81A-8F9A-483F-ADD9-4C11DDA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000-B770-41C2-9661-D68E87C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8DC9-1040-4CA1-AD3A-07364B60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bila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 principau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8:06Z</dcterms:modified>
  <cp:revision>13</cp:revision>
  <dc:subject/>
  <dc:title>Présentation PowerPoint</dc:title>
</cp:coreProperties>
</file>