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BE0-8116-4AA3-8201-67B9F53C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E9C-939E-4D08-8A31-B5B3EAEC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108-AE7D-4064-9A32-119B5D7B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E10-7185-4298-BC83-88E0CC26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96A-2C5F-4C61-A8C8-76838937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826-5CFE-49D5-85F4-C734040E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885-AE37-46AF-8E99-476EDA84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C6B-1175-4BA5-94A3-21CA8353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19B-E444-4DB3-8F10-5AC144FA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CC1-C0A4-483F-851F-36D8BD45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2C7E-AC48-46C1-A8CE-1B9E6344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5C2-D7CD-4F6A-87EF-E60267B3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FBFB-1905-4BC4-820C-AA6663B22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e 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51055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ntité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nction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itulaire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ponsable hiérarchique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uppléant en cas d’absenc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5335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te de mise à jour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6858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ssion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5181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tributions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2590920"/>
            <a:ext cx="16765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cateur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848720"/>
            <a:ext cx="6858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élégation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7:50:07Z</dcterms:created>
  <dc:creator>MADERS</dc:creator>
  <dc:description/>
  <dc:language>en-US</dc:language>
  <cp:lastModifiedBy>MADERS</cp:lastModifiedBy>
  <dcterms:modified xsi:type="dcterms:W3CDTF">2002-03-09T11:13:09Z</dcterms:modified>
  <cp:revision>5</cp:revision>
  <dc:subject/>
  <dc:title>Présentation PowerPoint</dc:title>
</cp:coreProperties>
</file>