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3DC-86F7-46B5-8D29-851A14C3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B65-9943-40C2-ABD3-FAA1B0FD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13C-B375-4987-B1AB-DADB3B3F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CCA-705D-4E0B-80B8-20BADAB6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ABA-6765-4071-8565-E7E949D8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6BC-7AEB-4CBC-94B9-AE1811A2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592-155E-4A76-B392-235AD61C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DCF-6D5F-4D51-9311-A98EB9B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FAB-7CF2-4901-A8A8-AFA09F2E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E90-A80C-4950-B4B8-B111A893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29E-EA70-476E-9544-DF6BC30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507-D3AE-416E-A083-3F5EFB12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9BFC-CDA4-4E4C-A699-A2288B1E4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0/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24:31Z</dcterms:modified>
  <cp:revision>2</cp:revision>
  <dc:subject/>
  <dc:title>Présentation PowerPoint</dc:title>
</cp:coreProperties>
</file>