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7C3-570E-4753-911E-E9158973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54F-84C1-4372-914E-C8060011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0A7-0A13-4E12-8E4A-3D4E1B45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8C3-09AC-42C4-B512-08AFA960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80C-920A-4BB3-8FE5-A7E19079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9BA-1159-409D-8240-126C182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DC9-5754-4DE5-B198-8A4261AE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EA6-D967-4E2B-BB28-B9D34EE0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B50-D9C9-4F0F-AED5-32A013A7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FEB-A0F5-4FA3-912B-E8FCE87F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87F-A51F-4B8D-81ED-8443FFF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163-1974-4737-8D8E-6625144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4AB8-82DE-4C79-AE5A-BDF1454E4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’étude d’opportun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66880"/>
            <a:ext cx="487692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tructur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Servic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dacteur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. Anto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76920" y="866880"/>
            <a:ext cx="198108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organisation du processus courrier siè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et enjeux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ation de la qualité perçue par les clients et sécurisation du process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objet du changemen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ircuits de circulation de l’information, outil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mpacts organisationnels et humai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tandards de temps, de forme et de fond, nouveau processus de traitement et spécialisation des fo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729936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Volume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e processus au détriment de la qualité technique et commerciale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642924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igence de qualit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 de réponse, exhaustivité des réponses, traçabilité et conser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eur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générale, directeurs, chefs de service et agents d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81662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ût de fonctionnement identique à ceux actuels / Investissement informatique très fa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lais de mise en œuvr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contrainte spécifique (pas d’obligation réglementai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10:05:14Z</dcterms:modified>
  <cp:revision>102</cp:revision>
  <dc:subject/>
  <dc:title>Présentation PowerPoint</dc:title>
</cp:coreProperties>
</file>