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67E-0AA6-4F2D-8DDB-504B0D7C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D7E-C917-4286-BCF7-5FF56A3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349-8DAB-486D-838D-B9718442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FE0-972D-4D80-AE93-DF8C83F9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3A9-9470-4BBF-97B8-E3A05C2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277-5E92-43FD-A8B0-F2A29E96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A95-1598-4050-8D34-7361217A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B01-BB55-4EB4-ABF2-AF2F2599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5F1-225A-4776-B60F-F0C0E8FA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0A2-A912-45CB-82A2-5B69F9F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462-D44F-42A2-9A63-CFB77145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786-E85F-47D8-AEE5-2AD8008A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6EC8-F410-4C04-A731-B435265ED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Ga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8:49Z</dcterms:modified>
  <cp:revision>104</cp:revision>
  <dc:subject/>
  <dc:title>Présentation PowerPoint</dc:title>
</cp:coreProperties>
</file>