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8BD-3272-4025-818A-E97F1B2C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C13-6D97-4146-BC30-38A33A6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E65-0683-4097-AB45-61D54890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ACD-7440-4DD2-BBE5-98773748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805-C567-48CC-929E-0AC508D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844-EAF4-4AF2-A638-2F4C5FFB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AE3-050B-4956-A799-BE68D497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9CA-258F-4F1E-8CDF-309A5D81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4AA-6DF4-49FB-AF28-6BCE4A0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62C-0545-4CAD-8E3E-3D4BEAF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9CD-4C88-4E11-8046-FF710B3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3F7-1B05-4CA9-8CB1-15DA523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CECF-AFE2-4D69-BF82-D183C1AC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1:10:45Z</dcterms:modified>
  <cp:revision>98</cp:revision>
  <dc:subject/>
  <dc:title>Présentation PowerPoint</dc:title>
</cp:coreProperties>
</file>