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61D-5989-4CD2-BB19-8266DEC3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44A-4DDC-45DD-84EA-C92EBD88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3A1-920E-4AF2-9CDA-44B08FD8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4D7C-804D-41D5-A67B-1B7220A7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0B85-11C9-4F61-A106-DC3C301E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1414-5AE7-402D-98D6-58596D0C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6E5C-8C4B-4C6A-A548-72F29123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F43-5397-48D2-B641-573FD36D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CE07-990C-4248-BCA1-36F09FCC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2E25-B68F-49FD-880F-CFC160DD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425F-C3A0-403B-A389-25BFC261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B4BC-CB00-45E6-8767-4E3BFE91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F3BC-38E5-4B8E-98A2-197258AF9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nque de Bel air – Plan d’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7010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609480"/>
            <a:ext cx="2133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04/04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pon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1371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1371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éb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77320" y="13716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0574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ttre en place le logici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Anto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2057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Pie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2057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4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20574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0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7432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édiger les lettres 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Anto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743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Pie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efs de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2743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4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27432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0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4290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édiger les procéd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Pie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34290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Anto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p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34290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4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77320" y="34290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0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1148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mer les utilisa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Pie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41148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Anto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4114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4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41148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0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8006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4800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4800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77320" y="48006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4864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5486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5486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54864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1722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10280" y="6172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61722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 </cp:lastModifiedBy>
  <dcterms:modified xsi:type="dcterms:W3CDTF">2009-05-05T08:50:57Z</dcterms:modified>
  <cp:revision>10</cp:revision>
  <dc:subject/>
  <dc:title>Présentation PowerPoint</dc:title>
</cp:coreProperties>
</file>