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B7E-88EE-42A5-BFAB-EF93B39E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052-53A7-4393-A0AD-C193CED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D23-A724-466E-812F-02BD6104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FCE-B0CA-43F4-8EC7-5EB76A72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AF6-0F4E-4D5B-890E-5EEF3C3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31D-C47B-4253-AF7F-D3AA12B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110-AFD6-45DA-98F2-8DFE332B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565-A1FC-401E-81A5-FC67E3A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B92-454F-4DAE-9936-ED37A61D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831-0B00-41EC-8517-EC9C24D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C35-ED85-4DB7-AE74-E2A59A1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030-A9D1-47CE-BA90-18FDA11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32F-E7A5-42C6-8348-3C38F38AD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7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Rectangle 1027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28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M. Pierre, chef du 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29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19/09/0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30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La banque de Bel Air reçoit plusieurs centaines de lettres de ses clients chaque jour. Personne n’a la visibilité sur ces courriers et encore moins sur les réponses qui y sont apportées… ou pas ! Ceci est grave dans un contexte de forte concurrence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31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Il serait souhaitable de réorganiser ce processus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32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ation de la qualité perçue par les clients et sécurisation du processu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33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Toutes les directions du siège sont concernées par ce processus, y compris la direction génér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4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élai de traitement et exhaustivité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5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er le processus au détriment de la qualité technique et commerciale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36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iversité des acteurs, des thèmes des courriers et nombre de courrie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7:49Z</dcterms:modified>
  <cp:revision>102</cp:revision>
  <dc:subject/>
  <dc:title>Présentation PowerPoint</dc:title>
</cp:coreProperties>
</file>