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0E42-5957-40A4-89AA-A5BACD06D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B5F2-A893-4677-BF15-8AB46B68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8E7D-20EE-4575-835A-FC3067E2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703B-7CDA-4AC1-A38F-4317C1A10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2666-C458-47AF-8FE5-27069476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73D4-3755-4DAD-AC2D-3AAEC17C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0B93-FFCB-4AB6-B48C-9CA69938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5408-A986-4FB3-9325-B05F4407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7654-9C57-4DC3-B035-F9404B64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0EA7-2C7B-4A38-8B41-50AF4D47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2354-01D9-4EAC-B223-DE50C332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F280-3E44-412B-B8D4-D73C8C2B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CAB1-8B0D-4FC6-898D-9950E8023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905760" cy="6857280"/>
            <a:chOff x="0" y="0"/>
            <a:chExt cx="9905760" cy="6857280"/>
          </a:xfrm>
        </p:grpSpPr>
        <p:sp>
          <p:nvSpPr>
            <p:cNvPr id="42" name=""/>
            <p:cNvSpPr/>
            <p:nvPr/>
          </p:nvSpPr>
          <p:spPr>
            <a:xfrm>
              <a:off x="3048120" y="202788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5160" y="2027880"/>
              <a:ext cx="18295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715360" y="2027880"/>
              <a:ext cx="3794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334120" y="202788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53240" y="202788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2719080"/>
              <a:ext cx="30481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4789440"/>
              <a:ext cx="30481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4098600"/>
              <a:ext cx="30481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407400"/>
              <a:ext cx="30481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8120" y="2719080"/>
              <a:ext cx="152316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40740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4789440"/>
              <a:ext cx="152316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409860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71640" y="2719080"/>
              <a:ext cx="3812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953240" y="271908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1640" y="4789440"/>
              <a:ext cx="3812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71640" y="409860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71640" y="340740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4120" y="271908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15360" y="2719080"/>
              <a:ext cx="3794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95160" y="2719080"/>
              <a:ext cx="18295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924680" y="2719080"/>
              <a:ext cx="19810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924680" y="4098600"/>
              <a:ext cx="19810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24680" y="3407400"/>
              <a:ext cx="19810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95160" y="3407400"/>
              <a:ext cx="18295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715360" y="3407400"/>
              <a:ext cx="3794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53240" y="340740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4120" y="340740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953240" y="409860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24680" y="4789440"/>
              <a:ext cx="19810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15360" y="4098600"/>
              <a:ext cx="3794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95160" y="4789440"/>
              <a:ext cx="18295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095160" y="4098600"/>
              <a:ext cx="18295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34120" y="478944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4120" y="409860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53240" y="478944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15360" y="4789440"/>
              <a:ext cx="3794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1185480"/>
              <a:ext cx="3048120" cy="84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A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1640" y="202788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53240" y="1185480"/>
              <a:ext cx="1141920" cy="84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95160" y="1185480"/>
              <a:ext cx="3810600" cy="383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Actions à entreprend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78120"/>
              <a:ext cx="30481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68960"/>
              <a:ext cx="30481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547812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48120" y="6168960"/>
              <a:ext cx="152316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1640" y="547812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1640" y="6168960"/>
              <a:ext cx="3812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24680" y="5478120"/>
              <a:ext cx="19810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95160" y="5478120"/>
              <a:ext cx="18295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34120" y="547812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53240" y="547812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15360" y="5478120"/>
              <a:ext cx="3794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24680" y="6168960"/>
              <a:ext cx="19810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95160" y="6168960"/>
              <a:ext cx="18295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34120" y="616896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53240" y="616896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15360" y="6168960"/>
              <a:ext cx="3794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24680" y="2027880"/>
              <a:ext cx="19810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0"/>
              <a:ext cx="9905760" cy="57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Tableau d’analyse des alé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027880"/>
              <a:ext cx="30481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48120" y="202788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1640" y="202788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3240" y="1568880"/>
              <a:ext cx="3808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34120" y="1568880"/>
              <a:ext cx="3808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5360" y="1568880"/>
              <a:ext cx="37944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1640" y="1185480"/>
              <a:ext cx="381240" cy="84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53240" y="1185480"/>
              <a:ext cx="1141920" cy="383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Impa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95160" y="1568880"/>
              <a:ext cx="182952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réven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24680" y="1568880"/>
              <a:ext cx="19810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égul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8120" y="1185480"/>
              <a:ext cx="1523160" cy="84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Alé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ossib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579960"/>
              <a:ext cx="7924680" cy="60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rojet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579960"/>
              <a:ext cx="1981080" cy="60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Date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DERS</cp:lastModifiedBy>
  <cp:lastPrinted>2000-05-11T10:17:14Z</cp:lastPrinted>
  <dcterms:modified xsi:type="dcterms:W3CDTF">2002-03-09T10:13:43Z</dcterms:modified>
  <cp:revision>99</cp:revision>
  <dc:subject/>
  <dc:title>Présentation PowerPoint</dc:title>
</cp:coreProperties>
</file>