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843-3D7B-4752-BFD4-C9BB7A7F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FE2-0801-488B-9C74-261F603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750-62F6-4491-9265-EB91C611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4CE-A58C-45A1-8BBC-7464F666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0E5-1DDC-4873-BEA6-0877661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6F9-52C9-4DE2-9EEE-1E94D74D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BDE-0F8B-40D8-B826-D60FC1AB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98A-725C-4548-BE05-E75710A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B6F-F394-445C-AE1A-07B3567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16C-36AA-4709-98CC-52F7B27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BDA-D8D5-4BBD-88C0-8FBC4D2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B3B-7291-482E-9906-7D5A73C1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F069-41C5-4099-9BE6-6AA620E1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Févr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8 au 13/02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ire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3623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2819520"/>
            <a:ext cx="304920" cy="304560"/>
          </a:xfrm>
          <a:prstGeom prst="smileyFace">
            <a:avLst>
              <a:gd name="adj" fmla="val 1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6019920"/>
            <a:ext cx="304920" cy="30456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1880" y="64771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514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32767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 </cp:lastModifiedBy>
  <dcterms:modified xsi:type="dcterms:W3CDTF">2009-05-05T08:49:38Z</dcterms:modified>
  <cp:revision>7</cp:revision>
  <dc:subject/>
  <dc:title>Présentation PowerPoint</dc:title>
</cp:coreProperties>
</file>