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E82-55EC-44F4-9DDC-A468021D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F16-FF35-44B8-9E2C-8427A5EB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0B4-5D46-4C1E-A938-99F199DA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EC3-26CA-45A3-A10C-F45D0D1A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DE0-84AE-4F79-923F-1F03853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F65-4F86-4236-8E26-C4DB52E7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311-8F3A-435A-95F9-11014E9D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1B6-48DE-4FDA-864B-901FA2D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CE2-AE46-4AE9-BCAC-172BB47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69D-387E-4BB2-8BD9-6F0F65F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ADD-2E50-4477-ACFC-E486065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535-9ACB-457A-B2B1-E3F0061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C520-52CD-456C-B850-07F4E0BC2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- 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Organisation des agences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Agence de Vu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Prévisions pour l’année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e proj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9/09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nimation, gestion et organis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uivi des engagemen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entrepris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s haut de gamm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Opérations de 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ndard téléphoni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actylographie courrie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de l’en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pièces compt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ossiers de créd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 en sous-charge chronique sauf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révoir renforts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semai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35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136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5 H/moi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137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38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39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41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’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3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44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opé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45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46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app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47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48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. par courr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49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50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51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2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53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54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doss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7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61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1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73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74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75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6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77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78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79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80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81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8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83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86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8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9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90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191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2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3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94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95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96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8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99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00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01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02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204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06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07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08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9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210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211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12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3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1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15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6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7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18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19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20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22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24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25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26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27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228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229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30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3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32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3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234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5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236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3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38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40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42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43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4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45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6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7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4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49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50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51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5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7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3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54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55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56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58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4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60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261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62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63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64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6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66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67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68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69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70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71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72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73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74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76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78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80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81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28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283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4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85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86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87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88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89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90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91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9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9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296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297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29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00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01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02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03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304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05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06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0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08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09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310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12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314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15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1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17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19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20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21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22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23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24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25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26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27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328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30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32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3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34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35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36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37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338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39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40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41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42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43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44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45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46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48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5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51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52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3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54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55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57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58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359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60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361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6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363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64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66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59:44Z</dcterms:modified>
  <cp:revision>11</cp:revision>
  <dc:subject/>
  <dc:title>Présentation PowerPoint</dc:title>
</cp:coreProperties>
</file>