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E6A9-A881-4BF6-B530-F4A640678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30B7-78F0-46F9-95A2-1A1B043B9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4741-8E1F-4F2B-B446-F089A88E8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9067-DCFE-403C-8180-B9492FD25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1B45-0722-4D45-A8A3-625A472C3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02E2-2C92-4236-A6E2-6DBA48201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D07A-F7EA-47C0-96C8-2662AC918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9AF3-0505-485A-9E72-8A6F3BE14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D1EB-5987-45E3-9F79-7F70E541D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607C-B7F7-427E-9E0E-16C45D8E4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5D61-4410-4832-895C-FB0B1EDA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06A8-672C-4C68-AA13-2225CF1A1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7FC7F-EFE3-451F-AFF2-AF16BD052C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Note de cad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838080"/>
            <a:ext cx="50292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jet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hef de proje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rigine du proje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029200" y="838080"/>
            <a:ext cx="18288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ate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2057400"/>
            <a:ext cx="6858000" cy="89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bjectifs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952720"/>
            <a:ext cx="6858000" cy="87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822840"/>
            <a:ext cx="6858000" cy="86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traintes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5559480"/>
            <a:ext cx="6858000" cy="86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esponsabilités Chef de projet 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esponsabilité équipe projet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7010280"/>
            <a:ext cx="68580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oyens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429240"/>
            <a:ext cx="6858000" cy="581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mité de pilotage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692600"/>
            <a:ext cx="6858000" cy="86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scription de l’équipe projet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8153280"/>
            <a:ext cx="6858000" cy="88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émarche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9036000"/>
            <a:ext cx="6858000" cy="87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Échéance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PM</dc:creator>
  <dc:description/>
  <dc:language>en-US</dc:language>
  <cp:lastModifiedBy>MADERS</cp:lastModifiedBy>
  <cp:lastPrinted>2000-05-11T10:17:14Z</cp:lastPrinted>
  <dcterms:modified xsi:type="dcterms:W3CDTF">2002-03-09T10:27:01Z</dcterms:modified>
  <cp:revision>103</cp:revision>
  <dc:subject/>
  <dc:title>Présentation PowerPoint</dc:title>
</cp:coreProperties>
</file>