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6EF-3B40-4A22-9E1C-89F5D377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422-73B6-4A0B-A53F-13AF6180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65E-E7DA-4636-BB99-6E082130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7CE-30EE-4BA4-AC15-97BDED19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651-F2AC-41F1-B444-85249F4B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BAA-94DD-4F35-AD58-23A2F986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99D-0A11-4942-93B7-2DB6CAC3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3F8-DA1C-4A0F-8107-2DF1C3B4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3CE-CBDC-4A6C-B521-1A707648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5A2-3CDE-4841-9339-29A7276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006-8E98-478A-B9C7-3D4620F2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3C1-2B13-4D87-9507-3336F791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B013-4C76-46BE-984A-9AA78F37E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286000"/>
            <a:ext cx="3886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4495680"/>
            <a:ext cx="239724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6095880"/>
            <a:ext cx="30193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rot="5400000">
            <a:off x="2202480" y="4848840"/>
            <a:ext cx="835200" cy="165924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2" idx="2"/>
            <a:endCxn id="44" idx="0"/>
          </p:cNvCxnSpPr>
          <p:nvPr/>
        </p:nvCxnSpPr>
        <p:spPr>
          <a:xfrm flipH="1" rot="16200000">
            <a:off x="3828960" y="4881240"/>
            <a:ext cx="835200" cy="159408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3449520" y="4038480"/>
            <a:ext cx="1764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228600" y="769608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s de trav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28T07:57:50Z</dcterms:modified>
  <cp:revision>100</cp:revision>
  <dc:subject/>
  <dc:title>Présentation PowerPoint</dc:title>
</cp:coreProperties>
</file>