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30D30-8FF7-4EC8-8EEE-DE8D75CED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74348-C0EB-487A-B50B-D9E71F5FC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38429-4B1B-45F2-BF94-4F251BB34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74905-127D-4EFE-92F5-D9C309C43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3BE20-950A-48D2-A8DC-1380AB597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78175-FDE9-4D57-B478-4B49FCB55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A9E25-E967-45A2-B5B9-31D1215DD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B9603-0A6E-414C-A727-2F4349137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088AF-08D5-4160-B0C7-CE8C7C0F0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E781F-F3C0-4560-9F8C-948F6EBBE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D0BD4-8386-48EE-81ED-DCC31D600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7CE6B-8CCF-4BD4-B348-1B9E9653B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2871B-8CC7-4D07-9801-BFD87B792ED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33"/>
          <p:cNvGrpSpPr/>
          <p:nvPr/>
        </p:nvGrpSpPr>
        <p:grpSpPr>
          <a:xfrm>
            <a:off x="-51120" y="-360"/>
            <a:ext cx="9956880" cy="6836040"/>
            <a:chOff x="-51120" y="-360"/>
            <a:chExt cx="9956880" cy="6836040"/>
          </a:xfrm>
        </p:grpSpPr>
        <p:sp>
          <p:nvSpPr>
            <p:cNvPr id="42" name="Text Box 5"/>
            <p:cNvSpPr/>
            <p:nvPr/>
          </p:nvSpPr>
          <p:spPr>
            <a:xfrm>
              <a:off x="213480" y="652680"/>
              <a:ext cx="10126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Comic Sans MS"/>
                </a:rPr>
                <a:t>Adhésion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3" name="Rectangle 6"/>
            <p:cNvSpPr/>
            <p:nvPr/>
          </p:nvSpPr>
          <p:spPr>
            <a:xfrm>
              <a:off x="-51120" y="2286000"/>
              <a:ext cx="12837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Comic Sans MS"/>
                </a:rPr>
                <a:t>Coopération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" name="Rectangle 7"/>
            <p:cNvSpPr/>
            <p:nvPr/>
          </p:nvSpPr>
          <p:spPr>
            <a:xfrm>
              <a:off x="7745040" y="4884480"/>
              <a:ext cx="2160720" cy="1630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" name="Rectangle 8"/>
            <p:cNvSpPr/>
            <p:nvPr/>
          </p:nvSpPr>
          <p:spPr>
            <a:xfrm>
              <a:off x="5584320" y="4884480"/>
              <a:ext cx="2160720" cy="1630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" name="Rectangle 9"/>
            <p:cNvSpPr/>
            <p:nvPr/>
          </p:nvSpPr>
          <p:spPr>
            <a:xfrm>
              <a:off x="1264680" y="4884480"/>
              <a:ext cx="2160720" cy="1630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Rectangle 10"/>
            <p:cNvSpPr/>
            <p:nvPr/>
          </p:nvSpPr>
          <p:spPr>
            <a:xfrm>
              <a:off x="3425400" y="4884480"/>
              <a:ext cx="2158560" cy="1630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Rectangle 11"/>
            <p:cNvSpPr/>
            <p:nvPr/>
          </p:nvSpPr>
          <p:spPr>
            <a:xfrm>
              <a:off x="7745040" y="0"/>
              <a:ext cx="2160720" cy="1627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9" name="Rectangle 12"/>
            <p:cNvSpPr/>
            <p:nvPr/>
          </p:nvSpPr>
          <p:spPr>
            <a:xfrm>
              <a:off x="7745040" y="1627560"/>
              <a:ext cx="2160720" cy="1629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" name="Rectangle 13"/>
            <p:cNvSpPr/>
            <p:nvPr/>
          </p:nvSpPr>
          <p:spPr>
            <a:xfrm>
              <a:off x="5584320" y="3256920"/>
              <a:ext cx="2160720" cy="1627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" name="Rectangle 14"/>
            <p:cNvSpPr/>
            <p:nvPr/>
          </p:nvSpPr>
          <p:spPr>
            <a:xfrm>
              <a:off x="7745040" y="3256920"/>
              <a:ext cx="2160720" cy="1627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" name="Rectangle 15"/>
            <p:cNvSpPr/>
            <p:nvPr/>
          </p:nvSpPr>
          <p:spPr>
            <a:xfrm>
              <a:off x="3425400" y="3256920"/>
              <a:ext cx="2158560" cy="1627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3" name="Rectangle 16"/>
            <p:cNvSpPr/>
            <p:nvPr/>
          </p:nvSpPr>
          <p:spPr>
            <a:xfrm>
              <a:off x="3425400" y="1627560"/>
              <a:ext cx="2158560" cy="1629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4" name="Rectangle 17"/>
            <p:cNvSpPr/>
            <p:nvPr/>
          </p:nvSpPr>
          <p:spPr>
            <a:xfrm>
              <a:off x="3425400" y="0"/>
              <a:ext cx="2158560" cy="1627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5" name="Rectangle 18"/>
            <p:cNvSpPr/>
            <p:nvPr/>
          </p:nvSpPr>
          <p:spPr>
            <a:xfrm>
              <a:off x="5584320" y="0"/>
              <a:ext cx="2160720" cy="1627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6" name="Rectangle 19"/>
            <p:cNvSpPr/>
            <p:nvPr/>
          </p:nvSpPr>
          <p:spPr>
            <a:xfrm>
              <a:off x="5584320" y="1627560"/>
              <a:ext cx="2160720" cy="1629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7" name="Rectangle 20"/>
            <p:cNvSpPr/>
            <p:nvPr/>
          </p:nvSpPr>
          <p:spPr>
            <a:xfrm>
              <a:off x="1264680" y="3256920"/>
              <a:ext cx="2160720" cy="1627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8" name="Rectangle 21"/>
            <p:cNvSpPr/>
            <p:nvPr/>
          </p:nvSpPr>
          <p:spPr>
            <a:xfrm>
              <a:off x="1264680" y="1627560"/>
              <a:ext cx="2160720" cy="1629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9" name="Rectangle 22"/>
            <p:cNvSpPr/>
            <p:nvPr/>
          </p:nvSpPr>
          <p:spPr>
            <a:xfrm>
              <a:off x="1264680" y="0"/>
              <a:ext cx="2160720" cy="1627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0" name="Line 23"/>
            <p:cNvSpPr/>
            <p:nvPr/>
          </p:nvSpPr>
          <p:spPr>
            <a:xfrm flipV="1">
              <a:off x="1264680" y="-360"/>
              <a:ext cx="8641080" cy="6515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" name="Rectangle 24"/>
            <p:cNvSpPr/>
            <p:nvPr/>
          </p:nvSpPr>
          <p:spPr>
            <a:xfrm>
              <a:off x="376200" y="3918600"/>
              <a:ext cx="8175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Comic Sans MS"/>
                </a:rPr>
                <a:t>Intérêt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2" name="Rectangle 25"/>
            <p:cNvSpPr/>
            <p:nvPr/>
          </p:nvSpPr>
          <p:spPr>
            <a:xfrm>
              <a:off x="246960" y="5551200"/>
              <a:ext cx="9745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Comic Sans MS"/>
                </a:rPr>
                <a:t>Passivité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3" name="Rectangle 26"/>
            <p:cNvSpPr/>
            <p:nvPr/>
          </p:nvSpPr>
          <p:spPr>
            <a:xfrm>
              <a:off x="1672920" y="6530760"/>
              <a:ext cx="12488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Comic Sans MS"/>
                </a:rPr>
                <a:t>Conciliation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" name="Rectangle 27"/>
            <p:cNvSpPr/>
            <p:nvPr/>
          </p:nvSpPr>
          <p:spPr>
            <a:xfrm>
              <a:off x="3959640" y="6530760"/>
              <a:ext cx="9014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Comic Sans MS"/>
                </a:rPr>
                <a:t>Critique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5" name="Rectangle 28"/>
            <p:cNvSpPr/>
            <p:nvPr/>
          </p:nvSpPr>
          <p:spPr>
            <a:xfrm>
              <a:off x="6087240" y="6530760"/>
              <a:ext cx="11635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Comic Sans MS"/>
                </a:rPr>
                <a:t>Opposition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6" name="Rectangle 29"/>
            <p:cNvSpPr/>
            <p:nvPr/>
          </p:nvSpPr>
          <p:spPr>
            <a:xfrm>
              <a:off x="8285040" y="6530760"/>
              <a:ext cx="943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Comic Sans MS"/>
                </a:rPr>
                <a:t>Hostilité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67" name="Oval 34"/>
          <p:cNvSpPr/>
          <p:nvPr/>
        </p:nvSpPr>
        <p:spPr>
          <a:xfrm>
            <a:off x="1523880" y="2819520"/>
            <a:ext cx="1752840" cy="251460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Groupe d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secrétair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Oval 35"/>
          <p:cNvSpPr/>
          <p:nvPr/>
        </p:nvSpPr>
        <p:spPr>
          <a:xfrm>
            <a:off x="2514600" y="1219320"/>
            <a:ext cx="1600200" cy="106668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Directeu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Oval 38"/>
          <p:cNvSpPr/>
          <p:nvPr/>
        </p:nvSpPr>
        <p:spPr>
          <a:xfrm>
            <a:off x="6705720" y="4267080"/>
            <a:ext cx="1600200" cy="106704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Comité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d’entrepris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Oval 39"/>
          <p:cNvSpPr/>
          <p:nvPr/>
        </p:nvSpPr>
        <p:spPr>
          <a:xfrm>
            <a:off x="3809880" y="2438280"/>
            <a:ext cx="3581640" cy="198144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Commerciaux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3657600" y="2133720"/>
            <a:ext cx="1600200" cy="106668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Informatiqu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Oval 40"/>
          <p:cNvSpPr/>
          <p:nvPr/>
        </p:nvSpPr>
        <p:spPr>
          <a:xfrm>
            <a:off x="3200400" y="4191120"/>
            <a:ext cx="2286000" cy="83808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Chefs de servic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Oval 41"/>
          <p:cNvSpPr/>
          <p:nvPr/>
        </p:nvSpPr>
        <p:spPr>
          <a:xfrm>
            <a:off x="1676520" y="5181480"/>
            <a:ext cx="2743200" cy="83844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Personnel administratif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Oval 42"/>
          <p:cNvSpPr/>
          <p:nvPr/>
        </p:nvSpPr>
        <p:spPr>
          <a:xfrm>
            <a:off x="1676520" y="304920"/>
            <a:ext cx="1752480" cy="106668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Responsabl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de la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communica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3T11:00:24Z</dcterms:created>
  <dc:creator>HPM</dc:creator>
  <dc:description/>
  <dc:language>en-US</dc:language>
  <cp:lastModifiedBy>Matthieu Montaudouin</cp:lastModifiedBy>
  <cp:lastPrinted>2000-05-11T10:17:14Z</cp:lastPrinted>
  <dcterms:modified xsi:type="dcterms:W3CDTF">2009-06-08T09:29:47Z</dcterms:modified>
  <cp:revision>98</cp:revision>
  <dc:subject/>
  <dc:title>Présentation PowerPoint</dc:title>
</cp:coreProperties>
</file>