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15B6-BD98-4903-926D-C8FBF3F7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7C99-4A88-408A-8DC2-0E45463E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0304-44A2-4E91-83D9-63D9CEB2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8CB5-2CFE-4DEF-AFBB-F5616686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CA5D-6EDD-4C87-A1E1-A740D163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D7E7-97D2-4D05-B467-9ECA45D6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BBE2-0A84-4AD5-BEEA-A2927B6F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DFD9-45BD-4214-9AE7-1AD80C4F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73DE-28B5-4B11-BA69-7B6F7DF7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28FC-3972-4FE4-872F-A5601F90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4CB-A634-407F-AF13-05E6307C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EE84-F99E-4224-BA8C-D81C3ADF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738E-7863-4379-B870-3CA31D52D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te-rendu de réun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5105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60948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éunion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articipant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xcusés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97180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rdre du jour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0592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chaine réunion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648320"/>
            <a:ext cx="68580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ésumé des points traité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DERS</cp:lastModifiedBy>
  <dcterms:modified xsi:type="dcterms:W3CDTF">2002-03-09T10:37:52Z</dcterms:modified>
  <cp:revision>10</cp:revision>
  <dc:subject/>
  <dc:title>Présentation PowerPoint</dc:title>
</cp:coreProperties>
</file>