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1E4-5B39-4721-91CF-894B14DC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F9D-BF42-4818-8342-FDA4B891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EBC-3315-4443-B5F1-0D85D92A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810-FC5B-4B37-BF44-56030534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FF9-93AB-4914-8BD4-D34467E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D9F-3894-48D1-9D78-1D2E045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C1C-6B53-4EE7-8614-4B0D9608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6E4-CE69-4AF2-930E-56C1325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7FB-2D20-446D-9957-B12E05D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2E9-52AE-4EBE-AEF1-A8F4A81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9F7-05FB-4F40-951D-2E406DF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289-64CE-450A-AAB3-27B8371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843D-B3E0-4BD2-82F4-C9202FAD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MADERS</cp:lastModifiedBy>
  <dcterms:modified xsi:type="dcterms:W3CDTF">2002-03-09T10:25:50Z</dcterms:modified>
  <cp:revision>6</cp:revision>
  <dc:subject/>
  <dc:title>Présentation PowerPoint</dc:title>
</cp:coreProperties>
</file>