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1A4-4A25-4D76-80D9-B84610BB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C4A-4677-4E07-A235-8DB624D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987-49DA-4D6A-A1BF-398CB189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0BB-42DA-4E43-9EFC-9EEE4974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B52-99C4-4B08-855D-5AF7209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887-D067-4512-948F-0311DDA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BF0-3AFE-4C8C-818D-7079D86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DA5-0271-4ACB-B491-8FDD63F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0A3-1D94-4851-AB85-0673DEE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B68-51A9-4852-86B1-E901B7B5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D68-53B0-48AB-A84A-9432770B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A93-A752-4F74-93E5-C9F322F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EE8-0351-4D28-AF31-3A6B5366B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8168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981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981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352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526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384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038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724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724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10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410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0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5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95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6095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8:08:27Z</dcterms:modified>
  <cp:revision>10</cp:revision>
  <dc:subject/>
  <dc:title>Présentation PowerPoint</dc:title>
</cp:coreProperties>
</file>