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23B-108A-4D6C-B795-82C08651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96E-ED22-46A5-84DA-537E9FE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87D-F77B-4B56-B5B9-81A992DB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E40-C498-49D1-A990-67C48058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8D9-D42A-44B4-8283-78436FDE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CB4-CB7F-44A7-B69C-6DCC621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3E9-77DD-4026-8C85-A3E41720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7E6-3144-447B-B594-6B68766C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A9E-F4FD-4124-B7BD-1455BECB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D62-3C8E-4820-B590-CD46C85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7A0-B4DD-45C1-B2F3-FE34060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30C-3E27-4D46-9526-1CBD4F2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4F8-874A-4F36-9A87-E700EA32F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rvice Formation / Service Comptabilité Fourniss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Jean-François, Directeur de la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u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4/07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rantir aux fournisseurs de la formation (organismes de formations, hôtels, restaurants, compagnie de transport…) le règlement de leurs factures à la date prévue dans le contrat signé avec eu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cevoir les documents comptables suffisamment tôt pour procéder aux contrôles obligatoires et à l’établissement des règl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 s’engage à fournir au service comptabilité fournisseurs les documents suivants : copie du contrat passé avec le fournisseur précisant la date de règlement dès la signature de celui-ci + original de la facture fournisseur dès réception et au plus tard une semaine avant la date du règleme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 s’engage à effectuer un virement correspondant au montant de la facture le jour précisé sur le contr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contrats adressés par le service formation plus d’un mois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adressées par le service formation plus d’une semaine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réglées dans les délais par le service règlement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arlow Solid Italic"/>
              </a:rPr>
              <a:t>Jean-Franço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Harlow Solid Italic"/>
              </a:rPr>
              <a:t>Oliv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33:33Z</dcterms:modified>
  <cp:revision>5</cp:revision>
  <dc:subject/>
  <dc:title>Présentation PowerPoint</dc:title>
</cp:coreProperties>
</file>