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ABD-7798-45DF-94E4-627DFE46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8A3-4C41-49AD-AE2D-71BF214F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E01-4758-4D7D-B78A-AA576738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933-F79C-4F93-AA21-AF537153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446-3EDA-42F7-945C-6597548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B5F-0C18-4D52-86B4-108AB1A2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E95-A0C1-45A0-B6FF-101D7B1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321-F0F2-4CCE-93CC-EABA578C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FC2-6064-47B2-8273-ADB2EE4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424-4C10-4BBC-9899-EEB6548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BF0-F635-494B-8BF7-DE6CC7E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9D7-E435-4FF6-B1E6-B52C5707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5CC-D687-4422-92B4-AAAAA2325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Tableau Gan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34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65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9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93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07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221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235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249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263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77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282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/Compléter l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83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84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85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86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87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88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89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90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91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Yoa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94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95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6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97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298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99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00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01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02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03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04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05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06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07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08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09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10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11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12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14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15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16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17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18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19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20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21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22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23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24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25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26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27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28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29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30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31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32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33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34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35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36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37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38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39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40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41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42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3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44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45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46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47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48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9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0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51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52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53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54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55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56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57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58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59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60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61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62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63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64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65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66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67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68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69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70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71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72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73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74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75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76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77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78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79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0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81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82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83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84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85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86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87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88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89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90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91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2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93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394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95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396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97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98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99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00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01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02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03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04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05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06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07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08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09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10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11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12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13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15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6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17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18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19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20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21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22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23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24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25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26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27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28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29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30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31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32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3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34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35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36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37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38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39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40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41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42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43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44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45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46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47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48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49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50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51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53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Févri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54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55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456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57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458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59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460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461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62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463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464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65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66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67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68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9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70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471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72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73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r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74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475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76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77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478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79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80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81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482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83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84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85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86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487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88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89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90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91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92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93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vri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94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95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96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97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498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499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00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01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02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03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04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05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06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07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08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09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10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11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12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13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i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14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15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16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17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18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19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20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21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22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23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24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25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26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27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28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529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530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531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32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533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Jui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534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535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536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37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538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39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540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541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542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543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44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545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546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47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548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549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50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51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552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53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573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574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575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76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77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578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79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580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81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82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583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84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585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586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587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88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89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590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91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8:29Z</dcterms:modified>
  <cp:revision>104</cp:revision>
  <dc:subject/>
  <dc:title>Présentation PowerPoint</dc:title>
</cp:coreProperties>
</file>