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F84-6CAB-4E20-89D8-CCF8A98A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A32-80AB-4215-A538-9819DB7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84F-2AF2-4C01-B71E-0633E045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40D-7EA9-4D95-9DE2-199A0E80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8B3-240D-4298-AC4A-BF450D8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8E8-8067-4F6F-BF13-9339076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BC3-2D52-4D19-982E-A48FEAA9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874-21E1-4CFD-A00B-9B247785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396-6D2A-4267-B581-D3E1D03E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058-23E3-46CD-AF30-DD33B14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7BC-24EF-4A46-A38B-AABEEE4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B00-1114-4653-BAC7-F2B586A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E4CF-BAE3-43F8-9B59-32C4A31CC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bilan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3/1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 et M. Antoine, Organisate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ibuteurs principaux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 Secrétaires de service et experts (informatique, commercial, juridiq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a qualité des réponses aux courriers des clients (fond et déla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rantir l’exhaustivité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sposer d’une traçabilité dans la rédaction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er les lettres et l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sous contrôle du processus (délais, exhaustivité, traçabilité, mémoris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en place d’une bibliothèque permettant des réponses de meilleure qualité (fond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stimation un peu juste de la durée nécessaire pour rédiger les nombreuses lettres et paragraphes typ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écessité de formation des secrétaires à l’utilisation d’une base de données +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ploiement de la solution sur l’ensemble des secrétariats du siège terminée fin septembre 2009 au lieu de fin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temps nécessaire pour concevoir et valider des documents de travail en group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nécessaire accompagnement des personnes dans le cas de mise en œuvre de technologies nouvelles (base de donnée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09:39:21Z</dcterms:modified>
  <cp:revision>14</cp:revision>
  <dc:subject/>
  <dc:title>Présentation PowerPoint</dc:title>
</cp:coreProperties>
</file>