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9D8-AD92-4084-A6BE-AFFF20C3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B46-DEAA-4BA8-A8F8-002D8F30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AAA-2514-42EB-994B-55B17558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060-C7A6-4C79-A102-C3D9C82F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941-9E30-425F-8B51-599D459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833-778A-4814-A985-80CF81BA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391-F58E-420A-8862-FC8475E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034-C072-45D3-BCC0-F1A89B7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165-A8AA-4A53-80FC-2A3B9C6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6F6-8C44-4FF1-975B-24DEA6B7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200-8693-4617-AD3B-8F5E508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C10-BB2C-4669-8125-178CDA0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50C-6EA5-4401-9F14-79E9CACF5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9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Plan de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de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09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10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11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12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13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14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15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16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17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18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19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20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21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22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323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biliser pou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24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tretie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325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u service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26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27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328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t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329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30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1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32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onnel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33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ntrer les avantages de la nouvell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34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 mensuel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35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eur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36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37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38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39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40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41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42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43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44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former de l’av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45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Journal in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46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de la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47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e fois par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50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09Z</dcterms:modified>
  <cp:revision>100</cp:revision>
  <dc:subject/>
  <dc:title>Présentation PowerPoint</dc:title>
</cp:coreProperties>
</file>