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CB8-D9D0-4F5F-B3FE-4D60738D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13E-9BB4-4F76-B475-DFB0165C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E59-579E-4B93-8DEF-F01196C6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3CA-E685-4FA3-BB8D-9EFD0241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323-E3EA-4D5A-83C1-F8BD9EE9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C21-0AB3-4B5D-9422-915377B4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DD8-633F-4E66-A7E0-63669414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C54-D4DC-4809-92F8-F50043B1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583-997D-4466-AA3D-B9A02C16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C1E-7BFE-4BA5-8504-1A8D215D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36E-0799-44B7-9209-42B85455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AA5-32F2-459C-8155-C36F9BC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9AC8-0493-4BE3-8DE9-AF004D239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DERS</cp:lastModifiedBy>
  <dcterms:modified xsi:type="dcterms:W3CDTF">2002-03-09T11:04:46Z</dcterms:modified>
  <cp:revision>4</cp:revision>
  <dc:subject/>
  <dc:title>Présentation PowerPoint</dc:title>
</cp:coreProperties>
</file>