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4BF-47E9-4625-A8D8-B80AB506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174-3AEE-4AFA-AC1F-91909C06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D92-9DD5-498E-A3ED-800EE6F0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227-05A2-4601-BED6-62A086DB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933-BEAF-4347-8898-FA2B0BAA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83F-6DEB-4478-9008-9AC85162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E12-4CE9-454F-B38D-F588DE94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1CE-2F44-4A9B-880E-9D83D5EC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DDB-1684-414C-A96D-D59AE300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641-EABA-420F-966D-A641A629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5FA-C751-4391-BEB6-E3BDC586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A70-3C92-4279-8B8C-965A7236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1BE5-40DA-47B1-92F7-8DF3B8844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Dossier d’étude d’opportun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866880"/>
            <a:ext cx="4876920" cy="11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tructur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Service 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dacteur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M. Anto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876920" y="866880"/>
            <a:ext cx="1981080" cy="11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04/0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organisation du processus courrier sièg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et enjeux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ation de la qualité perçue par les clients et sécurisation du process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cription de l’objet du changemen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ircuits de circulation de l’information, outil de 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mpacts organisationnels et humai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tandards de temps, de forme et de fond, nouveau processus de traitement et spécialisation des fo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729936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Volumes prévu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er le processus au détriment de la qualité technique et commerciale des répon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642924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igence de qualité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 de réponse, exhaustivité des réponses, traçabilité et conser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cteur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ion générale, directeurs, chefs de service et agents du siè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81662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s prévu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ût de fonctionnement identique à ceux actuels / Investissement informatique très fai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lais de mise en œuvr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contrainte spécifique (pas d’obligation réglementai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10:05:14Z</dcterms:modified>
  <cp:revision>102</cp:revision>
  <dc:subject/>
  <dc:title>Présentation PowerPoint</dc:title>
</cp:coreProperties>
</file>