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F228-E99F-46AF-919E-E7489623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DF85-3457-487F-9A07-85297516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50E3-E7B4-4CAF-A689-7ADCFC42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F10A-C5FC-47CD-8DB8-D9FF35FB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937B-179A-4EC3-92AB-AC95613C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10FC-B844-4483-9793-D74D9ED2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CC7D-351E-4D0E-AA32-5A6C1F1B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DC64-4277-458D-934E-D3F18D5A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11CB-72ED-46BF-B831-C7B280ED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77AA-6A9B-440C-A99B-9F67777F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414D-BEA2-43EF-A2BD-9B12B093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7F7E-1C30-4C6A-8305-968ADAA0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294B-33AD-4644-BBEB-D12953AB74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3880" y="2286000"/>
            <a:ext cx="38102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omité de pilotag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. François, Directeur généra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Brigitte, Directeur financier et du SI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Alice, Directeur des engagemen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Pauline, Directeur commercial et qualité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Fannie, Directeur opérations bancair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Nicole, DR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30560" y="4495680"/>
            <a:ext cx="2396880" cy="76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. Yoha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28600" y="6095880"/>
            <a:ext cx="31240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Équipe proje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. Pierre, Chef du service courrie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. Antoine, Organisateu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3533760" y="6095880"/>
            <a:ext cx="3095640" cy="127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orrespondan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Anaïs, Chef du service marketin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Audrey, Chef du service informatiqu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Alexandra, Responsable communi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me Alice, Contrôleur de ges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5" name="AutoShape 7"/>
          <p:cNvCxnSpPr>
            <a:stCxn id="42" idx="2"/>
            <a:endCxn id="43" idx="0"/>
          </p:cNvCxnSpPr>
          <p:nvPr/>
        </p:nvCxnSpPr>
        <p:spPr>
          <a:xfrm rot="5400000">
            <a:off x="2192040" y="4859280"/>
            <a:ext cx="835200" cy="1638720"/>
          </a:xfrm>
          <a:prstGeom prst="bentConnector3">
            <a:avLst>
              <a:gd name="adj1" fmla="val 49978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6" name="AutoShape 8"/>
          <p:cNvCxnSpPr>
            <a:stCxn id="42" idx="2"/>
            <a:endCxn id="44" idx="0"/>
          </p:cNvCxnSpPr>
          <p:nvPr/>
        </p:nvCxnSpPr>
        <p:spPr>
          <a:xfrm flipH="1" rot="16200000">
            <a:off x="3837960" y="4852080"/>
            <a:ext cx="835200" cy="1652760"/>
          </a:xfrm>
          <a:prstGeom prst="bentConnector3">
            <a:avLst>
              <a:gd name="adj1" fmla="val 50021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47" name="AutoShape 9"/>
          <p:cNvCxnSpPr>
            <a:stCxn id="41" idx="2"/>
            <a:endCxn id="42" idx="0"/>
          </p:cNvCxnSpPr>
          <p:nvPr/>
        </p:nvCxnSpPr>
        <p:spPr>
          <a:xfrm>
            <a:off x="3429000" y="4038480"/>
            <a:ext cx="360" cy="4575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8" name="Rectangle 10"/>
          <p:cNvSpPr/>
          <p:nvPr/>
        </p:nvSpPr>
        <p:spPr>
          <a:xfrm>
            <a:off x="228600" y="7696080"/>
            <a:ext cx="3124080" cy="77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Groupe de travai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La secrétaire du DG et les secrétaires de direction et de servic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9" name="AutoShape 11"/>
          <p:cNvCxnSpPr>
            <a:stCxn id="43" idx="2"/>
            <a:endCxn id="48" idx="0"/>
          </p:cNvCxnSpPr>
          <p:nvPr/>
        </p:nvCxnSpPr>
        <p:spPr>
          <a:xfrm>
            <a:off x="1790640" y="6934320"/>
            <a:ext cx="360" cy="762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55:38Z</dcterms:modified>
  <cp:revision>101</cp:revision>
  <dc:subject/>
  <dc:title>Présentation PowerPoint</dc:title>
</cp:coreProperties>
</file>