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CAB-EB20-4545-B4FE-6742D602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3154-B278-4020-BE21-E3207141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4F41-7FC1-4894-96D2-2101397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CED-1FD9-4040-AD35-4BAD7377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B2A4-5240-4E4D-B292-33F3E3F0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990-D534-4F7A-84A9-ECE5E881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523-3CA2-42BD-B60F-E2A8C451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AF7-3351-4033-BB45-B6222FF8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1C4-CD3D-48A3-8EED-55BD055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D452-98C0-4DDB-8A82-2B204C51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EB5-B27A-49A0-A0EC-D71933D2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D2F-26AF-4ADF-BC4F-39461302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00FA-D748-4239-84E6-9AB367BF0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MADERS</cp:lastModifiedBy>
  <dcterms:modified xsi:type="dcterms:W3CDTF">2002-03-09T10:25:50Z</dcterms:modified>
  <cp:revision>6</cp:revision>
  <dc:subject/>
  <dc:title>Présentation PowerPoint</dc:title>
</cp:coreProperties>
</file>