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D08-3DDB-4BEF-9919-9127BBEB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A92-0962-40DC-9B04-E5007B49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538-F39E-40CC-A9D7-07B933FB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FCE-140B-493C-B843-E0AD457D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D34-12D0-431C-83FA-62BC526A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D0B-2702-4901-A88C-BECB4191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64B-EA19-4C86-A5CC-74A4FABA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242-D668-46F1-BDCE-D8CF1CFE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863C-9486-489B-8009-4ECC62AA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81B-FD98-405D-9FEE-35B12409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40F-FE9B-455E-B433-1A304989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C62-7FB7-41DF-A1D8-6E17C1C6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C24D-75B6-428B-B707-2EC26CF38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28/0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Évaluation des délais de traitement d’un échantillon de 100 lettres sur les 15 premiers jours du mois de février 2009 (Norme : 3 jours ouvr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M. Antoine, Organ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15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1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2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03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04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05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06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7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8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9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0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14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15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6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7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8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9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0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1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22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3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4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5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26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27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28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31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2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33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4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5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6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7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38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1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42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3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4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5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46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7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8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51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2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53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54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5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56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7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8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61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2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3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64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65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66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67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8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1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72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73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74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5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76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7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8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1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2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3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84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85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86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7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8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91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2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3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4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5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96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97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98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11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12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3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14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5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16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17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18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9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0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21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2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23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24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8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9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0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31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32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33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34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35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6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37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38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39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40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1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42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43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44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5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6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47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8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49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50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51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5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6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7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8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59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60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61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62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63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4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65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6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7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8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69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70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1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72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3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74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5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76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77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8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79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80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81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82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83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84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85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86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87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88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9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0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91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2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93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94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95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96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97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98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99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00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1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12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13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4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15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16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17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18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19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20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2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2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2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2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2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2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2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2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2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31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32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33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34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35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36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7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8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39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40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41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42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43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44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5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46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47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48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49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50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1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2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53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54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5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6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57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58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59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60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61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62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3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64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65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6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67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68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69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7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71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72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3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74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75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76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77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78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79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8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81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82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83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84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85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6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87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88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89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90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91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2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93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94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95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96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7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8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99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00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0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0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0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0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0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0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0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0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1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21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33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2 et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34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39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40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41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42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43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44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45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46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47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48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9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0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1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52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53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4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56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57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58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ortes variations des performances autour de la norme de délai de 3 jours ouvr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aible variation de l’étendue par rapport à ses seuils minimum de 2 et maximum d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9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0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2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3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64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5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66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9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0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1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72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3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74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75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76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87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88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89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90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91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92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93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94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95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96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97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98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99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0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01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02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0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0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0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0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0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1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1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1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13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14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5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16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17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18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19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20"/>
          <p:cNvSpPr/>
          <p:nvPr/>
        </p:nvSpPr>
        <p:spPr>
          <a:xfrm>
            <a:off x="-685800" y="5029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21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22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23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24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25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726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27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28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29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30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31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32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33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4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35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36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37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38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39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40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41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42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4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4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4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4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4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4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5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5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5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53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54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55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56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57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58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59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60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61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62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63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6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6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6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6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6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6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7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7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7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7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74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75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76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77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78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79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80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81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82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3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84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85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86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87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88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89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790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91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92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93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94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95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6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97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98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99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00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01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02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03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0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0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0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0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0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1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1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1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14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15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16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17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18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19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20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21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22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23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24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25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2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2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2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3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3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3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83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3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3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36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37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38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39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840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41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42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43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44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45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46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47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48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9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0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51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52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53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54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5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56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57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58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59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60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61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62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63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64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65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6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6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6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6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7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7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7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7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7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7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76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877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78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879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80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81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882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83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84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85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6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8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8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8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9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89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9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9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9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9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9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97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98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99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00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01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02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903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04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905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06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07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08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09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10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11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12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913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14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15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6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7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18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19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20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21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22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23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24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25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26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2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92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2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3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93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3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3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3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3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93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37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38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39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40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41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42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43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44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45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946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947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48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49"/>
          <p:cNvSpPr/>
          <p:nvPr/>
        </p:nvSpPr>
        <p:spPr>
          <a:xfrm>
            <a:off x="167652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50"/>
          <p:cNvSpPr/>
          <p:nvPr/>
        </p:nvSpPr>
        <p:spPr>
          <a:xfrm>
            <a:off x="2057400" y="24382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51"/>
          <p:cNvSpPr/>
          <p:nvPr/>
        </p:nvSpPr>
        <p:spPr>
          <a:xfrm flipV="1">
            <a:off x="2514600" y="2438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54"/>
          <p:cNvSpPr/>
          <p:nvPr/>
        </p:nvSpPr>
        <p:spPr>
          <a:xfrm>
            <a:off x="3657600" y="21337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55"/>
          <p:cNvSpPr/>
          <p:nvPr/>
        </p:nvSpPr>
        <p:spPr>
          <a:xfrm flipV="1">
            <a:off x="4038480" y="22856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956"/>
          <p:cNvSpPr/>
          <p:nvPr/>
        </p:nvSpPr>
        <p:spPr>
          <a:xfrm>
            <a:off x="4419720" y="2286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57"/>
          <p:cNvSpPr/>
          <p:nvPr/>
        </p:nvSpPr>
        <p:spPr>
          <a:xfrm flipV="1">
            <a:off x="4724280" y="21333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58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959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60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61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962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63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964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965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966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67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968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6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7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7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7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7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7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97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97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7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7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97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8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98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8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98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8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98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8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8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8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90"/>
          <p:cNvSpPr/>
          <p:nvPr/>
        </p:nvSpPr>
        <p:spPr>
          <a:xfrm flipV="1">
            <a:off x="281952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91"/>
          <p:cNvSpPr/>
          <p:nvPr/>
        </p:nvSpPr>
        <p:spPr>
          <a:xfrm>
            <a:off x="3276720" y="19810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92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93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94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95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96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97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98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99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00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01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0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00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0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0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0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0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0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0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01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01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1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01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1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01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1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1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01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01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2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022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3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24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25"/>
          <p:cNvSpPr/>
          <p:nvPr/>
        </p:nvSpPr>
        <p:spPr>
          <a:xfrm>
            <a:off x="2514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26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27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28"/>
          <p:cNvSpPr/>
          <p:nvPr/>
        </p:nvSpPr>
        <p:spPr>
          <a:xfrm>
            <a:off x="3657600" y="39625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29"/>
          <p:cNvSpPr/>
          <p:nvPr/>
        </p:nvSpPr>
        <p:spPr>
          <a:xfrm flipV="1">
            <a:off x="4038480" y="39621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0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31"/>
          <p:cNvSpPr/>
          <p:nvPr/>
        </p:nvSpPr>
        <p:spPr>
          <a:xfrm flipV="1">
            <a:off x="4876920" y="38098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tthieu Montaudouin</cp:lastModifiedBy>
  <dcterms:modified xsi:type="dcterms:W3CDTF">2009-06-08T10:03:41Z</dcterms:modified>
  <cp:revision>10</cp:revision>
  <dc:subject/>
  <dc:title>Présentation PowerPoint</dc:title>
</cp:coreProperties>
</file>