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DCA0-3325-4F91-BE87-42378D32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7FF1-F4E6-4C40-83FE-23B1A7A1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4E35-4EEC-4224-957E-EF83E7A0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DF9E-4128-458A-B056-77CA65AF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0ED3-8303-404D-A7CC-117BB8EA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2036-1AAF-4FE0-AF13-92D6C5AE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9192-339E-47C3-85E1-BB8DA73A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76F6-706B-4310-90B4-8FA12920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662C-F3EC-4B09-9DCE-EE25AE15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7E71-D31D-49C9-8F5F-70B0FA4A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CA88-4A95-40F2-82A6-2C742DD5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64CF-792B-4853-8FE5-34FFBA95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5656-F90A-4F09-97CD-5B568C1F33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3880" y="2286000"/>
            <a:ext cx="38102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omité de pilotag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. François, Directeur généra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Brigitte, Directeur financier et du SI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Alice, Directeur des engagemen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Pauline, Directeur commercial et qualité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Fannie, Directeur opérations bancair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Nicole, DR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30560" y="4495680"/>
            <a:ext cx="2396880" cy="7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hef de proje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. Yoha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28600" y="6095880"/>
            <a:ext cx="31240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Équipe proje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. Pierre, Chef du service courrie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. Antoine, Organisateu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3533760" y="6095880"/>
            <a:ext cx="3095640" cy="127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orrespondan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Anaïs, Chef du service marketin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Audrey, Chef du service informatiqu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Alexandra, Responsable communi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Alice, Contrôleur de ges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5" name="AutoShape 7"/>
          <p:cNvCxnSpPr>
            <a:stCxn id="42" idx="2"/>
            <a:endCxn id="43" idx="0"/>
          </p:cNvCxnSpPr>
          <p:nvPr/>
        </p:nvCxnSpPr>
        <p:spPr>
          <a:xfrm rot="5400000">
            <a:off x="2192040" y="4859280"/>
            <a:ext cx="835200" cy="1638720"/>
          </a:xfrm>
          <a:prstGeom prst="bentConnector3">
            <a:avLst>
              <a:gd name="adj1" fmla="val 4997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6" name="AutoShape 8"/>
          <p:cNvCxnSpPr>
            <a:stCxn id="42" idx="2"/>
            <a:endCxn id="44" idx="0"/>
          </p:cNvCxnSpPr>
          <p:nvPr/>
        </p:nvCxnSpPr>
        <p:spPr>
          <a:xfrm flipH="1" rot="16200000">
            <a:off x="3837960" y="4852080"/>
            <a:ext cx="835200" cy="1652760"/>
          </a:xfrm>
          <a:prstGeom prst="bentConnector3">
            <a:avLst>
              <a:gd name="adj1" fmla="val 50021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7" name="AutoShape 9"/>
          <p:cNvCxnSpPr>
            <a:stCxn id="41" idx="2"/>
            <a:endCxn id="42" idx="0"/>
          </p:cNvCxnSpPr>
          <p:nvPr/>
        </p:nvCxnSpPr>
        <p:spPr>
          <a:xfrm>
            <a:off x="3429000" y="4038480"/>
            <a:ext cx="360" cy="457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" name="Rectangle 10"/>
          <p:cNvSpPr/>
          <p:nvPr/>
        </p:nvSpPr>
        <p:spPr>
          <a:xfrm>
            <a:off x="228600" y="7696080"/>
            <a:ext cx="312408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Groupe de travai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La secrétaire du DG et les secrétaires de direction et de servic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9" name="AutoShape 11"/>
          <p:cNvCxnSpPr>
            <a:stCxn id="43" idx="2"/>
            <a:endCxn id="48" idx="0"/>
          </p:cNvCxnSpPr>
          <p:nvPr/>
        </p:nvCxnSpPr>
        <p:spPr>
          <a:xfrm>
            <a:off x="1790640" y="6934320"/>
            <a:ext cx="360" cy="76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55:38Z</dcterms:modified>
  <cp:revision>101</cp:revision>
  <dc:subject/>
  <dc:title>Présentation PowerPoint</dc:title>
</cp:coreProperties>
</file>