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FA8-26CC-4331-B1AE-52A6EB00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26A-032B-4E95-AB5E-C437B882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865-F950-4146-BFD1-3982BAF1E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064-3885-4631-9138-ED3DC40A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290-F61E-4287-B849-2F7D8E83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10A-01A2-4DE6-9AF2-741DC447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42DF-92FB-4F42-9279-D271E90E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3CE2-800E-47B0-9EFB-2DCBC43A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4A0-491C-4599-BF36-7D061B47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7F3-607B-4FE9-8A08-2294E9CA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A88-70E6-4621-8CC0-A5F5983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6A7-8E22-480F-B83F-C2858BB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9A6A-AE00-4468-A367-9BC6232630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fo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533520"/>
            <a:ext cx="51055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tité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Agence de particuli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nction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Directeur d’ag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itulair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Anthony, agence de Biarrit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esponsable hiérarchiqu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. Jean-Lou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uppléant en cas d’absenc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Mme Christiane (adjoint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533520"/>
            <a:ext cx="17524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de mise à jour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04/03/0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676520"/>
            <a:ext cx="6858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Miss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er, gérer et organiser une équipe (Manageme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 CA de l’agence sur sa zone (Commercial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er la banque sur la zone (Imag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90920"/>
            <a:ext cx="5181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ttributions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orm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xer les objectifs et évaluer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partir le travail entre les collaborat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érer le planning des congé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ivre la consommation des budg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ptimiser l’utilisation des ressour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pôts et éparg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’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Ouvrir de nouveaux comp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idéliser les cli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réd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Favoriser le crédit immobili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urveiller les risq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présent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éaliser des actions de sponsoring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Être présent dans les salons et foires loca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r les relations avec les notables de la z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5181480" y="2590920"/>
            <a:ext cx="167652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réun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jours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entretie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gré polyval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aux couver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% épargne long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comptes tot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’a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de prése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b rel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0" y="7848720"/>
            <a:ext cx="68580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élégation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ngagements : prêt habitat &lt; 250 000 €, prêt consommation &lt; 10 000 €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Extournes de frais : 10 000 € / 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7:50:07Z</dcterms:created>
  <dc:creator>MADERS</dc:creator>
  <dc:description/>
  <dc:language>en-US</dc:language>
  <cp:lastModifiedBy>Matthieu Montaudouin</cp:lastModifiedBy>
  <dcterms:modified xsi:type="dcterms:W3CDTF">2009-06-08T09:42:34Z</dcterms:modified>
  <cp:revision>6</cp:revision>
  <dc:subject/>
  <dc:title>Présentation PowerPoint</dc:title>
</cp:coreProperties>
</file>