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923-7B30-4532-B9AA-7E1EFD4A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6238-74A5-45C7-9E89-8A61B9F5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79A-F7DC-4DA4-B382-E3E18C32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C24E-BBA3-4B35-B5CD-32C630D9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143-7B38-4F72-AA3A-B05DAF0B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041-C4B7-46C5-A58E-375E9DC1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88D-AD34-4B1F-8829-911CF868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12E-2047-4DF6-8B86-A0A68D7C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D25-5B96-47F2-B892-9FE88634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391F-FAFC-430E-9BE0-883D679F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FC7-34D9-4703-B169-2C3C0AC7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9F1-873E-410D-97A1-4CE8A98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0013-3884-4041-AFBB-D65FDED90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DERS</cp:lastModifiedBy>
  <dcterms:modified xsi:type="dcterms:W3CDTF">2002-03-09T11:04:46Z</dcterms:modified>
  <cp:revision>4</cp:revision>
  <dc:subject/>
  <dc:title>Présentation PowerPoint</dc:title>
</cp:coreProperties>
</file>