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096-441C-48FC-8898-3E16967A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83D-0A37-415D-B7AE-CEB1FA59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B80-7321-4408-9DBA-3DDCB324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6214-341D-44E0-BF53-7E694044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1D9-5BD1-4BE1-BCD6-C164A8DB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007-BB4C-4954-B5C5-27890962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E3B-77B8-4687-B98C-09F68B93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269-F1E1-4372-9938-F96F3E91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DA70-5ACD-4B15-9577-B7612D9F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DB2-5CBC-41A6-84B0-CA172EAE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3A1-C55A-40BA-8CE4-A86BF7CC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79E-A41F-4BDE-A604-127C2154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AD2C-920C-4A89-9818-AEB0FFC1D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relevé de dé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68580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cision à prend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vantag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convénient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685800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servations des participant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53452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cis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3:18Z</dcterms:modified>
  <cp:revision>9</cp:revision>
  <dc:subject/>
  <dc:title>Présentation PowerPoint</dc:title>
</cp:coreProperties>
</file>