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A0E-BEF6-4D07-AF0A-60935318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CB8E-88E1-40D5-96AF-71B3449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77C-4A49-44BC-AED4-C21FA040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6E7-6642-411A-A2F5-776F2DB9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7574-08EE-4B20-BDC9-2600DDB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EFC-F2D5-4829-8591-AA12B509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5DC-7ABE-4564-9317-D318029E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CBC-1284-4415-9F13-FAF23658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0B4-6631-49DC-BD93-8D932DF0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E2F-1589-4C55-A0F3-8E73AE54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25B-5659-4331-B14B-34CE6945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8B7-33EC-4BE8-B44E-2D584E7A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F8F1-1C37-4A5E-BB5E-94F42F77B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 de cad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7:01Z</dcterms:modified>
  <cp:revision>103</cp:revision>
  <dc:subject/>
  <dc:title>Présentation PowerPoint</dc:title>
</cp:coreProperties>
</file>