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65AC-D0CE-48CE-9583-DA02EA39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6C7C-3D21-473C-9494-763C3CDB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CA4-798A-4BA4-A8A6-634A4F7E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8E8-B494-4DEC-B7B1-2E3CA180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8F0D-ADDA-45EA-96D1-4763414D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B3F-3172-48F6-99C4-F393525B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749-F8B8-475D-B6FC-182263DF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109-99D2-4CE1-98CA-458DB795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0FA-4908-4FCD-B7EE-B7E4B444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51D-6343-4166-9FF6-52434913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20A-DB1F-4B2F-8F30-988CA9FD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BBA-4D93-4758-9AF6-480EE43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55A0-B1F1-49C3-8254-6F7D6EE3E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6480"/>
            <a:ext cx="2730600" cy="1060200"/>
            <a:chOff x="7920" y="6480"/>
            <a:chExt cx="2730600" cy="1060200"/>
          </a:xfrm>
        </p:grpSpPr>
        <p:sp>
          <p:nvSpPr>
            <p:cNvPr id="42" name=""/>
            <p:cNvSpPr/>
            <p:nvPr/>
          </p:nvSpPr>
          <p:spPr>
            <a:xfrm>
              <a:off x="49680" y="6480"/>
              <a:ext cx="2646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20" y="6480"/>
              <a:ext cx="2730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738520" y="6480"/>
            <a:ext cx="311040" cy="1060200"/>
            <a:chOff x="2738520" y="6480"/>
            <a:chExt cx="311040" cy="1060200"/>
          </a:xfrm>
        </p:grpSpPr>
        <p:sp>
          <p:nvSpPr>
            <p:cNvPr id="45" name=""/>
            <p:cNvSpPr/>
            <p:nvPr/>
          </p:nvSpPr>
          <p:spPr>
            <a:xfrm>
              <a:off x="2780640" y="6480"/>
              <a:ext cx="2264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3852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560" y="6480"/>
            <a:ext cx="309600" cy="1060200"/>
            <a:chOff x="3049560" y="6480"/>
            <a:chExt cx="309600" cy="1060200"/>
          </a:xfrm>
        </p:grpSpPr>
        <p:sp>
          <p:nvSpPr>
            <p:cNvPr id="48" name=""/>
            <p:cNvSpPr/>
            <p:nvPr/>
          </p:nvSpPr>
          <p:spPr>
            <a:xfrm>
              <a:off x="309168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59160" y="6480"/>
            <a:ext cx="309600" cy="1060200"/>
            <a:chOff x="3359160" y="6480"/>
            <a:chExt cx="309600" cy="1060200"/>
          </a:xfrm>
        </p:grpSpPr>
        <p:sp>
          <p:nvSpPr>
            <p:cNvPr id="51" name=""/>
            <p:cNvSpPr/>
            <p:nvPr/>
          </p:nvSpPr>
          <p:spPr>
            <a:xfrm>
              <a:off x="340128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91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68760" y="6480"/>
            <a:ext cx="309600" cy="1060200"/>
            <a:chOff x="3668760" y="6480"/>
            <a:chExt cx="309600" cy="1060200"/>
          </a:xfrm>
        </p:grpSpPr>
        <p:sp>
          <p:nvSpPr>
            <p:cNvPr id="54" name=""/>
            <p:cNvSpPr/>
            <p:nvPr/>
          </p:nvSpPr>
          <p:spPr>
            <a:xfrm>
              <a:off x="371052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78360" y="6480"/>
            <a:ext cx="311040" cy="1060200"/>
            <a:chOff x="3978360" y="6480"/>
            <a:chExt cx="311040" cy="1060200"/>
          </a:xfrm>
        </p:grpSpPr>
        <p:sp>
          <p:nvSpPr>
            <p:cNvPr id="57" name=""/>
            <p:cNvSpPr/>
            <p:nvPr/>
          </p:nvSpPr>
          <p:spPr>
            <a:xfrm>
              <a:off x="402048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836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89400" y="6480"/>
            <a:ext cx="309600" cy="1060200"/>
            <a:chOff x="4289400" y="6480"/>
            <a:chExt cx="309600" cy="1060200"/>
          </a:xfrm>
        </p:grpSpPr>
        <p:sp>
          <p:nvSpPr>
            <p:cNvPr id="60" name=""/>
            <p:cNvSpPr/>
            <p:nvPr/>
          </p:nvSpPr>
          <p:spPr>
            <a:xfrm>
              <a:off x="433116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94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99000" y="6480"/>
            <a:ext cx="309600" cy="1060200"/>
            <a:chOff x="4599000" y="6480"/>
            <a:chExt cx="309600" cy="1060200"/>
          </a:xfrm>
        </p:grpSpPr>
        <p:sp>
          <p:nvSpPr>
            <p:cNvPr id="63" name=""/>
            <p:cNvSpPr/>
            <p:nvPr/>
          </p:nvSpPr>
          <p:spPr>
            <a:xfrm>
              <a:off x="464112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08600" y="6480"/>
            <a:ext cx="311040" cy="1060200"/>
            <a:chOff x="4908600" y="6480"/>
            <a:chExt cx="311040" cy="1060200"/>
          </a:xfrm>
        </p:grpSpPr>
        <p:sp>
          <p:nvSpPr>
            <p:cNvPr id="66" name=""/>
            <p:cNvSpPr/>
            <p:nvPr/>
          </p:nvSpPr>
          <p:spPr>
            <a:xfrm>
              <a:off x="495072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0860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480"/>
            <a:ext cx="309600" cy="1060200"/>
            <a:chOff x="5219640" y="6480"/>
            <a:chExt cx="309600" cy="1060200"/>
          </a:xfrm>
        </p:grpSpPr>
        <p:sp>
          <p:nvSpPr>
            <p:cNvPr id="69" name=""/>
            <p:cNvSpPr/>
            <p:nvPr/>
          </p:nvSpPr>
          <p:spPr>
            <a:xfrm>
              <a:off x="52614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96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29240" y="6480"/>
            <a:ext cx="309600" cy="1060200"/>
            <a:chOff x="5529240" y="6480"/>
            <a:chExt cx="309600" cy="1060200"/>
          </a:xfrm>
        </p:grpSpPr>
        <p:sp>
          <p:nvSpPr>
            <p:cNvPr id="72" name=""/>
            <p:cNvSpPr/>
            <p:nvPr/>
          </p:nvSpPr>
          <p:spPr>
            <a:xfrm>
              <a:off x="557136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2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38840" y="6480"/>
            <a:ext cx="309600" cy="1060200"/>
            <a:chOff x="5838840" y="6480"/>
            <a:chExt cx="309600" cy="1060200"/>
          </a:xfrm>
        </p:grpSpPr>
        <p:sp>
          <p:nvSpPr>
            <p:cNvPr id="75" name=""/>
            <p:cNvSpPr/>
            <p:nvPr/>
          </p:nvSpPr>
          <p:spPr>
            <a:xfrm>
              <a:off x="58806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88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48440" y="6480"/>
            <a:ext cx="701640" cy="1060200"/>
            <a:chOff x="6148440" y="6480"/>
            <a:chExt cx="701640" cy="1060200"/>
          </a:xfrm>
        </p:grpSpPr>
        <p:sp>
          <p:nvSpPr>
            <p:cNvPr id="78" name=""/>
            <p:cNvSpPr/>
            <p:nvPr/>
          </p:nvSpPr>
          <p:spPr>
            <a:xfrm>
              <a:off x="6190560" y="6480"/>
              <a:ext cx="6170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uver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440" y="6480"/>
              <a:ext cx="7016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920" y="1066680"/>
            <a:ext cx="2730600" cy="648000"/>
            <a:chOff x="7920" y="1066680"/>
            <a:chExt cx="2730600" cy="648000"/>
          </a:xfrm>
        </p:grpSpPr>
        <p:sp>
          <p:nvSpPr>
            <p:cNvPr id="81" name=""/>
            <p:cNvSpPr/>
            <p:nvPr/>
          </p:nvSpPr>
          <p:spPr>
            <a:xfrm>
              <a:off x="49680" y="1066680"/>
              <a:ext cx="2646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" y="1066680"/>
              <a:ext cx="2730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38520" y="1066680"/>
            <a:ext cx="311040" cy="648000"/>
            <a:chOff x="2738520" y="1066680"/>
            <a:chExt cx="311040" cy="648000"/>
          </a:xfrm>
        </p:grpSpPr>
        <p:sp>
          <p:nvSpPr>
            <p:cNvPr id="84" name=""/>
            <p:cNvSpPr/>
            <p:nvPr/>
          </p:nvSpPr>
          <p:spPr>
            <a:xfrm>
              <a:off x="2780640" y="1066680"/>
              <a:ext cx="226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852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560" y="1066680"/>
            <a:ext cx="309600" cy="648000"/>
            <a:chOff x="3049560" y="1066680"/>
            <a:chExt cx="309600" cy="648000"/>
          </a:xfrm>
        </p:grpSpPr>
        <p:sp>
          <p:nvSpPr>
            <p:cNvPr id="87" name=""/>
            <p:cNvSpPr/>
            <p:nvPr/>
          </p:nvSpPr>
          <p:spPr>
            <a:xfrm>
              <a:off x="309168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5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59160" y="1066680"/>
            <a:ext cx="309600" cy="648000"/>
            <a:chOff x="3359160" y="1066680"/>
            <a:chExt cx="309600" cy="648000"/>
          </a:xfrm>
        </p:grpSpPr>
        <p:sp>
          <p:nvSpPr>
            <p:cNvPr id="90" name=""/>
            <p:cNvSpPr/>
            <p:nvPr/>
          </p:nvSpPr>
          <p:spPr>
            <a:xfrm>
              <a:off x="340128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91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8760" y="1066680"/>
            <a:ext cx="309600" cy="648000"/>
            <a:chOff x="3668760" y="1066680"/>
            <a:chExt cx="309600" cy="648000"/>
          </a:xfrm>
        </p:grpSpPr>
        <p:sp>
          <p:nvSpPr>
            <p:cNvPr id="93" name=""/>
            <p:cNvSpPr/>
            <p:nvPr/>
          </p:nvSpPr>
          <p:spPr>
            <a:xfrm>
              <a:off x="371052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7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78360" y="1066680"/>
            <a:ext cx="311040" cy="648000"/>
            <a:chOff x="3978360" y="1066680"/>
            <a:chExt cx="311040" cy="648000"/>
          </a:xfrm>
        </p:grpSpPr>
        <p:sp>
          <p:nvSpPr>
            <p:cNvPr id="96" name=""/>
            <p:cNvSpPr/>
            <p:nvPr/>
          </p:nvSpPr>
          <p:spPr>
            <a:xfrm>
              <a:off x="402048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9400" y="1066680"/>
            <a:ext cx="309600" cy="648000"/>
            <a:chOff x="4289400" y="1066680"/>
            <a:chExt cx="309600" cy="648000"/>
          </a:xfrm>
        </p:grpSpPr>
        <p:sp>
          <p:nvSpPr>
            <p:cNvPr id="99" name=""/>
            <p:cNvSpPr/>
            <p:nvPr/>
          </p:nvSpPr>
          <p:spPr>
            <a:xfrm>
              <a:off x="433116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94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99000" y="1066680"/>
            <a:ext cx="309600" cy="648000"/>
            <a:chOff x="4599000" y="1066680"/>
            <a:chExt cx="309600" cy="648000"/>
          </a:xfrm>
        </p:grpSpPr>
        <p:sp>
          <p:nvSpPr>
            <p:cNvPr id="102" name=""/>
            <p:cNvSpPr/>
            <p:nvPr/>
          </p:nvSpPr>
          <p:spPr>
            <a:xfrm>
              <a:off x="464112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90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08600" y="1066680"/>
            <a:ext cx="311040" cy="648000"/>
            <a:chOff x="4908600" y="1066680"/>
            <a:chExt cx="311040" cy="648000"/>
          </a:xfrm>
        </p:grpSpPr>
        <p:sp>
          <p:nvSpPr>
            <p:cNvPr id="105" name=""/>
            <p:cNvSpPr/>
            <p:nvPr/>
          </p:nvSpPr>
          <p:spPr>
            <a:xfrm>
              <a:off x="495072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860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19640" y="1066680"/>
            <a:ext cx="309600" cy="648000"/>
            <a:chOff x="5219640" y="1066680"/>
            <a:chExt cx="309600" cy="648000"/>
          </a:xfrm>
        </p:grpSpPr>
        <p:sp>
          <p:nvSpPr>
            <p:cNvPr id="108" name=""/>
            <p:cNvSpPr/>
            <p:nvPr/>
          </p:nvSpPr>
          <p:spPr>
            <a:xfrm>
              <a:off x="52614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29240" y="1066680"/>
            <a:ext cx="309600" cy="648000"/>
            <a:chOff x="5529240" y="1066680"/>
            <a:chExt cx="309600" cy="648000"/>
          </a:xfrm>
        </p:grpSpPr>
        <p:sp>
          <p:nvSpPr>
            <p:cNvPr id="111" name=""/>
            <p:cNvSpPr/>
            <p:nvPr/>
          </p:nvSpPr>
          <p:spPr>
            <a:xfrm>
              <a:off x="557136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92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38840" y="1066680"/>
            <a:ext cx="309600" cy="648000"/>
            <a:chOff x="5838840" y="1066680"/>
            <a:chExt cx="309600" cy="648000"/>
          </a:xfrm>
        </p:grpSpPr>
        <p:sp>
          <p:nvSpPr>
            <p:cNvPr id="114" name=""/>
            <p:cNvSpPr/>
            <p:nvPr/>
          </p:nvSpPr>
          <p:spPr>
            <a:xfrm>
              <a:off x="58806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88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48440" y="1066680"/>
            <a:ext cx="701640" cy="648000"/>
            <a:chOff x="6148440" y="1066680"/>
            <a:chExt cx="701640" cy="648000"/>
          </a:xfrm>
        </p:grpSpPr>
        <p:sp>
          <p:nvSpPr>
            <p:cNvPr id="117" name=""/>
            <p:cNvSpPr/>
            <p:nvPr/>
          </p:nvSpPr>
          <p:spPr>
            <a:xfrm>
              <a:off x="6190560" y="1066680"/>
              <a:ext cx="6170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8440" y="1066680"/>
              <a:ext cx="7016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920" y="1714680"/>
            <a:ext cx="2730600" cy="510840"/>
            <a:chOff x="7920" y="1714680"/>
            <a:chExt cx="2730600" cy="510840"/>
          </a:xfrm>
        </p:grpSpPr>
        <p:sp>
          <p:nvSpPr>
            <p:cNvPr id="120" name=""/>
            <p:cNvSpPr/>
            <p:nvPr/>
          </p:nvSpPr>
          <p:spPr>
            <a:xfrm>
              <a:off x="49680" y="1714680"/>
              <a:ext cx="2646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0" y="1714680"/>
              <a:ext cx="2730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38520" y="1714680"/>
            <a:ext cx="311040" cy="510840"/>
            <a:chOff x="2738520" y="1714680"/>
            <a:chExt cx="311040" cy="510840"/>
          </a:xfrm>
        </p:grpSpPr>
        <p:sp>
          <p:nvSpPr>
            <p:cNvPr id="123" name=""/>
            <p:cNvSpPr/>
            <p:nvPr/>
          </p:nvSpPr>
          <p:spPr>
            <a:xfrm>
              <a:off x="2780640" y="1714680"/>
              <a:ext cx="2264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852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560" y="1714680"/>
            <a:ext cx="309600" cy="510840"/>
            <a:chOff x="3049560" y="1714680"/>
            <a:chExt cx="309600" cy="510840"/>
          </a:xfrm>
        </p:grpSpPr>
        <p:sp>
          <p:nvSpPr>
            <p:cNvPr id="126" name=""/>
            <p:cNvSpPr/>
            <p:nvPr/>
          </p:nvSpPr>
          <p:spPr>
            <a:xfrm>
              <a:off x="309168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5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9160" y="1714680"/>
            <a:ext cx="309600" cy="510840"/>
            <a:chOff x="3359160" y="1714680"/>
            <a:chExt cx="309600" cy="510840"/>
          </a:xfrm>
        </p:grpSpPr>
        <p:sp>
          <p:nvSpPr>
            <p:cNvPr id="129" name=""/>
            <p:cNvSpPr/>
            <p:nvPr/>
          </p:nvSpPr>
          <p:spPr>
            <a:xfrm>
              <a:off x="340128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91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68760" y="1714680"/>
            <a:ext cx="309600" cy="510840"/>
            <a:chOff x="3668760" y="1714680"/>
            <a:chExt cx="309600" cy="510840"/>
          </a:xfrm>
        </p:grpSpPr>
        <p:sp>
          <p:nvSpPr>
            <p:cNvPr id="132" name=""/>
            <p:cNvSpPr/>
            <p:nvPr/>
          </p:nvSpPr>
          <p:spPr>
            <a:xfrm>
              <a:off x="371052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78360" y="1714680"/>
            <a:ext cx="311040" cy="510840"/>
            <a:chOff x="3978360" y="1714680"/>
            <a:chExt cx="311040" cy="510840"/>
          </a:xfrm>
        </p:grpSpPr>
        <p:sp>
          <p:nvSpPr>
            <p:cNvPr id="135" name=""/>
            <p:cNvSpPr/>
            <p:nvPr/>
          </p:nvSpPr>
          <p:spPr>
            <a:xfrm>
              <a:off x="402048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36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89400" y="1714680"/>
            <a:ext cx="309600" cy="510840"/>
            <a:chOff x="4289400" y="1714680"/>
            <a:chExt cx="309600" cy="510840"/>
          </a:xfrm>
        </p:grpSpPr>
        <p:sp>
          <p:nvSpPr>
            <p:cNvPr id="138" name=""/>
            <p:cNvSpPr/>
            <p:nvPr/>
          </p:nvSpPr>
          <p:spPr>
            <a:xfrm>
              <a:off x="433116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94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99000" y="1714680"/>
            <a:ext cx="309600" cy="510840"/>
            <a:chOff x="4599000" y="1714680"/>
            <a:chExt cx="309600" cy="510840"/>
          </a:xfrm>
        </p:grpSpPr>
        <p:sp>
          <p:nvSpPr>
            <p:cNvPr id="141" name=""/>
            <p:cNvSpPr/>
            <p:nvPr/>
          </p:nvSpPr>
          <p:spPr>
            <a:xfrm>
              <a:off x="464112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90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8600" y="1714680"/>
            <a:ext cx="311040" cy="510840"/>
            <a:chOff x="4908600" y="1714680"/>
            <a:chExt cx="311040" cy="510840"/>
          </a:xfrm>
        </p:grpSpPr>
        <p:sp>
          <p:nvSpPr>
            <p:cNvPr id="144" name=""/>
            <p:cNvSpPr/>
            <p:nvPr/>
          </p:nvSpPr>
          <p:spPr>
            <a:xfrm>
              <a:off x="495072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860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19640" y="1714680"/>
            <a:ext cx="309600" cy="510840"/>
            <a:chOff x="5219640" y="1714680"/>
            <a:chExt cx="309600" cy="510840"/>
          </a:xfrm>
        </p:grpSpPr>
        <p:sp>
          <p:nvSpPr>
            <p:cNvPr id="147" name=""/>
            <p:cNvSpPr/>
            <p:nvPr/>
          </p:nvSpPr>
          <p:spPr>
            <a:xfrm>
              <a:off x="52614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96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29240" y="1714680"/>
            <a:ext cx="309600" cy="510840"/>
            <a:chOff x="5529240" y="1714680"/>
            <a:chExt cx="309600" cy="510840"/>
          </a:xfrm>
        </p:grpSpPr>
        <p:sp>
          <p:nvSpPr>
            <p:cNvPr id="150" name=""/>
            <p:cNvSpPr/>
            <p:nvPr/>
          </p:nvSpPr>
          <p:spPr>
            <a:xfrm>
              <a:off x="557136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92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38840" y="1714680"/>
            <a:ext cx="309600" cy="510840"/>
            <a:chOff x="5838840" y="1714680"/>
            <a:chExt cx="309600" cy="510840"/>
          </a:xfrm>
        </p:grpSpPr>
        <p:sp>
          <p:nvSpPr>
            <p:cNvPr id="153" name=""/>
            <p:cNvSpPr/>
            <p:nvPr/>
          </p:nvSpPr>
          <p:spPr>
            <a:xfrm>
              <a:off x="58806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88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48440" y="1714680"/>
            <a:ext cx="701640" cy="510840"/>
            <a:chOff x="6148440" y="1714680"/>
            <a:chExt cx="701640" cy="510840"/>
          </a:xfrm>
        </p:grpSpPr>
        <p:sp>
          <p:nvSpPr>
            <p:cNvPr id="156" name=""/>
            <p:cNvSpPr/>
            <p:nvPr/>
          </p:nvSpPr>
          <p:spPr>
            <a:xfrm>
              <a:off x="6190560" y="1714680"/>
              <a:ext cx="617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8440" y="1714680"/>
              <a:ext cx="7016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20" y="2225520"/>
            <a:ext cx="2730600" cy="509760"/>
            <a:chOff x="7920" y="2225520"/>
            <a:chExt cx="2730600" cy="509760"/>
          </a:xfrm>
        </p:grpSpPr>
        <p:sp>
          <p:nvSpPr>
            <p:cNvPr id="159" name=""/>
            <p:cNvSpPr/>
            <p:nvPr/>
          </p:nvSpPr>
          <p:spPr>
            <a:xfrm>
              <a:off x="49680" y="222552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0" y="222552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38520" y="2225520"/>
            <a:ext cx="311040" cy="509760"/>
            <a:chOff x="2738520" y="2225520"/>
            <a:chExt cx="311040" cy="509760"/>
          </a:xfrm>
        </p:grpSpPr>
        <p:sp>
          <p:nvSpPr>
            <p:cNvPr id="162" name=""/>
            <p:cNvSpPr/>
            <p:nvPr/>
          </p:nvSpPr>
          <p:spPr>
            <a:xfrm>
              <a:off x="2780640" y="222552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852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560" y="2225520"/>
            <a:ext cx="309600" cy="509760"/>
            <a:chOff x="3049560" y="2225520"/>
            <a:chExt cx="309600" cy="509760"/>
          </a:xfrm>
        </p:grpSpPr>
        <p:sp>
          <p:nvSpPr>
            <p:cNvPr id="165" name=""/>
            <p:cNvSpPr/>
            <p:nvPr/>
          </p:nvSpPr>
          <p:spPr>
            <a:xfrm>
              <a:off x="309168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5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59160" y="2225520"/>
            <a:ext cx="309600" cy="509760"/>
            <a:chOff x="3359160" y="2225520"/>
            <a:chExt cx="309600" cy="509760"/>
          </a:xfrm>
        </p:grpSpPr>
        <p:sp>
          <p:nvSpPr>
            <p:cNvPr id="168" name=""/>
            <p:cNvSpPr/>
            <p:nvPr/>
          </p:nvSpPr>
          <p:spPr>
            <a:xfrm>
              <a:off x="340128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91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68760" y="2225520"/>
            <a:ext cx="309600" cy="509760"/>
            <a:chOff x="3668760" y="2225520"/>
            <a:chExt cx="309600" cy="509760"/>
          </a:xfrm>
        </p:grpSpPr>
        <p:sp>
          <p:nvSpPr>
            <p:cNvPr id="171" name=""/>
            <p:cNvSpPr/>
            <p:nvPr/>
          </p:nvSpPr>
          <p:spPr>
            <a:xfrm>
              <a:off x="371052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87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78360" y="2225520"/>
            <a:ext cx="311040" cy="509760"/>
            <a:chOff x="3978360" y="2225520"/>
            <a:chExt cx="311040" cy="509760"/>
          </a:xfrm>
        </p:grpSpPr>
        <p:sp>
          <p:nvSpPr>
            <p:cNvPr id="174" name=""/>
            <p:cNvSpPr/>
            <p:nvPr/>
          </p:nvSpPr>
          <p:spPr>
            <a:xfrm>
              <a:off x="402048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36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89400" y="2225520"/>
            <a:ext cx="309600" cy="509760"/>
            <a:chOff x="4289400" y="2225520"/>
            <a:chExt cx="309600" cy="509760"/>
          </a:xfrm>
        </p:grpSpPr>
        <p:sp>
          <p:nvSpPr>
            <p:cNvPr id="177" name=""/>
            <p:cNvSpPr/>
            <p:nvPr/>
          </p:nvSpPr>
          <p:spPr>
            <a:xfrm>
              <a:off x="433116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99000" y="2225520"/>
            <a:ext cx="309600" cy="509760"/>
            <a:chOff x="4599000" y="2225520"/>
            <a:chExt cx="309600" cy="509760"/>
          </a:xfrm>
        </p:grpSpPr>
        <p:sp>
          <p:nvSpPr>
            <p:cNvPr id="180" name=""/>
            <p:cNvSpPr/>
            <p:nvPr/>
          </p:nvSpPr>
          <p:spPr>
            <a:xfrm>
              <a:off x="464112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90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08600" y="2225520"/>
            <a:ext cx="311040" cy="509760"/>
            <a:chOff x="4908600" y="2225520"/>
            <a:chExt cx="311040" cy="509760"/>
          </a:xfrm>
        </p:grpSpPr>
        <p:sp>
          <p:nvSpPr>
            <p:cNvPr id="183" name=""/>
            <p:cNvSpPr/>
            <p:nvPr/>
          </p:nvSpPr>
          <p:spPr>
            <a:xfrm>
              <a:off x="495072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19640" y="2225520"/>
            <a:ext cx="309600" cy="509760"/>
            <a:chOff x="5219640" y="2225520"/>
            <a:chExt cx="309600" cy="509760"/>
          </a:xfrm>
        </p:grpSpPr>
        <p:sp>
          <p:nvSpPr>
            <p:cNvPr id="186" name=""/>
            <p:cNvSpPr/>
            <p:nvPr/>
          </p:nvSpPr>
          <p:spPr>
            <a:xfrm>
              <a:off x="52614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96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29240" y="2225520"/>
            <a:ext cx="309600" cy="509760"/>
            <a:chOff x="5529240" y="2225520"/>
            <a:chExt cx="309600" cy="509760"/>
          </a:xfrm>
        </p:grpSpPr>
        <p:sp>
          <p:nvSpPr>
            <p:cNvPr id="189" name=""/>
            <p:cNvSpPr/>
            <p:nvPr/>
          </p:nvSpPr>
          <p:spPr>
            <a:xfrm>
              <a:off x="557136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2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38840" y="2225520"/>
            <a:ext cx="309600" cy="509760"/>
            <a:chOff x="5838840" y="2225520"/>
            <a:chExt cx="309600" cy="509760"/>
          </a:xfrm>
        </p:grpSpPr>
        <p:sp>
          <p:nvSpPr>
            <p:cNvPr id="192" name=""/>
            <p:cNvSpPr/>
            <p:nvPr/>
          </p:nvSpPr>
          <p:spPr>
            <a:xfrm>
              <a:off x="58806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88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48440" y="2225520"/>
            <a:ext cx="701640" cy="509760"/>
            <a:chOff x="6148440" y="2225520"/>
            <a:chExt cx="701640" cy="509760"/>
          </a:xfrm>
        </p:grpSpPr>
        <p:sp>
          <p:nvSpPr>
            <p:cNvPr id="195" name=""/>
            <p:cNvSpPr/>
            <p:nvPr/>
          </p:nvSpPr>
          <p:spPr>
            <a:xfrm>
              <a:off x="6190560" y="222552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8440" y="222552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920" y="2735280"/>
            <a:ext cx="2730600" cy="511200"/>
            <a:chOff x="7920" y="2735280"/>
            <a:chExt cx="2730600" cy="511200"/>
          </a:xfrm>
        </p:grpSpPr>
        <p:sp>
          <p:nvSpPr>
            <p:cNvPr id="198" name=""/>
            <p:cNvSpPr/>
            <p:nvPr/>
          </p:nvSpPr>
          <p:spPr>
            <a:xfrm>
              <a:off x="49680" y="27352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0" y="27352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38520" y="2735280"/>
            <a:ext cx="311040" cy="511200"/>
            <a:chOff x="2738520" y="2735280"/>
            <a:chExt cx="311040" cy="511200"/>
          </a:xfrm>
        </p:grpSpPr>
        <p:sp>
          <p:nvSpPr>
            <p:cNvPr id="201" name=""/>
            <p:cNvSpPr/>
            <p:nvPr/>
          </p:nvSpPr>
          <p:spPr>
            <a:xfrm>
              <a:off x="2780640" y="27352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52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9560" y="2735280"/>
            <a:ext cx="309600" cy="511200"/>
            <a:chOff x="3049560" y="2735280"/>
            <a:chExt cx="309600" cy="511200"/>
          </a:xfrm>
        </p:grpSpPr>
        <p:sp>
          <p:nvSpPr>
            <p:cNvPr id="204" name=""/>
            <p:cNvSpPr/>
            <p:nvPr/>
          </p:nvSpPr>
          <p:spPr>
            <a:xfrm>
              <a:off x="309168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9160" y="2735280"/>
            <a:ext cx="309600" cy="511200"/>
            <a:chOff x="3359160" y="2735280"/>
            <a:chExt cx="309600" cy="511200"/>
          </a:xfrm>
        </p:grpSpPr>
        <p:sp>
          <p:nvSpPr>
            <p:cNvPr id="207" name=""/>
            <p:cNvSpPr/>
            <p:nvPr/>
          </p:nvSpPr>
          <p:spPr>
            <a:xfrm>
              <a:off x="340128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91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68760" y="2735280"/>
            <a:ext cx="309600" cy="511200"/>
            <a:chOff x="3668760" y="2735280"/>
            <a:chExt cx="309600" cy="511200"/>
          </a:xfrm>
        </p:grpSpPr>
        <p:sp>
          <p:nvSpPr>
            <p:cNvPr id="210" name=""/>
            <p:cNvSpPr/>
            <p:nvPr/>
          </p:nvSpPr>
          <p:spPr>
            <a:xfrm>
              <a:off x="371052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87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78360" y="2735280"/>
            <a:ext cx="311040" cy="511200"/>
            <a:chOff x="3978360" y="2735280"/>
            <a:chExt cx="311040" cy="511200"/>
          </a:xfrm>
        </p:grpSpPr>
        <p:sp>
          <p:nvSpPr>
            <p:cNvPr id="213" name=""/>
            <p:cNvSpPr/>
            <p:nvPr/>
          </p:nvSpPr>
          <p:spPr>
            <a:xfrm>
              <a:off x="402048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836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9400" y="2735280"/>
            <a:ext cx="309600" cy="511200"/>
            <a:chOff x="4289400" y="2735280"/>
            <a:chExt cx="309600" cy="511200"/>
          </a:xfrm>
        </p:grpSpPr>
        <p:sp>
          <p:nvSpPr>
            <p:cNvPr id="216" name=""/>
            <p:cNvSpPr/>
            <p:nvPr/>
          </p:nvSpPr>
          <p:spPr>
            <a:xfrm>
              <a:off x="433116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94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99000" y="2735280"/>
            <a:ext cx="309600" cy="511200"/>
            <a:chOff x="4599000" y="2735280"/>
            <a:chExt cx="309600" cy="511200"/>
          </a:xfrm>
        </p:grpSpPr>
        <p:sp>
          <p:nvSpPr>
            <p:cNvPr id="219" name=""/>
            <p:cNvSpPr/>
            <p:nvPr/>
          </p:nvSpPr>
          <p:spPr>
            <a:xfrm>
              <a:off x="464112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90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08600" y="2735280"/>
            <a:ext cx="311040" cy="511200"/>
            <a:chOff x="4908600" y="2735280"/>
            <a:chExt cx="311040" cy="511200"/>
          </a:xfrm>
        </p:grpSpPr>
        <p:sp>
          <p:nvSpPr>
            <p:cNvPr id="222" name=""/>
            <p:cNvSpPr/>
            <p:nvPr/>
          </p:nvSpPr>
          <p:spPr>
            <a:xfrm>
              <a:off x="495072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860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735280"/>
            <a:ext cx="309600" cy="511200"/>
            <a:chOff x="5219640" y="2735280"/>
            <a:chExt cx="309600" cy="511200"/>
          </a:xfrm>
        </p:grpSpPr>
        <p:sp>
          <p:nvSpPr>
            <p:cNvPr id="225" name=""/>
            <p:cNvSpPr/>
            <p:nvPr/>
          </p:nvSpPr>
          <p:spPr>
            <a:xfrm>
              <a:off x="52614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29240" y="2735280"/>
            <a:ext cx="309600" cy="511200"/>
            <a:chOff x="5529240" y="2735280"/>
            <a:chExt cx="309600" cy="511200"/>
          </a:xfrm>
        </p:grpSpPr>
        <p:sp>
          <p:nvSpPr>
            <p:cNvPr id="228" name=""/>
            <p:cNvSpPr/>
            <p:nvPr/>
          </p:nvSpPr>
          <p:spPr>
            <a:xfrm>
              <a:off x="557136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838840" y="2735280"/>
            <a:ext cx="309600" cy="511200"/>
            <a:chOff x="5838840" y="2735280"/>
            <a:chExt cx="309600" cy="511200"/>
          </a:xfrm>
        </p:grpSpPr>
        <p:sp>
          <p:nvSpPr>
            <p:cNvPr id="231" name=""/>
            <p:cNvSpPr/>
            <p:nvPr/>
          </p:nvSpPr>
          <p:spPr>
            <a:xfrm>
              <a:off x="58806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88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148440" y="2735280"/>
            <a:ext cx="701640" cy="511200"/>
            <a:chOff x="6148440" y="2735280"/>
            <a:chExt cx="701640" cy="511200"/>
          </a:xfrm>
        </p:grpSpPr>
        <p:sp>
          <p:nvSpPr>
            <p:cNvPr id="234" name=""/>
            <p:cNvSpPr/>
            <p:nvPr/>
          </p:nvSpPr>
          <p:spPr>
            <a:xfrm>
              <a:off x="6190560" y="27352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48440" y="27352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20" y="3246480"/>
            <a:ext cx="2730600" cy="511200"/>
            <a:chOff x="7920" y="3246480"/>
            <a:chExt cx="2730600" cy="511200"/>
          </a:xfrm>
        </p:grpSpPr>
        <p:sp>
          <p:nvSpPr>
            <p:cNvPr id="237" name=""/>
            <p:cNvSpPr/>
            <p:nvPr/>
          </p:nvSpPr>
          <p:spPr>
            <a:xfrm>
              <a:off x="49680" y="32464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0" y="32464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8520" y="3246480"/>
            <a:ext cx="311040" cy="511200"/>
            <a:chOff x="2738520" y="3246480"/>
            <a:chExt cx="311040" cy="511200"/>
          </a:xfrm>
        </p:grpSpPr>
        <p:sp>
          <p:nvSpPr>
            <p:cNvPr id="240" name=""/>
            <p:cNvSpPr/>
            <p:nvPr/>
          </p:nvSpPr>
          <p:spPr>
            <a:xfrm>
              <a:off x="2780640" y="32464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852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560" y="3246480"/>
            <a:ext cx="309600" cy="511200"/>
            <a:chOff x="3049560" y="3246480"/>
            <a:chExt cx="309600" cy="511200"/>
          </a:xfrm>
        </p:grpSpPr>
        <p:sp>
          <p:nvSpPr>
            <p:cNvPr id="243" name=""/>
            <p:cNvSpPr/>
            <p:nvPr/>
          </p:nvSpPr>
          <p:spPr>
            <a:xfrm>
              <a:off x="309168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9160" y="3246480"/>
            <a:ext cx="309600" cy="511200"/>
            <a:chOff x="3359160" y="3246480"/>
            <a:chExt cx="309600" cy="511200"/>
          </a:xfrm>
        </p:grpSpPr>
        <p:sp>
          <p:nvSpPr>
            <p:cNvPr id="246" name=""/>
            <p:cNvSpPr/>
            <p:nvPr/>
          </p:nvSpPr>
          <p:spPr>
            <a:xfrm>
              <a:off x="340128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91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68760" y="3246480"/>
            <a:ext cx="309600" cy="511200"/>
            <a:chOff x="3668760" y="3246480"/>
            <a:chExt cx="309600" cy="511200"/>
          </a:xfrm>
        </p:grpSpPr>
        <p:sp>
          <p:nvSpPr>
            <p:cNvPr id="249" name=""/>
            <p:cNvSpPr/>
            <p:nvPr/>
          </p:nvSpPr>
          <p:spPr>
            <a:xfrm>
              <a:off x="371052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87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78360" y="3246480"/>
            <a:ext cx="311040" cy="511200"/>
            <a:chOff x="3978360" y="3246480"/>
            <a:chExt cx="311040" cy="511200"/>
          </a:xfrm>
        </p:grpSpPr>
        <p:sp>
          <p:nvSpPr>
            <p:cNvPr id="252" name=""/>
            <p:cNvSpPr/>
            <p:nvPr/>
          </p:nvSpPr>
          <p:spPr>
            <a:xfrm>
              <a:off x="402048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89400" y="3246480"/>
            <a:ext cx="309600" cy="511200"/>
            <a:chOff x="4289400" y="3246480"/>
            <a:chExt cx="309600" cy="511200"/>
          </a:xfrm>
        </p:grpSpPr>
        <p:sp>
          <p:nvSpPr>
            <p:cNvPr id="255" name=""/>
            <p:cNvSpPr/>
            <p:nvPr/>
          </p:nvSpPr>
          <p:spPr>
            <a:xfrm>
              <a:off x="433116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4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99000" y="3246480"/>
            <a:ext cx="309600" cy="511200"/>
            <a:chOff x="4599000" y="3246480"/>
            <a:chExt cx="309600" cy="511200"/>
          </a:xfrm>
        </p:grpSpPr>
        <p:sp>
          <p:nvSpPr>
            <p:cNvPr id="258" name=""/>
            <p:cNvSpPr/>
            <p:nvPr/>
          </p:nvSpPr>
          <p:spPr>
            <a:xfrm>
              <a:off x="464112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90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8600" y="3246480"/>
            <a:ext cx="311040" cy="511200"/>
            <a:chOff x="4908600" y="3246480"/>
            <a:chExt cx="311040" cy="511200"/>
          </a:xfrm>
        </p:grpSpPr>
        <p:sp>
          <p:nvSpPr>
            <p:cNvPr id="261" name=""/>
            <p:cNvSpPr/>
            <p:nvPr/>
          </p:nvSpPr>
          <p:spPr>
            <a:xfrm>
              <a:off x="495072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0860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9640" y="3246480"/>
            <a:ext cx="309600" cy="511200"/>
            <a:chOff x="5219640" y="3246480"/>
            <a:chExt cx="309600" cy="511200"/>
          </a:xfrm>
        </p:grpSpPr>
        <p:sp>
          <p:nvSpPr>
            <p:cNvPr id="264" name=""/>
            <p:cNvSpPr/>
            <p:nvPr/>
          </p:nvSpPr>
          <p:spPr>
            <a:xfrm>
              <a:off x="52614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96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29240" y="3246480"/>
            <a:ext cx="309600" cy="511200"/>
            <a:chOff x="5529240" y="3246480"/>
            <a:chExt cx="309600" cy="511200"/>
          </a:xfrm>
        </p:grpSpPr>
        <p:sp>
          <p:nvSpPr>
            <p:cNvPr id="267" name=""/>
            <p:cNvSpPr/>
            <p:nvPr/>
          </p:nvSpPr>
          <p:spPr>
            <a:xfrm>
              <a:off x="557136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92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38840" y="3246480"/>
            <a:ext cx="309600" cy="511200"/>
            <a:chOff x="5838840" y="3246480"/>
            <a:chExt cx="309600" cy="511200"/>
          </a:xfrm>
        </p:grpSpPr>
        <p:sp>
          <p:nvSpPr>
            <p:cNvPr id="270" name=""/>
            <p:cNvSpPr/>
            <p:nvPr/>
          </p:nvSpPr>
          <p:spPr>
            <a:xfrm>
              <a:off x="58806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48440" y="3246480"/>
            <a:ext cx="701640" cy="511200"/>
            <a:chOff x="6148440" y="3246480"/>
            <a:chExt cx="701640" cy="511200"/>
          </a:xfrm>
        </p:grpSpPr>
        <p:sp>
          <p:nvSpPr>
            <p:cNvPr id="273" name=""/>
            <p:cNvSpPr/>
            <p:nvPr/>
          </p:nvSpPr>
          <p:spPr>
            <a:xfrm>
              <a:off x="6190560" y="32464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8440" y="32464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20" y="3757680"/>
            <a:ext cx="2730600" cy="509400"/>
            <a:chOff x="7920" y="3757680"/>
            <a:chExt cx="2730600" cy="509400"/>
          </a:xfrm>
        </p:grpSpPr>
        <p:sp>
          <p:nvSpPr>
            <p:cNvPr id="276" name=""/>
            <p:cNvSpPr/>
            <p:nvPr/>
          </p:nvSpPr>
          <p:spPr>
            <a:xfrm>
              <a:off x="49680" y="375768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" y="375768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8520" y="3757680"/>
            <a:ext cx="311040" cy="509400"/>
            <a:chOff x="2738520" y="3757680"/>
            <a:chExt cx="311040" cy="509400"/>
          </a:xfrm>
        </p:grpSpPr>
        <p:sp>
          <p:nvSpPr>
            <p:cNvPr id="279" name=""/>
            <p:cNvSpPr/>
            <p:nvPr/>
          </p:nvSpPr>
          <p:spPr>
            <a:xfrm>
              <a:off x="2780640" y="375768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049560" y="3757680"/>
            <a:ext cx="309600" cy="509400"/>
            <a:chOff x="3049560" y="3757680"/>
            <a:chExt cx="309600" cy="509400"/>
          </a:xfrm>
        </p:grpSpPr>
        <p:sp>
          <p:nvSpPr>
            <p:cNvPr id="282" name=""/>
            <p:cNvSpPr/>
            <p:nvPr/>
          </p:nvSpPr>
          <p:spPr>
            <a:xfrm>
              <a:off x="309168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359160" y="3757680"/>
            <a:ext cx="309600" cy="509400"/>
            <a:chOff x="3359160" y="3757680"/>
            <a:chExt cx="309600" cy="509400"/>
          </a:xfrm>
        </p:grpSpPr>
        <p:sp>
          <p:nvSpPr>
            <p:cNvPr id="285" name=""/>
            <p:cNvSpPr/>
            <p:nvPr/>
          </p:nvSpPr>
          <p:spPr>
            <a:xfrm>
              <a:off x="340128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8760" y="3757680"/>
            <a:ext cx="309600" cy="509400"/>
            <a:chOff x="3668760" y="3757680"/>
            <a:chExt cx="309600" cy="509400"/>
          </a:xfrm>
        </p:grpSpPr>
        <p:sp>
          <p:nvSpPr>
            <p:cNvPr id="288" name=""/>
            <p:cNvSpPr/>
            <p:nvPr/>
          </p:nvSpPr>
          <p:spPr>
            <a:xfrm>
              <a:off x="371052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87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78360" y="3757680"/>
            <a:ext cx="311040" cy="509400"/>
            <a:chOff x="3978360" y="3757680"/>
            <a:chExt cx="311040" cy="509400"/>
          </a:xfrm>
        </p:grpSpPr>
        <p:sp>
          <p:nvSpPr>
            <p:cNvPr id="291" name=""/>
            <p:cNvSpPr/>
            <p:nvPr/>
          </p:nvSpPr>
          <p:spPr>
            <a:xfrm>
              <a:off x="402048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836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289400" y="3757680"/>
            <a:ext cx="309600" cy="509400"/>
            <a:chOff x="4289400" y="3757680"/>
            <a:chExt cx="309600" cy="509400"/>
          </a:xfrm>
        </p:grpSpPr>
        <p:sp>
          <p:nvSpPr>
            <p:cNvPr id="294" name=""/>
            <p:cNvSpPr/>
            <p:nvPr/>
          </p:nvSpPr>
          <p:spPr>
            <a:xfrm>
              <a:off x="433116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9000" y="3757680"/>
            <a:ext cx="309600" cy="509400"/>
            <a:chOff x="4599000" y="3757680"/>
            <a:chExt cx="309600" cy="509400"/>
          </a:xfrm>
        </p:grpSpPr>
        <p:sp>
          <p:nvSpPr>
            <p:cNvPr id="297" name=""/>
            <p:cNvSpPr/>
            <p:nvPr/>
          </p:nvSpPr>
          <p:spPr>
            <a:xfrm>
              <a:off x="464112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3757680"/>
            <a:ext cx="311040" cy="509400"/>
            <a:chOff x="4908600" y="3757680"/>
            <a:chExt cx="311040" cy="509400"/>
          </a:xfrm>
        </p:grpSpPr>
        <p:sp>
          <p:nvSpPr>
            <p:cNvPr id="300" name=""/>
            <p:cNvSpPr/>
            <p:nvPr/>
          </p:nvSpPr>
          <p:spPr>
            <a:xfrm>
              <a:off x="495072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0860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19640" y="3757680"/>
            <a:ext cx="309600" cy="509400"/>
            <a:chOff x="5219640" y="3757680"/>
            <a:chExt cx="309600" cy="509400"/>
          </a:xfrm>
        </p:grpSpPr>
        <p:sp>
          <p:nvSpPr>
            <p:cNvPr id="303" name=""/>
            <p:cNvSpPr/>
            <p:nvPr/>
          </p:nvSpPr>
          <p:spPr>
            <a:xfrm>
              <a:off x="52614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96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29240" y="3757680"/>
            <a:ext cx="309600" cy="509400"/>
            <a:chOff x="5529240" y="3757680"/>
            <a:chExt cx="309600" cy="509400"/>
          </a:xfrm>
        </p:grpSpPr>
        <p:sp>
          <p:nvSpPr>
            <p:cNvPr id="306" name=""/>
            <p:cNvSpPr/>
            <p:nvPr/>
          </p:nvSpPr>
          <p:spPr>
            <a:xfrm>
              <a:off x="557136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92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38840" y="3757680"/>
            <a:ext cx="309600" cy="509400"/>
            <a:chOff x="5838840" y="3757680"/>
            <a:chExt cx="309600" cy="509400"/>
          </a:xfrm>
        </p:grpSpPr>
        <p:sp>
          <p:nvSpPr>
            <p:cNvPr id="309" name=""/>
            <p:cNvSpPr/>
            <p:nvPr/>
          </p:nvSpPr>
          <p:spPr>
            <a:xfrm>
              <a:off x="58806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88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48440" y="3757680"/>
            <a:ext cx="701640" cy="509400"/>
            <a:chOff x="6148440" y="3757680"/>
            <a:chExt cx="701640" cy="509400"/>
          </a:xfrm>
        </p:grpSpPr>
        <p:sp>
          <p:nvSpPr>
            <p:cNvPr id="312" name=""/>
            <p:cNvSpPr/>
            <p:nvPr/>
          </p:nvSpPr>
          <p:spPr>
            <a:xfrm>
              <a:off x="6190560" y="375768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48440" y="375768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20" y="4267080"/>
            <a:ext cx="2730600" cy="511200"/>
            <a:chOff x="7920" y="4267080"/>
            <a:chExt cx="2730600" cy="511200"/>
          </a:xfrm>
        </p:grpSpPr>
        <p:sp>
          <p:nvSpPr>
            <p:cNvPr id="315" name=""/>
            <p:cNvSpPr/>
            <p:nvPr/>
          </p:nvSpPr>
          <p:spPr>
            <a:xfrm>
              <a:off x="49680" y="42670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" y="42670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38520" y="4267080"/>
            <a:ext cx="311040" cy="511200"/>
            <a:chOff x="2738520" y="4267080"/>
            <a:chExt cx="311040" cy="511200"/>
          </a:xfrm>
        </p:grpSpPr>
        <p:sp>
          <p:nvSpPr>
            <p:cNvPr id="318" name=""/>
            <p:cNvSpPr/>
            <p:nvPr/>
          </p:nvSpPr>
          <p:spPr>
            <a:xfrm>
              <a:off x="2780640" y="42670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3852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560" y="4267080"/>
            <a:ext cx="309600" cy="511200"/>
            <a:chOff x="3049560" y="4267080"/>
            <a:chExt cx="309600" cy="511200"/>
          </a:xfrm>
        </p:grpSpPr>
        <p:sp>
          <p:nvSpPr>
            <p:cNvPr id="321" name=""/>
            <p:cNvSpPr/>
            <p:nvPr/>
          </p:nvSpPr>
          <p:spPr>
            <a:xfrm>
              <a:off x="309168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5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59160" y="4267080"/>
            <a:ext cx="309600" cy="511200"/>
            <a:chOff x="3359160" y="4267080"/>
            <a:chExt cx="309600" cy="511200"/>
          </a:xfrm>
        </p:grpSpPr>
        <p:sp>
          <p:nvSpPr>
            <p:cNvPr id="324" name=""/>
            <p:cNvSpPr/>
            <p:nvPr/>
          </p:nvSpPr>
          <p:spPr>
            <a:xfrm>
              <a:off x="340128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91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68760" y="4267080"/>
            <a:ext cx="309600" cy="511200"/>
            <a:chOff x="3668760" y="4267080"/>
            <a:chExt cx="309600" cy="511200"/>
          </a:xfrm>
        </p:grpSpPr>
        <p:sp>
          <p:nvSpPr>
            <p:cNvPr id="327" name=""/>
            <p:cNvSpPr/>
            <p:nvPr/>
          </p:nvSpPr>
          <p:spPr>
            <a:xfrm>
              <a:off x="371052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87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78360" y="4267080"/>
            <a:ext cx="311040" cy="511200"/>
            <a:chOff x="3978360" y="4267080"/>
            <a:chExt cx="311040" cy="511200"/>
          </a:xfrm>
        </p:grpSpPr>
        <p:sp>
          <p:nvSpPr>
            <p:cNvPr id="330" name=""/>
            <p:cNvSpPr/>
            <p:nvPr/>
          </p:nvSpPr>
          <p:spPr>
            <a:xfrm>
              <a:off x="402048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36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89400" y="4267080"/>
            <a:ext cx="309600" cy="511200"/>
            <a:chOff x="4289400" y="4267080"/>
            <a:chExt cx="309600" cy="511200"/>
          </a:xfrm>
        </p:grpSpPr>
        <p:sp>
          <p:nvSpPr>
            <p:cNvPr id="333" name=""/>
            <p:cNvSpPr/>
            <p:nvPr/>
          </p:nvSpPr>
          <p:spPr>
            <a:xfrm>
              <a:off x="433116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9000" y="4267080"/>
            <a:ext cx="309600" cy="511200"/>
            <a:chOff x="4599000" y="4267080"/>
            <a:chExt cx="309600" cy="511200"/>
          </a:xfrm>
        </p:grpSpPr>
        <p:sp>
          <p:nvSpPr>
            <p:cNvPr id="336" name=""/>
            <p:cNvSpPr/>
            <p:nvPr/>
          </p:nvSpPr>
          <p:spPr>
            <a:xfrm>
              <a:off x="464112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0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08600" y="4267080"/>
            <a:ext cx="311040" cy="511200"/>
            <a:chOff x="4908600" y="4267080"/>
            <a:chExt cx="311040" cy="511200"/>
          </a:xfrm>
        </p:grpSpPr>
        <p:sp>
          <p:nvSpPr>
            <p:cNvPr id="339" name=""/>
            <p:cNvSpPr/>
            <p:nvPr/>
          </p:nvSpPr>
          <p:spPr>
            <a:xfrm>
              <a:off x="495072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860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219640" y="4267080"/>
            <a:ext cx="309600" cy="511200"/>
            <a:chOff x="5219640" y="4267080"/>
            <a:chExt cx="309600" cy="511200"/>
          </a:xfrm>
        </p:grpSpPr>
        <p:sp>
          <p:nvSpPr>
            <p:cNvPr id="342" name=""/>
            <p:cNvSpPr/>
            <p:nvPr/>
          </p:nvSpPr>
          <p:spPr>
            <a:xfrm>
              <a:off x="52614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29240" y="4267080"/>
            <a:ext cx="309600" cy="511200"/>
            <a:chOff x="5529240" y="4267080"/>
            <a:chExt cx="309600" cy="511200"/>
          </a:xfrm>
        </p:grpSpPr>
        <p:sp>
          <p:nvSpPr>
            <p:cNvPr id="345" name=""/>
            <p:cNvSpPr/>
            <p:nvPr/>
          </p:nvSpPr>
          <p:spPr>
            <a:xfrm>
              <a:off x="557136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292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38840" y="4267080"/>
            <a:ext cx="309600" cy="511200"/>
            <a:chOff x="5838840" y="4267080"/>
            <a:chExt cx="309600" cy="511200"/>
          </a:xfrm>
        </p:grpSpPr>
        <p:sp>
          <p:nvSpPr>
            <p:cNvPr id="348" name=""/>
            <p:cNvSpPr/>
            <p:nvPr/>
          </p:nvSpPr>
          <p:spPr>
            <a:xfrm>
              <a:off x="58806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88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48440" y="4267080"/>
            <a:ext cx="701640" cy="511200"/>
            <a:chOff x="6148440" y="4267080"/>
            <a:chExt cx="701640" cy="511200"/>
          </a:xfrm>
        </p:grpSpPr>
        <p:sp>
          <p:nvSpPr>
            <p:cNvPr id="351" name=""/>
            <p:cNvSpPr/>
            <p:nvPr/>
          </p:nvSpPr>
          <p:spPr>
            <a:xfrm>
              <a:off x="6190560" y="42670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8440" y="42670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920" y="4778280"/>
            <a:ext cx="2730600" cy="509760"/>
            <a:chOff x="7920" y="4778280"/>
            <a:chExt cx="2730600" cy="509760"/>
          </a:xfrm>
        </p:grpSpPr>
        <p:sp>
          <p:nvSpPr>
            <p:cNvPr id="354" name=""/>
            <p:cNvSpPr/>
            <p:nvPr/>
          </p:nvSpPr>
          <p:spPr>
            <a:xfrm>
              <a:off x="49680" y="477828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0" y="477828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38520" y="4778280"/>
            <a:ext cx="311040" cy="509760"/>
            <a:chOff x="2738520" y="4778280"/>
            <a:chExt cx="311040" cy="509760"/>
          </a:xfrm>
        </p:grpSpPr>
        <p:sp>
          <p:nvSpPr>
            <p:cNvPr id="357" name=""/>
            <p:cNvSpPr/>
            <p:nvPr/>
          </p:nvSpPr>
          <p:spPr>
            <a:xfrm>
              <a:off x="2780640" y="477828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852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49560" y="4778280"/>
            <a:ext cx="309600" cy="509760"/>
            <a:chOff x="3049560" y="4778280"/>
            <a:chExt cx="309600" cy="509760"/>
          </a:xfrm>
        </p:grpSpPr>
        <p:sp>
          <p:nvSpPr>
            <p:cNvPr id="360" name=""/>
            <p:cNvSpPr/>
            <p:nvPr/>
          </p:nvSpPr>
          <p:spPr>
            <a:xfrm>
              <a:off x="309168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5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9160" y="4778280"/>
            <a:ext cx="309600" cy="509760"/>
            <a:chOff x="3359160" y="4778280"/>
            <a:chExt cx="309600" cy="509760"/>
          </a:xfrm>
        </p:grpSpPr>
        <p:sp>
          <p:nvSpPr>
            <p:cNvPr id="363" name=""/>
            <p:cNvSpPr/>
            <p:nvPr/>
          </p:nvSpPr>
          <p:spPr>
            <a:xfrm>
              <a:off x="340128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91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68760" y="4778280"/>
            <a:ext cx="309600" cy="509760"/>
            <a:chOff x="3668760" y="4778280"/>
            <a:chExt cx="309600" cy="509760"/>
          </a:xfrm>
        </p:grpSpPr>
        <p:sp>
          <p:nvSpPr>
            <p:cNvPr id="366" name=""/>
            <p:cNvSpPr/>
            <p:nvPr/>
          </p:nvSpPr>
          <p:spPr>
            <a:xfrm>
              <a:off x="371052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87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978360" y="4778280"/>
            <a:ext cx="311040" cy="509760"/>
            <a:chOff x="3978360" y="4778280"/>
            <a:chExt cx="311040" cy="509760"/>
          </a:xfrm>
        </p:grpSpPr>
        <p:sp>
          <p:nvSpPr>
            <p:cNvPr id="369" name=""/>
            <p:cNvSpPr/>
            <p:nvPr/>
          </p:nvSpPr>
          <p:spPr>
            <a:xfrm>
              <a:off x="402048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836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89400" y="4778280"/>
            <a:ext cx="309600" cy="509760"/>
            <a:chOff x="4289400" y="4778280"/>
            <a:chExt cx="309600" cy="509760"/>
          </a:xfrm>
        </p:grpSpPr>
        <p:sp>
          <p:nvSpPr>
            <p:cNvPr id="372" name=""/>
            <p:cNvSpPr/>
            <p:nvPr/>
          </p:nvSpPr>
          <p:spPr>
            <a:xfrm>
              <a:off x="433116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94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99000" y="4778280"/>
            <a:ext cx="309600" cy="509760"/>
            <a:chOff x="4599000" y="4778280"/>
            <a:chExt cx="309600" cy="509760"/>
          </a:xfrm>
        </p:grpSpPr>
        <p:sp>
          <p:nvSpPr>
            <p:cNvPr id="375" name=""/>
            <p:cNvSpPr/>
            <p:nvPr/>
          </p:nvSpPr>
          <p:spPr>
            <a:xfrm>
              <a:off x="464112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90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08600" y="4778280"/>
            <a:ext cx="311040" cy="509760"/>
            <a:chOff x="4908600" y="4778280"/>
            <a:chExt cx="311040" cy="509760"/>
          </a:xfrm>
        </p:grpSpPr>
        <p:sp>
          <p:nvSpPr>
            <p:cNvPr id="378" name=""/>
            <p:cNvSpPr/>
            <p:nvPr/>
          </p:nvSpPr>
          <p:spPr>
            <a:xfrm>
              <a:off x="495072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860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19640" y="4778280"/>
            <a:ext cx="309600" cy="509760"/>
            <a:chOff x="5219640" y="4778280"/>
            <a:chExt cx="309600" cy="509760"/>
          </a:xfrm>
        </p:grpSpPr>
        <p:sp>
          <p:nvSpPr>
            <p:cNvPr id="381" name=""/>
            <p:cNvSpPr/>
            <p:nvPr/>
          </p:nvSpPr>
          <p:spPr>
            <a:xfrm>
              <a:off x="52614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196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29240" y="4778280"/>
            <a:ext cx="309600" cy="509760"/>
            <a:chOff x="5529240" y="4778280"/>
            <a:chExt cx="309600" cy="509760"/>
          </a:xfrm>
        </p:grpSpPr>
        <p:sp>
          <p:nvSpPr>
            <p:cNvPr id="384" name=""/>
            <p:cNvSpPr/>
            <p:nvPr/>
          </p:nvSpPr>
          <p:spPr>
            <a:xfrm>
              <a:off x="557136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292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38840" y="4778280"/>
            <a:ext cx="309600" cy="509760"/>
            <a:chOff x="5838840" y="4778280"/>
            <a:chExt cx="309600" cy="509760"/>
          </a:xfrm>
        </p:grpSpPr>
        <p:sp>
          <p:nvSpPr>
            <p:cNvPr id="387" name=""/>
            <p:cNvSpPr/>
            <p:nvPr/>
          </p:nvSpPr>
          <p:spPr>
            <a:xfrm>
              <a:off x="58806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88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148440" y="4778280"/>
            <a:ext cx="701640" cy="509760"/>
            <a:chOff x="6148440" y="4778280"/>
            <a:chExt cx="701640" cy="509760"/>
          </a:xfrm>
        </p:grpSpPr>
        <p:sp>
          <p:nvSpPr>
            <p:cNvPr id="390" name=""/>
            <p:cNvSpPr/>
            <p:nvPr/>
          </p:nvSpPr>
          <p:spPr>
            <a:xfrm>
              <a:off x="6190560" y="477828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8440" y="477828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20" y="5288040"/>
            <a:ext cx="2730600" cy="511200"/>
            <a:chOff x="7920" y="5288040"/>
            <a:chExt cx="2730600" cy="511200"/>
          </a:xfrm>
        </p:grpSpPr>
        <p:sp>
          <p:nvSpPr>
            <p:cNvPr id="393" name=""/>
            <p:cNvSpPr/>
            <p:nvPr/>
          </p:nvSpPr>
          <p:spPr>
            <a:xfrm>
              <a:off x="49680" y="5288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" y="5288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738520" y="5288040"/>
            <a:ext cx="311040" cy="511200"/>
            <a:chOff x="2738520" y="5288040"/>
            <a:chExt cx="311040" cy="511200"/>
          </a:xfrm>
        </p:grpSpPr>
        <p:sp>
          <p:nvSpPr>
            <p:cNvPr id="396" name=""/>
            <p:cNvSpPr/>
            <p:nvPr/>
          </p:nvSpPr>
          <p:spPr>
            <a:xfrm>
              <a:off x="2780640" y="5288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852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560" y="5288040"/>
            <a:ext cx="309600" cy="511200"/>
            <a:chOff x="3049560" y="5288040"/>
            <a:chExt cx="309600" cy="511200"/>
          </a:xfrm>
        </p:grpSpPr>
        <p:sp>
          <p:nvSpPr>
            <p:cNvPr id="399" name=""/>
            <p:cNvSpPr/>
            <p:nvPr/>
          </p:nvSpPr>
          <p:spPr>
            <a:xfrm>
              <a:off x="309168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5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59160" y="5288040"/>
            <a:ext cx="309600" cy="511200"/>
            <a:chOff x="3359160" y="5288040"/>
            <a:chExt cx="309600" cy="511200"/>
          </a:xfrm>
        </p:grpSpPr>
        <p:sp>
          <p:nvSpPr>
            <p:cNvPr id="402" name=""/>
            <p:cNvSpPr/>
            <p:nvPr/>
          </p:nvSpPr>
          <p:spPr>
            <a:xfrm>
              <a:off x="340128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68760" y="5288040"/>
            <a:ext cx="309600" cy="511200"/>
            <a:chOff x="3668760" y="5288040"/>
            <a:chExt cx="309600" cy="511200"/>
          </a:xfrm>
        </p:grpSpPr>
        <p:sp>
          <p:nvSpPr>
            <p:cNvPr id="405" name=""/>
            <p:cNvSpPr/>
            <p:nvPr/>
          </p:nvSpPr>
          <p:spPr>
            <a:xfrm>
              <a:off x="371052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87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78360" y="5288040"/>
            <a:ext cx="311040" cy="511200"/>
            <a:chOff x="3978360" y="5288040"/>
            <a:chExt cx="311040" cy="511200"/>
          </a:xfrm>
        </p:grpSpPr>
        <p:sp>
          <p:nvSpPr>
            <p:cNvPr id="408" name=""/>
            <p:cNvSpPr/>
            <p:nvPr/>
          </p:nvSpPr>
          <p:spPr>
            <a:xfrm>
              <a:off x="402048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7836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89400" y="5288040"/>
            <a:ext cx="309600" cy="511200"/>
            <a:chOff x="4289400" y="5288040"/>
            <a:chExt cx="309600" cy="511200"/>
          </a:xfrm>
        </p:grpSpPr>
        <p:sp>
          <p:nvSpPr>
            <p:cNvPr id="411" name=""/>
            <p:cNvSpPr/>
            <p:nvPr/>
          </p:nvSpPr>
          <p:spPr>
            <a:xfrm>
              <a:off x="433116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4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99000" y="5288040"/>
            <a:ext cx="309600" cy="511200"/>
            <a:chOff x="4599000" y="5288040"/>
            <a:chExt cx="309600" cy="511200"/>
          </a:xfrm>
        </p:grpSpPr>
        <p:sp>
          <p:nvSpPr>
            <p:cNvPr id="414" name=""/>
            <p:cNvSpPr/>
            <p:nvPr/>
          </p:nvSpPr>
          <p:spPr>
            <a:xfrm>
              <a:off x="464112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990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08600" y="5288040"/>
            <a:ext cx="311040" cy="511200"/>
            <a:chOff x="4908600" y="5288040"/>
            <a:chExt cx="311040" cy="511200"/>
          </a:xfrm>
        </p:grpSpPr>
        <p:sp>
          <p:nvSpPr>
            <p:cNvPr id="417" name=""/>
            <p:cNvSpPr/>
            <p:nvPr/>
          </p:nvSpPr>
          <p:spPr>
            <a:xfrm>
              <a:off x="495072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860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19640" y="5288040"/>
            <a:ext cx="309600" cy="511200"/>
            <a:chOff x="5219640" y="5288040"/>
            <a:chExt cx="309600" cy="511200"/>
          </a:xfrm>
        </p:grpSpPr>
        <p:sp>
          <p:nvSpPr>
            <p:cNvPr id="420" name=""/>
            <p:cNvSpPr/>
            <p:nvPr/>
          </p:nvSpPr>
          <p:spPr>
            <a:xfrm>
              <a:off x="52614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96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529240" y="5288040"/>
            <a:ext cx="309600" cy="511200"/>
            <a:chOff x="5529240" y="5288040"/>
            <a:chExt cx="309600" cy="511200"/>
          </a:xfrm>
        </p:grpSpPr>
        <p:sp>
          <p:nvSpPr>
            <p:cNvPr id="423" name=""/>
            <p:cNvSpPr/>
            <p:nvPr/>
          </p:nvSpPr>
          <p:spPr>
            <a:xfrm>
              <a:off x="557136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92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38840" y="5288040"/>
            <a:ext cx="309600" cy="511200"/>
            <a:chOff x="5838840" y="5288040"/>
            <a:chExt cx="309600" cy="511200"/>
          </a:xfrm>
        </p:grpSpPr>
        <p:sp>
          <p:nvSpPr>
            <p:cNvPr id="426" name=""/>
            <p:cNvSpPr/>
            <p:nvPr/>
          </p:nvSpPr>
          <p:spPr>
            <a:xfrm>
              <a:off x="58806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48440" y="5288040"/>
            <a:ext cx="701640" cy="511200"/>
            <a:chOff x="6148440" y="5288040"/>
            <a:chExt cx="701640" cy="511200"/>
          </a:xfrm>
        </p:grpSpPr>
        <p:sp>
          <p:nvSpPr>
            <p:cNvPr id="429" name=""/>
            <p:cNvSpPr/>
            <p:nvPr/>
          </p:nvSpPr>
          <p:spPr>
            <a:xfrm>
              <a:off x="6190560" y="5288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8440" y="5288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920" y="5799240"/>
            <a:ext cx="2730600" cy="511200"/>
            <a:chOff x="7920" y="5799240"/>
            <a:chExt cx="2730600" cy="511200"/>
          </a:xfrm>
        </p:grpSpPr>
        <p:sp>
          <p:nvSpPr>
            <p:cNvPr id="432" name=""/>
            <p:cNvSpPr/>
            <p:nvPr/>
          </p:nvSpPr>
          <p:spPr>
            <a:xfrm>
              <a:off x="49680" y="57992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0" y="57992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38520" y="5799240"/>
            <a:ext cx="311040" cy="511200"/>
            <a:chOff x="2738520" y="5799240"/>
            <a:chExt cx="311040" cy="511200"/>
          </a:xfrm>
        </p:grpSpPr>
        <p:sp>
          <p:nvSpPr>
            <p:cNvPr id="435" name=""/>
            <p:cNvSpPr/>
            <p:nvPr/>
          </p:nvSpPr>
          <p:spPr>
            <a:xfrm>
              <a:off x="2780640" y="57992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852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560" y="5799240"/>
            <a:ext cx="309600" cy="511200"/>
            <a:chOff x="3049560" y="5799240"/>
            <a:chExt cx="309600" cy="511200"/>
          </a:xfrm>
        </p:grpSpPr>
        <p:sp>
          <p:nvSpPr>
            <p:cNvPr id="438" name=""/>
            <p:cNvSpPr/>
            <p:nvPr/>
          </p:nvSpPr>
          <p:spPr>
            <a:xfrm>
              <a:off x="309168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5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59160" y="5799240"/>
            <a:ext cx="309600" cy="511200"/>
            <a:chOff x="3359160" y="5799240"/>
            <a:chExt cx="309600" cy="511200"/>
          </a:xfrm>
        </p:grpSpPr>
        <p:sp>
          <p:nvSpPr>
            <p:cNvPr id="441" name=""/>
            <p:cNvSpPr/>
            <p:nvPr/>
          </p:nvSpPr>
          <p:spPr>
            <a:xfrm>
              <a:off x="340128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8760" y="5799240"/>
            <a:ext cx="309600" cy="511200"/>
            <a:chOff x="3668760" y="5799240"/>
            <a:chExt cx="309600" cy="511200"/>
          </a:xfrm>
        </p:grpSpPr>
        <p:sp>
          <p:nvSpPr>
            <p:cNvPr id="444" name=""/>
            <p:cNvSpPr/>
            <p:nvPr/>
          </p:nvSpPr>
          <p:spPr>
            <a:xfrm>
              <a:off x="371052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87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78360" y="5799240"/>
            <a:ext cx="311040" cy="511200"/>
            <a:chOff x="3978360" y="5799240"/>
            <a:chExt cx="311040" cy="511200"/>
          </a:xfrm>
        </p:grpSpPr>
        <p:sp>
          <p:nvSpPr>
            <p:cNvPr id="447" name=""/>
            <p:cNvSpPr/>
            <p:nvPr/>
          </p:nvSpPr>
          <p:spPr>
            <a:xfrm>
              <a:off x="402048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836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289400" y="5799240"/>
            <a:ext cx="309600" cy="511200"/>
            <a:chOff x="4289400" y="5799240"/>
            <a:chExt cx="309600" cy="511200"/>
          </a:xfrm>
        </p:grpSpPr>
        <p:sp>
          <p:nvSpPr>
            <p:cNvPr id="450" name=""/>
            <p:cNvSpPr/>
            <p:nvPr/>
          </p:nvSpPr>
          <p:spPr>
            <a:xfrm>
              <a:off x="433116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894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99000" y="5799240"/>
            <a:ext cx="309600" cy="511200"/>
            <a:chOff x="4599000" y="5799240"/>
            <a:chExt cx="309600" cy="511200"/>
          </a:xfrm>
        </p:grpSpPr>
        <p:sp>
          <p:nvSpPr>
            <p:cNvPr id="453" name=""/>
            <p:cNvSpPr/>
            <p:nvPr/>
          </p:nvSpPr>
          <p:spPr>
            <a:xfrm>
              <a:off x="464112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990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08600" y="5799240"/>
            <a:ext cx="311040" cy="511200"/>
            <a:chOff x="4908600" y="5799240"/>
            <a:chExt cx="311040" cy="511200"/>
          </a:xfrm>
        </p:grpSpPr>
        <p:sp>
          <p:nvSpPr>
            <p:cNvPr id="456" name=""/>
            <p:cNvSpPr/>
            <p:nvPr/>
          </p:nvSpPr>
          <p:spPr>
            <a:xfrm>
              <a:off x="495072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19640" y="5799240"/>
            <a:ext cx="309600" cy="511200"/>
            <a:chOff x="5219640" y="5799240"/>
            <a:chExt cx="309600" cy="511200"/>
          </a:xfrm>
        </p:grpSpPr>
        <p:sp>
          <p:nvSpPr>
            <p:cNvPr id="459" name=""/>
            <p:cNvSpPr/>
            <p:nvPr/>
          </p:nvSpPr>
          <p:spPr>
            <a:xfrm>
              <a:off x="52614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196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29240" y="5799240"/>
            <a:ext cx="309600" cy="511200"/>
            <a:chOff x="5529240" y="5799240"/>
            <a:chExt cx="309600" cy="511200"/>
          </a:xfrm>
        </p:grpSpPr>
        <p:sp>
          <p:nvSpPr>
            <p:cNvPr id="462" name=""/>
            <p:cNvSpPr/>
            <p:nvPr/>
          </p:nvSpPr>
          <p:spPr>
            <a:xfrm>
              <a:off x="557136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92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38840" y="5799240"/>
            <a:ext cx="309600" cy="511200"/>
            <a:chOff x="5838840" y="5799240"/>
            <a:chExt cx="309600" cy="511200"/>
          </a:xfrm>
        </p:grpSpPr>
        <p:sp>
          <p:nvSpPr>
            <p:cNvPr id="465" name=""/>
            <p:cNvSpPr/>
            <p:nvPr/>
          </p:nvSpPr>
          <p:spPr>
            <a:xfrm>
              <a:off x="58806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388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148440" y="5799240"/>
            <a:ext cx="701640" cy="511200"/>
            <a:chOff x="6148440" y="5799240"/>
            <a:chExt cx="701640" cy="511200"/>
          </a:xfrm>
        </p:grpSpPr>
        <p:sp>
          <p:nvSpPr>
            <p:cNvPr id="468" name=""/>
            <p:cNvSpPr/>
            <p:nvPr/>
          </p:nvSpPr>
          <p:spPr>
            <a:xfrm>
              <a:off x="6190560" y="57992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8440" y="57992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920" y="6310440"/>
            <a:ext cx="2730600" cy="509400"/>
            <a:chOff x="7920" y="6310440"/>
            <a:chExt cx="2730600" cy="509400"/>
          </a:xfrm>
        </p:grpSpPr>
        <p:sp>
          <p:nvSpPr>
            <p:cNvPr id="471" name=""/>
            <p:cNvSpPr/>
            <p:nvPr/>
          </p:nvSpPr>
          <p:spPr>
            <a:xfrm>
              <a:off x="49680" y="631044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0" y="631044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38520" y="6310440"/>
            <a:ext cx="311040" cy="509400"/>
            <a:chOff x="2738520" y="6310440"/>
            <a:chExt cx="311040" cy="509400"/>
          </a:xfrm>
        </p:grpSpPr>
        <p:sp>
          <p:nvSpPr>
            <p:cNvPr id="474" name=""/>
            <p:cNvSpPr/>
            <p:nvPr/>
          </p:nvSpPr>
          <p:spPr>
            <a:xfrm>
              <a:off x="2780640" y="631044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3852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49560" y="6310440"/>
            <a:ext cx="309600" cy="509400"/>
            <a:chOff x="3049560" y="6310440"/>
            <a:chExt cx="309600" cy="509400"/>
          </a:xfrm>
        </p:grpSpPr>
        <p:sp>
          <p:nvSpPr>
            <p:cNvPr id="477" name=""/>
            <p:cNvSpPr/>
            <p:nvPr/>
          </p:nvSpPr>
          <p:spPr>
            <a:xfrm>
              <a:off x="309168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5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59160" y="6310440"/>
            <a:ext cx="309600" cy="509400"/>
            <a:chOff x="3359160" y="6310440"/>
            <a:chExt cx="309600" cy="509400"/>
          </a:xfrm>
        </p:grpSpPr>
        <p:sp>
          <p:nvSpPr>
            <p:cNvPr id="480" name=""/>
            <p:cNvSpPr/>
            <p:nvPr/>
          </p:nvSpPr>
          <p:spPr>
            <a:xfrm>
              <a:off x="340128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91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68760" y="6310440"/>
            <a:ext cx="309600" cy="509400"/>
            <a:chOff x="3668760" y="6310440"/>
            <a:chExt cx="309600" cy="509400"/>
          </a:xfrm>
        </p:grpSpPr>
        <p:sp>
          <p:nvSpPr>
            <p:cNvPr id="483" name=""/>
            <p:cNvSpPr/>
            <p:nvPr/>
          </p:nvSpPr>
          <p:spPr>
            <a:xfrm>
              <a:off x="371052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87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978360" y="6310440"/>
            <a:ext cx="311040" cy="509400"/>
            <a:chOff x="3978360" y="6310440"/>
            <a:chExt cx="311040" cy="509400"/>
          </a:xfrm>
        </p:grpSpPr>
        <p:sp>
          <p:nvSpPr>
            <p:cNvPr id="486" name=""/>
            <p:cNvSpPr/>
            <p:nvPr/>
          </p:nvSpPr>
          <p:spPr>
            <a:xfrm>
              <a:off x="402048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836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289400" y="6310440"/>
            <a:ext cx="309600" cy="509400"/>
            <a:chOff x="4289400" y="6310440"/>
            <a:chExt cx="309600" cy="509400"/>
          </a:xfrm>
        </p:grpSpPr>
        <p:sp>
          <p:nvSpPr>
            <p:cNvPr id="489" name=""/>
            <p:cNvSpPr/>
            <p:nvPr/>
          </p:nvSpPr>
          <p:spPr>
            <a:xfrm>
              <a:off x="433116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94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99000" y="6310440"/>
            <a:ext cx="309600" cy="509400"/>
            <a:chOff x="4599000" y="6310440"/>
            <a:chExt cx="309600" cy="509400"/>
          </a:xfrm>
        </p:grpSpPr>
        <p:sp>
          <p:nvSpPr>
            <p:cNvPr id="492" name=""/>
            <p:cNvSpPr/>
            <p:nvPr/>
          </p:nvSpPr>
          <p:spPr>
            <a:xfrm>
              <a:off x="464112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90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908600" y="6310440"/>
            <a:ext cx="311040" cy="509400"/>
            <a:chOff x="4908600" y="6310440"/>
            <a:chExt cx="311040" cy="509400"/>
          </a:xfrm>
        </p:grpSpPr>
        <p:sp>
          <p:nvSpPr>
            <p:cNvPr id="495" name=""/>
            <p:cNvSpPr/>
            <p:nvPr/>
          </p:nvSpPr>
          <p:spPr>
            <a:xfrm>
              <a:off x="495072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0860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219640" y="6310440"/>
            <a:ext cx="309600" cy="509400"/>
            <a:chOff x="5219640" y="6310440"/>
            <a:chExt cx="309600" cy="509400"/>
          </a:xfrm>
        </p:grpSpPr>
        <p:sp>
          <p:nvSpPr>
            <p:cNvPr id="498" name=""/>
            <p:cNvSpPr/>
            <p:nvPr/>
          </p:nvSpPr>
          <p:spPr>
            <a:xfrm>
              <a:off x="52614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529240" y="6310440"/>
            <a:ext cx="309600" cy="509400"/>
            <a:chOff x="5529240" y="6310440"/>
            <a:chExt cx="309600" cy="509400"/>
          </a:xfrm>
        </p:grpSpPr>
        <p:sp>
          <p:nvSpPr>
            <p:cNvPr id="501" name=""/>
            <p:cNvSpPr/>
            <p:nvPr/>
          </p:nvSpPr>
          <p:spPr>
            <a:xfrm>
              <a:off x="557136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292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838840" y="6310440"/>
            <a:ext cx="309600" cy="509400"/>
            <a:chOff x="5838840" y="6310440"/>
            <a:chExt cx="309600" cy="509400"/>
          </a:xfrm>
        </p:grpSpPr>
        <p:sp>
          <p:nvSpPr>
            <p:cNvPr id="504" name=""/>
            <p:cNvSpPr/>
            <p:nvPr/>
          </p:nvSpPr>
          <p:spPr>
            <a:xfrm>
              <a:off x="58806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88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8440" y="6310440"/>
            <a:ext cx="701640" cy="509400"/>
            <a:chOff x="6148440" y="6310440"/>
            <a:chExt cx="701640" cy="509400"/>
          </a:xfrm>
        </p:grpSpPr>
        <p:sp>
          <p:nvSpPr>
            <p:cNvPr id="507" name=""/>
            <p:cNvSpPr/>
            <p:nvPr/>
          </p:nvSpPr>
          <p:spPr>
            <a:xfrm>
              <a:off x="6190560" y="631044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440" y="631044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920" y="6819840"/>
            <a:ext cx="2730600" cy="511200"/>
            <a:chOff x="7920" y="6819840"/>
            <a:chExt cx="2730600" cy="511200"/>
          </a:xfrm>
        </p:grpSpPr>
        <p:sp>
          <p:nvSpPr>
            <p:cNvPr id="510" name=""/>
            <p:cNvSpPr/>
            <p:nvPr/>
          </p:nvSpPr>
          <p:spPr>
            <a:xfrm>
              <a:off x="49680" y="68198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0" y="68198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38520" y="6819840"/>
            <a:ext cx="311040" cy="511200"/>
            <a:chOff x="2738520" y="6819840"/>
            <a:chExt cx="311040" cy="511200"/>
          </a:xfrm>
        </p:grpSpPr>
        <p:sp>
          <p:nvSpPr>
            <p:cNvPr id="513" name=""/>
            <p:cNvSpPr/>
            <p:nvPr/>
          </p:nvSpPr>
          <p:spPr>
            <a:xfrm>
              <a:off x="2780640" y="68198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852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049560" y="6819840"/>
            <a:ext cx="309600" cy="511200"/>
            <a:chOff x="3049560" y="6819840"/>
            <a:chExt cx="309600" cy="511200"/>
          </a:xfrm>
        </p:grpSpPr>
        <p:sp>
          <p:nvSpPr>
            <p:cNvPr id="516" name=""/>
            <p:cNvSpPr/>
            <p:nvPr/>
          </p:nvSpPr>
          <p:spPr>
            <a:xfrm>
              <a:off x="309168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5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359160" y="6819840"/>
            <a:ext cx="309600" cy="511200"/>
            <a:chOff x="3359160" y="6819840"/>
            <a:chExt cx="309600" cy="511200"/>
          </a:xfrm>
        </p:grpSpPr>
        <p:sp>
          <p:nvSpPr>
            <p:cNvPr id="519" name=""/>
            <p:cNvSpPr/>
            <p:nvPr/>
          </p:nvSpPr>
          <p:spPr>
            <a:xfrm>
              <a:off x="340128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91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68760" y="6819840"/>
            <a:ext cx="309600" cy="511200"/>
            <a:chOff x="3668760" y="6819840"/>
            <a:chExt cx="309600" cy="511200"/>
          </a:xfrm>
        </p:grpSpPr>
        <p:sp>
          <p:nvSpPr>
            <p:cNvPr id="522" name=""/>
            <p:cNvSpPr/>
            <p:nvPr/>
          </p:nvSpPr>
          <p:spPr>
            <a:xfrm>
              <a:off x="371052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87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978360" y="6819840"/>
            <a:ext cx="311040" cy="511200"/>
            <a:chOff x="3978360" y="6819840"/>
            <a:chExt cx="311040" cy="511200"/>
          </a:xfrm>
        </p:grpSpPr>
        <p:sp>
          <p:nvSpPr>
            <p:cNvPr id="525" name=""/>
            <p:cNvSpPr/>
            <p:nvPr/>
          </p:nvSpPr>
          <p:spPr>
            <a:xfrm>
              <a:off x="402048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9400" y="6819840"/>
            <a:ext cx="309600" cy="511200"/>
            <a:chOff x="4289400" y="6819840"/>
            <a:chExt cx="309600" cy="511200"/>
          </a:xfrm>
        </p:grpSpPr>
        <p:sp>
          <p:nvSpPr>
            <p:cNvPr id="528" name=""/>
            <p:cNvSpPr/>
            <p:nvPr/>
          </p:nvSpPr>
          <p:spPr>
            <a:xfrm>
              <a:off x="433116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99000" y="6819840"/>
            <a:ext cx="309600" cy="511200"/>
            <a:chOff x="4599000" y="6819840"/>
            <a:chExt cx="309600" cy="511200"/>
          </a:xfrm>
        </p:grpSpPr>
        <p:sp>
          <p:nvSpPr>
            <p:cNvPr id="531" name=""/>
            <p:cNvSpPr/>
            <p:nvPr/>
          </p:nvSpPr>
          <p:spPr>
            <a:xfrm>
              <a:off x="464112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90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908600" y="6819840"/>
            <a:ext cx="311040" cy="511200"/>
            <a:chOff x="4908600" y="6819840"/>
            <a:chExt cx="311040" cy="511200"/>
          </a:xfrm>
        </p:grpSpPr>
        <p:sp>
          <p:nvSpPr>
            <p:cNvPr id="534" name=""/>
            <p:cNvSpPr/>
            <p:nvPr/>
          </p:nvSpPr>
          <p:spPr>
            <a:xfrm>
              <a:off x="495072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860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19640" y="6819840"/>
            <a:ext cx="309600" cy="511200"/>
            <a:chOff x="5219640" y="6819840"/>
            <a:chExt cx="309600" cy="511200"/>
          </a:xfrm>
        </p:grpSpPr>
        <p:sp>
          <p:nvSpPr>
            <p:cNvPr id="537" name=""/>
            <p:cNvSpPr/>
            <p:nvPr/>
          </p:nvSpPr>
          <p:spPr>
            <a:xfrm>
              <a:off x="52614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529240" y="6819840"/>
            <a:ext cx="309600" cy="511200"/>
            <a:chOff x="5529240" y="6819840"/>
            <a:chExt cx="309600" cy="511200"/>
          </a:xfrm>
        </p:grpSpPr>
        <p:sp>
          <p:nvSpPr>
            <p:cNvPr id="540" name=""/>
            <p:cNvSpPr/>
            <p:nvPr/>
          </p:nvSpPr>
          <p:spPr>
            <a:xfrm>
              <a:off x="557136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38840" y="6819840"/>
            <a:ext cx="309600" cy="511200"/>
            <a:chOff x="5838840" y="6819840"/>
            <a:chExt cx="309600" cy="511200"/>
          </a:xfrm>
        </p:grpSpPr>
        <p:sp>
          <p:nvSpPr>
            <p:cNvPr id="543" name=""/>
            <p:cNvSpPr/>
            <p:nvPr/>
          </p:nvSpPr>
          <p:spPr>
            <a:xfrm>
              <a:off x="58806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88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148440" y="6819840"/>
            <a:ext cx="701640" cy="511200"/>
            <a:chOff x="6148440" y="6819840"/>
            <a:chExt cx="701640" cy="511200"/>
          </a:xfrm>
        </p:grpSpPr>
        <p:sp>
          <p:nvSpPr>
            <p:cNvPr id="546" name=""/>
            <p:cNvSpPr/>
            <p:nvPr/>
          </p:nvSpPr>
          <p:spPr>
            <a:xfrm>
              <a:off x="6190560" y="68198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8440" y="68198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920" y="7331040"/>
            <a:ext cx="2730600" cy="511200"/>
            <a:chOff x="7920" y="7331040"/>
            <a:chExt cx="2730600" cy="511200"/>
          </a:xfrm>
        </p:grpSpPr>
        <p:sp>
          <p:nvSpPr>
            <p:cNvPr id="549" name=""/>
            <p:cNvSpPr/>
            <p:nvPr/>
          </p:nvSpPr>
          <p:spPr>
            <a:xfrm>
              <a:off x="49680" y="7331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0" y="7331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8520" y="7331040"/>
            <a:ext cx="311040" cy="511200"/>
            <a:chOff x="2738520" y="7331040"/>
            <a:chExt cx="311040" cy="511200"/>
          </a:xfrm>
        </p:grpSpPr>
        <p:sp>
          <p:nvSpPr>
            <p:cNvPr id="552" name=""/>
            <p:cNvSpPr/>
            <p:nvPr/>
          </p:nvSpPr>
          <p:spPr>
            <a:xfrm>
              <a:off x="2780640" y="7331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852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49560" y="7331040"/>
            <a:ext cx="309600" cy="511200"/>
            <a:chOff x="3049560" y="7331040"/>
            <a:chExt cx="309600" cy="511200"/>
          </a:xfrm>
        </p:grpSpPr>
        <p:sp>
          <p:nvSpPr>
            <p:cNvPr id="555" name=""/>
            <p:cNvSpPr/>
            <p:nvPr/>
          </p:nvSpPr>
          <p:spPr>
            <a:xfrm>
              <a:off x="309168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5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359160" y="7331040"/>
            <a:ext cx="309600" cy="511200"/>
            <a:chOff x="3359160" y="7331040"/>
            <a:chExt cx="309600" cy="511200"/>
          </a:xfrm>
        </p:grpSpPr>
        <p:sp>
          <p:nvSpPr>
            <p:cNvPr id="558" name=""/>
            <p:cNvSpPr/>
            <p:nvPr/>
          </p:nvSpPr>
          <p:spPr>
            <a:xfrm>
              <a:off x="340128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91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68760" y="7331040"/>
            <a:ext cx="309600" cy="511200"/>
            <a:chOff x="3668760" y="7331040"/>
            <a:chExt cx="309600" cy="511200"/>
          </a:xfrm>
        </p:grpSpPr>
        <p:sp>
          <p:nvSpPr>
            <p:cNvPr id="561" name=""/>
            <p:cNvSpPr/>
            <p:nvPr/>
          </p:nvSpPr>
          <p:spPr>
            <a:xfrm>
              <a:off x="371052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87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78360" y="7331040"/>
            <a:ext cx="311040" cy="511200"/>
            <a:chOff x="3978360" y="7331040"/>
            <a:chExt cx="311040" cy="511200"/>
          </a:xfrm>
        </p:grpSpPr>
        <p:sp>
          <p:nvSpPr>
            <p:cNvPr id="564" name=""/>
            <p:cNvSpPr/>
            <p:nvPr/>
          </p:nvSpPr>
          <p:spPr>
            <a:xfrm>
              <a:off x="402048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7836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89400" y="7331040"/>
            <a:ext cx="309600" cy="511200"/>
            <a:chOff x="4289400" y="7331040"/>
            <a:chExt cx="309600" cy="511200"/>
          </a:xfrm>
        </p:grpSpPr>
        <p:sp>
          <p:nvSpPr>
            <p:cNvPr id="567" name=""/>
            <p:cNvSpPr/>
            <p:nvPr/>
          </p:nvSpPr>
          <p:spPr>
            <a:xfrm>
              <a:off x="433116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4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99000" y="7331040"/>
            <a:ext cx="309600" cy="511200"/>
            <a:chOff x="4599000" y="7331040"/>
            <a:chExt cx="309600" cy="511200"/>
          </a:xfrm>
        </p:grpSpPr>
        <p:sp>
          <p:nvSpPr>
            <p:cNvPr id="570" name=""/>
            <p:cNvSpPr/>
            <p:nvPr/>
          </p:nvSpPr>
          <p:spPr>
            <a:xfrm>
              <a:off x="464112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90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8600" y="7331040"/>
            <a:ext cx="311040" cy="511200"/>
            <a:chOff x="4908600" y="7331040"/>
            <a:chExt cx="311040" cy="511200"/>
          </a:xfrm>
        </p:grpSpPr>
        <p:sp>
          <p:nvSpPr>
            <p:cNvPr id="573" name=""/>
            <p:cNvSpPr/>
            <p:nvPr/>
          </p:nvSpPr>
          <p:spPr>
            <a:xfrm>
              <a:off x="495072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60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19640" y="7331040"/>
            <a:ext cx="309600" cy="511200"/>
            <a:chOff x="5219640" y="7331040"/>
            <a:chExt cx="309600" cy="511200"/>
          </a:xfrm>
        </p:grpSpPr>
        <p:sp>
          <p:nvSpPr>
            <p:cNvPr id="576" name=""/>
            <p:cNvSpPr/>
            <p:nvPr/>
          </p:nvSpPr>
          <p:spPr>
            <a:xfrm>
              <a:off x="52614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29240" y="7331040"/>
            <a:ext cx="309600" cy="511200"/>
            <a:chOff x="5529240" y="7331040"/>
            <a:chExt cx="309600" cy="511200"/>
          </a:xfrm>
        </p:grpSpPr>
        <p:sp>
          <p:nvSpPr>
            <p:cNvPr id="579" name=""/>
            <p:cNvSpPr/>
            <p:nvPr/>
          </p:nvSpPr>
          <p:spPr>
            <a:xfrm>
              <a:off x="557136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92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38840" y="7331040"/>
            <a:ext cx="309600" cy="511200"/>
            <a:chOff x="5838840" y="7331040"/>
            <a:chExt cx="309600" cy="511200"/>
          </a:xfrm>
        </p:grpSpPr>
        <p:sp>
          <p:nvSpPr>
            <p:cNvPr id="582" name=""/>
            <p:cNvSpPr/>
            <p:nvPr/>
          </p:nvSpPr>
          <p:spPr>
            <a:xfrm>
              <a:off x="58806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88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48440" y="7331040"/>
            <a:ext cx="701640" cy="511200"/>
            <a:chOff x="6148440" y="7331040"/>
            <a:chExt cx="701640" cy="511200"/>
          </a:xfrm>
        </p:grpSpPr>
        <p:sp>
          <p:nvSpPr>
            <p:cNvPr id="585" name=""/>
            <p:cNvSpPr/>
            <p:nvPr/>
          </p:nvSpPr>
          <p:spPr>
            <a:xfrm>
              <a:off x="6190560" y="7331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48440" y="7331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920" y="7842240"/>
            <a:ext cx="2730600" cy="509760"/>
            <a:chOff x="7920" y="7842240"/>
            <a:chExt cx="2730600" cy="509760"/>
          </a:xfrm>
        </p:grpSpPr>
        <p:sp>
          <p:nvSpPr>
            <p:cNvPr id="588" name=""/>
            <p:cNvSpPr/>
            <p:nvPr/>
          </p:nvSpPr>
          <p:spPr>
            <a:xfrm>
              <a:off x="49680" y="784224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0" y="784224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38520" y="7842240"/>
            <a:ext cx="311040" cy="509760"/>
            <a:chOff x="2738520" y="7842240"/>
            <a:chExt cx="311040" cy="509760"/>
          </a:xfrm>
        </p:grpSpPr>
        <p:sp>
          <p:nvSpPr>
            <p:cNvPr id="591" name=""/>
            <p:cNvSpPr/>
            <p:nvPr/>
          </p:nvSpPr>
          <p:spPr>
            <a:xfrm>
              <a:off x="2780640" y="784224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852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560" y="7842240"/>
            <a:ext cx="309600" cy="509760"/>
            <a:chOff x="3049560" y="7842240"/>
            <a:chExt cx="309600" cy="509760"/>
          </a:xfrm>
        </p:grpSpPr>
        <p:sp>
          <p:nvSpPr>
            <p:cNvPr id="594" name=""/>
            <p:cNvSpPr/>
            <p:nvPr/>
          </p:nvSpPr>
          <p:spPr>
            <a:xfrm>
              <a:off x="309168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5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59160" y="7842240"/>
            <a:ext cx="309600" cy="509760"/>
            <a:chOff x="3359160" y="7842240"/>
            <a:chExt cx="309600" cy="509760"/>
          </a:xfrm>
        </p:grpSpPr>
        <p:sp>
          <p:nvSpPr>
            <p:cNvPr id="597" name=""/>
            <p:cNvSpPr/>
            <p:nvPr/>
          </p:nvSpPr>
          <p:spPr>
            <a:xfrm>
              <a:off x="340128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591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668760" y="7842240"/>
            <a:ext cx="309600" cy="509760"/>
            <a:chOff x="3668760" y="7842240"/>
            <a:chExt cx="309600" cy="509760"/>
          </a:xfrm>
        </p:grpSpPr>
        <p:sp>
          <p:nvSpPr>
            <p:cNvPr id="600" name=""/>
            <p:cNvSpPr/>
            <p:nvPr/>
          </p:nvSpPr>
          <p:spPr>
            <a:xfrm>
              <a:off x="371052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687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978360" y="7842240"/>
            <a:ext cx="311040" cy="509760"/>
            <a:chOff x="3978360" y="7842240"/>
            <a:chExt cx="311040" cy="509760"/>
          </a:xfrm>
        </p:grpSpPr>
        <p:sp>
          <p:nvSpPr>
            <p:cNvPr id="603" name=""/>
            <p:cNvSpPr/>
            <p:nvPr/>
          </p:nvSpPr>
          <p:spPr>
            <a:xfrm>
              <a:off x="402048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89400" y="7842240"/>
            <a:ext cx="309600" cy="509760"/>
            <a:chOff x="4289400" y="7842240"/>
            <a:chExt cx="309600" cy="509760"/>
          </a:xfrm>
        </p:grpSpPr>
        <p:sp>
          <p:nvSpPr>
            <p:cNvPr id="606" name=""/>
            <p:cNvSpPr/>
            <p:nvPr/>
          </p:nvSpPr>
          <p:spPr>
            <a:xfrm>
              <a:off x="433116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4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99000" y="7842240"/>
            <a:ext cx="309600" cy="509760"/>
            <a:chOff x="4599000" y="7842240"/>
            <a:chExt cx="309600" cy="509760"/>
          </a:xfrm>
        </p:grpSpPr>
        <p:sp>
          <p:nvSpPr>
            <p:cNvPr id="609" name=""/>
            <p:cNvSpPr/>
            <p:nvPr/>
          </p:nvSpPr>
          <p:spPr>
            <a:xfrm>
              <a:off x="464112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990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908600" y="7842240"/>
            <a:ext cx="311040" cy="509760"/>
            <a:chOff x="4908600" y="7842240"/>
            <a:chExt cx="311040" cy="509760"/>
          </a:xfrm>
        </p:grpSpPr>
        <p:sp>
          <p:nvSpPr>
            <p:cNvPr id="612" name=""/>
            <p:cNvSpPr/>
            <p:nvPr/>
          </p:nvSpPr>
          <p:spPr>
            <a:xfrm>
              <a:off x="495072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860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219640" y="7842240"/>
            <a:ext cx="309600" cy="509760"/>
            <a:chOff x="5219640" y="7842240"/>
            <a:chExt cx="309600" cy="509760"/>
          </a:xfrm>
        </p:grpSpPr>
        <p:sp>
          <p:nvSpPr>
            <p:cNvPr id="615" name=""/>
            <p:cNvSpPr/>
            <p:nvPr/>
          </p:nvSpPr>
          <p:spPr>
            <a:xfrm>
              <a:off x="52614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29240" y="7842240"/>
            <a:ext cx="309600" cy="509760"/>
            <a:chOff x="5529240" y="7842240"/>
            <a:chExt cx="309600" cy="509760"/>
          </a:xfrm>
        </p:grpSpPr>
        <p:sp>
          <p:nvSpPr>
            <p:cNvPr id="618" name=""/>
            <p:cNvSpPr/>
            <p:nvPr/>
          </p:nvSpPr>
          <p:spPr>
            <a:xfrm>
              <a:off x="557136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92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38840" y="7842240"/>
            <a:ext cx="309600" cy="509760"/>
            <a:chOff x="5838840" y="7842240"/>
            <a:chExt cx="309600" cy="509760"/>
          </a:xfrm>
        </p:grpSpPr>
        <p:sp>
          <p:nvSpPr>
            <p:cNvPr id="621" name=""/>
            <p:cNvSpPr/>
            <p:nvPr/>
          </p:nvSpPr>
          <p:spPr>
            <a:xfrm>
              <a:off x="58806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388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148440" y="7842240"/>
            <a:ext cx="701640" cy="509760"/>
            <a:chOff x="6148440" y="7842240"/>
            <a:chExt cx="701640" cy="509760"/>
          </a:xfrm>
        </p:grpSpPr>
        <p:sp>
          <p:nvSpPr>
            <p:cNvPr id="624" name=""/>
            <p:cNvSpPr/>
            <p:nvPr/>
          </p:nvSpPr>
          <p:spPr>
            <a:xfrm>
              <a:off x="6190560" y="784224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48440" y="784224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20" y="8352000"/>
            <a:ext cx="2730600" cy="785520"/>
            <a:chOff x="7920" y="8352000"/>
            <a:chExt cx="2730600" cy="785520"/>
          </a:xfrm>
        </p:grpSpPr>
        <p:sp>
          <p:nvSpPr>
            <p:cNvPr id="627" name=""/>
            <p:cNvSpPr/>
            <p:nvPr/>
          </p:nvSpPr>
          <p:spPr>
            <a:xfrm>
              <a:off x="49680" y="8352000"/>
              <a:ext cx="264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" y="8352000"/>
              <a:ext cx="2730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38520" y="8352000"/>
            <a:ext cx="311040" cy="785520"/>
            <a:chOff x="2738520" y="8352000"/>
            <a:chExt cx="311040" cy="785520"/>
          </a:xfrm>
        </p:grpSpPr>
        <p:sp>
          <p:nvSpPr>
            <p:cNvPr id="630" name=""/>
            <p:cNvSpPr/>
            <p:nvPr/>
          </p:nvSpPr>
          <p:spPr>
            <a:xfrm>
              <a:off x="2780640" y="8352000"/>
              <a:ext cx="226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852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49560" y="8352000"/>
            <a:ext cx="309600" cy="785520"/>
            <a:chOff x="3049560" y="8352000"/>
            <a:chExt cx="309600" cy="785520"/>
          </a:xfrm>
        </p:grpSpPr>
        <p:sp>
          <p:nvSpPr>
            <p:cNvPr id="633" name=""/>
            <p:cNvSpPr/>
            <p:nvPr/>
          </p:nvSpPr>
          <p:spPr>
            <a:xfrm>
              <a:off x="309168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95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359160" y="8352000"/>
            <a:ext cx="309600" cy="785520"/>
            <a:chOff x="3359160" y="8352000"/>
            <a:chExt cx="309600" cy="785520"/>
          </a:xfrm>
        </p:grpSpPr>
        <p:sp>
          <p:nvSpPr>
            <p:cNvPr id="636" name=""/>
            <p:cNvSpPr/>
            <p:nvPr/>
          </p:nvSpPr>
          <p:spPr>
            <a:xfrm>
              <a:off x="340128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91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68760" y="8352000"/>
            <a:ext cx="309600" cy="785520"/>
            <a:chOff x="3668760" y="8352000"/>
            <a:chExt cx="309600" cy="785520"/>
          </a:xfrm>
        </p:grpSpPr>
        <p:sp>
          <p:nvSpPr>
            <p:cNvPr id="639" name=""/>
            <p:cNvSpPr/>
            <p:nvPr/>
          </p:nvSpPr>
          <p:spPr>
            <a:xfrm>
              <a:off x="371052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687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78360" y="8352000"/>
            <a:ext cx="311040" cy="785520"/>
            <a:chOff x="3978360" y="8352000"/>
            <a:chExt cx="311040" cy="785520"/>
          </a:xfrm>
        </p:grpSpPr>
        <p:sp>
          <p:nvSpPr>
            <p:cNvPr id="642" name=""/>
            <p:cNvSpPr/>
            <p:nvPr/>
          </p:nvSpPr>
          <p:spPr>
            <a:xfrm>
              <a:off x="402048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7836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289400" y="8352000"/>
            <a:ext cx="309600" cy="785520"/>
            <a:chOff x="4289400" y="8352000"/>
            <a:chExt cx="309600" cy="785520"/>
          </a:xfrm>
        </p:grpSpPr>
        <p:sp>
          <p:nvSpPr>
            <p:cNvPr id="645" name=""/>
            <p:cNvSpPr/>
            <p:nvPr/>
          </p:nvSpPr>
          <p:spPr>
            <a:xfrm>
              <a:off x="433116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94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9000" y="8352000"/>
            <a:ext cx="309600" cy="785520"/>
            <a:chOff x="4599000" y="8352000"/>
            <a:chExt cx="309600" cy="785520"/>
          </a:xfrm>
        </p:grpSpPr>
        <p:sp>
          <p:nvSpPr>
            <p:cNvPr id="648" name=""/>
            <p:cNvSpPr/>
            <p:nvPr/>
          </p:nvSpPr>
          <p:spPr>
            <a:xfrm>
              <a:off x="464112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990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908600" y="8352000"/>
            <a:ext cx="311040" cy="785520"/>
            <a:chOff x="4908600" y="8352000"/>
            <a:chExt cx="311040" cy="785520"/>
          </a:xfrm>
        </p:grpSpPr>
        <p:sp>
          <p:nvSpPr>
            <p:cNvPr id="651" name=""/>
            <p:cNvSpPr/>
            <p:nvPr/>
          </p:nvSpPr>
          <p:spPr>
            <a:xfrm>
              <a:off x="495072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860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19640" y="8352000"/>
            <a:ext cx="309600" cy="785520"/>
            <a:chOff x="5219640" y="8352000"/>
            <a:chExt cx="309600" cy="785520"/>
          </a:xfrm>
        </p:grpSpPr>
        <p:sp>
          <p:nvSpPr>
            <p:cNvPr id="654" name=""/>
            <p:cNvSpPr/>
            <p:nvPr/>
          </p:nvSpPr>
          <p:spPr>
            <a:xfrm>
              <a:off x="52614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96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529240" y="8352000"/>
            <a:ext cx="309600" cy="785520"/>
            <a:chOff x="5529240" y="8352000"/>
            <a:chExt cx="309600" cy="785520"/>
          </a:xfrm>
        </p:grpSpPr>
        <p:sp>
          <p:nvSpPr>
            <p:cNvPr id="657" name=""/>
            <p:cNvSpPr/>
            <p:nvPr/>
          </p:nvSpPr>
          <p:spPr>
            <a:xfrm>
              <a:off x="557136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92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838840" y="8352000"/>
            <a:ext cx="309600" cy="785520"/>
            <a:chOff x="5838840" y="8352000"/>
            <a:chExt cx="309600" cy="785520"/>
          </a:xfrm>
        </p:grpSpPr>
        <p:sp>
          <p:nvSpPr>
            <p:cNvPr id="660" name=""/>
            <p:cNvSpPr/>
            <p:nvPr/>
          </p:nvSpPr>
          <p:spPr>
            <a:xfrm>
              <a:off x="58806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88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48440" y="8352000"/>
            <a:ext cx="701640" cy="785520"/>
            <a:chOff x="6148440" y="8352000"/>
            <a:chExt cx="701640" cy="785520"/>
          </a:xfrm>
        </p:grpSpPr>
        <p:sp>
          <p:nvSpPr>
            <p:cNvPr id="663" name=""/>
            <p:cNvSpPr/>
            <p:nvPr/>
          </p:nvSpPr>
          <p:spPr>
            <a:xfrm>
              <a:off x="6190560" y="8352000"/>
              <a:ext cx="617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48440" y="8352000"/>
              <a:ext cx="7016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1584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280" y="8610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yvalence par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8:42Z</dcterms:modified>
  <cp:revision>3</cp:revision>
  <dc:subject/>
  <dc:title>Présentation PowerPoint</dc:title>
</cp:coreProperties>
</file>