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F36-41D4-40B5-B43D-AD1890DB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9D8-90E8-439D-A5F8-123D71B2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3FBE-B944-4465-AA99-AF23189E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DBF-B890-4716-9708-5567313A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C49-1E1B-46AD-85E1-2102FE0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044-A7FF-4F43-AD49-6280AD1E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27B4-40A3-4066-8952-AACCA712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D9B-9B56-415D-9CAD-9989489F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ECF-65B1-4546-81C6-DE6C049A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817-B318-410A-BC46-03E730AB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600-FDB8-4F4E-AB02-FD4D4AAA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C5-AA4E-4BF9-A2F8-0E578242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446-4E7E-4087-8D99-845F49925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31:13Z</dcterms:modified>
  <cp:revision>100</cp:revision>
  <dc:subject/>
  <dc:title>Présentation PowerPoint</dc:title>
</cp:coreProperties>
</file>