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423-7D8D-4A2A-ACFC-2F951090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F8F-257C-488B-8D76-05C6C89B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FAD2-1B62-4FA5-B221-09B6032C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D85-C7BB-4EF9-AA75-3ED01EB1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8099-79BC-4A5D-A2A7-0AA566E8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8AF-6FAF-440E-B2DE-6342399D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BB5-9B9A-4160-BEA5-38DAB76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E635-1477-4839-BA2A-872F7E42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416-D841-4FC9-B0DB-879279F3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F6F-AAC4-472B-899E-7DFA594E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989-17DF-4691-A8FE-C7D622BA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0D9-E066-4F79-8F0E-6C0A4F80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81D7-BDAB-4C3E-BD8E-1A49A9B21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0:21Z</dcterms:modified>
  <cp:revision>10</cp:revision>
  <dc:subject/>
  <dc:title>Présentation PowerPoint</dc:title>
</cp:coreProperties>
</file>