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D78-9BB4-4EBA-8019-52996E5F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4AC-F650-4DB7-9851-A48FFCB6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950-B92B-413E-82B9-F2EB7398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7D8-E9B5-4E7D-9170-A2B4DDA9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763-E4DE-4CF4-9566-A6FC8F93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41C-5921-4582-9FA3-7D017A04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3E0-1FD2-460B-A562-8ED8DB1A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054-9891-4BA1-A647-087E251F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85F-C4CF-42AD-80D7-7285FA49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7A1-8476-411B-A807-DF50E37E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6D16-11B9-46E4-AD8A-478997B3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37-D6E4-47C9-811A-6DD8C42F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E43-F2B7-4C23-874D-80F300CBA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30:03Z</dcterms:modified>
  <cp:revision>3</cp:revision>
  <dc:subject/>
  <dc:title>Présentation PowerPoint</dc:title>
</cp:coreProperties>
</file>