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3AB7-139B-4FB3-9FF6-A2B1F129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FE8E-6DB2-42B1-BB89-2ED86916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EAD-AC25-4F01-B42B-DBD91382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E117-7FE0-4C72-B689-8AA3EB00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FBC-BAAA-4ACD-842F-763D7150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61C2-EE7A-4D22-938D-0DFD79D7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217A-6671-47CE-860D-B3540AB7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1FBC-6EC1-46FF-93FD-2308FC7B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368-4F1D-4653-ADE5-E8E8747A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398-29C2-4D25-8B5B-699918BF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620-DA6D-42AF-9285-23F0ED86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245-5514-4E41-BF81-35EB682C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0CC4-27D0-4DC9-A875-787459E77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rte de contrôle qua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85840"/>
            <a:ext cx="680724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285840"/>
            <a:ext cx="236232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Thèm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Analyste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219320"/>
            <a:ext cx="4343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É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763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1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01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0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800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00600"/>
            <a:ext cx="9907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63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1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63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01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0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38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763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0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763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63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01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763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1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763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1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01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63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1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0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63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1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01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0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8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763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1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1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77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15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763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1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01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8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5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763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1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0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5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763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1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0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38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763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01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0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38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5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4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763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1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01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0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4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763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1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001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0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763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1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01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4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763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1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001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0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8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77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5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763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1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01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0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38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4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763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1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001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0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77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4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763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1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001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0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38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77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4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90720" y="1447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124080"/>
            <a:ext cx="9907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Étend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447920"/>
            <a:ext cx="9907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oye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52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52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3880" y="31240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3880" y="40384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4120" y="4800600"/>
            <a:ext cx="38098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ment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90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0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5486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5715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90720" y="5943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6172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6400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6629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Étend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1600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1752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1905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90720" y="2057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90720" y="23623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2514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2666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2819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90720" y="2971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91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9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9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5257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9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29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48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66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05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52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91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29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66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05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523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52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91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09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8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66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91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29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8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6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05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3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91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9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48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66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05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23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52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91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8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666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23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23880" y="31240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52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9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48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66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5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23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91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8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666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952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2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91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9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66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05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23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91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9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666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05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23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52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91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09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29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8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66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05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3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91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429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8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66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86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05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3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23880" y="14479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23880" y="23623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91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9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29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8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66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05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952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91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09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86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905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952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91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09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429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666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5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23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52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91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9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29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48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666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05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23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91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09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29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48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66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23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952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191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09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29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48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66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86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05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23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523880" y="14479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52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91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09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429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48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666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86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905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23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952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72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91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09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48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666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86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05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23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952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72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09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429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666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86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05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52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91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09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48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666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86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05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23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952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72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191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809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29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8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666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05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523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52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91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48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66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05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523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12193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34120" y="1219320"/>
            <a:ext cx="3809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por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90720" y="31240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90720" y="3276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990720" y="3429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90720" y="3581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90720" y="3733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990720" y="4038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90720" y="4191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990720" y="4343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90720" y="4495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90720" y="46483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763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381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001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38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8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77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95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15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34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90720" y="2209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9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29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048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66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905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3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52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572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191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09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429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48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66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86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05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23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763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381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001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20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238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15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52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72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191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09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29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048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66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905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523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52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572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91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09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429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48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66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286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05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23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90720" y="3886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08:17Z</dcterms:created>
  <dc:creator>MADERS</dc:creator>
  <dc:description/>
  <dc:language>en-US</dc:language>
  <cp:lastModifiedBy>MADERS</cp:lastModifiedBy>
  <dcterms:modified xsi:type="dcterms:W3CDTF">2002-03-09T18:16:12Z</dcterms:modified>
  <cp:revision>7</cp:revision>
  <dc:subject/>
  <dc:title>Présentation PowerPoint</dc:title>
</cp:coreProperties>
</file>