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9892-43C9-41DC-8F41-27F2BBBF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6615-71C1-4E8E-89B7-5C79FD40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97F-9D5C-414C-AA99-47ED1C3A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46B-163E-4D93-BE9A-7584AA20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6F2-A52B-4E66-BF70-6A0D11A4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7DE-DA1E-4FDB-87FE-F8AABD25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B1F-F063-42A5-8887-110B0432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5FD-8ABD-43FC-894F-9350C6AA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19B-7572-4C90-8A8B-D6AC7AE5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04C-FC87-477B-A363-2AD9B3A5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1D9-34A2-480F-8CFC-2D241423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5B07-F12C-458C-9FED-8C9CFACC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C5F1-C999-4E60-8E9F-C48983D28C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ntrat de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ervice Formation / Service Comptabilité Fourniss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09480"/>
            <a:ext cx="5029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Rédacteurs 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. Jean-François, Directeur de la 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M. Olivier, Chef du service comptabilité fourniss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029200" y="609480"/>
            <a:ext cx="1828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14/07/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29528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Besoins du service client :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service form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Garantir aux fournisseurs de la formation (organismes de formations, hôtels, restaurants, compagnie de transport…) le règlement de leurs factures à la date prévue dans le contrat signé avec eu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297180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Contraintes du fournisseur :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service comptabilité fourniss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Recevoir les documents comptables suffisamment tôt pour procéder aux contrôles obligatoires et à l’établissement des règle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4648320"/>
            <a:ext cx="685800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Engagements réciproques 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service formation s’engage à fournir au service comptabilité fournisseurs les documents suivants : copie du contrat passé avec le fournisseur précisant la date de règlement dès la signature de celui-ci + original de la facture fournisseur dès réception et au plus tard une semaine avant la date du règlemen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service comptabilité fournisseur s’engage à effectuer un virement correspondant au montant de la facture le jour précisé sur le contr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7010280"/>
            <a:ext cx="6858000" cy="152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Indicateurs de mesure 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ombre de contrats adressés par le service formation plus d’un mois avant la date de règl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ombre de factures adressées par le service formation plus d’une semaine avant la date de règle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Nombre de factures réglées dans les délais par le service règlement fournisseu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8534520"/>
            <a:ext cx="3429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Harlow Solid Italic"/>
              </a:rPr>
              <a:t>Jean-Franço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3429000" y="8534520"/>
            <a:ext cx="3429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Harlow Solid Italic"/>
              </a:rPr>
              <a:t>Oliv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47:46Z</dcterms:created>
  <dc:creator>MADERS</dc:creator>
  <dc:description/>
  <dc:language>en-US</dc:language>
  <cp:lastModifiedBy>Matthieu Montaudouin</cp:lastModifiedBy>
  <dcterms:modified xsi:type="dcterms:W3CDTF">2009-06-08T09:33:33Z</dcterms:modified>
  <cp:revision>5</cp:revision>
  <dc:subject/>
  <dc:title>Présentation PowerPoint</dc:title>
</cp:coreProperties>
</file>