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316-76A6-469E-B7D9-745CDB55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BCE-1661-4925-A386-F23A7E7F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BCF-C007-4288-88D6-088703DB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1EED-7477-42BE-BD9C-D4F591E7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0496-A34E-4252-A812-57C108AF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4481-1DCC-4383-9B5D-2CD654E9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D0E6-5CCC-421E-884F-F94FB78D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639-7A20-49F8-BFEC-9DB635F2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E537-5E03-4C2E-8B14-3347C48D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2CB2-C7CF-41B3-82CA-C46AD254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DFE-0773-4EFE-832D-9F3C493E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74F7-3949-432B-8CD6-E34472EA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3205-64B4-47EE-A037-83C24926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3960" y="3600"/>
              <a:ext cx="6849000" cy="9135360"/>
              <a:chOff x="3960" y="3600"/>
              <a:chExt cx="6849000" cy="913536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3960" y="3600"/>
                <a:ext cx="2653920" cy="938520"/>
                <a:chOff x="3960" y="3600"/>
                <a:chExt cx="2653920" cy="9385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4640" y="3600"/>
                  <a:ext cx="25718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3960" y="3600"/>
                  <a:ext cx="26539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657880" y="3600"/>
                <a:ext cx="300960" cy="938520"/>
                <a:chOff x="2657880" y="3600"/>
                <a:chExt cx="300960" cy="93852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6985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6578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2959200" y="3600"/>
                <a:ext cx="300960" cy="938520"/>
                <a:chOff x="2959200" y="3600"/>
                <a:chExt cx="300960" cy="93852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002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295920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260160" y="3600"/>
                <a:ext cx="301320" cy="938520"/>
                <a:chOff x="3260160" y="3600"/>
                <a:chExt cx="301320" cy="938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30120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26016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561480" y="3600"/>
                <a:ext cx="300960" cy="938520"/>
                <a:chOff x="3561480" y="3600"/>
                <a:chExt cx="300960" cy="9385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60216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5614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862800" y="3600"/>
                <a:ext cx="301320" cy="938520"/>
                <a:chOff x="3862800" y="3600"/>
                <a:chExt cx="301320" cy="9385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39038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8628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164120" y="3600"/>
                <a:ext cx="300960" cy="938520"/>
                <a:chOff x="4164120" y="3600"/>
                <a:chExt cx="300960" cy="9385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2048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641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465080" y="3600"/>
                <a:ext cx="300960" cy="938520"/>
                <a:chOff x="4465080" y="3600"/>
                <a:chExt cx="300960" cy="9385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0612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46508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766400" y="3600"/>
                <a:ext cx="301320" cy="938520"/>
                <a:chOff x="4766400" y="3600"/>
                <a:chExt cx="301320" cy="9385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80744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6640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067720" y="3600"/>
                <a:ext cx="300960" cy="938520"/>
                <a:chOff x="5067720" y="3600"/>
                <a:chExt cx="300960" cy="9385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10840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06772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369040" y="3600"/>
                <a:ext cx="301320" cy="938520"/>
                <a:chOff x="5369040" y="3600"/>
                <a:chExt cx="301320" cy="9385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410080" y="3600"/>
                  <a:ext cx="21888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369040" y="3600"/>
                  <a:ext cx="30132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670360" y="3600"/>
                <a:ext cx="300960" cy="938520"/>
                <a:chOff x="5670360" y="3600"/>
                <a:chExt cx="300960" cy="9385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711040" y="3600"/>
                  <a:ext cx="21924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670360" y="3600"/>
                  <a:ext cx="30096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5971320" y="3600"/>
                <a:ext cx="881640" cy="938520"/>
                <a:chOff x="5971320" y="3600"/>
                <a:chExt cx="881640" cy="9385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012360" y="3600"/>
                  <a:ext cx="799560" cy="93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971320" y="3600"/>
                  <a:ext cx="881640" cy="938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3960" y="942120"/>
                <a:ext cx="2653920" cy="659160"/>
                <a:chOff x="3960" y="942120"/>
                <a:chExt cx="2653920" cy="659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4640" y="942120"/>
                  <a:ext cx="25718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960" y="942120"/>
                  <a:ext cx="26539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657880" y="942120"/>
                <a:ext cx="300960" cy="659160"/>
                <a:chOff x="2657880" y="942120"/>
                <a:chExt cx="300960" cy="6591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6985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6578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959200" y="942120"/>
                <a:ext cx="300960" cy="659160"/>
                <a:chOff x="2959200" y="942120"/>
                <a:chExt cx="300960" cy="6591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02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95920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260160" y="942120"/>
                <a:ext cx="301320" cy="659160"/>
                <a:chOff x="3260160" y="942120"/>
                <a:chExt cx="301320" cy="6591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30120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26016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561480" y="942120"/>
                <a:ext cx="300960" cy="659160"/>
                <a:chOff x="3561480" y="942120"/>
                <a:chExt cx="300960" cy="6591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60216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5614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862800" y="942120"/>
                <a:ext cx="301320" cy="659160"/>
                <a:chOff x="3862800" y="942120"/>
                <a:chExt cx="301320" cy="6591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9038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8628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164120" y="942120"/>
                <a:ext cx="300960" cy="659160"/>
                <a:chOff x="4164120" y="942120"/>
                <a:chExt cx="300960" cy="659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048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1641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465080" y="942120"/>
                <a:ext cx="300960" cy="659160"/>
                <a:chOff x="4465080" y="942120"/>
                <a:chExt cx="300960" cy="6591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50612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46508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766400" y="942120"/>
                <a:ext cx="301320" cy="659160"/>
                <a:chOff x="4766400" y="942120"/>
                <a:chExt cx="301320" cy="6591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80744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76640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067720" y="942120"/>
                <a:ext cx="300960" cy="659160"/>
                <a:chOff x="5067720" y="942120"/>
                <a:chExt cx="300960" cy="6591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10840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6772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369040" y="942120"/>
                <a:ext cx="301320" cy="659160"/>
                <a:chOff x="5369040" y="942120"/>
                <a:chExt cx="301320" cy="6591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410080" y="942120"/>
                  <a:ext cx="21888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369040" y="942120"/>
                  <a:ext cx="30132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670360" y="942120"/>
                <a:ext cx="300960" cy="659160"/>
                <a:chOff x="5670360" y="942120"/>
                <a:chExt cx="300960" cy="6591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711040" y="942120"/>
                  <a:ext cx="21924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670360" y="942120"/>
                  <a:ext cx="30096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5971320" y="942120"/>
                <a:ext cx="881640" cy="659160"/>
                <a:chOff x="5971320" y="942120"/>
                <a:chExt cx="881640" cy="6591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012360" y="942120"/>
                  <a:ext cx="799560" cy="6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971320" y="942120"/>
                  <a:ext cx="881640" cy="6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960" y="1601280"/>
                <a:ext cx="2653920" cy="519120"/>
                <a:chOff x="3960" y="1601280"/>
                <a:chExt cx="2653920" cy="519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4640" y="1601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960" y="1601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657880" y="1601280"/>
                <a:ext cx="300960" cy="519120"/>
                <a:chOff x="2657880" y="1601280"/>
                <a:chExt cx="300960" cy="519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985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578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2959200" y="1601280"/>
                <a:ext cx="300960" cy="519120"/>
                <a:chOff x="2959200" y="1601280"/>
                <a:chExt cx="300960" cy="519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002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95920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260160" y="1601280"/>
                <a:ext cx="301320" cy="519120"/>
                <a:chOff x="3260160" y="1601280"/>
                <a:chExt cx="301320" cy="519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30120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26016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561480" y="1601280"/>
                <a:ext cx="300960" cy="519120"/>
                <a:chOff x="3561480" y="1601280"/>
                <a:chExt cx="300960" cy="519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60216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5614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862800" y="1601280"/>
                <a:ext cx="301320" cy="519120"/>
                <a:chOff x="3862800" y="1601280"/>
                <a:chExt cx="301320" cy="519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9038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8628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164120" y="1601280"/>
                <a:ext cx="300960" cy="519120"/>
                <a:chOff x="4164120" y="1601280"/>
                <a:chExt cx="300960" cy="519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2048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1641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465080" y="1601280"/>
                <a:ext cx="300960" cy="519120"/>
                <a:chOff x="4465080" y="1601280"/>
                <a:chExt cx="300960" cy="519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50612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46508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766400" y="1601280"/>
                <a:ext cx="301320" cy="519120"/>
                <a:chOff x="4766400" y="1601280"/>
                <a:chExt cx="301320" cy="519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80744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76640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067720" y="1601280"/>
                <a:ext cx="300960" cy="519120"/>
                <a:chOff x="5067720" y="1601280"/>
                <a:chExt cx="300960" cy="519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0840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06772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369040" y="1601280"/>
                <a:ext cx="301320" cy="519120"/>
                <a:chOff x="5369040" y="1601280"/>
                <a:chExt cx="301320" cy="519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410080" y="1601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369040" y="1601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670360" y="1601280"/>
                <a:ext cx="300960" cy="519120"/>
                <a:chOff x="5670360" y="1601280"/>
                <a:chExt cx="300960" cy="519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711040" y="1601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670360" y="1601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971320" y="1601280"/>
                <a:ext cx="881640" cy="519120"/>
                <a:chOff x="5971320" y="1601280"/>
                <a:chExt cx="881640" cy="519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012360" y="1601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971320" y="1601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960" y="2120760"/>
                <a:ext cx="2653920" cy="519120"/>
                <a:chOff x="3960" y="2120760"/>
                <a:chExt cx="2653920" cy="519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4640" y="21207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60" y="21207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657880" y="2120760"/>
                <a:ext cx="300960" cy="519120"/>
                <a:chOff x="2657880" y="2120760"/>
                <a:chExt cx="300960" cy="519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6985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6578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959200" y="2120760"/>
                <a:ext cx="300960" cy="519120"/>
                <a:chOff x="2959200" y="2120760"/>
                <a:chExt cx="300960" cy="519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002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95920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260160" y="2120760"/>
                <a:ext cx="301320" cy="519120"/>
                <a:chOff x="3260160" y="2120760"/>
                <a:chExt cx="301320" cy="519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30120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26016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561480" y="2120760"/>
                <a:ext cx="300960" cy="519120"/>
                <a:chOff x="3561480" y="2120760"/>
                <a:chExt cx="300960" cy="519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60216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5614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862800" y="2120760"/>
                <a:ext cx="301320" cy="519120"/>
                <a:chOff x="3862800" y="2120760"/>
                <a:chExt cx="301320" cy="5191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9038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628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164120" y="2120760"/>
                <a:ext cx="300960" cy="519120"/>
                <a:chOff x="4164120" y="2120760"/>
                <a:chExt cx="300960" cy="51912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2048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1641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465080" y="2120760"/>
                <a:ext cx="300960" cy="519120"/>
                <a:chOff x="4465080" y="2120760"/>
                <a:chExt cx="300960" cy="5191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50612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508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766400" y="2120760"/>
                <a:ext cx="301320" cy="519120"/>
                <a:chOff x="4766400" y="2120760"/>
                <a:chExt cx="301320" cy="5191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80744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6640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067720" y="2120760"/>
                <a:ext cx="300960" cy="519120"/>
                <a:chOff x="5067720" y="2120760"/>
                <a:chExt cx="300960" cy="5191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10840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06772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369040" y="2120760"/>
                <a:ext cx="301320" cy="519120"/>
                <a:chOff x="5369040" y="2120760"/>
                <a:chExt cx="301320" cy="519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410080" y="21207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369040" y="21207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670360" y="2120760"/>
                <a:ext cx="300960" cy="519120"/>
                <a:chOff x="5670360" y="2120760"/>
                <a:chExt cx="300960" cy="5191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711040" y="21207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670360" y="21207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5971320" y="2120760"/>
                <a:ext cx="881640" cy="519120"/>
                <a:chOff x="5971320" y="2120760"/>
                <a:chExt cx="881640" cy="5191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012360" y="21207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971320" y="21207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3960" y="2639880"/>
                <a:ext cx="2653920" cy="519480"/>
                <a:chOff x="3960" y="2639880"/>
                <a:chExt cx="2653920" cy="51948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4640" y="2639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960" y="2639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657880" y="2639880"/>
                <a:ext cx="300960" cy="519480"/>
                <a:chOff x="2657880" y="2639880"/>
                <a:chExt cx="300960" cy="519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6985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6578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959200" y="2639880"/>
                <a:ext cx="300960" cy="519480"/>
                <a:chOff x="2959200" y="2639880"/>
                <a:chExt cx="300960" cy="5194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002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95920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260160" y="2639880"/>
                <a:ext cx="301320" cy="519480"/>
                <a:chOff x="3260160" y="2639880"/>
                <a:chExt cx="301320" cy="5194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30120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26016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561480" y="2639880"/>
                <a:ext cx="300960" cy="519480"/>
                <a:chOff x="3561480" y="2639880"/>
                <a:chExt cx="300960" cy="51948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60216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614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862800" y="2639880"/>
                <a:ext cx="301320" cy="519480"/>
                <a:chOff x="3862800" y="2639880"/>
                <a:chExt cx="301320" cy="5194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9038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8628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164120" y="2639880"/>
                <a:ext cx="300960" cy="519480"/>
                <a:chOff x="4164120" y="2639880"/>
                <a:chExt cx="300960" cy="51948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2048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641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465080" y="2639880"/>
                <a:ext cx="300960" cy="519480"/>
                <a:chOff x="4465080" y="2639880"/>
                <a:chExt cx="300960" cy="51948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0612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46508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766400" y="2639880"/>
                <a:ext cx="301320" cy="519480"/>
                <a:chOff x="4766400" y="2639880"/>
                <a:chExt cx="301320" cy="5194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80744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76640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067720" y="2639880"/>
                <a:ext cx="300960" cy="519480"/>
                <a:chOff x="5067720" y="2639880"/>
                <a:chExt cx="300960" cy="5194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10840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06772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369040" y="2639880"/>
                <a:ext cx="301320" cy="519480"/>
                <a:chOff x="5369040" y="2639880"/>
                <a:chExt cx="301320" cy="51948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410080" y="2639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69040" y="2639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670360" y="2639880"/>
                <a:ext cx="300960" cy="519480"/>
                <a:chOff x="5670360" y="2639880"/>
                <a:chExt cx="300960" cy="5194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711040" y="2639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670360" y="2639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971320" y="2639880"/>
                <a:ext cx="881640" cy="519480"/>
                <a:chOff x="5971320" y="2639880"/>
                <a:chExt cx="881640" cy="5194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012360" y="2639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71320" y="2639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960" y="3159360"/>
                <a:ext cx="2653920" cy="519120"/>
                <a:chOff x="3960" y="3159360"/>
                <a:chExt cx="2653920" cy="5191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4640" y="3159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960" y="3159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657880" y="3159360"/>
                <a:ext cx="300960" cy="519120"/>
                <a:chOff x="2657880" y="3159360"/>
                <a:chExt cx="300960" cy="5191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6985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6578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2959200" y="3159360"/>
                <a:ext cx="300960" cy="519120"/>
                <a:chOff x="2959200" y="3159360"/>
                <a:chExt cx="300960" cy="5191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002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95920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260160" y="3159360"/>
                <a:ext cx="301320" cy="519120"/>
                <a:chOff x="3260160" y="3159360"/>
                <a:chExt cx="301320" cy="51912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30120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26016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561480" y="3159360"/>
                <a:ext cx="300960" cy="519120"/>
                <a:chOff x="3561480" y="3159360"/>
                <a:chExt cx="300960" cy="519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60216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5614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62800" y="3159360"/>
                <a:ext cx="301320" cy="519120"/>
                <a:chOff x="3862800" y="3159360"/>
                <a:chExt cx="301320" cy="51912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9038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628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164120" y="3159360"/>
                <a:ext cx="300960" cy="519120"/>
                <a:chOff x="4164120" y="3159360"/>
                <a:chExt cx="300960" cy="51912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2048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1641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65080" y="3159360"/>
                <a:ext cx="300960" cy="519120"/>
                <a:chOff x="4465080" y="3159360"/>
                <a:chExt cx="300960" cy="51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50612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6508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766400" y="3159360"/>
                <a:ext cx="301320" cy="519120"/>
                <a:chOff x="4766400" y="3159360"/>
                <a:chExt cx="301320" cy="5191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80744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76640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067720" y="3159360"/>
                <a:ext cx="300960" cy="519120"/>
                <a:chOff x="5067720" y="3159360"/>
                <a:chExt cx="300960" cy="5191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10840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06772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369040" y="3159360"/>
                <a:ext cx="301320" cy="519120"/>
                <a:chOff x="5369040" y="3159360"/>
                <a:chExt cx="301320" cy="5191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410080" y="3159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69040" y="3159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670360" y="3159360"/>
                <a:ext cx="300960" cy="519120"/>
                <a:chOff x="5670360" y="3159360"/>
                <a:chExt cx="300960" cy="5191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711040" y="3159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670360" y="3159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5971320" y="3159360"/>
                <a:ext cx="881640" cy="519120"/>
                <a:chOff x="5971320" y="3159360"/>
                <a:chExt cx="881640" cy="51912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12360" y="3159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971320" y="3159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960" y="3678840"/>
                <a:ext cx="2653920" cy="519480"/>
                <a:chOff x="3960" y="3678840"/>
                <a:chExt cx="2653920" cy="5194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4640" y="3678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960" y="3678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657880" y="3678840"/>
                <a:ext cx="300960" cy="519480"/>
                <a:chOff x="2657880" y="3678840"/>
                <a:chExt cx="300960" cy="519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6985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6578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959200" y="3678840"/>
                <a:ext cx="300960" cy="519480"/>
                <a:chOff x="2959200" y="3678840"/>
                <a:chExt cx="300960" cy="5194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002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5920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260160" y="3678840"/>
                <a:ext cx="301320" cy="519480"/>
                <a:chOff x="3260160" y="3678840"/>
                <a:chExt cx="301320" cy="519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0120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26016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61480" y="3678840"/>
                <a:ext cx="300960" cy="519480"/>
                <a:chOff x="3561480" y="3678840"/>
                <a:chExt cx="300960" cy="519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60216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14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62800" y="3678840"/>
                <a:ext cx="301320" cy="519480"/>
                <a:chOff x="3862800" y="3678840"/>
                <a:chExt cx="301320" cy="519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9038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28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164120" y="3678840"/>
                <a:ext cx="300960" cy="519480"/>
                <a:chOff x="4164120" y="3678840"/>
                <a:chExt cx="300960" cy="519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2048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1641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465080" y="3678840"/>
                <a:ext cx="300960" cy="519480"/>
                <a:chOff x="4465080" y="3678840"/>
                <a:chExt cx="300960" cy="519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50612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6508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766400" y="3678840"/>
                <a:ext cx="301320" cy="519480"/>
                <a:chOff x="4766400" y="3678840"/>
                <a:chExt cx="301320" cy="519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80744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6640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067720" y="3678840"/>
                <a:ext cx="300960" cy="519480"/>
                <a:chOff x="5067720" y="3678840"/>
                <a:chExt cx="300960" cy="519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840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06772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369040" y="3678840"/>
                <a:ext cx="301320" cy="519480"/>
                <a:chOff x="5369040" y="3678840"/>
                <a:chExt cx="301320" cy="5194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410080" y="3678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369040" y="3678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670360" y="3678840"/>
                <a:ext cx="300960" cy="519480"/>
                <a:chOff x="5670360" y="3678840"/>
                <a:chExt cx="300960" cy="5194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711040" y="3678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670360" y="3678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971320" y="3678840"/>
                <a:ext cx="881640" cy="519480"/>
                <a:chOff x="5971320" y="3678840"/>
                <a:chExt cx="881640" cy="5194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12360" y="3678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971320" y="3678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3960" y="4198320"/>
                <a:ext cx="2653920" cy="519120"/>
                <a:chOff x="3960" y="4198320"/>
                <a:chExt cx="2653920" cy="5191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4640" y="4198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960" y="4198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657880" y="4198320"/>
                <a:ext cx="300960" cy="519120"/>
                <a:chOff x="2657880" y="4198320"/>
                <a:chExt cx="300960" cy="519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6985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578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2959200" y="4198320"/>
                <a:ext cx="300960" cy="519120"/>
                <a:chOff x="2959200" y="4198320"/>
                <a:chExt cx="300960" cy="5191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002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295920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260160" y="4198320"/>
                <a:ext cx="301320" cy="519120"/>
                <a:chOff x="3260160" y="4198320"/>
                <a:chExt cx="301320" cy="5191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30120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6016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61480" y="4198320"/>
                <a:ext cx="300960" cy="519120"/>
                <a:chOff x="3561480" y="4198320"/>
                <a:chExt cx="300960" cy="519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60216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614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862800" y="4198320"/>
                <a:ext cx="301320" cy="519120"/>
                <a:chOff x="3862800" y="4198320"/>
                <a:chExt cx="301320" cy="5191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9038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8628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164120" y="4198320"/>
                <a:ext cx="300960" cy="519120"/>
                <a:chOff x="4164120" y="4198320"/>
                <a:chExt cx="300960" cy="5191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2048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641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465080" y="4198320"/>
                <a:ext cx="300960" cy="519120"/>
                <a:chOff x="4465080" y="4198320"/>
                <a:chExt cx="300960" cy="5191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0612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6508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766400" y="4198320"/>
                <a:ext cx="301320" cy="519120"/>
                <a:chOff x="4766400" y="4198320"/>
                <a:chExt cx="301320" cy="5191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80744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6640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067720" y="4198320"/>
                <a:ext cx="300960" cy="519120"/>
                <a:chOff x="5067720" y="4198320"/>
                <a:chExt cx="300960" cy="5191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10840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6772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369040" y="4198320"/>
                <a:ext cx="301320" cy="519120"/>
                <a:chOff x="5369040" y="4198320"/>
                <a:chExt cx="301320" cy="5191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410080" y="4198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69040" y="4198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670360" y="4198320"/>
                <a:ext cx="300960" cy="519120"/>
                <a:chOff x="5670360" y="4198320"/>
                <a:chExt cx="300960" cy="519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711040" y="4198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670360" y="4198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971320" y="4198320"/>
                <a:ext cx="881640" cy="519120"/>
                <a:chOff x="5971320" y="4198320"/>
                <a:chExt cx="881640" cy="5191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12360" y="4198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971320" y="4198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960" y="4717800"/>
                <a:ext cx="2653920" cy="519480"/>
                <a:chOff x="3960" y="4717800"/>
                <a:chExt cx="2653920" cy="519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4640" y="471780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960" y="471780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657880" y="4717800"/>
                <a:ext cx="300960" cy="519480"/>
                <a:chOff x="2657880" y="4717800"/>
                <a:chExt cx="300960" cy="519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6985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6578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959200" y="4717800"/>
                <a:ext cx="300960" cy="519480"/>
                <a:chOff x="2959200" y="4717800"/>
                <a:chExt cx="300960" cy="519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002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95920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260160" y="4717800"/>
                <a:ext cx="301320" cy="519480"/>
                <a:chOff x="3260160" y="4717800"/>
                <a:chExt cx="301320" cy="5194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30120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26016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561480" y="4717800"/>
                <a:ext cx="300960" cy="519480"/>
                <a:chOff x="3561480" y="4717800"/>
                <a:chExt cx="300960" cy="51948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0216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5614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862800" y="4717800"/>
                <a:ext cx="301320" cy="519480"/>
                <a:chOff x="3862800" y="4717800"/>
                <a:chExt cx="301320" cy="5194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39038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8628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164120" y="4717800"/>
                <a:ext cx="300960" cy="519480"/>
                <a:chOff x="4164120" y="4717800"/>
                <a:chExt cx="300960" cy="5194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2048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1641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465080" y="4717800"/>
                <a:ext cx="300960" cy="519480"/>
                <a:chOff x="4465080" y="4717800"/>
                <a:chExt cx="300960" cy="519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50612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6508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766400" y="4717800"/>
                <a:ext cx="301320" cy="519480"/>
                <a:chOff x="4766400" y="4717800"/>
                <a:chExt cx="301320" cy="519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0744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76640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067720" y="4717800"/>
                <a:ext cx="300960" cy="519480"/>
                <a:chOff x="5067720" y="4717800"/>
                <a:chExt cx="300960" cy="519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10840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06772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369040" y="4717800"/>
                <a:ext cx="301320" cy="519480"/>
                <a:chOff x="5369040" y="4717800"/>
                <a:chExt cx="301320" cy="519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410080" y="471780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369040" y="471780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670360" y="4717800"/>
                <a:ext cx="300960" cy="519480"/>
                <a:chOff x="5670360" y="4717800"/>
                <a:chExt cx="300960" cy="51948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711040" y="471780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670360" y="471780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5971320" y="4717800"/>
                <a:ext cx="881640" cy="519480"/>
                <a:chOff x="5971320" y="4717800"/>
                <a:chExt cx="881640" cy="5194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012360" y="471780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5971320" y="471780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960" y="5237280"/>
                <a:ext cx="2653920" cy="519120"/>
                <a:chOff x="3960" y="5237280"/>
                <a:chExt cx="2653920" cy="519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640" y="523728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960" y="523728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657880" y="5237280"/>
                <a:ext cx="300960" cy="519120"/>
                <a:chOff x="2657880" y="5237280"/>
                <a:chExt cx="300960" cy="519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6985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578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959200" y="5237280"/>
                <a:ext cx="300960" cy="519120"/>
                <a:chOff x="2959200" y="5237280"/>
                <a:chExt cx="300960" cy="519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002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95920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260160" y="5237280"/>
                <a:ext cx="301320" cy="519120"/>
                <a:chOff x="3260160" y="5237280"/>
                <a:chExt cx="301320" cy="519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30120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26016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561480" y="5237280"/>
                <a:ext cx="300960" cy="519120"/>
                <a:chOff x="3561480" y="5237280"/>
                <a:chExt cx="300960" cy="519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60216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5614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862800" y="5237280"/>
                <a:ext cx="301320" cy="519120"/>
                <a:chOff x="3862800" y="5237280"/>
                <a:chExt cx="301320" cy="519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39038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8628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164120" y="5237280"/>
                <a:ext cx="300960" cy="519120"/>
                <a:chOff x="4164120" y="5237280"/>
                <a:chExt cx="300960" cy="519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048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1641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465080" y="5237280"/>
                <a:ext cx="300960" cy="519120"/>
                <a:chOff x="4465080" y="5237280"/>
                <a:chExt cx="300960" cy="519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50612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6508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766400" y="5237280"/>
                <a:ext cx="301320" cy="519120"/>
                <a:chOff x="4766400" y="5237280"/>
                <a:chExt cx="301320" cy="519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80744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6640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067720" y="5237280"/>
                <a:ext cx="300960" cy="519120"/>
                <a:chOff x="5067720" y="5237280"/>
                <a:chExt cx="300960" cy="519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10840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06772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369040" y="5237280"/>
                <a:ext cx="301320" cy="519120"/>
                <a:chOff x="5369040" y="5237280"/>
                <a:chExt cx="301320" cy="519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410080" y="523728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369040" y="523728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670360" y="5237280"/>
                <a:ext cx="300960" cy="519120"/>
                <a:chOff x="5670360" y="5237280"/>
                <a:chExt cx="300960" cy="519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711040" y="523728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670360" y="523728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5971320" y="5237280"/>
                <a:ext cx="881640" cy="519120"/>
                <a:chOff x="5971320" y="5237280"/>
                <a:chExt cx="881640" cy="519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12360" y="523728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971320" y="523728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960" y="5756400"/>
                <a:ext cx="2653920" cy="519120"/>
                <a:chOff x="3960" y="5756400"/>
                <a:chExt cx="2653920" cy="5191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4640" y="575640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960" y="575640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657880" y="5756400"/>
                <a:ext cx="300960" cy="519120"/>
                <a:chOff x="2657880" y="5756400"/>
                <a:chExt cx="300960" cy="519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6985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578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2959200" y="5756400"/>
                <a:ext cx="300960" cy="519120"/>
                <a:chOff x="2959200" y="5756400"/>
                <a:chExt cx="300960" cy="5191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002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95920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260160" y="5756400"/>
                <a:ext cx="301320" cy="519120"/>
                <a:chOff x="3260160" y="5756400"/>
                <a:chExt cx="301320" cy="5191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30120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26016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561480" y="5756400"/>
                <a:ext cx="300960" cy="519120"/>
                <a:chOff x="3561480" y="5756400"/>
                <a:chExt cx="300960" cy="5191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0216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614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62800" y="5756400"/>
                <a:ext cx="301320" cy="519120"/>
                <a:chOff x="3862800" y="5756400"/>
                <a:chExt cx="301320" cy="5191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9038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628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164120" y="5756400"/>
                <a:ext cx="300960" cy="519120"/>
                <a:chOff x="4164120" y="5756400"/>
                <a:chExt cx="300960" cy="5191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2048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641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465080" y="5756400"/>
                <a:ext cx="300960" cy="519120"/>
                <a:chOff x="4465080" y="5756400"/>
                <a:chExt cx="300960" cy="5191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50612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6508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766400" y="5756400"/>
                <a:ext cx="301320" cy="519120"/>
                <a:chOff x="4766400" y="5756400"/>
                <a:chExt cx="301320" cy="5191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80744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76640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067720" y="5756400"/>
                <a:ext cx="300960" cy="519120"/>
                <a:chOff x="5067720" y="5756400"/>
                <a:chExt cx="300960" cy="5191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10840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06772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369040" y="5756400"/>
                <a:ext cx="301320" cy="519120"/>
                <a:chOff x="5369040" y="5756400"/>
                <a:chExt cx="301320" cy="5191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410080" y="575640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369040" y="575640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670360" y="5756400"/>
                <a:ext cx="300960" cy="519120"/>
                <a:chOff x="5670360" y="5756400"/>
                <a:chExt cx="300960" cy="51912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11040" y="575640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670360" y="575640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5971320" y="5756400"/>
                <a:ext cx="881640" cy="519120"/>
                <a:chOff x="5971320" y="5756400"/>
                <a:chExt cx="881640" cy="51912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012360" y="575640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971320" y="575640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960" y="6275880"/>
                <a:ext cx="2653920" cy="519480"/>
                <a:chOff x="3960" y="6275880"/>
                <a:chExt cx="2653920" cy="51948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4640" y="627588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60" y="627588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657880" y="6275880"/>
                <a:ext cx="300960" cy="519480"/>
                <a:chOff x="2657880" y="6275880"/>
                <a:chExt cx="300960" cy="5194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6985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6578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2959200" y="6275880"/>
                <a:ext cx="300960" cy="519480"/>
                <a:chOff x="2959200" y="6275880"/>
                <a:chExt cx="300960" cy="51948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002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95920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260160" y="6275880"/>
                <a:ext cx="301320" cy="519480"/>
                <a:chOff x="3260160" y="6275880"/>
                <a:chExt cx="301320" cy="51948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30120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26016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561480" y="6275880"/>
                <a:ext cx="300960" cy="519480"/>
                <a:chOff x="3561480" y="6275880"/>
                <a:chExt cx="300960" cy="5194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60216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614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862800" y="6275880"/>
                <a:ext cx="301320" cy="519480"/>
                <a:chOff x="3862800" y="6275880"/>
                <a:chExt cx="301320" cy="5194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39038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628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164120" y="6275880"/>
                <a:ext cx="300960" cy="519480"/>
                <a:chOff x="4164120" y="6275880"/>
                <a:chExt cx="300960" cy="5194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2048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1641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465080" y="6275880"/>
                <a:ext cx="300960" cy="519480"/>
                <a:chOff x="4465080" y="6275880"/>
                <a:chExt cx="300960" cy="51948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50612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46508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766400" y="6275880"/>
                <a:ext cx="301320" cy="519480"/>
                <a:chOff x="4766400" y="6275880"/>
                <a:chExt cx="301320" cy="51948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80744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76640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067720" y="6275880"/>
                <a:ext cx="300960" cy="519480"/>
                <a:chOff x="5067720" y="6275880"/>
                <a:chExt cx="300960" cy="5194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10840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6772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369040" y="6275880"/>
                <a:ext cx="301320" cy="519480"/>
                <a:chOff x="5369040" y="6275880"/>
                <a:chExt cx="301320" cy="51948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410080" y="627588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369040" y="627588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670360" y="6275880"/>
                <a:ext cx="300960" cy="519480"/>
                <a:chOff x="5670360" y="6275880"/>
                <a:chExt cx="300960" cy="5194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711040" y="627588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670360" y="627588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971320" y="6275880"/>
                <a:ext cx="881640" cy="519480"/>
                <a:chOff x="5971320" y="6275880"/>
                <a:chExt cx="881640" cy="5194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012360" y="627588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971320" y="627588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960" y="6795360"/>
                <a:ext cx="2653920" cy="519120"/>
                <a:chOff x="3960" y="6795360"/>
                <a:chExt cx="2653920" cy="51912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4640" y="679536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960" y="679536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657880" y="6795360"/>
                <a:ext cx="300960" cy="519120"/>
                <a:chOff x="2657880" y="6795360"/>
                <a:chExt cx="300960" cy="51912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6985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578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959200" y="6795360"/>
                <a:ext cx="300960" cy="519120"/>
                <a:chOff x="2959200" y="6795360"/>
                <a:chExt cx="300960" cy="5191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002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95920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260160" y="6795360"/>
                <a:ext cx="301320" cy="519120"/>
                <a:chOff x="3260160" y="6795360"/>
                <a:chExt cx="301320" cy="5191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30120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26016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561480" y="6795360"/>
                <a:ext cx="300960" cy="519120"/>
                <a:chOff x="3561480" y="6795360"/>
                <a:chExt cx="300960" cy="5191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60216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5614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862800" y="6795360"/>
                <a:ext cx="301320" cy="519120"/>
                <a:chOff x="3862800" y="6795360"/>
                <a:chExt cx="301320" cy="5191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9038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8628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164120" y="6795360"/>
                <a:ext cx="300960" cy="519120"/>
                <a:chOff x="4164120" y="6795360"/>
                <a:chExt cx="300960" cy="5191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2048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1641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465080" y="6795360"/>
                <a:ext cx="300960" cy="519120"/>
                <a:chOff x="4465080" y="6795360"/>
                <a:chExt cx="300960" cy="5191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50612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46508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766400" y="6795360"/>
                <a:ext cx="301320" cy="519120"/>
                <a:chOff x="4766400" y="6795360"/>
                <a:chExt cx="301320" cy="51912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80744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76640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067720" y="6795360"/>
                <a:ext cx="300960" cy="519120"/>
                <a:chOff x="5067720" y="6795360"/>
                <a:chExt cx="300960" cy="5191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10840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6772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369040" y="6795360"/>
                <a:ext cx="301320" cy="519120"/>
                <a:chOff x="5369040" y="6795360"/>
                <a:chExt cx="301320" cy="51912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410080" y="679536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369040" y="679536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670360" y="6795360"/>
                <a:ext cx="300960" cy="519120"/>
                <a:chOff x="5670360" y="6795360"/>
                <a:chExt cx="300960" cy="5191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711040" y="679536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670360" y="679536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5971320" y="6795360"/>
                <a:ext cx="881640" cy="519120"/>
                <a:chOff x="5971320" y="6795360"/>
                <a:chExt cx="881640" cy="5191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012360" y="679536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5971320" y="679536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3960" y="7314840"/>
                <a:ext cx="2653920" cy="519480"/>
                <a:chOff x="3960" y="7314840"/>
                <a:chExt cx="2653920" cy="51948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4640" y="7314840"/>
                  <a:ext cx="25718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960" y="7314840"/>
                  <a:ext cx="26539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657880" y="7314840"/>
                <a:ext cx="300960" cy="519480"/>
                <a:chOff x="2657880" y="7314840"/>
                <a:chExt cx="300960" cy="51948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6985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6578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2959200" y="7314840"/>
                <a:ext cx="300960" cy="519480"/>
                <a:chOff x="2959200" y="7314840"/>
                <a:chExt cx="300960" cy="51948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002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95920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260160" y="7314840"/>
                <a:ext cx="301320" cy="519480"/>
                <a:chOff x="3260160" y="7314840"/>
                <a:chExt cx="301320" cy="51948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30120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26016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561480" y="7314840"/>
                <a:ext cx="300960" cy="519480"/>
                <a:chOff x="3561480" y="7314840"/>
                <a:chExt cx="300960" cy="51948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60216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5614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862800" y="7314840"/>
                <a:ext cx="301320" cy="519480"/>
                <a:chOff x="3862800" y="7314840"/>
                <a:chExt cx="301320" cy="5194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39038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8628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164120" y="7314840"/>
                <a:ext cx="300960" cy="519480"/>
                <a:chOff x="4164120" y="7314840"/>
                <a:chExt cx="300960" cy="519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2048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1641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465080" y="7314840"/>
                <a:ext cx="300960" cy="519480"/>
                <a:chOff x="4465080" y="7314840"/>
                <a:chExt cx="300960" cy="51948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50612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46508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66400" y="7314840"/>
                <a:ext cx="301320" cy="519480"/>
                <a:chOff x="4766400" y="7314840"/>
                <a:chExt cx="301320" cy="5194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80744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6640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067720" y="7314840"/>
                <a:ext cx="300960" cy="519480"/>
                <a:chOff x="5067720" y="7314840"/>
                <a:chExt cx="300960" cy="51948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10840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06772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369040" y="7314840"/>
                <a:ext cx="301320" cy="519480"/>
                <a:chOff x="5369040" y="7314840"/>
                <a:chExt cx="301320" cy="5194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410080" y="7314840"/>
                  <a:ext cx="21888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369040" y="7314840"/>
                  <a:ext cx="30132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670360" y="7314840"/>
                <a:ext cx="300960" cy="519480"/>
                <a:chOff x="5670360" y="7314840"/>
                <a:chExt cx="300960" cy="5194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711040" y="7314840"/>
                  <a:ext cx="21924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70360" y="7314840"/>
                  <a:ext cx="30096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5971320" y="7314840"/>
                <a:ext cx="881640" cy="519480"/>
                <a:chOff x="5971320" y="7314840"/>
                <a:chExt cx="881640" cy="51948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012360" y="7314840"/>
                  <a:ext cx="799560" cy="51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5971320" y="7314840"/>
                  <a:ext cx="881640" cy="519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3960" y="7834320"/>
                <a:ext cx="2653920" cy="519120"/>
                <a:chOff x="3960" y="7834320"/>
                <a:chExt cx="2653920" cy="51912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4640" y="7834320"/>
                  <a:ext cx="25718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960" y="7834320"/>
                  <a:ext cx="26539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57880" y="7834320"/>
                <a:ext cx="300960" cy="519120"/>
                <a:chOff x="2657880" y="7834320"/>
                <a:chExt cx="300960" cy="51912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985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578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2959200" y="7834320"/>
                <a:ext cx="300960" cy="519120"/>
                <a:chOff x="2959200" y="7834320"/>
                <a:chExt cx="300960" cy="51912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002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95920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260160" y="7834320"/>
                <a:ext cx="301320" cy="519120"/>
                <a:chOff x="3260160" y="7834320"/>
                <a:chExt cx="301320" cy="51912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30120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26016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561480" y="7834320"/>
                <a:ext cx="300960" cy="519120"/>
                <a:chOff x="3561480" y="7834320"/>
                <a:chExt cx="300960" cy="51912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60216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14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862800" y="7834320"/>
                <a:ext cx="301320" cy="519120"/>
                <a:chOff x="3862800" y="7834320"/>
                <a:chExt cx="301320" cy="51912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9038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8628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164120" y="7834320"/>
                <a:ext cx="300960" cy="519120"/>
                <a:chOff x="4164120" y="7834320"/>
                <a:chExt cx="300960" cy="51912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2048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1641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465080" y="7834320"/>
                <a:ext cx="300960" cy="519120"/>
                <a:chOff x="4465080" y="7834320"/>
                <a:chExt cx="300960" cy="5191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50612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6508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766400" y="7834320"/>
                <a:ext cx="301320" cy="519120"/>
                <a:chOff x="4766400" y="7834320"/>
                <a:chExt cx="301320" cy="51912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80744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76640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067720" y="7834320"/>
                <a:ext cx="300960" cy="519120"/>
                <a:chOff x="5067720" y="7834320"/>
                <a:chExt cx="300960" cy="5191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10840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06772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369040" y="7834320"/>
                <a:ext cx="301320" cy="519120"/>
                <a:chOff x="5369040" y="7834320"/>
                <a:chExt cx="301320" cy="51912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410080" y="7834320"/>
                  <a:ext cx="21888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369040" y="7834320"/>
                  <a:ext cx="30132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670360" y="7834320"/>
                <a:ext cx="300960" cy="519120"/>
                <a:chOff x="5670360" y="7834320"/>
                <a:chExt cx="300960" cy="51912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711040" y="7834320"/>
                  <a:ext cx="219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X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670360" y="7834320"/>
                  <a:ext cx="30096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5971320" y="7834320"/>
                <a:ext cx="881640" cy="519120"/>
                <a:chOff x="5971320" y="7834320"/>
                <a:chExt cx="881640" cy="5191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012360" y="7834320"/>
                  <a:ext cx="7995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971320" y="7834320"/>
                  <a:ext cx="881640" cy="519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960" y="8353440"/>
                <a:ext cx="2653920" cy="785520"/>
                <a:chOff x="3960" y="8353440"/>
                <a:chExt cx="2653920" cy="7855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4640" y="8353440"/>
                  <a:ext cx="25718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0" y="8353440"/>
                  <a:ext cx="26539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657880" y="8353440"/>
                <a:ext cx="300960" cy="785520"/>
                <a:chOff x="2657880" y="8353440"/>
                <a:chExt cx="300960" cy="78552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6985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578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959200" y="8353440"/>
                <a:ext cx="300960" cy="785520"/>
                <a:chOff x="2959200" y="8353440"/>
                <a:chExt cx="300960" cy="78552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002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95920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60160" y="8353440"/>
                <a:ext cx="301320" cy="785520"/>
                <a:chOff x="3260160" y="8353440"/>
                <a:chExt cx="301320" cy="7855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30120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26016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561480" y="8353440"/>
                <a:ext cx="300960" cy="785520"/>
                <a:chOff x="3561480" y="8353440"/>
                <a:chExt cx="300960" cy="78552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60216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5614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862800" y="8353440"/>
                <a:ext cx="301320" cy="785520"/>
                <a:chOff x="3862800" y="8353440"/>
                <a:chExt cx="301320" cy="78552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9038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8628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164120" y="8353440"/>
                <a:ext cx="300960" cy="785520"/>
                <a:chOff x="4164120" y="8353440"/>
                <a:chExt cx="300960" cy="78552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2048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1641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465080" y="8353440"/>
                <a:ext cx="300960" cy="785520"/>
                <a:chOff x="4465080" y="8353440"/>
                <a:chExt cx="300960" cy="7855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50612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6508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766400" y="8353440"/>
                <a:ext cx="301320" cy="785520"/>
                <a:chOff x="4766400" y="8353440"/>
                <a:chExt cx="301320" cy="7855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80744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76640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067720" y="8353440"/>
                <a:ext cx="300960" cy="785520"/>
                <a:chOff x="5067720" y="8353440"/>
                <a:chExt cx="300960" cy="78552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10840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06772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369040" y="8353440"/>
                <a:ext cx="301320" cy="785520"/>
                <a:chOff x="5369040" y="8353440"/>
                <a:chExt cx="301320" cy="7855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410080" y="8353440"/>
                  <a:ext cx="21888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369040" y="8353440"/>
                  <a:ext cx="30132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670360" y="8353440"/>
                <a:ext cx="300960" cy="785520"/>
                <a:chOff x="5670360" y="8353440"/>
                <a:chExt cx="300960" cy="78552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711040" y="8353440"/>
                  <a:ext cx="21924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70360" y="8353440"/>
                  <a:ext cx="30096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5971320" y="8353440"/>
                <a:ext cx="881640" cy="785520"/>
                <a:chOff x="5971320" y="8353440"/>
                <a:chExt cx="881640" cy="78552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012360" y="8353440"/>
                  <a:ext cx="799560" cy="78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0/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971320" y="8353440"/>
                  <a:ext cx="881640" cy="78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20:32Z</dcterms:created>
  <dc:creator>MADERS</dc:creator>
  <dc:description/>
  <dc:language>en-US</dc:language>
  <cp:lastModifiedBy>MADERS</cp:lastModifiedBy>
  <dcterms:modified xsi:type="dcterms:W3CDTF">2002-03-09T11:24:31Z</dcterms:modified>
  <cp:revision>2</cp:revision>
  <dc:subject/>
  <dc:title>Présentation PowerPoint</dc:title>
</cp:coreProperties>
</file>