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63CF-326D-4B9A-A6B3-EA5CDCA7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384-A870-4249-978F-15DB2042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EB4A-D1BA-4567-AF3E-354982ED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11C-50BD-4A5A-A0F9-4A09314D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7629-F1C9-4611-A173-03027FAA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D1E2-48A8-4D33-BFB7-4B4D0A93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890-6E58-45F2-8ABD-8B93B61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2A5F-D6D3-4EE9-B0F2-E45E9C8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094-448C-4BA5-820D-8C294172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1CD-8A41-4181-834E-619DEC81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8650-9E79-4EBC-96CA-4F2C643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2A5-8BAE-41BA-9906-EE978835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EC03-70C3-4B2D-8005-9547740E8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relevé de dé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cision à prend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685800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des participant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53452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écis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3:18Z</dcterms:modified>
  <cp:revision>9</cp:revision>
  <dc:subject/>
  <dc:title>Présentation PowerPoint</dc:title>
</cp:coreProperties>
</file>