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A41-4FF3-4A2A-8590-4A18354E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971B-3FF6-47F9-9C6B-E0A7D79E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8E64-5014-485B-A94E-09C06AF9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6E2-54E8-475B-8162-A8E58A11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860-2751-4C96-B1A4-6CA250CA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3357-85E4-478C-BF0A-93F12545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756-ED12-4C0E-9D5D-65D31136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C56-FCAD-449D-B104-AD3C9DEA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79E-DE5D-4AE2-8379-78E396E8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3DD-53D8-41A3-A9BB-B531D43C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620-14F7-4519-BE78-A6DA4F9E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2C6-9049-4446-A934-3CB039AD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6D12-2F34-48D8-98B2-8029C4F39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9"/>
          <p:cNvGrpSpPr/>
          <p:nvPr/>
        </p:nvGrpSpPr>
        <p:grpSpPr>
          <a:xfrm>
            <a:off x="0" y="0"/>
            <a:ext cx="6858000" cy="9906120"/>
            <a:chOff x="0" y="0"/>
            <a:chExt cx="6858000" cy="9906120"/>
          </a:xfrm>
        </p:grpSpPr>
        <p:sp>
          <p:nvSpPr>
            <p:cNvPr id="42" name="Rectangle 4"/>
            <p:cNvSpPr/>
            <p:nvPr/>
          </p:nvSpPr>
          <p:spPr>
            <a:xfrm>
              <a:off x="0" y="0"/>
              <a:ext cx="6858000" cy="86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ossier d’étude d’opportunit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0" y="866880"/>
              <a:ext cx="4876920" cy="119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Structure :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édacteur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roje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4876920" y="866880"/>
              <a:ext cx="1981080" cy="119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0" y="2057400"/>
              <a:ext cx="6858000" cy="89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0" y="2952720"/>
              <a:ext cx="68580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ctifs et enjeux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0" y="3822840"/>
              <a:ext cx="6858000" cy="86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escription de l’objet du changemen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1"/>
            <p:cNvSpPr/>
            <p:nvPr/>
          </p:nvSpPr>
          <p:spPr>
            <a:xfrm>
              <a:off x="0" y="5559480"/>
              <a:ext cx="6858000" cy="86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Impacts organisationnels et humain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0" y="7299360"/>
              <a:ext cx="6858000" cy="86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Volumes prévu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0" y="6429240"/>
              <a:ext cx="68580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Exigence de qualité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4"/>
            <p:cNvSpPr/>
            <p:nvPr/>
          </p:nvSpPr>
          <p:spPr>
            <a:xfrm>
              <a:off x="0" y="4692600"/>
              <a:ext cx="6858000" cy="86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cteur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0" y="8166240"/>
              <a:ext cx="6858000" cy="86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Coûts prévu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0" y="9036000"/>
              <a:ext cx="68580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élais de mise en œuvre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37:38Z</dcterms:modified>
  <cp:revision>102</cp:revision>
  <dc:subject/>
  <dc:title>Présentation PowerPoint</dc:title>
</cp:coreProperties>
</file>