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100-3D0C-4141-A642-FAC09152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AA9-F52A-4C68-B7FF-9D407644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895-68F4-453F-A559-9B77AD4D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545-1614-49BA-B104-C7F3E9DC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500-7985-4DB7-A19D-764B0C7C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97F-0010-4EEA-8214-1505E525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ABB-2364-4357-A2F2-1C3956D6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33C-AEA5-47F0-A374-B6DB85B8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945-45C0-4A53-B017-1C6D2BFD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3C98-B4B8-422E-A84F-518974CA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10C-791F-41A8-8508-63F5EB47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421-C81E-426D-AC9F-1062E26C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E87A-6EED-48BD-90C2-4E0BDC88D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Dossier de choi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09480"/>
            <a:ext cx="6858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858000" y="609480"/>
            <a:ext cx="2286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04/04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28954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1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par les agents du siège en work-f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388620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2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par le servic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48769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3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en partie par les secrétaires avec des lettres 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0" y="5867280"/>
            <a:ext cx="2743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cénario 4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1905120"/>
            <a:ext cx="27432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olution actuell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s courriers sont traités manuellement par les agents su siè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137160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2743200" y="1371600"/>
            <a:ext cx="1828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s de fonctionn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4572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6858000" y="1371600"/>
            <a:ext cx="2286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convén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2743200" y="19051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5 avec des pointes à 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4572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ntrôles hiérarch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ation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19"/>
          <p:cNvSpPr/>
          <p:nvPr/>
        </p:nvSpPr>
        <p:spPr>
          <a:xfrm>
            <a:off x="6858000" y="19051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s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isque de non exhaustiv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bsence de 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2743200" y="28954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5 avec des pointes à 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20 K€ par 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4572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Mémor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6858000" y="28954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stissement informatique init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s de mise en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2743200" y="388620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2 avec appels à experti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572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orme commerciale des répon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s statist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6858000" y="388620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responsabilisation des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2743200" y="4876920"/>
            <a:ext cx="18288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27"/>
          <p:cNvSpPr/>
          <p:nvPr/>
        </p:nvSpPr>
        <p:spPr>
          <a:xfrm>
            <a:off x="4572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Gain de temps pour les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28"/>
          <p:cNvSpPr/>
          <p:nvPr/>
        </p:nvSpPr>
        <p:spPr>
          <a:xfrm>
            <a:off x="6858000" y="4876920"/>
            <a:ext cx="22860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isque de standardisation des répon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2743200" y="5867280"/>
            <a:ext cx="18288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TP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30"/>
          <p:cNvSpPr/>
          <p:nvPr/>
        </p:nvSpPr>
        <p:spPr>
          <a:xfrm>
            <a:off x="4572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Rectangle 31"/>
          <p:cNvSpPr/>
          <p:nvPr/>
        </p:nvSpPr>
        <p:spPr>
          <a:xfrm>
            <a:off x="6858000" y="5867280"/>
            <a:ext cx="22860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4:52Z</dcterms:modified>
  <cp:revision>10</cp:revision>
  <dc:subject/>
  <dc:title>Présentation PowerPoint</dc:title>
</cp:coreProperties>
</file>