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BFE-53E7-4AF6-BFD1-80FD4D14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091-0741-4413-9F20-DC3AE1BB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3F9-42CD-4D8C-8E55-C64B66B7E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2CB-732E-4AFB-A93D-15FE1AB4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6B4F-9C99-4C0D-AA82-3CFA9C33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EB9-CBA8-4983-B5E1-690327D9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C01B-8034-4766-A180-157B2721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5A1-BB78-45B8-91FB-EA674F5C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0AB-EB6D-43D5-B986-B8006460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D5A-5541-4B12-9432-D37EBB17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0EB-4E6E-44A2-B2D9-6B20BD7D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108-8A73-4E55-8A61-173DF015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B4FA-F2C9-4B7C-A7F0-0907C25E5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20" y="6480"/>
            <a:ext cx="2730600" cy="1060200"/>
            <a:chOff x="7920" y="6480"/>
            <a:chExt cx="2730600" cy="1060200"/>
          </a:xfrm>
        </p:grpSpPr>
        <p:sp>
          <p:nvSpPr>
            <p:cNvPr id="42" name=""/>
            <p:cNvSpPr/>
            <p:nvPr/>
          </p:nvSpPr>
          <p:spPr>
            <a:xfrm>
              <a:off x="49680" y="6480"/>
              <a:ext cx="2646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920" y="6480"/>
              <a:ext cx="2730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2738520" y="6480"/>
            <a:ext cx="311040" cy="1060200"/>
            <a:chOff x="2738520" y="6480"/>
            <a:chExt cx="311040" cy="1060200"/>
          </a:xfrm>
        </p:grpSpPr>
        <p:sp>
          <p:nvSpPr>
            <p:cNvPr id="45" name=""/>
            <p:cNvSpPr/>
            <p:nvPr/>
          </p:nvSpPr>
          <p:spPr>
            <a:xfrm>
              <a:off x="2780640" y="6480"/>
              <a:ext cx="2264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3852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049560" y="6480"/>
            <a:ext cx="309600" cy="1060200"/>
            <a:chOff x="3049560" y="6480"/>
            <a:chExt cx="309600" cy="1060200"/>
          </a:xfrm>
        </p:grpSpPr>
        <p:sp>
          <p:nvSpPr>
            <p:cNvPr id="48" name=""/>
            <p:cNvSpPr/>
            <p:nvPr/>
          </p:nvSpPr>
          <p:spPr>
            <a:xfrm>
              <a:off x="309168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359160" y="6480"/>
            <a:ext cx="309600" cy="1060200"/>
            <a:chOff x="3359160" y="6480"/>
            <a:chExt cx="309600" cy="1060200"/>
          </a:xfrm>
        </p:grpSpPr>
        <p:sp>
          <p:nvSpPr>
            <p:cNvPr id="51" name=""/>
            <p:cNvSpPr/>
            <p:nvPr/>
          </p:nvSpPr>
          <p:spPr>
            <a:xfrm>
              <a:off x="340128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3591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668760" y="6480"/>
            <a:ext cx="309600" cy="1060200"/>
            <a:chOff x="3668760" y="6480"/>
            <a:chExt cx="309600" cy="1060200"/>
          </a:xfrm>
        </p:grpSpPr>
        <p:sp>
          <p:nvSpPr>
            <p:cNvPr id="54" name=""/>
            <p:cNvSpPr/>
            <p:nvPr/>
          </p:nvSpPr>
          <p:spPr>
            <a:xfrm>
              <a:off x="371052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876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978360" y="6480"/>
            <a:ext cx="311040" cy="1060200"/>
            <a:chOff x="3978360" y="6480"/>
            <a:chExt cx="311040" cy="1060200"/>
          </a:xfrm>
        </p:grpSpPr>
        <p:sp>
          <p:nvSpPr>
            <p:cNvPr id="57" name=""/>
            <p:cNvSpPr/>
            <p:nvPr/>
          </p:nvSpPr>
          <p:spPr>
            <a:xfrm>
              <a:off x="402048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7836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4289400" y="6480"/>
            <a:ext cx="309600" cy="1060200"/>
            <a:chOff x="4289400" y="6480"/>
            <a:chExt cx="309600" cy="1060200"/>
          </a:xfrm>
        </p:grpSpPr>
        <p:sp>
          <p:nvSpPr>
            <p:cNvPr id="60" name=""/>
            <p:cNvSpPr/>
            <p:nvPr/>
          </p:nvSpPr>
          <p:spPr>
            <a:xfrm>
              <a:off x="433116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2894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99000" y="6480"/>
            <a:ext cx="309600" cy="1060200"/>
            <a:chOff x="4599000" y="6480"/>
            <a:chExt cx="309600" cy="1060200"/>
          </a:xfrm>
        </p:grpSpPr>
        <p:sp>
          <p:nvSpPr>
            <p:cNvPr id="63" name=""/>
            <p:cNvSpPr/>
            <p:nvPr/>
          </p:nvSpPr>
          <p:spPr>
            <a:xfrm>
              <a:off x="4641120" y="6480"/>
              <a:ext cx="22536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9900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908600" y="6480"/>
            <a:ext cx="311040" cy="1060200"/>
            <a:chOff x="4908600" y="6480"/>
            <a:chExt cx="311040" cy="1060200"/>
          </a:xfrm>
        </p:grpSpPr>
        <p:sp>
          <p:nvSpPr>
            <p:cNvPr id="66" name=""/>
            <p:cNvSpPr/>
            <p:nvPr/>
          </p:nvSpPr>
          <p:spPr>
            <a:xfrm>
              <a:off x="4950720" y="6480"/>
              <a:ext cx="22608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08600" y="6480"/>
              <a:ext cx="3110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19640" y="6480"/>
            <a:ext cx="309600" cy="1060200"/>
            <a:chOff x="5219640" y="6480"/>
            <a:chExt cx="309600" cy="1060200"/>
          </a:xfrm>
        </p:grpSpPr>
        <p:sp>
          <p:nvSpPr>
            <p:cNvPr id="69" name=""/>
            <p:cNvSpPr/>
            <p:nvPr/>
          </p:nvSpPr>
          <p:spPr>
            <a:xfrm>
              <a:off x="52614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196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529240" y="6480"/>
            <a:ext cx="309600" cy="1060200"/>
            <a:chOff x="5529240" y="6480"/>
            <a:chExt cx="309600" cy="1060200"/>
          </a:xfrm>
        </p:grpSpPr>
        <p:sp>
          <p:nvSpPr>
            <p:cNvPr id="72" name=""/>
            <p:cNvSpPr/>
            <p:nvPr/>
          </p:nvSpPr>
          <p:spPr>
            <a:xfrm>
              <a:off x="5571360" y="6480"/>
              <a:ext cx="22500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292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838840" y="6480"/>
            <a:ext cx="309600" cy="1060200"/>
            <a:chOff x="5838840" y="6480"/>
            <a:chExt cx="309600" cy="1060200"/>
          </a:xfrm>
        </p:grpSpPr>
        <p:sp>
          <p:nvSpPr>
            <p:cNvPr id="75" name=""/>
            <p:cNvSpPr/>
            <p:nvPr/>
          </p:nvSpPr>
          <p:spPr>
            <a:xfrm>
              <a:off x="5880600" y="6480"/>
              <a:ext cx="22572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38840" y="6480"/>
              <a:ext cx="30960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48440" y="6480"/>
            <a:ext cx="701640" cy="1060200"/>
            <a:chOff x="6148440" y="6480"/>
            <a:chExt cx="701640" cy="1060200"/>
          </a:xfrm>
        </p:grpSpPr>
        <p:sp>
          <p:nvSpPr>
            <p:cNvPr id="78" name=""/>
            <p:cNvSpPr/>
            <p:nvPr/>
          </p:nvSpPr>
          <p:spPr>
            <a:xfrm>
              <a:off x="6190560" y="6480"/>
              <a:ext cx="617040" cy="10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ouver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Pa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ctivité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48440" y="6480"/>
              <a:ext cx="701640" cy="1060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920" y="1066680"/>
            <a:ext cx="2730600" cy="648000"/>
            <a:chOff x="7920" y="1066680"/>
            <a:chExt cx="2730600" cy="648000"/>
          </a:xfrm>
        </p:grpSpPr>
        <p:sp>
          <p:nvSpPr>
            <p:cNvPr id="81" name=""/>
            <p:cNvSpPr/>
            <p:nvPr/>
          </p:nvSpPr>
          <p:spPr>
            <a:xfrm>
              <a:off x="49680" y="1066680"/>
              <a:ext cx="2646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0" y="1066680"/>
              <a:ext cx="2730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738520" y="1066680"/>
            <a:ext cx="311040" cy="648000"/>
            <a:chOff x="2738520" y="1066680"/>
            <a:chExt cx="311040" cy="648000"/>
          </a:xfrm>
        </p:grpSpPr>
        <p:sp>
          <p:nvSpPr>
            <p:cNvPr id="84" name=""/>
            <p:cNvSpPr/>
            <p:nvPr/>
          </p:nvSpPr>
          <p:spPr>
            <a:xfrm>
              <a:off x="2780640" y="1066680"/>
              <a:ext cx="226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3852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049560" y="1066680"/>
            <a:ext cx="309600" cy="648000"/>
            <a:chOff x="3049560" y="1066680"/>
            <a:chExt cx="309600" cy="648000"/>
          </a:xfrm>
        </p:grpSpPr>
        <p:sp>
          <p:nvSpPr>
            <p:cNvPr id="87" name=""/>
            <p:cNvSpPr/>
            <p:nvPr/>
          </p:nvSpPr>
          <p:spPr>
            <a:xfrm>
              <a:off x="309168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5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359160" y="1066680"/>
            <a:ext cx="309600" cy="648000"/>
            <a:chOff x="3359160" y="1066680"/>
            <a:chExt cx="309600" cy="648000"/>
          </a:xfrm>
        </p:grpSpPr>
        <p:sp>
          <p:nvSpPr>
            <p:cNvPr id="90" name=""/>
            <p:cNvSpPr/>
            <p:nvPr/>
          </p:nvSpPr>
          <p:spPr>
            <a:xfrm>
              <a:off x="340128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591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8760" y="1066680"/>
            <a:ext cx="309600" cy="648000"/>
            <a:chOff x="3668760" y="1066680"/>
            <a:chExt cx="309600" cy="648000"/>
          </a:xfrm>
        </p:grpSpPr>
        <p:sp>
          <p:nvSpPr>
            <p:cNvPr id="93" name=""/>
            <p:cNvSpPr/>
            <p:nvPr/>
          </p:nvSpPr>
          <p:spPr>
            <a:xfrm>
              <a:off x="371052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876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978360" y="1066680"/>
            <a:ext cx="311040" cy="648000"/>
            <a:chOff x="3978360" y="1066680"/>
            <a:chExt cx="311040" cy="648000"/>
          </a:xfrm>
        </p:grpSpPr>
        <p:sp>
          <p:nvSpPr>
            <p:cNvPr id="96" name=""/>
            <p:cNvSpPr/>
            <p:nvPr/>
          </p:nvSpPr>
          <p:spPr>
            <a:xfrm>
              <a:off x="402048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7836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289400" y="1066680"/>
            <a:ext cx="309600" cy="648000"/>
            <a:chOff x="4289400" y="1066680"/>
            <a:chExt cx="309600" cy="648000"/>
          </a:xfrm>
        </p:grpSpPr>
        <p:sp>
          <p:nvSpPr>
            <p:cNvPr id="99" name=""/>
            <p:cNvSpPr/>
            <p:nvPr/>
          </p:nvSpPr>
          <p:spPr>
            <a:xfrm>
              <a:off x="433116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894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599000" y="1066680"/>
            <a:ext cx="309600" cy="648000"/>
            <a:chOff x="4599000" y="1066680"/>
            <a:chExt cx="309600" cy="648000"/>
          </a:xfrm>
        </p:grpSpPr>
        <p:sp>
          <p:nvSpPr>
            <p:cNvPr id="102" name=""/>
            <p:cNvSpPr/>
            <p:nvPr/>
          </p:nvSpPr>
          <p:spPr>
            <a:xfrm>
              <a:off x="4641120" y="1066680"/>
              <a:ext cx="2253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9900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908600" y="1066680"/>
            <a:ext cx="311040" cy="648000"/>
            <a:chOff x="4908600" y="1066680"/>
            <a:chExt cx="311040" cy="648000"/>
          </a:xfrm>
        </p:grpSpPr>
        <p:sp>
          <p:nvSpPr>
            <p:cNvPr id="105" name=""/>
            <p:cNvSpPr/>
            <p:nvPr/>
          </p:nvSpPr>
          <p:spPr>
            <a:xfrm>
              <a:off x="4950720" y="1066680"/>
              <a:ext cx="226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08600" y="1066680"/>
              <a:ext cx="3110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19640" y="1066680"/>
            <a:ext cx="309600" cy="648000"/>
            <a:chOff x="5219640" y="1066680"/>
            <a:chExt cx="309600" cy="648000"/>
          </a:xfrm>
        </p:grpSpPr>
        <p:sp>
          <p:nvSpPr>
            <p:cNvPr id="108" name=""/>
            <p:cNvSpPr/>
            <p:nvPr/>
          </p:nvSpPr>
          <p:spPr>
            <a:xfrm>
              <a:off x="52614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96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529240" y="1066680"/>
            <a:ext cx="309600" cy="648000"/>
            <a:chOff x="5529240" y="1066680"/>
            <a:chExt cx="309600" cy="648000"/>
          </a:xfrm>
        </p:grpSpPr>
        <p:sp>
          <p:nvSpPr>
            <p:cNvPr id="111" name=""/>
            <p:cNvSpPr/>
            <p:nvPr/>
          </p:nvSpPr>
          <p:spPr>
            <a:xfrm>
              <a:off x="5571360" y="1066680"/>
              <a:ext cx="225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92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38840" y="1066680"/>
            <a:ext cx="309600" cy="648000"/>
            <a:chOff x="5838840" y="1066680"/>
            <a:chExt cx="309600" cy="648000"/>
          </a:xfrm>
        </p:grpSpPr>
        <p:sp>
          <p:nvSpPr>
            <p:cNvPr id="114" name=""/>
            <p:cNvSpPr/>
            <p:nvPr/>
          </p:nvSpPr>
          <p:spPr>
            <a:xfrm>
              <a:off x="5880600" y="1066680"/>
              <a:ext cx="22572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38840" y="1066680"/>
              <a:ext cx="30960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48440" y="1066680"/>
            <a:ext cx="701640" cy="648000"/>
            <a:chOff x="6148440" y="1066680"/>
            <a:chExt cx="701640" cy="648000"/>
          </a:xfrm>
        </p:grpSpPr>
        <p:sp>
          <p:nvSpPr>
            <p:cNvPr id="117" name=""/>
            <p:cNvSpPr/>
            <p:nvPr/>
          </p:nvSpPr>
          <p:spPr>
            <a:xfrm>
              <a:off x="6190560" y="1066680"/>
              <a:ext cx="6170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48440" y="1066680"/>
              <a:ext cx="701640" cy="6480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920" y="1714680"/>
            <a:ext cx="2730600" cy="510840"/>
            <a:chOff x="7920" y="1714680"/>
            <a:chExt cx="2730600" cy="510840"/>
          </a:xfrm>
        </p:grpSpPr>
        <p:sp>
          <p:nvSpPr>
            <p:cNvPr id="120" name=""/>
            <p:cNvSpPr/>
            <p:nvPr/>
          </p:nvSpPr>
          <p:spPr>
            <a:xfrm>
              <a:off x="49680" y="1714680"/>
              <a:ext cx="2646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20" y="1714680"/>
              <a:ext cx="2730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738520" y="1714680"/>
            <a:ext cx="311040" cy="510840"/>
            <a:chOff x="2738520" y="1714680"/>
            <a:chExt cx="311040" cy="510840"/>
          </a:xfrm>
        </p:grpSpPr>
        <p:sp>
          <p:nvSpPr>
            <p:cNvPr id="123" name=""/>
            <p:cNvSpPr/>
            <p:nvPr/>
          </p:nvSpPr>
          <p:spPr>
            <a:xfrm>
              <a:off x="2780640" y="1714680"/>
              <a:ext cx="2264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3852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049560" y="1714680"/>
            <a:ext cx="309600" cy="510840"/>
            <a:chOff x="3049560" y="1714680"/>
            <a:chExt cx="309600" cy="510840"/>
          </a:xfrm>
        </p:grpSpPr>
        <p:sp>
          <p:nvSpPr>
            <p:cNvPr id="126" name=""/>
            <p:cNvSpPr/>
            <p:nvPr/>
          </p:nvSpPr>
          <p:spPr>
            <a:xfrm>
              <a:off x="309168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95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59160" y="1714680"/>
            <a:ext cx="309600" cy="510840"/>
            <a:chOff x="3359160" y="1714680"/>
            <a:chExt cx="309600" cy="510840"/>
          </a:xfrm>
        </p:grpSpPr>
        <p:sp>
          <p:nvSpPr>
            <p:cNvPr id="129" name=""/>
            <p:cNvSpPr/>
            <p:nvPr/>
          </p:nvSpPr>
          <p:spPr>
            <a:xfrm>
              <a:off x="340128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91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668760" y="1714680"/>
            <a:ext cx="309600" cy="510840"/>
            <a:chOff x="3668760" y="1714680"/>
            <a:chExt cx="309600" cy="510840"/>
          </a:xfrm>
        </p:grpSpPr>
        <p:sp>
          <p:nvSpPr>
            <p:cNvPr id="132" name=""/>
            <p:cNvSpPr/>
            <p:nvPr/>
          </p:nvSpPr>
          <p:spPr>
            <a:xfrm>
              <a:off x="371052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6876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78360" y="1714680"/>
            <a:ext cx="311040" cy="510840"/>
            <a:chOff x="3978360" y="1714680"/>
            <a:chExt cx="311040" cy="510840"/>
          </a:xfrm>
        </p:grpSpPr>
        <p:sp>
          <p:nvSpPr>
            <p:cNvPr id="135" name=""/>
            <p:cNvSpPr/>
            <p:nvPr/>
          </p:nvSpPr>
          <p:spPr>
            <a:xfrm>
              <a:off x="402048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7836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289400" y="1714680"/>
            <a:ext cx="309600" cy="510840"/>
            <a:chOff x="4289400" y="1714680"/>
            <a:chExt cx="309600" cy="510840"/>
          </a:xfrm>
        </p:grpSpPr>
        <p:sp>
          <p:nvSpPr>
            <p:cNvPr id="138" name=""/>
            <p:cNvSpPr/>
            <p:nvPr/>
          </p:nvSpPr>
          <p:spPr>
            <a:xfrm>
              <a:off x="433116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894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599000" y="1714680"/>
            <a:ext cx="309600" cy="510840"/>
            <a:chOff x="4599000" y="1714680"/>
            <a:chExt cx="309600" cy="510840"/>
          </a:xfrm>
        </p:grpSpPr>
        <p:sp>
          <p:nvSpPr>
            <p:cNvPr id="141" name=""/>
            <p:cNvSpPr/>
            <p:nvPr/>
          </p:nvSpPr>
          <p:spPr>
            <a:xfrm>
              <a:off x="4641120" y="1714680"/>
              <a:ext cx="22536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9900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908600" y="1714680"/>
            <a:ext cx="311040" cy="510840"/>
            <a:chOff x="4908600" y="1714680"/>
            <a:chExt cx="311040" cy="510840"/>
          </a:xfrm>
        </p:grpSpPr>
        <p:sp>
          <p:nvSpPr>
            <p:cNvPr id="144" name=""/>
            <p:cNvSpPr/>
            <p:nvPr/>
          </p:nvSpPr>
          <p:spPr>
            <a:xfrm>
              <a:off x="4950720" y="1714680"/>
              <a:ext cx="226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08600" y="1714680"/>
              <a:ext cx="3110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219640" y="1714680"/>
            <a:ext cx="309600" cy="510840"/>
            <a:chOff x="5219640" y="1714680"/>
            <a:chExt cx="309600" cy="510840"/>
          </a:xfrm>
        </p:grpSpPr>
        <p:sp>
          <p:nvSpPr>
            <p:cNvPr id="147" name=""/>
            <p:cNvSpPr/>
            <p:nvPr/>
          </p:nvSpPr>
          <p:spPr>
            <a:xfrm>
              <a:off x="52614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196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529240" y="1714680"/>
            <a:ext cx="309600" cy="510840"/>
            <a:chOff x="5529240" y="1714680"/>
            <a:chExt cx="309600" cy="510840"/>
          </a:xfrm>
        </p:grpSpPr>
        <p:sp>
          <p:nvSpPr>
            <p:cNvPr id="150" name=""/>
            <p:cNvSpPr/>
            <p:nvPr/>
          </p:nvSpPr>
          <p:spPr>
            <a:xfrm>
              <a:off x="5571360" y="1714680"/>
              <a:ext cx="22500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92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38840" y="1714680"/>
            <a:ext cx="309600" cy="510840"/>
            <a:chOff x="5838840" y="1714680"/>
            <a:chExt cx="309600" cy="510840"/>
          </a:xfrm>
        </p:grpSpPr>
        <p:sp>
          <p:nvSpPr>
            <p:cNvPr id="153" name=""/>
            <p:cNvSpPr/>
            <p:nvPr/>
          </p:nvSpPr>
          <p:spPr>
            <a:xfrm>
              <a:off x="5880600" y="1714680"/>
              <a:ext cx="22572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38840" y="1714680"/>
              <a:ext cx="30960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148440" y="1714680"/>
            <a:ext cx="701640" cy="510840"/>
            <a:chOff x="6148440" y="1714680"/>
            <a:chExt cx="701640" cy="510840"/>
          </a:xfrm>
        </p:grpSpPr>
        <p:sp>
          <p:nvSpPr>
            <p:cNvPr id="156" name=""/>
            <p:cNvSpPr/>
            <p:nvPr/>
          </p:nvSpPr>
          <p:spPr>
            <a:xfrm>
              <a:off x="6190560" y="1714680"/>
              <a:ext cx="61704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48440" y="1714680"/>
              <a:ext cx="701640" cy="5108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20" y="2225520"/>
            <a:ext cx="2730600" cy="509760"/>
            <a:chOff x="7920" y="2225520"/>
            <a:chExt cx="2730600" cy="509760"/>
          </a:xfrm>
        </p:grpSpPr>
        <p:sp>
          <p:nvSpPr>
            <p:cNvPr id="159" name=""/>
            <p:cNvSpPr/>
            <p:nvPr/>
          </p:nvSpPr>
          <p:spPr>
            <a:xfrm>
              <a:off x="49680" y="222552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0" y="222552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2738520" y="2225520"/>
            <a:ext cx="311040" cy="509760"/>
            <a:chOff x="2738520" y="2225520"/>
            <a:chExt cx="311040" cy="509760"/>
          </a:xfrm>
        </p:grpSpPr>
        <p:sp>
          <p:nvSpPr>
            <p:cNvPr id="162" name=""/>
            <p:cNvSpPr/>
            <p:nvPr/>
          </p:nvSpPr>
          <p:spPr>
            <a:xfrm>
              <a:off x="2780640" y="222552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3852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560" y="2225520"/>
            <a:ext cx="309600" cy="509760"/>
            <a:chOff x="3049560" y="2225520"/>
            <a:chExt cx="309600" cy="509760"/>
          </a:xfrm>
        </p:grpSpPr>
        <p:sp>
          <p:nvSpPr>
            <p:cNvPr id="165" name=""/>
            <p:cNvSpPr/>
            <p:nvPr/>
          </p:nvSpPr>
          <p:spPr>
            <a:xfrm>
              <a:off x="309168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5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3359160" y="2225520"/>
            <a:ext cx="309600" cy="509760"/>
            <a:chOff x="3359160" y="2225520"/>
            <a:chExt cx="309600" cy="509760"/>
          </a:xfrm>
        </p:grpSpPr>
        <p:sp>
          <p:nvSpPr>
            <p:cNvPr id="168" name=""/>
            <p:cNvSpPr/>
            <p:nvPr/>
          </p:nvSpPr>
          <p:spPr>
            <a:xfrm>
              <a:off x="340128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591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668760" y="2225520"/>
            <a:ext cx="309600" cy="509760"/>
            <a:chOff x="3668760" y="2225520"/>
            <a:chExt cx="309600" cy="509760"/>
          </a:xfrm>
        </p:grpSpPr>
        <p:sp>
          <p:nvSpPr>
            <p:cNvPr id="171" name=""/>
            <p:cNvSpPr/>
            <p:nvPr/>
          </p:nvSpPr>
          <p:spPr>
            <a:xfrm>
              <a:off x="371052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6876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978360" y="2225520"/>
            <a:ext cx="311040" cy="509760"/>
            <a:chOff x="3978360" y="2225520"/>
            <a:chExt cx="311040" cy="509760"/>
          </a:xfrm>
        </p:grpSpPr>
        <p:sp>
          <p:nvSpPr>
            <p:cNvPr id="174" name=""/>
            <p:cNvSpPr/>
            <p:nvPr/>
          </p:nvSpPr>
          <p:spPr>
            <a:xfrm>
              <a:off x="402048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7836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289400" y="2225520"/>
            <a:ext cx="309600" cy="509760"/>
            <a:chOff x="4289400" y="2225520"/>
            <a:chExt cx="309600" cy="509760"/>
          </a:xfrm>
        </p:grpSpPr>
        <p:sp>
          <p:nvSpPr>
            <p:cNvPr id="177" name=""/>
            <p:cNvSpPr/>
            <p:nvPr/>
          </p:nvSpPr>
          <p:spPr>
            <a:xfrm>
              <a:off x="433116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894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99000" y="2225520"/>
            <a:ext cx="309600" cy="509760"/>
            <a:chOff x="4599000" y="2225520"/>
            <a:chExt cx="309600" cy="509760"/>
          </a:xfrm>
        </p:grpSpPr>
        <p:sp>
          <p:nvSpPr>
            <p:cNvPr id="180" name=""/>
            <p:cNvSpPr/>
            <p:nvPr/>
          </p:nvSpPr>
          <p:spPr>
            <a:xfrm>
              <a:off x="4641120" y="222552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9900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908600" y="2225520"/>
            <a:ext cx="311040" cy="509760"/>
            <a:chOff x="4908600" y="2225520"/>
            <a:chExt cx="311040" cy="509760"/>
          </a:xfrm>
        </p:grpSpPr>
        <p:sp>
          <p:nvSpPr>
            <p:cNvPr id="183" name=""/>
            <p:cNvSpPr/>
            <p:nvPr/>
          </p:nvSpPr>
          <p:spPr>
            <a:xfrm>
              <a:off x="4950720" y="222552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8600" y="222552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19640" y="2225520"/>
            <a:ext cx="309600" cy="509760"/>
            <a:chOff x="5219640" y="2225520"/>
            <a:chExt cx="309600" cy="509760"/>
          </a:xfrm>
        </p:grpSpPr>
        <p:sp>
          <p:nvSpPr>
            <p:cNvPr id="186" name=""/>
            <p:cNvSpPr/>
            <p:nvPr/>
          </p:nvSpPr>
          <p:spPr>
            <a:xfrm>
              <a:off x="52614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196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529240" y="2225520"/>
            <a:ext cx="309600" cy="509760"/>
            <a:chOff x="5529240" y="2225520"/>
            <a:chExt cx="309600" cy="509760"/>
          </a:xfrm>
        </p:grpSpPr>
        <p:sp>
          <p:nvSpPr>
            <p:cNvPr id="189" name=""/>
            <p:cNvSpPr/>
            <p:nvPr/>
          </p:nvSpPr>
          <p:spPr>
            <a:xfrm>
              <a:off x="5571360" y="222552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292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838840" y="2225520"/>
            <a:ext cx="309600" cy="509760"/>
            <a:chOff x="5838840" y="2225520"/>
            <a:chExt cx="309600" cy="509760"/>
          </a:xfrm>
        </p:grpSpPr>
        <p:sp>
          <p:nvSpPr>
            <p:cNvPr id="192" name=""/>
            <p:cNvSpPr/>
            <p:nvPr/>
          </p:nvSpPr>
          <p:spPr>
            <a:xfrm>
              <a:off x="5880600" y="222552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38840" y="222552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148440" y="2225520"/>
            <a:ext cx="701640" cy="509760"/>
            <a:chOff x="6148440" y="2225520"/>
            <a:chExt cx="701640" cy="509760"/>
          </a:xfrm>
        </p:grpSpPr>
        <p:sp>
          <p:nvSpPr>
            <p:cNvPr id="195" name=""/>
            <p:cNvSpPr/>
            <p:nvPr/>
          </p:nvSpPr>
          <p:spPr>
            <a:xfrm>
              <a:off x="6190560" y="222552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48440" y="222552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920" y="2735280"/>
            <a:ext cx="2730600" cy="511200"/>
            <a:chOff x="7920" y="2735280"/>
            <a:chExt cx="2730600" cy="511200"/>
          </a:xfrm>
        </p:grpSpPr>
        <p:sp>
          <p:nvSpPr>
            <p:cNvPr id="198" name=""/>
            <p:cNvSpPr/>
            <p:nvPr/>
          </p:nvSpPr>
          <p:spPr>
            <a:xfrm>
              <a:off x="49680" y="27352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20" y="27352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738520" y="2735280"/>
            <a:ext cx="311040" cy="511200"/>
            <a:chOff x="2738520" y="2735280"/>
            <a:chExt cx="311040" cy="511200"/>
          </a:xfrm>
        </p:grpSpPr>
        <p:sp>
          <p:nvSpPr>
            <p:cNvPr id="201" name=""/>
            <p:cNvSpPr/>
            <p:nvPr/>
          </p:nvSpPr>
          <p:spPr>
            <a:xfrm>
              <a:off x="2780640" y="27352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3852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049560" y="2735280"/>
            <a:ext cx="309600" cy="511200"/>
            <a:chOff x="3049560" y="2735280"/>
            <a:chExt cx="309600" cy="511200"/>
          </a:xfrm>
        </p:grpSpPr>
        <p:sp>
          <p:nvSpPr>
            <p:cNvPr id="204" name=""/>
            <p:cNvSpPr/>
            <p:nvPr/>
          </p:nvSpPr>
          <p:spPr>
            <a:xfrm>
              <a:off x="309168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5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359160" y="2735280"/>
            <a:ext cx="309600" cy="511200"/>
            <a:chOff x="3359160" y="2735280"/>
            <a:chExt cx="309600" cy="511200"/>
          </a:xfrm>
        </p:grpSpPr>
        <p:sp>
          <p:nvSpPr>
            <p:cNvPr id="207" name=""/>
            <p:cNvSpPr/>
            <p:nvPr/>
          </p:nvSpPr>
          <p:spPr>
            <a:xfrm>
              <a:off x="340128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591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668760" y="2735280"/>
            <a:ext cx="309600" cy="511200"/>
            <a:chOff x="3668760" y="2735280"/>
            <a:chExt cx="309600" cy="511200"/>
          </a:xfrm>
        </p:grpSpPr>
        <p:sp>
          <p:nvSpPr>
            <p:cNvPr id="210" name=""/>
            <p:cNvSpPr/>
            <p:nvPr/>
          </p:nvSpPr>
          <p:spPr>
            <a:xfrm>
              <a:off x="371052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6876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978360" y="2735280"/>
            <a:ext cx="311040" cy="511200"/>
            <a:chOff x="3978360" y="2735280"/>
            <a:chExt cx="311040" cy="511200"/>
          </a:xfrm>
        </p:grpSpPr>
        <p:sp>
          <p:nvSpPr>
            <p:cNvPr id="213" name=""/>
            <p:cNvSpPr/>
            <p:nvPr/>
          </p:nvSpPr>
          <p:spPr>
            <a:xfrm>
              <a:off x="402048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7836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289400" y="2735280"/>
            <a:ext cx="309600" cy="511200"/>
            <a:chOff x="4289400" y="2735280"/>
            <a:chExt cx="309600" cy="511200"/>
          </a:xfrm>
        </p:grpSpPr>
        <p:sp>
          <p:nvSpPr>
            <p:cNvPr id="216" name=""/>
            <p:cNvSpPr/>
            <p:nvPr/>
          </p:nvSpPr>
          <p:spPr>
            <a:xfrm>
              <a:off x="433116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894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599000" y="2735280"/>
            <a:ext cx="309600" cy="511200"/>
            <a:chOff x="4599000" y="2735280"/>
            <a:chExt cx="309600" cy="511200"/>
          </a:xfrm>
        </p:grpSpPr>
        <p:sp>
          <p:nvSpPr>
            <p:cNvPr id="219" name=""/>
            <p:cNvSpPr/>
            <p:nvPr/>
          </p:nvSpPr>
          <p:spPr>
            <a:xfrm>
              <a:off x="4641120" y="27352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9900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908600" y="2735280"/>
            <a:ext cx="311040" cy="511200"/>
            <a:chOff x="4908600" y="2735280"/>
            <a:chExt cx="311040" cy="511200"/>
          </a:xfrm>
        </p:grpSpPr>
        <p:sp>
          <p:nvSpPr>
            <p:cNvPr id="222" name=""/>
            <p:cNvSpPr/>
            <p:nvPr/>
          </p:nvSpPr>
          <p:spPr>
            <a:xfrm>
              <a:off x="4950720" y="27352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08600" y="27352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219640" y="2735280"/>
            <a:ext cx="309600" cy="511200"/>
            <a:chOff x="5219640" y="2735280"/>
            <a:chExt cx="309600" cy="511200"/>
          </a:xfrm>
        </p:grpSpPr>
        <p:sp>
          <p:nvSpPr>
            <p:cNvPr id="225" name=""/>
            <p:cNvSpPr/>
            <p:nvPr/>
          </p:nvSpPr>
          <p:spPr>
            <a:xfrm>
              <a:off x="52614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196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529240" y="2735280"/>
            <a:ext cx="309600" cy="511200"/>
            <a:chOff x="5529240" y="2735280"/>
            <a:chExt cx="309600" cy="511200"/>
          </a:xfrm>
        </p:grpSpPr>
        <p:sp>
          <p:nvSpPr>
            <p:cNvPr id="228" name=""/>
            <p:cNvSpPr/>
            <p:nvPr/>
          </p:nvSpPr>
          <p:spPr>
            <a:xfrm>
              <a:off x="5571360" y="27352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292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838840" y="2735280"/>
            <a:ext cx="309600" cy="511200"/>
            <a:chOff x="5838840" y="2735280"/>
            <a:chExt cx="309600" cy="511200"/>
          </a:xfrm>
        </p:grpSpPr>
        <p:sp>
          <p:nvSpPr>
            <p:cNvPr id="231" name=""/>
            <p:cNvSpPr/>
            <p:nvPr/>
          </p:nvSpPr>
          <p:spPr>
            <a:xfrm>
              <a:off x="5880600" y="27352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38840" y="27352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148440" y="2735280"/>
            <a:ext cx="701640" cy="511200"/>
            <a:chOff x="6148440" y="2735280"/>
            <a:chExt cx="701640" cy="511200"/>
          </a:xfrm>
        </p:grpSpPr>
        <p:sp>
          <p:nvSpPr>
            <p:cNvPr id="234" name=""/>
            <p:cNvSpPr/>
            <p:nvPr/>
          </p:nvSpPr>
          <p:spPr>
            <a:xfrm>
              <a:off x="6190560" y="27352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48440" y="27352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920" y="3246480"/>
            <a:ext cx="2730600" cy="511200"/>
            <a:chOff x="7920" y="3246480"/>
            <a:chExt cx="2730600" cy="511200"/>
          </a:xfrm>
        </p:grpSpPr>
        <p:sp>
          <p:nvSpPr>
            <p:cNvPr id="237" name=""/>
            <p:cNvSpPr/>
            <p:nvPr/>
          </p:nvSpPr>
          <p:spPr>
            <a:xfrm>
              <a:off x="49680" y="32464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0" y="32464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738520" y="3246480"/>
            <a:ext cx="311040" cy="511200"/>
            <a:chOff x="2738520" y="3246480"/>
            <a:chExt cx="311040" cy="511200"/>
          </a:xfrm>
        </p:grpSpPr>
        <p:sp>
          <p:nvSpPr>
            <p:cNvPr id="240" name=""/>
            <p:cNvSpPr/>
            <p:nvPr/>
          </p:nvSpPr>
          <p:spPr>
            <a:xfrm>
              <a:off x="2780640" y="32464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3852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049560" y="3246480"/>
            <a:ext cx="309600" cy="511200"/>
            <a:chOff x="3049560" y="3246480"/>
            <a:chExt cx="309600" cy="511200"/>
          </a:xfrm>
        </p:grpSpPr>
        <p:sp>
          <p:nvSpPr>
            <p:cNvPr id="243" name=""/>
            <p:cNvSpPr/>
            <p:nvPr/>
          </p:nvSpPr>
          <p:spPr>
            <a:xfrm>
              <a:off x="309168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495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359160" y="3246480"/>
            <a:ext cx="309600" cy="511200"/>
            <a:chOff x="3359160" y="3246480"/>
            <a:chExt cx="309600" cy="511200"/>
          </a:xfrm>
        </p:grpSpPr>
        <p:sp>
          <p:nvSpPr>
            <p:cNvPr id="246" name=""/>
            <p:cNvSpPr/>
            <p:nvPr/>
          </p:nvSpPr>
          <p:spPr>
            <a:xfrm>
              <a:off x="340128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591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668760" y="3246480"/>
            <a:ext cx="309600" cy="511200"/>
            <a:chOff x="3668760" y="3246480"/>
            <a:chExt cx="309600" cy="511200"/>
          </a:xfrm>
        </p:grpSpPr>
        <p:sp>
          <p:nvSpPr>
            <p:cNvPr id="249" name=""/>
            <p:cNvSpPr/>
            <p:nvPr/>
          </p:nvSpPr>
          <p:spPr>
            <a:xfrm>
              <a:off x="371052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6876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78360" y="3246480"/>
            <a:ext cx="311040" cy="511200"/>
            <a:chOff x="3978360" y="3246480"/>
            <a:chExt cx="311040" cy="511200"/>
          </a:xfrm>
        </p:grpSpPr>
        <p:sp>
          <p:nvSpPr>
            <p:cNvPr id="252" name=""/>
            <p:cNvSpPr/>
            <p:nvPr/>
          </p:nvSpPr>
          <p:spPr>
            <a:xfrm>
              <a:off x="402048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7836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289400" y="3246480"/>
            <a:ext cx="309600" cy="511200"/>
            <a:chOff x="4289400" y="3246480"/>
            <a:chExt cx="309600" cy="511200"/>
          </a:xfrm>
        </p:grpSpPr>
        <p:sp>
          <p:nvSpPr>
            <p:cNvPr id="255" name=""/>
            <p:cNvSpPr/>
            <p:nvPr/>
          </p:nvSpPr>
          <p:spPr>
            <a:xfrm>
              <a:off x="433116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894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599000" y="3246480"/>
            <a:ext cx="309600" cy="511200"/>
            <a:chOff x="4599000" y="3246480"/>
            <a:chExt cx="309600" cy="511200"/>
          </a:xfrm>
        </p:grpSpPr>
        <p:sp>
          <p:nvSpPr>
            <p:cNvPr id="258" name=""/>
            <p:cNvSpPr/>
            <p:nvPr/>
          </p:nvSpPr>
          <p:spPr>
            <a:xfrm>
              <a:off x="4641120" y="32464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9900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8600" y="3246480"/>
            <a:ext cx="311040" cy="511200"/>
            <a:chOff x="4908600" y="3246480"/>
            <a:chExt cx="311040" cy="511200"/>
          </a:xfrm>
        </p:grpSpPr>
        <p:sp>
          <p:nvSpPr>
            <p:cNvPr id="261" name=""/>
            <p:cNvSpPr/>
            <p:nvPr/>
          </p:nvSpPr>
          <p:spPr>
            <a:xfrm>
              <a:off x="4950720" y="32464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08600" y="32464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19640" y="3246480"/>
            <a:ext cx="309600" cy="511200"/>
            <a:chOff x="5219640" y="3246480"/>
            <a:chExt cx="309600" cy="511200"/>
          </a:xfrm>
        </p:grpSpPr>
        <p:sp>
          <p:nvSpPr>
            <p:cNvPr id="264" name=""/>
            <p:cNvSpPr/>
            <p:nvPr/>
          </p:nvSpPr>
          <p:spPr>
            <a:xfrm>
              <a:off x="52614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196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529240" y="3246480"/>
            <a:ext cx="309600" cy="511200"/>
            <a:chOff x="5529240" y="3246480"/>
            <a:chExt cx="309600" cy="511200"/>
          </a:xfrm>
        </p:grpSpPr>
        <p:sp>
          <p:nvSpPr>
            <p:cNvPr id="267" name=""/>
            <p:cNvSpPr/>
            <p:nvPr/>
          </p:nvSpPr>
          <p:spPr>
            <a:xfrm>
              <a:off x="5571360" y="32464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92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5838840" y="3246480"/>
            <a:ext cx="309600" cy="511200"/>
            <a:chOff x="5838840" y="3246480"/>
            <a:chExt cx="309600" cy="511200"/>
          </a:xfrm>
        </p:grpSpPr>
        <p:sp>
          <p:nvSpPr>
            <p:cNvPr id="270" name=""/>
            <p:cNvSpPr/>
            <p:nvPr/>
          </p:nvSpPr>
          <p:spPr>
            <a:xfrm>
              <a:off x="5880600" y="32464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38840" y="32464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48440" y="3246480"/>
            <a:ext cx="701640" cy="511200"/>
            <a:chOff x="6148440" y="3246480"/>
            <a:chExt cx="701640" cy="511200"/>
          </a:xfrm>
        </p:grpSpPr>
        <p:sp>
          <p:nvSpPr>
            <p:cNvPr id="273" name=""/>
            <p:cNvSpPr/>
            <p:nvPr/>
          </p:nvSpPr>
          <p:spPr>
            <a:xfrm>
              <a:off x="6190560" y="32464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48440" y="32464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7920" y="3757680"/>
            <a:ext cx="2730600" cy="509400"/>
            <a:chOff x="7920" y="3757680"/>
            <a:chExt cx="2730600" cy="509400"/>
          </a:xfrm>
        </p:grpSpPr>
        <p:sp>
          <p:nvSpPr>
            <p:cNvPr id="276" name=""/>
            <p:cNvSpPr/>
            <p:nvPr/>
          </p:nvSpPr>
          <p:spPr>
            <a:xfrm>
              <a:off x="49680" y="375768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0" y="375768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738520" y="3757680"/>
            <a:ext cx="311040" cy="509400"/>
            <a:chOff x="2738520" y="3757680"/>
            <a:chExt cx="311040" cy="509400"/>
          </a:xfrm>
        </p:grpSpPr>
        <p:sp>
          <p:nvSpPr>
            <p:cNvPr id="279" name=""/>
            <p:cNvSpPr/>
            <p:nvPr/>
          </p:nvSpPr>
          <p:spPr>
            <a:xfrm>
              <a:off x="2780640" y="375768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3852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049560" y="3757680"/>
            <a:ext cx="309600" cy="509400"/>
            <a:chOff x="3049560" y="3757680"/>
            <a:chExt cx="309600" cy="509400"/>
          </a:xfrm>
        </p:grpSpPr>
        <p:sp>
          <p:nvSpPr>
            <p:cNvPr id="282" name=""/>
            <p:cNvSpPr/>
            <p:nvPr/>
          </p:nvSpPr>
          <p:spPr>
            <a:xfrm>
              <a:off x="309168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495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3359160" y="3757680"/>
            <a:ext cx="309600" cy="509400"/>
            <a:chOff x="3359160" y="3757680"/>
            <a:chExt cx="309600" cy="509400"/>
          </a:xfrm>
        </p:grpSpPr>
        <p:sp>
          <p:nvSpPr>
            <p:cNvPr id="285" name=""/>
            <p:cNvSpPr/>
            <p:nvPr/>
          </p:nvSpPr>
          <p:spPr>
            <a:xfrm>
              <a:off x="340128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591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668760" y="3757680"/>
            <a:ext cx="309600" cy="509400"/>
            <a:chOff x="3668760" y="3757680"/>
            <a:chExt cx="309600" cy="509400"/>
          </a:xfrm>
        </p:grpSpPr>
        <p:sp>
          <p:nvSpPr>
            <p:cNvPr id="288" name=""/>
            <p:cNvSpPr/>
            <p:nvPr/>
          </p:nvSpPr>
          <p:spPr>
            <a:xfrm>
              <a:off x="371052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6876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978360" y="3757680"/>
            <a:ext cx="311040" cy="509400"/>
            <a:chOff x="3978360" y="3757680"/>
            <a:chExt cx="311040" cy="509400"/>
          </a:xfrm>
        </p:grpSpPr>
        <p:sp>
          <p:nvSpPr>
            <p:cNvPr id="291" name=""/>
            <p:cNvSpPr/>
            <p:nvPr/>
          </p:nvSpPr>
          <p:spPr>
            <a:xfrm>
              <a:off x="402048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7836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289400" y="3757680"/>
            <a:ext cx="309600" cy="509400"/>
            <a:chOff x="4289400" y="3757680"/>
            <a:chExt cx="309600" cy="509400"/>
          </a:xfrm>
        </p:grpSpPr>
        <p:sp>
          <p:nvSpPr>
            <p:cNvPr id="294" name=""/>
            <p:cNvSpPr/>
            <p:nvPr/>
          </p:nvSpPr>
          <p:spPr>
            <a:xfrm>
              <a:off x="433116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894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4599000" y="3757680"/>
            <a:ext cx="309600" cy="509400"/>
            <a:chOff x="4599000" y="3757680"/>
            <a:chExt cx="309600" cy="509400"/>
          </a:xfrm>
        </p:grpSpPr>
        <p:sp>
          <p:nvSpPr>
            <p:cNvPr id="297" name=""/>
            <p:cNvSpPr/>
            <p:nvPr/>
          </p:nvSpPr>
          <p:spPr>
            <a:xfrm>
              <a:off x="4641120" y="375768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900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08600" y="3757680"/>
            <a:ext cx="311040" cy="509400"/>
            <a:chOff x="4908600" y="3757680"/>
            <a:chExt cx="311040" cy="509400"/>
          </a:xfrm>
        </p:grpSpPr>
        <p:sp>
          <p:nvSpPr>
            <p:cNvPr id="300" name=""/>
            <p:cNvSpPr/>
            <p:nvPr/>
          </p:nvSpPr>
          <p:spPr>
            <a:xfrm>
              <a:off x="4950720" y="375768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08600" y="375768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219640" y="3757680"/>
            <a:ext cx="309600" cy="509400"/>
            <a:chOff x="5219640" y="3757680"/>
            <a:chExt cx="309600" cy="509400"/>
          </a:xfrm>
        </p:grpSpPr>
        <p:sp>
          <p:nvSpPr>
            <p:cNvPr id="303" name=""/>
            <p:cNvSpPr/>
            <p:nvPr/>
          </p:nvSpPr>
          <p:spPr>
            <a:xfrm>
              <a:off x="52614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196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529240" y="3757680"/>
            <a:ext cx="309600" cy="509400"/>
            <a:chOff x="5529240" y="3757680"/>
            <a:chExt cx="309600" cy="509400"/>
          </a:xfrm>
        </p:grpSpPr>
        <p:sp>
          <p:nvSpPr>
            <p:cNvPr id="306" name=""/>
            <p:cNvSpPr/>
            <p:nvPr/>
          </p:nvSpPr>
          <p:spPr>
            <a:xfrm>
              <a:off x="5571360" y="375768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92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838840" y="3757680"/>
            <a:ext cx="309600" cy="509400"/>
            <a:chOff x="5838840" y="3757680"/>
            <a:chExt cx="309600" cy="509400"/>
          </a:xfrm>
        </p:grpSpPr>
        <p:sp>
          <p:nvSpPr>
            <p:cNvPr id="309" name=""/>
            <p:cNvSpPr/>
            <p:nvPr/>
          </p:nvSpPr>
          <p:spPr>
            <a:xfrm>
              <a:off x="5880600" y="375768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38840" y="375768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148440" y="3757680"/>
            <a:ext cx="701640" cy="509400"/>
            <a:chOff x="6148440" y="3757680"/>
            <a:chExt cx="701640" cy="509400"/>
          </a:xfrm>
        </p:grpSpPr>
        <p:sp>
          <p:nvSpPr>
            <p:cNvPr id="312" name=""/>
            <p:cNvSpPr/>
            <p:nvPr/>
          </p:nvSpPr>
          <p:spPr>
            <a:xfrm>
              <a:off x="6190560" y="375768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48440" y="375768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920" y="4267080"/>
            <a:ext cx="2730600" cy="511200"/>
            <a:chOff x="7920" y="4267080"/>
            <a:chExt cx="2730600" cy="511200"/>
          </a:xfrm>
        </p:grpSpPr>
        <p:sp>
          <p:nvSpPr>
            <p:cNvPr id="315" name=""/>
            <p:cNvSpPr/>
            <p:nvPr/>
          </p:nvSpPr>
          <p:spPr>
            <a:xfrm>
              <a:off x="49680" y="426708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20" y="426708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738520" y="4267080"/>
            <a:ext cx="311040" cy="511200"/>
            <a:chOff x="2738520" y="4267080"/>
            <a:chExt cx="311040" cy="511200"/>
          </a:xfrm>
        </p:grpSpPr>
        <p:sp>
          <p:nvSpPr>
            <p:cNvPr id="318" name=""/>
            <p:cNvSpPr/>
            <p:nvPr/>
          </p:nvSpPr>
          <p:spPr>
            <a:xfrm>
              <a:off x="2780640" y="426708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3852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49560" y="4267080"/>
            <a:ext cx="309600" cy="511200"/>
            <a:chOff x="3049560" y="4267080"/>
            <a:chExt cx="309600" cy="511200"/>
          </a:xfrm>
        </p:grpSpPr>
        <p:sp>
          <p:nvSpPr>
            <p:cNvPr id="321" name=""/>
            <p:cNvSpPr/>
            <p:nvPr/>
          </p:nvSpPr>
          <p:spPr>
            <a:xfrm>
              <a:off x="309168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495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359160" y="4267080"/>
            <a:ext cx="309600" cy="511200"/>
            <a:chOff x="3359160" y="4267080"/>
            <a:chExt cx="309600" cy="511200"/>
          </a:xfrm>
        </p:grpSpPr>
        <p:sp>
          <p:nvSpPr>
            <p:cNvPr id="324" name=""/>
            <p:cNvSpPr/>
            <p:nvPr/>
          </p:nvSpPr>
          <p:spPr>
            <a:xfrm>
              <a:off x="340128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91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668760" y="4267080"/>
            <a:ext cx="309600" cy="511200"/>
            <a:chOff x="3668760" y="4267080"/>
            <a:chExt cx="309600" cy="511200"/>
          </a:xfrm>
        </p:grpSpPr>
        <p:sp>
          <p:nvSpPr>
            <p:cNvPr id="327" name=""/>
            <p:cNvSpPr/>
            <p:nvPr/>
          </p:nvSpPr>
          <p:spPr>
            <a:xfrm>
              <a:off x="371052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6876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978360" y="4267080"/>
            <a:ext cx="311040" cy="511200"/>
            <a:chOff x="3978360" y="4267080"/>
            <a:chExt cx="311040" cy="511200"/>
          </a:xfrm>
        </p:grpSpPr>
        <p:sp>
          <p:nvSpPr>
            <p:cNvPr id="330" name=""/>
            <p:cNvSpPr/>
            <p:nvPr/>
          </p:nvSpPr>
          <p:spPr>
            <a:xfrm>
              <a:off x="402048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836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289400" y="4267080"/>
            <a:ext cx="309600" cy="511200"/>
            <a:chOff x="4289400" y="4267080"/>
            <a:chExt cx="309600" cy="511200"/>
          </a:xfrm>
        </p:grpSpPr>
        <p:sp>
          <p:nvSpPr>
            <p:cNvPr id="333" name=""/>
            <p:cNvSpPr/>
            <p:nvPr/>
          </p:nvSpPr>
          <p:spPr>
            <a:xfrm>
              <a:off x="433116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94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599000" y="4267080"/>
            <a:ext cx="309600" cy="511200"/>
            <a:chOff x="4599000" y="4267080"/>
            <a:chExt cx="309600" cy="511200"/>
          </a:xfrm>
        </p:grpSpPr>
        <p:sp>
          <p:nvSpPr>
            <p:cNvPr id="336" name=""/>
            <p:cNvSpPr/>
            <p:nvPr/>
          </p:nvSpPr>
          <p:spPr>
            <a:xfrm>
              <a:off x="4641120" y="426708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900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908600" y="4267080"/>
            <a:ext cx="311040" cy="511200"/>
            <a:chOff x="4908600" y="4267080"/>
            <a:chExt cx="311040" cy="511200"/>
          </a:xfrm>
        </p:grpSpPr>
        <p:sp>
          <p:nvSpPr>
            <p:cNvPr id="339" name=""/>
            <p:cNvSpPr/>
            <p:nvPr/>
          </p:nvSpPr>
          <p:spPr>
            <a:xfrm>
              <a:off x="4950720" y="426708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08600" y="426708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219640" y="4267080"/>
            <a:ext cx="309600" cy="511200"/>
            <a:chOff x="5219640" y="4267080"/>
            <a:chExt cx="309600" cy="511200"/>
          </a:xfrm>
        </p:grpSpPr>
        <p:sp>
          <p:nvSpPr>
            <p:cNvPr id="342" name=""/>
            <p:cNvSpPr/>
            <p:nvPr/>
          </p:nvSpPr>
          <p:spPr>
            <a:xfrm>
              <a:off x="52614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196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529240" y="4267080"/>
            <a:ext cx="309600" cy="511200"/>
            <a:chOff x="5529240" y="4267080"/>
            <a:chExt cx="309600" cy="511200"/>
          </a:xfrm>
        </p:grpSpPr>
        <p:sp>
          <p:nvSpPr>
            <p:cNvPr id="345" name=""/>
            <p:cNvSpPr/>
            <p:nvPr/>
          </p:nvSpPr>
          <p:spPr>
            <a:xfrm>
              <a:off x="5571360" y="426708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292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838840" y="4267080"/>
            <a:ext cx="309600" cy="511200"/>
            <a:chOff x="5838840" y="4267080"/>
            <a:chExt cx="309600" cy="511200"/>
          </a:xfrm>
        </p:grpSpPr>
        <p:sp>
          <p:nvSpPr>
            <p:cNvPr id="348" name=""/>
            <p:cNvSpPr/>
            <p:nvPr/>
          </p:nvSpPr>
          <p:spPr>
            <a:xfrm>
              <a:off x="5880600" y="426708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38840" y="426708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148440" y="4267080"/>
            <a:ext cx="701640" cy="511200"/>
            <a:chOff x="6148440" y="4267080"/>
            <a:chExt cx="701640" cy="511200"/>
          </a:xfrm>
        </p:grpSpPr>
        <p:sp>
          <p:nvSpPr>
            <p:cNvPr id="351" name=""/>
            <p:cNvSpPr/>
            <p:nvPr/>
          </p:nvSpPr>
          <p:spPr>
            <a:xfrm>
              <a:off x="6190560" y="426708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48440" y="426708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7920" y="4778280"/>
            <a:ext cx="2730600" cy="509760"/>
            <a:chOff x="7920" y="4778280"/>
            <a:chExt cx="2730600" cy="509760"/>
          </a:xfrm>
        </p:grpSpPr>
        <p:sp>
          <p:nvSpPr>
            <p:cNvPr id="354" name=""/>
            <p:cNvSpPr/>
            <p:nvPr/>
          </p:nvSpPr>
          <p:spPr>
            <a:xfrm>
              <a:off x="49680" y="477828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20" y="477828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738520" y="4778280"/>
            <a:ext cx="311040" cy="509760"/>
            <a:chOff x="2738520" y="4778280"/>
            <a:chExt cx="311040" cy="509760"/>
          </a:xfrm>
        </p:grpSpPr>
        <p:sp>
          <p:nvSpPr>
            <p:cNvPr id="357" name=""/>
            <p:cNvSpPr/>
            <p:nvPr/>
          </p:nvSpPr>
          <p:spPr>
            <a:xfrm>
              <a:off x="2780640" y="477828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3852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3049560" y="4778280"/>
            <a:ext cx="309600" cy="509760"/>
            <a:chOff x="3049560" y="4778280"/>
            <a:chExt cx="309600" cy="509760"/>
          </a:xfrm>
        </p:grpSpPr>
        <p:sp>
          <p:nvSpPr>
            <p:cNvPr id="360" name=""/>
            <p:cNvSpPr/>
            <p:nvPr/>
          </p:nvSpPr>
          <p:spPr>
            <a:xfrm>
              <a:off x="309168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95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359160" y="4778280"/>
            <a:ext cx="309600" cy="509760"/>
            <a:chOff x="3359160" y="4778280"/>
            <a:chExt cx="309600" cy="509760"/>
          </a:xfrm>
        </p:grpSpPr>
        <p:sp>
          <p:nvSpPr>
            <p:cNvPr id="363" name=""/>
            <p:cNvSpPr/>
            <p:nvPr/>
          </p:nvSpPr>
          <p:spPr>
            <a:xfrm>
              <a:off x="340128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591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68760" y="4778280"/>
            <a:ext cx="309600" cy="509760"/>
            <a:chOff x="3668760" y="4778280"/>
            <a:chExt cx="309600" cy="509760"/>
          </a:xfrm>
        </p:grpSpPr>
        <p:sp>
          <p:nvSpPr>
            <p:cNvPr id="366" name=""/>
            <p:cNvSpPr/>
            <p:nvPr/>
          </p:nvSpPr>
          <p:spPr>
            <a:xfrm>
              <a:off x="371052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876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3978360" y="4778280"/>
            <a:ext cx="311040" cy="509760"/>
            <a:chOff x="3978360" y="4778280"/>
            <a:chExt cx="311040" cy="509760"/>
          </a:xfrm>
        </p:grpSpPr>
        <p:sp>
          <p:nvSpPr>
            <p:cNvPr id="369" name=""/>
            <p:cNvSpPr/>
            <p:nvPr/>
          </p:nvSpPr>
          <p:spPr>
            <a:xfrm>
              <a:off x="402048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7836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289400" y="4778280"/>
            <a:ext cx="309600" cy="509760"/>
            <a:chOff x="4289400" y="4778280"/>
            <a:chExt cx="309600" cy="509760"/>
          </a:xfrm>
        </p:grpSpPr>
        <p:sp>
          <p:nvSpPr>
            <p:cNvPr id="372" name=""/>
            <p:cNvSpPr/>
            <p:nvPr/>
          </p:nvSpPr>
          <p:spPr>
            <a:xfrm>
              <a:off x="433116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894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599000" y="4778280"/>
            <a:ext cx="309600" cy="509760"/>
            <a:chOff x="4599000" y="4778280"/>
            <a:chExt cx="309600" cy="509760"/>
          </a:xfrm>
        </p:grpSpPr>
        <p:sp>
          <p:nvSpPr>
            <p:cNvPr id="375" name=""/>
            <p:cNvSpPr/>
            <p:nvPr/>
          </p:nvSpPr>
          <p:spPr>
            <a:xfrm>
              <a:off x="4641120" y="477828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9900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908600" y="4778280"/>
            <a:ext cx="311040" cy="509760"/>
            <a:chOff x="4908600" y="4778280"/>
            <a:chExt cx="311040" cy="509760"/>
          </a:xfrm>
        </p:grpSpPr>
        <p:sp>
          <p:nvSpPr>
            <p:cNvPr id="378" name=""/>
            <p:cNvSpPr/>
            <p:nvPr/>
          </p:nvSpPr>
          <p:spPr>
            <a:xfrm>
              <a:off x="4950720" y="477828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08600" y="477828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219640" y="4778280"/>
            <a:ext cx="309600" cy="509760"/>
            <a:chOff x="5219640" y="4778280"/>
            <a:chExt cx="309600" cy="509760"/>
          </a:xfrm>
        </p:grpSpPr>
        <p:sp>
          <p:nvSpPr>
            <p:cNvPr id="381" name=""/>
            <p:cNvSpPr/>
            <p:nvPr/>
          </p:nvSpPr>
          <p:spPr>
            <a:xfrm>
              <a:off x="52614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196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5529240" y="4778280"/>
            <a:ext cx="309600" cy="509760"/>
            <a:chOff x="5529240" y="4778280"/>
            <a:chExt cx="309600" cy="509760"/>
          </a:xfrm>
        </p:grpSpPr>
        <p:sp>
          <p:nvSpPr>
            <p:cNvPr id="384" name=""/>
            <p:cNvSpPr/>
            <p:nvPr/>
          </p:nvSpPr>
          <p:spPr>
            <a:xfrm>
              <a:off x="5571360" y="477828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292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5838840" y="4778280"/>
            <a:ext cx="309600" cy="509760"/>
            <a:chOff x="5838840" y="4778280"/>
            <a:chExt cx="309600" cy="509760"/>
          </a:xfrm>
        </p:grpSpPr>
        <p:sp>
          <p:nvSpPr>
            <p:cNvPr id="387" name=""/>
            <p:cNvSpPr/>
            <p:nvPr/>
          </p:nvSpPr>
          <p:spPr>
            <a:xfrm>
              <a:off x="5880600" y="477828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8840" y="477828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148440" y="4778280"/>
            <a:ext cx="701640" cy="509760"/>
            <a:chOff x="6148440" y="4778280"/>
            <a:chExt cx="701640" cy="509760"/>
          </a:xfrm>
        </p:grpSpPr>
        <p:sp>
          <p:nvSpPr>
            <p:cNvPr id="390" name=""/>
            <p:cNvSpPr/>
            <p:nvPr/>
          </p:nvSpPr>
          <p:spPr>
            <a:xfrm>
              <a:off x="6190560" y="477828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48440" y="477828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920" y="5288040"/>
            <a:ext cx="2730600" cy="511200"/>
            <a:chOff x="7920" y="5288040"/>
            <a:chExt cx="2730600" cy="511200"/>
          </a:xfrm>
        </p:grpSpPr>
        <p:sp>
          <p:nvSpPr>
            <p:cNvPr id="393" name=""/>
            <p:cNvSpPr/>
            <p:nvPr/>
          </p:nvSpPr>
          <p:spPr>
            <a:xfrm>
              <a:off x="49680" y="5288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20" y="5288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738520" y="5288040"/>
            <a:ext cx="311040" cy="511200"/>
            <a:chOff x="2738520" y="5288040"/>
            <a:chExt cx="311040" cy="511200"/>
          </a:xfrm>
        </p:grpSpPr>
        <p:sp>
          <p:nvSpPr>
            <p:cNvPr id="396" name=""/>
            <p:cNvSpPr/>
            <p:nvPr/>
          </p:nvSpPr>
          <p:spPr>
            <a:xfrm>
              <a:off x="2780640" y="5288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3852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049560" y="5288040"/>
            <a:ext cx="309600" cy="511200"/>
            <a:chOff x="3049560" y="5288040"/>
            <a:chExt cx="309600" cy="511200"/>
          </a:xfrm>
        </p:grpSpPr>
        <p:sp>
          <p:nvSpPr>
            <p:cNvPr id="399" name=""/>
            <p:cNvSpPr/>
            <p:nvPr/>
          </p:nvSpPr>
          <p:spPr>
            <a:xfrm>
              <a:off x="309168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95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59160" y="5288040"/>
            <a:ext cx="309600" cy="511200"/>
            <a:chOff x="3359160" y="5288040"/>
            <a:chExt cx="309600" cy="511200"/>
          </a:xfrm>
        </p:grpSpPr>
        <p:sp>
          <p:nvSpPr>
            <p:cNvPr id="402" name=""/>
            <p:cNvSpPr/>
            <p:nvPr/>
          </p:nvSpPr>
          <p:spPr>
            <a:xfrm>
              <a:off x="340128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591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668760" y="5288040"/>
            <a:ext cx="309600" cy="511200"/>
            <a:chOff x="3668760" y="5288040"/>
            <a:chExt cx="309600" cy="511200"/>
          </a:xfrm>
        </p:grpSpPr>
        <p:sp>
          <p:nvSpPr>
            <p:cNvPr id="405" name=""/>
            <p:cNvSpPr/>
            <p:nvPr/>
          </p:nvSpPr>
          <p:spPr>
            <a:xfrm>
              <a:off x="371052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876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978360" y="5288040"/>
            <a:ext cx="311040" cy="511200"/>
            <a:chOff x="3978360" y="5288040"/>
            <a:chExt cx="311040" cy="511200"/>
          </a:xfrm>
        </p:grpSpPr>
        <p:sp>
          <p:nvSpPr>
            <p:cNvPr id="408" name=""/>
            <p:cNvSpPr/>
            <p:nvPr/>
          </p:nvSpPr>
          <p:spPr>
            <a:xfrm>
              <a:off x="402048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7836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289400" y="5288040"/>
            <a:ext cx="309600" cy="511200"/>
            <a:chOff x="4289400" y="5288040"/>
            <a:chExt cx="309600" cy="511200"/>
          </a:xfrm>
        </p:grpSpPr>
        <p:sp>
          <p:nvSpPr>
            <p:cNvPr id="411" name=""/>
            <p:cNvSpPr/>
            <p:nvPr/>
          </p:nvSpPr>
          <p:spPr>
            <a:xfrm>
              <a:off x="433116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894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599000" y="5288040"/>
            <a:ext cx="309600" cy="511200"/>
            <a:chOff x="4599000" y="5288040"/>
            <a:chExt cx="309600" cy="511200"/>
          </a:xfrm>
        </p:grpSpPr>
        <p:sp>
          <p:nvSpPr>
            <p:cNvPr id="414" name=""/>
            <p:cNvSpPr/>
            <p:nvPr/>
          </p:nvSpPr>
          <p:spPr>
            <a:xfrm>
              <a:off x="4641120" y="5288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9900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908600" y="5288040"/>
            <a:ext cx="311040" cy="511200"/>
            <a:chOff x="4908600" y="5288040"/>
            <a:chExt cx="311040" cy="511200"/>
          </a:xfrm>
        </p:grpSpPr>
        <p:sp>
          <p:nvSpPr>
            <p:cNvPr id="417" name=""/>
            <p:cNvSpPr/>
            <p:nvPr/>
          </p:nvSpPr>
          <p:spPr>
            <a:xfrm>
              <a:off x="4950720" y="5288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08600" y="5288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219640" y="5288040"/>
            <a:ext cx="309600" cy="511200"/>
            <a:chOff x="5219640" y="5288040"/>
            <a:chExt cx="309600" cy="511200"/>
          </a:xfrm>
        </p:grpSpPr>
        <p:sp>
          <p:nvSpPr>
            <p:cNvPr id="420" name=""/>
            <p:cNvSpPr/>
            <p:nvPr/>
          </p:nvSpPr>
          <p:spPr>
            <a:xfrm>
              <a:off x="52614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196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529240" y="5288040"/>
            <a:ext cx="309600" cy="511200"/>
            <a:chOff x="5529240" y="5288040"/>
            <a:chExt cx="309600" cy="511200"/>
          </a:xfrm>
        </p:grpSpPr>
        <p:sp>
          <p:nvSpPr>
            <p:cNvPr id="423" name=""/>
            <p:cNvSpPr/>
            <p:nvPr/>
          </p:nvSpPr>
          <p:spPr>
            <a:xfrm>
              <a:off x="5571360" y="5288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292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838840" y="5288040"/>
            <a:ext cx="309600" cy="511200"/>
            <a:chOff x="5838840" y="5288040"/>
            <a:chExt cx="309600" cy="511200"/>
          </a:xfrm>
        </p:grpSpPr>
        <p:sp>
          <p:nvSpPr>
            <p:cNvPr id="426" name=""/>
            <p:cNvSpPr/>
            <p:nvPr/>
          </p:nvSpPr>
          <p:spPr>
            <a:xfrm>
              <a:off x="5880600" y="5288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38840" y="5288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148440" y="5288040"/>
            <a:ext cx="701640" cy="511200"/>
            <a:chOff x="6148440" y="5288040"/>
            <a:chExt cx="701640" cy="511200"/>
          </a:xfrm>
        </p:grpSpPr>
        <p:sp>
          <p:nvSpPr>
            <p:cNvPr id="429" name=""/>
            <p:cNvSpPr/>
            <p:nvPr/>
          </p:nvSpPr>
          <p:spPr>
            <a:xfrm>
              <a:off x="6190560" y="5288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8440" y="5288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920" y="5799240"/>
            <a:ext cx="2730600" cy="511200"/>
            <a:chOff x="7920" y="5799240"/>
            <a:chExt cx="2730600" cy="511200"/>
          </a:xfrm>
        </p:grpSpPr>
        <p:sp>
          <p:nvSpPr>
            <p:cNvPr id="432" name=""/>
            <p:cNvSpPr/>
            <p:nvPr/>
          </p:nvSpPr>
          <p:spPr>
            <a:xfrm>
              <a:off x="49680" y="57992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20" y="57992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738520" y="5799240"/>
            <a:ext cx="311040" cy="511200"/>
            <a:chOff x="2738520" y="5799240"/>
            <a:chExt cx="311040" cy="511200"/>
          </a:xfrm>
        </p:grpSpPr>
        <p:sp>
          <p:nvSpPr>
            <p:cNvPr id="435" name=""/>
            <p:cNvSpPr/>
            <p:nvPr/>
          </p:nvSpPr>
          <p:spPr>
            <a:xfrm>
              <a:off x="2780640" y="57992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3852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049560" y="5799240"/>
            <a:ext cx="309600" cy="511200"/>
            <a:chOff x="3049560" y="5799240"/>
            <a:chExt cx="309600" cy="511200"/>
          </a:xfrm>
        </p:grpSpPr>
        <p:sp>
          <p:nvSpPr>
            <p:cNvPr id="438" name=""/>
            <p:cNvSpPr/>
            <p:nvPr/>
          </p:nvSpPr>
          <p:spPr>
            <a:xfrm>
              <a:off x="309168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95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359160" y="5799240"/>
            <a:ext cx="309600" cy="511200"/>
            <a:chOff x="3359160" y="5799240"/>
            <a:chExt cx="309600" cy="511200"/>
          </a:xfrm>
        </p:grpSpPr>
        <p:sp>
          <p:nvSpPr>
            <p:cNvPr id="441" name=""/>
            <p:cNvSpPr/>
            <p:nvPr/>
          </p:nvSpPr>
          <p:spPr>
            <a:xfrm>
              <a:off x="340128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591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668760" y="5799240"/>
            <a:ext cx="309600" cy="511200"/>
            <a:chOff x="3668760" y="5799240"/>
            <a:chExt cx="309600" cy="511200"/>
          </a:xfrm>
        </p:grpSpPr>
        <p:sp>
          <p:nvSpPr>
            <p:cNvPr id="444" name=""/>
            <p:cNvSpPr/>
            <p:nvPr/>
          </p:nvSpPr>
          <p:spPr>
            <a:xfrm>
              <a:off x="371052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6876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978360" y="5799240"/>
            <a:ext cx="311040" cy="511200"/>
            <a:chOff x="3978360" y="5799240"/>
            <a:chExt cx="311040" cy="511200"/>
          </a:xfrm>
        </p:grpSpPr>
        <p:sp>
          <p:nvSpPr>
            <p:cNvPr id="447" name=""/>
            <p:cNvSpPr/>
            <p:nvPr/>
          </p:nvSpPr>
          <p:spPr>
            <a:xfrm>
              <a:off x="402048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7836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289400" y="5799240"/>
            <a:ext cx="309600" cy="511200"/>
            <a:chOff x="4289400" y="5799240"/>
            <a:chExt cx="309600" cy="511200"/>
          </a:xfrm>
        </p:grpSpPr>
        <p:sp>
          <p:nvSpPr>
            <p:cNvPr id="450" name=""/>
            <p:cNvSpPr/>
            <p:nvPr/>
          </p:nvSpPr>
          <p:spPr>
            <a:xfrm>
              <a:off x="433116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2894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599000" y="5799240"/>
            <a:ext cx="309600" cy="511200"/>
            <a:chOff x="4599000" y="5799240"/>
            <a:chExt cx="309600" cy="511200"/>
          </a:xfrm>
        </p:grpSpPr>
        <p:sp>
          <p:nvSpPr>
            <p:cNvPr id="453" name=""/>
            <p:cNvSpPr/>
            <p:nvPr/>
          </p:nvSpPr>
          <p:spPr>
            <a:xfrm>
              <a:off x="4641120" y="57992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9900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908600" y="5799240"/>
            <a:ext cx="311040" cy="511200"/>
            <a:chOff x="4908600" y="5799240"/>
            <a:chExt cx="311040" cy="511200"/>
          </a:xfrm>
        </p:grpSpPr>
        <p:sp>
          <p:nvSpPr>
            <p:cNvPr id="456" name=""/>
            <p:cNvSpPr/>
            <p:nvPr/>
          </p:nvSpPr>
          <p:spPr>
            <a:xfrm>
              <a:off x="4950720" y="57992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08600" y="57992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219640" y="5799240"/>
            <a:ext cx="309600" cy="511200"/>
            <a:chOff x="5219640" y="5799240"/>
            <a:chExt cx="309600" cy="511200"/>
          </a:xfrm>
        </p:grpSpPr>
        <p:sp>
          <p:nvSpPr>
            <p:cNvPr id="459" name=""/>
            <p:cNvSpPr/>
            <p:nvPr/>
          </p:nvSpPr>
          <p:spPr>
            <a:xfrm>
              <a:off x="52614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196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529240" y="5799240"/>
            <a:ext cx="309600" cy="511200"/>
            <a:chOff x="5529240" y="5799240"/>
            <a:chExt cx="309600" cy="511200"/>
          </a:xfrm>
        </p:grpSpPr>
        <p:sp>
          <p:nvSpPr>
            <p:cNvPr id="462" name=""/>
            <p:cNvSpPr/>
            <p:nvPr/>
          </p:nvSpPr>
          <p:spPr>
            <a:xfrm>
              <a:off x="5571360" y="57992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292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838840" y="5799240"/>
            <a:ext cx="309600" cy="511200"/>
            <a:chOff x="5838840" y="5799240"/>
            <a:chExt cx="309600" cy="511200"/>
          </a:xfrm>
        </p:grpSpPr>
        <p:sp>
          <p:nvSpPr>
            <p:cNvPr id="465" name=""/>
            <p:cNvSpPr/>
            <p:nvPr/>
          </p:nvSpPr>
          <p:spPr>
            <a:xfrm>
              <a:off x="5880600" y="57992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38840" y="57992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148440" y="5799240"/>
            <a:ext cx="701640" cy="511200"/>
            <a:chOff x="6148440" y="5799240"/>
            <a:chExt cx="701640" cy="511200"/>
          </a:xfrm>
        </p:grpSpPr>
        <p:sp>
          <p:nvSpPr>
            <p:cNvPr id="468" name=""/>
            <p:cNvSpPr/>
            <p:nvPr/>
          </p:nvSpPr>
          <p:spPr>
            <a:xfrm>
              <a:off x="6190560" y="57992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148440" y="57992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7920" y="6310440"/>
            <a:ext cx="2730600" cy="509400"/>
            <a:chOff x="7920" y="6310440"/>
            <a:chExt cx="2730600" cy="509400"/>
          </a:xfrm>
        </p:grpSpPr>
        <p:sp>
          <p:nvSpPr>
            <p:cNvPr id="471" name=""/>
            <p:cNvSpPr/>
            <p:nvPr/>
          </p:nvSpPr>
          <p:spPr>
            <a:xfrm>
              <a:off x="49680" y="6310440"/>
              <a:ext cx="2646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20" y="6310440"/>
              <a:ext cx="2730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738520" y="6310440"/>
            <a:ext cx="311040" cy="509400"/>
            <a:chOff x="2738520" y="6310440"/>
            <a:chExt cx="311040" cy="509400"/>
          </a:xfrm>
        </p:grpSpPr>
        <p:sp>
          <p:nvSpPr>
            <p:cNvPr id="474" name=""/>
            <p:cNvSpPr/>
            <p:nvPr/>
          </p:nvSpPr>
          <p:spPr>
            <a:xfrm>
              <a:off x="2780640" y="6310440"/>
              <a:ext cx="226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3852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049560" y="6310440"/>
            <a:ext cx="309600" cy="509400"/>
            <a:chOff x="3049560" y="6310440"/>
            <a:chExt cx="309600" cy="509400"/>
          </a:xfrm>
        </p:grpSpPr>
        <p:sp>
          <p:nvSpPr>
            <p:cNvPr id="477" name=""/>
            <p:cNvSpPr/>
            <p:nvPr/>
          </p:nvSpPr>
          <p:spPr>
            <a:xfrm>
              <a:off x="309168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95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359160" y="6310440"/>
            <a:ext cx="309600" cy="509400"/>
            <a:chOff x="3359160" y="6310440"/>
            <a:chExt cx="309600" cy="509400"/>
          </a:xfrm>
        </p:grpSpPr>
        <p:sp>
          <p:nvSpPr>
            <p:cNvPr id="480" name=""/>
            <p:cNvSpPr/>
            <p:nvPr/>
          </p:nvSpPr>
          <p:spPr>
            <a:xfrm>
              <a:off x="340128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591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3668760" y="6310440"/>
            <a:ext cx="309600" cy="509400"/>
            <a:chOff x="3668760" y="6310440"/>
            <a:chExt cx="309600" cy="509400"/>
          </a:xfrm>
        </p:grpSpPr>
        <p:sp>
          <p:nvSpPr>
            <p:cNvPr id="483" name=""/>
            <p:cNvSpPr/>
            <p:nvPr/>
          </p:nvSpPr>
          <p:spPr>
            <a:xfrm>
              <a:off x="371052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6876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978360" y="6310440"/>
            <a:ext cx="311040" cy="509400"/>
            <a:chOff x="3978360" y="6310440"/>
            <a:chExt cx="311040" cy="509400"/>
          </a:xfrm>
        </p:grpSpPr>
        <p:sp>
          <p:nvSpPr>
            <p:cNvPr id="486" name=""/>
            <p:cNvSpPr/>
            <p:nvPr/>
          </p:nvSpPr>
          <p:spPr>
            <a:xfrm>
              <a:off x="402048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7836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4289400" y="6310440"/>
            <a:ext cx="309600" cy="509400"/>
            <a:chOff x="4289400" y="6310440"/>
            <a:chExt cx="309600" cy="509400"/>
          </a:xfrm>
        </p:grpSpPr>
        <p:sp>
          <p:nvSpPr>
            <p:cNvPr id="489" name=""/>
            <p:cNvSpPr/>
            <p:nvPr/>
          </p:nvSpPr>
          <p:spPr>
            <a:xfrm>
              <a:off x="433116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894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4599000" y="6310440"/>
            <a:ext cx="309600" cy="509400"/>
            <a:chOff x="4599000" y="6310440"/>
            <a:chExt cx="309600" cy="509400"/>
          </a:xfrm>
        </p:grpSpPr>
        <p:sp>
          <p:nvSpPr>
            <p:cNvPr id="492" name=""/>
            <p:cNvSpPr/>
            <p:nvPr/>
          </p:nvSpPr>
          <p:spPr>
            <a:xfrm>
              <a:off x="4641120" y="6310440"/>
              <a:ext cx="22536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9900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908600" y="6310440"/>
            <a:ext cx="311040" cy="509400"/>
            <a:chOff x="4908600" y="6310440"/>
            <a:chExt cx="311040" cy="509400"/>
          </a:xfrm>
        </p:grpSpPr>
        <p:sp>
          <p:nvSpPr>
            <p:cNvPr id="495" name=""/>
            <p:cNvSpPr/>
            <p:nvPr/>
          </p:nvSpPr>
          <p:spPr>
            <a:xfrm>
              <a:off x="4950720" y="6310440"/>
              <a:ext cx="22608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908600" y="6310440"/>
              <a:ext cx="3110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219640" y="6310440"/>
            <a:ext cx="309600" cy="509400"/>
            <a:chOff x="5219640" y="6310440"/>
            <a:chExt cx="309600" cy="509400"/>
          </a:xfrm>
        </p:grpSpPr>
        <p:sp>
          <p:nvSpPr>
            <p:cNvPr id="498" name=""/>
            <p:cNvSpPr/>
            <p:nvPr/>
          </p:nvSpPr>
          <p:spPr>
            <a:xfrm>
              <a:off x="52614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196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529240" y="6310440"/>
            <a:ext cx="309600" cy="509400"/>
            <a:chOff x="5529240" y="6310440"/>
            <a:chExt cx="309600" cy="509400"/>
          </a:xfrm>
        </p:grpSpPr>
        <p:sp>
          <p:nvSpPr>
            <p:cNvPr id="501" name=""/>
            <p:cNvSpPr/>
            <p:nvPr/>
          </p:nvSpPr>
          <p:spPr>
            <a:xfrm>
              <a:off x="5571360" y="6310440"/>
              <a:ext cx="225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292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5838840" y="6310440"/>
            <a:ext cx="309600" cy="509400"/>
            <a:chOff x="5838840" y="6310440"/>
            <a:chExt cx="309600" cy="509400"/>
          </a:xfrm>
        </p:grpSpPr>
        <p:sp>
          <p:nvSpPr>
            <p:cNvPr id="504" name=""/>
            <p:cNvSpPr/>
            <p:nvPr/>
          </p:nvSpPr>
          <p:spPr>
            <a:xfrm>
              <a:off x="5880600" y="6310440"/>
              <a:ext cx="22572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38840" y="6310440"/>
              <a:ext cx="30960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48440" y="6310440"/>
            <a:ext cx="701640" cy="509400"/>
            <a:chOff x="6148440" y="6310440"/>
            <a:chExt cx="701640" cy="509400"/>
          </a:xfrm>
        </p:grpSpPr>
        <p:sp>
          <p:nvSpPr>
            <p:cNvPr id="507" name=""/>
            <p:cNvSpPr/>
            <p:nvPr/>
          </p:nvSpPr>
          <p:spPr>
            <a:xfrm>
              <a:off x="6190560" y="6310440"/>
              <a:ext cx="6170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8440" y="6310440"/>
              <a:ext cx="701640" cy="509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920" y="6819840"/>
            <a:ext cx="2730600" cy="511200"/>
            <a:chOff x="7920" y="6819840"/>
            <a:chExt cx="2730600" cy="511200"/>
          </a:xfrm>
        </p:grpSpPr>
        <p:sp>
          <p:nvSpPr>
            <p:cNvPr id="510" name=""/>
            <p:cNvSpPr/>
            <p:nvPr/>
          </p:nvSpPr>
          <p:spPr>
            <a:xfrm>
              <a:off x="49680" y="68198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0" y="68198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738520" y="6819840"/>
            <a:ext cx="311040" cy="511200"/>
            <a:chOff x="2738520" y="6819840"/>
            <a:chExt cx="311040" cy="511200"/>
          </a:xfrm>
        </p:grpSpPr>
        <p:sp>
          <p:nvSpPr>
            <p:cNvPr id="513" name=""/>
            <p:cNvSpPr/>
            <p:nvPr/>
          </p:nvSpPr>
          <p:spPr>
            <a:xfrm>
              <a:off x="2780640" y="68198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3852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049560" y="6819840"/>
            <a:ext cx="309600" cy="511200"/>
            <a:chOff x="3049560" y="6819840"/>
            <a:chExt cx="309600" cy="511200"/>
          </a:xfrm>
        </p:grpSpPr>
        <p:sp>
          <p:nvSpPr>
            <p:cNvPr id="516" name=""/>
            <p:cNvSpPr/>
            <p:nvPr/>
          </p:nvSpPr>
          <p:spPr>
            <a:xfrm>
              <a:off x="309168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95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3359160" y="6819840"/>
            <a:ext cx="309600" cy="511200"/>
            <a:chOff x="3359160" y="6819840"/>
            <a:chExt cx="309600" cy="511200"/>
          </a:xfrm>
        </p:grpSpPr>
        <p:sp>
          <p:nvSpPr>
            <p:cNvPr id="519" name=""/>
            <p:cNvSpPr/>
            <p:nvPr/>
          </p:nvSpPr>
          <p:spPr>
            <a:xfrm>
              <a:off x="340128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591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668760" y="6819840"/>
            <a:ext cx="309600" cy="511200"/>
            <a:chOff x="3668760" y="6819840"/>
            <a:chExt cx="309600" cy="511200"/>
          </a:xfrm>
        </p:grpSpPr>
        <p:sp>
          <p:nvSpPr>
            <p:cNvPr id="522" name=""/>
            <p:cNvSpPr/>
            <p:nvPr/>
          </p:nvSpPr>
          <p:spPr>
            <a:xfrm>
              <a:off x="371052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66876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978360" y="6819840"/>
            <a:ext cx="311040" cy="511200"/>
            <a:chOff x="3978360" y="6819840"/>
            <a:chExt cx="311040" cy="511200"/>
          </a:xfrm>
        </p:grpSpPr>
        <p:sp>
          <p:nvSpPr>
            <p:cNvPr id="525" name=""/>
            <p:cNvSpPr/>
            <p:nvPr/>
          </p:nvSpPr>
          <p:spPr>
            <a:xfrm>
              <a:off x="402048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7836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289400" y="6819840"/>
            <a:ext cx="309600" cy="511200"/>
            <a:chOff x="4289400" y="6819840"/>
            <a:chExt cx="309600" cy="511200"/>
          </a:xfrm>
        </p:grpSpPr>
        <p:sp>
          <p:nvSpPr>
            <p:cNvPr id="528" name=""/>
            <p:cNvSpPr/>
            <p:nvPr/>
          </p:nvSpPr>
          <p:spPr>
            <a:xfrm>
              <a:off x="433116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894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599000" y="6819840"/>
            <a:ext cx="309600" cy="511200"/>
            <a:chOff x="4599000" y="6819840"/>
            <a:chExt cx="309600" cy="511200"/>
          </a:xfrm>
        </p:grpSpPr>
        <p:sp>
          <p:nvSpPr>
            <p:cNvPr id="531" name=""/>
            <p:cNvSpPr/>
            <p:nvPr/>
          </p:nvSpPr>
          <p:spPr>
            <a:xfrm>
              <a:off x="4641120" y="68198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9900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908600" y="6819840"/>
            <a:ext cx="311040" cy="511200"/>
            <a:chOff x="4908600" y="6819840"/>
            <a:chExt cx="311040" cy="511200"/>
          </a:xfrm>
        </p:grpSpPr>
        <p:sp>
          <p:nvSpPr>
            <p:cNvPr id="534" name=""/>
            <p:cNvSpPr/>
            <p:nvPr/>
          </p:nvSpPr>
          <p:spPr>
            <a:xfrm>
              <a:off x="4950720" y="68198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08600" y="68198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19640" y="6819840"/>
            <a:ext cx="309600" cy="511200"/>
            <a:chOff x="5219640" y="6819840"/>
            <a:chExt cx="309600" cy="511200"/>
          </a:xfrm>
        </p:grpSpPr>
        <p:sp>
          <p:nvSpPr>
            <p:cNvPr id="537" name=""/>
            <p:cNvSpPr/>
            <p:nvPr/>
          </p:nvSpPr>
          <p:spPr>
            <a:xfrm>
              <a:off x="52614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196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529240" y="6819840"/>
            <a:ext cx="309600" cy="511200"/>
            <a:chOff x="5529240" y="6819840"/>
            <a:chExt cx="309600" cy="511200"/>
          </a:xfrm>
        </p:grpSpPr>
        <p:sp>
          <p:nvSpPr>
            <p:cNvPr id="540" name=""/>
            <p:cNvSpPr/>
            <p:nvPr/>
          </p:nvSpPr>
          <p:spPr>
            <a:xfrm>
              <a:off x="5571360" y="68198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292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838840" y="6819840"/>
            <a:ext cx="309600" cy="511200"/>
            <a:chOff x="5838840" y="6819840"/>
            <a:chExt cx="309600" cy="511200"/>
          </a:xfrm>
        </p:grpSpPr>
        <p:sp>
          <p:nvSpPr>
            <p:cNvPr id="543" name=""/>
            <p:cNvSpPr/>
            <p:nvPr/>
          </p:nvSpPr>
          <p:spPr>
            <a:xfrm>
              <a:off x="5880600" y="68198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8840" y="68198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6148440" y="6819840"/>
            <a:ext cx="701640" cy="511200"/>
            <a:chOff x="6148440" y="6819840"/>
            <a:chExt cx="701640" cy="511200"/>
          </a:xfrm>
        </p:grpSpPr>
        <p:sp>
          <p:nvSpPr>
            <p:cNvPr id="546" name=""/>
            <p:cNvSpPr/>
            <p:nvPr/>
          </p:nvSpPr>
          <p:spPr>
            <a:xfrm>
              <a:off x="6190560" y="68198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48440" y="68198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7920" y="7331040"/>
            <a:ext cx="2730600" cy="511200"/>
            <a:chOff x="7920" y="7331040"/>
            <a:chExt cx="2730600" cy="511200"/>
          </a:xfrm>
        </p:grpSpPr>
        <p:sp>
          <p:nvSpPr>
            <p:cNvPr id="549" name=""/>
            <p:cNvSpPr/>
            <p:nvPr/>
          </p:nvSpPr>
          <p:spPr>
            <a:xfrm>
              <a:off x="49680" y="7331040"/>
              <a:ext cx="2646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20" y="7331040"/>
              <a:ext cx="2730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2738520" y="7331040"/>
            <a:ext cx="311040" cy="511200"/>
            <a:chOff x="2738520" y="7331040"/>
            <a:chExt cx="311040" cy="511200"/>
          </a:xfrm>
        </p:grpSpPr>
        <p:sp>
          <p:nvSpPr>
            <p:cNvPr id="552" name=""/>
            <p:cNvSpPr/>
            <p:nvPr/>
          </p:nvSpPr>
          <p:spPr>
            <a:xfrm>
              <a:off x="2780640" y="7331040"/>
              <a:ext cx="2264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3852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049560" y="7331040"/>
            <a:ext cx="309600" cy="511200"/>
            <a:chOff x="3049560" y="7331040"/>
            <a:chExt cx="309600" cy="511200"/>
          </a:xfrm>
        </p:grpSpPr>
        <p:sp>
          <p:nvSpPr>
            <p:cNvPr id="555" name=""/>
            <p:cNvSpPr/>
            <p:nvPr/>
          </p:nvSpPr>
          <p:spPr>
            <a:xfrm>
              <a:off x="309168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95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359160" y="7331040"/>
            <a:ext cx="309600" cy="511200"/>
            <a:chOff x="3359160" y="7331040"/>
            <a:chExt cx="309600" cy="511200"/>
          </a:xfrm>
        </p:grpSpPr>
        <p:sp>
          <p:nvSpPr>
            <p:cNvPr id="558" name=""/>
            <p:cNvSpPr/>
            <p:nvPr/>
          </p:nvSpPr>
          <p:spPr>
            <a:xfrm>
              <a:off x="340128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591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668760" y="7331040"/>
            <a:ext cx="309600" cy="511200"/>
            <a:chOff x="3668760" y="7331040"/>
            <a:chExt cx="309600" cy="511200"/>
          </a:xfrm>
        </p:grpSpPr>
        <p:sp>
          <p:nvSpPr>
            <p:cNvPr id="561" name=""/>
            <p:cNvSpPr/>
            <p:nvPr/>
          </p:nvSpPr>
          <p:spPr>
            <a:xfrm>
              <a:off x="371052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876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978360" y="7331040"/>
            <a:ext cx="311040" cy="511200"/>
            <a:chOff x="3978360" y="7331040"/>
            <a:chExt cx="311040" cy="511200"/>
          </a:xfrm>
        </p:grpSpPr>
        <p:sp>
          <p:nvSpPr>
            <p:cNvPr id="564" name=""/>
            <p:cNvSpPr/>
            <p:nvPr/>
          </p:nvSpPr>
          <p:spPr>
            <a:xfrm>
              <a:off x="402048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7836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289400" y="7331040"/>
            <a:ext cx="309600" cy="511200"/>
            <a:chOff x="4289400" y="7331040"/>
            <a:chExt cx="309600" cy="511200"/>
          </a:xfrm>
        </p:grpSpPr>
        <p:sp>
          <p:nvSpPr>
            <p:cNvPr id="567" name=""/>
            <p:cNvSpPr/>
            <p:nvPr/>
          </p:nvSpPr>
          <p:spPr>
            <a:xfrm>
              <a:off x="433116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894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599000" y="7331040"/>
            <a:ext cx="309600" cy="511200"/>
            <a:chOff x="4599000" y="7331040"/>
            <a:chExt cx="309600" cy="511200"/>
          </a:xfrm>
        </p:grpSpPr>
        <p:sp>
          <p:nvSpPr>
            <p:cNvPr id="570" name=""/>
            <p:cNvSpPr/>
            <p:nvPr/>
          </p:nvSpPr>
          <p:spPr>
            <a:xfrm>
              <a:off x="4641120" y="7331040"/>
              <a:ext cx="2253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59900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908600" y="7331040"/>
            <a:ext cx="311040" cy="511200"/>
            <a:chOff x="4908600" y="7331040"/>
            <a:chExt cx="311040" cy="511200"/>
          </a:xfrm>
        </p:grpSpPr>
        <p:sp>
          <p:nvSpPr>
            <p:cNvPr id="573" name=""/>
            <p:cNvSpPr/>
            <p:nvPr/>
          </p:nvSpPr>
          <p:spPr>
            <a:xfrm>
              <a:off x="4950720" y="7331040"/>
              <a:ext cx="22608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08600" y="7331040"/>
              <a:ext cx="3110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219640" y="7331040"/>
            <a:ext cx="309600" cy="511200"/>
            <a:chOff x="5219640" y="7331040"/>
            <a:chExt cx="309600" cy="511200"/>
          </a:xfrm>
        </p:grpSpPr>
        <p:sp>
          <p:nvSpPr>
            <p:cNvPr id="576" name=""/>
            <p:cNvSpPr/>
            <p:nvPr/>
          </p:nvSpPr>
          <p:spPr>
            <a:xfrm>
              <a:off x="52614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196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529240" y="7331040"/>
            <a:ext cx="309600" cy="511200"/>
            <a:chOff x="5529240" y="7331040"/>
            <a:chExt cx="309600" cy="511200"/>
          </a:xfrm>
        </p:grpSpPr>
        <p:sp>
          <p:nvSpPr>
            <p:cNvPr id="579" name=""/>
            <p:cNvSpPr/>
            <p:nvPr/>
          </p:nvSpPr>
          <p:spPr>
            <a:xfrm>
              <a:off x="5571360" y="7331040"/>
              <a:ext cx="2250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292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838840" y="7331040"/>
            <a:ext cx="309600" cy="511200"/>
            <a:chOff x="5838840" y="7331040"/>
            <a:chExt cx="309600" cy="511200"/>
          </a:xfrm>
        </p:grpSpPr>
        <p:sp>
          <p:nvSpPr>
            <p:cNvPr id="582" name=""/>
            <p:cNvSpPr/>
            <p:nvPr/>
          </p:nvSpPr>
          <p:spPr>
            <a:xfrm>
              <a:off x="5880600" y="7331040"/>
              <a:ext cx="2257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838840" y="7331040"/>
              <a:ext cx="30960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148440" y="7331040"/>
            <a:ext cx="701640" cy="511200"/>
            <a:chOff x="6148440" y="7331040"/>
            <a:chExt cx="701640" cy="511200"/>
          </a:xfrm>
        </p:grpSpPr>
        <p:sp>
          <p:nvSpPr>
            <p:cNvPr id="585" name=""/>
            <p:cNvSpPr/>
            <p:nvPr/>
          </p:nvSpPr>
          <p:spPr>
            <a:xfrm>
              <a:off x="6190560" y="7331040"/>
              <a:ext cx="6170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48440" y="7331040"/>
              <a:ext cx="701640" cy="5112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7920" y="7842240"/>
            <a:ext cx="2730600" cy="509760"/>
            <a:chOff x="7920" y="7842240"/>
            <a:chExt cx="2730600" cy="509760"/>
          </a:xfrm>
        </p:grpSpPr>
        <p:sp>
          <p:nvSpPr>
            <p:cNvPr id="588" name=""/>
            <p:cNvSpPr/>
            <p:nvPr/>
          </p:nvSpPr>
          <p:spPr>
            <a:xfrm>
              <a:off x="49680" y="7842240"/>
              <a:ext cx="2646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920" y="7842240"/>
              <a:ext cx="2730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738520" y="7842240"/>
            <a:ext cx="311040" cy="509760"/>
            <a:chOff x="2738520" y="7842240"/>
            <a:chExt cx="311040" cy="509760"/>
          </a:xfrm>
        </p:grpSpPr>
        <p:sp>
          <p:nvSpPr>
            <p:cNvPr id="591" name=""/>
            <p:cNvSpPr/>
            <p:nvPr/>
          </p:nvSpPr>
          <p:spPr>
            <a:xfrm>
              <a:off x="2780640" y="7842240"/>
              <a:ext cx="2264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3852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3049560" y="7842240"/>
            <a:ext cx="309600" cy="509760"/>
            <a:chOff x="3049560" y="7842240"/>
            <a:chExt cx="309600" cy="509760"/>
          </a:xfrm>
        </p:grpSpPr>
        <p:sp>
          <p:nvSpPr>
            <p:cNvPr id="594" name=""/>
            <p:cNvSpPr/>
            <p:nvPr/>
          </p:nvSpPr>
          <p:spPr>
            <a:xfrm>
              <a:off x="309168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495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3359160" y="7842240"/>
            <a:ext cx="309600" cy="509760"/>
            <a:chOff x="3359160" y="7842240"/>
            <a:chExt cx="309600" cy="509760"/>
          </a:xfrm>
        </p:grpSpPr>
        <p:sp>
          <p:nvSpPr>
            <p:cNvPr id="597" name=""/>
            <p:cNvSpPr/>
            <p:nvPr/>
          </p:nvSpPr>
          <p:spPr>
            <a:xfrm>
              <a:off x="340128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591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668760" y="7842240"/>
            <a:ext cx="309600" cy="509760"/>
            <a:chOff x="3668760" y="7842240"/>
            <a:chExt cx="309600" cy="509760"/>
          </a:xfrm>
        </p:grpSpPr>
        <p:sp>
          <p:nvSpPr>
            <p:cNvPr id="600" name=""/>
            <p:cNvSpPr/>
            <p:nvPr/>
          </p:nvSpPr>
          <p:spPr>
            <a:xfrm>
              <a:off x="371052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6876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978360" y="7842240"/>
            <a:ext cx="311040" cy="509760"/>
            <a:chOff x="3978360" y="7842240"/>
            <a:chExt cx="311040" cy="509760"/>
          </a:xfrm>
        </p:grpSpPr>
        <p:sp>
          <p:nvSpPr>
            <p:cNvPr id="603" name=""/>
            <p:cNvSpPr/>
            <p:nvPr/>
          </p:nvSpPr>
          <p:spPr>
            <a:xfrm>
              <a:off x="402048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7836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289400" y="7842240"/>
            <a:ext cx="309600" cy="509760"/>
            <a:chOff x="4289400" y="7842240"/>
            <a:chExt cx="309600" cy="509760"/>
          </a:xfrm>
        </p:grpSpPr>
        <p:sp>
          <p:nvSpPr>
            <p:cNvPr id="606" name=""/>
            <p:cNvSpPr/>
            <p:nvPr/>
          </p:nvSpPr>
          <p:spPr>
            <a:xfrm>
              <a:off x="433116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894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599000" y="7842240"/>
            <a:ext cx="309600" cy="509760"/>
            <a:chOff x="4599000" y="7842240"/>
            <a:chExt cx="309600" cy="509760"/>
          </a:xfrm>
        </p:grpSpPr>
        <p:sp>
          <p:nvSpPr>
            <p:cNvPr id="609" name=""/>
            <p:cNvSpPr/>
            <p:nvPr/>
          </p:nvSpPr>
          <p:spPr>
            <a:xfrm>
              <a:off x="4641120" y="7842240"/>
              <a:ext cx="2253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9900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908600" y="7842240"/>
            <a:ext cx="311040" cy="509760"/>
            <a:chOff x="4908600" y="7842240"/>
            <a:chExt cx="311040" cy="509760"/>
          </a:xfrm>
        </p:grpSpPr>
        <p:sp>
          <p:nvSpPr>
            <p:cNvPr id="612" name=""/>
            <p:cNvSpPr/>
            <p:nvPr/>
          </p:nvSpPr>
          <p:spPr>
            <a:xfrm>
              <a:off x="4950720" y="7842240"/>
              <a:ext cx="2260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08600" y="7842240"/>
              <a:ext cx="3110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5219640" y="7842240"/>
            <a:ext cx="309600" cy="509760"/>
            <a:chOff x="5219640" y="7842240"/>
            <a:chExt cx="309600" cy="509760"/>
          </a:xfrm>
        </p:grpSpPr>
        <p:sp>
          <p:nvSpPr>
            <p:cNvPr id="615" name=""/>
            <p:cNvSpPr/>
            <p:nvPr/>
          </p:nvSpPr>
          <p:spPr>
            <a:xfrm>
              <a:off x="52614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96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529240" y="7842240"/>
            <a:ext cx="309600" cy="509760"/>
            <a:chOff x="5529240" y="7842240"/>
            <a:chExt cx="309600" cy="509760"/>
          </a:xfrm>
        </p:grpSpPr>
        <p:sp>
          <p:nvSpPr>
            <p:cNvPr id="618" name=""/>
            <p:cNvSpPr/>
            <p:nvPr/>
          </p:nvSpPr>
          <p:spPr>
            <a:xfrm>
              <a:off x="5571360" y="7842240"/>
              <a:ext cx="22500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292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838840" y="7842240"/>
            <a:ext cx="309600" cy="509760"/>
            <a:chOff x="5838840" y="7842240"/>
            <a:chExt cx="309600" cy="509760"/>
          </a:xfrm>
        </p:grpSpPr>
        <p:sp>
          <p:nvSpPr>
            <p:cNvPr id="621" name=""/>
            <p:cNvSpPr/>
            <p:nvPr/>
          </p:nvSpPr>
          <p:spPr>
            <a:xfrm>
              <a:off x="5880600" y="7842240"/>
              <a:ext cx="2257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38840" y="7842240"/>
              <a:ext cx="30960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6148440" y="7842240"/>
            <a:ext cx="701640" cy="509760"/>
            <a:chOff x="6148440" y="7842240"/>
            <a:chExt cx="701640" cy="509760"/>
          </a:xfrm>
        </p:grpSpPr>
        <p:sp>
          <p:nvSpPr>
            <p:cNvPr id="624" name=""/>
            <p:cNvSpPr/>
            <p:nvPr/>
          </p:nvSpPr>
          <p:spPr>
            <a:xfrm>
              <a:off x="6190560" y="7842240"/>
              <a:ext cx="61704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48440" y="7842240"/>
              <a:ext cx="701640" cy="5097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920" y="8352000"/>
            <a:ext cx="2730600" cy="785520"/>
            <a:chOff x="7920" y="8352000"/>
            <a:chExt cx="2730600" cy="785520"/>
          </a:xfrm>
        </p:grpSpPr>
        <p:sp>
          <p:nvSpPr>
            <p:cNvPr id="627" name=""/>
            <p:cNvSpPr/>
            <p:nvPr/>
          </p:nvSpPr>
          <p:spPr>
            <a:xfrm>
              <a:off x="49680" y="8352000"/>
              <a:ext cx="2646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20" y="8352000"/>
              <a:ext cx="2730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738520" y="8352000"/>
            <a:ext cx="311040" cy="785520"/>
            <a:chOff x="2738520" y="8352000"/>
            <a:chExt cx="311040" cy="785520"/>
          </a:xfrm>
        </p:grpSpPr>
        <p:sp>
          <p:nvSpPr>
            <p:cNvPr id="630" name=""/>
            <p:cNvSpPr/>
            <p:nvPr/>
          </p:nvSpPr>
          <p:spPr>
            <a:xfrm>
              <a:off x="2780640" y="8352000"/>
              <a:ext cx="2264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3852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049560" y="8352000"/>
            <a:ext cx="309600" cy="785520"/>
            <a:chOff x="3049560" y="8352000"/>
            <a:chExt cx="309600" cy="785520"/>
          </a:xfrm>
        </p:grpSpPr>
        <p:sp>
          <p:nvSpPr>
            <p:cNvPr id="633" name=""/>
            <p:cNvSpPr/>
            <p:nvPr/>
          </p:nvSpPr>
          <p:spPr>
            <a:xfrm>
              <a:off x="309168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495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3359160" y="8352000"/>
            <a:ext cx="309600" cy="785520"/>
            <a:chOff x="3359160" y="8352000"/>
            <a:chExt cx="309600" cy="785520"/>
          </a:xfrm>
        </p:grpSpPr>
        <p:sp>
          <p:nvSpPr>
            <p:cNvPr id="636" name=""/>
            <p:cNvSpPr/>
            <p:nvPr/>
          </p:nvSpPr>
          <p:spPr>
            <a:xfrm>
              <a:off x="340128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591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3668760" y="8352000"/>
            <a:ext cx="309600" cy="785520"/>
            <a:chOff x="3668760" y="8352000"/>
            <a:chExt cx="309600" cy="785520"/>
          </a:xfrm>
        </p:grpSpPr>
        <p:sp>
          <p:nvSpPr>
            <p:cNvPr id="639" name=""/>
            <p:cNvSpPr/>
            <p:nvPr/>
          </p:nvSpPr>
          <p:spPr>
            <a:xfrm>
              <a:off x="371052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66876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3978360" y="8352000"/>
            <a:ext cx="311040" cy="785520"/>
            <a:chOff x="3978360" y="8352000"/>
            <a:chExt cx="311040" cy="785520"/>
          </a:xfrm>
        </p:grpSpPr>
        <p:sp>
          <p:nvSpPr>
            <p:cNvPr id="642" name=""/>
            <p:cNvSpPr/>
            <p:nvPr/>
          </p:nvSpPr>
          <p:spPr>
            <a:xfrm>
              <a:off x="402048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7836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289400" y="8352000"/>
            <a:ext cx="309600" cy="785520"/>
            <a:chOff x="4289400" y="8352000"/>
            <a:chExt cx="309600" cy="785520"/>
          </a:xfrm>
        </p:grpSpPr>
        <p:sp>
          <p:nvSpPr>
            <p:cNvPr id="645" name=""/>
            <p:cNvSpPr/>
            <p:nvPr/>
          </p:nvSpPr>
          <p:spPr>
            <a:xfrm>
              <a:off x="433116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894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599000" y="8352000"/>
            <a:ext cx="309600" cy="785520"/>
            <a:chOff x="4599000" y="8352000"/>
            <a:chExt cx="309600" cy="785520"/>
          </a:xfrm>
        </p:grpSpPr>
        <p:sp>
          <p:nvSpPr>
            <p:cNvPr id="648" name=""/>
            <p:cNvSpPr/>
            <p:nvPr/>
          </p:nvSpPr>
          <p:spPr>
            <a:xfrm>
              <a:off x="4641120" y="8352000"/>
              <a:ext cx="225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9900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908600" y="8352000"/>
            <a:ext cx="311040" cy="785520"/>
            <a:chOff x="4908600" y="8352000"/>
            <a:chExt cx="311040" cy="785520"/>
          </a:xfrm>
        </p:grpSpPr>
        <p:sp>
          <p:nvSpPr>
            <p:cNvPr id="651" name=""/>
            <p:cNvSpPr/>
            <p:nvPr/>
          </p:nvSpPr>
          <p:spPr>
            <a:xfrm>
              <a:off x="4950720" y="8352000"/>
              <a:ext cx="226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08600" y="8352000"/>
              <a:ext cx="3110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219640" y="8352000"/>
            <a:ext cx="309600" cy="785520"/>
            <a:chOff x="5219640" y="8352000"/>
            <a:chExt cx="309600" cy="785520"/>
          </a:xfrm>
        </p:grpSpPr>
        <p:sp>
          <p:nvSpPr>
            <p:cNvPr id="654" name=""/>
            <p:cNvSpPr/>
            <p:nvPr/>
          </p:nvSpPr>
          <p:spPr>
            <a:xfrm>
              <a:off x="52614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196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5529240" y="8352000"/>
            <a:ext cx="309600" cy="785520"/>
            <a:chOff x="5529240" y="8352000"/>
            <a:chExt cx="309600" cy="785520"/>
          </a:xfrm>
        </p:grpSpPr>
        <p:sp>
          <p:nvSpPr>
            <p:cNvPr id="657" name=""/>
            <p:cNvSpPr/>
            <p:nvPr/>
          </p:nvSpPr>
          <p:spPr>
            <a:xfrm>
              <a:off x="5571360" y="8352000"/>
              <a:ext cx="2250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5292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5838840" y="8352000"/>
            <a:ext cx="309600" cy="785520"/>
            <a:chOff x="5838840" y="8352000"/>
            <a:chExt cx="309600" cy="785520"/>
          </a:xfrm>
        </p:grpSpPr>
        <p:sp>
          <p:nvSpPr>
            <p:cNvPr id="660" name=""/>
            <p:cNvSpPr/>
            <p:nvPr/>
          </p:nvSpPr>
          <p:spPr>
            <a:xfrm>
              <a:off x="5880600" y="8352000"/>
              <a:ext cx="225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838840" y="8352000"/>
              <a:ext cx="30960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148440" y="8352000"/>
            <a:ext cx="701640" cy="785520"/>
            <a:chOff x="6148440" y="8352000"/>
            <a:chExt cx="701640" cy="785520"/>
          </a:xfrm>
        </p:grpSpPr>
        <p:sp>
          <p:nvSpPr>
            <p:cNvPr id="663" name=""/>
            <p:cNvSpPr/>
            <p:nvPr/>
          </p:nvSpPr>
          <p:spPr>
            <a:xfrm>
              <a:off x="6190560" y="8352000"/>
              <a:ext cx="6170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148440" y="8352000"/>
              <a:ext cx="701640" cy="7855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1584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52280" y="8610480"/>
            <a:ext cx="243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yvalence par person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8:42Z</dcterms:modified>
  <cp:revision>3</cp:revision>
  <dc:subject/>
  <dc:title>Présentation PowerPoint</dc:title>
</cp:coreProperties>
</file>