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878-B39C-4319-8ECA-A489AEB2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2CCC-0FA8-44A3-82F1-71CFB554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A15-5AD3-4D1F-A40F-38649FE4E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E704-A39A-4F2C-A60D-425244D8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597-3224-4556-BB2B-C60A8F17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4ADC-030D-411B-B446-3446620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EDA-C4EC-44B4-8EDA-FB4AFC61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198-993A-4D61-8EF8-B3BEF44A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A43-C9A2-42D7-910D-6B173768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DD4-EE32-496E-991D-62C4299E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DDEA-5B18-4B28-A445-1351B441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00BD-625E-4015-9191-820B4DDC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21F0-887D-4ECC-A720-630C742E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e bilan d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eurs principau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8:06Z</dcterms:modified>
  <cp:revision>13</cp:revision>
  <dc:subject/>
  <dc:title>Présentation PowerPoint</dc:title>
</cp:coreProperties>
</file>