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255-70DC-42CC-B214-34470C02E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0438-2AA1-4581-8FAD-8AC2521F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B31-0EC7-4302-B5CD-5B4A7B1D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2CC8-82A6-4CBA-9CDE-CE0B8CFF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CAD-829E-4665-9ED7-46904B24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EC0E-F1BC-4CC3-B331-2A46379B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1F09-74D5-4D60-B3A9-3DC56221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796C-0E06-4DCC-B188-D92C993D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EF0-95DA-4600-9FE0-824FD096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B4D-9B1D-4479-BF29-36A517E1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1F6-8320-42AD-A8AB-9FBEC9F0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B1D-9186-41F3-8CD1-1D48DB47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006C-1CAB-4C13-9C32-15DB0ED87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66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au Ga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3200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 à réal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909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8954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553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ité de pilotage 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1148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98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242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0292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638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4197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943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248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ux / acteurs / mo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15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15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5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72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72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72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72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72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72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72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72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72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72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72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72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72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72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29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29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29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29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29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29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29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9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29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9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29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29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9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9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9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9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686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686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686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86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686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86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686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86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86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686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686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86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86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86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686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686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686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86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86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0" y="60948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0" y="1066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0" y="1371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1440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0" y="1981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0" y="2286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0" y="25909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0" y="28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0" y="3200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0" y="3505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0" y="3809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0" y="4419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0" y="47242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0" y="5334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0" y="5638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0" y="5943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0" y="6248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0" y="6553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8:49Z</dcterms:modified>
  <cp:revision>104</cp:revision>
  <dc:subject/>
  <dc:title>Présentation PowerPoint</dc:title>
</cp:coreProperties>
</file>