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41B-0919-497B-8633-EF6B7C67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14CD-95B8-42DE-9B59-CE8E290E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65D-E658-4E8F-853B-2D04207F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02B-B6A5-4776-AF52-9D3E0757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8D6-A908-44B8-A8E1-69B65FF9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F08-81A5-43E4-A46A-E28695AD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390-0923-4CE5-A2B8-580B7F0C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EB3B-0D80-40CB-ADFC-FF4F5E64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C1B-6CBE-4035-BD44-92BC70F0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3F03-FF92-4F20-B32A-4754CA2E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69B-0935-4AF8-BE4D-449778AD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870-DF59-4FAA-AD34-0D63ED35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659C-AC4E-4505-B564-F1E1E4BA53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e fo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533520"/>
            <a:ext cx="5105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Agence de particuli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nction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Directeur d’ag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itulair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. Anthony, agence de Biarrit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esponsable hiérarchiqu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. Jean-Lou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uppléant en cas d’absenc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me Christiane (adjoint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05520" y="5335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de mise à jour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04/03/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6765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ission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nimer, gérer et organiser une équipe (Manageme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r le CA de l’agence sur sa zone (Commercia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présenter la banque sur la zone (Imag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590920"/>
            <a:ext cx="5181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ttributions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form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orm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ixer les objectifs et évalu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épartir le travail entre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érer le planning des cong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uivre la consommation des budg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ptimiser l’utilisation des ressour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pôts et éparg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voriser l’épargne long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uvrir de nouveaux comp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idéliser les cli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réd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voriser le crédit immobili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urveiller les risq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éaliser des actions de sponsoring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Être présent dans les salons et foires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r les relations avec les notables de la z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181480" y="2590920"/>
            <a:ext cx="16765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Indicateur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e réun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jours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entreti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egré polyval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aux couver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% épargne long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comptes tot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’a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e prése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7848720"/>
            <a:ext cx="685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élégation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ngagements : prêt habitat &lt; 250 000 €, prêt consommation &lt; 10 000 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tournes de frais : 10 000 € / 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7:50:07Z</dcterms:created>
  <dc:creator>MADERS</dc:creator>
  <dc:description/>
  <dc:language>en-US</dc:language>
  <cp:lastModifiedBy>Matthieu Montaudouin</cp:lastModifiedBy>
  <dcterms:modified xsi:type="dcterms:W3CDTF">2009-06-08T09:42:34Z</dcterms:modified>
  <cp:revision>6</cp:revision>
  <dc:subject/>
  <dc:title>Présentation PowerPoint</dc:title>
</cp:coreProperties>
</file>