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5ED6-2127-47F3-B622-C7247973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F129-C9CB-49F3-A5DA-C4572E54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6CF3-5A2D-41AB-B83D-249F3D9E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44FB-1C9B-4BCA-BA11-CD8C2631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B855-3673-4D83-90FF-9ADD075B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CE33-B21B-465C-80C8-F6ADB446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7E7E-ACE5-4BA9-B618-F089AFE5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98C0-B027-4ECE-8ADE-7DD11679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FFF1-A836-44DB-B835-15BF916C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98DC-56D0-4FED-AC6C-24C3177F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BEE3-45A8-4430-897D-1803AFAE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1478-58DE-4BFF-AC8C-A1D75AE4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FC9F-EFED-43A0-AA0C-7D1EF15FF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te-rendu de réun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5105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05520" y="60948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éunion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articipant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xcusés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97180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rdre du jour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0592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chaine réunion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648320"/>
            <a:ext cx="68580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ésumé des points traité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DERS</cp:lastModifiedBy>
  <dcterms:modified xsi:type="dcterms:W3CDTF">2002-03-09T10:37:52Z</dcterms:modified>
  <cp:revision>10</cp:revision>
  <dc:subject/>
  <dc:title>Présentation PowerPoint</dc:title>
</cp:coreProperties>
</file>