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005-5215-4792-AD04-2AD53019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855-54FB-4D5D-BC3E-A4458935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6CF-17FB-4058-A0EE-4EFFDF15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7E0-EFDC-4A8F-B81B-49D58DCB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81E-8A43-4362-B230-F7A9A811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B48-DC34-4402-9396-6463B5CC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0B7-DB19-4438-AD90-F44274F7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F64-2779-4C74-A003-A1580A32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FBF-4355-4F97-802B-954503CF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1C87-945E-4B72-A106-A3F6CC47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593-8BF5-45BD-82A5-449C4F3B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D74C-9396-4119-BFEA-72834247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D626-8325-4FBD-A05F-A2E3A17D8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at de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ervice Formation / Service Comptabilité Fourniss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029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Jean-François, Directeur de la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Olivier, Chef du service comptabilité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029200" y="60948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14/07/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Besoins du service client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arantir aux fournisseurs de la formation (organismes de formations, hôtels, restaurants, compagnie de transport…) le règlement de leurs factures à la date prévue dans le contrat signé avec eu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Contraintes du fournisseur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comptabilité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cevoir les documents comptables suffisamment tôt pour procéder aux contrôles obligatoires et à l’établissement des règle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4648320"/>
            <a:ext cx="68580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gagements réciproques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formation s’engage à fournir au service comptabilité fournisseurs les documents suivants : copie du contrat passé avec le fournisseur précisant la date de règlement dès la signature de celui-ci + original de la facture fournisseur dès réception et au plus tard une semaine avant la date du règlemen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comptabilité fournisseur s’engage à effectuer un virement correspondant au montant de la facture le jour précisé sur le contr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7010280"/>
            <a:ext cx="68580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Indicateurs de mesure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contrats adressés par le service formation plus d’un mois avant la date de règl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factures adressées par le service formation plus d’une semaine avant la date de règl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factures réglées dans les délais par le service règlement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arlow Solid Italic"/>
              </a:rPr>
              <a:t>Jean-Franço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42900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Harlow Solid Italic"/>
              </a:rPr>
              <a:t>Oliv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09:33:33Z</dcterms:modified>
  <cp:revision>5</cp:revision>
  <dc:subject/>
  <dc:title>Présentation PowerPoint</dc:title>
</cp:coreProperties>
</file>