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EE0-E9BA-4657-8E75-78159173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68E-F101-4177-9A6F-5820C1A7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D54-7862-4037-B8A6-19098C76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0EF-B73F-44F0-AB84-EA2E75C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1B5-ECC9-475E-8943-32DCB0E6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CA3-5C69-474D-B99F-5D9E549C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6D0-A2AE-4915-8DDC-E5EB40F8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F35-CF8B-478E-AE7B-9A41541B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8BB-D263-42A1-989C-EF53E8CA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908-CF5F-4AC3-AC3E-2ED1116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308-5257-449B-9C31-9A558E8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0E5-DA5E-45C8-AA8D-E68A090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5E30-D0BB-4223-A674-508EA1701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’évaluation des char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4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chef d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75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17/01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6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démarrage du 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01/02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30/06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2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3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4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5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6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7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8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9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 / Compléter les courrie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2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Yo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03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2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4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5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5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06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3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07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81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83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4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85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86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96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99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00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07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11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18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221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22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9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32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33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40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43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244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51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4 J/H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4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9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55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56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6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57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0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58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59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2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60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61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69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78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79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80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81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82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83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284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85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86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87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88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89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90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91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2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93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294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95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96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97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8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99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0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01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2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03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04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05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06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07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08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09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10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11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12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13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14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15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63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16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17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18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19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20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21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22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23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24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25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26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27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28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29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30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31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32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33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34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35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36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37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39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40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1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42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43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44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45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6:30Z</dcterms:modified>
  <cp:revision>106</cp:revision>
  <dc:subject/>
  <dc:title>Présentation PowerPoint</dc:title>
</cp:coreProperties>
</file>