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6638-55C6-4489-BD2E-2E897C59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BC3A-5C65-4EBD-8A63-B79E9B23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44B-CC4E-4203-8489-297B9729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737-D2EB-4AEC-84A6-3AC6BBD4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1CC-A7BE-4CE8-87E2-4B4087BC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05B1-42B8-4E81-B40B-66A191E7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E03-DFDB-4DE0-9D5B-38DAACF9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21CB-6785-4603-AFDC-67A06ACA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3C9-691E-4426-ABC6-6E0E2238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055-3905-4150-BDEE-19C097B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797-668E-4C65-A4D1-F78E0A3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021-3618-4334-A9D6-A27E0DD7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C83E-0EEE-4D1F-85A1-5765B77C8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te-rendu de ré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7:52Z</dcterms:modified>
  <cp:revision>10</cp:revision>
  <dc:subject/>
  <dc:title>Présentation PowerPoint</dc:title>
</cp:coreProperties>
</file>