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542-4A94-4163-BC1F-B708F61C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C8A-C76C-4F4D-94F5-0E98A379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5B1-F535-4B23-B276-1B0CE6A7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F6D-B088-4E79-A8D4-2140D711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9DE-2C78-42D8-B533-72E3602C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A90-5050-41BA-BF09-14875181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F8B-BFCF-46FE-8075-53CBEA1B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313-BB09-498B-966D-DF118134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156-D9C5-4587-AD28-DD1DC20C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4D89-B6E7-4E93-90E7-A2DEE4C6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917-FDA6-4D6B-9FE9-B2C13AA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2D2-1D3C-46E9-9BC6-FF2B8D75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79C3-29FC-4B13-B039-F1B875328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51120" y="-360"/>
            <a:ext cx="9956880" cy="6836040"/>
            <a:chOff x="-51120" y="-360"/>
            <a:chExt cx="9956880" cy="6836040"/>
          </a:xfrm>
        </p:grpSpPr>
        <p:sp>
          <p:nvSpPr>
            <p:cNvPr id="42" name=""/>
            <p:cNvSpPr/>
            <p:nvPr/>
          </p:nvSpPr>
          <p:spPr>
            <a:xfrm>
              <a:off x="213480" y="652680"/>
              <a:ext cx="101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dhé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51120" y="2286000"/>
              <a:ext cx="128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opé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4504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8432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6468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25400" y="4884480"/>
              <a:ext cx="215856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74504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4504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8432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4504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5400" y="325692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25400" y="1627560"/>
              <a:ext cx="215856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5400" y="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8432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8432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6468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468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6468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264680" y="-360"/>
              <a:ext cx="8641080" cy="65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6200" y="3918600"/>
              <a:ext cx="81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ntérê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6960" y="5551200"/>
              <a:ext cx="97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assiv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2920" y="6530760"/>
              <a:ext cx="124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ncil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9640" y="6530760"/>
              <a:ext cx="90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i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7240" y="6530760"/>
              <a:ext cx="116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Op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5040" y="6530760"/>
              <a:ext cx="9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il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1:10:45Z</dcterms:modified>
  <cp:revision>98</cp:revision>
  <dc:subject/>
  <dc:title>Présentation PowerPoint</dc:title>
</cp:coreProperties>
</file>