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340A-22E1-40F3-B843-EB0CB55D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E0F-A30F-43C0-8A8E-43051025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515-B358-4F90-ACDE-66F31658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38A2-D7C8-4A65-ACAB-F63AB1D2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BBC-3C84-4AE6-B84F-C6808179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5CE-4426-431F-BFA9-F7E88A27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1EEF-3886-4C8E-98BB-022FA19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2FF-50A4-466D-B92D-6536A3E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FB37-23F8-469B-A3FC-76E119F7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5BD-9F21-4B3A-B080-35D0ED0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AB4-947D-488A-B9F2-005851D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7DE-B85B-4D23-A5DB-DF269EA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B0C1-3632-4B56-BEE2-1FED9EAAD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ossier d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29:14Z</dcterms:modified>
  <cp:revision>8</cp:revision>
  <dc:subject/>
  <dc:title>Présentation PowerPoint</dc:title>
</cp:coreProperties>
</file>