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C86-5C1D-4112-9891-C5F1E67F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6A2-DEC2-4537-A7B7-8C106A1D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FE16-1AA6-401B-A094-24A536FA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E447-08FA-4DC2-8BA0-86CD573DB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EE12-AC31-40B4-9CF5-A411A490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91B-FD28-4F0B-9456-6B8894BF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3203-1E3D-4789-8B81-3CF9E9CE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C61F-9A4F-4730-982C-2779BFB5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EC93-65CB-4FFC-8D06-14FAD985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9874-220A-44DC-9905-E5ACE401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9C4B-9DDA-4073-BCED-8CF2A0FD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5B1-F598-4FA6-B691-45DC9402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FE70-0260-4E8C-9CE4-152EA5301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"/>
          <p:cNvGrpSpPr/>
          <p:nvPr/>
        </p:nvGrpSpPr>
        <p:grpSpPr>
          <a:xfrm>
            <a:off x="-51120" y="-360"/>
            <a:ext cx="9956880" cy="6836040"/>
            <a:chOff x="-51120" y="-360"/>
            <a:chExt cx="9956880" cy="6836040"/>
          </a:xfrm>
        </p:grpSpPr>
        <p:sp>
          <p:nvSpPr>
            <p:cNvPr id="42" name="Text Box 5"/>
            <p:cNvSpPr/>
            <p:nvPr/>
          </p:nvSpPr>
          <p:spPr>
            <a:xfrm>
              <a:off x="213480" y="652680"/>
              <a:ext cx="1012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Adhés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-51120" y="2286000"/>
              <a:ext cx="1283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oopér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7"/>
            <p:cNvSpPr/>
            <p:nvPr/>
          </p:nvSpPr>
          <p:spPr>
            <a:xfrm>
              <a:off x="774504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8"/>
            <p:cNvSpPr/>
            <p:nvPr/>
          </p:nvSpPr>
          <p:spPr>
            <a:xfrm>
              <a:off x="558432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1264680" y="4884480"/>
              <a:ext cx="216072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3425400" y="4884480"/>
              <a:ext cx="2158560" cy="16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1"/>
            <p:cNvSpPr/>
            <p:nvPr/>
          </p:nvSpPr>
          <p:spPr>
            <a:xfrm>
              <a:off x="774504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774504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13"/>
            <p:cNvSpPr/>
            <p:nvPr/>
          </p:nvSpPr>
          <p:spPr>
            <a:xfrm>
              <a:off x="558432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14"/>
            <p:cNvSpPr/>
            <p:nvPr/>
          </p:nvSpPr>
          <p:spPr>
            <a:xfrm>
              <a:off x="774504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15"/>
            <p:cNvSpPr/>
            <p:nvPr/>
          </p:nvSpPr>
          <p:spPr>
            <a:xfrm>
              <a:off x="3425400" y="325692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3425400" y="1627560"/>
              <a:ext cx="215856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17"/>
            <p:cNvSpPr/>
            <p:nvPr/>
          </p:nvSpPr>
          <p:spPr>
            <a:xfrm>
              <a:off x="3425400" y="0"/>
              <a:ext cx="215856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18"/>
            <p:cNvSpPr/>
            <p:nvPr/>
          </p:nvSpPr>
          <p:spPr>
            <a:xfrm>
              <a:off x="558432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19"/>
            <p:cNvSpPr/>
            <p:nvPr/>
          </p:nvSpPr>
          <p:spPr>
            <a:xfrm>
              <a:off x="558432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264680" y="325692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1264680" y="1627560"/>
              <a:ext cx="2160720" cy="162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1264680" y="0"/>
              <a:ext cx="2160720" cy="162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Line 23"/>
            <p:cNvSpPr/>
            <p:nvPr/>
          </p:nvSpPr>
          <p:spPr>
            <a:xfrm flipV="1">
              <a:off x="1264680" y="-360"/>
              <a:ext cx="8641080" cy="651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376200" y="3918600"/>
              <a:ext cx="817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Intérêt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246960" y="5551200"/>
              <a:ext cx="974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ssiv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Rectangle 26"/>
            <p:cNvSpPr/>
            <p:nvPr/>
          </p:nvSpPr>
          <p:spPr>
            <a:xfrm>
              <a:off x="1672920" y="6530760"/>
              <a:ext cx="1248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oncilia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Rectangle 27"/>
            <p:cNvSpPr/>
            <p:nvPr/>
          </p:nvSpPr>
          <p:spPr>
            <a:xfrm>
              <a:off x="3959640" y="6530760"/>
              <a:ext cx="901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Critique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6087240" y="6530760"/>
              <a:ext cx="1163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Opposition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Rectangle 29"/>
            <p:cNvSpPr/>
            <p:nvPr/>
          </p:nvSpPr>
          <p:spPr>
            <a:xfrm>
              <a:off x="8285040" y="6530760"/>
              <a:ext cx="943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Hostilité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7" name="Oval 34"/>
          <p:cNvSpPr/>
          <p:nvPr/>
        </p:nvSpPr>
        <p:spPr>
          <a:xfrm>
            <a:off x="1523880" y="2819520"/>
            <a:ext cx="1752840" cy="2514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Groupe 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secrétair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Oval 35"/>
          <p:cNvSpPr/>
          <p:nvPr/>
        </p:nvSpPr>
        <p:spPr>
          <a:xfrm>
            <a:off x="2514600" y="1219320"/>
            <a:ext cx="160020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irecteu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6705720" y="4267080"/>
            <a:ext cx="1600200" cy="10670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’entrepri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Oval 39"/>
          <p:cNvSpPr/>
          <p:nvPr/>
        </p:nvSpPr>
        <p:spPr>
          <a:xfrm>
            <a:off x="3809880" y="2438280"/>
            <a:ext cx="3581640" cy="1981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merciau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3657600" y="2133720"/>
            <a:ext cx="160020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nformatiq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Oval 40"/>
          <p:cNvSpPr/>
          <p:nvPr/>
        </p:nvSpPr>
        <p:spPr>
          <a:xfrm>
            <a:off x="3200400" y="4191120"/>
            <a:ext cx="2286000" cy="8380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hefs de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Oval 41"/>
          <p:cNvSpPr/>
          <p:nvPr/>
        </p:nvSpPr>
        <p:spPr>
          <a:xfrm>
            <a:off x="1676520" y="5181480"/>
            <a:ext cx="2743200" cy="8384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ersonnel administrat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Oval 42"/>
          <p:cNvSpPr/>
          <p:nvPr/>
        </p:nvSpPr>
        <p:spPr>
          <a:xfrm>
            <a:off x="1676520" y="304920"/>
            <a:ext cx="1752480" cy="10666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Respons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e 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3T11:00:24Z</dcterms:created>
  <dc:creator>HPM</dc:creator>
  <dc:description/>
  <dc:language>en-US</dc:language>
  <cp:lastModifiedBy>Matthieu Montaudouin</cp:lastModifiedBy>
  <cp:lastPrinted>2000-05-11T10:17:14Z</cp:lastPrinted>
  <dcterms:modified xsi:type="dcterms:W3CDTF">2009-06-08T09:29:47Z</dcterms:modified>
  <cp:revision>98</cp:revision>
  <dc:subject/>
  <dc:title>Présentation PowerPoint</dc:title>
</cp:coreProperties>
</file>