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F7ED-6FE0-4CAB-8639-3C9F8F92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D5B-04DA-48B7-9069-A8BD974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D31-A3E7-4293-B202-E61EE7D2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1B0A-2891-48FF-B76A-5EFF2108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0DD-5959-40D3-B3D7-3D07AD09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88C-C61B-496D-8B11-1CA2C27C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B6D-C72F-4D82-B247-EF9E02C3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F25-5417-4786-93EA-DCF4426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7C1-DE73-4D37-98AE-613FCFBF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4EA-8377-4A81-916D-E801B949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CED-0D02-4349-AE33-E757EE9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D78E-93E6-417E-A7A2-EA4474C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57B-84B1-4504-914D-638BB2E16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Févr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8 au 13/02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ire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819520"/>
            <a:ext cx="304920" cy="304560"/>
          </a:xfrm>
          <a:prstGeom prst="smileyFace">
            <a:avLst>
              <a:gd name="adj" fmla="val 1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304920" cy="30456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64771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514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2767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 </cp:lastModifiedBy>
  <dcterms:modified xsi:type="dcterms:W3CDTF">2009-05-05T08:49:38Z</dcterms:modified>
  <cp:revision>7</cp:revision>
  <dc:subject/>
  <dc:title>Présentation PowerPoint</dc:title>
</cp:coreProperties>
</file>