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74C-6441-43DD-871E-152B55E3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65C-9005-47A9-B28E-4B380F0A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928C-BFC0-4761-AB2A-7538962F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494-3406-44B1-8BFA-EE1CA4BD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8385-AFB1-42B4-B67C-FC27012E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A67-74AA-486A-8D58-DB365FDF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62D-6AE6-420C-82E6-A4C9CFB6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FC3-E74C-4E8E-BB11-0E982084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C86-125B-4482-A9ED-AB47A64A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957-2F14-49C7-9A54-E2918054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C61-7D94-4A18-A401-F4BEE522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587-644D-4B8C-AE07-9B607628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4956-DD2C-4407-9E24-8C9C7F956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06120" cy="5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che d’évaluation des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44680"/>
            <a:ext cx="78487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hef de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48720" y="544680"/>
            <a:ext cx="205740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430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de démarrage du projet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de fin de projet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0574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3623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668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718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2767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1911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055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8006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487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86800" y="11430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Éta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0199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tal j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87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102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7220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02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87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487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23623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86800" y="20574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86800" y="60199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/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86800" y="17524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3244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/Act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956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41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102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686800" y="6324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4100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5812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8862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4956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7150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36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420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80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82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566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694720" y="266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36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420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012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82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566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694720" y="29718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036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20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8012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82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566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694720" y="32767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036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420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8012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82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566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94720" y="35812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036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420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8012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82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566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694720" y="38862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420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8012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182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566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694720" y="41911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36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420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8012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82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8566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694720" y="44956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36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420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0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82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566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694720" y="48006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036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420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8012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182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8566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94720" y="51055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36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20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8012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82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566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69472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036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420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8012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82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566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94720" y="57150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22:18Z</dcterms:modified>
  <cp:revision>105</cp:revision>
  <dc:subject/>
  <dc:title>Présentation PowerPoint</dc:title>
</cp:coreProperties>
</file>