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CC85-07E8-4544-B279-8B7EF265B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6F48-95F3-43F8-8A5C-B0D17DB7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ABF7-BE9E-4202-8EF7-4473B47F9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4844-4EE1-44FC-BB2D-535927081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5C64-F65A-468E-8352-D67D8452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6788-1D2F-4BC4-9BFA-F86F63A3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7DFA-C529-48BC-9EAC-953BD0DF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8809-94B6-47E9-8764-D18002B5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508D-08B1-4EDE-A640-C090154B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36CA-1333-40EE-ACF3-F354A963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61AE-2AB2-40BD-9204-782456E8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0EB9-F70C-41FE-A523-B8F087AF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732B-3F52-4D09-ACE2-16570D0EF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ableau de bord de proj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60199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19920" y="609480"/>
            <a:ext cx="3124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oi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emain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21337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1371600"/>
            <a:ext cx="44193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harge/ac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1828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1371600"/>
            <a:ext cx="1447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Éché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553080" y="1828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é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38880" y="18288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001000" y="1371600"/>
            <a:ext cx="1143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tat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1828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33720" y="2057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53080" y="22860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238880" y="22860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22860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2514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7432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38880" y="27432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2743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2971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53080" y="32004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238880" y="32004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3200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33720" y="34290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36576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238880" y="36576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3657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3886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553080" y="4114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38880" y="41148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33720" y="4114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45720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45720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33720" y="4800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53080" y="50292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38880" y="50292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5029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5257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3080" y="54864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8880" y="54864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33720" y="5486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57150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53080" y="59436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38880" y="59436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5943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6172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4343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33720" y="45720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6400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38880" y="64008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6400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3720" y="6629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001000" y="22860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001000" y="27432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001000" y="32004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01000" y="36576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01000" y="41148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001000" y="45720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01000" y="50292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001000" y="54864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001000" y="59436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01000" y="64008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4008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9436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4864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0292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5720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1148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6576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2004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7432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2860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668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668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668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668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668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668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668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668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668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240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12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812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812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812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812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812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12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812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812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812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812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384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84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384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384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384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384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384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384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384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384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0384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956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956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956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956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956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956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956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956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956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956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956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56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956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528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528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528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528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9528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528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528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528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528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100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00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100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100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100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100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100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100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100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4100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100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100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100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100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100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100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867280" y="27432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29718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32004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34290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67280" y="36576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38862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867280" y="41148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867280" y="43434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867280" y="45720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867280" y="48006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67280" y="50292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67280" y="52578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67280" y="54864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867280" y="57150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867280" y="59436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61722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67280" y="64008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67280" y="66294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812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5812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384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0384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956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956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528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100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100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867280" y="22860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0:22:35Z</dcterms:created>
  <dc:creator>MADERS</dc:creator>
  <dc:description/>
  <dc:language>en-US</dc:language>
  <cp:lastModifiedBy>MADERS</cp:lastModifiedBy>
  <dcterms:modified xsi:type="dcterms:W3CDTF">2002-03-09T10:25:50Z</dcterms:modified>
  <cp:revision>6</cp:revision>
  <dc:subject/>
  <dc:title>Présentation PowerPoint</dc:title>
</cp:coreProperties>
</file>