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943-3B99-48BD-8AB9-2C95AD5C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217-EA38-43C4-BDF0-B5D6BC0F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C007-A522-4343-8ADF-E842A3A9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3F1-7EE4-43D1-AF8D-492B97F1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D057-5C43-4B02-ACB1-75E8F3E2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6C7-FFDA-4A55-B438-C8AB3E1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F41-2990-4C3A-BC65-F98F59CE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3D0-7982-4D08-ADDC-DBD79A66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560-10F7-4B38-810F-0A4067A9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AB2-86D7-4078-8471-57240B1F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504-1935-4C2D-ADBD-5B048E8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F15-8EFC-4097-95F8-95CD783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29A8-BB26-4414-94C3-475A50A9B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30:03Z</dcterms:modified>
  <cp:revision>3</cp:revision>
  <dc:subject/>
  <dc:title>Présentation PowerPoint</dc:title>
</cp:coreProperties>
</file>