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F8D5-203C-4F8B-8E1F-73895A6D4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55AA-E370-494D-B81B-FBDB617B1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7036-D334-4444-BE2B-8953FE0D2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F8C3-6F0D-4F9E-8DA4-AED4E321B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74D3-0A90-49D7-B830-C88A5EBA2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D822-2A5F-4BD0-8DD9-1F3800E85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FFBB-E0DE-441B-9445-98FA108C5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E67B-54AC-4834-8EC1-1A340A778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B709-0671-47AA-88E4-B62636DEA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FBA9-5332-4CB5-85B1-0FDC961D6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F543-DF55-46EC-B93E-C44E4594C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D85D-D85A-4F71-BC24-3D3769D7E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27EDE-3E17-4BC7-8ED1-3391D4BFFE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3880" y="2286000"/>
            <a:ext cx="38862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Verdana"/>
              </a:rPr>
              <a:t>Comité de pilot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51080" y="4495680"/>
            <a:ext cx="2397240" cy="76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Verdana"/>
              </a:rPr>
              <a:t>Chef de proj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6095880"/>
            <a:ext cx="312408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Verdana"/>
              </a:rPr>
              <a:t>Équipe proj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533760" y="6095880"/>
            <a:ext cx="301932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Verdana"/>
              </a:rPr>
              <a:t>Corresponda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" name=""/>
          <p:cNvCxnSpPr>
            <a:stCxn id="42" idx="2"/>
            <a:endCxn id="43" idx="0"/>
          </p:cNvCxnSpPr>
          <p:nvPr/>
        </p:nvCxnSpPr>
        <p:spPr>
          <a:xfrm rot="5400000">
            <a:off x="2202480" y="4848840"/>
            <a:ext cx="835200" cy="1659240"/>
          </a:xfrm>
          <a:prstGeom prst="bentConnector3">
            <a:avLst>
              <a:gd name="adj1" fmla="val 49978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46" name=""/>
          <p:cNvCxnSpPr>
            <a:stCxn id="42" idx="2"/>
            <a:endCxn id="44" idx="0"/>
          </p:cNvCxnSpPr>
          <p:nvPr/>
        </p:nvCxnSpPr>
        <p:spPr>
          <a:xfrm flipH="1" rot="16200000">
            <a:off x="3828960" y="4881240"/>
            <a:ext cx="835200" cy="1594080"/>
          </a:xfrm>
          <a:prstGeom prst="bentConnector3">
            <a:avLst>
              <a:gd name="adj1" fmla="val 50021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2" idx="0"/>
          </p:cNvCxnSpPr>
          <p:nvPr/>
        </p:nvCxnSpPr>
        <p:spPr>
          <a:xfrm flipH="1">
            <a:off x="3449520" y="4038480"/>
            <a:ext cx="17640" cy="457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228600" y="7696080"/>
            <a:ext cx="312408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Verdana"/>
              </a:rPr>
              <a:t>Groupes de trava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" name=""/>
          <p:cNvCxnSpPr>
            <a:stCxn id="43" idx="2"/>
            <a:endCxn id="48" idx="0"/>
          </p:cNvCxnSpPr>
          <p:nvPr/>
        </p:nvCxnSpPr>
        <p:spPr>
          <a:xfrm>
            <a:off x="1790640" y="6934320"/>
            <a:ext cx="360" cy="7621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3T11:00:24Z</dcterms:created>
  <dc:creator>HPM</dc:creator>
  <dc:description/>
  <dc:language>en-US</dc:language>
  <cp:lastModifiedBy>MADERS</cp:lastModifiedBy>
  <cp:lastPrinted>2000-05-11T10:17:14Z</cp:lastPrinted>
  <dcterms:modified xsi:type="dcterms:W3CDTF">2002-03-28T07:57:50Z</dcterms:modified>
  <cp:revision>100</cp:revision>
  <dc:subject/>
  <dc:title>Présentation PowerPoint</dc:title>
</cp:coreProperties>
</file>