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1EE4-1A55-41C3-8F59-178253AB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775-7728-4A8B-A034-C89EC0A1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4EC4-7579-4F60-8175-440B173F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1937-6E59-41EE-AD47-E129254B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3EE0-F4EC-4470-90F1-2D41C2BC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BAB5-7B45-4EE7-A193-D043DE1C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769F-0D35-4FFE-B01C-33083370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7A95-9FCD-467D-8759-7DA1AD17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9CC5-7AA4-4BAB-88F5-3B973AAB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9A6-48E2-4668-A5C4-7A6F4C19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0886-AA20-4345-8104-C001F5B3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CDCF-C04F-44CC-8A6B-6BBAD45A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82DD-A255-462C-B3E7-E6F7F227F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lan de 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52880" y="6172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629400" y="6172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05920" y="6172200"/>
            <a:ext cx="160020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54864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95288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05920" y="54864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80204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4802040"/>
            <a:ext cx="327636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480204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480204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05920" y="4802040"/>
            <a:ext cx="160020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11480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4114800"/>
            <a:ext cx="327636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411480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411480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05920" y="4114800"/>
            <a:ext cx="160020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756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3427560"/>
            <a:ext cx="327636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342756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342756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05920" y="3427560"/>
            <a:ext cx="160020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743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2743200"/>
            <a:ext cx="327636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2743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2743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2743200"/>
            <a:ext cx="160020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76212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tinata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 l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762120"/>
            <a:ext cx="32763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bjectif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76212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up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’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76212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met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 inform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05920" y="76212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s clés de dif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20574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940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05920" y="20574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61722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0:31:13Z</dcterms:modified>
  <cp:revision>100</cp:revision>
  <dc:subject/>
  <dc:title>Présentation PowerPoint</dc:title>
</cp:coreProperties>
</file>