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7E95-6081-4DB2-925E-0811FEB8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D647-A0F9-4235-9E07-8BC5DAD6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60EB-6115-4103-B189-750D8B7AC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50A-0FEB-428A-952A-E32D0423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0477-28A1-4A56-A5B2-C79C49C0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449-C34B-462F-9CA5-17F5465C6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4150-4383-4B63-A21F-A8F89954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63E-437C-4721-85E4-5206700A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7CC-95A4-426F-AADD-E46A930D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B83-DA8E-4489-8A0A-E5087A94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6087-4BF6-4123-812A-24376F88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E70-F678-4516-A3B6-6CC3D46F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BA07-2E27-4753-A1D5-5193660D9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rte de contrôle qua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85840"/>
            <a:ext cx="680724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285840"/>
            <a:ext cx="236232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Thèm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Analyst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1219320"/>
            <a:ext cx="4343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É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763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1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0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238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00600"/>
            <a:ext cx="9907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91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9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91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9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66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63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01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4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763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1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01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0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38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763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238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763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01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4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763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81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77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763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01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0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38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1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0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38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63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81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0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38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77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763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1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1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0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7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15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763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1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620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238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5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4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763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1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001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0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38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15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763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1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01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0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5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34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763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1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01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0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5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763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1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01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238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763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81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01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0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38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7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5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763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1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01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20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38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15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4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763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1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001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77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4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0720" y="1447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3124080"/>
            <a:ext cx="9907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Étend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1447920"/>
            <a:ext cx="9907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oye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52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52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52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2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3880" y="40384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4120" y="4800600"/>
            <a:ext cx="38098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ment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990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90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90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Étend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90720" y="1600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1752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1905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2057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90720" y="2362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2514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2666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90720" y="2971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91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9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9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9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429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8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66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23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52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91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09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8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66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52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572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91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09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29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8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05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3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91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9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048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666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286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5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523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52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8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5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23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952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91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09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429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66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905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523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952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91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9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429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666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05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523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91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9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429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8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666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905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3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523880" y="23623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91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09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29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048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66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05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523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952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91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09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29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666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905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523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52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91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09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29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666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5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523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52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572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91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09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29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48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666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86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523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952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191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09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429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48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666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86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905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3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952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72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09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29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48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666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86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05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3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52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191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09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48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66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86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05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523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52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72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91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809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29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8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66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86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05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523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12193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4120" y="1219320"/>
            <a:ext cx="3809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por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0720" y="31240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990720" y="3276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990720" y="3429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90720" y="3581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9907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9907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90720" y="4191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990720" y="4343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90720" y="4495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990720" y="4648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763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381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001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238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858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477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95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15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4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90720" y="2209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763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381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001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20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238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58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477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95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15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9907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08:17Z</dcterms:created>
  <dc:creator>MADERS</dc:creator>
  <dc:description/>
  <dc:language>en-US</dc:language>
  <cp:lastModifiedBy>MADERS</cp:lastModifiedBy>
  <dcterms:modified xsi:type="dcterms:W3CDTF">2002-03-09T18:16:12Z</dcterms:modified>
  <cp:revision>7</cp:revision>
  <dc:subject/>
  <dc:title>Présentation PowerPoint</dc:title>
</cp:coreProperties>
</file>