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0503-3D90-4A2C-A6D2-B0CC4C9F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0044-6820-4E91-8272-0D23F028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1F93-B378-4223-B7D8-9FC5437BA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8245-2CA2-4277-B32D-85118D8E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0EF3-1AE0-44AB-9F4D-35B56F46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DEBE-0EEE-446C-AFE0-DB8F3017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97B5-D68A-4B87-9A6A-A9CEF126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1220-8F8E-48BE-8441-7CF72A70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8A51-F09E-4D1C-8B59-5443B434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8BA4-3C59-4C54-B4EC-C4A64FF6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39D7-2390-43FC-A155-B1925FC9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BC38-5B94-4C8B-9A32-1D545097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067B-AD4E-48F6-BE66-DF70E3DC78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37"/>
          <p:cNvGrpSpPr/>
          <p:nvPr/>
        </p:nvGrpSpPr>
        <p:grpSpPr>
          <a:xfrm>
            <a:off x="0" y="0"/>
            <a:ext cx="6858000" cy="9905400"/>
            <a:chOff x="0" y="0"/>
            <a:chExt cx="6858000" cy="9905400"/>
          </a:xfrm>
        </p:grpSpPr>
        <p:sp>
          <p:nvSpPr>
            <p:cNvPr id="42" name="Rectangle 1027"/>
            <p:cNvSpPr/>
            <p:nvPr/>
          </p:nvSpPr>
          <p:spPr>
            <a:xfrm>
              <a:off x="0" y="0"/>
              <a:ext cx="6858000" cy="86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Banque de Bel Air - Fiche d’expression de besoi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1028"/>
            <p:cNvSpPr/>
            <p:nvPr/>
          </p:nvSpPr>
          <p:spPr>
            <a:xfrm>
              <a:off x="0" y="868320"/>
              <a:ext cx="519768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Structure : 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Service courrier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Rédacteur : 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M. Pierre, chef du service courrier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1029"/>
            <p:cNvSpPr/>
            <p:nvPr/>
          </p:nvSpPr>
          <p:spPr>
            <a:xfrm>
              <a:off x="5197680" y="868320"/>
              <a:ext cx="165996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ate : 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19/09/08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1030"/>
            <p:cNvSpPr/>
            <p:nvPr/>
          </p:nvSpPr>
          <p:spPr>
            <a:xfrm>
              <a:off x="0" y="1911240"/>
              <a:ext cx="6858000" cy="17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Contexte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La banque de Bel Air reçoit plusieurs centaines de lettres de ses clients chaque jour. Personne n’a la visibilité sur ces courriers et encore moins sur les réponses qui y sont apportées… ou pas ! Ceci est grave dans un contexte de forte concurrence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1031"/>
            <p:cNvSpPr/>
            <p:nvPr/>
          </p:nvSpPr>
          <p:spPr>
            <a:xfrm>
              <a:off x="0" y="364932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Objet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Il serait souhaitable de réorganiser ce processus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32"/>
            <p:cNvSpPr/>
            <p:nvPr/>
          </p:nvSpPr>
          <p:spPr>
            <a:xfrm>
              <a:off x="0" y="469188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Objectifs poursuivi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Amélioration de la qualité perçue par les clients et sécurisation du processu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33"/>
            <p:cNvSpPr/>
            <p:nvPr/>
          </p:nvSpPr>
          <p:spPr>
            <a:xfrm>
              <a:off x="0" y="573480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Rappel de l’existant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Toutes les directions du siège sont concernées par ce processus, y compris la direction général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034"/>
            <p:cNvSpPr/>
            <p:nvPr/>
          </p:nvSpPr>
          <p:spPr>
            <a:xfrm>
              <a:off x="0" y="677736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Gains attendu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Délai de traitement et exhaustivité des répons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035"/>
            <p:cNvSpPr/>
            <p:nvPr/>
          </p:nvSpPr>
          <p:spPr>
            <a:xfrm>
              <a:off x="0" y="886284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Risque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Améliorer le processus au détriment de la qualité technique et commerciale des réponse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036"/>
            <p:cNvSpPr/>
            <p:nvPr/>
          </p:nvSpPr>
          <p:spPr>
            <a:xfrm>
              <a:off x="0" y="7819920"/>
              <a:ext cx="6858000" cy="10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Contrainte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Diversité des acteurs, des thèmes des courriers et nombre de courrier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47:49Z</dcterms:modified>
  <cp:revision>102</cp:revision>
  <dc:subject/>
  <dc:title>Présentation PowerPoint</dc:title>
</cp:coreProperties>
</file>