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62A3-0186-4546-BFC6-74A20BA26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EDAF-1611-45D7-9796-B8363440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3D5E-460F-4FEF-BDDD-0113DC22F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C340-9370-4520-84BE-A1B78467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022A-559A-46FE-B6E8-FB3710F9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A393-BDA4-4D1F-9E75-3536D8FC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1A0B-0564-4B30-B9AD-A4225611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379E-2B5C-4073-A74C-17B91FC3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72EB-9523-4D23-9257-A4F4EE2A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3A1E-CD73-4713-84B3-B6D068E8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3B65-A833-4007-9405-021862DA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653E-7917-43F3-B452-177F3527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BCF3-8A14-4995-B726-1A452B0873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6858000" cy="8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Dossier d’étude d’opportun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0" y="866880"/>
            <a:ext cx="4876920" cy="119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tructure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Service Organis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édacteur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M. Anto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 : 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4876920" y="866880"/>
            <a:ext cx="1981080" cy="119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04/01/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2057400"/>
            <a:ext cx="6858000" cy="89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Objet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organisation du processus courrier sièg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952720"/>
            <a:ext cx="685800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Objectifs et enjeux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mélioration de la qualité perçue par les clients et sécurisation du processu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0" y="3822840"/>
            <a:ext cx="6858000" cy="86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escription de l’objet du changement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ircuits de circulation de l’information, outil de traçabil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0" y="5559480"/>
            <a:ext cx="6858000" cy="86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Impacts organisationnels et humain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Standards de temps, de forme et de fond, nouveau processus de traitement et spécialisation des fonc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0" y="7299360"/>
            <a:ext cx="6858000" cy="8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Volumes prévu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méliorer le processus au détriment de la qualité technique et commerciale des répon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3"/>
          <p:cNvSpPr/>
          <p:nvPr/>
        </p:nvSpPr>
        <p:spPr>
          <a:xfrm>
            <a:off x="0" y="6429240"/>
            <a:ext cx="685800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xigence de qualité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élai de réponse, exhaustivité des réponses, traçabilité et conserv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0" y="4692600"/>
            <a:ext cx="6858000" cy="8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Acteur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irection générale, directeurs, chefs de service et agents du siè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15"/>
          <p:cNvSpPr/>
          <p:nvPr/>
        </p:nvSpPr>
        <p:spPr>
          <a:xfrm>
            <a:off x="0" y="8166240"/>
            <a:ext cx="6858000" cy="86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ûts prévu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oût de fonctionnement identique à ceux actuels / Investissement informatique très fai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16"/>
          <p:cNvSpPr/>
          <p:nvPr/>
        </p:nvSpPr>
        <p:spPr>
          <a:xfrm>
            <a:off x="0" y="9036000"/>
            <a:ext cx="685800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élais de mise en œuvre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as de contrainte spécifique (pas d’obligation réglementair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10:05:14Z</dcterms:modified>
  <cp:revision>102</cp:revision>
  <dc:subject/>
  <dc:title>Présentation PowerPoint</dc:title>
</cp:coreProperties>
</file>