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C06C-5565-4C34-B296-65F6DECA6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BAA9-16DC-41A3-A8AB-3CEE2C24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89C1-7810-49EA-8B45-65389687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7725-949B-4B29-8029-577B4EAC8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982C-AC1C-4770-BB94-D317DADB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C088-CA9D-4A09-9318-FF75406E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C716-65E6-4695-BE3B-DA72E8A8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8675-5249-4AB5-A6E2-46152C45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5A4D-968B-4768-84FD-90CB2BAC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85DD-9576-4ACF-9690-1E5FDFE9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D86E-C60F-4C47-A4A3-CF357A7E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943C-CBAE-45CE-9C32-DF7FD15D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7B18-E3B7-439E-B100-E392CDFE3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54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che d’évaluation des char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44680"/>
            <a:ext cx="7848720" cy="59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hef de proje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848720" y="544680"/>
            <a:ext cx="2057400" cy="59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3000"/>
            <a:ext cx="4495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 de démarrage du proje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 de fin de projet 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524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0574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3623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6668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9718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767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1911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1055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8006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114300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14300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114300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114300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848720" y="114300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686800" y="1143000"/>
            <a:ext cx="12193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û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Éta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0199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tal j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17524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23623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20574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48720" y="17524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10280" y="17524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17524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4120" y="17524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60199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23623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20574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6019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23623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2200" y="20574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72200" y="6019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10280" y="23623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10280" y="20574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60199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848720" y="23623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48720" y="20574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848720" y="6019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686800" y="23623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86800" y="20574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686800" y="60199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J/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686800" y="17524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324480"/>
            <a:ext cx="44956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ût/Ac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95680" y="6324480"/>
            <a:ext cx="838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63244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63244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10280" y="6324480"/>
            <a:ext cx="838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48720" y="63244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686800" y="6324480"/>
            <a:ext cx="1219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4100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5812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8862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4956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7150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03600" y="26668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42040" y="26668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80120" y="26668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8200" y="26668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856640" y="26668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694720" y="26668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03600" y="29718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42040" y="29718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80120" y="29718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18200" y="29718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856640" y="29718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694720" y="29718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03600" y="32767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42040" y="32767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80120" y="32767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8200" y="32767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56640" y="32767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694720" y="32767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03600" y="35812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42040" y="35812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80120" y="35812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8200" y="35812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56640" y="35812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694720" y="35812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03600" y="38862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42040" y="38862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80120" y="38862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18200" y="38862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56640" y="38862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694720" y="38862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03600" y="41911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42040" y="41911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80120" y="41911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18200" y="41911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56640" y="41911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694720" y="41911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03600" y="44956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42040" y="44956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80120" y="44956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18200" y="44956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856640" y="44956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694720" y="44956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03600" y="48006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42040" y="48006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80120" y="48006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18200" y="48006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56640" y="48006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694720" y="48006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03600" y="51055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42040" y="51055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80120" y="51055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18200" y="51055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56640" y="51055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694720" y="51055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03600" y="54100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42040" y="54100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80120" y="54100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8200" y="54100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56640" y="54100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694720" y="54100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03600" y="57150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42040" y="57150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80120" y="57150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8200" y="57150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56640" y="57150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694720" y="57150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DERS</cp:lastModifiedBy>
  <cp:lastPrinted>2000-05-11T10:17:14Z</cp:lastPrinted>
  <dcterms:modified xsi:type="dcterms:W3CDTF">2002-03-09T10:22:18Z</dcterms:modified>
  <cp:revision>105</cp:revision>
  <dc:subject/>
  <dc:title>Présentation PowerPoint</dc:title>
</cp:coreProperties>
</file>