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33D-A778-46AA-924C-6CB4FFE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DD9-B07B-4411-BEBE-1080936B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62D-66A5-4485-BB4B-AF18CA30F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77B0-2C39-4EAF-ABC6-22AB0E99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82D1-795A-40CD-832D-19714F9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20E-B64F-4A33-9163-439E1EC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A64-B03E-4A80-8F19-F3804B6A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C29-E307-4A77-884E-AED92507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69C-CF16-4993-88D7-1D037366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AF06-797E-426E-8B2D-C56EAC80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285-D3D5-4FA8-9EFA-971225DE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351-2E44-4211-A7A8-0860278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1740-CA39-4916-80B5-9A83CD356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e bilan d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3/1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371600"/>
            <a:ext cx="6858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quip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Pierre, Chef du service courrier et M. Antoine, Organisate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ibuteurs principaux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 Secrétaires de service et experts (informatique, commercial, juridiqu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appel des objectif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a qualité des réponses aux courriers des clients (fond et déla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rantir l’exhaustivité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sposer d’une traçabilité dans la rédaction d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er les lettres et les répo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75248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ltats attei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sous contrôle du processus (délais, exhaustivité, traçabilité, mémorisation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ise en place d’une bibliothèque permettant des réponses de meilleure qualité (fond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105520" y="2514600"/>
            <a:ext cx="175248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servations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stimation un peu juste de la durée nécessaire pour rédiger les nombreuses lettres et paragraphes typ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écessité de formation des secrétaires à l’utilisation d’une base de données +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3429000" y="2514600"/>
            <a:ext cx="16765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car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ploiement de la solution sur l’ensemble des secrétariats du siège terminée fin septembre 2009 au lieu de fin juin 20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0" y="6858000"/>
            <a:ext cx="6858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tour d’expérienc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temps nécessaire pour concevoir et valider des documents de travail en group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e pas sous-estimer le nécessaire accompagnement des personnes dans le cas de mise en œuvre de technologies nouvelles (base de donnée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09:39:21Z</dcterms:modified>
  <cp:revision>14</cp:revision>
  <dc:subject/>
  <dc:title>Présentation PowerPoint</dc:title>
</cp:coreProperties>
</file>