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DD8-5089-4F79-A621-C94E64C9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D99-4E93-4B36-B5A0-D297489F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0C6-2B72-4396-B920-2EF4FD31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AB1-D777-474E-A4B6-280553B4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1BF-A6E7-4573-A6CC-E75FBA47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C49-3E2A-4B66-B835-EFD76BA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E75-6B55-4E25-8FF5-C895098E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71CE-B2BC-4349-85E4-D787FB85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F88-1903-46E6-86D1-864E1DAB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DFBD-7F7E-4C47-BAEE-200E079A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C07-82BC-4601-8315-A41FEDCF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DF5-1FE6-4A0A-9C5C-6F39F392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8420-EA89-41DE-AA18-55C8F6D8A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bleau Ga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8:49Z</dcterms:modified>
  <cp:revision>104</cp:revision>
  <dc:subject/>
  <dc:title>Présentation PowerPoint</dc:title>
</cp:coreProperties>
</file>