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C4A-0F59-40D2-ADE9-F30108B9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3C3D-9460-41F4-A5F4-F22EF08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6B78-FB57-4121-9B8F-CEA2D8AB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91F-7815-470B-B628-B5F6D147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36F-38BD-4857-AC63-836DCED9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74F-1AEC-43C1-B297-AD0C2768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9D1-D244-4DF7-BC11-4C39A9D3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F07-9F5C-4C12-B684-BE468B06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B29-4528-45FE-B51B-B589AEF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3674-A49E-47EB-B9D9-E29DCB1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1B7-02B3-44BD-9AA9-2AD8878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4A1-C15A-4297-ADC0-3C1DF41B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111F-64FB-4445-9815-8230843FA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2286000"/>
            <a:ext cx="3886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4495680"/>
            <a:ext cx="239724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6095880"/>
            <a:ext cx="301932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2" idx="2"/>
            <a:endCxn id="43" idx="0"/>
          </p:cNvCxnSpPr>
          <p:nvPr/>
        </p:nvCxnSpPr>
        <p:spPr>
          <a:xfrm rot="5400000">
            <a:off x="2202480" y="4848840"/>
            <a:ext cx="835200" cy="165924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"/>
          <p:cNvCxnSpPr>
            <a:stCxn id="42" idx="2"/>
            <a:endCxn id="44" idx="0"/>
          </p:cNvCxnSpPr>
          <p:nvPr/>
        </p:nvCxnSpPr>
        <p:spPr>
          <a:xfrm flipH="1" rot="16200000">
            <a:off x="3828960" y="4881240"/>
            <a:ext cx="835200" cy="159408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2" idx="0"/>
          </p:cNvCxnSpPr>
          <p:nvPr/>
        </p:nvCxnSpPr>
        <p:spPr>
          <a:xfrm flipH="1">
            <a:off x="3449520" y="4038480"/>
            <a:ext cx="1764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228600" y="7696080"/>
            <a:ext cx="312408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s de trava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28T07:57:50Z</dcterms:modified>
  <cp:revision>100</cp:revision>
  <dc:subject/>
  <dc:title>Présentation PowerPoint</dc:title>
</cp:coreProperties>
</file>