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2BF4-AA2B-4DF4-9906-8B664E1F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7DF-2E80-42D8-8140-1CEBCE1E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F24C-02FB-4B1E-A08C-1AD3F32BC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C59-E6F0-4709-9C96-67C0206B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B514-3E6E-46D6-B1AF-53FCF973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83F-9E46-4A6B-A50C-CF0FFFB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1669-0E69-4954-81DD-F983B6EE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A58-409D-4041-ABE8-99503E28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B0B-175F-459B-A282-06FC1052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5136-DD3F-4E18-B200-C680844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BA9-9935-4293-BDB7-5C67630B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015-655D-4807-9796-81F7570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B869-4407-4052-BA02-09775656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DERS</cp:lastModifiedBy>
  <dcterms:modified xsi:type="dcterms:W3CDTF">2002-03-09T11:13:09Z</dcterms:modified>
  <cp:revision>5</cp:revision>
  <dc:subject/>
  <dc:title>Présentation PowerPoint</dc:title>
</cp:coreProperties>
</file>