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043F-4B48-418A-8826-06C440280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8A31-F8A5-4D64-B75B-F8CD142E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29DA-A900-4D3C-A23D-9D671B574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4055-E869-4FF8-9736-759E9A223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FCEF-8C38-4819-9DEB-C53DC828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A8ED-5754-41E8-AA69-9B117770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66B6-78FC-49E8-B9CD-7C138268B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EE21-D6A3-44B5-AB5C-CD09D449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E39F-733C-45FE-A203-2B7B803F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D35A-9729-4E3A-9C10-BB955CF1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7203-F33E-4F12-8FAB-6D48746B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EC81-8AFA-4E95-B0BB-595F8C6A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30AB-E5DB-42D4-BBA6-E0B92D915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6858000" cy="9144000"/>
            <a:chOff x="0" y="0"/>
            <a:chExt cx="6858000" cy="9144000"/>
          </a:xfrm>
        </p:grpSpPr>
        <p:grpSp>
          <p:nvGrpSpPr>
            <p:cNvPr id="42" name=""/>
            <p:cNvGrpSpPr/>
            <p:nvPr/>
          </p:nvGrpSpPr>
          <p:grpSpPr>
            <a:xfrm>
              <a:off x="7200" y="6120"/>
              <a:ext cx="6842520" cy="9130680"/>
              <a:chOff x="7200" y="6120"/>
              <a:chExt cx="6842520" cy="913068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7200" y="6120"/>
                <a:ext cx="2731320" cy="1059840"/>
                <a:chOff x="7200" y="6120"/>
                <a:chExt cx="2731320" cy="105984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48960" y="6120"/>
                  <a:ext cx="264672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ctivité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7200" y="6120"/>
                  <a:ext cx="273132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" name=""/>
              <p:cNvGrpSpPr/>
              <p:nvPr/>
            </p:nvGrpSpPr>
            <p:grpSpPr>
              <a:xfrm>
                <a:off x="2738520" y="6120"/>
                <a:ext cx="309600" cy="1059840"/>
                <a:chOff x="2738520" y="6120"/>
                <a:chExt cx="309600" cy="1059840"/>
              </a:xfrm>
            </p:grpSpPr>
            <p:sp>
              <p:nvSpPr>
                <p:cNvPr id="47" name=""/>
                <p:cNvSpPr/>
                <p:nvPr/>
              </p:nvSpPr>
              <p:spPr>
                <a:xfrm>
                  <a:off x="2780280" y="6120"/>
                  <a:ext cx="22572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2738520" y="6120"/>
                  <a:ext cx="30960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" name=""/>
              <p:cNvGrpSpPr/>
              <p:nvPr/>
            </p:nvGrpSpPr>
            <p:grpSpPr>
              <a:xfrm>
                <a:off x="3048480" y="6120"/>
                <a:ext cx="309600" cy="1059840"/>
                <a:chOff x="3048480" y="6120"/>
                <a:chExt cx="309600" cy="105984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3090600" y="6120"/>
                  <a:ext cx="22536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B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3048480" y="6120"/>
                  <a:ext cx="30960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" name=""/>
              <p:cNvGrpSpPr/>
              <p:nvPr/>
            </p:nvGrpSpPr>
            <p:grpSpPr>
              <a:xfrm>
                <a:off x="3358440" y="6120"/>
                <a:ext cx="309960" cy="1059840"/>
                <a:chOff x="3358440" y="6120"/>
                <a:chExt cx="309960" cy="105984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3400560" y="6120"/>
                  <a:ext cx="22536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C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358440" y="6120"/>
                  <a:ext cx="30996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3668400" y="6120"/>
                <a:ext cx="309600" cy="1059840"/>
                <a:chOff x="3668400" y="6120"/>
                <a:chExt cx="309600" cy="105984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3710160" y="6120"/>
                  <a:ext cx="22572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D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3668400" y="6120"/>
                  <a:ext cx="30960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3978360" y="6120"/>
                <a:ext cx="309960" cy="1059840"/>
                <a:chOff x="3978360" y="6120"/>
                <a:chExt cx="309960" cy="10598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4020480" y="6120"/>
                  <a:ext cx="22536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978360" y="6120"/>
                  <a:ext cx="30996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4288680" y="6120"/>
                <a:ext cx="309600" cy="1059840"/>
                <a:chOff x="4288680" y="6120"/>
                <a:chExt cx="309600" cy="10598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4330440" y="6120"/>
                  <a:ext cx="22572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F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4288680" y="6120"/>
                  <a:ext cx="30960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4598640" y="6120"/>
                <a:ext cx="309600" cy="1059840"/>
                <a:chOff x="4598640" y="6120"/>
                <a:chExt cx="309600" cy="105984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640760" y="6120"/>
                  <a:ext cx="22536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G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4598640" y="6120"/>
                  <a:ext cx="30960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4908240" y="6120"/>
                <a:ext cx="309960" cy="1059840"/>
                <a:chOff x="4908240" y="6120"/>
                <a:chExt cx="309960" cy="105984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4950360" y="6120"/>
                  <a:ext cx="22536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H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908240" y="6120"/>
                  <a:ext cx="30996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5218560" y="6120"/>
                <a:ext cx="309600" cy="1059840"/>
                <a:chOff x="5218560" y="6120"/>
                <a:chExt cx="309600" cy="10598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5260320" y="6120"/>
                  <a:ext cx="22572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I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218560" y="6120"/>
                  <a:ext cx="30960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5528520" y="6120"/>
                <a:ext cx="309960" cy="1059840"/>
                <a:chOff x="5528520" y="6120"/>
                <a:chExt cx="309960" cy="105984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5570640" y="6120"/>
                  <a:ext cx="22536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J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5528520" y="6120"/>
                  <a:ext cx="30996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5838840" y="6120"/>
                <a:ext cx="309600" cy="1059840"/>
                <a:chOff x="5838840" y="6120"/>
                <a:chExt cx="309600" cy="105984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5880600" y="6120"/>
                  <a:ext cx="22572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K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838840" y="6120"/>
                  <a:ext cx="30960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6148440" y="6120"/>
                <a:ext cx="701280" cy="1059840"/>
                <a:chOff x="6148440" y="6120"/>
                <a:chExt cx="701280" cy="105984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6190560" y="6120"/>
                  <a:ext cx="616680" cy="10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Couvertur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ar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ctivité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148440" y="6120"/>
                  <a:ext cx="701280" cy="1059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7200" y="1065960"/>
                <a:ext cx="2731320" cy="648000"/>
                <a:chOff x="7200" y="1065960"/>
                <a:chExt cx="2731320" cy="64800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48960" y="1065960"/>
                  <a:ext cx="264672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nimation, gestion et organisation de l’agenc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200" y="1065960"/>
                  <a:ext cx="273132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2738520" y="1065960"/>
                <a:ext cx="309600" cy="648000"/>
                <a:chOff x="2738520" y="1065960"/>
                <a:chExt cx="309600" cy="64800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2780280" y="1065960"/>
                  <a:ext cx="22572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738520" y="1065960"/>
                  <a:ext cx="30960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3048480" y="1065960"/>
                <a:ext cx="309600" cy="648000"/>
                <a:chOff x="3048480" y="1065960"/>
                <a:chExt cx="309600" cy="64800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3090600" y="1065960"/>
                  <a:ext cx="22536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048480" y="1065960"/>
                  <a:ext cx="30960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3358440" y="1065960"/>
                <a:ext cx="309960" cy="648000"/>
                <a:chOff x="3358440" y="1065960"/>
                <a:chExt cx="309960" cy="64800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3400560" y="1065960"/>
                  <a:ext cx="22536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358440" y="1065960"/>
                  <a:ext cx="30996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3668400" y="1065960"/>
                <a:ext cx="309600" cy="648000"/>
                <a:chOff x="3668400" y="1065960"/>
                <a:chExt cx="309600" cy="64800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3710160" y="1065960"/>
                  <a:ext cx="22572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668400" y="1065960"/>
                  <a:ext cx="30960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3978360" y="1065960"/>
                <a:ext cx="309960" cy="648000"/>
                <a:chOff x="3978360" y="1065960"/>
                <a:chExt cx="309960" cy="64800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4020480" y="1065960"/>
                  <a:ext cx="22536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978360" y="1065960"/>
                  <a:ext cx="30996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4288680" y="1065960"/>
                <a:ext cx="309600" cy="648000"/>
                <a:chOff x="4288680" y="1065960"/>
                <a:chExt cx="309600" cy="64800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4330440" y="1065960"/>
                  <a:ext cx="22572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288680" y="1065960"/>
                  <a:ext cx="30960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4598640" y="1065960"/>
                <a:ext cx="309600" cy="648000"/>
                <a:chOff x="4598640" y="1065960"/>
                <a:chExt cx="309600" cy="64800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4640760" y="1065960"/>
                  <a:ext cx="22536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598640" y="1065960"/>
                  <a:ext cx="30960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4908240" y="1065960"/>
                <a:ext cx="309960" cy="648000"/>
                <a:chOff x="4908240" y="1065960"/>
                <a:chExt cx="309960" cy="6480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4950360" y="1065960"/>
                  <a:ext cx="22536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908240" y="1065960"/>
                  <a:ext cx="30996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5218560" y="1065960"/>
                <a:ext cx="309600" cy="648000"/>
                <a:chOff x="5218560" y="1065960"/>
                <a:chExt cx="309600" cy="6480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260320" y="1065960"/>
                  <a:ext cx="22572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218560" y="1065960"/>
                  <a:ext cx="30960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5528520" y="1065960"/>
                <a:ext cx="309960" cy="648000"/>
                <a:chOff x="5528520" y="1065960"/>
                <a:chExt cx="309960" cy="64800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5570640" y="1065960"/>
                  <a:ext cx="22536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528520" y="1065960"/>
                  <a:ext cx="30996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5838840" y="1065960"/>
                <a:ext cx="309600" cy="648000"/>
                <a:chOff x="5838840" y="1065960"/>
                <a:chExt cx="309600" cy="6480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5880600" y="1065960"/>
                  <a:ext cx="22572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5838840" y="1065960"/>
                  <a:ext cx="30960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6148440" y="1065960"/>
                <a:ext cx="701280" cy="648000"/>
                <a:chOff x="6148440" y="1065960"/>
                <a:chExt cx="701280" cy="6480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6190560" y="1065960"/>
                  <a:ext cx="616680" cy="64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148440" y="1065960"/>
                  <a:ext cx="701280" cy="64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7200" y="1713960"/>
                <a:ext cx="2731320" cy="510120"/>
                <a:chOff x="7200" y="1713960"/>
                <a:chExt cx="2731320" cy="5101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48960" y="1713960"/>
                  <a:ext cx="2646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Suivi des engagements de l’agenc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200" y="1713960"/>
                  <a:ext cx="273132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2738520" y="1713960"/>
                <a:ext cx="309600" cy="510120"/>
                <a:chOff x="2738520" y="1713960"/>
                <a:chExt cx="309600" cy="5101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780280" y="17139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738520" y="17139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3048480" y="1713960"/>
                <a:ext cx="309600" cy="510120"/>
                <a:chOff x="3048480" y="1713960"/>
                <a:chExt cx="309600" cy="5101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090600" y="17139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048480" y="17139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3358440" y="1713960"/>
                <a:ext cx="309960" cy="510120"/>
                <a:chOff x="3358440" y="1713960"/>
                <a:chExt cx="309960" cy="51012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3400560" y="17139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358440" y="17139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3668400" y="1713960"/>
                <a:ext cx="309600" cy="510120"/>
                <a:chOff x="3668400" y="1713960"/>
                <a:chExt cx="309600" cy="5101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710160" y="17139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3668400" y="17139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3978360" y="1713960"/>
                <a:ext cx="309960" cy="510120"/>
                <a:chOff x="3978360" y="1713960"/>
                <a:chExt cx="309960" cy="5101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4020480" y="17139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978360" y="17139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4288680" y="1713960"/>
                <a:ext cx="309600" cy="510120"/>
                <a:chOff x="4288680" y="1713960"/>
                <a:chExt cx="309600" cy="5101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4330440" y="17139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88680" y="17139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4598640" y="1713960"/>
                <a:ext cx="309600" cy="510120"/>
                <a:chOff x="4598640" y="1713960"/>
                <a:chExt cx="309600" cy="5101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4640760" y="17139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598640" y="17139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4908240" y="1713960"/>
                <a:ext cx="309960" cy="510120"/>
                <a:chOff x="4908240" y="1713960"/>
                <a:chExt cx="309960" cy="5101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4950360" y="17139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908240" y="17139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5218560" y="1713960"/>
                <a:ext cx="309600" cy="510120"/>
                <a:chOff x="5218560" y="1713960"/>
                <a:chExt cx="309600" cy="5101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5260320" y="17139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218560" y="17139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5528520" y="1713960"/>
                <a:ext cx="309960" cy="510120"/>
                <a:chOff x="5528520" y="1713960"/>
                <a:chExt cx="309960" cy="5101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570640" y="17139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528520" y="17139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5838840" y="1713960"/>
                <a:ext cx="309600" cy="510120"/>
                <a:chOff x="5838840" y="1713960"/>
                <a:chExt cx="309600" cy="5101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5880600" y="17139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838840" y="17139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6148440" y="1713960"/>
                <a:ext cx="701280" cy="510120"/>
                <a:chOff x="6148440" y="1713960"/>
                <a:chExt cx="701280" cy="5101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6190560" y="1713960"/>
                  <a:ext cx="6166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148440" y="1713960"/>
                  <a:ext cx="70128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7200" y="2224440"/>
                <a:ext cx="2731320" cy="510480"/>
                <a:chOff x="7200" y="2224440"/>
                <a:chExt cx="2731320" cy="5104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48960" y="2224440"/>
                  <a:ext cx="2646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ortefeuille entreprise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200" y="2224440"/>
                  <a:ext cx="273132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2738520" y="2224440"/>
                <a:ext cx="309600" cy="510480"/>
                <a:chOff x="2738520" y="2224440"/>
                <a:chExt cx="309600" cy="5104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2780280" y="22244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738520" y="22244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3048480" y="2224440"/>
                <a:ext cx="309600" cy="510480"/>
                <a:chOff x="3048480" y="2224440"/>
                <a:chExt cx="309600" cy="5104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3090600" y="22244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048480" y="22244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3358440" y="2224440"/>
                <a:ext cx="309960" cy="510480"/>
                <a:chOff x="3358440" y="2224440"/>
                <a:chExt cx="309960" cy="5104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400560" y="22244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358440" y="222444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3668400" y="2224440"/>
                <a:ext cx="309600" cy="510480"/>
                <a:chOff x="3668400" y="2224440"/>
                <a:chExt cx="309600" cy="51048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3710160" y="22244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668400" y="22244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3978360" y="2224440"/>
                <a:ext cx="309960" cy="510480"/>
                <a:chOff x="3978360" y="2224440"/>
                <a:chExt cx="309960" cy="5104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4020480" y="22244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978360" y="222444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4288680" y="2224440"/>
                <a:ext cx="309600" cy="510480"/>
                <a:chOff x="4288680" y="2224440"/>
                <a:chExt cx="309600" cy="5104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4330440" y="22244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288680" y="22244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4598640" y="2224440"/>
                <a:ext cx="309600" cy="510480"/>
                <a:chOff x="4598640" y="2224440"/>
                <a:chExt cx="309600" cy="51048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4640760" y="22244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598640" y="22244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4908240" y="2224440"/>
                <a:ext cx="309960" cy="510480"/>
                <a:chOff x="4908240" y="2224440"/>
                <a:chExt cx="309960" cy="5104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4950360" y="22244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908240" y="222444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5218560" y="2224440"/>
                <a:ext cx="309600" cy="510480"/>
                <a:chOff x="5218560" y="2224440"/>
                <a:chExt cx="309600" cy="51048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5260320" y="22244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218560" y="22244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5528520" y="2224440"/>
                <a:ext cx="309960" cy="510480"/>
                <a:chOff x="5528520" y="2224440"/>
                <a:chExt cx="309960" cy="5104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570640" y="22244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528520" y="222444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838840" y="2224440"/>
                <a:ext cx="309600" cy="510480"/>
                <a:chOff x="5838840" y="2224440"/>
                <a:chExt cx="309600" cy="5104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5880600" y="22244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838840" y="22244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6148440" y="2224440"/>
                <a:ext cx="701280" cy="510480"/>
                <a:chOff x="6148440" y="2224440"/>
                <a:chExt cx="701280" cy="51048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6190560" y="2224440"/>
                  <a:ext cx="61668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6148440" y="2224440"/>
                  <a:ext cx="70128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7200" y="2735280"/>
                <a:ext cx="2731320" cy="510120"/>
                <a:chOff x="7200" y="2735280"/>
                <a:chExt cx="2731320" cy="5101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48960" y="2735280"/>
                  <a:ext cx="2646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ortefeuille clients haut de gamm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200" y="2735280"/>
                  <a:ext cx="273132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2738520" y="2735280"/>
                <a:ext cx="309600" cy="510120"/>
                <a:chOff x="2738520" y="2735280"/>
                <a:chExt cx="309600" cy="5101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2780280" y="27352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738520" y="27352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048480" y="2735280"/>
                <a:ext cx="309600" cy="510120"/>
                <a:chOff x="3048480" y="2735280"/>
                <a:chExt cx="309600" cy="5101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090600" y="27352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048480" y="27352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3358440" y="2735280"/>
                <a:ext cx="309960" cy="510120"/>
                <a:chOff x="3358440" y="2735280"/>
                <a:chExt cx="309960" cy="5101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3400560" y="27352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358440" y="273528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3668400" y="2735280"/>
                <a:ext cx="309600" cy="510120"/>
                <a:chOff x="3668400" y="2735280"/>
                <a:chExt cx="309600" cy="5101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710160" y="27352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668400" y="27352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978360" y="2735280"/>
                <a:ext cx="309960" cy="510120"/>
                <a:chOff x="3978360" y="2735280"/>
                <a:chExt cx="309960" cy="5101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4020480" y="27352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978360" y="273528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4288680" y="2735280"/>
                <a:ext cx="309600" cy="510120"/>
                <a:chOff x="4288680" y="2735280"/>
                <a:chExt cx="309600" cy="5101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4330440" y="27352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288680" y="27352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4598640" y="2735280"/>
                <a:ext cx="309600" cy="510120"/>
                <a:chOff x="4598640" y="2735280"/>
                <a:chExt cx="309600" cy="51012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4640760" y="27352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598640" y="27352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4908240" y="2735280"/>
                <a:ext cx="309960" cy="510120"/>
                <a:chOff x="4908240" y="2735280"/>
                <a:chExt cx="309960" cy="51012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4950360" y="27352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908240" y="273528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5218560" y="2735280"/>
                <a:ext cx="309600" cy="510120"/>
                <a:chOff x="5218560" y="2735280"/>
                <a:chExt cx="309600" cy="51012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260320" y="27352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218560" y="27352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5528520" y="2735280"/>
                <a:ext cx="309960" cy="510120"/>
                <a:chOff x="5528520" y="2735280"/>
                <a:chExt cx="309960" cy="51012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5570640" y="27352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528520" y="273528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5838840" y="2735280"/>
                <a:ext cx="309600" cy="510120"/>
                <a:chOff x="5838840" y="2735280"/>
                <a:chExt cx="309600" cy="5101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5880600" y="27352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838840" y="27352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6148440" y="2735280"/>
                <a:ext cx="701280" cy="510120"/>
                <a:chOff x="6148440" y="2735280"/>
                <a:chExt cx="701280" cy="5101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6190560" y="2735280"/>
                  <a:ext cx="6166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148440" y="2735280"/>
                  <a:ext cx="70128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7200" y="3245760"/>
                <a:ext cx="2731320" cy="510480"/>
                <a:chOff x="7200" y="3245760"/>
                <a:chExt cx="2731320" cy="51048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48960" y="3245760"/>
                  <a:ext cx="2646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Portefeuille particulier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200" y="3245760"/>
                  <a:ext cx="273132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2738520" y="3245760"/>
                <a:ext cx="309600" cy="510480"/>
                <a:chOff x="2738520" y="3245760"/>
                <a:chExt cx="309600" cy="51048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2780280" y="32457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738520" y="32457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3048480" y="3245760"/>
                <a:ext cx="309600" cy="510480"/>
                <a:chOff x="3048480" y="3245760"/>
                <a:chExt cx="309600" cy="51048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090600" y="32457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048480" y="32457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3358440" y="3245760"/>
                <a:ext cx="309960" cy="510480"/>
                <a:chOff x="3358440" y="3245760"/>
                <a:chExt cx="309960" cy="5104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3400560" y="32457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358440" y="324576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3668400" y="3245760"/>
                <a:ext cx="309600" cy="510480"/>
                <a:chOff x="3668400" y="3245760"/>
                <a:chExt cx="309600" cy="51048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3710160" y="32457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668400" y="32457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3978360" y="3245760"/>
                <a:ext cx="309960" cy="510480"/>
                <a:chOff x="3978360" y="3245760"/>
                <a:chExt cx="309960" cy="51048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4020480" y="32457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978360" y="324576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4288680" y="3245760"/>
                <a:ext cx="309600" cy="510480"/>
                <a:chOff x="4288680" y="3245760"/>
                <a:chExt cx="309600" cy="51048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4330440" y="32457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288680" y="32457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4598640" y="3245760"/>
                <a:ext cx="309600" cy="510480"/>
                <a:chOff x="4598640" y="3245760"/>
                <a:chExt cx="309600" cy="51048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4640760" y="32457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598640" y="32457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4908240" y="3245760"/>
                <a:ext cx="309960" cy="510480"/>
                <a:chOff x="4908240" y="3245760"/>
                <a:chExt cx="309960" cy="5104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4950360" y="32457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908240" y="324576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5218560" y="3245760"/>
                <a:ext cx="309600" cy="510480"/>
                <a:chOff x="5218560" y="3245760"/>
                <a:chExt cx="309600" cy="51048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5260320" y="32457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218560" y="32457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5528520" y="3245760"/>
                <a:ext cx="309960" cy="510480"/>
                <a:chOff x="5528520" y="3245760"/>
                <a:chExt cx="309960" cy="51048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5570640" y="32457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528520" y="324576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5838840" y="3245760"/>
                <a:ext cx="309600" cy="510480"/>
                <a:chOff x="5838840" y="3245760"/>
                <a:chExt cx="309600" cy="51048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5880600" y="32457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838840" y="32457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6148440" y="3245760"/>
                <a:ext cx="701280" cy="510480"/>
                <a:chOff x="6148440" y="3245760"/>
                <a:chExt cx="701280" cy="51048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6190560" y="3245760"/>
                  <a:ext cx="61668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5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148440" y="3245760"/>
                  <a:ext cx="70128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7200" y="3756600"/>
                <a:ext cx="2731320" cy="510120"/>
                <a:chOff x="7200" y="3756600"/>
                <a:chExt cx="2731320" cy="51012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48960" y="3756600"/>
                  <a:ext cx="2646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pérations de caiss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200" y="3756600"/>
                  <a:ext cx="273132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2738520" y="3756600"/>
                <a:ext cx="309600" cy="510120"/>
                <a:chOff x="2738520" y="3756600"/>
                <a:chExt cx="309600" cy="51012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2780280" y="375660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738520" y="375660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3048480" y="3756600"/>
                <a:ext cx="309600" cy="510120"/>
                <a:chOff x="3048480" y="3756600"/>
                <a:chExt cx="309600" cy="51012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3090600" y="375660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048480" y="375660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3358440" y="3756600"/>
                <a:ext cx="309960" cy="510120"/>
                <a:chOff x="3358440" y="3756600"/>
                <a:chExt cx="309960" cy="51012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3400560" y="375660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358440" y="375660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668400" y="3756600"/>
                <a:ext cx="309600" cy="510120"/>
                <a:chOff x="3668400" y="3756600"/>
                <a:chExt cx="309600" cy="51012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710160" y="375660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668400" y="375660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3978360" y="3756600"/>
                <a:ext cx="309960" cy="510120"/>
                <a:chOff x="3978360" y="3756600"/>
                <a:chExt cx="309960" cy="51012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4020480" y="375660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978360" y="375660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4288680" y="3756600"/>
                <a:ext cx="309600" cy="510120"/>
                <a:chOff x="4288680" y="3756600"/>
                <a:chExt cx="309600" cy="51012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4330440" y="375660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288680" y="375660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4598640" y="3756600"/>
                <a:ext cx="309600" cy="510120"/>
                <a:chOff x="4598640" y="3756600"/>
                <a:chExt cx="309600" cy="51012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4640760" y="375660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598640" y="375660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4908240" y="3756600"/>
                <a:ext cx="309960" cy="510120"/>
                <a:chOff x="4908240" y="3756600"/>
                <a:chExt cx="309960" cy="51012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4950360" y="375660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4908240" y="375660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5218560" y="3756600"/>
                <a:ext cx="309600" cy="510120"/>
                <a:chOff x="5218560" y="3756600"/>
                <a:chExt cx="309600" cy="51012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5260320" y="375660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218560" y="375660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5528520" y="3756600"/>
                <a:ext cx="309960" cy="510120"/>
                <a:chOff x="5528520" y="3756600"/>
                <a:chExt cx="309960" cy="51012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5570640" y="375660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528520" y="375660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5838840" y="3756600"/>
                <a:ext cx="309600" cy="510120"/>
                <a:chOff x="5838840" y="3756600"/>
                <a:chExt cx="309600" cy="51012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5880600" y="375660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838840" y="375660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6148440" y="3756600"/>
                <a:ext cx="701280" cy="510120"/>
                <a:chOff x="6148440" y="3756600"/>
                <a:chExt cx="701280" cy="5101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6190560" y="3756600"/>
                  <a:ext cx="6166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0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148440" y="3756600"/>
                  <a:ext cx="70128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7200" y="4266720"/>
                <a:ext cx="2731320" cy="510480"/>
                <a:chOff x="7200" y="4266720"/>
                <a:chExt cx="2731320" cy="51048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48960" y="4266720"/>
                  <a:ext cx="2646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Accueil client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200" y="4266720"/>
                  <a:ext cx="273132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738520" y="4266720"/>
                <a:ext cx="309600" cy="510480"/>
                <a:chOff x="2738520" y="4266720"/>
                <a:chExt cx="309600" cy="51048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780280" y="42667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738520" y="42667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048480" y="4266720"/>
                <a:ext cx="309600" cy="510480"/>
                <a:chOff x="3048480" y="4266720"/>
                <a:chExt cx="309600" cy="51048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3090600" y="42667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048480" y="42667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3358440" y="4266720"/>
                <a:ext cx="309960" cy="510480"/>
                <a:chOff x="3358440" y="4266720"/>
                <a:chExt cx="309960" cy="51048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3400560" y="42667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358440" y="426672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3668400" y="4266720"/>
                <a:ext cx="309600" cy="510480"/>
                <a:chOff x="3668400" y="4266720"/>
                <a:chExt cx="309600" cy="51048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3710160" y="42667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668400" y="42667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3978360" y="4266720"/>
                <a:ext cx="309960" cy="510480"/>
                <a:chOff x="3978360" y="4266720"/>
                <a:chExt cx="309960" cy="51048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4020480" y="42667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978360" y="426672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4288680" y="4266720"/>
                <a:ext cx="309600" cy="510480"/>
                <a:chOff x="4288680" y="4266720"/>
                <a:chExt cx="309600" cy="51048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4330440" y="42667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288680" y="42667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4598640" y="4266720"/>
                <a:ext cx="309600" cy="510480"/>
                <a:chOff x="4598640" y="4266720"/>
                <a:chExt cx="309600" cy="51048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4640760" y="42667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598640" y="42667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4908240" y="4266720"/>
                <a:ext cx="309960" cy="510480"/>
                <a:chOff x="4908240" y="4266720"/>
                <a:chExt cx="309960" cy="51048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4950360" y="42667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908240" y="426672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5218560" y="4266720"/>
                <a:ext cx="309600" cy="510480"/>
                <a:chOff x="5218560" y="4266720"/>
                <a:chExt cx="309600" cy="51048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5260320" y="42667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218560" y="42667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5528520" y="4266720"/>
                <a:ext cx="309960" cy="510480"/>
                <a:chOff x="5528520" y="4266720"/>
                <a:chExt cx="309960" cy="51048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5570640" y="42667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5528520" y="426672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5838840" y="4266720"/>
                <a:ext cx="309600" cy="510480"/>
                <a:chOff x="5838840" y="4266720"/>
                <a:chExt cx="309600" cy="51048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5880600" y="42667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5838840" y="42667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6148440" y="4266720"/>
                <a:ext cx="701280" cy="510480"/>
                <a:chOff x="6148440" y="4266720"/>
                <a:chExt cx="701280" cy="51048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6190560" y="4266720"/>
                  <a:ext cx="61668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148440" y="4266720"/>
                  <a:ext cx="70128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7200" y="4777560"/>
                <a:ext cx="2731320" cy="510120"/>
                <a:chOff x="7200" y="4777560"/>
                <a:chExt cx="2731320" cy="51012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48960" y="4777560"/>
                  <a:ext cx="2646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Standard téléphoniqu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7200" y="4777560"/>
                  <a:ext cx="273132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2738520" y="4777560"/>
                <a:ext cx="309600" cy="510120"/>
                <a:chOff x="2738520" y="4777560"/>
                <a:chExt cx="309600" cy="51012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2780280" y="47775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738520" y="47775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3048480" y="4777560"/>
                <a:ext cx="309600" cy="510120"/>
                <a:chOff x="3048480" y="4777560"/>
                <a:chExt cx="309600" cy="51012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3090600" y="47775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3048480" y="47775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3358440" y="4777560"/>
                <a:ext cx="309960" cy="510120"/>
                <a:chOff x="3358440" y="4777560"/>
                <a:chExt cx="309960" cy="5101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3400560" y="47775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358440" y="47775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3668400" y="4777560"/>
                <a:ext cx="309600" cy="510120"/>
                <a:chOff x="3668400" y="4777560"/>
                <a:chExt cx="309600" cy="51012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3710160" y="47775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3668400" y="47775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3978360" y="4777560"/>
                <a:ext cx="309960" cy="510120"/>
                <a:chOff x="3978360" y="4777560"/>
                <a:chExt cx="309960" cy="51012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4020480" y="47775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3978360" y="47775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4288680" y="4777560"/>
                <a:ext cx="309600" cy="510120"/>
                <a:chOff x="4288680" y="4777560"/>
                <a:chExt cx="309600" cy="51012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4330440" y="47775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288680" y="47775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4598640" y="4777560"/>
                <a:ext cx="309600" cy="510120"/>
                <a:chOff x="4598640" y="4777560"/>
                <a:chExt cx="309600" cy="51012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4640760" y="47775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598640" y="47775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4908240" y="4777560"/>
                <a:ext cx="309960" cy="510120"/>
                <a:chOff x="4908240" y="4777560"/>
                <a:chExt cx="309960" cy="51012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4950360" y="47775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908240" y="47775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5218560" y="4777560"/>
                <a:ext cx="309600" cy="510120"/>
                <a:chOff x="5218560" y="4777560"/>
                <a:chExt cx="309600" cy="51012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5260320" y="47775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218560" y="47775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5528520" y="4777560"/>
                <a:ext cx="309960" cy="510120"/>
                <a:chOff x="5528520" y="4777560"/>
                <a:chExt cx="309960" cy="5101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570640" y="47775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528520" y="47775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5838840" y="4777560"/>
                <a:ext cx="309600" cy="510120"/>
                <a:chOff x="5838840" y="4777560"/>
                <a:chExt cx="309600" cy="51012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5880600" y="47775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838840" y="47775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6148440" y="4777560"/>
                <a:ext cx="701280" cy="510120"/>
                <a:chOff x="6148440" y="4777560"/>
                <a:chExt cx="701280" cy="51012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6190560" y="4777560"/>
                  <a:ext cx="6166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148440" y="4777560"/>
                  <a:ext cx="70128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7200" y="5288040"/>
                <a:ext cx="2731320" cy="510120"/>
                <a:chOff x="7200" y="5288040"/>
                <a:chExt cx="2731320" cy="5101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48960" y="5288040"/>
                  <a:ext cx="2646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Dactylographie courrier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200" y="5288040"/>
                  <a:ext cx="273132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2738520" y="5288040"/>
                <a:ext cx="309600" cy="510120"/>
                <a:chOff x="2738520" y="5288040"/>
                <a:chExt cx="309600" cy="5101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2780280" y="528804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738520" y="528804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3048480" y="5288040"/>
                <a:ext cx="309600" cy="510120"/>
                <a:chOff x="3048480" y="5288040"/>
                <a:chExt cx="309600" cy="5101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3090600" y="528804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048480" y="528804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3358440" y="5288040"/>
                <a:ext cx="309960" cy="510120"/>
                <a:chOff x="3358440" y="5288040"/>
                <a:chExt cx="309960" cy="5101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3400560" y="528804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358440" y="528804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3668400" y="5288040"/>
                <a:ext cx="309600" cy="510120"/>
                <a:chOff x="3668400" y="5288040"/>
                <a:chExt cx="309600" cy="5101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3710160" y="528804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3668400" y="528804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3978360" y="5288040"/>
                <a:ext cx="309960" cy="510120"/>
                <a:chOff x="3978360" y="5288040"/>
                <a:chExt cx="309960" cy="5101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4020480" y="528804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3978360" y="528804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4288680" y="5288040"/>
                <a:ext cx="309600" cy="510120"/>
                <a:chOff x="4288680" y="5288040"/>
                <a:chExt cx="309600" cy="5101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4330440" y="528804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288680" y="528804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4598640" y="5288040"/>
                <a:ext cx="309600" cy="510120"/>
                <a:chOff x="4598640" y="5288040"/>
                <a:chExt cx="309600" cy="51012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4640760" y="528804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598640" y="528804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4908240" y="5288040"/>
                <a:ext cx="309960" cy="510120"/>
                <a:chOff x="4908240" y="5288040"/>
                <a:chExt cx="309960" cy="51012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4950360" y="528804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908240" y="528804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5218560" y="5288040"/>
                <a:ext cx="309600" cy="510120"/>
                <a:chOff x="5218560" y="5288040"/>
                <a:chExt cx="309600" cy="51012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5260320" y="528804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218560" y="528804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5528520" y="5288040"/>
                <a:ext cx="309960" cy="510120"/>
                <a:chOff x="5528520" y="5288040"/>
                <a:chExt cx="309960" cy="51012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5570640" y="528804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5528520" y="528804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5838840" y="5288040"/>
                <a:ext cx="309600" cy="510120"/>
                <a:chOff x="5838840" y="5288040"/>
                <a:chExt cx="309600" cy="51012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5880600" y="528804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838840" y="528804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6148440" y="5288040"/>
                <a:ext cx="701280" cy="510120"/>
                <a:chOff x="6148440" y="5288040"/>
                <a:chExt cx="701280" cy="51012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6190560" y="5288040"/>
                  <a:ext cx="6166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6148440" y="5288040"/>
                  <a:ext cx="70128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7200" y="5798520"/>
                <a:ext cx="2731320" cy="510480"/>
                <a:chOff x="7200" y="5798520"/>
                <a:chExt cx="2731320" cy="51048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48960" y="5798520"/>
                  <a:ext cx="2646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Gestion administrative du personnel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7200" y="5798520"/>
                  <a:ext cx="273132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2738520" y="5798520"/>
                <a:ext cx="309600" cy="510480"/>
                <a:chOff x="2738520" y="5798520"/>
                <a:chExt cx="309600" cy="51048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2780280" y="57985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2738520" y="57985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3048480" y="5798520"/>
                <a:ext cx="309600" cy="510480"/>
                <a:chOff x="3048480" y="5798520"/>
                <a:chExt cx="309600" cy="51048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3090600" y="57985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048480" y="57985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3358440" y="5798520"/>
                <a:ext cx="309960" cy="510480"/>
                <a:chOff x="3358440" y="5798520"/>
                <a:chExt cx="309960" cy="51048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3400560" y="57985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358440" y="579852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3668400" y="5798520"/>
                <a:ext cx="309600" cy="510480"/>
                <a:chOff x="3668400" y="5798520"/>
                <a:chExt cx="309600" cy="51048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3710160" y="57985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668400" y="57985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3978360" y="5798520"/>
                <a:ext cx="309960" cy="510480"/>
                <a:chOff x="3978360" y="5798520"/>
                <a:chExt cx="309960" cy="51048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4020480" y="57985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978360" y="579852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4288680" y="5798520"/>
                <a:ext cx="309600" cy="510480"/>
                <a:chOff x="4288680" y="5798520"/>
                <a:chExt cx="309600" cy="51048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4330440" y="57985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4288680" y="57985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4598640" y="5798520"/>
                <a:ext cx="309600" cy="510480"/>
                <a:chOff x="4598640" y="5798520"/>
                <a:chExt cx="309600" cy="51048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4640760" y="57985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598640" y="57985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4908240" y="5798520"/>
                <a:ext cx="309960" cy="510480"/>
                <a:chOff x="4908240" y="5798520"/>
                <a:chExt cx="309960" cy="51048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4950360" y="57985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908240" y="579852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5218560" y="5798520"/>
                <a:ext cx="309600" cy="510480"/>
                <a:chOff x="5218560" y="5798520"/>
                <a:chExt cx="309600" cy="51048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5260320" y="57985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5218560" y="57985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5528520" y="5798520"/>
                <a:ext cx="309960" cy="510480"/>
                <a:chOff x="5528520" y="5798520"/>
                <a:chExt cx="309960" cy="51048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5570640" y="579852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5528520" y="579852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5838840" y="5798520"/>
                <a:ext cx="309600" cy="510480"/>
                <a:chOff x="5838840" y="5798520"/>
                <a:chExt cx="309600" cy="51048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5880600" y="579852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838840" y="579852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6148440" y="5798520"/>
                <a:ext cx="701280" cy="510480"/>
                <a:chOff x="6148440" y="5798520"/>
                <a:chExt cx="701280" cy="51048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6190560" y="5798520"/>
                  <a:ext cx="61668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4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148440" y="5798520"/>
                  <a:ext cx="70128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7200" y="6309360"/>
                <a:ext cx="2731320" cy="510120"/>
                <a:chOff x="7200" y="6309360"/>
                <a:chExt cx="2731320" cy="51012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48960" y="6309360"/>
                  <a:ext cx="2646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pérations de chang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7200" y="6309360"/>
                  <a:ext cx="273132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2738520" y="6309360"/>
                <a:ext cx="309600" cy="510120"/>
                <a:chOff x="2738520" y="6309360"/>
                <a:chExt cx="309600" cy="51012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2780280" y="63093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738520" y="63093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3048480" y="6309360"/>
                <a:ext cx="309600" cy="510120"/>
                <a:chOff x="3048480" y="6309360"/>
                <a:chExt cx="309600" cy="51012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3090600" y="63093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048480" y="63093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3358440" y="6309360"/>
                <a:ext cx="309960" cy="510120"/>
                <a:chOff x="3358440" y="6309360"/>
                <a:chExt cx="309960" cy="51012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3400560" y="63093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358440" y="63093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3668400" y="6309360"/>
                <a:ext cx="309600" cy="510120"/>
                <a:chOff x="3668400" y="6309360"/>
                <a:chExt cx="309600" cy="51012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3710160" y="63093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3668400" y="63093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3978360" y="6309360"/>
                <a:ext cx="309960" cy="510120"/>
                <a:chOff x="3978360" y="6309360"/>
                <a:chExt cx="309960" cy="5101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020480" y="63093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978360" y="63093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4288680" y="6309360"/>
                <a:ext cx="309600" cy="510120"/>
                <a:chOff x="4288680" y="6309360"/>
                <a:chExt cx="309600" cy="5101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4330440" y="63093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4288680" y="63093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4598640" y="6309360"/>
                <a:ext cx="309600" cy="510120"/>
                <a:chOff x="4598640" y="6309360"/>
                <a:chExt cx="309600" cy="51012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4640760" y="63093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4598640" y="63093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4908240" y="6309360"/>
                <a:ext cx="309960" cy="510120"/>
                <a:chOff x="4908240" y="6309360"/>
                <a:chExt cx="309960" cy="51012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4950360" y="63093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4908240" y="63093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5218560" y="6309360"/>
                <a:ext cx="309600" cy="510120"/>
                <a:chOff x="5218560" y="6309360"/>
                <a:chExt cx="309600" cy="51012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5260320" y="63093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218560" y="63093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5528520" y="6309360"/>
                <a:ext cx="309960" cy="510120"/>
                <a:chOff x="5528520" y="6309360"/>
                <a:chExt cx="309960" cy="51012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5570640" y="630936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5528520" y="630936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5838840" y="6309360"/>
                <a:ext cx="309600" cy="510120"/>
                <a:chOff x="5838840" y="6309360"/>
                <a:chExt cx="309600" cy="51012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5880600" y="630936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838840" y="630936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6148440" y="6309360"/>
                <a:ext cx="701280" cy="510120"/>
                <a:chOff x="6148440" y="6309360"/>
                <a:chExt cx="701280" cy="51012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6190560" y="6309360"/>
                  <a:ext cx="6166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148440" y="6309360"/>
                  <a:ext cx="70128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7200" y="6819840"/>
                <a:ext cx="2731320" cy="510480"/>
                <a:chOff x="7200" y="6819840"/>
                <a:chExt cx="2731320" cy="51048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48960" y="6819840"/>
                  <a:ext cx="2646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Gestion de l’encaiss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7200" y="6819840"/>
                  <a:ext cx="273132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2738520" y="6819840"/>
                <a:ext cx="309600" cy="510480"/>
                <a:chOff x="2738520" y="6819840"/>
                <a:chExt cx="309600" cy="51048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2780280" y="68198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738520" y="68198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3048480" y="6819840"/>
                <a:ext cx="309600" cy="510480"/>
                <a:chOff x="3048480" y="6819840"/>
                <a:chExt cx="309600" cy="51048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3090600" y="68198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048480" y="68198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3358440" y="6819840"/>
                <a:ext cx="309960" cy="510480"/>
                <a:chOff x="3358440" y="6819840"/>
                <a:chExt cx="309960" cy="51048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3400560" y="68198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358440" y="681984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3668400" y="6819840"/>
                <a:ext cx="309600" cy="510480"/>
                <a:chOff x="3668400" y="6819840"/>
                <a:chExt cx="309600" cy="51048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3710160" y="68198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668400" y="68198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3978360" y="6819840"/>
                <a:ext cx="309960" cy="510480"/>
                <a:chOff x="3978360" y="6819840"/>
                <a:chExt cx="309960" cy="51048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4020480" y="68198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978360" y="681984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"/>
              <p:cNvGrpSpPr/>
              <p:nvPr/>
            </p:nvGrpSpPr>
            <p:grpSpPr>
              <a:xfrm>
                <a:off x="4288680" y="6819840"/>
                <a:ext cx="309600" cy="510480"/>
                <a:chOff x="4288680" y="6819840"/>
                <a:chExt cx="309600" cy="51048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4330440" y="68198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4288680" y="68198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4598640" y="6819840"/>
                <a:ext cx="309600" cy="510480"/>
                <a:chOff x="4598640" y="6819840"/>
                <a:chExt cx="309600" cy="51048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4640760" y="68198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598640" y="68198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4908240" y="6819840"/>
                <a:ext cx="309960" cy="510480"/>
                <a:chOff x="4908240" y="6819840"/>
                <a:chExt cx="309960" cy="51048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4950360" y="68198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908240" y="681984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5218560" y="6819840"/>
                <a:ext cx="309600" cy="510480"/>
                <a:chOff x="5218560" y="6819840"/>
                <a:chExt cx="309600" cy="51048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5260320" y="68198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5218560" y="68198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"/>
              <p:cNvGrpSpPr/>
              <p:nvPr/>
            </p:nvGrpSpPr>
            <p:grpSpPr>
              <a:xfrm>
                <a:off x="5528520" y="6819840"/>
                <a:ext cx="309960" cy="510480"/>
                <a:chOff x="5528520" y="6819840"/>
                <a:chExt cx="309960" cy="51048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5570640" y="681984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5528520" y="681984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5838840" y="6819840"/>
                <a:ext cx="309600" cy="510480"/>
                <a:chOff x="5838840" y="6819840"/>
                <a:chExt cx="309600" cy="51048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5880600" y="681984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5838840" y="681984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" name=""/>
              <p:cNvGrpSpPr/>
              <p:nvPr/>
            </p:nvGrpSpPr>
            <p:grpSpPr>
              <a:xfrm>
                <a:off x="6148440" y="6819840"/>
                <a:ext cx="701280" cy="510480"/>
                <a:chOff x="6148440" y="6819840"/>
                <a:chExt cx="701280" cy="51048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6190560" y="6819840"/>
                  <a:ext cx="61668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148440" y="6819840"/>
                  <a:ext cx="70128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7200" y="7330680"/>
                <a:ext cx="2731320" cy="510120"/>
                <a:chOff x="7200" y="7330680"/>
                <a:chExt cx="2731320" cy="51012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48960" y="7330680"/>
                  <a:ext cx="2646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Gestion des pièces comptable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200" y="7330680"/>
                  <a:ext cx="273132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2738520" y="7330680"/>
                <a:ext cx="309600" cy="510120"/>
                <a:chOff x="2738520" y="7330680"/>
                <a:chExt cx="309600" cy="51012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2780280" y="73306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738520" y="73306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3048480" y="7330680"/>
                <a:ext cx="309600" cy="510120"/>
                <a:chOff x="3048480" y="7330680"/>
                <a:chExt cx="309600" cy="51012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3090600" y="73306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048480" y="73306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3358440" y="7330680"/>
                <a:ext cx="309960" cy="510120"/>
                <a:chOff x="3358440" y="7330680"/>
                <a:chExt cx="309960" cy="51012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3400560" y="73306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358440" y="733068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3668400" y="7330680"/>
                <a:ext cx="309600" cy="510120"/>
                <a:chOff x="3668400" y="7330680"/>
                <a:chExt cx="309600" cy="51012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3710160" y="73306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668400" y="73306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3978360" y="7330680"/>
                <a:ext cx="309960" cy="510120"/>
                <a:chOff x="3978360" y="7330680"/>
                <a:chExt cx="309960" cy="51012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4020480" y="73306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978360" y="733068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"/>
              <p:cNvGrpSpPr/>
              <p:nvPr/>
            </p:nvGrpSpPr>
            <p:grpSpPr>
              <a:xfrm>
                <a:off x="4288680" y="7330680"/>
                <a:ext cx="309600" cy="510120"/>
                <a:chOff x="4288680" y="7330680"/>
                <a:chExt cx="309600" cy="51012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4330440" y="73306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4288680" y="73306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4598640" y="7330680"/>
                <a:ext cx="309600" cy="510120"/>
                <a:chOff x="4598640" y="7330680"/>
                <a:chExt cx="309600" cy="51012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4640760" y="73306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598640" y="73306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4908240" y="7330680"/>
                <a:ext cx="309960" cy="510120"/>
                <a:chOff x="4908240" y="7330680"/>
                <a:chExt cx="309960" cy="51012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4950360" y="73306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908240" y="733068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5218560" y="7330680"/>
                <a:ext cx="309600" cy="510120"/>
                <a:chOff x="5218560" y="7330680"/>
                <a:chExt cx="309600" cy="51012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5260320" y="73306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5218560" y="73306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5528520" y="7330680"/>
                <a:ext cx="309960" cy="510120"/>
                <a:chOff x="5528520" y="7330680"/>
                <a:chExt cx="309960" cy="51012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5570640" y="7330680"/>
                  <a:ext cx="2253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5528520" y="7330680"/>
                  <a:ext cx="30996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5838840" y="7330680"/>
                <a:ext cx="309600" cy="510120"/>
                <a:chOff x="5838840" y="7330680"/>
                <a:chExt cx="309600" cy="51012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5880600" y="7330680"/>
                  <a:ext cx="2257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5838840" y="7330680"/>
                  <a:ext cx="30960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6148440" y="7330680"/>
                <a:ext cx="701280" cy="510120"/>
                <a:chOff x="6148440" y="7330680"/>
                <a:chExt cx="701280" cy="51012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6190560" y="7330680"/>
                  <a:ext cx="6166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4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6148440" y="7330680"/>
                  <a:ext cx="701280" cy="51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7200" y="7841160"/>
                <a:ext cx="2731320" cy="510480"/>
                <a:chOff x="7200" y="7841160"/>
                <a:chExt cx="2731320" cy="51048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48960" y="7841160"/>
                  <a:ext cx="2646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Traitements administratif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7200" y="7841160"/>
                  <a:ext cx="273132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2738520" y="7841160"/>
                <a:ext cx="309600" cy="510480"/>
                <a:chOff x="2738520" y="7841160"/>
                <a:chExt cx="309600" cy="51048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2780280" y="78411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738520" y="78411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3048480" y="7841160"/>
                <a:ext cx="309600" cy="510480"/>
                <a:chOff x="3048480" y="7841160"/>
                <a:chExt cx="309600" cy="51048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3090600" y="78411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048480" y="78411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8" name=""/>
              <p:cNvGrpSpPr/>
              <p:nvPr/>
            </p:nvGrpSpPr>
            <p:grpSpPr>
              <a:xfrm>
                <a:off x="3358440" y="7841160"/>
                <a:ext cx="309960" cy="510480"/>
                <a:chOff x="3358440" y="7841160"/>
                <a:chExt cx="309960" cy="51048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3400560" y="78411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3358440" y="784116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1" name=""/>
              <p:cNvGrpSpPr/>
              <p:nvPr/>
            </p:nvGrpSpPr>
            <p:grpSpPr>
              <a:xfrm>
                <a:off x="3668400" y="7841160"/>
                <a:ext cx="309600" cy="510480"/>
                <a:chOff x="3668400" y="7841160"/>
                <a:chExt cx="309600" cy="51048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3710160" y="78411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668400" y="78411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3978360" y="7841160"/>
                <a:ext cx="309960" cy="510480"/>
                <a:chOff x="3978360" y="7841160"/>
                <a:chExt cx="309960" cy="51048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4020480" y="78411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978360" y="784116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4288680" y="7841160"/>
                <a:ext cx="309600" cy="510480"/>
                <a:chOff x="4288680" y="7841160"/>
                <a:chExt cx="309600" cy="51048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4330440" y="78411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4288680" y="78411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4598640" y="7841160"/>
                <a:ext cx="309600" cy="510480"/>
                <a:chOff x="4598640" y="7841160"/>
                <a:chExt cx="309600" cy="51048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4640760" y="78411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598640" y="78411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4908240" y="7841160"/>
                <a:ext cx="309960" cy="510480"/>
                <a:chOff x="4908240" y="7841160"/>
                <a:chExt cx="309960" cy="51048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4950360" y="78411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4908240" y="784116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6" name=""/>
              <p:cNvGrpSpPr/>
              <p:nvPr/>
            </p:nvGrpSpPr>
            <p:grpSpPr>
              <a:xfrm>
                <a:off x="5218560" y="7841160"/>
                <a:ext cx="309600" cy="510480"/>
                <a:chOff x="5218560" y="7841160"/>
                <a:chExt cx="309600" cy="51048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5260320" y="78411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5218560" y="78411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9" name=""/>
              <p:cNvGrpSpPr/>
              <p:nvPr/>
            </p:nvGrpSpPr>
            <p:grpSpPr>
              <a:xfrm>
                <a:off x="5528520" y="7841160"/>
                <a:ext cx="309960" cy="510480"/>
                <a:chOff x="5528520" y="7841160"/>
                <a:chExt cx="309960" cy="51048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5570640" y="7841160"/>
                  <a:ext cx="22536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528520" y="7841160"/>
                  <a:ext cx="30996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5838840" y="7841160"/>
                <a:ext cx="309600" cy="510480"/>
                <a:chOff x="5838840" y="7841160"/>
                <a:chExt cx="309600" cy="51048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5880600" y="7841160"/>
                  <a:ext cx="22572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O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5838840" y="7841160"/>
                  <a:ext cx="30960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6148440" y="7841160"/>
                <a:ext cx="701280" cy="510480"/>
                <a:chOff x="6148440" y="7841160"/>
                <a:chExt cx="701280" cy="51048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6190560" y="7841160"/>
                  <a:ext cx="616680" cy="51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4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6148440" y="7841160"/>
                  <a:ext cx="701280" cy="51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7200" y="8351640"/>
                <a:ext cx="2731320" cy="785160"/>
                <a:chOff x="7200" y="8351640"/>
                <a:chExt cx="2731320" cy="78516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48960" y="8351640"/>
                  <a:ext cx="264672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Diversité par personn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7200" y="8351640"/>
                  <a:ext cx="273132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2738520" y="8351640"/>
                <a:ext cx="309600" cy="785160"/>
                <a:chOff x="2738520" y="8351640"/>
                <a:chExt cx="309600" cy="785160"/>
              </a:xfrm>
            </p:grpSpPr>
            <p:sp>
              <p:nvSpPr>
                <p:cNvPr id="632" name=""/>
                <p:cNvSpPr/>
                <p:nvPr/>
              </p:nvSpPr>
              <p:spPr>
                <a:xfrm>
                  <a:off x="2780280" y="8351640"/>
                  <a:ext cx="22572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6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2738520" y="8351640"/>
                  <a:ext cx="30960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3048480" y="8351640"/>
                <a:ext cx="309600" cy="785160"/>
                <a:chOff x="3048480" y="8351640"/>
                <a:chExt cx="309600" cy="78516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3090600" y="8351640"/>
                  <a:ext cx="22536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10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3048480" y="8351640"/>
                  <a:ext cx="30960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3358440" y="8351640"/>
                <a:ext cx="309960" cy="785160"/>
                <a:chOff x="3358440" y="8351640"/>
                <a:chExt cx="309960" cy="78516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3400560" y="8351640"/>
                  <a:ext cx="22536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3358440" y="8351640"/>
                  <a:ext cx="30996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3668400" y="8351640"/>
                <a:ext cx="309600" cy="785160"/>
                <a:chOff x="3668400" y="8351640"/>
                <a:chExt cx="309600" cy="78516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3710160" y="8351640"/>
                  <a:ext cx="22572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668400" y="8351640"/>
                  <a:ext cx="30960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3" name=""/>
              <p:cNvGrpSpPr/>
              <p:nvPr/>
            </p:nvGrpSpPr>
            <p:grpSpPr>
              <a:xfrm>
                <a:off x="3978360" y="8351640"/>
                <a:ext cx="309960" cy="785160"/>
                <a:chOff x="3978360" y="8351640"/>
                <a:chExt cx="309960" cy="78516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4020480" y="8351640"/>
                  <a:ext cx="22536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978360" y="8351640"/>
                  <a:ext cx="30996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6" name=""/>
              <p:cNvGrpSpPr/>
              <p:nvPr/>
            </p:nvGrpSpPr>
            <p:grpSpPr>
              <a:xfrm>
                <a:off x="4288680" y="8351640"/>
                <a:ext cx="309600" cy="785160"/>
                <a:chOff x="4288680" y="8351640"/>
                <a:chExt cx="309600" cy="78516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4330440" y="8351640"/>
                  <a:ext cx="22572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4288680" y="8351640"/>
                  <a:ext cx="30960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4598640" y="8351640"/>
                <a:ext cx="309600" cy="785160"/>
                <a:chOff x="4598640" y="8351640"/>
                <a:chExt cx="309600" cy="78516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4640760" y="8351640"/>
                  <a:ext cx="22536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5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598640" y="8351640"/>
                  <a:ext cx="30960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4908240" y="8351640"/>
                <a:ext cx="309960" cy="785160"/>
                <a:chOff x="4908240" y="8351640"/>
                <a:chExt cx="309960" cy="78516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4950360" y="8351640"/>
                  <a:ext cx="22536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5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4908240" y="8351640"/>
                  <a:ext cx="30996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5218560" y="8351640"/>
                <a:ext cx="309600" cy="785160"/>
                <a:chOff x="5218560" y="8351640"/>
                <a:chExt cx="309600" cy="78516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5260320" y="8351640"/>
                  <a:ext cx="22572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5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5218560" y="8351640"/>
                  <a:ext cx="30960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8" name=""/>
              <p:cNvGrpSpPr/>
              <p:nvPr/>
            </p:nvGrpSpPr>
            <p:grpSpPr>
              <a:xfrm>
                <a:off x="5528520" y="8351640"/>
                <a:ext cx="309960" cy="785160"/>
                <a:chOff x="5528520" y="8351640"/>
                <a:chExt cx="309960" cy="78516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5570640" y="8351640"/>
                  <a:ext cx="22536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5528520" y="8351640"/>
                  <a:ext cx="30996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5838840" y="8351640"/>
                <a:ext cx="309600" cy="785160"/>
                <a:chOff x="5838840" y="8351640"/>
                <a:chExt cx="309600" cy="78516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5880600" y="8351640"/>
                  <a:ext cx="22572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5838840" y="8351640"/>
                  <a:ext cx="30960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" name=""/>
              <p:cNvGrpSpPr/>
              <p:nvPr/>
            </p:nvGrpSpPr>
            <p:grpSpPr>
              <a:xfrm>
                <a:off x="6148440" y="8351640"/>
                <a:ext cx="701280" cy="785160"/>
                <a:chOff x="6148440" y="8351640"/>
                <a:chExt cx="701280" cy="78516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6190560" y="8351640"/>
                  <a:ext cx="616680" cy="78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46 / 15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6148440" y="8351640"/>
                  <a:ext cx="701280" cy="78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67" name=""/>
            <p:cNvSpPr/>
            <p:nvPr/>
          </p:nvSpPr>
          <p:spPr>
            <a:xfrm>
              <a:off x="0" y="0"/>
              <a:ext cx="6858000" cy="9144000"/>
            </a:xfrm>
            <a:prstGeom prst="rect">
              <a:avLst/>
            </a:prstGeom>
            <a:noFill/>
            <a:ln w="158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9T11:30:46Z</dcterms:created>
  <dc:creator>MADERS</dc:creator>
  <dc:description/>
  <dc:language>en-US</dc:language>
  <cp:lastModifiedBy>MADERS</cp:lastModifiedBy>
  <dcterms:modified xsi:type="dcterms:W3CDTF">2002-03-09T11:32:30Z</dcterms:modified>
  <cp:revision>2</cp:revision>
  <dc:subject/>
  <dc:title>Présentation PowerPoint</dc:title>
</cp:coreProperties>
</file>