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7FCE-A839-4F68-A3DA-36AF1E04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53C1-5851-430D-9F19-CC4E624F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0FB9-1647-466A-B4F9-6C803A4F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81BC-F676-40C9-8C3A-9EE0E3371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546F-AB51-4E09-B0FA-8FE3AC03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5443-F114-48B9-A67F-1D13A470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E5DE-2A3F-4543-87EB-62116EFF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14B1-F9CC-42E0-9CB4-C69EFF78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ACA4-B895-4B3F-8623-482A705B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AF3D-167A-44D8-9DAD-256EBCE5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DB83-9B10-4AF5-A137-18DA8638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A861-6ADD-43DD-8A4A-8464E5FB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C1EF-1DE8-4FFC-8871-25551F734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grpSp>
          <p:nvGrpSpPr>
            <p:cNvPr id="42" name=""/>
            <p:cNvGrpSpPr/>
            <p:nvPr/>
          </p:nvGrpSpPr>
          <p:grpSpPr>
            <a:xfrm>
              <a:off x="7200" y="6120"/>
              <a:ext cx="6842520" cy="9130680"/>
              <a:chOff x="7200" y="6120"/>
              <a:chExt cx="6842520" cy="913068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7200" y="6120"/>
                <a:ext cx="2731320" cy="1059840"/>
                <a:chOff x="7200" y="6120"/>
                <a:chExt cx="2731320" cy="105984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48960" y="6120"/>
                  <a:ext cx="264672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ctivité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7200" y="6120"/>
                  <a:ext cx="273132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" name=""/>
              <p:cNvGrpSpPr/>
              <p:nvPr/>
            </p:nvGrpSpPr>
            <p:grpSpPr>
              <a:xfrm>
                <a:off x="2738520" y="6120"/>
                <a:ext cx="309600" cy="1059840"/>
                <a:chOff x="2738520" y="6120"/>
                <a:chExt cx="309600" cy="105984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2780280" y="6120"/>
                  <a:ext cx="22572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2738520" y="6120"/>
                  <a:ext cx="30960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" name=""/>
              <p:cNvGrpSpPr/>
              <p:nvPr/>
            </p:nvGrpSpPr>
            <p:grpSpPr>
              <a:xfrm>
                <a:off x="3048480" y="6120"/>
                <a:ext cx="309600" cy="1059840"/>
                <a:chOff x="3048480" y="6120"/>
                <a:chExt cx="309600" cy="105984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3090600" y="6120"/>
                  <a:ext cx="22536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B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3048480" y="6120"/>
                  <a:ext cx="30960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" name=""/>
              <p:cNvGrpSpPr/>
              <p:nvPr/>
            </p:nvGrpSpPr>
            <p:grpSpPr>
              <a:xfrm>
                <a:off x="3358440" y="6120"/>
                <a:ext cx="309960" cy="1059840"/>
                <a:chOff x="3358440" y="6120"/>
                <a:chExt cx="309960" cy="105984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3400560" y="6120"/>
                  <a:ext cx="22536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C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358440" y="6120"/>
                  <a:ext cx="30996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3668400" y="6120"/>
                <a:ext cx="309600" cy="1059840"/>
                <a:chOff x="3668400" y="6120"/>
                <a:chExt cx="309600" cy="105984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3710160" y="6120"/>
                  <a:ext cx="22572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D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3668400" y="6120"/>
                  <a:ext cx="30960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3978360" y="6120"/>
                <a:ext cx="309960" cy="1059840"/>
                <a:chOff x="3978360" y="6120"/>
                <a:chExt cx="309960" cy="10598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4020480" y="6120"/>
                  <a:ext cx="22536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978360" y="6120"/>
                  <a:ext cx="30996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4288680" y="6120"/>
                <a:ext cx="309600" cy="1059840"/>
                <a:chOff x="4288680" y="6120"/>
                <a:chExt cx="309600" cy="10598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4330440" y="6120"/>
                  <a:ext cx="22572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F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4288680" y="6120"/>
                  <a:ext cx="30960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4598640" y="6120"/>
                <a:ext cx="309600" cy="1059840"/>
                <a:chOff x="4598640" y="6120"/>
                <a:chExt cx="309600" cy="105984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640760" y="6120"/>
                  <a:ext cx="22536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598640" y="6120"/>
                  <a:ext cx="30960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4908240" y="6120"/>
                <a:ext cx="309960" cy="1059840"/>
                <a:chOff x="4908240" y="6120"/>
                <a:chExt cx="309960" cy="105984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4950360" y="6120"/>
                  <a:ext cx="22536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H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908240" y="6120"/>
                  <a:ext cx="30996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5218560" y="6120"/>
                <a:ext cx="309600" cy="1059840"/>
                <a:chOff x="5218560" y="6120"/>
                <a:chExt cx="309600" cy="10598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5260320" y="6120"/>
                  <a:ext cx="22572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I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218560" y="6120"/>
                  <a:ext cx="30960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5528520" y="6120"/>
                <a:ext cx="309960" cy="1059840"/>
                <a:chOff x="5528520" y="6120"/>
                <a:chExt cx="309960" cy="105984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5570640" y="6120"/>
                  <a:ext cx="22536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J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528520" y="6120"/>
                  <a:ext cx="30996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5838840" y="6120"/>
                <a:ext cx="309600" cy="1059840"/>
                <a:chOff x="5838840" y="6120"/>
                <a:chExt cx="309600" cy="105984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5880600" y="6120"/>
                  <a:ext cx="22572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K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838840" y="6120"/>
                  <a:ext cx="30960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6148440" y="6120"/>
                <a:ext cx="701280" cy="1059840"/>
                <a:chOff x="6148440" y="6120"/>
                <a:chExt cx="701280" cy="105984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6190560" y="6120"/>
                  <a:ext cx="61668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Couvertur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a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ctivité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148440" y="6120"/>
                  <a:ext cx="70128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7200" y="1065960"/>
                <a:ext cx="2731320" cy="648000"/>
                <a:chOff x="7200" y="1065960"/>
                <a:chExt cx="2731320" cy="64800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48960" y="1065960"/>
                  <a:ext cx="264672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nimation, gestion et organisation de l’agenc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200" y="1065960"/>
                  <a:ext cx="273132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2738520" y="1065960"/>
                <a:ext cx="309600" cy="648000"/>
                <a:chOff x="2738520" y="1065960"/>
                <a:chExt cx="309600" cy="64800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2780280" y="1065960"/>
                  <a:ext cx="22572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738520" y="1065960"/>
                  <a:ext cx="30960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3048480" y="1065960"/>
                <a:ext cx="309600" cy="648000"/>
                <a:chOff x="3048480" y="1065960"/>
                <a:chExt cx="309600" cy="64800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3090600" y="1065960"/>
                  <a:ext cx="22536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048480" y="1065960"/>
                  <a:ext cx="30960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3358440" y="1065960"/>
                <a:ext cx="309960" cy="648000"/>
                <a:chOff x="3358440" y="1065960"/>
                <a:chExt cx="309960" cy="64800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3400560" y="1065960"/>
                  <a:ext cx="22536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358440" y="1065960"/>
                  <a:ext cx="30996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3668400" y="1065960"/>
                <a:ext cx="309600" cy="648000"/>
                <a:chOff x="3668400" y="1065960"/>
                <a:chExt cx="309600" cy="64800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3710160" y="1065960"/>
                  <a:ext cx="22572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668400" y="1065960"/>
                  <a:ext cx="30960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3978360" y="1065960"/>
                <a:ext cx="309960" cy="648000"/>
                <a:chOff x="3978360" y="1065960"/>
                <a:chExt cx="309960" cy="64800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4020480" y="1065960"/>
                  <a:ext cx="22536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978360" y="1065960"/>
                  <a:ext cx="30996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4288680" y="1065960"/>
                <a:ext cx="309600" cy="648000"/>
                <a:chOff x="4288680" y="1065960"/>
                <a:chExt cx="309600" cy="64800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4330440" y="1065960"/>
                  <a:ext cx="22572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288680" y="1065960"/>
                  <a:ext cx="30960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4598640" y="1065960"/>
                <a:ext cx="309600" cy="648000"/>
                <a:chOff x="4598640" y="1065960"/>
                <a:chExt cx="309600" cy="6480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4640760" y="1065960"/>
                  <a:ext cx="22536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598640" y="1065960"/>
                  <a:ext cx="30960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908240" y="1065960"/>
                <a:ext cx="309960" cy="648000"/>
                <a:chOff x="4908240" y="1065960"/>
                <a:chExt cx="309960" cy="6480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950360" y="1065960"/>
                  <a:ext cx="22536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908240" y="1065960"/>
                  <a:ext cx="30996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218560" y="1065960"/>
                <a:ext cx="309600" cy="648000"/>
                <a:chOff x="5218560" y="1065960"/>
                <a:chExt cx="309600" cy="6480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260320" y="1065960"/>
                  <a:ext cx="22572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218560" y="1065960"/>
                  <a:ext cx="30960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528520" y="1065960"/>
                <a:ext cx="309960" cy="648000"/>
                <a:chOff x="5528520" y="1065960"/>
                <a:chExt cx="309960" cy="64800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570640" y="1065960"/>
                  <a:ext cx="22536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528520" y="1065960"/>
                  <a:ext cx="30996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5838840" y="1065960"/>
                <a:ext cx="309600" cy="648000"/>
                <a:chOff x="5838840" y="1065960"/>
                <a:chExt cx="309600" cy="6480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880600" y="1065960"/>
                  <a:ext cx="22572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838840" y="1065960"/>
                  <a:ext cx="30960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6148440" y="1065960"/>
                <a:ext cx="701280" cy="648000"/>
                <a:chOff x="6148440" y="1065960"/>
                <a:chExt cx="701280" cy="6480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6190560" y="1065960"/>
                  <a:ext cx="61668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148440" y="1065960"/>
                  <a:ext cx="70128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7200" y="1713960"/>
                <a:ext cx="2731320" cy="510120"/>
                <a:chOff x="7200" y="1713960"/>
                <a:chExt cx="2731320" cy="5101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8960" y="1713960"/>
                  <a:ext cx="2646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Suivi des engagements de l’agenc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200" y="1713960"/>
                  <a:ext cx="273132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2738520" y="1713960"/>
                <a:ext cx="309600" cy="510120"/>
                <a:chOff x="2738520" y="1713960"/>
                <a:chExt cx="309600" cy="5101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780280" y="17139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738520" y="17139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3048480" y="1713960"/>
                <a:ext cx="309600" cy="510120"/>
                <a:chOff x="3048480" y="1713960"/>
                <a:chExt cx="309600" cy="5101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090600" y="17139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048480" y="17139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3358440" y="1713960"/>
                <a:ext cx="309960" cy="510120"/>
                <a:chOff x="3358440" y="1713960"/>
                <a:chExt cx="309960" cy="51012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3400560" y="17139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358440" y="17139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668400" y="1713960"/>
                <a:ext cx="309600" cy="510120"/>
                <a:chOff x="3668400" y="1713960"/>
                <a:chExt cx="309600" cy="5101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710160" y="17139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668400" y="17139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3978360" y="1713960"/>
                <a:ext cx="309960" cy="510120"/>
                <a:chOff x="3978360" y="1713960"/>
                <a:chExt cx="309960" cy="5101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4020480" y="17139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978360" y="17139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4288680" y="1713960"/>
                <a:ext cx="309600" cy="510120"/>
                <a:chOff x="4288680" y="1713960"/>
                <a:chExt cx="309600" cy="5101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330440" y="17139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88680" y="17139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4598640" y="1713960"/>
                <a:ext cx="309600" cy="510120"/>
                <a:chOff x="4598640" y="1713960"/>
                <a:chExt cx="309600" cy="5101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4640760" y="17139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598640" y="17139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4908240" y="1713960"/>
                <a:ext cx="309960" cy="510120"/>
                <a:chOff x="4908240" y="1713960"/>
                <a:chExt cx="309960" cy="5101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4950360" y="17139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908240" y="17139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5218560" y="1713960"/>
                <a:ext cx="309600" cy="510120"/>
                <a:chOff x="5218560" y="1713960"/>
                <a:chExt cx="309600" cy="5101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5260320" y="17139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218560" y="17139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528520" y="1713960"/>
                <a:ext cx="309960" cy="510120"/>
                <a:chOff x="5528520" y="1713960"/>
                <a:chExt cx="309960" cy="5101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570640" y="17139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528520" y="17139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5838840" y="1713960"/>
                <a:ext cx="309600" cy="510120"/>
                <a:chOff x="5838840" y="1713960"/>
                <a:chExt cx="309600" cy="5101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5880600" y="17139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838840" y="17139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6148440" y="1713960"/>
                <a:ext cx="701280" cy="510120"/>
                <a:chOff x="6148440" y="1713960"/>
                <a:chExt cx="701280" cy="5101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190560" y="1713960"/>
                  <a:ext cx="6166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148440" y="1713960"/>
                  <a:ext cx="70128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7200" y="2224440"/>
                <a:ext cx="2731320" cy="510480"/>
                <a:chOff x="7200" y="2224440"/>
                <a:chExt cx="2731320" cy="5104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48960" y="2224440"/>
                  <a:ext cx="2646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ortefeuille entreprise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200" y="2224440"/>
                  <a:ext cx="273132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2738520" y="2224440"/>
                <a:ext cx="309600" cy="510480"/>
                <a:chOff x="2738520" y="2224440"/>
                <a:chExt cx="309600" cy="5104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2780280" y="22244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738520" y="22244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3048480" y="2224440"/>
                <a:ext cx="309600" cy="510480"/>
                <a:chOff x="3048480" y="2224440"/>
                <a:chExt cx="309600" cy="5104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3090600" y="22244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048480" y="22244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358440" y="2224440"/>
                <a:ext cx="309960" cy="510480"/>
                <a:chOff x="3358440" y="2224440"/>
                <a:chExt cx="309960" cy="5104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400560" y="22244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358440" y="222444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3668400" y="2224440"/>
                <a:ext cx="309600" cy="510480"/>
                <a:chOff x="3668400" y="2224440"/>
                <a:chExt cx="309600" cy="5104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3710160" y="22244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668400" y="22244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3978360" y="2224440"/>
                <a:ext cx="309960" cy="510480"/>
                <a:chOff x="3978360" y="2224440"/>
                <a:chExt cx="309960" cy="5104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4020480" y="22244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978360" y="222444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4288680" y="2224440"/>
                <a:ext cx="309600" cy="510480"/>
                <a:chOff x="4288680" y="2224440"/>
                <a:chExt cx="309600" cy="5104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4330440" y="22244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288680" y="22244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4598640" y="2224440"/>
                <a:ext cx="309600" cy="510480"/>
                <a:chOff x="4598640" y="2224440"/>
                <a:chExt cx="309600" cy="51048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4640760" y="22244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598640" y="22244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4908240" y="2224440"/>
                <a:ext cx="309960" cy="510480"/>
                <a:chOff x="4908240" y="2224440"/>
                <a:chExt cx="309960" cy="5104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4950360" y="22244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908240" y="222444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5218560" y="2224440"/>
                <a:ext cx="309600" cy="510480"/>
                <a:chOff x="5218560" y="2224440"/>
                <a:chExt cx="309600" cy="5104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5260320" y="22244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218560" y="22244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528520" y="2224440"/>
                <a:ext cx="309960" cy="510480"/>
                <a:chOff x="5528520" y="2224440"/>
                <a:chExt cx="309960" cy="5104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570640" y="22244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528520" y="222444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838840" y="2224440"/>
                <a:ext cx="309600" cy="510480"/>
                <a:chOff x="5838840" y="2224440"/>
                <a:chExt cx="309600" cy="5104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5880600" y="22244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838840" y="22244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6148440" y="2224440"/>
                <a:ext cx="701280" cy="510480"/>
                <a:chOff x="6148440" y="2224440"/>
                <a:chExt cx="701280" cy="5104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6190560" y="2224440"/>
                  <a:ext cx="61668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6148440" y="2224440"/>
                  <a:ext cx="70128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7200" y="2735280"/>
                <a:ext cx="2731320" cy="510120"/>
                <a:chOff x="7200" y="2735280"/>
                <a:chExt cx="2731320" cy="5101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48960" y="2735280"/>
                  <a:ext cx="2646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ortefeuille clients haut de gamm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200" y="2735280"/>
                  <a:ext cx="273132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2738520" y="2735280"/>
                <a:ext cx="309600" cy="510120"/>
                <a:chOff x="2738520" y="2735280"/>
                <a:chExt cx="309600" cy="5101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2780280" y="27352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738520" y="27352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048480" y="2735280"/>
                <a:ext cx="309600" cy="510120"/>
                <a:chOff x="3048480" y="2735280"/>
                <a:chExt cx="309600" cy="5101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090600" y="27352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048480" y="27352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3358440" y="2735280"/>
                <a:ext cx="309960" cy="510120"/>
                <a:chOff x="3358440" y="2735280"/>
                <a:chExt cx="309960" cy="5101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3400560" y="27352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358440" y="273528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668400" y="2735280"/>
                <a:ext cx="309600" cy="510120"/>
                <a:chOff x="3668400" y="2735280"/>
                <a:chExt cx="309600" cy="5101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710160" y="27352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668400" y="27352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978360" y="2735280"/>
                <a:ext cx="309960" cy="510120"/>
                <a:chOff x="3978360" y="2735280"/>
                <a:chExt cx="309960" cy="5101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4020480" y="27352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978360" y="273528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4288680" y="2735280"/>
                <a:ext cx="309600" cy="510120"/>
                <a:chOff x="4288680" y="2735280"/>
                <a:chExt cx="309600" cy="5101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4330440" y="27352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288680" y="27352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4598640" y="2735280"/>
                <a:ext cx="309600" cy="510120"/>
                <a:chOff x="4598640" y="2735280"/>
                <a:chExt cx="309600" cy="5101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4640760" y="27352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598640" y="27352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4908240" y="2735280"/>
                <a:ext cx="309960" cy="510120"/>
                <a:chOff x="4908240" y="2735280"/>
                <a:chExt cx="309960" cy="51012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4950360" y="27352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908240" y="273528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5218560" y="2735280"/>
                <a:ext cx="309600" cy="510120"/>
                <a:chOff x="5218560" y="2735280"/>
                <a:chExt cx="309600" cy="51012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260320" y="27352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218560" y="27352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5528520" y="2735280"/>
                <a:ext cx="309960" cy="510120"/>
                <a:chOff x="5528520" y="2735280"/>
                <a:chExt cx="309960" cy="51012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5570640" y="27352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528520" y="273528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5838840" y="2735280"/>
                <a:ext cx="309600" cy="510120"/>
                <a:chOff x="5838840" y="2735280"/>
                <a:chExt cx="309600" cy="5101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5880600" y="27352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838840" y="27352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6148440" y="2735280"/>
                <a:ext cx="701280" cy="510120"/>
                <a:chOff x="6148440" y="2735280"/>
                <a:chExt cx="701280" cy="5101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190560" y="2735280"/>
                  <a:ext cx="6166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148440" y="2735280"/>
                  <a:ext cx="70128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7200" y="3245760"/>
                <a:ext cx="2731320" cy="510480"/>
                <a:chOff x="7200" y="3245760"/>
                <a:chExt cx="2731320" cy="51048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48960" y="3245760"/>
                  <a:ext cx="2646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ortefeuille particulier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200" y="3245760"/>
                  <a:ext cx="273132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2738520" y="3245760"/>
                <a:ext cx="309600" cy="510480"/>
                <a:chOff x="2738520" y="3245760"/>
                <a:chExt cx="309600" cy="51048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2780280" y="32457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738520" y="32457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3048480" y="3245760"/>
                <a:ext cx="309600" cy="510480"/>
                <a:chOff x="3048480" y="3245760"/>
                <a:chExt cx="309600" cy="51048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090600" y="32457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048480" y="32457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3358440" y="3245760"/>
                <a:ext cx="309960" cy="510480"/>
                <a:chOff x="3358440" y="3245760"/>
                <a:chExt cx="309960" cy="5104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3400560" y="32457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358440" y="324576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3668400" y="3245760"/>
                <a:ext cx="309600" cy="510480"/>
                <a:chOff x="3668400" y="3245760"/>
                <a:chExt cx="309600" cy="51048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3710160" y="32457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668400" y="32457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3978360" y="3245760"/>
                <a:ext cx="309960" cy="510480"/>
                <a:chOff x="3978360" y="3245760"/>
                <a:chExt cx="309960" cy="51048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4020480" y="32457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978360" y="324576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4288680" y="3245760"/>
                <a:ext cx="309600" cy="510480"/>
                <a:chOff x="4288680" y="3245760"/>
                <a:chExt cx="309600" cy="5104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330440" y="32457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288680" y="32457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4598640" y="3245760"/>
                <a:ext cx="309600" cy="510480"/>
                <a:chOff x="4598640" y="3245760"/>
                <a:chExt cx="309600" cy="51048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4640760" y="32457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598640" y="32457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4908240" y="3245760"/>
                <a:ext cx="309960" cy="510480"/>
                <a:chOff x="4908240" y="3245760"/>
                <a:chExt cx="309960" cy="5104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4950360" y="32457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908240" y="324576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5218560" y="3245760"/>
                <a:ext cx="309600" cy="510480"/>
                <a:chOff x="5218560" y="3245760"/>
                <a:chExt cx="309600" cy="51048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5260320" y="32457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218560" y="32457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5528520" y="3245760"/>
                <a:ext cx="309960" cy="510480"/>
                <a:chOff x="5528520" y="3245760"/>
                <a:chExt cx="309960" cy="51048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5570640" y="32457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528520" y="324576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5838840" y="3245760"/>
                <a:ext cx="309600" cy="510480"/>
                <a:chOff x="5838840" y="3245760"/>
                <a:chExt cx="309600" cy="51048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5880600" y="32457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838840" y="32457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6148440" y="3245760"/>
                <a:ext cx="701280" cy="510480"/>
                <a:chOff x="6148440" y="3245760"/>
                <a:chExt cx="701280" cy="51048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6190560" y="3245760"/>
                  <a:ext cx="61668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5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148440" y="3245760"/>
                  <a:ext cx="70128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7200" y="3756600"/>
                <a:ext cx="2731320" cy="510120"/>
                <a:chOff x="7200" y="3756600"/>
                <a:chExt cx="2731320" cy="51012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48960" y="3756600"/>
                  <a:ext cx="2646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pérations de caiss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200" y="3756600"/>
                  <a:ext cx="273132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2738520" y="3756600"/>
                <a:ext cx="309600" cy="510120"/>
                <a:chOff x="2738520" y="3756600"/>
                <a:chExt cx="309600" cy="51012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2780280" y="375660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738520" y="375660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3048480" y="3756600"/>
                <a:ext cx="309600" cy="510120"/>
                <a:chOff x="3048480" y="3756600"/>
                <a:chExt cx="309600" cy="51012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3090600" y="375660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048480" y="375660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3358440" y="3756600"/>
                <a:ext cx="309960" cy="510120"/>
                <a:chOff x="3358440" y="3756600"/>
                <a:chExt cx="309960" cy="51012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3400560" y="375660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358440" y="375660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668400" y="3756600"/>
                <a:ext cx="309600" cy="510120"/>
                <a:chOff x="3668400" y="3756600"/>
                <a:chExt cx="309600" cy="51012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710160" y="375660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668400" y="375660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3978360" y="3756600"/>
                <a:ext cx="309960" cy="510120"/>
                <a:chOff x="3978360" y="3756600"/>
                <a:chExt cx="309960" cy="51012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4020480" y="375660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978360" y="375660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4288680" y="3756600"/>
                <a:ext cx="309600" cy="510120"/>
                <a:chOff x="4288680" y="3756600"/>
                <a:chExt cx="309600" cy="51012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4330440" y="375660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288680" y="375660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4598640" y="3756600"/>
                <a:ext cx="309600" cy="510120"/>
                <a:chOff x="4598640" y="3756600"/>
                <a:chExt cx="309600" cy="51012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4640760" y="375660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598640" y="375660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4908240" y="3756600"/>
                <a:ext cx="309960" cy="510120"/>
                <a:chOff x="4908240" y="3756600"/>
                <a:chExt cx="309960" cy="51012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4950360" y="375660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908240" y="375660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5218560" y="3756600"/>
                <a:ext cx="309600" cy="510120"/>
                <a:chOff x="5218560" y="3756600"/>
                <a:chExt cx="309600" cy="51012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5260320" y="375660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218560" y="375660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5528520" y="3756600"/>
                <a:ext cx="309960" cy="510120"/>
                <a:chOff x="5528520" y="3756600"/>
                <a:chExt cx="309960" cy="51012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5570640" y="375660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528520" y="375660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5838840" y="3756600"/>
                <a:ext cx="309600" cy="510120"/>
                <a:chOff x="5838840" y="3756600"/>
                <a:chExt cx="309600" cy="51012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5880600" y="375660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838840" y="375660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6148440" y="3756600"/>
                <a:ext cx="701280" cy="510120"/>
                <a:chOff x="6148440" y="3756600"/>
                <a:chExt cx="701280" cy="5101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6190560" y="3756600"/>
                  <a:ext cx="6166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0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148440" y="3756600"/>
                  <a:ext cx="70128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7200" y="4266720"/>
                <a:ext cx="2731320" cy="510480"/>
                <a:chOff x="7200" y="4266720"/>
                <a:chExt cx="2731320" cy="51048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48960" y="4266720"/>
                  <a:ext cx="2646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ccueil client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200" y="4266720"/>
                  <a:ext cx="273132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738520" y="4266720"/>
                <a:ext cx="309600" cy="510480"/>
                <a:chOff x="2738520" y="4266720"/>
                <a:chExt cx="309600" cy="51048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780280" y="42667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738520" y="42667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048480" y="4266720"/>
                <a:ext cx="309600" cy="510480"/>
                <a:chOff x="3048480" y="4266720"/>
                <a:chExt cx="309600" cy="51048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3090600" y="42667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048480" y="42667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3358440" y="4266720"/>
                <a:ext cx="309960" cy="510480"/>
                <a:chOff x="3358440" y="4266720"/>
                <a:chExt cx="309960" cy="51048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3400560" y="42667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358440" y="426672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3668400" y="4266720"/>
                <a:ext cx="309600" cy="510480"/>
                <a:chOff x="3668400" y="4266720"/>
                <a:chExt cx="309600" cy="51048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3710160" y="42667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668400" y="42667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3978360" y="4266720"/>
                <a:ext cx="309960" cy="510480"/>
                <a:chOff x="3978360" y="4266720"/>
                <a:chExt cx="309960" cy="51048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4020480" y="42667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978360" y="426672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4288680" y="4266720"/>
                <a:ext cx="309600" cy="510480"/>
                <a:chOff x="4288680" y="4266720"/>
                <a:chExt cx="309600" cy="51048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4330440" y="42667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288680" y="42667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4598640" y="4266720"/>
                <a:ext cx="309600" cy="510480"/>
                <a:chOff x="4598640" y="4266720"/>
                <a:chExt cx="309600" cy="51048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4640760" y="42667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598640" y="42667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4908240" y="4266720"/>
                <a:ext cx="309960" cy="510480"/>
                <a:chOff x="4908240" y="4266720"/>
                <a:chExt cx="309960" cy="51048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4950360" y="42667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908240" y="426672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5218560" y="4266720"/>
                <a:ext cx="309600" cy="510480"/>
                <a:chOff x="5218560" y="4266720"/>
                <a:chExt cx="309600" cy="51048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5260320" y="42667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218560" y="42667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5528520" y="4266720"/>
                <a:ext cx="309960" cy="510480"/>
                <a:chOff x="5528520" y="4266720"/>
                <a:chExt cx="309960" cy="51048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5570640" y="42667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5528520" y="426672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5838840" y="4266720"/>
                <a:ext cx="309600" cy="510480"/>
                <a:chOff x="5838840" y="4266720"/>
                <a:chExt cx="309600" cy="51048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5880600" y="42667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838840" y="42667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6148440" y="4266720"/>
                <a:ext cx="701280" cy="510480"/>
                <a:chOff x="6148440" y="4266720"/>
                <a:chExt cx="701280" cy="51048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6190560" y="4266720"/>
                  <a:ext cx="61668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148440" y="4266720"/>
                  <a:ext cx="70128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7200" y="4777560"/>
                <a:ext cx="2731320" cy="510120"/>
                <a:chOff x="7200" y="4777560"/>
                <a:chExt cx="2731320" cy="51012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48960" y="4777560"/>
                  <a:ext cx="2646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Standard téléphoniqu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200" y="4777560"/>
                  <a:ext cx="273132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2738520" y="4777560"/>
                <a:ext cx="309600" cy="510120"/>
                <a:chOff x="2738520" y="4777560"/>
                <a:chExt cx="309600" cy="51012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2780280" y="47775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738520" y="47775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3048480" y="4777560"/>
                <a:ext cx="309600" cy="510120"/>
                <a:chOff x="3048480" y="4777560"/>
                <a:chExt cx="309600" cy="51012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3090600" y="47775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3048480" y="47775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3358440" y="4777560"/>
                <a:ext cx="309960" cy="510120"/>
                <a:chOff x="3358440" y="4777560"/>
                <a:chExt cx="309960" cy="5101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3400560" y="47775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358440" y="47775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3668400" y="4777560"/>
                <a:ext cx="309600" cy="510120"/>
                <a:chOff x="3668400" y="4777560"/>
                <a:chExt cx="309600" cy="51012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3710160" y="47775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668400" y="47775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3978360" y="4777560"/>
                <a:ext cx="309960" cy="510120"/>
                <a:chOff x="3978360" y="4777560"/>
                <a:chExt cx="309960" cy="51012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4020480" y="47775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3978360" y="47775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4288680" y="4777560"/>
                <a:ext cx="309600" cy="510120"/>
                <a:chOff x="4288680" y="4777560"/>
                <a:chExt cx="309600" cy="51012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4330440" y="47775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288680" y="47775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4598640" y="4777560"/>
                <a:ext cx="309600" cy="510120"/>
                <a:chOff x="4598640" y="4777560"/>
                <a:chExt cx="309600" cy="5101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4640760" y="47775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598640" y="47775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4908240" y="4777560"/>
                <a:ext cx="309960" cy="510120"/>
                <a:chOff x="4908240" y="4777560"/>
                <a:chExt cx="309960" cy="5101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4950360" y="47775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908240" y="47775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5218560" y="4777560"/>
                <a:ext cx="309600" cy="510120"/>
                <a:chOff x="5218560" y="4777560"/>
                <a:chExt cx="309600" cy="51012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5260320" y="47775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218560" y="47775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5528520" y="4777560"/>
                <a:ext cx="309960" cy="510120"/>
                <a:chOff x="5528520" y="4777560"/>
                <a:chExt cx="309960" cy="5101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570640" y="47775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528520" y="47775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5838840" y="4777560"/>
                <a:ext cx="309600" cy="510120"/>
                <a:chOff x="5838840" y="4777560"/>
                <a:chExt cx="309600" cy="51012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5880600" y="47775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838840" y="47775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6148440" y="4777560"/>
                <a:ext cx="701280" cy="510120"/>
                <a:chOff x="6148440" y="4777560"/>
                <a:chExt cx="701280" cy="5101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6190560" y="4777560"/>
                  <a:ext cx="6166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148440" y="4777560"/>
                  <a:ext cx="70128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7200" y="5288040"/>
                <a:ext cx="2731320" cy="510120"/>
                <a:chOff x="7200" y="5288040"/>
                <a:chExt cx="2731320" cy="5101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48960" y="5288040"/>
                  <a:ext cx="2646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Dactylographie courrier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200" y="5288040"/>
                  <a:ext cx="273132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2738520" y="5288040"/>
                <a:ext cx="309600" cy="510120"/>
                <a:chOff x="2738520" y="5288040"/>
                <a:chExt cx="309600" cy="5101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2780280" y="528804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738520" y="528804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3048480" y="5288040"/>
                <a:ext cx="309600" cy="510120"/>
                <a:chOff x="3048480" y="5288040"/>
                <a:chExt cx="309600" cy="5101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3090600" y="528804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048480" y="528804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3358440" y="5288040"/>
                <a:ext cx="309960" cy="510120"/>
                <a:chOff x="3358440" y="5288040"/>
                <a:chExt cx="309960" cy="5101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3400560" y="528804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358440" y="528804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3668400" y="5288040"/>
                <a:ext cx="309600" cy="510120"/>
                <a:chOff x="3668400" y="5288040"/>
                <a:chExt cx="309600" cy="5101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3710160" y="528804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668400" y="528804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3978360" y="5288040"/>
                <a:ext cx="309960" cy="510120"/>
                <a:chOff x="3978360" y="5288040"/>
                <a:chExt cx="309960" cy="5101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4020480" y="528804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978360" y="528804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4288680" y="5288040"/>
                <a:ext cx="309600" cy="510120"/>
                <a:chOff x="4288680" y="5288040"/>
                <a:chExt cx="309600" cy="5101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4330440" y="528804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288680" y="528804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4598640" y="5288040"/>
                <a:ext cx="309600" cy="510120"/>
                <a:chOff x="4598640" y="5288040"/>
                <a:chExt cx="309600" cy="5101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4640760" y="528804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598640" y="528804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4908240" y="5288040"/>
                <a:ext cx="309960" cy="510120"/>
                <a:chOff x="4908240" y="5288040"/>
                <a:chExt cx="309960" cy="51012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4950360" y="528804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908240" y="528804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5218560" y="5288040"/>
                <a:ext cx="309600" cy="510120"/>
                <a:chOff x="5218560" y="5288040"/>
                <a:chExt cx="309600" cy="51012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5260320" y="528804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218560" y="528804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5528520" y="5288040"/>
                <a:ext cx="309960" cy="510120"/>
                <a:chOff x="5528520" y="5288040"/>
                <a:chExt cx="309960" cy="51012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5570640" y="528804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528520" y="528804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5838840" y="5288040"/>
                <a:ext cx="309600" cy="510120"/>
                <a:chOff x="5838840" y="5288040"/>
                <a:chExt cx="309600" cy="51012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5880600" y="528804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838840" y="528804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6148440" y="5288040"/>
                <a:ext cx="701280" cy="510120"/>
                <a:chOff x="6148440" y="5288040"/>
                <a:chExt cx="701280" cy="51012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6190560" y="5288040"/>
                  <a:ext cx="6166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6148440" y="5288040"/>
                  <a:ext cx="70128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7200" y="5798520"/>
                <a:ext cx="2731320" cy="510480"/>
                <a:chOff x="7200" y="5798520"/>
                <a:chExt cx="2731320" cy="51048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8960" y="5798520"/>
                  <a:ext cx="2646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Gestion administrative du personnel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200" y="5798520"/>
                  <a:ext cx="273132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2738520" y="5798520"/>
                <a:ext cx="309600" cy="510480"/>
                <a:chOff x="2738520" y="5798520"/>
                <a:chExt cx="309600" cy="51048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2780280" y="57985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2738520" y="57985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3048480" y="5798520"/>
                <a:ext cx="309600" cy="510480"/>
                <a:chOff x="3048480" y="5798520"/>
                <a:chExt cx="309600" cy="51048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3090600" y="57985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048480" y="57985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3358440" y="5798520"/>
                <a:ext cx="309960" cy="510480"/>
                <a:chOff x="3358440" y="5798520"/>
                <a:chExt cx="309960" cy="51048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3400560" y="57985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358440" y="579852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3668400" y="5798520"/>
                <a:ext cx="309600" cy="510480"/>
                <a:chOff x="3668400" y="5798520"/>
                <a:chExt cx="309600" cy="51048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710160" y="57985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668400" y="57985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3978360" y="5798520"/>
                <a:ext cx="309960" cy="510480"/>
                <a:chOff x="3978360" y="5798520"/>
                <a:chExt cx="309960" cy="51048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4020480" y="57985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978360" y="579852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4288680" y="5798520"/>
                <a:ext cx="309600" cy="510480"/>
                <a:chOff x="4288680" y="5798520"/>
                <a:chExt cx="309600" cy="51048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4330440" y="57985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4288680" y="57985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4598640" y="5798520"/>
                <a:ext cx="309600" cy="510480"/>
                <a:chOff x="4598640" y="5798520"/>
                <a:chExt cx="309600" cy="51048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4640760" y="57985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598640" y="57985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4908240" y="5798520"/>
                <a:ext cx="309960" cy="510480"/>
                <a:chOff x="4908240" y="5798520"/>
                <a:chExt cx="309960" cy="51048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4950360" y="57985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908240" y="579852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5218560" y="5798520"/>
                <a:ext cx="309600" cy="510480"/>
                <a:chOff x="5218560" y="5798520"/>
                <a:chExt cx="309600" cy="51048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5260320" y="57985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5218560" y="57985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5528520" y="5798520"/>
                <a:ext cx="309960" cy="510480"/>
                <a:chOff x="5528520" y="5798520"/>
                <a:chExt cx="309960" cy="51048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5570640" y="57985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5528520" y="579852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5838840" y="5798520"/>
                <a:ext cx="309600" cy="510480"/>
                <a:chOff x="5838840" y="5798520"/>
                <a:chExt cx="309600" cy="51048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5880600" y="57985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838840" y="57985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6148440" y="5798520"/>
                <a:ext cx="701280" cy="510480"/>
                <a:chOff x="6148440" y="5798520"/>
                <a:chExt cx="701280" cy="51048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6190560" y="5798520"/>
                  <a:ext cx="61668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4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148440" y="5798520"/>
                  <a:ext cx="70128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7200" y="6309360"/>
                <a:ext cx="2731320" cy="510120"/>
                <a:chOff x="7200" y="6309360"/>
                <a:chExt cx="2731320" cy="51012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48960" y="6309360"/>
                  <a:ext cx="2646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pérations de chang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7200" y="6309360"/>
                  <a:ext cx="273132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2738520" y="6309360"/>
                <a:ext cx="309600" cy="510120"/>
                <a:chOff x="2738520" y="6309360"/>
                <a:chExt cx="309600" cy="51012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2780280" y="63093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738520" y="63093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3048480" y="6309360"/>
                <a:ext cx="309600" cy="510120"/>
                <a:chOff x="3048480" y="6309360"/>
                <a:chExt cx="309600" cy="51012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3090600" y="63093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048480" y="63093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3358440" y="6309360"/>
                <a:ext cx="309960" cy="510120"/>
                <a:chOff x="3358440" y="6309360"/>
                <a:chExt cx="309960" cy="51012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3400560" y="63093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358440" y="63093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3668400" y="6309360"/>
                <a:ext cx="309600" cy="510120"/>
                <a:chOff x="3668400" y="6309360"/>
                <a:chExt cx="309600" cy="51012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3710160" y="63093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3668400" y="63093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3978360" y="6309360"/>
                <a:ext cx="309960" cy="510120"/>
                <a:chOff x="3978360" y="6309360"/>
                <a:chExt cx="309960" cy="5101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020480" y="63093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978360" y="63093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288680" y="6309360"/>
                <a:ext cx="309600" cy="510120"/>
                <a:chOff x="4288680" y="6309360"/>
                <a:chExt cx="309600" cy="5101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330440" y="63093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288680" y="63093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4598640" y="6309360"/>
                <a:ext cx="309600" cy="510120"/>
                <a:chOff x="4598640" y="6309360"/>
                <a:chExt cx="309600" cy="51012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4640760" y="63093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4598640" y="63093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4908240" y="6309360"/>
                <a:ext cx="309960" cy="510120"/>
                <a:chOff x="4908240" y="6309360"/>
                <a:chExt cx="309960" cy="51012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4950360" y="63093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4908240" y="63093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5218560" y="6309360"/>
                <a:ext cx="309600" cy="510120"/>
                <a:chOff x="5218560" y="6309360"/>
                <a:chExt cx="309600" cy="51012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5260320" y="63093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218560" y="63093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5528520" y="6309360"/>
                <a:ext cx="309960" cy="510120"/>
                <a:chOff x="5528520" y="6309360"/>
                <a:chExt cx="309960" cy="51012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5570640" y="63093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528520" y="63093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5838840" y="6309360"/>
                <a:ext cx="309600" cy="510120"/>
                <a:chOff x="5838840" y="6309360"/>
                <a:chExt cx="309600" cy="51012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5880600" y="63093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838840" y="63093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6148440" y="6309360"/>
                <a:ext cx="701280" cy="510120"/>
                <a:chOff x="6148440" y="6309360"/>
                <a:chExt cx="701280" cy="51012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6190560" y="6309360"/>
                  <a:ext cx="6166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148440" y="6309360"/>
                  <a:ext cx="70128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7200" y="6819840"/>
                <a:ext cx="2731320" cy="510480"/>
                <a:chOff x="7200" y="6819840"/>
                <a:chExt cx="2731320" cy="51048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48960" y="6819840"/>
                  <a:ext cx="2646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Gestion de l’encaiss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7200" y="6819840"/>
                  <a:ext cx="273132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2738520" y="6819840"/>
                <a:ext cx="309600" cy="510480"/>
                <a:chOff x="2738520" y="6819840"/>
                <a:chExt cx="309600" cy="51048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2780280" y="68198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738520" y="68198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3048480" y="6819840"/>
                <a:ext cx="309600" cy="510480"/>
                <a:chOff x="3048480" y="6819840"/>
                <a:chExt cx="309600" cy="51048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3090600" y="68198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048480" y="68198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3358440" y="6819840"/>
                <a:ext cx="309960" cy="510480"/>
                <a:chOff x="3358440" y="6819840"/>
                <a:chExt cx="309960" cy="51048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3400560" y="68198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358440" y="681984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3668400" y="6819840"/>
                <a:ext cx="309600" cy="510480"/>
                <a:chOff x="3668400" y="6819840"/>
                <a:chExt cx="309600" cy="51048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3710160" y="68198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668400" y="68198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3978360" y="6819840"/>
                <a:ext cx="309960" cy="510480"/>
                <a:chOff x="3978360" y="6819840"/>
                <a:chExt cx="309960" cy="51048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4020480" y="68198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978360" y="681984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4288680" y="6819840"/>
                <a:ext cx="309600" cy="510480"/>
                <a:chOff x="4288680" y="6819840"/>
                <a:chExt cx="309600" cy="51048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4330440" y="68198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288680" y="68198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4598640" y="6819840"/>
                <a:ext cx="309600" cy="510480"/>
                <a:chOff x="4598640" y="6819840"/>
                <a:chExt cx="309600" cy="51048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4640760" y="68198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598640" y="68198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4908240" y="6819840"/>
                <a:ext cx="309960" cy="510480"/>
                <a:chOff x="4908240" y="6819840"/>
                <a:chExt cx="309960" cy="51048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4950360" y="68198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908240" y="681984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5218560" y="6819840"/>
                <a:ext cx="309600" cy="510480"/>
                <a:chOff x="5218560" y="6819840"/>
                <a:chExt cx="309600" cy="51048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5260320" y="68198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5218560" y="68198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"/>
              <p:cNvGrpSpPr/>
              <p:nvPr/>
            </p:nvGrpSpPr>
            <p:grpSpPr>
              <a:xfrm>
                <a:off x="5528520" y="6819840"/>
                <a:ext cx="309960" cy="510480"/>
                <a:chOff x="5528520" y="6819840"/>
                <a:chExt cx="309960" cy="51048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5570640" y="68198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528520" y="681984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5838840" y="6819840"/>
                <a:ext cx="309600" cy="510480"/>
                <a:chOff x="5838840" y="6819840"/>
                <a:chExt cx="309600" cy="51048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5880600" y="68198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5838840" y="68198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"/>
              <p:cNvGrpSpPr/>
              <p:nvPr/>
            </p:nvGrpSpPr>
            <p:grpSpPr>
              <a:xfrm>
                <a:off x="6148440" y="6819840"/>
                <a:ext cx="701280" cy="510480"/>
                <a:chOff x="6148440" y="6819840"/>
                <a:chExt cx="701280" cy="51048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6190560" y="6819840"/>
                  <a:ext cx="61668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148440" y="6819840"/>
                  <a:ext cx="70128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7200" y="7330680"/>
                <a:ext cx="2731320" cy="510120"/>
                <a:chOff x="7200" y="7330680"/>
                <a:chExt cx="2731320" cy="51012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48960" y="7330680"/>
                  <a:ext cx="2646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Gestion des pièces comptable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200" y="7330680"/>
                  <a:ext cx="273132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2738520" y="7330680"/>
                <a:ext cx="309600" cy="510120"/>
                <a:chOff x="2738520" y="7330680"/>
                <a:chExt cx="309600" cy="51012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2780280" y="73306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738520" y="73306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3048480" y="7330680"/>
                <a:ext cx="309600" cy="510120"/>
                <a:chOff x="3048480" y="7330680"/>
                <a:chExt cx="309600" cy="51012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3090600" y="73306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048480" y="73306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3358440" y="7330680"/>
                <a:ext cx="309960" cy="510120"/>
                <a:chOff x="3358440" y="7330680"/>
                <a:chExt cx="309960" cy="51012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3400560" y="73306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358440" y="733068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3668400" y="7330680"/>
                <a:ext cx="309600" cy="510120"/>
                <a:chOff x="3668400" y="7330680"/>
                <a:chExt cx="309600" cy="51012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3710160" y="73306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668400" y="73306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3978360" y="7330680"/>
                <a:ext cx="309960" cy="510120"/>
                <a:chOff x="3978360" y="7330680"/>
                <a:chExt cx="309960" cy="51012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4020480" y="73306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978360" y="733068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"/>
              <p:cNvGrpSpPr/>
              <p:nvPr/>
            </p:nvGrpSpPr>
            <p:grpSpPr>
              <a:xfrm>
                <a:off x="4288680" y="7330680"/>
                <a:ext cx="309600" cy="510120"/>
                <a:chOff x="4288680" y="7330680"/>
                <a:chExt cx="309600" cy="51012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4330440" y="73306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4288680" y="73306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4598640" y="7330680"/>
                <a:ext cx="309600" cy="510120"/>
                <a:chOff x="4598640" y="7330680"/>
                <a:chExt cx="309600" cy="51012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4640760" y="73306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598640" y="73306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4908240" y="7330680"/>
                <a:ext cx="309960" cy="510120"/>
                <a:chOff x="4908240" y="7330680"/>
                <a:chExt cx="309960" cy="51012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4950360" y="73306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908240" y="733068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5218560" y="7330680"/>
                <a:ext cx="309600" cy="510120"/>
                <a:chOff x="5218560" y="7330680"/>
                <a:chExt cx="309600" cy="51012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5260320" y="73306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5218560" y="73306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5528520" y="7330680"/>
                <a:ext cx="309960" cy="510120"/>
                <a:chOff x="5528520" y="7330680"/>
                <a:chExt cx="309960" cy="51012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5570640" y="73306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5528520" y="733068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5838840" y="7330680"/>
                <a:ext cx="309600" cy="510120"/>
                <a:chOff x="5838840" y="7330680"/>
                <a:chExt cx="309600" cy="51012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5880600" y="73306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5838840" y="73306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6148440" y="7330680"/>
                <a:ext cx="701280" cy="510120"/>
                <a:chOff x="6148440" y="7330680"/>
                <a:chExt cx="701280" cy="51012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6190560" y="7330680"/>
                  <a:ext cx="6166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4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6148440" y="7330680"/>
                  <a:ext cx="70128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7200" y="7841160"/>
                <a:ext cx="2731320" cy="510480"/>
                <a:chOff x="7200" y="7841160"/>
                <a:chExt cx="2731320" cy="51048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48960" y="7841160"/>
                  <a:ext cx="2646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Traitements administratif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7200" y="7841160"/>
                  <a:ext cx="273132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2738520" y="7841160"/>
                <a:ext cx="309600" cy="510480"/>
                <a:chOff x="2738520" y="7841160"/>
                <a:chExt cx="309600" cy="5104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2780280" y="78411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738520" y="78411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3048480" y="7841160"/>
                <a:ext cx="309600" cy="510480"/>
                <a:chOff x="3048480" y="7841160"/>
                <a:chExt cx="309600" cy="51048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3090600" y="78411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048480" y="78411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8" name=""/>
              <p:cNvGrpSpPr/>
              <p:nvPr/>
            </p:nvGrpSpPr>
            <p:grpSpPr>
              <a:xfrm>
                <a:off x="3358440" y="7841160"/>
                <a:ext cx="309960" cy="510480"/>
                <a:chOff x="3358440" y="7841160"/>
                <a:chExt cx="309960" cy="51048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3400560" y="78411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358440" y="784116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" name=""/>
              <p:cNvGrpSpPr/>
              <p:nvPr/>
            </p:nvGrpSpPr>
            <p:grpSpPr>
              <a:xfrm>
                <a:off x="3668400" y="7841160"/>
                <a:ext cx="309600" cy="510480"/>
                <a:chOff x="3668400" y="7841160"/>
                <a:chExt cx="309600" cy="51048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3710160" y="78411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668400" y="78411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3978360" y="7841160"/>
                <a:ext cx="309960" cy="510480"/>
                <a:chOff x="3978360" y="7841160"/>
                <a:chExt cx="309960" cy="51048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4020480" y="78411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978360" y="784116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4288680" y="7841160"/>
                <a:ext cx="309600" cy="510480"/>
                <a:chOff x="4288680" y="7841160"/>
                <a:chExt cx="309600" cy="51048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4330440" y="78411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4288680" y="78411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4598640" y="7841160"/>
                <a:ext cx="309600" cy="510480"/>
                <a:chOff x="4598640" y="7841160"/>
                <a:chExt cx="309600" cy="51048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4640760" y="78411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598640" y="78411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4908240" y="7841160"/>
                <a:ext cx="309960" cy="510480"/>
                <a:chOff x="4908240" y="7841160"/>
                <a:chExt cx="309960" cy="51048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4950360" y="78411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908240" y="784116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5218560" y="7841160"/>
                <a:ext cx="309600" cy="510480"/>
                <a:chOff x="5218560" y="7841160"/>
                <a:chExt cx="309600" cy="51048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5260320" y="78411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5218560" y="78411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9" name=""/>
              <p:cNvGrpSpPr/>
              <p:nvPr/>
            </p:nvGrpSpPr>
            <p:grpSpPr>
              <a:xfrm>
                <a:off x="5528520" y="7841160"/>
                <a:ext cx="309960" cy="510480"/>
                <a:chOff x="5528520" y="7841160"/>
                <a:chExt cx="309960" cy="51048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5570640" y="78411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528520" y="784116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5838840" y="7841160"/>
                <a:ext cx="309600" cy="510480"/>
                <a:chOff x="5838840" y="7841160"/>
                <a:chExt cx="309600" cy="51048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5880600" y="78411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838840" y="78411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6148440" y="7841160"/>
                <a:ext cx="701280" cy="510480"/>
                <a:chOff x="6148440" y="7841160"/>
                <a:chExt cx="701280" cy="51048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6190560" y="7841160"/>
                  <a:ext cx="61668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4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6148440" y="7841160"/>
                  <a:ext cx="70128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7200" y="8351640"/>
                <a:ext cx="2731320" cy="785160"/>
                <a:chOff x="7200" y="8351640"/>
                <a:chExt cx="2731320" cy="78516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48960" y="8351640"/>
                  <a:ext cx="264672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Diversité par personn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7200" y="8351640"/>
                  <a:ext cx="273132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2738520" y="8351640"/>
                <a:ext cx="309600" cy="785160"/>
                <a:chOff x="2738520" y="8351640"/>
                <a:chExt cx="309600" cy="78516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2780280" y="8351640"/>
                  <a:ext cx="22572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6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2738520" y="8351640"/>
                  <a:ext cx="30960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3048480" y="8351640"/>
                <a:ext cx="309600" cy="785160"/>
                <a:chOff x="3048480" y="8351640"/>
                <a:chExt cx="309600" cy="78516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3090600" y="8351640"/>
                  <a:ext cx="22536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0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3048480" y="8351640"/>
                  <a:ext cx="30960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3358440" y="8351640"/>
                <a:ext cx="309960" cy="785160"/>
                <a:chOff x="3358440" y="8351640"/>
                <a:chExt cx="309960" cy="78516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3400560" y="8351640"/>
                  <a:ext cx="22536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3358440" y="8351640"/>
                  <a:ext cx="30996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3668400" y="8351640"/>
                <a:ext cx="309600" cy="785160"/>
                <a:chOff x="3668400" y="8351640"/>
                <a:chExt cx="309600" cy="78516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3710160" y="8351640"/>
                  <a:ext cx="22572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668400" y="8351640"/>
                  <a:ext cx="30960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3978360" y="8351640"/>
                <a:ext cx="309960" cy="785160"/>
                <a:chOff x="3978360" y="8351640"/>
                <a:chExt cx="309960" cy="78516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4020480" y="8351640"/>
                  <a:ext cx="22536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978360" y="8351640"/>
                  <a:ext cx="30996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4288680" y="8351640"/>
                <a:ext cx="309600" cy="785160"/>
                <a:chOff x="4288680" y="8351640"/>
                <a:chExt cx="309600" cy="78516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4330440" y="8351640"/>
                  <a:ext cx="22572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4288680" y="8351640"/>
                  <a:ext cx="30960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4598640" y="8351640"/>
                <a:ext cx="309600" cy="785160"/>
                <a:chOff x="4598640" y="8351640"/>
                <a:chExt cx="309600" cy="78516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4640760" y="8351640"/>
                  <a:ext cx="22536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5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598640" y="8351640"/>
                  <a:ext cx="30960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4908240" y="8351640"/>
                <a:ext cx="309960" cy="785160"/>
                <a:chOff x="4908240" y="8351640"/>
                <a:chExt cx="309960" cy="78516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4950360" y="8351640"/>
                  <a:ext cx="22536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5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908240" y="8351640"/>
                  <a:ext cx="30996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5218560" y="8351640"/>
                <a:ext cx="309600" cy="785160"/>
                <a:chOff x="5218560" y="8351640"/>
                <a:chExt cx="309600" cy="78516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5260320" y="8351640"/>
                  <a:ext cx="22572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5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218560" y="8351640"/>
                  <a:ext cx="30960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5528520" y="8351640"/>
                <a:ext cx="309960" cy="785160"/>
                <a:chOff x="5528520" y="8351640"/>
                <a:chExt cx="309960" cy="78516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5570640" y="8351640"/>
                  <a:ext cx="22536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5528520" y="8351640"/>
                  <a:ext cx="30996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5838840" y="8351640"/>
                <a:ext cx="309600" cy="785160"/>
                <a:chOff x="5838840" y="8351640"/>
                <a:chExt cx="309600" cy="78516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5880600" y="8351640"/>
                  <a:ext cx="22572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838840" y="8351640"/>
                  <a:ext cx="30960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6148440" y="8351640"/>
                <a:ext cx="701280" cy="785160"/>
                <a:chOff x="6148440" y="8351640"/>
                <a:chExt cx="701280" cy="78516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6190560" y="8351640"/>
                  <a:ext cx="61668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46 / 15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6148440" y="8351640"/>
                  <a:ext cx="70128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67" name=""/>
            <p:cNvSpPr/>
            <p:nvPr/>
          </p:nvSpPr>
          <p:spPr>
            <a:xfrm>
              <a:off x="0" y="0"/>
              <a:ext cx="6858000" cy="9144000"/>
            </a:xfrm>
            <a:prstGeom prst="rect">
              <a:avLst/>
            </a:prstGeom>
            <a:noFill/>
            <a:ln w="158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9T11:30:46Z</dcterms:created>
  <dc:creator>MADERS</dc:creator>
  <dc:description/>
  <dc:language>en-US</dc:language>
  <cp:lastModifiedBy>MADERS</cp:lastModifiedBy>
  <dcterms:modified xsi:type="dcterms:W3CDTF">2002-03-09T11:32:30Z</dcterms:modified>
  <cp:revision>2</cp:revision>
  <dc:subject/>
  <dc:title>Présentation PowerPoint</dc:title>
</cp:coreProperties>
</file>