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75ED-F60D-4141-8E8E-580BDAA1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F5CB-3626-4C20-B893-BACE81F8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1B6-A703-4558-BC8F-D3763084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D3EC-4AF2-460F-8AAD-67402367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293-DBCA-4392-BFF8-26F8CA8F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4B2B-B2A3-4D7C-9A68-FB34899F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6B90-522C-4B37-BF62-A66C20B7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C22-50DF-495B-9504-20A08DDF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83C0-315C-4C37-8347-741FA444B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F094-0E20-4635-B629-1CAA39C1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BE69-4F16-4D72-A67F-41709F31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BE7-6A3B-4A8B-9975-2B273D6D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BD54-956C-433B-85F2-669AAA664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6858000" cy="9905400"/>
            <a:chOff x="0" y="0"/>
            <a:chExt cx="6858000" cy="9905400"/>
          </a:xfrm>
        </p:grpSpPr>
        <p:sp>
          <p:nvSpPr>
            <p:cNvPr id="42" name=""/>
            <p:cNvSpPr/>
            <p:nvPr/>
          </p:nvSpPr>
          <p:spPr>
            <a:xfrm>
              <a:off x="0" y="0"/>
              <a:ext cx="6858000" cy="86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Fiche d’expression de bes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868320"/>
              <a:ext cx="519768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Structure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édacteur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197680" y="868320"/>
              <a:ext cx="165996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Date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1911240"/>
              <a:ext cx="6858000" cy="17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Contexte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64932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Objet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469188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Objectifs poursuivis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573480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appel de l’existant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677736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Gains attendus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886284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isques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781992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Contraintes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0:12:12Z</dcterms:modified>
  <cp:revision>101</cp:revision>
  <dc:subject/>
  <dc:title>Présentation PowerPoint</dc:title>
</cp:coreProperties>
</file>