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E9D-E3AE-423D-8B29-97183ADF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A5C-DFC7-4782-959D-751B5B90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154-863C-490B-96AD-638B8ECF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E895-040C-4716-A2B4-82AEF120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7EE8-6DF9-4BC7-9C41-97CDB733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6CCE-544C-432C-BBDC-476307F2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61B-D8FF-4E2C-93D2-412C9D15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EF7F-1ECB-434D-8587-A78182FA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AC0-3854-4A5C-9903-88B18788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7B6-CD7D-44AC-9ABB-FD3A794B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FCE-4AE7-4B99-91E5-80115149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986-932D-4C6B-8935-47A4E99F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DC75-2EA7-4F66-A05A-B945388C28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nchm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4724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6094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ste des organisations réputées perform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1295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victions affich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12952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ncipes d’organisation identifi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781680"/>
            <a:ext cx="6858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ées à retenir pour l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3152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7724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2296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810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9810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19810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6668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6668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6668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526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3526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33526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384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40384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0384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242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4724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47242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100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54100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54100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0958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60958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60958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8:08:27Z</dcterms:modified>
  <cp:revision>10</cp:revision>
  <dc:subject/>
  <dc:title>Présentation PowerPoint</dc:title>
</cp:coreProperties>
</file>