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C00-3088-4677-ABAD-A0115943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083-CEAC-4EB8-A907-F642700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F30-AE9C-4268-9FF1-C7E19194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147-2CEB-42F8-BCEE-DDAEA87D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334-3402-49AD-B5FA-14527A74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4AB-8774-4D9E-92F9-02B22D3C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886-57CE-4BC8-9348-46845020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B3A-C78F-4687-B414-3ED226D6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200-9A65-49BA-85D2-EEC49ED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017-3F77-4204-899A-9BD17209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F48-37EB-4217-AFB5-EDDB1146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D8A-26FE-4F86-A23E-C64D87C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C9C2-CFBA-4A43-8CDF-17C6CEE9C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3:43Z</dcterms:modified>
  <cp:revision>99</cp:revision>
  <dc:subject/>
  <dc:title>Présentation PowerPoint</dc:title>
</cp:coreProperties>
</file>