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24A-4D1B-4E32-A7C4-2EF27A14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235-9DB5-49BA-B936-ED754B56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AF7-AAE4-4279-911B-168DF93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D8C-6AA9-439A-8545-CB940CC8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E5D-727B-4DE6-A5F4-D6807956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BA6-BBF3-4F4A-85C2-AD118386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6575-A7B4-4067-9C90-158CFB38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9F0-0EDF-4F91-B291-A5C09BB0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A8A-CB5B-4D7B-B844-7D9890C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119-D7A7-4237-882F-E1C324C9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E27-703B-428D-94BB-A2F3C300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511-D83E-4B58-BA4A-1ABE209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C07-5A93-4AEA-A302-27A1F2C63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Note de cad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responsabl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courrier avec amélioration de la qualité perçue par les clients et sécu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érimètr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siège social de la banque. Les agences ne font donc pas partie du périmètr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mbre d’acteurs, technicité et diversité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animation et gestion des plannings, des intervenants et des bud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xpertise organisationnelle et techn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Yoan, chef de projet à 25 %, M. Pierre et M. Antoine à 50 % + un groupe de travail de secrétaires et quelques jours d’experts de février à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G + directeurs + chef de projet : réunions à chaque phas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Pierre et M. Antoine (organisateur) à 50 % de leur temps sur toute la duré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 de l’existant (février), organisation cible (mars) et conduite du changement (avril/jui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30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2:21Z</dcterms:modified>
  <cp:revision>104</cp:revision>
  <dc:subject/>
  <dc:title>Présentation PowerPoint</dc:title>
</cp:coreProperties>
</file>