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9C7-9296-41BD-ADFA-701AF92C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CE9-91E7-4418-9F78-F222CAA1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141-E3E5-4896-A03E-E6CA218C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981-5D5D-4922-968B-14EE0702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AA6-D04E-41ED-8607-730801EA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233-BC89-4465-8A58-913E698B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16D-88D4-473D-B1FC-5FAC98E8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FB8-B1F2-4B3D-A903-4C20E938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355-19A6-444E-977E-7F1D6231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DF6-E902-40D8-A038-1319912A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55F-6E48-4C49-8F22-21DB7CEB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F1A-477F-497F-9488-7CBFAC47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69B6-5CDF-4D8B-AA5F-747819FD8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3960" y="3600"/>
              <a:ext cx="6849000" cy="9135360"/>
              <a:chOff x="3960" y="3600"/>
              <a:chExt cx="6849000" cy="91353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960" y="3600"/>
                <a:ext cx="2653920" cy="938520"/>
                <a:chOff x="3960" y="3600"/>
                <a:chExt cx="2653920" cy="9385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4640" y="3600"/>
                  <a:ext cx="25718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960" y="3600"/>
                  <a:ext cx="26539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657880" y="3600"/>
                <a:ext cx="300960" cy="938520"/>
                <a:chOff x="2657880" y="3600"/>
                <a:chExt cx="300960" cy="93852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6985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6578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2959200" y="3600"/>
                <a:ext cx="300960" cy="938520"/>
                <a:chOff x="2959200" y="3600"/>
                <a:chExt cx="300960" cy="9385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002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95920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260160" y="3600"/>
                <a:ext cx="301320" cy="938520"/>
                <a:chOff x="3260160" y="3600"/>
                <a:chExt cx="301320" cy="938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30120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26016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561480" y="3600"/>
                <a:ext cx="300960" cy="938520"/>
                <a:chOff x="3561480" y="3600"/>
                <a:chExt cx="300960" cy="9385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6021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5614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862800" y="3600"/>
                <a:ext cx="301320" cy="938520"/>
                <a:chOff x="3862800" y="3600"/>
                <a:chExt cx="301320" cy="9385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9038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628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164120" y="3600"/>
                <a:ext cx="300960" cy="938520"/>
                <a:chOff x="4164120" y="3600"/>
                <a:chExt cx="300960" cy="938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2048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1641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465080" y="3600"/>
                <a:ext cx="300960" cy="938520"/>
                <a:chOff x="4465080" y="3600"/>
                <a:chExt cx="300960" cy="9385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50612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4650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766400" y="3600"/>
                <a:ext cx="301320" cy="938520"/>
                <a:chOff x="4766400" y="3600"/>
                <a:chExt cx="301320" cy="9385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8074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7664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067720" y="3600"/>
                <a:ext cx="300960" cy="938520"/>
                <a:chOff x="5067720" y="3600"/>
                <a:chExt cx="300960" cy="9385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1084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0677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369040" y="3600"/>
                <a:ext cx="301320" cy="938520"/>
                <a:chOff x="5369040" y="3600"/>
                <a:chExt cx="301320" cy="9385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41008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36904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670360" y="3600"/>
                <a:ext cx="300960" cy="938520"/>
                <a:chOff x="5670360" y="3600"/>
                <a:chExt cx="300960" cy="9385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71104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K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67036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971320" y="3600"/>
                <a:ext cx="881640" cy="938520"/>
                <a:chOff x="5971320" y="3600"/>
                <a:chExt cx="881640" cy="9385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012360" y="3600"/>
                  <a:ext cx="7995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971320" y="3600"/>
                  <a:ext cx="88164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960" y="942120"/>
                <a:ext cx="2653920" cy="659160"/>
                <a:chOff x="3960" y="942120"/>
                <a:chExt cx="2653920" cy="659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4640" y="942120"/>
                  <a:ext cx="25718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nimation, gestion et organisation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60" y="942120"/>
                  <a:ext cx="2653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57880" y="942120"/>
                <a:ext cx="300960" cy="659160"/>
                <a:chOff x="2657880" y="942120"/>
                <a:chExt cx="300960" cy="659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985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578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959200" y="942120"/>
                <a:ext cx="300960" cy="659160"/>
                <a:chOff x="2959200" y="942120"/>
                <a:chExt cx="300960" cy="6591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002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95920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260160" y="942120"/>
                <a:ext cx="301320" cy="659160"/>
                <a:chOff x="3260160" y="942120"/>
                <a:chExt cx="301320" cy="659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30120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26016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561480" y="942120"/>
                <a:ext cx="300960" cy="659160"/>
                <a:chOff x="3561480" y="942120"/>
                <a:chExt cx="300960" cy="659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6021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5614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862800" y="942120"/>
                <a:ext cx="301320" cy="659160"/>
                <a:chOff x="3862800" y="942120"/>
                <a:chExt cx="301320" cy="659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9038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628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164120" y="942120"/>
                <a:ext cx="300960" cy="659160"/>
                <a:chOff x="4164120" y="942120"/>
                <a:chExt cx="300960" cy="659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048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641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465080" y="942120"/>
                <a:ext cx="300960" cy="659160"/>
                <a:chOff x="4465080" y="942120"/>
                <a:chExt cx="300960" cy="659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50612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650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766400" y="942120"/>
                <a:ext cx="301320" cy="659160"/>
                <a:chOff x="4766400" y="942120"/>
                <a:chExt cx="301320" cy="6591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074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664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067720" y="942120"/>
                <a:ext cx="300960" cy="659160"/>
                <a:chOff x="5067720" y="942120"/>
                <a:chExt cx="300960" cy="6591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1084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0677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369040" y="942120"/>
                <a:ext cx="301320" cy="659160"/>
                <a:chOff x="5369040" y="942120"/>
                <a:chExt cx="301320" cy="6591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41008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6904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70360" y="942120"/>
                <a:ext cx="300960" cy="659160"/>
                <a:chOff x="5670360" y="942120"/>
                <a:chExt cx="300960" cy="659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1104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7036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971320" y="942120"/>
                <a:ext cx="881640" cy="659160"/>
                <a:chOff x="5971320" y="942120"/>
                <a:chExt cx="881640" cy="659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12360" y="942120"/>
                  <a:ext cx="7995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71320" y="942120"/>
                  <a:ext cx="88164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960" y="1601280"/>
                <a:ext cx="2653920" cy="519120"/>
                <a:chOff x="3960" y="1601280"/>
                <a:chExt cx="2653920" cy="519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4640" y="1601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uivi des engagements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60" y="1601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57880" y="1601280"/>
                <a:ext cx="300960" cy="519120"/>
                <a:chOff x="2657880" y="1601280"/>
                <a:chExt cx="300960" cy="519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985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578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959200" y="1601280"/>
                <a:ext cx="300960" cy="519120"/>
                <a:chOff x="2959200" y="1601280"/>
                <a:chExt cx="300960" cy="519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002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5920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260160" y="1601280"/>
                <a:ext cx="301320" cy="519120"/>
                <a:chOff x="3260160" y="1601280"/>
                <a:chExt cx="301320" cy="519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30120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6016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61480" y="1601280"/>
                <a:ext cx="300960" cy="519120"/>
                <a:chOff x="3561480" y="1601280"/>
                <a:chExt cx="300960" cy="519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021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614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862800" y="1601280"/>
                <a:ext cx="301320" cy="519120"/>
                <a:chOff x="3862800" y="1601280"/>
                <a:chExt cx="301320" cy="519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9038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628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64120" y="1601280"/>
                <a:ext cx="300960" cy="519120"/>
                <a:chOff x="4164120" y="1601280"/>
                <a:chExt cx="300960" cy="519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2048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641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465080" y="1601280"/>
                <a:ext cx="300960" cy="519120"/>
                <a:chOff x="4465080" y="1601280"/>
                <a:chExt cx="300960" cy="519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50612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4650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766400" y="1601280"/>
                <a:ext cx="301320" cy="519120"/>
                <a:chOff x="4766400" y="1601280"/>
                <a:chExt cx="301320" cy="519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8074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7664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067720" y="1601280"/>
                <a:ext cx="300960" cy="519120"/>
                <a:chOff x="5067720" y="1601280"/>
                <a:chExt cx="300960" cy="519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1084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677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369040" y="1601280"/>
                <a:ext cx="301320" cy="519120"/>
                <a:chOff x="5369040" y="1601280"/>
                <a:chExt cx="301320" cy="519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41008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6904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670360" y="1601280"/>
                <a:ext cx="300960" cy="519120"/>
                <a:chOff x="5670360" y="1601280"/>
                <a:chExt cx="300960" cy="519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71104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67036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971320" y="1601280"/>
                <a:ext cx="881640" cy="519120"/>
                <a:chOff x="5971320" y="1601280"/>
                <a:chExt cx="881640" cy="519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2360" y="1601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971320" y="1601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960" y="2120760"/>
                <a:ext cx="2653920" cy="519120"/>
                <a:chOff x="3960" y="2120760"/>
                <a:chExt cx="2653920" cy="519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4640" y="21207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entrepri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60" y="21207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657880" y="2120760"/>
                <a:ext cx="300960" cy="519120"/>
                <a:chOff x="2657880" y="2120760"/>
                <a:chExt cx="300960" cy="519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6985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578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59200" y="2120760"/>
                <a:ext cx="300960" cy="519120"/>
                <a:chOff x="2959200" y="2120760"/>
                <a:chExt cx="300960" cy="51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002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5920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260160" y="2120760"/>
                <a:ext cx="301320" cy="519120"/>
                <a:chOff x="3260160" y="2120760"/>
                <a:chExt cx="301320" cy="519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0120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26016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561480" y="2120760"/>
                <a:ext cx="300960" cy="519120"/>
                <a:chOff x="3561480" y="2120760"/>
                <a:chExt cx="300960" cy="519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6021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614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862800" y="2120760"/>
                <a:ext cx="301320" cy="519120"/>
                <a:chOff x="3862800" y="2120760"/>
                <a:chExt cx="301320" cy="519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9038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628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164120" y="2120760"/>
                <a:ext cx="300960" cy="519120"/>
                <a:chOff x="4164120" y="2120760"/>
                <a:chExt cx="300960" cy="5191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2048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641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465080" y="2120760"/>
                <a:ext cx="300960" cy="519120"/>
                <a:chOff x="4465080" y="2120760"/>
                <a:chExt cx="300960" cy="5191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50612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650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766400" y="2120760"/>
                <a:ext cx="301320" cy="519120"/>
                <a:chOff x="4766400" y="2120760"/>
                <a:chExt cx="301320" cy="5191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8074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664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067720" y="2120760"/>
                <a:ext cx="300960" cy="519120"/>
                <a:chOff x="5067720" y="2120760"/>
                <a:chExt cx="300960" cy="5191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084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0677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369040" y="2120760"/>
                <a:ext cx="301320" cy="519120"/>
                <a:chOff x="5369040" y="2120760"/>
                <a:chExt cx="301320" cy="519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41008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6904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670360" y="2120760"/>
                <a:ext cx="300960" cy="519120"/>
                <a:chOff x="5670360" y="2120760"/>
                <a:chExt cx="300960" cy="519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71104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7036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971320" y="2120760"/>
                <a:ext cx="881640" cy="519120"/>
                <a:chOff x="5971320" y="2120760"/>
                <a:chExt cx="881640" cy="5191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12360" y="21207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71320" y="21207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960" y="2639880"/>
                <a:ext cx="2653920" cy="519480"/>
                <a:chOff x="3960" y="2639880"/>
                <a:chExt cx="2653920" cy="519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4640" y="2639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clients haut de gamm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960" y="2639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657880" y="2639880"/>
                <a:ext cx="300960" cy="519480"/>
                <a:chOff x="2657880" y="2639880"/>
                <a:chExt cx="300960" cy="519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6985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6578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959200" y="2639880"/>
                <a:ext cx="300960" cy="519480"/>
                <a:chOff x="2959200" y="2639880"/>
                <a:chExt cx="300960" cy="5194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002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5920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260160" y="2639880"/>
                <a:ext cx="301320" cy="519480"/>
                <a:chOff x="3260160" y="2639880"/>
                <a:chExt cx="301320" cy="5194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30120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26016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561480" y="2639880"/>
                <a:ext cx="300960" cy="519480"/>
                <a:chOff x="3561480" y="2639880"/>
                <a:chExt cx="300960" cy="5194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6021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614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862800" y="2639880"/>
                <a:ext cx="301320" cy="519480"/>
                <a:chOff x="3862800" y="2639880"/>
                <a:chExt cx="301320" cy="519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9038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628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164120" y="2639880"/>
                <a:ext cx="300960" cy="519480"/>
                <a:chOff x="4164120" y="2639880"/>
                <a:chExt cx="300960" cy="5194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2048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641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465080" y="2639880"/>
                <a:ext cx="300960" cy="519480"/>
                <a:chOff x="4465080" y="2639880"/>
                <a:chExt cx="300960" cy="5194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50612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4650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766400" y="2639880"/>
                <a:ext cx="301320" cy="519480"/>
                <a:chOff x="4766400" y="2639880"/>
                <a:chExt cx="301320" cy="519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074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664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067720" y="2639880"/>
                <a:ext cx="300960" cy="519480"/>
                <a:chOff x="5067720" y="2639880"/>
                <a:chExt cx="300960" cy="5194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1084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677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369040" y="2639880"/>
                <a:ext cx="301320" cy="519480"/>
                <a:chOff x="5369040" y="2639880"/>
                <a:chExt cx="301320" cy="5194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41008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6904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670360" y="2639880"/>
                <a:ext cx="300960" cy="519480"/>
                <a:chOff x="5670360" y="2639880"/>
                <a:chExt cx="300960" cy="51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71104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67036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971320" y="2639880"/>
                <a:ext cx="881640" cy="519480"/>
                <a:chOff x="5971320" y="2639880"/>
                <a:chExt cx="881640" cy="5194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012360" y="2639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71320" y="2639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960" y="3159360"/>
                <a:ext cx="2653920" cy="519120"/>
                <a:chOff x="3960" y="3159360"/>
                <a:chExt cx="2653920" cy="519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4640" y="3159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particul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60" y="3159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657880" y="3159360"/>
                <a:ext cx="300960" cy="519120"/>
                <a:chOff x="2657880" y="3159360"/>
                <a:chExt cx="300960" cy="5191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6985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6578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959200" y="3159360"/>
                <a:ext cx="300960" cy="519120"/>
                <a:chOff x="2959200" y="3159360"/>
                <a:chExt cx="300960" cy="519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002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5920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60160" y="3159360"/>
                <a:ext cx="301320" cy="519120"/>
                <a:chOff x="3260160" y="3159360"/>
                <a:chExt cx="301320" cy="519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30120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6016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561480" y="3159360"/>
                <a:ext cx="300960" cy="519120"/>
                <a:chOff x="3561480" y="3159360"/>
                <a:chExt cx="300960" cy="519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6021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614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862800" y="3159360"/>
                <a:ext cx="301320" cy="519120"/>
                <a:chOff x="3862800" y="3159360"/>
                <a:chExt cx="301320" cy="5191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9038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628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164120" y="3159360"/>
                <a:ext cx="300960" cy="519120"/>
                <a:chOff x="4164120" y="3159360"/>
                <a:chExt cx="300960" cy="519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2048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1641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465080" y="3159360"/>
                <a:ext cx="300960" cy="519120"/>
                <a:chOff x="4465080" y="3159360"/>
                <a:chExt cx="300960" cy="5191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50612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4650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766400" y="3159360"/>
                <a:ext cx="301320" cy="519120"/>
                <a:chOff x="4766400" y="3159360"/>
                <a:chExt cx="301320" cy="519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8074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664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067720" y="3159360"/>
                <a:ext cx="300960" cy="519120"/>
                <a:chOff x="5067720" y="3159360"/>
                <a:chExt cx="300960" cy="519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1084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677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369040" y="3159360"/>
                <a:ext cx="301320" cy="519120"/>
                <a:chOff x="5369040" y="3159360"/>
                <a:chExt cx="301320" cy="5191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41008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6904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670360" y="3159360"/>
                <a:ext cx="300960" cy="519120"/>
                <a:chOff x="5670360" y="3159360"/>
                <a:chExt cx="300960" cy="5191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71104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7036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971320" y="3159360"/>
                <a:ext cx="881640" cy="519120"/>
                <a:chOff x="5971320" y="3159360"/>
                <a:chExt cx="881640" cy="5191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12360" y="3159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71320" y="3159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960" y="3678840"/>
                <a:ext cx="2653920" cy="519480"/>
                <a:chOff x="3960" y="3678840"/>
                <a:chExt cx="2653920" cy="519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4640" y="3678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60" y="3678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657880" y="3678840"/>
                <a:ext cx="300960" cy="519480"/>
                <a:chOff x="2657880" y="3678840"/>
                <a:chExt cx="300960" cy="519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6985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78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959200" y="3678840"/>
                <a:ext cx="300960" cy="519480"/>
                <a:chOff x="2959200" y="3678840"/>
                <a:chExt cx="300960" cy="519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002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5920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260160" y="3678840"/>
                <a:ext cx="301320" cy="519480"/>
                <a:chOff x="3260160" y="3678840"/>
                <a:chExt cx="301320" cy="519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30120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26016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561480" y="3678840"/>
                <a:ext cx="300960" cy="519480"/>
                <a:chOff x="3561480" y="3678840"/>
                <a:chExt cx="300960" cy="519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6021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614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62800" y="3678840"/>
                <a:ext cx="301320" cy="519480"/>
                <a:chOff x="3862800" y="3678840"/>
                <a:chExt cx="301320" cy="519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9038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628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164120" y="3678840"/>
                <a:ext cx="300960" cy="519480"/>
                <a:chOff x="4164120" y="3678840"/>
                <a:chExt cx="300960" cy="519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2048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1641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65080" y="3678840"/>
                <a:ext cx="300960" cy="519480"/>
                <a:chOff x="4465080" y="3678840"/>
                <a:chExt cx="300960" cy="519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0612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650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766400" y="3678840"/>
                <a:ext cx="301320" cy="519480"/>
                <a:chOff x="4766400" y="3678840"/>
                <a:chExt cx="301320" cy="519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8074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7664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067720" y="3678840"/>
                <a:ext cx="300960" cy="519480"/>
                <a:chOff x="5067720" y="3678840"/>
                <a:chExt cx="300960" cy="519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084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0677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369040" y="3678840"/>
                <a:ext cx="301320" cy="519480"/>
                <a:chOff x="5369040" y="3678840"/>
                <a:chExt cx="301320" cy="519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41008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36904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670360" y="3678840"/>
                <a:ext cx="300960" cy="519480"/>
                <a:chOff x="5670360" y="3678840"/>
                <a:chExt cx="300960" cy="519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71104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67036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971320" y="3678840"/>
                <a:ext cx="881640" cy="519480"/>
                <a:chOff x="5971320" y="3678840"/>
                <a:chExt cx="881640" cy="519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12360" y="3678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71320" y="3678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960" y="4198320"/>
                <a:ext cx="2653920" cy="519120"/>
                <a:chOff x="3960" y="4198320"/>
                <a:chExt cx="2653920" cy="5191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4640" y="4198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cueil clie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960" y="4198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657880" y="4198320"/>
                <a:ext cx="300960" cy="519120"/>
                <a:chOff x="2657880" y="4198320"/>
                <a:chExt cx="300960" cy="519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6985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578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59200" y="4198320"/>
                <a:ext cx="300960" cy="519120"/>
                <a:chOff x="2959200" y="4198320"/>
                <a:chExt cx="300960" cy="5191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002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5920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260160" y="4198320"/>
                <a:ext cx="301320" cy="519120"/>
                <a:chOff x="3260160" y="4198320"/>
                <a:chExt cx="301320" cy="5191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30120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26016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561480" y="4198320"/>
                <a:ext cx="300960" cy="519120"/>
                <a:chOff x="3561480" y="4198320"/>
                <a:chExt cx="300960" cy="519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6021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614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862800" y="4198320"/>
                <a:ext cx="301320" cy="519120"/>
                <a:chOff x="3862800" y="4198320"/>
                <a:chExt cx="301320" cy="519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9038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8628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164120" y="4198320"/>
                <a:ext cx="300960" cy="519120"/>
                <a:chOff x="4164120" y="4198320"/>
                <a:chExt cx="300960" cy="5191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2048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641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65080" y="4198320"/>
                <a:ext cx="300960" cy="519120"/>
                <a:chOff x="4465080" y="4198320"/>
                <a:chExt cx="300960" cy="5191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0612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650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766400" y="4198320"/>
                <a:ext cx="301320" cy="519120"/>
                <a:chOff x="4766400" y="4198320"/>
                <a:chExt cx="301320" cy="5191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8074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664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067720" y="4198320"/>
                <a:ext cx="300960" cy="519120"/>
                <a:chOff x="5067720" y="4198320"/>
                <a:chExt cx="300960" cy="5191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1084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677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369040" y="4198320"/>
                <a:ext cx="301320" cy="519120"/>
                <a:chOff x="5369040" y="4198320"/>
                <a:chExt cx="301320" cy="5191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41008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36904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670360" y="4198320"/>
                <a:ext cx="300960" cy="519120"/>
                <a:chOff x="5670360" y="4198320"/>
                <a:chExt cx="300960" cy="5191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71104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67036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971320" y="4198320"/>
                <a:ext cx="881640" cy="519120"/>
                <a:chOff x="5971320" y="4198320"/>
                <a:chExt cx="881640" cy="5191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012360" y="4198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971320" y="4198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960" y="4717800"/>
                <a:ext cx="2653920" cy="519480"/>
                <a:chOff x="3960" y="4717800"/>
                <a:chExt cx="2653920" cy="519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4640" y="471780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tandard téléphoniqu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60" y="471780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57880" y="4717800"/>
                <a:ext cx="300960" cy="519480"/>
                <a:chOff x="2657880" y="4717800"/>
                <a:chExt cx="300960" cy="519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6985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578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959200" y="4717800"/>
                <a:ext cx="300960" cy="519480"/>
                <a:chOff x="2959200" y="4717800"/>
                <a:chExt cx="300960" cy="519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002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5920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260160" y="4717800"/>
                <a:ext cx="301320" cy="519480"/>
                <a:chOff x="3260160" y="4717800"/>
                <a:chExt cx="301320" cy="5194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30120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6016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561480" y="4717800"/>
                <a:ext cx="300960" cy="519480"/>
                <a:chOff x="3561480" y="4717800"/>
                <a:chExt cx="300960" cy="5194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6021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5614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862800" y="4717800"/>
                <a:ext cx="301320" cy="519480"/>
                <a:chOff x="3862800" y="4717800"/>
                <a:chExt cx="301320" cy="5194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9038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628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164120" y="4717800"/>
                <a:ext cx="300960" cy="519480"/>
                <a:chOff x="4164120" y="4717800"/>
                <a:chExt cx="300960" cy="5194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2048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641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465080" y="4717800"/>
                <a:ext cx="300960" cy="519480"/>
                <a:chOff x="4465080" y="4717800"/>
                <a:chExt cx="300960" cy="519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50612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650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766400" y="4717800"/>
                <a:ext cx="301320" cy="519480"/>
                <a:chOff x="4766400" y="4717800"/>
                <a:chExt cx="301320" cy="519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8074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664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067720" y="4717800"/>
                <a:ext cx="300960" cy="519480"/>
                <a:chOff x="5067720" y="4717800"/>
                <a:chExt cx="300960" cy="519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1084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677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369040" y="4717800"/>
                <a:ext cx="301320" cy="519480"/>
                <a:chOff x="5369040" y="4717800"/>
                <a:chExt cx="301320" cy="519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1008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36904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670360" y="4717800"/>
                <a:ext cx="300960" cy="519480"/>
                <a:chOff x="5670360" y="4717800"/>
                <a:chExt cx="300960" cy="5194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71104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67036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971320" y="4717800"/>
                <a:ext cx="881640" cy="519480"/>
                <a:chOff x="5971320" y="4717800"/>
                <a:chExt cx="881640" cy="5194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012360" y="471780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971320" y="471780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960" y="5237280"/>
                <a:ext cx="2653920" cy="519120"/>
                <a:chOff x="3960" y="5237280"/>
                <a:chExt cx="2653920" cy="519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4640" y="5237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actylographie courr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960" y="5237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657880" y="5237280"/>
                <a:ext cx="300960" cy="519120"/>
                <a:chOff x="2657880" y="5237280"/>
                <a:chExt cx="300960" cy="519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6985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578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959200" y="5237280"/>
                <a:ext cx="300960" cy="519120"/>
                <a:chOff x="2959200" y="5237280"/>
                <a:chExt cx="300960" cy="519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002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5920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260160" y="5237280"/>
                <a:ext cx="301320" cy="519120"/>
                <a:chOff x="3260160" y="5237280"/>
                <a:chExt cx="301320" cy="519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30120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26016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561480" y="5237280"/>
                <a:ext cx="300960" cy="519120"/>
                <a:chOff x="3561480" y="5237280"/>
                <a:chExt cx="300960" cy="519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6021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5614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862800" y="5237280"/>
                <a:ext cx="301320" cy="519120"/>
                <a:chOff x="3862800" y="5237280"/>
                <a:chExt cx="301320" cy="519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9038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8628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164120" y="5237280"/>
                <a:ext cx="300960" cy="519120"/>
                <a:chOff x="4164120" y="5237280"/>
                <a:chExt cx="300960" cy="519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048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641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465080" y="5237280"/>
                <a:ext cx="300960" cy="519120"/>
                <a:chOff x="4465080" y="5237280"/>
                <a:chExt cx="300960" cy="519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50612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650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766400" y="5237280"/>
                <a:ext cx="301320" cy="519120"/>
                <a:chOff x="4766400" y="5237280"/>
                <a:chExt cx="301320" cy="519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8074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664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067720" y="5237280"/>
                <a:ext cx="300960" cy="519120"/>
                <a:chOff x="5067720" y="5237280"/>
                <a:chExt cx="300960" cy="519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1084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677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369040" y="5237280"/>
                <a:ext cx="301320" cy="519120"/>
                <a:chOff x="5369040" y="5237280"/>
                <a:chExt cx="301320" cy="519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41008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36904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670360" y="5237280"/>
                <a:ext cx="300960" cy="519120"/>
                <a:chOff x="5670360" y="5237280"/>
                <a:chExt cx="300960" cy="519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71104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67036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971320" y="5237280"/>
                <a:ext cx="881640" cy="519120"/>
                <a:chOff x="5971320" y="5237280"/>
                <a:chExt cx="881640" cy="519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12360" y="5237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71320" y="5237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960" y="5756400"/>
                <a:ext cx="2653920" cy="519120"/>
                <a:chOff x="3960" y="5756400"/>
                <a:chExt cx="2653920" cy="5191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4640" y="575640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administrative du personne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960" y="575640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657880" y="5756400"/>
                <a:ext cx="300960" cy="519120"/>
                <a:chOff x="2657880" y="5756400"/>
                <a:chExt cx="300960" cy="519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6985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578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959200" y="5756400"/>
                <a:ext cx="300960" cy="519120"/>
                <a:chOff x="2959200" y="5756400"/>
                <a:chExt cx="300960" cy="5191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002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95920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260160" y="5756400"/>
                <a:ext cx="301320" cy="519120"/>
                <a:chOff x="3260160" y="5756400"/>
                <a:chExt cx="301320" cy="5191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30120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26016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561480" y="5756400"/>
                <a:ext cx="300960" cy="519120"/>
                <a:chOff x="3561480" y="5756400"/>
                <a:chExt cx="300960" cy="5191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021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5614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862800" y="5756400"/>
                <a:ext cx="301320" cy="519120"/>
                <a:chOff x="3862800" y="5756400"/>
                <a:chExt cx="301320" cy="5191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9038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628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164120" y="5756400"/>
                <a:ext cx="300960" cy="519120"/>
                <a:chOff x="4164120" y="5756400"/>
                <a:chExt cx="300960" cy="5191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2048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641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465080" y="5756400"/>
                <a:ext cx="300960" cy="519120"/>
                <a:chOff x="4465080" y="5756400"/>
                <a:chExt cx="300960" cy="5191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50612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650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766400" y="5756400"/>
                <a:ext cx="301320" cy="519120"/>
                <a:chOff x="4766400" y="5756400"/>
                <a:chExt cx="301320" cy="5191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8074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7664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067720" y="5756400"/>
                <a:ext cx="300960" cy="519120"/>
                <a:chOff x="5067720" y="5756400"/>
                <a:chExt cx="300960" cy="5191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1084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0677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369040" y="5756400"/>
                <a:ext cx="301320" cy="519120"/>
                <a:chOff x="5369040" y="5756400"/>
                <a:chExt cx="301320" cy="5191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41008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36904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670360" y="5756400"/>
                <a:ext cx="300960" cy="519120"/>
                <a:chOff x="5670360" y="5756400"/>
                <a:chExt cx="300960" cy="5191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71104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67036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971320" y="5756400"/>
                <a:ext cx="881640" cy="519120"/>
                <a:chOff x="5971320" y="5756400"/>
                <a:chExt cx="881640" cy="5191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012360" y="575640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71320" y="575640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960" y="6275880"/>
                <a:ext cx="2653920" cy="519480"/>
                <a:chOff x="3960" y="6275880"/>
                <a:chExt cx="2653920" cy="5194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4640" y="6275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han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60" y="6275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657880" y="6275880"/>
                <a:ext cx="300960" cy="519480"/>
                <a:chOff x="2657880" y="6275880"/>
                <a:chExt cx="300960" cy="5194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6985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578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959200" y="6275880"/>
                <a:ext cx="300960" cy="519480"/>
                <a:chOff x="2959200" y="6275880"/>
                <a:chExt cx="300960" cy="5194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002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95920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260160" y="6275880"/>
                <a:ext cx="301320" cy="519480"/>
                <a:chOff x="3260160" y="6275880"/>
                <a:chExt cx="301320" cy="5194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30120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26016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561480" y="6275880"/>
                <a:ext cx="300960" cy="519480"/>
                <a:chOff x="3561480" y="6275880"/>
                <a:chExt cx="300960" cy="5194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6021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5614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862800" y="6275880"/>
                <a:ext cx="301320" cy="519480"/>
                <a:chOff x="3862800" y="6275880"/>
                <a:chExt cx="301320" cy="5194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038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628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164120" y="6275880"/>
                <a:ext cx="300960" cy="519480"/>
                <a:chOff x="4164120" y="6275880"/>
                <a:chExt cx="300960" cy="5194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2048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1641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465080" y="6275880"/>
                <a:ext cx="300960" cy="519480"/>
                <a:chOff x="4465080" y="6275880"/>
                <a:chExt cx="300960" cy="5194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50612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4650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766400" y="6275880"/>
                <a:ext cx="301320" cy="519480"/>
                <a:chOff x="4766400" y="6275880"/>
                <a:chExt cx="301320" cy="5194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8074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7664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067720" y="6275880"/>
                <a:ext cx="300960" cy="519480"/>
                <a:chOff x="5067720" y="6275880"/>
                <a:chExt cx="300960" cy="5194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1084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0677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369040" y="6275880"/>
                <a:ext cx="301320" cy="519480"/>
                <a:chOff x="5369040" y="6275880"/>
                <a:chExt cx="301320" cy="5194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41008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36904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670360" y="6275880"/>
                <a:ext cx="300960" cy="519480"/>
                <a:chOff x="5670360" y="6275880"/>
                <a:chExt cx="300960" cy="5194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71104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67036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971320" y="6275880"/>
                <a:ext cx="881640" cy="519480"/>
                <a:chOff x="5971320" y="6275880"/>
                <a:chExt cx="881640" cy="5194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012360" y="6275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71320" y="6275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3960" y="6795360"/>
                <a:ext cx="2653920" cy="519120"/>
                <a:chOff x="3960" y="6795360"/>
                <a:chExt cx="2653920" cy="5191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4640" y="6795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 l’en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960" y="6795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657880" y="6795360"/>
                <a:ext cx="300960" cy="519120"/>
                <a:chOff x="2657880" y="6795360"/>
                <a:chExt cx="300960" cy="5191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6985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578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959200" y="6795360"/>
                <a:ext cx="300960" cy="519120"/>
                <a:chOff x="2959200" y="6795360"/>
                <a:chExt cx="300960" cy="5191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002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95920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260160" y="6795360"/>
                <a:ext cx="301320" cy="519120"/>
                <a:chOff x="3260160" y="6795360"/>
                <a:chExt cx="301320" cy="5191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30120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6016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561480" y="6795360"/>
                <a:ext cx="300960" cy="519120"/>
                <a:chOff x="3561480" y="6795360"/>
                <a:chExt cx="300960" cy="5191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6021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614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862800" y="6795360"/>
                <a:ext cx="301320" cy="519120"/>
                <a:chOff x="3862800" y="6795360"/>
                <a:chExt cx="301320" cy="5191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9038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8628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164120" y="6795360"/>
                <a:ext cx="300960" cy="519120"/>
                <a:chOff x="4164120" y="6795360"/>
                <a:chExt cx="300960" cy="5191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2048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1641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465080" y="6795360"/>
                <a:ext cx="300960" cy="519120"/>
                <a:chOff x="4465080" y="6795360"/>
                <a:chExt cx="300960" cy="5191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50612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4650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766400" y="6795360"/>
                <a:ext cx="301320" cy="519120"/>
                <a:chOff x="4766400" y="6795360"/>
                <a:chExt cx="301320" cy="5191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8074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7664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067720" y="6795360"/>
                <a:ext cx="300960" cy="519120"/>
                <a:chOff x="5067720" y="6795360"/>
                <a:chExt cx="300960" cy="5191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1084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0677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369040" y="6795360"/>
                <a:ext cx="301320" cy="519120"/>
                <a:chOff x="5369040" y="6795360"/>
                <a:chExt cx="301320" cy="5191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41008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36904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670360" y="6795360"/>
                <a:ext cx="300960" cy="519120"/>
                <a:chOff x="5670360" y="6795360"/>
                <a:chExt cx="300960" cy="5191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71104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7036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5971320" y="6795360"/>
                <a:ext cx="881640" cy="519120"/>
                <a:chOff x="5971320" y="6795360"/>
                <a:chExt cx="881640" cy="5191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012360" y="6795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971320" y="6795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3960" y="7314840"/>
                <a:ext cx="2653920" cy="519480"/>
                <a:chOff x="3960" y="7314840"/>
                <a:chExt cx="2653920" cy="51948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4640" y="7314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s pièces comptabl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960" y="7314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657880" y="7314840"/>
                <a:ext cx="300960" cy="519480"/>
                <a:chOff x="2657880" y="7314840"/>
                <a:chExt cx="300960" cy="5194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6985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6578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2959200" y="7314840"/>
                <a:ext cx="300960" cy="519480"/>
                <a:chOff x="2959200" y="7314840"/>
                <a:chExt cx="300960" cy="5194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002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95920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260160" y="7314840"/>
                <a:ext cx="301320" cy="519480"/>
                <a:chOff x="3260160" y="7314840"/>
                <a:chExt cx="301320" cy="5194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30120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6016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561480" y="7314840"/>
                <a:ext cx="300960" cy="519480"/>
                <a:chOff x="3561480" y="7314840"/>
                <a:chExt cx="300960" cy="5194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6021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5614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862800" y="7314840"/>
                <a:ext cx="301320" cy="519480"/>
                <a:chOff x="3862800" y="7314840"/>
                <a:chExt cx="301320" cy="5194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39038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8628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164120" y="7314840"/>
                <a:ext cx="300960" cy="519480"/>
                <a:chOff x="4164120" y="7314840"/>
                <a:chExt cx="300960" cy="5194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2048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641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465080" y="7314840"/>
                <a:ext cx="300960" cy="519480"/>
                <a:chOff x="4465080" y="7314840"/>
                <a:chExt cx="300960" cy="5194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50612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4650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766400" y="7314840"/>
                <a:ext cx="301320" cy="519480"/>
                <a:chOff x="4766400" y="7314840"/>
                <a:chExt cx="301320" cy="5194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8074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7664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067720" y="7314840"/>
                <a:ext cx="300960" cy="519480"/>
                <a:chOff x="5067720" y="7314840"/>
                <a:chExt cx="300960" cy="5194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1084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0677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69040" y="7314840"/>
                <a:ext cx="301320" cy="519480"/>
                <a:chOff x="5369040" y="7314840"/>
                <a:chExt cx="301320" cy="5194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41008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6904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670360" y="7314840"/>
                <a:ext cx="300960" cy="519480"/>
                <a:chOff x="5670360" y="7314840"/>
                <a:chExt cx="300960" cy="5194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71104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67036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971320" y="7314840"/>
                <a:ext cx="881640" cy="519480"/>
                <a:chOff x="5971320" y="7314840"/>
                <a:chExt cx="881640" cy="5194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012360" y="7314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971320" y="7314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960" y="7834320"/>
                <a:ext cx="2653920" cy="519120"/>
                <a:chOff x="3960" y="7834320"/>
                <a:chExt cx="2653920" cy="5191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4640" y="7834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raitements administratif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960" y="7834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657880" y="7834320"/>
                <a:ext cx="300960" cy="519120"/>
                <a:chOff x="2657880" y="7834320"/>
                <a:chExt cx="300960" cy="5191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6985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6578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959200" y="7834320"/>
                <a:ext cx="300960" cy="519120"/>
                <a:chOff x="2959200" y="7834320"/>
                <a:chExt cx="300960" cy="5191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002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95920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260160" y="7834320"/>
                <a:ext cx="301320" cy="519120"/>
                <a:chOff x="3260160" y="7834320"/>
                <a:chExt cx="301320" cy="5191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30120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6016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561480" y="7834320"/>
                <a:ext cx="300960" cy="519120"/>
                <a:chOff x="3561480" y="7834320"/>
                <a:chExt cx="300960" cy="5191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6021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14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862800" y="7834320"/>
                <a:ext cx="301320" cy="519120"/>
                <a:chOff x="3862800" y="7834320"/>
                <a:chExt cx="301320" cy="5191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9038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8628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164120" y="7834320"/>
                <a:ext cx="300960" cy="519120"/>
                <a:chOff x="4164120" y="7834320"/>
                <a:chExt cx="300960" cy="5191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2048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1641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465080" y="7834320"/>
                <a:ext cx="300960" cy="519120"/>
                <a:chOff x="4465080" y="7834320"/>
                <a:chExt cx="300960" cy="5191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50612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4650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766400" y="7834320"/>
                <a:ext cx="301320" cy="519120"/>
                <a:chOff x="4766400" y="7834320"/>
                <a:chExt cx="301320" cy="5191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8074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664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067720" y="7834320"/>
                <a:ext cx="300960" cy="519120"/>
                <a:chOff x="5067720" y="7834320"/>
                <a:chExt cx="300960" cy="5191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1084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0677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369040" y="7834320"/>
                <a:ext cx="301320" cy="519120"/>
                <a:chOff x="5369040" y="7834320"/>
                <a:chExt cx="301320" cy="5191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41008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904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670360" y="7834320"/>
                <a:ext cx="300960" cy="519120"/>
                <a:chOff x="5670360" y="7834320"/>
                <a:chExt cx="300960" cy="5191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71104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67036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5971320" y="7834320"/>
                <a:ext cx="881640" cy="519120"/>
                <a:chOff x="5971320" y="7834320"/>
                <a:chExt cx="881640" cy="5191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012360" y="7834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971320" y="7834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960" y="8353440"/>
                <a:ext cx="2653920" cy="785520"/>
                <a:chOff x="3960" y="8353440"/>
                <a:chExt cx="2653920" cy="7855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4640" y="8353440"/>
                  <a:ext cx="25718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60" y="8353440"/>
                  <a:ext cx="26539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657880" y="8353440"/>
                <a:ext cx="300960" cy="785520"/>
                <a:chOff x="2657880" y="8353440"/>
                <a:chExt cx="300960" cy="7855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6985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6578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2959200" y="8353440"/>
                <a:ext cx="300960" cy="785520"/>
                <a:chOff x="2959200" y="8353440"/>
                <a:chExt cx="300960" cy="7855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002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95920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60160" y="8353440"/>
                <a:ext cx="301320" cy="785520"/>
                <a:chOff x="3260160" y="8353440"/>
                <a:chExt cx="301320" cy="7855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30120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26016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561480" y="8353440"/>
                <a:ext cx="300960" cy="785520"/>
                <a:chOff x="3561480" y="8353440"/>
                <a:chExt cx="300960" cy="7855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6021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5614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862800" y="8353440"/>
                <a:ext cx="301320" cy="785520"/>
                <a:chOff x="3862800" y="8353440"/>
                <a:chExt cx="301320" cy="7855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9038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8628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164120" y="8353440"/>
                <a:ext cx="300960" cy="785520"/>
                <a:chOff x="4164120" y="8353440"/>
                <a:chExt cx="300960" cy="7855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2048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641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465080" y="8353440"/>
                <a:ext cx="300960" cy="785520"/>
                <a:chOff x="4465080" y="8353440"/>
                <a:chExt cx="300960" cy="7855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0612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650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766400" y="8353440"/>
                <a:ext cx="301320" cy="785520"/>
                <a:chOff x="4766400" y="8353440"/>
                <a:chExt cx="301320" cy="7855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8074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7664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067720" y="8353440"/>
                <a:ext cx="300960" cy="785520"/>
                <a:chOff x="5067720" y="8353440"/>
                <a:chExt cx="300960" cy="7855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1084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0677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369040" y="8353440"/>
                <a:ext cx="301320" cy="785520"/>
                <a:chOff x="5369040" y="8353440"/>
                <a:chExt cx="301320" cy="7855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41008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36904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670360" y="8353440"/>
                <a:ext cx="300960" cy="785520"/>
                <a:chOff x="5670360" y="8353440"/>
                <a:chExt cx="300960" cy="785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71104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7036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971320" y="8353440"/>
                <a:ext cx="881640" cy="785520"/>
                <a:chOff x="5971320" y="8353440"/>
                <a:chExt cx="881640" cy="7855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012360" y="8353440"/>
                  <a:ext cx="79956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0/15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971320" y="8353440"/>
                  <a:ext cx="88164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20:32Z</dcterms:created>
  <dc:creator>MADERS</dc:creator>
  <dc:description/>
  <dc:language>en-US</dc:language>
  <cp:lastModifiedBy>MADERS</cp:lastModifiedBy>
  <dcterms:modified xsi:type="dcterms:W3CDTF">2002-03-09T11:24:31Z</dcterms:modified>
  <cp:revision>2</cp:revision>
  <dc:subject/>
  <dc:title>Présentation PowerPoint</dc:title>
</cp:coreProperties>
</file>