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091-F0DA-4864-B69E-DEF34D33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363-E66D-407D-A747-300DB050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0F4-F09F-4F50-B836-85FDC769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E99-56A8-4812-988A-B7794994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B6AE-51CA-431F-8A94-49D480B3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E7F-2B7D-4A1C-99C1-7374882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958-9A72-4D0F-8207-05634FD3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29A1-F840-4DE3-843E-6B12C7B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DB6-EE24-4D51-AD7F-7DA1BA29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29C-DBCD-4EFF-B406-2FB1639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2B5-F2BC-4CD4-AF42-F9001223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C92-78B1-4574-B8EF-9996507D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CC0-FB3A-4F7B-B714-8F49092C3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ompte-rendu de réun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02/03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Groupe des 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han, Mmes Hélène, Anne, Boranie, Anne-Marie et Pa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mes Marie-Claire et Christia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15/06/09 de 10 H à 12 H en salle « L’Imbertiè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cessus variés selon les Directions et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procédure de traitement formalisé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réclamations causées par la baisse de la Bo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demandes de renseignement concernant la déclaration des revenus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 délais variables et plutôt en détério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 stock de courriers en augm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09Z</dcterms:modified>
  <cp:revision>12</cp:revision>
  <dc:subject/>
  <dc:title>Présentation PowerPoint</dc:title>
</cp:coreProperties>
</file>