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8C8-60E1-4998-8B24-84B4749A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0A5-CBAC-418A-B8F2-63BEE5DB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59C-B61F-4FC4-B1D2-CFCE8604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F272-6B7A-4089-9585-BE23F2E6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2CD-ACA0-402B-8BB5-2ED88C9F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C03-2BA1-43FB-A93C-FD483408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C91-CB9F-4AC3-B613-4DFF5930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D3B-BB62-4239-9E0F-2EAAD64F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ECE1-9595-4AFD-97EE-2CAF8FC3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FA2-2461-404A-A774-A29E3FC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C34-67F3-427D-A35C-24B8473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528-8D4C-487C-9B1C-9EFFAF2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1D5-6C62-416F-9308-1DFF81A34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8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2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3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0" y="1981080"/>
            <a:ext cx="25909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anque 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5"/>
          <p:cNvSpPr/>
          <p:nvPr/>
        </p:nvSpPr>
        <p:spPr>
          <a:xfrm>
            <a:off x="2590920" y="1981080"/>
            <a:ext cx="2133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Le client est la personne la plus performante de l’entreprise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47242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° ve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2590920" y="30481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Notre métier est de servir le cli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4732200" y="30481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dédié rattaché à la D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37339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aîne d’hôtels 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590920" y="37339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s suggestions nous intéress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724280" y="37339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s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2590920" y="44197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us êtes ici chez vous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4732200" y="44197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ndages réguliers auprès des clients abonn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51055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pagnie d’aviation 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Contre-exem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2590920" y="5105520"/>
            <a:ext cx="21333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Faire du ciel le plus bel endroit de la ter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4724280" y="5105520"/>
            <a:ext cx="2133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réponse aux lettres de récla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4732200" y="2438280"/>
            <a:ext cx="212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ercles d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0" y="64771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51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dre à 100 %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52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des lettr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53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3:16Z</dcterms:modified>
  <cp:revision>13</cp:revision>
  <dc:subject/>
  <dc:title>Présentation PowerPoint</dc:title>
</cp:coreProperties>
</file>