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1E8C-1B40-4B6C-9949-B33BD2EF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489-3038-4678-93AB-3F177BB9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D59-A5D6-4283-8A5A-8F796E27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403-32B7-4D68-957A-6CC930E6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344-8763-4977-9238-4BCAAA25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44B-F5E1-4FD3-9027-DCE0D674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4A15-EA92-4950-BC17-8CEDB818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5DD-2579-4ACD-9DDE-250D6E6D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E90-4606-4427-8CBF-A82FA0C4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7E2-A676-4060-ADA6-636947CC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1F4-4203-4E34-930B-61919DF2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B67C-DB2F-4627-AC34-07A570F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EC9D-1255-4111-9DD7-31F3A2C82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nque de Bel air – Plan d’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70102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09480"/>
            <a:ext cx="2133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04/04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1371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371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371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b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77320" y="1371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ettre en place le logic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2057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057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2057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77320" y="2057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743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2743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2743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efs de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2743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2743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34290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4290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p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10280" y="34290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77320" y="34290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1148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41148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Pie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41148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. Anto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41148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4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41148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0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8006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8006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4800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48006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077320" y="48006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54864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4864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864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77320" y="54864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172200"/>
            <a:ext cx="3657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6172200"/>
            <a:ext cx="1676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61722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0280" y="6172200"/>
            <a:ext cx="1067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6172200"/>
            <a:ext cx="10666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 </cp:lastModifiedBy>
  <dcterms:modified xsi:type="dcterms:W3CDTF">2009-05-05T08:50:57Z</dcterms:modified>
  <cp:revision>10</cp:revision>
  <dc:subject/>
  <dc:title>Présentation PowerPoint</dc:title>
</cp:coreProperties>
</file>