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D52-F943-4288-BA41-042F6042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BD7-4032-4D74-9E2D-4C40BCB7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86B5-0432-4398-832C-DC0EF972A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B78-DE8F-4FA4-95F0-170D2442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F7B-10EE-4A11-BE1B-FB5BFD885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409-3411-417C-ACA7-39773E34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7AC-1F33-4461-B16E-E38D8E6F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0F1-E47E-414F-808F-288469F9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7345-FE60-4F65-9EE1-943D71AFC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135-9820-49BB-84CA-431BA18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DE6-99BB-4C0C-BC14-8D943AFF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75C-A4E1-4C9C-9CBA-C5754C53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C1B4-B509-46C5-9857-50773657C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7/01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2743200"/>
            <a:ext cx="76212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8/02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1/03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763120" y="27432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0/06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1" idx="6"/>
            <a:endCxn id="42" idx="2"/>
          </p:cNvCxnSpPr>
          <p:nvPr/>
        </p:nvCxnSpPr>
        <p:spPr>
          <a:xfrm>
            <a:off x="1219320" y="3124440"/>
            <a:ext cx="167652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" name=""/>
          <p:cNvCxnSpPr>
            <a:stCxn id="43" idx="6"/>
            <a:endCxn id="44" idx="2"/>
          </p:cNvCxnSpPr>
          <p:nvPr/>
        </p:nvCxnSpPr>
        <p:spPr>
          <a:xfrm>
            <a:off x="5867280" y="3124440"/>
            <a:ext cx="289620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2" idx="6"/>
            <a:endCxn id="43" idx="2"/>
          </p:cNvCxnSpPr>
          <p:nvPr/>
        </p:nvCxnSpPr>
        <p:spPr>
          <a:xfrm>
            <a:off x="3657600" y="3124440"/>
            <a:ext cx="1448280" cy="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4"/>
            <a:endCxn id="44" idx="4"/>
          </p:cNvCxnSpPr>
          <p:nvPr/>
        </p:nvCxnSpPr>
        <p:spPr>
          <a:xfrm rot="16200000">
            <a:off x="4991040" y="-647640"/>
            <a:ext cx="360" cy="83059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1" idx="0"/>
            <a:endCxn id="44" idx="0"/>
          </p:cNvCxnSpPr>
          <p:nvPr/>
        </p:nvCxnSpPr>
        <p:spPr>
          <a:xfrm rot="16200000">
            <a:off x="4991040" y="-1409760"/>
            <a:ext cx="360" cy="8305920"/>
          </a:xfrm>
          <a:prstGeom prst="bentConnector3">
            <a:avLst>
              <a:gd name="adj1" fmla="val -6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1055880" y="254016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yse de l’exis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98840" y="254016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anisation c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44840" y="2540160"/>
            <a:ext cx="23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duite du chan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66760" y="1397160"/>
            <a:ext cx="20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unication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81320" y="5267160"/>
            <a:ext cx="162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stio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1" idx="4"/>
            <a:endCxn id="43" idx="4"/>
          </p:cNvCxnSpPr>
          <p:nvPr/>
        </p:nvCxnSpPr>
        <p:spPr>
          <a:xfrm rot="16200000">
            <a:off x="3162240" y="1181160"/>
            <a:ext cx="360" cy="4648320"/>
          </a:xfrm>
          <a:prstGeom prst="bentConnector3">
            <a:avLst>
              <a:gd name="adj1" fmla="val 643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2640240" y="4200480"/>
            <a:ext cx="11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515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 </cp:lastModifiedBy>
  <cp:lastPrinted>2000-05-11T10:17:14Z</cp:lastPrinted>
  <dcterms:modified xsi:type="dcterms:W3CDTF">2009-05-05T08:51:23Z</dcterms:modified>
  <cp:revision>99</cp:revision>
  <dc:subject/>
  <dc:title>Présentation PowerPoint</dc:title>
</cp:coreProperties>
</file>