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349A-E473-4479-A9FF-A85974E7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4D2-E70E-4CC6-BE11-BA11AF36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610-F79E-4E1E-B1EC-F4357C54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444-FF7A-4330-924F-CBD46065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573-4AD0-425F-BDE8-E901BAED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74E2-17D9-4869-BEDA-DEB45EE9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D0D2-FDE0-4A0C-A644-E09A86B5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1382-47B2-4B86-9218-D01EB0D1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E28-E857-4144-8DAD-3A65E67D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64C-A7DB-4C9A-9708-F6A27920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B40-8D0C-438E-8B06-48E9C6EB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A2A-7AAE-4660-9ADA-EE822E81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DF5F-7798-499A-B314-9D30A544B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Dossier de choi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0948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858000" y="609480"/>
            <a:ext cx="2286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04/04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8954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1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par les agents du siège en work-f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388620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2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par le servic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48769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3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en partie par les secrétaires avec des lettres 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0" y="58672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4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19051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olution actuell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manuellement par les agents su siè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137160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743200" y="137160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s de fonctionn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4572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6858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convén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2743200" y="19051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5 avec des pointes à 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4572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ntrôles hiérarch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ation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6858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s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isque de non exhaustiv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bsence de 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2743200" y="2895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5 avec des pointes à 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20 K€ par 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4572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6858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stissement informatique init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s de mise en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2743200" y="388620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2 avec appels à experti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572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 commerciale des répon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s statist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6858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responsabilisation des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2743200" y="48769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4572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ain de temps pour les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6858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isque de standardisation des répon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2743200" y="5867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4572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6858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4:52Z</dcterms:modified>
  <cp:revision>10</cp:revision>
  <dc:subject/>
  <dc:title>Présentation PowerPoint</dc:title>
</cp:coreProperties>
</file>