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3A1-F73E-4EF3-B6FC-330A5D95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2A1-3521-4845-8842-6A34E177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FA8B-CF7B-4581-A1D4-633A0CB88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898E-3231-4C16-8059-1B042B947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4D8-6286-4B54-8391-DA367FF5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E52-FE51-47C1-89E5-1A27BB5C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E5EF-307D-41C8-AEA4-A293B197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CAA-718D-4E04-84CF-816EB91A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14B-EE66-4D77-9CB8-CB284A79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021-D05D-4BD9-908E-5B241BB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DEF-3E59-42C4-8984-A709A8EB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C09-E9BB-459B-AD88-B78C2902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CED-8191-471B-8C68-914C24BEC7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6858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Banque de Bel air – Benchma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0" y="609480"/>
            <a:ext cx="4724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ojet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: Reengineering du processus de traitement des courriers cli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724280" y="6094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Date :</a:t>
            </a: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 28/04/0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13"/>
          <p:cNvSpPr/>
          <p:nvPr/>
        </p:nvSpPr>
        <p:spPr>
          <a:xfrm>
            <a:off x="0" y="1295280"/>
            <a:ext cx="2590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Liste des organisations réputées performan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2"/>
          <p:cNvSpPr/>
          <p:nvPr/>
        </p:nvSpPr>
        <p:spPr>
          <a:xfrm>
            <a:off x="2590920" y="129528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Convictions affich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33"/>
          <p:cNvSpPr/>
          <p:nvPr/>
        </p:nvSpPr>
        <p:spPr>
          <a:xfrm>
            <a:off x="4724280" y="129528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Principes d’organisation identifi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34"/>
          <p:cNvSpPr/>
          <p:nvPr/>
        </p:nvSpPr>
        <p:spPr>
          <a:xfrm>
            <a:off x="0" y="1981080"/>
            <a:ext cx="25909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Banque 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35"/>
          <p:cNvSpPr/>
          <p:nvPr/>
        </p:nvSpPr>
        <p:spPr>
          <a:xfrm>
            <a:off x="2590920" y="1981080"/>
            <a:ext cx="2133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Le client est la personne la plus performante de l’entreprise 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36"/>
          <p:cNvSpPr/>
          <p:nvPr/>
        </p:nvSpPr>
        <p:spPr>
          <a:xfrm>
            <a:off x="4724280" y="1981080"/>
            <a:ext cx="21337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N° ve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37"/>
          <p:cNvSpPr/>
          <p:nvPr/>
        </p:nvSpPr>
        <p:spPr>
          <a:xfrm>
            <a:off x="2590920" y="30481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Notre métier est de servir le cli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Rectangle 38"/>
          <p:cNvSpPr/>
          <p:nvPr/>
        </p:nvSpPr>
        <p:spPr>
          <a:xfrm>
            <a:off x="4732200" y="30481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ervice dédié rattaché à la D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39"/>
          <p:cNvSpPr/>
          <p:nvPr/>
        </p:nvSpPr>
        <p:spPr>
          <a:xfrm>
            <a:off x="0" y="37339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haîne d’hôtels 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2590920" y="37339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s suggestions nous intéressent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4724280" y="37339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s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2590920" y="4419720"/>
            <a:ext cx="2133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Vous êtes ici chez vous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4732200" y="4419720"/>
            <a:ext cx="21337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Sondages réguliers auprès des clients abonné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5105520"/>
            <a:ext cx="25909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ompagnie d’aviation Z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(Contre-exempl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2590920" y="5105520"/>
            <a:ext cx="21333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« Faire du ciel le plus bel endroit de la terre 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4724280" y="5105520"/>
            <a:ext cx="21337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as de réponse aux lettres de récla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Rectangle 49"/>
          <p:cNvSpPr/>
          <p:nvPr/>
        </p:nvSpPr>
        <p:spPr>
          <a:xfrm>
            <a:off x="4732200" y="2438280"/>
            <a:ext cx="2125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ercles de qualit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50"/>
          <p:cNvSpPr/>
          <p:nvPr/>
        </p:nvSpPr>
        <p:spPr>
          <a:xfrm>
            <a:off x="0" y="6477120"/>
            <a:ext cx="68580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Idées à retenir pour le proje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Rectangle 51"/>
          <p:cNvSpPr/>
          <p:nvPr/>
        </p:nvSpPr>
        <p:spPr>
          <a:xfrm>
            <a:off x="0" y="73152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Répondre à 100 % des courri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52"/>
          <p:cNvSpPr/>
          <p:nvPr/>
        </p:nvSpPr>
        <p:spPr>
          <a:xfrm>
            <a:off x="0" y="77724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Faire des lettres personnalisé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Rectangle 53"/>
          <p:cNvSpPr/>
          <p:nvPr/>
        </p:nvSpPr>
        <p:spPr>
          <a:xfrm>
            <a:off x="0" y="82296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54"/>
          <p:cNvSpPr/>
          <p:nvPr/>
        </p:nvSpPr>
        <p:spPr>
          <a:xfrm>
            <a:off x="0" y="8686800"/>
            <a:ext cx="6858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Créer un service dédié rattaché à la DG pour piloter l’ensem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1:02:41Z</dcterms:created>
  <dc:creator>MADERS</dc:creator>
  <dc:description/>
  <dc:language>en-US</dc:language>
  <cp:lastModifiedBy>Matthieu Montaudouin</cp:lastModifiedBy>
  <dcterms:modified xsi:type="dcterms:W3CDTF">2009-06-08T10:03:16Z</dcterms:modified>
  <cp:revision>13</cp:revision>
  <dc:subject/>
  <dc:title>Présentation PowerPoint</dc:title>
</cp:coreProperties>
</file>