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382-1EB2-4D20-A867-BAA4741A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55E0-8CAC-4F1A-9737-8AC66189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2CF-CD85-480A-918C-0CBABEC3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514-36A4-499A-9E5E-5603B886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8CC5-EAB3-4151-96B7-D2FD2C08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D0B-4A9B-4AF5-A1F2-036EFB60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165-F548-45FD-A6C3-3318283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2128-0E3C-4F58-9C5C-0CB420FD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7B7-0511-4318-9B31-6B81FD8B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1DB-DA1B-4250-A20B-78B03D4A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53C-CB0F-4944-A954-D2196182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533-4473-4E2F-85A7-02C1A9C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5CDD-BDE3-4BD2-895A-52F4882D3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nch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781680"/>
            <a:ext cx="68580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981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981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981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666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2666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666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3526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33526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33526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0384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0384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038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724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4724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4724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100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4100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54100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0958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90920" y="60958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60958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DERS</cp:lastModifiedBy>
  <dcterms:modified xsi:type="dcterms:W3CDTF">2002-03-09T18:08:27Z</dcterms:modified>
  <cp:revision>10</cp:revision>
  <dc:subject/>
  <dc:title>Présentation PowerPoint</dc:title>
</cp:coreProperties>
</file>