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C060-1ED5-48B9-BB1B-8C50C218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9D28-110A-4AD5-A249-53F5112D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0EE-E6BC-4225-9126-387BFA76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4E6F-3358-4E52-9005-8605EF4C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7EB-5AB7-4E5A-BE42-4B4E936A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9567-1F67-44B0-B23A-48607F14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ED3-A796-42DD-836E-FA694857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8C77-3146-420C-8106-7CF8E61A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E71-104B-4936-A600-D5184A3D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28C-79F1-4C8F-AB99-662C22E9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D80-1BAF-4258-A545-72EDE473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0B27-E2BB-409E-9566-AF34FFE2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A0F6-43C5-4142-8596-435E30678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32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7/01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27432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8/02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27432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1/03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763120" y="27432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0/06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1" idx="6"/>
            <a:endCxn id="42" idx="2"/>
          </p:cNvCxnSpPr>
          <p:nvPr/>
        </p:nvCxnSpPr>
        <p:spPr>
          <a:xfrm>
            <a:off x="1219320" y="3124440"/>
            <a:ext cx="167652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6"/>
            <a:endCxn id="44" idx="2"/>
          </p:cNvCxnSpPr>
          <p:nvPr/>
        </p:nvCxnSpPr>
        <p:spPr>
          <a:xfrm>
            <a:off x="5867280" y="3124440"/>
            <a:ext cx="289620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6"/>
            <a:endCxn id="43" idx="2"/>
          </p:cNvCxnSpPr>
          <p:nvPr/>
        </p:nvCxnSpPr>
        <p:spPr>
          <a:xfrm>
            <a:off x="3657600" y="3124440"/>
            <a:ext cx="14482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4"/>
            <a:endCxn id="44" idx="4"/>
          </p:cNvCxnSpPr>
          <p:nvPr/>
        </p:nvCxnSpPr>
        <p:spPr>
          <a:xfrm rot="16200000">
            <a:off x="4991040" y="-647640"/>
            <a:ext cx="360" cy="8305920"/>
          </a:xfrm>
          <a:prstGeom prst="bentConnector3">
            <a:avLst>
              <a:gd name="adj1" fmla="val 64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1" idx="0"/>
            <a:endCxn id="44" idx="0"/>
          </p:cNvCxnSpPr>
          <p:nvPr/>
        </p:nvCxnSpPr>
        <p:spPr>
          <a:xfrm rot="16200000">
            <a:off x="4991040" y="-1409760"/>
            <a:ext cx="360" cy="8305920"/>
          </a:xfrm>
          <a:prstGeom prst="bentConnector3">
            <a:avLst>
              <a:gd name="adj1" fmla="val -6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1055880" y="254016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yse de l’exi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8840" y="254016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anisation c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44840" y="2540160"/>
            <a:ext cx="23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duite du chan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66760" y="1397160"/>
            <a:ext cx="20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unication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81320" y="5267160"/>
            <a:ext cx="16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stion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1" idx="4"/>
            <a:endCxn id="43" idx="4"/>
          </p:cNvCxnSpPr>
          <p:nvPr/>
        </p:nvCxnSpPr>
        <p:spPr>
          <a:xfrm rot="16200000">
            <a:off x="3162240" y="1181160"/>
            <a:ext cx="360" cy="4648320"/>
          </a:xfrm>
          <a:prstGeom prst="bentConnector3">
            <a:avLst>
              <a:gd name="adj1" fmla="val 64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640240" y="420048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nchm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515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 </cp:lastModifiedBy>
  <cp:lastPrinted>2000-05-11T10:17:14Z</cp:lastPrinted>
  <dcterms:modified xsi:type="dcterms:W3CDTF">2009-05-05T08:51:23Z</dcterms:modified>
  <cp:revision>99</cp:revision>
  <dc:subject/>
  <dc:title>Présentation PowerPoint</dc:title>
</cp:coreProperties>
</file>