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0A7-0F4D-400F-A531-A120D858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1C36-5C8D-46D6-AC92-68DDC89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B061-362F-4FC9-AAC8-5E2BEC68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688-3A5E-4C2F-9962-EAE139A3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E02-BD9E-487C-B396-FBBDDF7F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711-C1C3-4C20-B8EC-CE75B18D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494-4E10-46A8-AA93-EEFC75E5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646-1DD8-4112-A601-49DEF0C3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E1B-11E2-47C1-AF91-2652F0F4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FA1-4884-4C07-BAF8-ADEE0481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F25-2B5C-4F11-91D2-57683D72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198-F864-4A2E-8E4D-79BDCF8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7B32-280C-4374-966A-7308F189A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que de Bel air – Tableau de bord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0199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609480"/>
            <a:ext cx="3124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Février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mai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8 au 13/02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371600"/>
            <a:ext cx="4419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arge/ac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182880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371600"/>
            <a:ext cx="1447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53080" y="1828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é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8880" y="1828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01000" y="1371600"/>
            <a:ext cx="1143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1828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2057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53080" y="2286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2286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286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2514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743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38880" y="2743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743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971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3200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200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3200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429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657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3657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3657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886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53080" y="4114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4114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4114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53080" y="45720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45720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50292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0292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54864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54864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53080" y="59436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59436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4343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4572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6400800"/>
            <a:ext cx="685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7/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ev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éa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01000" y="2286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2743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01000" y="3200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3657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4114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01000" y="45720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50292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54864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1000" y="59436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640080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400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43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486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29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572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1148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7432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ire bench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1880" y="23623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2819520"/>
            <a:ext cx="304920" cy="304560"/>
          </a:xfrm>
          <a:prstGeom prst="smileyFace">
            <a:avLst>
              <a:gd name="adj" fmla="val 1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1880" y="6019920"/>
            <a:ext cx="304920" cy="30456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1880" y="64771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66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66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66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66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812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84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384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84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384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384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956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528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10080" y="3657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3886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3200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3429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743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2971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6400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4114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4343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10080" y="4572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10080" y="4800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52578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5486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5715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5943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61722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67280" y="2743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71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3200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3429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67280" y="3657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867280" y="3886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4114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4343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4572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800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67280" y="5029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5257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5486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715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5943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61722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64008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66294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812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384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56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528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528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860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0080" y="25146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5146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228600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1880" y="3276720"/>
            <a:ext cx="304920" cy="30456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0:22:35Z</dcterms:created>
  <dc:creator>MADERS</dc:creator>
  <dc:description/>
  <dc:language>en-US</dc:language>
  <cp:lastModifiedBy> </cp:lastModifiedBy>
  <dcterms:modified xsi:type="dcterms:W3CDTF">2009-05-05T08:49:38Z</dcterms:modified>
  <cp:revision>7</cp:revision>
  <dc:subject/>
  <dc:title>Présentation PowerPoint</dc:title>
</cp:coreProperties>
</file>