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C9C7-624A-43CD-824F-3E729D24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0687-3302-4F5E-BF7C-16E7982E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238F-1C51-4EF0-A86D-100B67510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FB48-A696-4768-9025-DB344CCDA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6181-3AB6-42F4-B862-79427FB9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6310-4923-41C1-A520-BB5BA689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2E89-FC5C-4ACB-A8A0-4A1E2D96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3FC1-1724-490B-A694-BFC3F350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8C93-BF66-4402-AE08-4D005EF7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1CEB-3739-4D39-992F-60DF8CB3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DFFE-8041-47B5-A90D-2D80FD1A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CF6B-2CA4-490F-A1A3-AE1B91BC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7975-4D91-4C51-909E-CE06B4DD9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ossier de cho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6858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609480"/>
            <a:ext cx="2286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895480"/>
            <a:ext cx="27432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cénario 1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886200"/>
            <a:ext cx="27432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cénario 2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876920"/>
            <a:ext cx="27432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cénario 3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867280"/>
            <a:ext cx="27432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cénario 4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905120"/>
            <a:ext cx="27432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lution actuell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371600"/>
            <a:ext cx="2743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lu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43200" y="1371600"/>
            <a:ext cx="1828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ûts de fonctionn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1371600"/>
            <a:ext cx="2286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vant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0" y="1371600"/>
            <a:ext cx="2286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convén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1905120"/>
            <a:ext cx="18288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TP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1905120"/>
            <a:ext cx="22860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1905120"/>
            <a:ext cx="22860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28954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TP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289548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0" y="289548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388620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TP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88620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388620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4876920"/>
            <a:ext cx="18288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TP 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4876920"/>
            <a:ext cx="22860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4876920"/>
            <a:ext cx="22860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58672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TP 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586728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586728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DERS</cp:lastModifiedBy>
  <dcterms:modified xsi:type="dcterms:W3CDTF">2002-03-09T10:29:14Z</dcterms:modified>
  <cp:revision>8</cp:revision>
  <dc:subject/>
  <dc:title>Présentation PowerPoint</dc:title>
</cp:coreProperties>
</file>