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EDF-A2EA-4DC7-9DAB-781106E1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68E-8F41-403B-BAA0-F8B22527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519-4866-49B6-9961-1E3A0F37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9C4-0D92-44A6-BDD4-6CFA1A5A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07A-C8B7-464E-9344-091BA49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1B2-1D13-4555-A6A5-E28E6050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9E5-B4AD-4090-8465-F34B7A4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0D7-56EF-40A2-9B4F-73ECBAE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50B-93F5-4216-8396-3AE8425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3A4-B807-41BB-9267-28CD1BD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6E1-3FAD-44E0-B773-D265F4EA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4FA-61D3-46BB-8C87-14FD55F1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96E2-B85A-4B3E-A05B-C28DD091B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7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Rectangle 1027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28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M. Pierre, chef du 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29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19/09/0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30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La banque de Bel Air reçoit plusieurs centaines de lettres de ses clients chaque jour. Personne n’a la visibilité sur ces courriers et encore moins sur les réponses qui y sont apportées… ou pas ! Ceci est grave dans un contexte de forte concurrence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31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Il serait souhaitable de réorganiser ce processus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32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ation de la qualité perçue par les clients et sécurisation du processu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33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Toutes les directions du siège sont concernées par ce processus, y compris la direction génér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4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élai de traitement et exhaustivité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5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er le processus au détriment de la qualité technique et commerciale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36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iversité des acteurs, des thèmes des courriers et nombre de courrie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7:49Z</dcterms:modified>
  <cp:revision>102</cp:revision>
  <dc:subject/>
  <dc:title>Présentation PowerPoint</dc:title>
</cp:coreProperties>
</file>