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B889-8804-4DFA-BA8C-8FDEE1731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3F96-4D80-475C-905D-37590280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C8C6-2F76-4E97-B233-DBE2AD55E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A010-2686-4C07-ABC8-187F9F64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2CD5-1A88-4653-89EB-710987C0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5E98-A236-4EF2-B4DF-93A0F7ED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A02C-2892-43FC-A014-3EBDBFB7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CCD2-DF9F-4E3A-A3C4-F86B1D0C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D966-BD44-45DA-B7C5-0C4E7BDD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E689-B889-4AEB-8889-E7DC6DE6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840C-A90B-4F0B-AD47-D2F58626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BF1C-BE3C-4556-B7F6-80678760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EC3D-87FD-4AF2-AA81-94BF2D53C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che de fo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33520"/>
            <a:ext cx="51055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ntité 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nction 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itulaire 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sponsable hiérarchique 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uppléant en cas d’absenc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05520" y="53352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ate de mise à jour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6858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ission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90920"/>
            <a:ext cx="51814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tributions 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81480" y="2590920"/>
            <a:ext cx="167652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cateur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7848720"/>
            <a:ext cx="68580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élégation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4T17:50:07Z</dcterms:created>
  <dc:creator>MADERS</dc:creator>
  <dc:description/>
  <dc:language>en-US</dc:language>
  <cp:lastModifiedBy>MADERS</cp:lastModifiedBy>
  <dcterms:modified xsi:type="dcterms:W3CDTF">2002-03-09T11:13:09Z</dcterms:modified>
  <cp:revision>5</cp:revision>
  <dc:subject/>
  <dc:title>Présentation PowerPoint</dc:title>
</cp:coreProperties>
</file>