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A56-9EB0-43FE-8D5E-D998A0F3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39E-60F3-4E40-B89F-A7DFD326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677-39EC-4649-AB2D-F9BAE381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171-1741-41F9-B81F-BBC8E9C2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600C-226E-41D2-A310-10EB933A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3D5-A3B4-4B0C-9234-6967F0DD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90F-FE47-4536-B8C1-5F52E4BE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EA23-CAC1-4FB2-BC2A-B1AE2DF2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03A-3BDA-45FD-AA98-E7208FA3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98B-25DA-4731-ADB8-034EDF20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D29-D641-4004-A5CE-88ABCC7F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968-8F89-4773-BF8A-261E9394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DA56-4BBC-497F-A0F4-069B1210C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que de Bel air – Plan d’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7010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9480"/>
            <a:ext cx="2133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04/0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371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ttre en place le logic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057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efs d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743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p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3429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114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800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486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72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6172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 </cp:lastModifiedBy>
  <dcterms:modified xsi:type="dcterms:W3CDTF">2009-05-05T08:50:57Z</dcterms:modified>
  <cp:revision>10</cp:revision>
  <dc:subject/>
  <dc:title>Présentation PowerPoint</dc:title>
</cp:coreProperties>
</file>