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AA5-6841-49DC-B7E3-274B2448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FD6-84D3-4450-BC56-B5AD2FA6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DF2-B6CF-4A09-AB39-3B627C1D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BE11-688D-46B5-B660-301B9ED4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61E-0D5B-4D72-9813-293A7802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ED2-06A1-4B61-AA4B-A77A05E7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721-ABC8-453E-897D-CAD8E86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9FA-F253-477C-BECC-62469618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FC22-3B92-4FB1-A71F-D08F366C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770-729C-4B79-A0AA-BC38BF4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CA7-B10F-4B12-AA0D-DCF1A2C3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69D-CCE1-4630-B286-E3FE224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DDC0-A8DB-48B7-9DE3-4A083751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 de cad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7:01Z</dcterms:modified>
  <cp:revision>103</cp:revision>
  <dc:subject/>
  <dc:title>Présentation PowerPoint</dc:title>
</cp:coreProperties>
</file>