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3385-4B91-4C9D-82D2-781F3AE6A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E154-67FB-4077-90AF-020D6803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B26E-8428-43F2-82C9-0AE41144B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86D2-B6E9-49A7-AC65-AE769E81C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B98A-B7EB-4ACC-8F0B-4C964289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A45C-ED36-4630-BB4C-75D65635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405D-2D77-43A6-88A5-4F343F90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CDD7-2A72-4890-83C1-B5535947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0194-095D-4C93-93D3-E36F3804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06C4-E312-4441-A23A-76C2845C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39B1-84DA-4E53-8E64-605C2664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1586-F157-496C-9C11-292A4792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17CE-33D7-4D58-85A5-C75087B55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905760" cy="6857280"/>
            <a:chOff x="0" y="0"/>
            <a:chExt cx="9905760" cy="6857280"/>
          </a:xfrm>
        </p:grpSpPr>
        <p:sp>
          <p:nvSpPr>
            <p:cNvPr id="42" name=""/>
            <p:cNvSpPr/>
            <p:nvPr/>
          </p:nvSpPr>
          <p:spPr>
            <a:xfrm>
              <a:off x="3048120" y="2027880"/>
              <a:ext cx="152316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5160" y="2027880"/>
              <a:ext cx="18295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715360" y="2027880"/>
              <a:ext cx="3794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334120" y="202788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53240" y="202788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2719080"/>
              <a:ext cx="30481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4789440"/>
              <a:ext cx="30481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4098600"/>
              <a:ext cx="30481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407400"/>
              <a:ext cx="30481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8120" y="2719080"/>
              <a:ext cx="152316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407400"/>
              <a:ext cx="152316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4789440"/>
              <a:ext cx="152316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4098600"/>
              <a:ext cx="152316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71640" y="2719080"/>
              <a:ext cx="3812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953240" y="271908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1640" y="4789440"/>
              <a:ext cx="3812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71640" y="4098600"/>
              <a:ext cx="3812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71640" y="3407400"/>
              <a:ext cx="3812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4120" y="271908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15360" y="2719080"/>
              <a:ext cx="3794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95160" y="2719080"/>
              <a:ext cx="18295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924680" y="2719080"/>
              <a:ext cx="19810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924680" y="4098600"/>
              <a:ext cx="19810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24680" y="3407400"/>
              <a:ext cx="19810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95160" y="3407400"/>
              <a:ext cx="18295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715360" y="3407400"/>
              <a:ext cx="3794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953240" y="340740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4120" y="340740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953240" y="409860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924680" y="4789440"/>
              <a:ext cx="19810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15360" y="4098600"/>
              <a:ext cx="3794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095160" y="4789440"/>
              <a:ext cx="18295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095160" y="4098600"/>
              <a:ext cx="18295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34120" y="478944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34120" y="409860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53240" y="478944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715360" y="4789440"/>
              <a:ext cx="3794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1185480"/>
              <a:ext cx="3048120" cy="84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A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1640" y="2027880"/>
              <a:ext cx="3812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53240" y="1185480"/>
              <a:ext cx="1141920" cy="84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095160" y="1185480"/>
              <a:ext cx="3810600" cy="383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Actions à entreprend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78120"/>
              <a:ext cx="30481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68960"/>
              <a:ext cx="30481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5478120"/>
              <a:ext cx="152316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48120" y="6168960"/>
              <a:ext cx="152316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71640" y="5478120"/>
              <a:ext cx="3812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1640" y="6168960"/>
              <a:ext cx="3812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24680" y="5478120"/>
              <a:ext cx="19810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95160" y="5478120"/>
              <a:ext cx="18295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334120" y="547812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53240" y="547812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15360" y="5478120"/>
              <a:ext cx="3794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24680" y="6168960"/>
              <a:ext cx="19810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95160" y="6168960"/>
              <a:ext cx="18295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334120" y="616896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53240" y="616896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15360" y="6168960"/>
              <a:ext cx="3794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24680" y="2027880"/>
              <a:ext cx="19810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0"/>
              <a:ext cx="9905760" cy="57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Tableau d’analyse des alé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027880"/>
              <a:ext cx="30481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48120" y="2027880"/>
              <a:ext cx="152316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1640" y="2027880"/>
              <a:ext cx="3812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53240" y="1568880"/>
              <a:ext cx="3808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34120" y="1568880"/>
              <a:ext cx="3808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15360" y="1568880"/>
              <a:ext cx="37944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1640" y="1185480"/>
              <a:ext cx="381240" cy="84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53240" y="1185480"/>
              <a:ext cx="1141920" cy="383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Impa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95160" y="1568880"/>
              <a:ext cx="182952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Préven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24680" y="1568880"/>
              <a:ext cx="19810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Régul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8120" y="1185480"/>
              <a:ext cx="1523160" cy="84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Alé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possib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579960"/>
              <a:ext cx="7924680" cy="60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Projet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579960"/>
              <a:ext cx="1981080" cy="60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Date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DERS</cp:lastModifiedBy>
  <cp:lastPrinted>2000-05-11T10:17:14Z</cp:lastPrinted>
  <dcterms:modified xsi:type="dcterms:W3CDTF">2002-03-09T10:13:43Z</dcterms:modified>
  <cp:revision>99</cp:revision>
  <dc:subject/>
  <dc:title>Présentation PowerPoint</dc:title>
</cp:coreProperties>
</file>