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D93-0C36-4C8C-BE43-BE55FCC3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A92-2FAB-482D-AC2C-04C8E273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C17-6DC4-4CEE-B7AB-5E6C07324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95E-A635-4C05-B50F-BD89F9ED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F0C-0B4B-4D77-8773-FCB1DFE2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F8C1-50C8-4144-81B6-18262CAD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BCFC-D069-4D99-B07C-D943A0C3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D86B-280A-4433-8A8A-1A4B4263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4BC0-EB05-436F-9357-FECC876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E02-B114-4438-8258-3EEA12A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4EB1-60E8-45B5-A98C-8107458E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4D93-62F8-45D5-B05F-B527767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9561-4493-46D4-B1A5-7F19F4CB4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9"/>
          <p:cNvGrpSpPr/>
          <p:nvPr/>
        </p:nvGrpSpPr>
        <p:grpSpPr>
          <a:xfrm>
            <a:off x="0" y="0"/>
            <a:ext cx="6858000" cy="9906120"/>
            <a:chOff x="0" y="0"/>
            <a:chExt cx="6858000" cy="9906120"/>
          </a:xfrm>
        </p:grpSpPr>
        <p:sp>
          <p:nvSpPr>
            <p:cNvPr id="42" name="Rectangle 4"/>
            <p:cNvSpPr/>
            <p:nvPr/>
          </p:nvSpPr>
          <p:spPr>
            <a:xfrm>
              <a:off x="0" y="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ossier d’étude d’opportun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>
              <a:off x="0" y="866880"/>
              <a:ext cx="487692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Structure :</a:t>
              </a:r>
              <a:r>
                <a:rPr b="0" lang="fr-FR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Rédacteur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Pro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6"/>
            <p:cNvSpPr/>
            <p:nvPr/>
          </p:nvSpPr>
          <p:spPr>
            <a:xfrm>
              <a:off x="4876920" y="866880"/>
              <a:ext cx="1981080" cy="119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at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0" y="2057400"/>
              <a:ext cx="6858000" cy="89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0" y="295272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Objectifs et enjeux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0" y="38228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escription de l’objet du changement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0" y="555948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Impacts organisationnels et humain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0" y="729936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Volume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0" y="642924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Exigence de qualité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0" y="4692600"/>
              <a:ext cx="6858000" cy="866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Acteur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0" y="8166240"/>
              <a:ext cx="6858000" cy="86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Coûts prévus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0" y="9036000"/>
              <a:ext cx="68580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Verdana"/>
                </a:rPr>
                <a:t>Délais de mise en œuvre :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37:38Z</dcterms:modified>
  <cp:revision>102</cp:revision>
  <dc:subject/>
  <dc:title>Présentation PowerPoint</dc:title>
</cp:coreProperties>
</file>