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81D8-1FD3-4E71-A87F-1234A5186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37E8-2705-4778-B238-EC5AE279B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EF8D-5D49-4FEC-A057-BAAA5E913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C902-F8E1-4614-AA05-F67A164B6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172B-8DAA-4633-8B3D-3276AA6F5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B422-F069-445B-8E96-A323D7B19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1B6A-C7EF-4768-94BC-30D6EB597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D807-3C82-41EE-9041-07F6DDDFC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987D-E4B6-4B1F-8550-3350BD154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BE78-344D-4395-9709-1548DEAEE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052A-B871-4A07-8A91-65724087E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1D1A-F6CF-4123-B432-3EC8A2282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2F4E8-25F7-48D4-9F68-8AD7221B5C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0"/>
            <a:ext cx="68580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Banque de Bel air – Fiche de bilan de proje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0" y="609480"/>
            <a:ext cx="50292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Projet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 : Reengineering du processus de traitement des courriers clien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5029200" y="6094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Date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 : 3/11/09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0" y="1371600"/>
            <a:ext cx="68580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Chef de projet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 : M. Yoa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Équipe projet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 : M. Pierre, Chef du service courrier et M. Antoine, Organisateu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Contributeurs principaux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: Secrétaires de service et experts (informatique, commercial, juridique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0" y="2514600"/>
            <a:ext cx="1752480" cy="4343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Rappel des objectifs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 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Améliorer la qualité des réponses aux courriers des clients (fond et délais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Garantir l’exhaustivité des répons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Disposer d’une traçabilité dans la rédaction des répons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Mémoriser les lettres et les répons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1752480" y="2514600"/>
            <a:ext cx="1676520" cy="4343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Résultats atteints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 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Mise sous contrôle du processus (délais, exhaustivité, traçabilité, mémorisation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Mise en place d’une bibliothèque permettant des réponses de meilleure qualité (fond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Rectangle 8"/>
          <p:cNvSpPr/>
          <p:nvPr/>
        </p:nvSpPr>
        <p:spPr>
          <a:xfrm>
            <a:off x="5105520" y="2514600"/>
            <a:ext cx="1752480" cy="4343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Observations 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Estimation un peu juste de la durée nécessaire pour rédiger les nombreuses lettres et paragraphes typ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Nécessité de formation des secrétaires à l’utilisation d’une base de données + assistanc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Rectangle 9"/>
          <p:cNvSpPr/>
          <p:nvPr/>
        </p:nvSpPr>
        <p:spPr>
          <a:xfrm>
            <a:off x="3429000" y="2514600"/>
            <a:ext cx="1676520" cy="4343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Écarts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 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Déploiement de la solution sur l’ensemble des secrétariats du siège terminée fin septembre 2009 au lieu de fin juin 2009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Rectangle 10"/>
          <p:cNvSpPr/>
          <p:nvPr/>
        </p:nvSpPr>
        <p:spPr>
          <a:xfrm>
            <a:off x="0" y="6858000"/>
            <a:ext cx="685800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Retour d’expérience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 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Ne pas sous-estimer le temps nécessaire pour concevoir et valider des documents de travail en group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Ne pas sous-estimer le nécessaire accompagnement des personnes dans le cas de mise en œuvre de technologies nouvelles (base de données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9T11:02:41Z</dcterms:created>
  <dc:creator>MADERS</dc:creator>
  <dc:description/>
  <dc:language>en-US</dc:language>
  <cp:lastModifiedBy>Matthieu Montaudouin</cp:lastModifiedBy>
  <dcterms:modified xsi:type="dcterms:W3CDTF">2009-06-08T09:39:21Z</dcterms:modified>
  <cp:revision>14</cp:revision>
  <dc:subject/>
  <dc:title>Présentation PowerPoint</dc:title>
</cp:coreProperties>
</file>