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C43-2CBE-4DD5-B4F6-BD8030A5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D27-4EAE-4684-BEB6-1751DA76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F81-1B53-463C-B438-C0A7A84C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D74-7D5E-40B2-BAB0-24B7275E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810-7917-4AD1-9807-3EB1F521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DD06-B6E8-446A-9027-1E4ABC7D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EA0-4C93-4D32-BECD-BA379216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F86-DC02-4256-A088-95402A13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33E-8541-4920-BAA7-08F660DC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F3C-97D9-4633-904E-FB9E32A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86C-FCB7-4D08-8567-61DFEBD9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9234-C8AF-4F12-A3A9-6BDFC2AD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4B2-D08F-4BD1-8E47-670407DD1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Note de cad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38080"/>
            <a:ext cx="50292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responsabl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igine du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5029200" y="838080"/>
            <a:ext cx="1828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courrier avec amélioration de la qualité perçue par les clients et sécu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érimètr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siège social de la banque. Les agences ne font donc pas partie du périmètr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inte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ombre d’acteurs, technicité et diversité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s chef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animation et gestion des plannings, des intervenants et des budge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ilité équip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expertise organisationnelle et techn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701028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Moye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Yoan, chef de projet à 25 %, M. Pierre et M. Antoine à 50 % + un groupe de travail de secrétaires et quelques jours d’experts de février à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0" y="6429240"/>
            <a:ext cx="6858000" cy="58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 de pilotag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G + directeurs + chef de projet : réunions à chaque phas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équipe pro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. Pierre et M. Antoine (organisateur) à 50 % de leur temps sur toute la durée du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0" y="8153280"/>
            <a:ext cx="6858000" cy="88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march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 de l’existant (février), organisation cible (mars) et conduite du changement (avril/jui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héanc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30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52:21Z</dcterms:modified>
  <cp:revision>104</cp:revision>
  <dc:subject/>
  <dc:title>Présentation PowerPoint</dc:title>
</cp:coreProperties>
</file>