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C0E4-936F-4380-9F6D-62811C05F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6B0B-ECC8-407D-874C-B88B9F30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10EF-1414-4187-AE0F-9D21B2DD1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F1AD-1BDB-4F7D-8A48-E4AAED055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38E5-33E8-4D40-895A-44C02B44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E50D-E2BA-4C8F-8689-C1BEF71C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A64B-32F3-4F4E-A14F-90C3B72B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EFE9-6E9E-483C-B0F5-96444887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9335-9C6E-4EBC-A104-EE9BB055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A7A2-BDB6-4D3D-B109-5873B376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D0FF-AB6A-4744-BAAD-5AC5093E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4A8F-1C81-4BBA-814A-1734FB9C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8B9F-455F-4FE4-8EF8-E24D7630B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51120" y="-360"/>
            <a:ext cx="9956880" cy="6836040"/>
            <a:chOff x="-51120" y="-360"/>
            <a:chExt cx="9956880" cy="6836040"/>
          </a:xfrm>
        </p:grpSpPr>
        <p:sp>
          <p:nvSpPr>
            <p:cNvPr id="42" name=""/>
            <p:cNvSpPr/>
            <p:nvPr/>
          </p:nvSpPr>
          <p:spPr>
            <a:xfrm>
              <a:off x="213480" y="652680"/>
              <a:ext cx="1012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Adhé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-51120" y="2286000"/>
              <a:ext cx="1283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Coopé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745040" y="4884480"/>
              <a:ext cx="2160720" cy="16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84320" y="4884480"/>
              <a:ext cx="2160720" cy="16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64680" y="4884480"/>
              <a:ext cx="2160720" cy="16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425400" y="4884480"/>
              <a:ext cx="2158560" cy="16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745040" y="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745040" y="1627560"/>
              <a:ext cx="2160720" cy="162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84320" y="325692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745040" y="325692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25400" y="3256920"/>
              <a:ext cx="215856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25400" y="1627560"/>
              <a:ext cx="2158560" cy="162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25400" y="0"/>
              <a:ext cx="215856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584320" y="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84320" y="1627560"/>
              <a:ext cx="2160720" cy="162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64680" y="325692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64680" y="1627560"/>
              <a:ext cx="2160720" cy="162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64680" y="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1264680" y="-360"/>
              <a:ext cx="8641080" cy="65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6200" y="3918600"/>
              <a:ext cx="817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Intérê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46960" y="5551200"/>
              <a:ext cx="974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Passivit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672920" y="6530760"/>
              <a:ext cx="1248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Concili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9640" y="6530760"/>
              <a:ext cx="901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Critiq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87240" y="6530760"/>
              <a:ext cx="1163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Op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285040" y="6530760"/>
              <a:ext cx="943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Hostilité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DERS</cp:lastModifiedBy>
  <cp:lastPrinted>2000-05-11T10:17:14Z</cp:lastPrinted>
  <dcterms:modified xsi:type="dcterms:W3CDTF">2002-03-09T11:10:45Z</dcterms:modified>
  <cp:revision>98</cp:revision>
  <dc:subject/>
  <dc:title>Présentation PowerPoint</dc:title>
</cp:coreProperties>
</file>