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7B3-50AF-48CA-8517-8A120EFB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CBE-C2FF-4220-9C8F-7498932D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3E5-EC45-4D9B-BE27-9DFDAC40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FB6-B8BD-4C7F-A2C1-D75FA11D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905-1A10-49E6-8D7A-DFC47AFB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1DF-E217-46C3-9052-F6AE60BB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776-3E94-4A38-97C7-7E98CA70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ACE-80C4-4DB0-916C-C0B9DAF6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F0E-568B-497B-BDF0-FBC08DB3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404-323C-4FDE-A581-599FF831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8CB-C249-407D-A180-71CD02A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31E-4486-4501-B3FB-3CA318FC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427E-B6FA-4999-960A-44115ED7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2:12Z</dcterms:modified>
  <cp:revision>101</cp:revision>
  <dc:subject/>
  <dc:title>Présentation PowerPoint</dc:title>
</cp:coreProperties>
</file>