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0721-D8B6-42AA-AA4A-C3CAE2FE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A71-CB8F-4BD6-B68F-275903CF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B27-F620-473E-BE38-D913F094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142-FF3C-4850-87E4-7118E913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6D6B-1CB1-4810-9613-A84CE09D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F3F-BE0A-4E0A-9F5C-4A9918C3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B09-7622-4E4D-9919-C0F3CA3F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43D-D5A5-4B90-9622-82EC9560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8C34-841C-4CDC-BDD9-85481022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DD8-33D1-4237-8999-8A4C94A0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F38-F5D3-4BFD-8B11-887B2B21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573-03F5-4DB5-9349-E55BA2E5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6E0A-63F0-46AB-8F39-C11A75A53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e bilan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6094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eurs principaux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ppel des objectif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ésultats attei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servation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ar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858000"/>
            <a:ext cx="6858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our d’expérienc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28:06Z</dcterms:modified>
  <cp:revision>13</cp:revision>
  <dc:subject/>
  <dc:title>Présentation PowerPoint</dc:title>
</cp:coreProperties>
</file>