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9F6-DCB4-4B8F-A2C6-A3CA00D1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1D41-43BD-4B2F-8814-EB830653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FE7-369E-4AC9-A18F-A881C033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570-7DEF-4078-BBF7-C7FE0AE7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D72-3708-44F4-83C7-96E94720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9B3-2484-497A-A1D3-E168C45C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629-2780-4663-8A5A-CA7AFC3E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5525-303B-452A-9EDA-2758125F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207-7F8D-4E04-8E3A-EF2686B3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0F8-D21E-464C-A67C-6A759AF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E8A5-2F7A-4C68-B499-8D934CF2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F2A-917F-46D4-B157-7AF5A8A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DDB8-2FA6-416A-AA29-9CE11CC44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0:21Z</dcterms:modified>
  <cp:revision>10</cp:revision>
  <dc:subject/>
  <dc:title>Présentation PowerPoint</dc:title>
</cp:coreProperties>
</file>