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3E8B0-DFD2-4DD9-8825-C2E724617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14ADE-F5E2-4894-9B44-E67BFC41D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7BFD4-8547-4F45-92DA-E649788DE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87E48-B9F6-4356-8C7E-3B5CE9810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A2389-EF38-4314-A039-6ECFC1D9B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F88FC-98A7-40F5-8AB5-B967AE989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64691-C05F-48A6-A30D-166AD55E6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340C6-E5BA-4B50-8BBB-AEFF03454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5FFDA-0D61-4F5D-8F2B-1E3266F2B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FBA64-4AD3-49FC-B538-F4468B295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23D66-7929-4DA1-9817-3B86506ED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A0BC9-5F74-4C31-8229-3CBF61E6B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36EA7-FCA7-4C95-9DBE-D62954954D4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0" y="0"/>
            <a:ext cx="68580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Banque de Bel air – Compte-rendu de réun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Rectangle 3"/>
          <p:cNvSpPr/>
          <p:nvPr/>
        </p:nvSpPr>
        <p:spPr>
          <a:xfrm>
            <a:off x="0" y="609480"/>
            <a:ext cx="5105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Projet</a:t>
            </a: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 : Reengineering du processus de traitement des courriers client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Rectangle 4"/>
          <p:cNvSpPr/>
          <p:nvPr/>
        </p:nvSpPr>
        <p:spPr>
          <a:xfrm>
            <a:off x="5105520" y="609480"/>
            <a:ext cx="17524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Date</a:t>
            </a: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 : 02/03/09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Rectangle 5"/>
          <p:cNvSpPr/>
          <p:nvPr/>
        </p:nvSpPr>
        <p:spPr>
          <a:xfrm>
            <a:off x="0" y="1295280"/>
            <a:ext cx="6858000" cy="1676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Réunion</a:t>
            </a: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 : Groupe des secrétair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Participants</a:t>
            </a: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 : M. Yohan, Mmes Hélène, Anne, Boranie, Anne-Marie et Pascal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Excusés :</a:t>
            </a: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 Mmes Marie-Claire et Christian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Rectangle 6"/>
          <p:cNvSpPr/>
          <p:nvPr/>
        </p:nvSpPr>
        <p:spPr>
          <a:xfrm>
            <a:off x="0" y="2971800"/>
            <a:ext cx="6858000" cy="1676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Ordre du jour 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Description du processus de traitement des courriers des clients au sein de la banqu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Inventaire des motifs classiques des réclamation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Évaluation des encours et des délai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Rectangle 10"/>
          <p:cNvSpPr/>
          <p:nvPr/>
        </p:nvSpPr>
        <p:spPr>
          <a:xfrm>
            <a:off x="0" y="8305920"/>
            <a:ext cx="685800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Prochaine réunion 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Le 15/06/09 de 10 H à 12 H en salle « L’Imbertière »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Rectangle 12"/>
          <p:cNvSpPr/>
          <p:nvPr/>
        </p:nvSpPr>
        <p:spPr>
          <a:xfrm>
            <a:off x="0" y="4648320"/>
            <a:ext cx="6858000" cy="3657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Résumé des points traités 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Description du processus de traitement des courriers des clients au sein de la banque 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Processus variés selon les Directions et Servic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Pas de procédure de traitement formalisé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Inventaire des motifs classiques des réclamations 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Beaucoup de réclamations causées par la baisse de la Bours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Beaucoup de demandes de renseignement concernant la déclaration des revenus 2008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Évaluation des encours et des délais 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Des délais variables et plutôt en détériora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Un stock de courriers en augmenta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9T11:02:41Z</dcterms:created>
  <dc:creator>MADERS</dc:creator>
  <dc:description/>
  <dc:language>en-US</dc:language>
  <cp:lastModifiedBy>Matthieu Montaudouin</cp:lastModifiedBy>
  <dcterms:modified xsi:type="dcterms:W3CDTF">2009-06-08T10:04:09Z</dcterms:modified>
  <cp:revision>12</cp:revision>
  <dc:subject/>
  <dc:title>Présentation PowerPoint</dc:title>
</cp:coreProperties>
</file>