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F1B0-919D-4B84-8207-DB821B5A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C45-827A-4891-B33E-C6A33CE9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C76E-3202-4354-970F-EC7D7C32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738-97C5-4FDE-A475-B6830B61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9CC-0C2A-4E06-A679-CD5A9B12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F1B-B913-4E6A-9340-7486803A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833-E5C9-45D7-A6F1-B03D9D51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ACA-F6C0-4D20-AED9-01F5AB43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621-DFAF-4522-9E6E-BEEB111C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DAB-D129-46E5-9B2B-7215871D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B63-2232-4640-94BC-9DB2362B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7A7-9082-4AAF-9093-90DA4B54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3559-3512-4B60-8195-039FFAF11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9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Plan de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de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09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310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11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12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13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14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15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16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17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18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19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20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321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22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323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biliser pou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24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tretie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325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u service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326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27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328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t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329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30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331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32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onnel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33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ntrer les avantages de la nouvell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34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 mensuel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35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eur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36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37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38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39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40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41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42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43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44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former de l’av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45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Journal in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46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de la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47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e fois par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50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09Z</dcterms:modified>
  <cp:revision>100</cp:revision>
  <dc:subject/>
  <dc:title>Présentation PowerPoint</dc:title>
</cp:coreProperties>
</file>