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D04-7C8C-4861-884F-F4822718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D3B2-20C4-4136-A875-58655F7A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A17-5122-432B-9B0B-FAF6496B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D1B6-6D3F-424F-85FB-3A489F6E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DA8-6D98-4C1B-A057-E9F4101D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B92-C642-407E-B06B-C5685C9D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E0B3-9E97-4AA3-B394-CC81CAF6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0748-82AB-4759-A01A-288B260B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AC7B-6328-4501-80A4-5C4FC74D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891-FF23-4D64-ACB7-4C1926FB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19B5-1F28-42C1-82B6-80A25535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2CCF-811C-4CF3-A6C4-D316FD1C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7CBB-7E3A-4434-85C1-C19273C9D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4074840" cy="3254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609480"/>
            <a:ext cx="312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ni guid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éthodolog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343080"/>
            <a:ext cx="4248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8120" y="1109520"/>
            <a:ext cx="880596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3:58:53Z</dcterms:created>
  <dc:creator>Conseils</dc:creator>
  <dc:description/>
  <dc:language>en-US</dc:language>
  <cp:lastModifiedBy>Conseils</cp:lastModifiedBy>
  <dcterms:modified xsi:type="dcterms:W3CDTF">2002-08-15T13:56:44Z</dcterms:modified>
  <cp:revision>2</cp:revision>
  <dc:subject/>
  <dc:title>Présentation PowerPoint</dc:title>
</cp:coreProperties>
</file>