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411C-3869-4F28-961F-414D6EAB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C8FF-FD4A-4A3A-8669-B348B6E3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E0B8-6E3F-4BE6-ABBC-C3227FCD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32CB-27AE-47D1-A804-13BB4D2C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1670-9CDD-44B5-96C6-A4EB4E67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B86-9B6A-40E7-89C3-87CF0FF8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3869-62C4-4593-99BE-86E2DE3E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63F-1028-4BB9-AC4E-33CAFD83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3294-6F58-481C-A206-DE4ABD82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33EE-443D-4A21-BED3-CF781F9E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5D7B-3AB1-45DF-84FA-71421D7C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A09B-42E3-426E-9CE5-2FECA40E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D162-AEA2-40CE-BA6F-EB917D86F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4074840" cy="3254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609480"/>
            <a:ext cx="312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ini guid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éthodolog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343080"/>
            <a:ext cx="4248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8120" y="1109520"/>
            <a:ext cx="880596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3:58:53Z</dcterms:created>
  <dc:creator>Conseils</dc:creator>
  <dc:description/>
  <dc:language>en-US</dc:language>
  <cp:lastModifiedBy>Conseils</cp:lastModifiedBy>
  <dcterms:modified xsi:type="dcterms:W3CDTF">2002-08-15T13:56:44Z</dcterms:modified>
  <cp:revision>2</cp:revision>
  <dc:subject/>
  <dc:title>Présentation PowerPoint</dc:title>
</cp:coreProperties>
</file>