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" name="Text Box 22"/>
          <p:cNvSpPr/>
          <p:nvPr/>
        </p:nvSpPr>
        <p:spPr>
          <a:xfrm>
            <a:off x="0" y="6572160"/>
            <a:ext cx="91440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www.allience.fr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                                                                                           Page </a:t>
            </a:r>
            <a:fld id="{C06ED71A-5C93-4248-97EB-573AC22BD5B4}" type="slidenum"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&lt;number&gt;</a:t>
            </a:fld>
            <a:endParaRPr b="0" lang="en-US" sz="7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Text Box 23"/>
          <p:cNvSpPr/>
          <p:nvPr/>
        </p:nvSpPr>
        <p:spPr>
          <a:xfrm>
            <a:off x="7632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Projet X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Comité de pilotage                                                                   Outil N°8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" name="Image 13" descr="allience_1.jpg"/>
          <p:cNvPicPr/>
          <p:nvPr/>
        </p:nvPicPr>
        <p:blipFill>
          <a:blip r:embed="rId2"/>
          <a:stretch/>
        </p:blipFill>
        <p:spPr>
          <a:xfrm>
            <a:off x="142920" y="6500880"/>
            <a:ext cx="111132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7162920" y="472428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ebd189"/>
                </a:solidFill>
                <a:latin typeface="Verdana"/>
              </a:rPr>
              <a:t>Revue de projet</a:t>
            </a:r>
            <a:endParaRPr b="0" lang="en-US" sz="106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Revue de projet N°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ate de la revu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ériode concerné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articipant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hases du projet à examine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écisions à prendr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Etat du prévu / réalisé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840" y="190512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Verdana"/>
              </a:rPr>
              <a:t>POUR LA PERIODE EXAMINE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lanning prévisionnel -Planning réalisé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Livrables Prévus-Livrable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Coûts prévus-Coût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Problèmes et solutions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Problèmes rencontré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Solutions proposé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10-03-27T17:06:20Z</dcterms:modified>
  <cp:revision>17</cp:revision>
  <dc:subject/>
  <dc:title>Organigramme projet</dc:title>
</cp:coreProperties>
</file>