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DD3-894B-409F-B7D6-AB7D38E9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AA1-AE34-48B5-A75A-18CEE0F2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9A5-5847-442A-A466-7EDDC728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233-CE4D-4AB6-8BFB-D1FBE208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614-CC53-4606-8781-DE539C2A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0EE-5936-4A54-B6F6-52F0EBE6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08F-8CEC-4B8B-9DC4-6D078F86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24C-8CE5-467F-8C71-9318FAA6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B16-DA43-4CCE-A72E-21926A10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EFB-0B94-4B3D-B673-911E4068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1C5-1877-420D-BA3F-2F199635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1CF-27D2-4F3B-A2C7-2EB3082F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F7CC-C517-4A51-BDB2-90E32081E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4074840" cy="325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609480"/>
            <a:ext cx="312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ni guid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éthodo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43080"/>
            <a:ext cx="424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8120" y="1109520"/>
            <a:ext cx="88059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3:58:53Z</dcterms:created>
  <dc:creator>Conseils</dc:creator>
  <dc:description/>
  <dc:language>en-US</dc:language>
  <cp:lastModifiedBy>Conseils</cp:lastModifiedBy>
  <dcterms:modified xsi:type="dcterms:W3CDTF">2002-08-15T13:56:44Z</dcterms:modified>
  <cp:revision>2</cp:revision>
  <dc:subject/>
  <dc:title>Présentation PowerPoint</dc:title>
</cp:coreProperties>
</file>