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BD4-4864-4168-B951-1C9ED913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54E-5347-4FCE-9826-D3401333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E1F4-3B85-4F7A-B7FB-EBBA2842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CD3-EE07-4189-B152-A964ACEF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49FB-B4F2-4996-96BA-AC9C4FE4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572-7992-441F-955C-36DC3991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52AE-497A-44B5-BB03-489F3DE1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2E85-D7D2-4C87-AF50-D1749775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7FCF-49C9-4E85-944E-8D55A20D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ADA-46E7-40A0-97C4-4D543D33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1782-9FA3-408D-ACDA-738ECAFE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9439-2B65-4B8B-A347-F8F51130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1C44-E4B2-438F-BC5F-787CE4F19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4074840" cy="3254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609480"/>
            <a:ext cx="312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ni guid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éthodolog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343080"/>
            <a:ext cx="4248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8120" y="1109520"/>
            <a:ext cx="880596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3:58:53Z</dcterms:created>
  <dc:creator>Conseils</dc:creator>
  <dc:description/>
  <dc:language>en-US</dc:language>
  <cp:lastModifiedBy>Conseils</cp:lastModifiedBy>
  <dcterms:modified xsi:type="dcterms:W3CDTF">2002-08-15T13:56:44Z</dcterms:modified>
  <cp:revision>2</cp:revision>
  <dc:subject/>
  <dc:title>Présentation PowerPoint</dc:title>
</cp:coreProperties>
</file>