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5C1B-C1F3-4BA8-AC28-3218B5AD6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5947-47D8-4E70-8E60-21C28844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DEAC-F325-4937-9341-DE76BEE77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52B6-F097-46CE-A98F-5C23D5817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5B89-64B2-415D-B6E3-AFAE2781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3A3D-F76F-4CFB-958A-19A4CFEC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5759-DFF8-4845-885D-F17A2ED9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5330-02CA-4656-9006-424ACCB2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D1DB-0D69-4429-A3BA-59ADE7FB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0EDB-DE89-4130-820A-DB365CE8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136A-74BF-472C-ADBD-C72DEEB6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779B-50D1-412E-BAB2-FEB77A0D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3DA2-3CB2-4184-AA34-BA305D84F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4074840" cy="3254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81480" y="609480"/>
            <a:ext cx="3125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ini guid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éthodolog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343080"/>
            <a:ext cx="4248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8120" y="1109520"/>
            <a:ext cx="880596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13:58:53Z</dcterms:created>
  <dc:creator>Conseils</dc:creator>
  <dc:description/>
  <dc:language>en-US</dc:language>
  <cp:lastModifiedBy>Conseils</cp:lastModifiedBy>
  <dcterms:modified xsi:type="dcterms:W3CDTF">2002-08-15T13:56:44Z</dcterms:modified>
  <cp:revision>2</cp:revision>
  <dc:subject/>
  <dc:title>Présentation PowerPoint</dc:title>
</cp:coreProperties>
</file>