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19F3-100E-4E7D-A85F-92A2468E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5C4-EADD-49BF-812A-DAA999EE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669-CC4D-48C5-88CF-552AC630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DCAA-A909-4401-AF8A-26ED7AC7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80C-4DB2-4D9E-8D6D-439EFF64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5755-3784-412C-B9F7-9A9718F2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7EBE-6A19-4617-8277-8E69DCF2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36D4-2979-4139-9596-6066C0DA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125-80E7-4FC0-BA94-137D1926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5CF3-8666-4D10-B641-8571C57D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9364-23AA-40E9-8C6E-F89A6214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5925-D238-4F82-9D09-89977423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1ECA-62A2-4D4F-ABE4-21AF9CE0C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4074840" cy="3254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609480"/>
            <a:ext cx="312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ni guid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éthodolog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343080"/>
            <a:ext cx="4248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8120" y="1109520"/>
            <a:ext cx="880596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3:58:53Z</dcterms:created>
  <dc:creator>Conseils</dc:creator>
  <dc:description/>
  <dc:language>en-US</dc:language>
  <cp:lastModifiedBy>Conseils</cp:lastModifiedBy>
  <dcterms:modified xsi:type="dcterms:W3CDTF">2002-08-15T13:56:44Z</dcterms:modified>
  <cp:revision>2</cp:revision>
  <dc:subject/>
  <dc:title>Présentation PowerPoint</dc:title>
</cp:coreProperties>
</file>