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2B0E-BD2F-4A7B-AF80-38E9A38AEA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8DCA-8E73-4642-9A67-6D2D759FB6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D086-5FA8-44FE-B27D-54DB0EFE7E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D91B-7A01-4498-BAA3-F11E74F384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1782-3AB0-48AE-9924-FF6499D702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3B7A-4619-48DC-BD23-C1353E4375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1235-604C-4FB7-8A8D-8B0555BD71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FD44-179D-463A-800E-8668780FA7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B9A8-CD08-40A2-B218-A394AFB15B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EC09-EE89-464C-A623-078D16C868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709B-4AC3-48F6-84B6-F740C8BC56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D5DE-DB98-45B0-9E1F-FC6E710E75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5390-B1C6-4FCF-B17C-A094545779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E71B-FE79-4EFE-9B13-0748B785B0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A9C8-4658-4B1F-A4F1-F0914EC929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E771-2E41-4850-BF56-471842DE8A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B6B8-18FC-4985-97B9-3FA6C8EF8F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8EF5-C3C8-459E-9DBD-7FB894F4E7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1C67-52F8-4923-A588-9F0F64BB35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DB79-C6DC-4E01-AC7F-D51D58C31D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DF10-2582-44E2-B5D7-B3E119EAAE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BC7C-13D3-416E-ABAD-F1E5B7D716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AC26-4D20-452A-8876-5E7C9207B1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9F39-A1E7-42AC-8A60-BCC821ABB3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A5B7-6602-44CE-9A59-79AED8C5E0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2E2C-161F-459E-941C-5E838A902C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E474-F6E2-4571-8031-ACB80F2DDB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8806-0931-4E1B-BCEB-DE8FBCD8F0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1C8E-CDAF-43FC-8A9D-B581291DB1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C450-C49F-4F22-AABA-91DDA4A699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6931-BB29-4B79-9DDC-72B2A54832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9CE2-D90E-4DA9-93AC-93FC686EBC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076-2ED7-445F-8E6F-62F52EC2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7C1-8ED9-4C35-AEE8-512E50B1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1FB-39C6-46B1-B75B-6F5B683F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73D-773F-4A2A-B2AF-EA3F89BC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2F6-E77D-4A0C-8D19-A04DDBD6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592-7982-4DEA-870E-65FDE9BC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44B-6C82-4DE5-B298-91758A54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27F-ABC5-4382-BF15-DC1AFE2E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ACE-2F0C-4664-8035-C532E7A8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7F0-34C1-4418-9E40-14E5F6A7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196-5B17-4078-A768-798A2D27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019-D26F-416A-96F2-907C90FD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3E7A-2397-471A-875D-88C9A4B2E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1224000" y="2279520"/>
            <a:ext cx="700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f0"/>
                </a:solidFill>
                <a:latin typeface="Calibri"/>
                <a:ea typeface="Times New Roman"/>
              </a:rPr>
              <a:t>Avez-vous 2 heures à consacrer à la réflexion sur l’avenir de votre entrepris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727440" y="351000"/>
            <a:ext cx="23223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1"/>
          <p:cNvSpPr/>
          <p:nvPr/>
        </p:nvSpPr>
        <p:spPr>
          <a:xfrm>
            <a:off x="2017800" y="171468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3 Analyser les produits, les services, les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90640" y="3009960"/>
          <a:ext cx="7916760" cy="1881000"/>
        </p:xfrm>
        <a:graphic>
          <a:graphicData uri="http://schemas.openxmlformats.org/drawingml/2006/table">
            <a:tbl>
              <a:tblPr/>
              <a:tblGrid>
                <a:gridCol w="2638440"/>
                <a:gridCol w="2639880"/>
                <a:gridCol w="263844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 sont nos clien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produi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service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884160" y="5162400"/>
          <a:ext cx="792972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métier de l’entrepris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 est la réelle valeur ajouté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99" name="Groupe 6" descr=""/>
          <p:cNvPicPr/>
          <p:nvPr/>
        </p:nvPicPr>
        <p:blipFill>
          <a:blip r:embed="rId1"/>
          <a:stretch/>
        </p:blipFill>
        <p:spPr>
          <a:xfrm>
            <a:off x="2335320" y="493560"/>
            <a:ext cx="51260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0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28760" y="1357200"/>
          <a:ext cx="8286480" cy="5241960"/>
        </p:xfrm>
        <a:graphic>
          <a:graphicData uri="http://schemas.openxmlformats.org/drawingml/2006/table">
            <a:tbl>
              <a:tblPr/>
              <a:tblGrid>
                <a:gridCol w="6226200"/>
                <a:gridCol w="1076040"/>
                <a:gridCol w="9842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potentiel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prospect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ven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ux concurrents sont-ils connus et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 concurrent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entreprise a-t-elle été classée par rapport à ses concurren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cessus d’innovation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’innovation des concurrent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1"/>
          <p:cNvSpPr/>
          <p:nvPr/>
        </p:nvSpPr>
        <p:spPr>
          <a:xfrm>
            <a:off x="2017800" y="178596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4 Analyser les modes de commerc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Groupe 4" descr=""/>
          <p:cNvPicPr/>
          <p:nvPr/>
        </p:nvPicPr>
        <p:blipFill>
          <a:blip r:embed="rId1"/>
          <a:stretch/>
        </p:blipFill>
        <p:spPr>
          <a:xfrm>
            <a:off x="2279520" y="493560"/>
            <a:ext cx="5187960" cy="78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098720" y="3067200"/>
          <a:ext cx="7500600" cy="185400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  <a:gridCol w="2500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urniss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cur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ai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811080" y="516240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 ce que je vends à mes clien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 ce que je touche les prospec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1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rg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285920"/>
          <a:ext cx="8215200" cy="5241960"/>
        </p:xfrm>
        <a:graphic>
          <a:graphicData uri="http://schemas.openxmlformats.org/drawingml/2006/table">
            <a:tbl>
              <a:tblPr/>
              <a:tblGrid>
                <a:gridCol w="6172200"/>
                <a:gridCol w="1066680"/>
                <a:gridCol w="97632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hiérarchique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fonctionnel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rganigrammes fonctionnels et hiérarchiques ont-ils été superpo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grands processu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moyens dont dispose l’entreprise a-t-elle été ré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gement de la Direction générale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agement des principaux cadre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sociogrammes des différents services et direction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léments de motivation des différents collaborateurs et cadre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évaluation de la cohérence entre les objectifs et l’organisation de l’entreprise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2035080" y="192888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5 Analyser l’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oupe 4" descr=""/>
          <p:cNvPicPr/>
          <p:nvPr/>
        </p:nvPicPr>
        <p:blipFill>
          <a:blip r:embed="rId1"/>
          <a:stretch/>
        </p:blipFill>
        <p:spPr>
          <a:xfrm>
            <a:off x="2352600" y="706320"/>
            <a:ext cx="51278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847800" y="3027240"/>
          <a:ext cx="8037360" cy="3048120"/>
        </p:xfrm>
        <a:graphic>
          <a:graphicData uri="http://schemas.openxmlformats.org/drawingml/2006/table">
            <a:tbl>
              <a:tblPr/>
              <a:tblGrid>
                <a:gridCol w="1714320"/>
                <a:gridCol w="1581120"/>
                <a:gridCol w="1581120"/>
                <a:gridCol w="1579680"/>
                <a:gridCol w="1581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 analys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s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n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fait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GRA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V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3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in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128592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par personne et par activité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entre les différents services et direction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uts hommes ont-ils été détermin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alorisation des taches avec le cout homme a-t-elle été effect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humain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matériell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financièr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jets à mener dans le projet d’entreprise et les ressources disponible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rbitrages sur les projets à mener ont-ils été fa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etours sur investissement des projets à mener a-t-il été évalu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1862280" y="178596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6 Analyser les fi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oupe 4" descr=""/>
          <p:cNvPicPr/>
          <p:nvPr/>
        </p:nvPicPr>
        <p:blipFill>
          <a:blip r:embed="rId1"/>
          <a:stretch/>
        </p:blipFill>
        <p:spPr>
          <a:xfrm>
            <a:off x="2182680" y="63324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1101600" y="2967120"/>
          <a:ext cx="7183440" cy="1752480"/>
        </p:xfrm>
        <a:graphic>
          <a:graphicData uri="http://schemas.openxmlformats.org/drawingml/2006/table">
            <a:tbl>
              <a:tblPr/>
              <a:tblGrid>
                <a:gridCol w="2664000"/>
                <a:gridCol w="1490760"/>
                <a:gridCol w="1450800"/>
                <a:gridCol w="157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iè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a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 matéri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onibles actuel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obiliser en 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t 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893880" y="5162400"/>
          <a:ext cx="7597800" cy="1100160"/>
        </p:xfrm>
        <a:graphic>
          <a:graphicData uri="http://schemas.openxmlformats.org/drawingml/2006/table">
            <a:tbl>
              <a:tblPr/>
              <a:tblGrid>
                <a:gridCol w="7597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retour sur investissement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iagnos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28760" y="135720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tes les analyses ont-elles été menées complètemen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ort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aible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éléments ont-ils été mis en perspective les uns par rapport aux aut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les « maladies » de l’entreprise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face de chaque maladie, les axes de progress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xes de progression sont-ils cohérents avec la vision stratégiqu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validée ou reformul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ont-ils été validés ou ré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apacité de l’entreprise à mener son projet d’entreprise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1"/>
          <p:cNvSpPr/>
          <p:nvPr/>
        </p:nvSpPr>
        <p:spPr>
          <a:xfrm>
            <a:off x="203364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7 Faire le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oupe 5" descr=""/>
          <p:cNvPicPr/>
          <p:nvPr/>
        </p:nvPicPr>
        <p:blipFill>
          <a:blip r:embed="rId1"/>
          <a:stretch/>
        </p:blipFill>
        <p:spPr>
          <a:xfrm>
            <a:off x="2352600" y="407880"/>
            <a:ext cx="512136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1071720" y="2786040"/>
          <a:ext cx="7581600" cy="1854360"/>
        </p:xfrm>
        <a:graphic>
          <a:graphicData uri="http://schemas.openxmlformats.org/drawingml/2006/table">
            <a:tbl>
              <a:tblPr/>
              <a:tblGrid>
                <a:gridCol w="1704960"/>
                <a:gridCol w="1469880"/>
                <a:gridCol w="1468440"/>
                <a:gridCol w="1469880"/>
                <a:gridCol w="1468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è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portun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0160" y="5162400"/>
          <a:ext cx="8066160" cy="1160640"/>
        </p:xfrm>
        <a:graphic>
          <a:graphicData uri="http://schemas.openxmlformats.org/drawingml/2006/table">
            <a:tbl>
              <a:tblPr/>
              <a:tblGrid>
                <a:gridCol w="8066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s sont « les maladies » de l’entreprise qui empêcheraient d’atteindre les objectif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57120" y="1357200"/>
          <a:ext cx="8572680" cy="5241960"/>
        </p:xfrm>
        <a:graphic>
          <a:graphicData uri="http://schemas.openxmlformats.org/drawingml/2006/table">
            <a:tbl>
              <a:tblPr/>
              <a:tblGrid>
                <a:gridCol w="6440400"/>
                <a:gridCol w="1113120"/>
                <a:gridCol w="10191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lair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ohérente avec les capacités de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suffisamment déclinée en objectifs mesurab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projets à mener a-t-elle été fin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volutions organisationnelles nécessaire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lans marketing et commercial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lan financier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document « projet d’entreprise » a-t-il été rédig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est-il clair et compréhensible par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validé par les actionnaires puis communiqué aux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1"/>
          <p:cNvSpPr/>
          <p:nvPr/>
        </p:nvSpPr>
        <p:spPr>
          <a:xfrm>
            <a:off x="2019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8 Rédiger et communiqu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oupe 4" descr=""/>
          <p:cNvPicPr/>
          <p:nvPr/>
        </p:nvPicPr>
        <p:blipFill>
          <a:blip r:embed="rId1"/>
          <a:stretch/>
        </p:blipFill>
        <p:spPr>
          <a:xfrm>
            <a:off x="2341440" y="40788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801800" y="4125960"/>
          <a:ext cx="6095880" cy="22255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812880" y="278604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 nouvell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s objectifs généraux associés à cett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Diagramme 9" descr=""/>
          <p:cNvPicPr/>
          <p:nvPr/>
        </p:nvPicPr>
        <p:blipFill>
          <a:blip r:embed="rId1"/>
          <a:stretch/>
        </p:blipFill>
        <p:spPr>
          <a:xfrm>
            <a:off x="1420920" y="841320"/>
            <a:ext cx="6869160" cy="4316400"/>
          </a:xfrm>
          <a:prstGeom prst="rect">
            <a:avLst/>
          </a:prstGeom>
          <a:ln w="0">
            <a:noFill/>
          </a:ln>
        </p:spPr>
      </p:pic>
      <p:sp>
        <p:nvSpPr>
          <p:cNvPr id="185" name="Connecteur droit 10"/>
          <p:cNvSpPr/>
          <p:nvPr/>
        </p:nvSpPr>
        <p:spPr>
          <a:xfrm flipV="1">
            <a:off x="1660680" y="480348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necteur droit 11"/>
          <p:cNvSpPr/>
          <p:nvPr/>
        </p:nvSpPr>
        <p:spPr>
          <a:xfrm flipV="1">
            <a:off x="5962680" y="156492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llipse 12"/>
          <p:cNvSpPr/>
          <p:nvPr/>
        </p:nvSpPr>
        <p:spPr>
          <a:xfrm>
            <a:off x="3753000" y="3548160"/>
            <a:ext cx="69660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llipse 13"/>
          <p:cNvSpPr/>
          <p:nvPr/>
        </p:nvSpPr>
        <p:spPr>
          <a:xfrm>
            <a:off x="4389480" y="2139840"/>
            <a:ext cx="69696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llipse 14"/>
          <p:cNvSpPr/>
          <p:nvPr/>
        </p:nvSpPr>
        <p:spPr>
          <a:xfrm>
            <a:off x="5324400" y="3525840"/>
            <a:ext cx="696960" cy="719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ilo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57120" y="1214280"/>
          <a:ext cx="8501040" cy="5241960"/>
        </p:xfrm>
        <a:graphic>
          <a:graphicData uri="http://schemas.openxmlformats.org/drawingml/2006/table">
            <a:tbl>
              <a:tblPr/>
              <a:tblGrid>
                <a:gridCol w="6386760"/>
                <a:gridCol w="1104840"/>
                <a:gridCol w="10094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mensu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trimestri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reporting des tableaux de bord sont-ils connus de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anagers connaissent-t-ils les modes de consolidation des tableaux de bord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mensuelles sont 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semestri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annu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temps nécessaire pour les bilans intermédiaires ont-ils été réserv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collaborateurs sont-ils conscients de l’importance du suivi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Direction générale est-elle prête à consacrer le temps nécessaire au pilotag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1"/>
          <p:cNvSpPr/>
          <p:nvPr/>
        </p:nvSpPr>
        <p:spPr>
          <a:xfrm>
            <a:off x="210348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9 Pilot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oupe 4" descr=""/>
          <p:cNvPicPr/>
          <p:nvPr/>
        </p:nvPicPr>
        <p:blipFill>
          <a:blip r:embed="rId1"/>
          <a:stretch/>
        </p:blipFill>
        <p:spPr>
          <a:xfrm>
            <a:off x="2236680" y="633240"/>
            <a:ext cx="54626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947880" y="2676600"/>
          <a:ext cx="7972200" cy="3954240"/>
        </p:xfrm>
        <a:graphic>
          <a:graphicData uri="http://schemas.openxmlformats.org/drawingml/2006/table">
            <a:tbl>
              <a:tblPr/>
              <a:tblGrid>
                <a:gridCol w="1992240"/>
                <a:gridCol w="1993680"/>
                <a:gridCol w="1992600"/>
                <a:gridCol w="19936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non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s correc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Diagramme 3" descr=""/>
          <p:cNvPicPr/>
          <p:nvPr/>
        </p:nvPicPr>
        <p:blipFill>
          <a:blip r:embed="rId1"/>
          <a:stretch/>
        </p:blipFill>
        <p:spPr>
          <a:xfrm>
            <a:off x="2139840" y="1994040"/>
            <a:ext cx="4651560" cy="2779560"/>
          </a:xfrm>
          <a:prstGeom prst="rect">
            <a:avLst/>
          </a:prstGeom>
          <a:ln w="0">
            <a:noFill/>
          </a:ln>
        </p:spPr>
      </p:pic>
      <p:sp>
        <p:nvSpPr>
          <p:cNvPr id="196" name="Connecteur droit 4"/>
          <p:cNvSpPr/>
          <p:nvPr/>
        </p:nvSpPr>
        <p:spPr>
          <a:xfrm flipV="1">
            <a:off x="2266920" y="4303800"/>
            <a:ext cx="946080" cy="7682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onnecteur droit 5"/>
          <p:cNvSpPr/>
          <p:nvPr/>
        </p:nvSpPr>
        <p:spPr>
          <a:xfrm flipV="1">
            <a:off x="5735520" y="1999800"/>
            <a:ext cx="630360" cy="43812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e 9"/>
          <p:cNvGrpSpPr/>
          <p:nvPr/>
        </p:nvGrpSpPr>
        <p:grpSpPr>
          <a:xfrm>
            <a:off x="4494240" y="2914560"/>
            <a:ext cx="812880" cy="498600"/>
            <a:chOff x="4494240" y="2914560"/>
            <a:chExt cx="812880" cy="498600"/>
          </a:xfrm>
        </p:grpSpPr>
        <p:sp>
          <p:nvSpPr>
            <p:cNvPr id="199" name="Ellipse 7"/>
            <p:cNvSpPr/>
            <p:nvPr/>
          </p:nvSpPr>
          <p:spPr>
            <a:xfrm>
              <a:off x="4527360" y="2914560"/>
              <a:ext cx="538200" cy="498600"/>
            </a:xfrm>
            <a:prstGeom prst="ellipse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ZoneTexte 8"/>
            <p:cNvSpPr/>
            <p:nvPr/>
          </p:nvSpPr>
          <p:spPr>
            <a:xfrm>
              <a:off x="4494240" y="2923200"/>
              <a:ext cx="8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85880" y="1214280"/>
          <a:ext cx="7643880" cy="5241960"/>
        </p:xfrm>
        <a:graphic>
          <a:graphicData uri="http://schemas.openxmlformats.org/drawingml/2006/table">
            <a:tbl>
              <a:tblPr/>
              <a:tblGrid>
                <a:gridCol w="5742000"/>
                <a:gridCol w="993600"/>
                <a:gridCol w="90828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fait l’analyse des résultats obtenus sur les 3 dernières ann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our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ersonnel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quelles sont les valeurs que vous souhaitez véhiculer dans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naissez-vous les objectifs personnels des différents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rédigé une première vision de l’entreprise à horizon 3 an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à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aux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rapporterait cette vision aux collaborat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vous apporterait cette vision à vous à titre personnel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i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28760" y="1285920"/>
          <a:ext cx="8477280" cy="5241960"/>
        </p:xfrm>
        <a:graphic>
          <a:graphicData uri="http://schemas.openxmlformats.org/drawingml/2006/table">
            <a:tbl>
              <a:tblPr/>
              <a:tblGrid>
                <a:gridCol w="6368760"/>
                <a:gridCol w="1100160"/>
                <a:gridCol w="10083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bilan annuels ont-ils été réali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 historique des principaux évènements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éunion de bilan global a-t-elle eu lieu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synthèse du bilan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echerche des causes des dysfonctionnements éventuels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ctions correctives à mener dans le prochain projet d’entreprise ont-elles été listées 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clôturé par un manifestation impliquant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sultats du projet d’entreprise ont-ils et communiqués à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llaborateurs les plus méritants ont-ils été récompen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nouvelle vision a-t-elle été écr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1"/>
          <p:cNvSpPr/>
          <p:nvPr/>
        </p:nvSpPr>
        <p:spPr>
          <a:xfrm>
            <a:off x="2046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0 Faire le bilan et lancer le nouveau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e 8"/>
          <p:cNvGrpSpPr/>
          <p:nvPr/>
        </p:nvGrpSpPr>
        <p:grpSpPr>
          <a:xfrm>
            <a:off x="2085840" y="642960"/>
            <a:ext cx="5379120" cy="772920"/>
            <a:chOff x="2085840" y="642960"/>
            <a:chExt cx="5379120" cy="772920"/>
          </a:xfrm>
        </p:grpSpPr>
        <p:pic>
          <p:nvPicPr>
            <p:cNvPr id="205" name="Picture 3" descr=""/>
            <p:cNvPicPr/>
            <p:nvPr/>
          </p:nvPicPr>
          <p:blipFill>
            <a:blip r:embed="rId1"/>
            <a:stretch/>
          </p:blipFill>
          <p:spPr>
            <a:xfrm>
              <a:off x="2085840" y="642960"/>
              <a:ext cx="90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ZoneTexte 6"/>
            <p:cNvSpPr/>
            <p:nvPr/>
          </p:nvSpPr>
          <p:spPr>
            <a:xfrm>
              <a:off x="3210480" y="653760"/>
              <a:ext cx="425448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e tout en 60 minutes tous les a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 tous les 3 ans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1042920" y="2930400"/>
          <a:ext cx="7667640" cy="2865600"/>
        </p:xfrm>
        <a:graphic>
          <a:graphicData uri="http://schemas.openxmlformats.org/drawingml/2006/table">
            <a:tbl>
              <a:tblPr/>
              <a:tblGrid>
                <a:gridCol w="1916280"/>
                <a:gridCol w="1917720"/>
                <a:gridCol w="1915920"/>
                <a:gridCol w="1917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s analys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bien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mal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’il aurait fallu 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1"/>
          <p:cNvSpPr/>
          <p:nvPr/>
        </p:nvSpPr>
        <p:spPr>
          <a:xfrm>
            <a:off x="2062080" y="150012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 Avoir et rédiger la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84400" y="2428920"/>
          <a:ext cx="7418160" cy="1881000"/>
        </p:xfrm>
        <a:graphic>
          <a:graphicData uri="http://schemas.openxmlformats.org/drawingml/2006/table">
            <a:tbl>
              <a:tblPr/>
              <a:tblGrid>
                <a:gridCol w="2473200"/>
                <a:gridCol w="2471760"/>
                <a:gridCol w="24732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s B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ers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rofessi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6 m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1 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3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28800" y="4857840"/>
          <a:ext cx="792936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hérence entre personnel- professionnel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vision de l’entreprise à 3 an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66" name="Groupe 9" descr=""/>
          <p:cNvPicPr/>
          <p:nvPr/>
        </p:nvPicPr>
        <p:blipFill>
          <a:blip r:embed="rId1"/>
          <a:stretch/>
        </p:blipFill>
        <p:spPr>
          <a:xfrm>
            <a:off x="2382840" y="353880"/>
            <a:ext cx="51213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14240" y="1249200"/>
          <a:ext cx="7929720" cy="5243760"/>
        </p:xfrm>
        <a:graphic>
          <a:graphicData uri="http://schemas.openxmlformats.org/drawingml/2006/table">
            <a:tbl>
              <a:tblPr/>
              <a:tblGrid>
                <a:gridCol w="5956560"/>
                <a:gridCol w="1030320"/>
                <a:gridCol w="9428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sont-ils cohérents avec la vision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aque Direction fonc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èque Direction opéra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fonctionnels et opérationnels sont-ils cohérents avec les objectif généraux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chiffre d’affaires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ésultat net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ont-ils été évalués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prévus sont-ils cohérents avec les résultats nets escomp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valorisés et intégrés dans le résultat ne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1"/>
          <p:cNvSpPr/>
          <p:nvPr/>
        </p:nvSpPr>
        <p:spPr>
          <a:xfrm>
            <a:off x="1843200" y="1643040"/>
            <a:ext cx="565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2 Décliner la vision en objectifs opérati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14400" y="3078000"/>
          <a:ext cx="7516800" cy="2757600"/>
        </p:xfrm>
        <a:graphic>
          <a:graphicData uri="http://schemas.openxmlformats.org/drawingml/2006/table">
            <a:tbl>
              <a:tblPr/>
              <a:tblGrid>
                <a:gridCol w="1498680"/>
                <a:gridCol w="1203120"/>
                <a:gridCol w="1203480"/>
                <a:gridCol w="1204920"/>
                <a:gridCol w="1203120"/>
                <a:gridCol w="12034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lais de ré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ffre d’affai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ésultat 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s à mettre en pl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res obj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pic>
        <p:nvPicPr>
          <p:cNvPr id="82" name="Groupe 5" descr=""/>
          <p:cNvPicPr/>
          <p:nvPr/>
        </p:nvPicPr>
        <p:blipFill>
          <a:blip r:embed="rId1"/>
          <a:stretch/>
        </p:blipFill>
        <p:spPr>
          <a:xfrm>
            <a:off x="2103480" y="420840"/>
            <a:ext cx="519264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0040" y="142884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760"/>
                <a:gridCol w="1085760"/>
                <a:gridCol w="99360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produit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service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imag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marge net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métier de l’entreprise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duits et les services et le métier de l’entreprise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ypologies de client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clients et les produits et les services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’image de l’entreprise et son métier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valeurs de l’entreprise perçues par les clients sont-elles cohérentes avec les valeurs prônées par la Direction Généra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9:57:44Z</dcterms:created>
  <dc:creator>Utilisateur Windows</dc:creator>
  <dc:description/>
  <dc:language>en-US</dc:language>
  <cp:lastModifiedBy>Utilisateur Windows</cp:lastModifiedBy>
  <dcterms:modified xsi:type="dcterms:W3CDTF">2010-03-04T21:18:31Z</dcterms:modified>
  <cp:revision>22</cp:revision>
  <dc:subject/>
  <dc:title>Diapositive 1</dc:title>
</cp:coreProperties>
</file>