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0B23-9C10-43E7-B25B-0AEAADBE1A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5B8-589B-427B-8476-05DC9C6956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EB13-9731-440E-9A7F-B9F8AABA9B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6F1D-7A95-407F-94D9-C2967FC83D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DB5-0568-4110-AF35-C6685529A5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CE0-C102-429A-8F66-DDC9D7AA40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300E-C776-41ED-8F39-6177A878CA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ACDF-FB64-49E7-8E13-64D76A5FB5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BAE5-3104-49B3-9760-37321DD3EC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1FD8-95CC-45A5-92F9-9EB5C53CDB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0C2-9CE8-4756-807D-4E9E1CFC39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E7AF-C897-488E-8056-667CBF35511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1D26-481C-4472-AB67-32600B15A8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85B-A8EA-478D-8350-9D9560F148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35EC-512C-41B0-83BC-1B61D9FDD6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3545-95C6-44E6-9D63-CA53A29611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3E8D-FAEE-42F7-A7A9-EB1FF18508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CD93-D968-4CA4-90F1-2F8DD9CE53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4713-F7E9-411B-BCA8-22D5227BD9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3BB7-F740-4EEA-8E40-3D430BDED7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172E-2504-4E3C-9729-5B10B473B7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C0D-DAB5-4AE9-8959-E0B8BA09A9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085-FDDD-4670-BA47-0519EE0380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42E-B837-45AF-8CB1-61D788F798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5A2-59A2-4E3B-9CB8-B05D212ED7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D5B5-FD8F-4431-B7A6-74A43E2B66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3FA9-068A-4DD0-B5A7-5DA3400128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4E62-8C79-4A87-A005-921E4170F8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2F7-0CB3-4084-8028-AC3EA86385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E9B1-6798-4C01-A0C2-9BE5391923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4F3E-0061-41E5-9563-40E61B2D60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A2EE-E0D0-4F78-91B4-3AA68B9766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696-2C70-4BAD-87B4-19028D1F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C71-8B3F-488D-BF2C-C67D40E7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6C1-113A-4569-B839-E12A11E8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C18-2EF6-40FC-9939-2A34823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4A4-4228-440E-8574-F41BF171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A6F-5EE9-4A2E-BF78-5B3242B1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3EC-CC02-4916-9923-73129B41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CA1-E62D-4DA5-BDBF-711541F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54B-7973-49D7-AE86-B5A772A8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24E-9A6A-414C-8F8A-EFA2896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8E1-80C3-43EE-B067-29BEFAB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88B-FE1B-4FA9-BC6A-7F4F627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253E-E8C9-4E0C-B9D1-D200F0384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uts 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aches avec le cout 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« les 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 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ont-ils été réserv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0160"/>
                <a:gridCol w="10083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è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et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3760"/>
        </p:xfrm>
        <a:graphic>
          <a:graphicData uri="http://schemas.openxmlformats.org/drawingml/2006/table">
            <a:tbl>
              <a:tblPr/>
              <a:tblGrid>
                <a:gridCol w="5956560"/>
                <a:gridCol w="1030320"/>
                <a:gridCol w="9428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è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 et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 et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Utilisateur Windows</cp:lastModifiedBy>
  <dcterms:modified xsi:type="dcterms:W3CDTF">2010-03-04T21:18:31Z</dcterms:modified>
  <cp:revision>22</cp:revision>
  <dc:subject/>
  <dc:title>Diapositive 1</dc:title>
</cp:coreProperties>
</file>