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E9E-D94C-4DBD-A749-BEC6687B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A9D-419F-46E2-AF3F-5BF97871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BE0-E6F7-4BAD-B931-EFF02FC9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277-E1C4-40F8-9677-01B9BFEA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A94-E07A-4AA1-AEAE-F206D0BF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77E-5B6C-4309-82AA-6E7320A9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FC0-301A-41CE-8B81-31804CBA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F47-E4ED-4B32-8AA2-9EDCFBEE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95F-C464-4A20-A2EB-66D8B379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0C9-2734-4632-8070-862587CF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461-EF0D-461C-974F-83834856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41BA-015C-420D-8319-3651DA67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22F4-8FEB-4D5B-BE2F-ED5545375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4074840" cy="3254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609480"/>
            <a:ext cx="312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ni guid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éthodol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343080"/>
            <a:ext cx="424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8120" y="1109520"/>
            <a:ext cx="880596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3:58:53Z</dcterms:created>
  <dc:creator>Conseils</dc:creator>
  <dc:description/>
  <dc:language>en-US</dc:language>
  <cp:lastModifiedBy>Conseils</cp:lastModifiedBy>
  <dcterms:modified xsi:type="dcterms:W3CDTF">2002-08-15T13:56:44Z</dcterms:modified>
  <cp:revision>2</cp:revision>
  <dc:subject/>
  <dc:title>Présentation PowerPoint</dc:title>
</cp:coreProperties>
</file>