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6F6-D670-4499-ABEF-CA1EEEE0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029-0179-4965-9A8D-D9A58FDE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442-75B6-45FC-AD88-EE554E8D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588-FFE5-424B-BC2C-71A46163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FEF-0B8D-4F8B-86DF-FC85D5F3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14B-551A-475C-81A4-88905B3D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FF8-0485-4313-9DC5-6DF5B439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6BD-B74B-45D0-946E-2A7684E5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957-0850-4283-BB61-C7EB1BC9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C38-8E76-4BA7-99E5-A624B10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500-7573-4CF5-BA62-27DC0DBA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5DA-44BA-4160-99F6-E815777E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4FB-B18B-46B7-AA8F-447E39722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74840" cy="3254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609480"/>
            <a:ext cx="312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ni guid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éthodol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43080"/>
            <a:ext cx="424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8120" y="1109520"/>
            <a:ext cx="88059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3:58:53Z</dcterms:created>
  <dc:creator>Conseils</dc:creator>
  <dc:description/>
  <dc:language>en-US</dc:language>
  <cp:lastModifiedBy>Conseils</cp:lastModifiedBy>
  <dcterms:modified xsi:type="dcterms:W3CDTF">2002-08-15T13:56:44Z</dcterms:modified>
  <cp:revision>2</cp:revision>
  <dc:subject/>
  <dc:title>Présentation PowerPoint</dc:title>
</cp:coreProperties>
</file>