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DDDB-52BD-4383-A68A-4019566D93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A850-75F7-4027-82E9-CAF10229BD9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180D-8323-4F32-A7F4-7FF4DAF5D6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4092-C64F-41D4-B68F-80F4A44916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FF90-C4C8-44C4-BF5C-FF634A6947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21E2-CD9A-40C9-A1BF-F93418341F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7579-D9FA-4909-B78A-4F587078DD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8592-47FD-4239-8E69-64D3649A35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B477-591A-4E10-B255-13146DA011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8132-01D1-41DC-AC88-FF00FB6161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8FFA-504A-478F-BF99-7779B3BF811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A2D1-D9E0-4136-ACD5-008894F39D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8764-44B9-4E7C-9BF4-8936BAD381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B572-4C40-4652-9881-E87CAEA5CF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3077-EA1E-4CF6-9577-B9E039B6EA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D8DA-61D1-4A8C-9533-422E543FAC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09EF-B4FB-4FDF-BC7E-965AE6301A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9F97-E525-4840-B6AC-2AE6D73ECE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E5EB-4AF5-4022-9F3C-2059E2A0D9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218F-A830-422C-B67D-B8472A4368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24C7-D0E9-438B-8020-02C5905960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5C68-1705-4EC8-881E-EE8D33FCCE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7184-D0D8-43CC-9D6E-10CCB96B65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7004-6D80-4BAE-917A-E333870F0B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4B12-3B04-4BB4-8561-F7E3568B85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45EA-51AA-4095-A439-09A433F47D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5CC4-58CD-4560-B0A7-3F73BBB0CE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A2C3-40B0-4A25-A3E2-5F06C3BC90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4729-4F56-4D16-9475-2D5A3BA3BB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B92B-38C6-4D1A-B62C-DA12301D12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85CE-5DA4-4DDC-878C-A54B0280FD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D94D-5D64-46EC-9421-4B57E72DAC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6123-6433-4BAD-A0C1-A93517C3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6157-3BAD-427C-84A2-915AFEB9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2D18-5A80-49AB-8A3D-92FEA080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15A-6230-462F-BA35-3B366D85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0413-AA36-463D-93D4-A118F92A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A11A-5E08-49ED-A474-605166D3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E8BC-0537-4B15-BBE1-E20FEE06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D08-12CE-4603-A69A-C47517BC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F15F-8331-4BF6-8EE7-DDBE70ED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1C4-0784-4F03-B9DF-61C6A934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A84-25E7-4BC6-95CD-CBD7E023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2E7-DFEC-4F19-9B1A-398F142A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53BA-742F-441D-94CF-23EBF6F27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1224000" y="2279520"/>
            <a:ext cx="7005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f0"/>
                </a:solidFill>
                <a:latin typeface="Calibri"/>
                <a:ea typeface="Times New Roman"/>
              </a:rPr>
              <a:t>Avez-vous 2 heures à consacrer à la réflexion sur l’avenir de votre entreprise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727440" y="351000"/>
            <a:ext cx="232236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1"/>
          <p:cNvSpPr/>
          <p:nvPr/>
        </p:nvSpPr>
        <p:spPr>
          <a:xfrm>
            <a:off x="2017800" y="171468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3 Analyser les produits, les services, les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90640" y="3009960"/>
          <a:ext cx="7916760" cy="1881000"/>
        </p:xfrm>
        <a:graphic>
          <a:graphicData uri="http://schemas.openxmlformats.org/drawingml/2006/table">
            <a:tbl>
              <a:tblPr/>
              <a:tblGrid>
                <a:gridCol w="2638440"/>
                <a:gridCol w="2639880"/>
                <a:gridCol w="263844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i sont nos client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s sont nos produit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s sont nos service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884160" y="5162400"/>
          <a:ext cx="7929720" cy="1100160"/>
        </p:xfrm>
        <a:graphic>
          <a:graphicData uri="http://schemas.openxmlformats.org/drawingml/2006/table">
            <a:tbl>
              <a:tblPr/>
              <a:tblGrid>
                <a:gridCol w="3963960"/>
                <a:gridCol w="3965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 est le métier de l’entreprise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le est la réelle valeur ajoutée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pic>
        <p:nvPicPr>
          <p:cNvPr id="99" name="Groupe 6" descr=""/>
          <p:cNvPicPr/>
          <p:nvPr/>
        </p:nvPicPr>
        <p:blipFill>
          <a:blip r:embed="rId1"/>
          <a:stretch/>
        </p:blipFill>
        <p:spPr>
          <a:xfrm>
            <a:off x="2335320" y="493560"/>
            <a:ext cx="51260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0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e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28760" y="1357200"/>
          <a:ext cx="8286480" cy="5241960"/>
        </p:xfrm>
        <a:graphic>
          <a:graphicData uri="http://schemas.openxmlformats.org/drawingml/2006/table">
            <a:tbl>
              <a:tblPr/>
              <a:tblGrid>
                <a:gridCol w="6226200"/>
                <a:gridCol w="1076040"/>
                <a:gridCol w="9842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potentiel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ont-ils été clas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e prospection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e vent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incipaux concurrents sont-ils connus et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 concurrents ont-ils été clas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entreprise a-t-elle été classée par rapport à ses concurren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cessus d’innovation a-t-il été identifi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’innovation des concurrent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1"/>
          <p:cNvSpPr/>
          <p:nvPr/>
        </p:nvSpPr>
        <p:spPr>
          <a:xfrm>
            <a:off x="2017800" y="178596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4 Analyser les modes de commerc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Groupe 4" descr=""/>
          <p:cNvPicPr/>
          <p:nvPr/>
        </p:nvPicPr>
        <p:blipFill>
          <a:blip r:embed="rId1"/>
          <a:stretch/>
        </p:blipFill>
        <p:spPr>
          <a:xfrm>
            <a:off x="2279520" y="493560"/>
            <a:ext cx="5187960" cy="78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1098720" y="3067200"/>
          <a:ext cx="7500600" cy="1854000"/>
        </p:xfrm>
        <a:graphic>
          <a:graphicData uri="http://schemas.openxmlformats.org/drawingml/2006/table">
            <a:tbl>
              <a:tblPr/>
              <a:tblGrid>
                <a:gridCol w="2500200"/>
                <a:gridCol w="2500200"/>
                <a:gridCol w="2500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urniss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cur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s f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s fai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811080" y="5162400"/>
          <a:ext cx="8074080" cy="1100160"/>
        </p:xfrm>
        <a:graphic>
          <a:graphicData uri="http://schemas.openxmlformats.org/drawingml/2006/table">
            <a:tbl>
              <a:tblPr/>
              <a:tblGrid>
                <a:gridCol w="4037040"/>
                <a:gridCol w="4037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 est ce que je vends à mes client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 est ce que je touche les prospect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1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rgan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285920"/>
          <a:ext cx="8215200" cy="5241960"/>
        </p:xfrm>
        <a:graphic>
          <a:graphicData uri="http://schemas.openxmlformats.org/drawingml/2006/table">
            <a:tbl>
              <a:tblPr/>
              <a:tblGrid>
                <a:gridCol w="6172200"/>
                <a:gridCol w="1066680"/>
                <a:gridCol w="97632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organigramme hiérarchique a-t-il été dessin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organigramme fonctionnel a-t-il été dessin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rganigrammes fonctionnels et hiérarchiques ont-ils été superpo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grands processu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liste des moyens dont dispose l’entreprise a-t-elle été réalis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mangement de la Direction générale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management des principaux cadre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sociogrammes des différents services et direction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éléments de motivation des différents collaborateurs et cadre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évaluation de la cohérence entre les objectifs et l’organisation de l’entreprise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1"/>
          <p:cNvSpPr/>
          <p:nvPr/>
        </p:nvSpPr>
        <p:spPr>
          <a:xfrm>
            <a:off x="2035080" y="192888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5 Analyser l’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Groupe 4" descr=""/>
          <p:cNvPicPr/>
          <p:nvPr/>
        </p:nvPicPr>
        <p:blipFill>
          <a:blip r:embed="rId1"/>
          <a:stretch/>
        </p:blipFill>
        <p:spPr>
          <a:xfrm>
            <a:off x="2352600" y="706320"/>
            <a:ext cx="512784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847800" y="3027240"/>
          <a:ext cx="8037360" cy="3048120"/>
        </p:xfrm>
        <a:graphic>
          <a:graphicData uri="http://schemas.openxmlformats.org/drawingml/2006/table">
            <a:tbl>
              <a:tblPr/>
              <a:tblGrid>
                <a:gridCol w="1714320"/>
                <a:gridCol w="1581120"/>
                <a:gridCol w="1581120"/>
                <a:gridCol w="1579680"/>
                <a:gridCol w="1581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ément analys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s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bl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yenn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fait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GRA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IV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34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in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28760" y="128592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400"/>
                <a:gridCol w="1085760"/>
                <a:gridCol w="9939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harge par personne et par activité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harge entre les différents services et directions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couts hommes ont-ils été détermin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alorisation des taches avec le cout homme a-t-elle été effect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humain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matériell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financièr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projets à mener dans le projet d’entreprise et les ressources disponibles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rbitrages sur les projets à mener ont-ils été fa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retours sur investissement des projets à mener a-t-il été évalu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1"/>
          <p:cNvSpPr/>
          <p:nvPr/>
        </p:nvSpPr>
        <p:spPr>
          <a:xfrm>
            <a:off x="1862280" y="178596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6 Analyser les fin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Groupe 4" descr=""/>
          <p:cNvPicPr/>
          <p:nvPr/>
        </p:nvPicPr>
        <p:blipFill>
          <a:blip r:embed="rId1"/>
          <a:stretch/>
        </p:blipFill>
        <p:spPr>
          <a:xfrm>
            <a:off x="2182680" y="633240"/>
            <a:ext cx="511992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1101600" y="2967120"/>
          <a:ext cx="7183440" cy="1752480"/>
        </p:xfrm>
        <a:graphic>
          <a:graphicData uri="http://schemas.openxmlformats.org/drawingml/2006/table">
            <a:tbl>
              <a:tblPr/>
              <a:tblGrid>
                <a:gridCol w="2664000"/>
                <a:gridCol w="1490760"/>
                <a:gridCol w="1450800"/>
                <a:gridCol w="157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iè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ma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 matéri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onibles actuel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mobiliser en 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t 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893880" y="5162400"/>
          <a:ext cx="7597800" cy="1100160"/>
        </p:xfrm>
        <a:graphic>
          <a:graphicData uri="http://schemas.openxmlformats.org/drawingml/2006/table">
            <a:tbl>
              <a:tblPr/>
              <a:tblGrid>
                <a:gridCol w="7597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 est le retour sur investissement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5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5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iagnos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28760" y="135720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400"/>
                <a:gridCol w="1085760"/>
                <a:gridCol w="9939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tes les analyses ont-elles été menées complètemen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oints forts de chaque élément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oints faibles de chaque élément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éléments ont-ils été mis en perspective les uns par rapport aux aut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incipales « maladies » de l’entreprise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face de chaque maladie, les axes de progression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xes de progression sont-ils cohérents avec la vision stratégiqu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a-t-elle été validée ou reformul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généraux ont-ils été validés ou réévalu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apacité de l’entreprise à mener son projet d’entreprise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1"/>
          <p:cNvSpPr/>
          <p:nvPr/>
        </p:nvSpPr>
        <p:spPr>
          <a:xfrm>
            <a:off x="2033640" y="174780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7 Faire le di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oupe 5" descr=""/>
          <p:cNvPicPr/>
          <p:nvPr/>
        </p:nvPicPr>
        <p:blipFill>
          <a:blip r:embed="rId1"/>
          <a:stretch/>
        </p:blipFill>
        <p:spPr>
          <a:xfrm>
            <a:off x="2352600" y="407880"/>
            <a:ext cx="512136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1071720" y="2786040"/>
          <a:ext cx="7581600" cy="1854360"/>
        </p:xfrm>
        <a:graphic>
          <a:graphicData uri="http://schemas.openxmlformats.org/drawingml/2006/table">
            <a:tbl>
              <a:tblPr/>
              <a:tblGrid>
                <a:gridCol w="1704960"/>
                <a:gridCol w="1469880"/>
                <a:gridCol w="1468440"/>
                <a:gridCol w="1469880"/>
                <a:gridCol w="1468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è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bl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n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portun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0160" y="5162400"/>
          <a:ext cx="8066160" cy="1160640"/>
        </p:xfrm>
        <a:graphic>
          <a:graphicData uri="http://schemas.openxmlformats.org/drawingml/2006/table">
            <a:tbl>
              <a:tblPr/>
              <a:tblGrid>
                <a:gridCol w="8066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les sont « les maladies » de l’entreprise qui empêcheraient d’atteindre les objectif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6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57120" y="1357200"/>
          <a:ext cx="8572680" cy="5241960"/>
        </p:xfrm>
        <a:graphic>
          <a:graphicData uri="http://schemas.openxmlformats.org/drawingml/2006/table">
            <a:tbl>
              <a:tblPr/>
              <a:tblGrid>
                <a:gridCol w="6440400"/>
                <a:gridCol w="1113120"/>
                <a:gridCol w="10191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est-elle clair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est-elle cohérente avec les capacités de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a-t-elle été suffisamment déclinée en objectifs mesurabl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liste des projets à mener a-t-elle été finalis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évolutions organisationnelles nécessaires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lans marketing et commercial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lan financier a-t-il été construi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document « projet d’entreprise » a-t-il été rédig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est-il clair et compréhensible par tou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a-t-il été validé par les actionnaires puis communiqué aux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1"/>
          <p:cNvSpPr/>
          <p:nvPr/>
        </p:nvSpPr>
        <p:spPr>
          <a:xfrm>
            <a:off x="2019240" y="174780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8 Rédiger et communiquer le projet d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oupe 4" descr=""/>
          <p:cNvPicPr/>
          <p:nvPr/>
        </p:nvPicPr>
        <p:blipFill>
          <a:blip r:embed="rId1"/>
          <a:stretch/>
        </p:blipFill>
        <p:spPr>
          <a:xfrm>
            <a:off x="2341440" y="407880"/>
            <a:ext cx="511992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1801800" y="4125960"/>
          <a:ext cx="6095880" cy="22255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812880" y="2786040"/>
          <a:ext cx="8074080" cy="1100160"/>
        </p:xfrm>
        <a:graphic>
          <a:graphicData uri="http://schemas.openxmlformats.org/drawingml/2006/table">
            <a:tbl>
              <a:tblPr/>
              <a:tblGrid>
                <a:gridCol w="4037040"/>
                <a:gridCol w="4037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 nouvelle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s objectifs généraux associés à cette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Diagramme 9" descr=""/>
          <p:cNvPicPr/>
          <p:nvPr/>
        </p:nvPicPr>
        <p:blipFill>
          <a:blip r:embed="rId1"/>
          <a:stretch/>
        </p:blipFill>
        <p:spPr>
          <a:xfrm>
            <a:off x="1420920" y="841320"/>
            <a:ext cx="6869160" cy="4316400"/>
          </a:xfrm>
          <a:prstGeom prst="rect">
            <a:avLst/>
          </a:prstGeom>
          <a:ln w="0">
            <a:noFill/>
          </a:ln>
        </p:spPr>
      </p:pic>
      <p:sp>
        <p:nvSpPr>
          <p:cNvPr id="185" name="Connecteur droit 10"/>
          <p:cNvSpPr/>
          <p:nvPr/>
        </p:nvSpPr>
        <p:spPr>
          <a:xfrm flipV="1">
            <a:off x="1660680" y="4803480"/>
            <a:ext cx="1046160" cy="839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necteur droit 11"/>
          <p:cNvSpPr/>
          <p:nvPr/>
        </p:nvSpPr>
        <p:spPr>
          <a:xfrm flipV="1">
            <a:off x="5962680" y="1564920"/>
            <a:ext cx="1046160" cy="83988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llipse 12"/>
          <p:cNvSpPr/>
          <p:nvPr/>
        </p:nvSpPr>
        <p:spPr>
          <a:xfrm>
            <a:off x="3753000" y="3548160"/>
            <a:ext cx="696600" cy="720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llipse 13"/>
          <p:cNvSpPr/>
          <p:nvPr/>
        </p:nvSpPr>
        <p:spPr>
          <a:xfrm>
            <a:off x="4389480" y="2139840"/>
            <a:ext cx="696960" cy="720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llipse 14"/>
          <p:cNvSpPr/>
          <p:nvPr/>
        </p:nvSpPr>
        <p:spPr>
          <a:xfrm>
            <a:off x="5324400" y="3525840"/>
            <a:ext cx="696960" cy="719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ilo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57120" y="1214280"/>
          <a:ext cx="8501040" cy="5241960"/>
        </p:xfrm>
        <a:graphic>
          <a:graphicData uri="http://schemas.openxmlformats.org/drawingml/2006/table">
            <a:tbl>
              <a:tblPr/>
              <a:tblGrid>
                <a:gridCol w="6386760"/>
                <a:gridCol w="1104840"/>
                <a:gridCol w="10094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ableaux de bord mensuel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ableaux de bord trimestriel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reporting des tableaux de bord sont-ils connus de tou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anagers connaissent-t-ils les modes de consolidation des tableaux de bord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mensuelles sont 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semestri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annu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temps nécessaire pour les bilans intermédiaires ont-ils été réserv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collaborateurs sont-ils conscients de l’importance du suivi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Direction générale est-elle prête à consacrer le temps nécessaire au pilotag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1"/>
          <p:cNvSpPr/>
          <p:nvPr/>
        </p:nvSpPr>
        <p:spPr>
          <a:xfrm>
            <a:off x="2103480" y="174780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9 Piloter le projet d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oupe 4" descr=""/>
          <p:cNvPicPr/>
          <p:nvPr/>
        </p:nvPicPr>
        <p:blipFill>
          <a:blip r:embed="rId1"/>
          <a:stretch/>
        </p:blipFill>
        <p:spPr>
          <a:xfrm>
            <a:off x="2236680" y="633240"/>
            <a:ext cx="546264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947880" y="2676600"/>
          <a:ext cx="7972200" cy="3954240"/>
        </p:xfrm>
        <a:graphic>
          <a:graphicData uri="http://schemas.openxmlformats.org/drawingml/2006/table">
            <a:tbl>
              <a:tblPr/>
              <a:tblGrid>
                <a:gridCol w="1992240"/>
                <a:gridCol w="1993680"/>
                <a:gridCol w="1992600"/>
                <a:gridCol w="199368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atte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non atte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s correct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Diagramme 3" descr=""/>
          <p:cNvPicPr/>
          <p:nvPr/>
        </p:nvPicPr>
        <p:blipFill>
          <a:blip r:embed="rId1"/>
          <a:stretch/>
        </p:blipFill>
        <p:spPr>
          <a:xfrm>
            <a:off x="2139840" y="1994040"/>
            <a:ext cx="4651560" cy="2779560"/>
          </a:xfrm>
          <a:prstGeom prst="rect">
            <a:avLst/>
          </a:prstGeom>
          <a:ln w="0">
            <a:noFill/>
          </a:ln>
        </p:spPr>
      </p:pic>
      <p:sp>
        <p:nvSpPr>
          <p:cNvPr id="196" name="Connecteur droit 4"/>
          <p:cNvSpPr/>
          <p:nvPr/>
        </p:nvSpPr>
        <p:spPr>
          <a:xfrm flipV="1">
            <a:off x="2266920" y="4303800"/>
            <a:ext cx="946080" cy="7682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onnecteur droit 5"/>
          <p:cNvSpPr/>
          <p:nvPr/>
        </p:nvSpPr>
        <p:spPr>
          <a:xfrm flipV="1">
            <a:off x="5735520" y="1999800"/>
            <a:ext cx="630360" cy="43812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e 9"/>
          <p:cNvGrpSpPr/>
          <p:nvPr/>
        </p:nvGrpSpPr>
        <p:grpSpPr>
          <a:xfrm>
            <a:off x="4494240" y="2914560"/>
            <a:ext cx="812880" cy="498600"/>
            <a:chOff x="4494240" y="2914560"/>
            <a:chExt cx="812880" cy="498600"/>
          </a:xfrm>
        </p:grpSpPr>
        <p:sp>
          <p:nvSpPr>
            <p:cNvPr id="199" name="Ellipse 7"/>
            <p:cNvSpPr/>
            <p:nvPr/>
          </p:nvSpPr>
          <p:spPr>
            <a:xfrm>
              <a:off x="4527360" y="2914560"/>
              <a:ext cx="538200" cy="498600"/>
            </a:xfrm>
            <a:prstGeom prst="ellipse">
              <a:avLst/>
            </a:pr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ZoneTexte 8"/>
            <p:cNvSpPr/>
            <p:nvPr/>
          </p:nvSpPr>
          <p:spPr>
            <a:xfrm>
              <a:off x="4494240" y="2923200"/>
              <a:ext cx="81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85880" y="1214280"/>
          <a:ext cx="7643880" cy="5241960"/>
        </p:xfrm>
        <a:graphic>
          <a:graphicData uri="http://schemas.openxmlformats.org/drawingml/2006/table">
            <a:tbl>
              <a:tblPr/>
              <a:tblGrid>
                <a:gridCol w="5742000"/>
                <a:gridCol w="993600"/>
                <a:gridCol w="90828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fait l’analyse des résultats obtenus sur les 3 dernières ann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mis en perspective ces résultats avec vos ambitions pour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mis en perspective ces résultats avec vos ambitions personnell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quelles sont les valeurs que vous souhaitez véhiculer dans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naissez-vous les objectifs personnels des différents actionnai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rédigé une première vision de l’entreprise à horizon 3 an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’apporterait cette vision à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’apporterait cette vision aux actionnai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e rapporterait cette vision aux collaborat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e vous apporterait cette vision à vous à titre personnel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i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28760" y="1285920"/>
          <a:ext cx="8477280" cy="5241960"/>
        </p:xfrm>
        <a:graphic>
          <a:graphicData uri="http://schemas.openxmlformats.org/drawingml/2006/table">
            <a:tbl>
              <a:tblPr/>
              <a:tblGrid>
                <a:gridCol w="6368760"/>
                <a:gridCol w="1100160"/>
                <a:gridCol w="10083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bilan annuels ont-ils été réali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 historique des principaux évènements a-t-il été construi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réunion de bilan global a-t-elle eu lieu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synthèse du bilan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recherche des causes des dysfonctionnements éventuels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ctions correctives à mener dans le prochain projet d’entreprise ont-elles été listées 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a-t-il été clôturé par un manifestation impliquant tous les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sultats du projet d’entreprise ont-ils et communiqués à tous les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collaborateurs les plus méritants ont-ils été récompen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nouvelle vision a-t-elle été écr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1"/>
          <p:cNvSpPr/>
          <p:nvPr/>
        </p:nvSpPr>
        <p:spPr>
          <a:xfrm>
            <a:off x="2046240" y="174780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10 Faire le bilan et lancer le nouveau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e 8"/>
          <p:cNvGrpSpPr/>
          <p:nvPr/>
        </p:nvGrpSpPr>
        <p:grpSpPr>
          <a:xfrm>
            <a:off x="2085840" y="642960"/>
            <a:ext cx="5379120" cy="772920"/>
            <a:chOff x="2085840" y="642960"/>
            <a:chExt cx="5379120" cy="772920"/>
          </a:xfrm>
        </p:grpSpPr>
        <p:pic>
          <p:nvPicPr>
            <p:cNvPr id="205" name="Picture 3" descr=""/>
            <p:cNvPicPr/>
            <p:nvPr/>
          </p:nvPicPr>
          <p:blipFill>
            <a:blip r:embed="rId1"/>
            <a:stretch/>
          </p:blipFill>
          <p:spPr>
            <a:xfrm>
              <a:off x="2085840" y="642960"/>
              <a:ext cx="9018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ZoneTexte 6"/>
            <p:cNvSpPr/>
            <p:nvPr/>
          </p:nvSpPr>
          <p:spPr>
            <a:xfrm>
              <a:off x="3210480" y="653760"/>
              <a:ext cx="4254480" cy="703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Le tout en 60 minutes tous les a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t tous les 3 ans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1042920" y="2930400"/>
          <a:ext cx="7667640" cy="2865600"/>
        </p:xfrm>
        <a:graphic>
          <a:graphicData uri="http://schemas.openxmlformats.org/drawingml/2006/table">
            <a:tbl>
              <a:tblPr/>
              <a:tblGrid>
                <a:gridCol w="1916280"/>
                <a:gridCol w="1917720"/>
                <a:gridCol w="1915920"/>
                <a:gridCol w="1917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éments analys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i a bien marc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i a mal marc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’il aurait fallu f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1"/>
          <p:cNvSpPr/>
          <p:nvPr/>
        </p:nvSpPr>
        <p:spPr>
          <a:xfrm>
            <a:off x="2062080" y="150012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1 Avoir et rédiger la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84400" y="2428920"/>
          <a:ext cx="7418160" cy="1881000"/>
        </p:xfrm>
        <a:graphic>
          <a:graphicData uri="http://schemas.openxmlformats.org/drawingml/2006/table">
            <a:tbl>
              <a:tblPr/>
              <a:tblGrid>
                <a:gridCol w="2473200"/>
                <a:gridCol w="2471760"/>
                <a:gridCol w="247320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s B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erso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rofessio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6 m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1 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3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28800" y="4857840"/>
          <a:ext cx="7929360" cy="1100160"/>
        </p:xfrm>
        <a:graphic>
          <a:graphicData uri="http://schemas.openxmlformats.org/drawingml/2006/table">
            <a:tbl>
              <a:tblPr/>
              <a:tblGrid>
                <a:gridCol w="3963960"/>
                <a:gridCol w="3965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hérence entre personnel- professionnel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 vision de l’entreprise à 3 an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pic>
        <p:nvPicPr>
          <p:cNvPr id="66" name="Groupe 9" descr=""/>
          <p:cNvPicPr/>
          <p:nvPr/>
        </p:nvPicPr>
        <p:blipFill>
          <a:blip r:embed="rId1"/>
          <a:stretch/>
        </p:blipFill>
        <p:spPr>
          <a:xfrm>
            <a:off x="2382840" y="353880"/>
            <a:ext cx="51213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6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14240" y="1249200"/>
          <a:ext cx="7929720" cy="5243760"/>
        </p:xfrm>
        <a:graphic>
          <a:graphicData uri="http://schemas.openxmlformats.org/drawingml/2006/table">
            <a:tbl>
              <a:tblPr/>
              <a:tblGrid>
                <a:gridCol w="5956560"/>
                <a:gridCol w="1030320"/>
                <a:gridCol w="9428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généraux sont-ils cohérents avec la vision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ont-ils été déclinés pour chaque Direction fonctionnel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ont-ils été déclinés pour chèque Direction opérationnel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fonctionnels et opérationnels sont-ils cohérents avec les objectif généraux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chiffre d’affaires est-il déterminé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résultat net est-il déterminé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effectifs ont-ils été évalués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effectifs prévus sont-ils cohérents avec les résultats nets escomp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yens à mettre en place ont-ils été évalu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yens à mettre en place ont-ils été valorisés et intégrés dans le résultat ne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1"/>
          <p:cNvSpPr/>
          <p:nvPr/>
        </p:nvSpPr>
        <p:spPr>
          <a:xfrm>
            <a:off x="1843200" y="1643040"/>
            <a:ext cx="565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2 Décliner la vision en objectifs opératio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14400" y="3078000"/>
          <a:ext cx="7516800" cy="2757600"/>
        </p:xfrm>
        <a:graphic>
          <a:graphicData uri="http://schemas.openxmlformats.org/drawingml/2006/table">
            <a:tbl>
              <a:tblPr/>
              <a:tblGrid>
                <a:gridCol w="1498680"/>
                <a:gridCol w="1203120"/>
                <a:gridCol w="1203480"/>
                <a:gridCol w="1204920"/>
                <a:gridCol w="1203120"/>
                <a:gridCol w="120348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élais de réa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ffre d’affai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ésultat 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ffec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yens à mettre en pl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res objec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pic>
        <p:nvPicPr>
          <p:cNvPr id="82" name="Groupe 5" descr=""/>
          <p:cNvPicPr/>
          <p:nvPr/>
        </p:nvPicPr>
        <p:blipFill>
          <a:blip r:embed="rId1"/>
          <a:stretch/>
        </p:blipFill>
        <p:spPr>
          <a:xfrm>
            <a:off x="2103480" y="420840"/>
            <a:ext cx="519264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84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ark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00040" y="142884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760"/>
                <a:gridCol w="1085760"/>
                <a:gridCol w="99360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produits commercialisés par l’entrepris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services commercialisés par l’entrepris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duits et services qui apportent la meilleure imag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duits et services qui apportent la meilleure marge nett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métier de l’entreprise a-t-il été identifi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produits et les services et le métier de l’entreprise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ypologies de clients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clients et les produits et les services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’image de l’entreprise et son métier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valeurs de l’entreprise perçues par les clients sont-elles cohérentes avec les valeurs prônées par la Direction Généra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9:57:44Z</dcterms:created>
  <dc:creator>Utilisateur Windows</dc:creator>
  <dc:description/>
  <dc:language>en-US</dc:language>
  <cp:lastModifiedBy>Utilisateur Windows</cp:lastModifiedBy>
  <dcterms:modified xsi:type="dcterms:W3CDTF">2010-03-04T21:18:31Z</dcterms:modified>
  <cp:revision>22</cp:revision>
  <dc:subject/>
  <dc:title>Diapositive 1</dc:title>
</cp:coreProperties>
</file>