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C4A-071C-4C3D-A2A6-C1CDD1CE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D96-8313-447D-8183-C45DEBB9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5ED-0231-4256-A6C6-35B59087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B67-14DF-4FF6-A486-95FEAB3A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EBFA-C2FF-455F-9D1E-EC3DC757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7650-19FF-478B-8640-23DE2237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E274-572D-4725-BCC9-6DE2409E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CB50-23F0-45B0-9FD7-0DD924A7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D25F-1305-4413-9439-854D3DEE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6FC5-4DFE-4F7D-A01F-7610C605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CE63-BA8D-46D7-8DA8-9A6B4E1A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9AD-4D06-487F-AA4B-41273F10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E278-C5A8-427C-A64F-179FDBC0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065E-3285-46C1-9EC9-676AA0F6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1164-62E5-451D-977E-56A691E7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B753-72E4-4548-ADC7-EF4BCD78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1161-066E-4D76-A2C2-B2C049EE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B28-A1E4-4742-A7CA-CD33B074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CE7-8990-4AAB-BA71-BA3B5A0E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687-7152-4440-A254-CF5C70C1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B36-3C59-4F42-B025-53C4569C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846-EC71-4638-B92E-4D4F191F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1DC-07A9-4364-B81F-59CA5811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258-88A5-4E6A-A208-C2F2B67B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CD5D-94E9-4948-AE25-2690CC9C3746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A849-DBB4-4E32-9A0A-F46BA361E57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49A0-7E77-4D3C-B485-33FDA6C8C861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1391-F3A6-4C89-8FDD-FF9376712B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D91-D962-4E80-88DA-806D5E92F7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F7D9B-F003-40E5-827D-ADFD29535C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155-1ED8-4C13-9C22-662CA39316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A0151-D288-4072-9699-555ADCD81A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3ED-0BAD-4848-8145-D8C1D0B05FA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32542-D9CE-415D-AA7A-0B0B34B674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B8D-6DEB-42F9-B229-803C2879B3D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70CDE-EB22-4DCD-8232-EE24167285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33E-C466-4A89-AB87-AD1B8DEC5FC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7CC28-BA78-4F22-AACD-C0080E58A7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20:08:26Z</dcterms:modified>
  <cp:revision>5</cp:revision>
  <dc:subject/>
  <dc:title>SportPro SA</dc:title>
</cp:coreProperties>
</file>