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E980-7607-48F1-90A4-8BEDD522F2ED}" type="datetime2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A72A-A704-4BC0-B583-4F531B55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7EE-A85B-459D-B6E0-9EB61219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3E5-F43C-4B5C-BBB2-AE75BA48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666-8FA9-469B-B694-5DF07FE7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A8C-BE72-4C9D-A2A1-278237D7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84A8-E540-4339-B7EF-E78B7211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30B2-084F-4F0A-BB59-CA2AD5D4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AAAA-C5D1-4271-922F-876762FC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3ACB-7054-440C-BED5-5874DEF6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E5ED-045E-44DC-A3F5-00BFC8F3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8F1A-98E5-464E-A7EF-02DF44F2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15B6-C060-4E42-881C-DA031C7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BAA-F59D-478C-A51C-2CC5E5A8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1F38-13FC-4CA5-BA99-EAE9E06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BC77-B853-466A-8965-178FBC8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9CCE-239F-4249-AF1F-1857EAE8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1904-51C3-4578-921F-70CE900C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52B8-0C7A-4673-8354-6FB551C3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FF3-5D6D-485A-A9CF-C8780441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FEB-DB96-4579-B573-D8ABADD9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9B5-1762-4C72-B9B1-84DEBB11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1EB-2F04-4D56-9BA3-224B4201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EB7-5A51-4F69-9B34-F2D5EBF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5C3-B518-4BDC-8C68-70E44A9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F5E-C6F8-4D1B-A3F6-39A2D735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2877-751A-48C0-9AE7-2DC74AA35E9C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5452-BC6F-48C8-A866-3D9435E014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00C6-7F67-4E60-A5C2-B2719B9EF6A7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8B76-145B-44CC-8416-E560082A5BB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842-BC69-4DBC-B317-29DBB20E6E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1332F-2EA5-4DA7-AD20-6EEA38BF84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1DE-05B3-4058-932C-1C98336A0A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55CF8-16D5-4151-8D34-B39725192D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011-ECE7-4505-AABC-069E9D8611E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0A7D8-853F-4B9C-A224-6EB51057EC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3D9-ED30-41A6-9593-1BD08DBB5D1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57383-C74F-4BCC-AF12-B41A7185D3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510-C53D-42EE-8596-79C8E4C2934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C0480-1786-48FA-B7EA-B5A0B1724C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281-EC38-43DD-93A8-A84E7E32BD5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628B8-405D-49D8-B87D-2D214A6103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4" name="_s21528"/>
            <p:cNvCxnSpPr>
              <a:stCxn id="125" idx="0"/>
              <a:endCxn id="126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6"/>
            <p:cNvCxnSpPr>
              <a:stCxn id="128" idx="0"/>
              <a:endCxn id="126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4"/>
            <p:cNvCxnSpPr>
              <a:stCxn id="130" idx="0"/>
              <a:endCxn id="131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2"/>
            <p:cNvCxnSpPr>
              <a:stCxn id="133" idx="0"/>
              <a:endCxn id="131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0"/>
            <p:cNvCxnSpPr>
              <a:stCxn id="135" idx="4"/>
              <a:endCxn id="136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18"/>
            <p:cNvCxnSpPr>
              <a:stCxn id="126" idx="0"/>
              <a:endCxn id="136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17"/>
            <p:cNvCxnSpPr>
              <a:stCxn id="131" idx="0"/>
              <a:endCxn id="136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6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7B6-6871-4A5C-84F8-FA21E7290A6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482EF-E149-48DE-88DC-A1AC131020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1CC-2BE0-4930-A7D5-A95042C899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2C413-EC12-4545-BB36-698BB412E0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24:59Z</dcterms:modified>
  <cp:revision>12</cp:revision>
  <dc:subject/>
  <dc:title>SportPro SA</dc:title>
</cp:coreProperties>
</file>