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FCA-ED72-4BC0-85E2-2FA1D9DB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6B9-7196-40A8-9AA1-A00091AF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696-78FF-49A5-A2B8-26CB5390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4DA-E41F-40D4-9AD1-51892359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BF4C-5762-42E8-A1B6-D5F852A8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112A-CD0E-42EF-8AD0-7EC6F230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19AF-A5DC-4775-B337-4FA759A5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F963-FAEF-4762-A93C-C05297E1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CC56-77E6-499D-8A65-B67EACF8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C5CA-157C-4C1C-8C84-827C8918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11D6-EA41-4202-A790-166F6419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DFB-2470-4FEB-8DB2-0722999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642F-BAE2-4230-8ACA-03B0792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56B0-B7AA-43AC-95D5-2D799B7F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66B5-2DF1-4285-8B14-D888F0E9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851B-28E8-4BCA-8208-A1598950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DE2D-831B-426B-978A-7030CC4E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53F-576F-4C5A-8745-44092C2B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8D7-ACF4-4C1E-9511-9ADF6250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1ED-5824-4384-8481-B990E659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3BD-67AF-43A2-852D-18E181ED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81C-F4F4-478D-B4B2-6213649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ABA-0A8F-481A-AB28-309D855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BF3-35F2-4A4B-A44C-8584EC3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5C29-55C6-41C8-AA07-F51881CAB5F6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1679-4C8F-47B1-B769-DBD635B0E9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E70B-9B55-4499-A433-1A7875E8D62F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3812-D870-4FDB-B4FB-FB10B81323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944-F40F-45D4-A31D-4EC07C9737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89939-92FD-407A-A95A-BC4A6A6012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8D3-8039-465D-9765-E3F525DFE5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C73E5-E36F-43D7-9D53-B23C676915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DB6-19CC-4851-BC40-AAB5D4084DE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D13DF-29BE-4CDA-9CB2-2401F9FA9C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399-87F8-4943-979C-A4C9B4DA937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B3EDE-587F-42CF-A7AB-3ECC857C01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2DD-1736-4FD0-A85B-25F3C8CD28B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EF5C0-2227-4219-B731-97422CDD2D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20:08:26Z</dcterms:modified>
  <cp:revision>5</cp:revision>
  <dc:subject/>
  <dc:title>SportPro SA</dc:title>
</cp:coreProperties>
</file>