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2B9-223E-4246-A6B4-46D0FCC53D9D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4687-FD3F-4E5E-B559-82D934CAE0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18E-8C4D-40EF-95A5-BE81F04C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E50-2840-4215-9729-F796F882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014-455E-452C-9D23-5D25B0FA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283-8A45-45A5-95EB-ED8E1A15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F34-86E8-44D8-9513-A8A16769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3DC9-FDD5-413B-B36F-67140A4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054E-7861-4F3E-A1F0-FEE7C1C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4A2D-52F2-4A67-8DBB-40B6907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2354-908B-4EFF-9DA2-B5A34F5B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1D9-CF42-4BD9-AAB2-1E9D9D6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5678-0D13-4952-BD7F-E1CF289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0B8-F826-4CDB-ABE7-93F7505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D462-6DAC-47F2-8B7A-BFC79F7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522C-95DA-4BB3-90E6-62D65C7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FBCB-636D-4743-96B6-5AB88CAA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C8D2-F710-4BB9-9A37-12AD947F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14CF-8921-4168-8376-0A81C76F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386-C59D-432C-AD6A-EF680EB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76F-8CC7-42E3-A9A6-47D597E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86F-28EF-454A-8D19-C5C1A01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D04-0BA1-4BD8-99D3-39A4F60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A6D-F120-4284-8A95-58CB52A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FE7-7447-421A-A406-376D96A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A7F-540E-4732-867B-DAA051C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F54-8807-47F2-A710-57754F32A230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66C2-FE18-4D17-A586-09199527FD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AD65-4D14-4E60-B085-BC2AB04F5F81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7A8F-2991-4061-870B-EA3292A48F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042-E631-4DE3-93C9-834CB3151B9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6BF10-B09E-4084-A140-62F1CFB11899}" type="datetime5">
              <a:rPr lang="en-US"/>
              <a:t>Jul 30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C04-DEF4-4862-95B7-EA744E909A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F53A6-B6AB-4C4E-95D0-BC9100A6616E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BB4-EEA1-4100-9874-D6021B3E44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4277B-A3A9-4D93-A850-5DA04A91C6C8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B9B-B3D2-48AF-A5BA-D94AAFF8D50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C11A3-0F8F-4763-A397-ECA930D056FD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418-556A-4F3E-B020-7ACC010DA27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DCDA0-51D4-45CB-B074-41BA337D2585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9F4-DB26-4CF7-B63D-4256C8704C0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7ABDF-0653-4831-91EC-C9430B791C1B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F3C-0AB4-4C5D-88F0-AD920E29B19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7720E-3021-45E2-ACD4-0D232EB61A5C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456-25A8-42D9-8AF2-51A59479FCB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FF606-5273-46D5-A08B-FF4201ACD67C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D34-C245-49EE-9B6A-500794D8F6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BB628-7C7A-41AF-8BD8-BEE238A43E70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6:00:36Z</dcterms:modified>
  <cp:revision>22</cp:revision>
  <dc:subject/>
  <dc:title>SportPro SA</dc:title>
</cp:coreProperties>
</file>