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F10D-4421-48E2-9535-34A8BEEAE242}" type="datetime2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E630-9CDC-483C-AA76-D6B3EB455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assistance est gratuite pour tous les véhicules préparés par nos so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tte assistance est alors valable pour l’Europe et l’Afrique du nord pour une durée de six m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2962-0DBB-44D9-9152-713CD524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4A46-2F52-4EA7-9736-9341E9FE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164C-E763-41EF-811E-FD9DF95F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C8EF-6212-42FF-87CF-2A7ACF396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74F6-C832-486B-A2AD-295FA99FE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EA65-3421-4467-B431-06EE6218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7AE7-FD13-4592-AF9A-85FE9383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2D6F-F00D-4F84-B0D2-8C78E47B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FBA3-A3D0-4FFA-8961-F723ACB5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3831-42DB-4384-B79F-450C6535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C999-D802-45A0-A6BC-46927EFE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D4BC-C66B-43FA-A1D5-25577064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257D-BC16-4749-8A3D-17786BEB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DDCA-37DE-4250-A0B9-77CD84CA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6197-826D-4B3C-A921-00047CF7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E9CC-77E4-4D87-BB5F-19E254BB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ED52-178F-4E33-B3D0-0A658B870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B490-54B8-45A0-826B-78F47F0F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9E53-5FE8-4E68-A69C-EFA01129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B7F3-3B27-445E-A500-AE3D466B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6F14-DC22-4F9D-907A-15D3D7C4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BAF6-D664-4FB8-8773-0E40C14A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E466-0FE4-40F5-80EF-73A6414B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7C28-55F5-4B0A-9409-F3164286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C517-85D3-4FA7-8B41-9B0354B7873F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34A5-072B-4624-AD56-E80991C174A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AE62-448E-48A4-82ED-A5308DF19862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BF64-583C-4B88-9C14-981F1C4A299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flipH="1">
            <a:off x="611280" y="3141720"/>
            <a:ext cx="343512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900000" y="2492280"/>
            <a:ext cx="1209960" cy="11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E1B7-C179-4544-AB29-F1A1E4CD6B0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A4B269-D79F-4847-B93E-F6698FF43F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0358-2C9B-4C0A-9F85-76640365CC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AE5D2-CAD7-488B-91AE-C4CAB3DD10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7554-1DC5-4854-B000-1106332B385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BCB3FE-26D0-44BD-9BC8-BAC0C7043E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5AAE-2C89-45F2-ACC6-A7BE41B2C7F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7BDDE-D0A9-430C-BB38-4D7510A972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EFFF-D4D2-4EDC-A8B0-DD24125C4F32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D5BA3B-216E-4E9B-809E-355454A1AC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D200-2F42-4348-B2FD-B926D028DE1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1E547C-9C34-4E3A-86CE-C0D30F7F59D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ociété SportPro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042920" y="2492280"/>
            <a:ext cx="7632360" cy="3671640"/>
            <a:chOff x="1042920" y="2492280"/>
            <a:chExt cx="7632360" cy="3671640"/>
          </a:xfrm>
        </p:grpSpPr>
        <p:cxnSp>
          <p:nvCxnSpPr>
            <p:cNvPr id="124" name="_s21528"/>
            <p:cNvCxnSpPr>
              <a:stCxn id="125" idx="0"/>
              <a:endCxn id="126" idx="3"/>
            </p:cNvCxnSpPr>
            <p:nvPr/>
          </p:nvCxnSpPr>
          <p:spPr>
            <a:xfrm flipV="1" rot="16200000">
              <a:off x="716652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7" name="_s21526"/>
            <p:cNvCxnSpPr>
              <a:stCxn id="128" idx="0"/>
              <a:endCxn id="126" idx="3"/>
            </p:cNvCxnSpPr>
            <p:nvPr/>
          </p:nvCxnSpPr>
          <p:spPr>
            <a:xfrm flipH="1" flipV="1" rot="5400000">
              <a:off x="617580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9" name="_s21524"/>
            <p:cNvCxnSpPr>
              <a:stCxn id="130" idx="0"/>
              <a:endCxn id="131" idx="3"/>
            </p:cNvCxnSpPr>
            <p:nvPr/>
          </p:nvCxnSpPr>
          <p:spPr>
            <a:xfrm flipV="1" rot="16200000">
              <a:off x="320868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2" name="_s21522"/>
            <p:cNvCxnSpPr>
              <a:stCxn id="133" idx="0"/>
              <a:endCxn id="131" idx="3"/>
            </p:cNvCxnSpPr>
            <p:nvPr/>
          </p:nvCxnSpPr>
          <p:spPr>
            <a:xfrm flipH="1" flipV="1" rot="5400000">
              <a:off x="221832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4" name="_s21520"/>
            <p:cNvCxnSpPr>
              <a:stCxn id="135" idx="4"/>
              <a:endCxn id="136" idx="3"/>
            </p:cNvCxnSpPr>
            <p:nvPr/>
          </p:nvCxnSpPr>
          <p:spPr>
            <a:xfrm flipV="1">
              <a:off x="4505400" y="3159360"/>
              <a:ext cx="316440" cy="704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7" name="_s21518"/>
            <p:cNvCxnSpPr>
              <a:stCxn id="126" idx="0"/>
              <a:endCxn id="136" idx="3"/>
            </p:cNvCxnSpPr>
            <p:nvPr/>
          </p:nvCxnSpPr>
          <p:spPr>
            <a:xfrm flipV="1" rot="16200000">
              <a:off x="5179680" y="2800800"/>
              <a:ext cx="1335600" cy="205200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8" name="_s21517"/>
            <p:cNvCxnSpPr>
              <a:stCxn id="131" idx="0"/>
              <a:endCxn id="136" idx="3"/>
            </p:cNvCxnSpPr>
            <p:nvPr/>
          </p:nvCxnSpPr>
          <p:spPr>
            <a:xfrm flipH="1" flipV="1" rot="5400000">
              <a:off x="3200760" y="2873520"/>
              <a:ext cx="1335600" cy="190692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136" name="_s21512"/>
            <p:cNvSpPr/>
            <p:nvPr/>
          </p:nvSpPr>
          <p:spPr>
            <a:xfrm>
              <a:off x="4011120" y="24922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trick Duva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D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_s21514"/>
            <p:cNvSpPr/>
            <p:nvPr/>
          </p:nvSpPr>
          <p:spPr>
            <a:xfrm>
              <a:off x="203220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éphane Dupo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Vent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_s21515"/>
            <p:cNvSpPr/>
            <p:nvPr/>
          </p:nvSpPr>
          <p:spPr>
            <a:xfrm>
              <a:off x="599004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ierre Mart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Mécaniqu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_s21519"/>
            <p:cNvSpPr/>
            <p:nvPr/>
          </p:nvSpPr>
          <p:spPr>
            <a:xfrm>
              <a:off x="2880360" y="349344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hilippe Mor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_s21521"/>
            <p:cNvSpPr/>
            <p:nvPr/>
          </p:nvSpPr>
          <p:spPr>
            <a:xfrm>
              <a:off x="10429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Gérard Leroy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ublicité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_s21523"/>
            <p:cNvSpPr/>
            <p:nvPr/>
          </p:nvSpPr>
          <p:spPr>
            <a:xfrm>
              <a:off x="302148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nard Dav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ompéti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_s21525"/>
            <p:cNvSpPr/>
            <p:nvPr/>
          </p:nvSpPr>
          <p:spPr>
            <a:xfrm>
              <a:off x="500040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land Rover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arrosseri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_s21527"/>
            <p:cNvSpPr/>
            <p:nvPr/>
          </p:nvSpPr>
          <p:spPr>
            <a:xfrm>
              <a:off x="69793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trand Mich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neumatiqu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012000" y="2421000"/>
            <a:ext cx="823680" cy="11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0FD0-6B8D-4F48-B07E-9E9CBB5C456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E9173A-1A35-4EF1-9525-0BDF5796998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épann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 J/7 – 24H/2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él : 01 45 52 08 3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619280" y="549360"/>
            <a:ext cx="56167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ssistance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5508720" y="2708280"/>
            <a:ext cx="2735280" cy="576360"/>
          </a:xfrm>
          <a:prstGeom prst="wedgeRoundRectCallout">
            <a:avLst>
              <a:gd name="adj1" fmla="val -33287"/>
              <a:gd name="adj2" fmla="val 137328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ujours prêt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6182-AEDA-44A3-B459-A468D394209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16717E-D50A-4F54-84F1-BA756DB6CAE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3:24:59Z</dcterms:modified>
  <cp:revision>12</cp:revision>
  <dc:subject/>
  <dc:title>SportPro SA</dc:title>
</cp:coreProperties>
</file>