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95A-73A6-44DC-8C20-6B5461599E77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AC0A-A79B-48E8-A6D7-8255AAD14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7B0-D9C7-4D3C-A5CE-AFC4D2AD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3D9-BE42-4BD4-AE2E-CDCDA81F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180-4AB3-4DAE-8B88-1ED59D1A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B14-8BB9-4910-A0B1-00CBBB57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514E-2ECD-4175-BE9B-CB2C98EA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912-992B-43AC-A42F-857F522A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68F3-BE07-4C46-9314-D77D4E4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1844-CC6F-4568-88F8-DBE11070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F856-FBDF-48F6-9F74-215E5D6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FDC0-B9AC-4C40-A5AE-F87C4B93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00A9-F915-4C90-AC43-DF8ECA9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3B2-7FC4-44E6-94AC-2A64F9E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43B1-649F-4203-9012-71BAC40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E98F-D2A7-48A3-801C-09510E9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D972-19D3-4931-871B-980B3DB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8732-D4C8-41F4-A5E7-E6E86C44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728B-003F-4199-884B-B2BED0D2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A7B-3450-4761-B6FB-E0F81BFA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F2F-368D-42C2-B4B2-A87B130E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A23-4E95-4599-BCA0-3D81A15E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D73-F717-463E-8356-A8713B0A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DA8-B852-4359-88B3-F0DB5CE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308-B9CC-4540-A2A0-F2BC3EF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2A5-B07C-4466-AF82-7D5B80F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1AA-5559-4FC1-9554-1F1D6693515C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0011-1C74-41A2-B350-B989100565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FDD8-30D4-4CB9-8357-E8E81AE8CE04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69CC-0B8D-4246-BCA7-C856ED08AD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710-029F-4B0B-8937-63E357C504A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E2A1D-1ACF-4E2B-9E74-5F4F5D913233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B8B-52CA-4FF1-93FE-3221242BAC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C1C7E-9227-4876-A8C2-ED72C0878683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D08-58A6-408D-BAB5-631E524C7D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FD97E-4C9D-4908-8AE7-BEE4AA2DAC00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07B-BD0B-46C5-AD72-0D40FA4F3E3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0EC65-D8C7-40A0-B599-71132C279D3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CC8-1EB6-488F-ABD2-32DB80BEFE3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A429D-D968-4942-8235-9CA1FF868753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42B-8580-4133-B988-C5687313BBC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24818-1EFA-4C8A-8F63-AFDF920CD9DA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F35-CF3E-4AA8-9FF9-7FAF84B2080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E2FBC-39C7-4AE5-B046-D2118CB05FF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EAC-A717-4920-8DD0-D4F80098F90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14083-F974-4AD9-823C-ED0D3C3EEA6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3F0-552F-4874-B6AA-53CDF0CC41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47E2C-0A5D-4A93-87FC-D533D12EBAB9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6:00:36Z</dcterms:modified>
  <cp:revision>22</cp:revision>
  <dc:subject/>
  <dc:title>SportPro SA</dc:title>
</cp:coreProperties>
</file>