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CDD-A95A-459F-8EFE-BE33854A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CCD-6E8D-45CF-B40A-7F48F01A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4AF-65EF-4127-AE0F-D48BDB2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7AA-C1E1-4683-8744-F7B2A3FE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AF98-27C5-478C-9CF0-7F284C78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9301-B965-4CCE-8E03-AECAC95D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C2BE-0EEA-4580-87FF-B60012A5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BAE3-B6B2-4CE2-93E3-8FF8EE0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DC2F-8AC3-467F-B3B3-6EBBDFA9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BDB8-0B5D-499E-B8E1-107CD07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C90D-AE8D-401C-8B49-1F00B98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A15-07B7-491A-86AE-8ABC042A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5B76-B29F-4009-90AB-EEBEB1F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A2B2-7643-421D-9DD3-65C1C26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7146-FDB4-44F2-87B6-46325254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9F9-38AB-47FC-B620-EA9C8973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9F7E-A929-4B44-88B8-58888B31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B5C-9A88-4DAB-AB59-E58944E2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1EE-2F6D-4E69-85EA-409E1D7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08C-2B62-48D5-B980-6CD416BD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4FC-8866-4460-A1A6-AD44E031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F64-27B6-4A6D-80A4-C9F140F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F18-3850-4D1D-84BE-CCAB5F55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A0C-5A38-4C1C-B792-1417E97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5B6E-8CD7-4BA8-A606-A108EA1F7063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5558-A6DF-44C6-AE6F-5E73B9B5A0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60A-58EE-41A2-92C5-72059C9D3AB7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BBA7-FEEB-4EF0-B533-F1C8C33ECA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 SA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égl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s sur notre circ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C81-EC8B-498A-BF9F-568E5D8748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98F73-3663-44C1-BC3D-D1AA76BA45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0C2-5EE4-4751-840D-2A737F529C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BF3B3-A1C4-493B-A5CA-D9C0B1617D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1:06:38Z</dcterms:modified>
  <cp:revision>2</cp:revision>
  <dc:subject/>
  <dc:title>SportPro SA</dc:title>
</cp:coreProperties>
</file>