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wmf" ContentType="image/x-wmf"/>
  <Override PartName="/ppt/media/image9.wmf" ContentType="image/x-wmf"/>
  <Override PartName="/ppt/media/image15.png" ContentType="image/png"/>
  <Override PartName="/ppt/media/hammer.wav" ContentType="audio/x-wav"/>
  <Override PartName="/ppt/media/applause.wav" ContentType="audio/x-wav"/>
  <Override PartName="/ppt/media/image1.png" ContentType="image/png"/>
  <Override PartName="/ppt/media/image3.wmf" ContentType="image/x-wmf"/>
  <Override PartName="/ppt/media/arrow.wav" ContentType="audio/x-wav"/>
  <Override PartName="/ppt/media/image13.jpeg" ContentType="image/jpeg"/>
  <Override PartName="/ppt/media/image4.gif" ContentType="image/gif"/>
  <Override PartName="/ppt/media/image8.png" ContentType="image/png"/>
  <Override PartName="/ppt/media/image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AED7-2F44-4B04-99AC-44720608AF15}" type="datetime2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eudi 30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1BF3-9027-457D-9643-DEDDEFB01C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’assistance est gratuite pour tous les véhicules préparés par nos so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tte assistance est alors valable pour l’Europe et l’Afrique du nord pour une durée de six m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EF5A-69B0-4344-8D25-733EA807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82C1-18C6-4299-8D3A-242FD065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4869-E7B7-4E01-9283-E84EDF42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028A-2BC0-4AD4-85D4-ABB4E4BB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BF57-CC57-4AC7-8794-3DF195DB9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DC78-0596-4F2B-8104-553DB6A7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4580-9C94-4B7A-8487-5808E82F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0348-9AB9-4075-8CC9-CD6EDEF5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E263-3D43-4237-A088-46A3F78F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1C31-CE92-4D4C-A07F-AA1BA067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27F5-FF58-455D-932E-D3E27AC6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FDF9-0FF1-4494-9CA8-1E85CC3B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893A-522E-4C87-B1DE-BD725D7E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1BE2-79D4-498F-A78D-CBEDEAB8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9519-C0A8-4881-BAFF-9C2FFE28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0505-FE9A-4EBC-9434-EA5A0AD9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1151-A364-4490-9F71-CD088C65E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43E6-6451-4474-8335-D33302A7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6EFF-AB64-444A-9AFC-F4F5E308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EBDE-7724-4A59-9DAA-47B19803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68B9-78D7-4DF6-A31A-55F6675A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422E-6664-441A-9F10-7027A409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200D-89CE-4A80-857E-CF965E20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0B39-852F-4395-9BCD-D68EE1FA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CB63-BAF4-4A85-B64F-A69B6B584F7F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5228-B281-41E8-A838-8BB3A797E63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9B2C-0228-4123-A6B5-73DFF363D975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0D32-A9B9-4A3A-B664-6F73D30E36D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file:///C:/Exercices%20PowerPoint%202003/Locations.ppt" TargetMode="External"/><Relationship Id="rId3" Type="http://schemas.openxmlformats.org/officeDocument/2006/relationships/hyperlink" Target="http://www.allsportauto.com/" TargetMode="External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audio" Target="../media/arrow.wav"/><Relationship Id="rId8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" Target="slide6.xml"/><Relationship Id="rId5" Type="http://schemas.openxmlformats.org/officeDocument/2006/relationships/audio" Target="../media/arrow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4.wmf"/><Relationship Id="rId5" Type="http://schemas.openxmlformats.org/officeDocument/2006/relationships/audio" Target="../media/arrow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flipH="1">
            <a:off x="611280" y="3141720"/>
            <a:ext cx="3435120" cy="1566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443640" y="476280"/>
            <a:ext cx="1944720" cy="1874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  <p:sndAc>
      <p:stSnd>
        <p:snd r:embed="rId4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29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A bientôt …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627280" y="2708280"/>
            <a:ext cx="4176720" cy="341460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179280" y="18900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11453" y="3837"/>
                </a:moveTo>
                <a:lnTo>
                  <a:pt x="14029" y="6448"/>
                </a:lnTo>
                <a:lnTo>
                  <a:pt x="14029" y="4707"/>
                </a:lnTo>
                <a:lnTo>
                  <a:pt x="15804" y="4707"/>
                </a:lnTo>
                <a:lnTo>
                  <a:pt x="15804" y="8224"/>
                </a:lnTo>
                <a:lnTo>
                  <a:pt x="18416" y="10800"/>
                </a:lnTo>
                <a:lnTo>
                  <a:pt x="16762" y="10800"/>
                </a:lnTo>
                <a:lnTo>
                  <a:pt x="16762" y="17989"/>
                </a:lnTo>
                <a:lnTo>
                  <a:pt x="6143" y="17989"/>
                </a:lnTo>
                <a:lnTo>
                  <a:pt x="6143" y="10800"/>
                </a:lnTo>
                <a:lnTo>
                  <a:pt x="4490" y="10800"/>
                </a:lnTo>
                <a:close/>
              </a:path>
              <a:path fill="darkenLess" w="22905" h="21600">
                <a:moveTo>
                  <a:pt x="14029" y="6448"/>
                </a:moveTo>
                <a:lnTo>
                  <a:pt x="14029" y="4707"/>
                </a:lnTo>
                <a:lnTo>
                  <a:pt x="15804" y="4707"/>
                </a:lnTo>
                <a:lnTo>
                  <a:pt x="15804" y="8224"/>
                </a:lnTo>
                <a:close/>
              </a:path>
              <a:path fill="darkenLess" w="22905" h="21600">
                <a:moveTo>
                  <a:pt x="10530" y="14299"/>
                </a:moveTo>
                <a:lnTo>
                  <a:pt x="12375" y="14299"/>
                </a:lnTo>
                <a:lnTo>
                  <a:pt x="12375" y="17989"/>
                </a:lnTo>
                <a:lnTo>
                  <a:pt x="16762" y="17989"/>
                </a:lnTo>
                <a:lnTo>
                  <a:pt x="16762" y="10800"/>
                </a:lnTo>
                <a:lnTo>
                  <a:pt x="6143" y="10800"/>
                </a:lnTo>
                <a:lnTo>
                  <a:pt x="6143" y="17989"/>
                </a:lnTo>
                <a:lnTo>
                  <a:pt x="10530" y="17989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4040" y="115920"/>
            <a:ext cx="155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Véhicules à lou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4760" y="40464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Notre site Web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7C93-BC00-42D7-9ADE-A0BC9DAD18F6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72AC1E-A812-4856-8003-6D2230C369C3}" type="datetime5">
              <a:rPr lang="en-US"/>
              <a:t>Jul 30, 2026</a:t>
            </a:fld>
          </a:p>
        </p:txBody>
      </p:sp>
    </p:spTree>
  </p:cSld>
  <p:transition spd="slow">
    <p:newsflash/>
    <p:sndAc>
      <p:stSnd>
        <p:snd r:embed="rId4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3033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5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900000" y="2492280"/>
            <a:ext cx="1209960" cy="114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46BB-3A21-41B5-928A-4547C1500A7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44A258-EE91-4F3E-9363-EAB64E1B32E4}" type="datetime5">
              <a:rPr lang="en-US"/>
              <a:t>Jul 30, 2026</a:t>
            </a:fld>
          </a:p>
        </p:txBody>
      </p:sp>
    </p:spTree>
  </p:cSld>
  <p:transition spd="slow">
    <p:cover dir="d"/>
    <p:sndAc>
      <p:stSnd>
        <p:snd r:embed="rId8" name="arrow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767"/>
                            </p:stCondLst>
                            <p:childTnLst>
                              <p:par>
                                <p:cTn id="14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767"/>
                            </p:stCondLst>
                            <p:childTnLst>
                              <p:par>
                                <p:cTn id="21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9767"/>
                            </p:stCondLst>
                            <p:childTnLst>
                              <p:par>
                                <p:cTn id="28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767"/>
                            </p:stCondLst>
                            <p:childTnLst>
                              <p:par>
                                <p:cTn id="35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767"/>
                            </p:stCondLst>
                            <p:childTnLst>
                              <p:par>
                                <p:cTn id="42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8767"/>
                            </p:stCondLst>
                            <p:childTnLst>
                              <p:par>
                                <p:cTn id="49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6BD9-3932-4A7E-8668-CFE0F4884D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C14F80-B974-4353-A259-504D205E0D5B}" type="datetime5">
              <a:rPr lang="en-US"/>
              <a:t>Jul 30, 2026</a:t>
            </a:fld>
          </a:p>
        </p:txBody>
      </p:sp>
    </p:spTree>
  </p:cSld>
  <p:transition spd="slow">
    <p:cover dir="d"/>
    <p:sndAc>
      <p:stSnd>
        <p:snd r:embed="rId7" name="arrow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800"/>
                            </p:stCondLst>
                            <p:childTnLst>
                              <p:par>
                                <p:cTn id="72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7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200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3300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630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5B0F-467A-4635-9C06-5D2C26FEDD8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BE54BB-7E91-4E6C-BDBA-0A2295EFBA75}" type="datetime5">
              <a:rPr lang="en-US"/>
              <a:t>Jul 30, 2026</a:t>
            </a:fld>
          </a:p>
        </p:txBody>
      </p:sp>
    </p:spTree>
  </p:cSld>
  <p:transition spd="slow">
    <p:cover dir="d"/>
    <p:sndAc>
      <p:stSnd>
        <p:snd r:embed="rId1" name="arrow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324B-56CB-48D2-8431-ACD12A7F79E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40FEEA-4697-4CCF-9CDC-CA7729508367}" type="datetime5">
              <a:rPr lang="en-US"/>
              <a:t>Jul 30, 2026</a:t>
            </a:fld>
          </a:p>
        </p:txBody>
      </p:sp>
    </p:spTree>
  </p:cSld>
  <p:transition spd="slow">
    <p:cover dir="d"/>
    <p:sndAc>
      <p:stSnd>
        <p:snd r:embed="rId3" name="arrow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4616-262B-488C-99A2-81912E7E765E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9050C5-FB4F-4606-A4A5-DB33421A870A}" type="datetime5">
              <a:rPr lang="en-US"/>
              <a:t>Jul 30, 2026</a:t>
            </a:fld>
          </a:p>
        </p:txBody>
      </p:sp>
    </p:spTree>
  </p:cSld>
  <p:transition spd="slow">
    <p:cover dir="d"/>
    <p:sndAc>
      <p:stSnd>
        <p:snd r:embed="rId3" name="arrow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 rot="13065600">
            <a:off x="7885080" y="5660640"/>
            <a:ext cx="493920" cy="49356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rId4" action="ppaction://hlinksldjump"/>
          </p:cNvPr>
          <p:cNvSpPr/>
          <p:nvPr/>
        </p:nvSpPr>
        <p:spPr>
          <a:xfrm>
            <a:off x="250920" y="18900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90" h="21600">
                <a:moveTo>
                  <a:pt x="1084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90" h="21600">
                <a:moveTo>
                  <a:pt x="8269" y="8224"/>
                </a:moveTo>
                <a:lnTo>
                  <a:pt x="12133" y="8224"/>
                </a:lnTo>
                <a:lnTo>
                  <a:pt x="12133" y="15221"/>
                </a:lnTo>
                <a:lnTo>
                  <a:pt x="13421" y="15221"/>
                </a:lnTo>
                <a:lnTo>
                  <a:pt x="13421" y="16144"/>
                </a:lnTo>
                <a:lnTo>
                  <a:pt x="8269" y="16144"/>
                </a:lnTo>
                <a:lnTo>
                  <a:pt x="8269" y="15221"/>
                </a:lnTo>
                <a:lnTo>
                  <a:pt x="9557" y="15221"/>
                </a:lnTo>
                <a:lnTo>
                  <a:pt x="9557" y="9129"/>
                </a:lnTo>
                <a:lnTo>
                  <a:pt x="8269" y="9129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60F2-9B2C-42C5-85F1-8C6A5C737112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98480-3249-4714-BBF9-C98697349E64}" type="datetime5">
              <a:rPr lang="en-US"/>
              <a:t>Jul 30, 2026</a:t>
            </a:fld>
          </a:p>
        </p:txBody>
      </p:sp>
    </p:spTree>
  </p:cSld>
  <p:transition spd="slow">
    <p:cover dir="d"/>
    <p:sndAc>
      <p:stSnd>
        <p:snd r:embed="rId5" name="arrow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animMotion origin="layout" path="M 3.88889E-006 3.17919E-006 L -0.23177 -0.22451 E">
                                      <p:cBhvr>
                                        <p:cTn id="123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ociété SportPro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042920" y="2492280"/>
            <a:ext cx="7632360" cy="3671640"/>
            <a:chOff x="1042920" y="2492280"/>
            <a:chExt cx="7632360" cy="3671640"/>
          </a:xfrm>
        </p:grpSpPr>
        <p:cxnSp>
          <p:nvCxnSpPr>
            <p:cNvPr id="128" name="_s21528"/>
            <p:cNvCxnSpPr>
              <a:stCxn id="129" idx="0"/>
              <a:endCxn id="130" idx="3"/>
            </p:cNvCxnSpPr>
            <p:nvPr/>
          </p:nvCxnSpPr>
          <p:spPr>
            <a:xfrm flipV="1" rot="16200000">
              <a:off x="716652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1" name="_s21526"/>
            <p:cNvCxnSpPr>
              <a:stCxn id="132" idx="0"/>
              <a:endCxn id="130" idx="3"/>
            </p:cNvCxnSpPr>
            <p:nvPr/>
          </p:nvCxnSpPr>
          <p:spPr>
            <a:xfrm flipH="1" flipV="1" rot="5400000">
              <a:off x="617580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3" name="_s21524"/>
            <p:cNvCxnSpPr>
              <a:stCxn id="134" idx="0"/>
              <a:endCxn id="135" idx="3"/>
            </p:cNvCxnSpPr>
            <p:nvPr/>
          </p:nvCxnSpPr>
          <p:spPr>
            <a:xfrm flipV="1" rot="16200000">
              <a:off x="320868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6" name="_s21522"/>
            <p:cNvCxnSpPr>
              <a:stCxn id="137" idx="0"/>
              <a:endCxn id="135" idx="3"/>
            </p:cNvCxnSpPr>
            <p:nvPr/>
          </p:nvCxnSpPr>
          <p:spPr>
            <a:xfrm flipH="1" flipV="1" rot="5400000">
              <a:off x="221832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8" name="_s21520"/>
            <p:cNvCxnSpPr>
              <a:stCxn id="139" idx="4"/>
              <a:endCxn id="140" idx="3"/>
            </p:cNvCxnSpPr>
            <p:nvPr/>
          </p:nvCxnSpPr>
          <p:spPr>
            <a:xfrm flipV="1">
              <a:off x="4505400" y="3159360"/>
              <a:ext cx="316440" cy="7048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41" name="_s21518"/>
            <p:cNvCxnSpPr>
              <a:stCxn id="130" idx="0"/>
              <a:endCxn id="140" idx="3"/>
            </p:cNvCxnSpPr>
            <p:nvPr/>
          </p:nvCxnSpPr>
          <p:spPr>
            <a:xfrm flipV="1" rot="16200000">
              <a:off x="5179680" y="2800800"/>
              <a:ext cx="1335600" cy="205200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42" name="_s21517"/>
            <p:cNvCxnSpPr>
              <a:stCxn id="135" idx="0"/>
              <a:endCxn id="140" idx="3"/>
            </p:cNvCxnSpPr>
            <p:nvPr/>
          </p:nvCxnSpPr>
          <p:spPr>
            <a:xfrm flipH="1" flipV="1" rot="5400000">
              <a:off x="3200760" y="2873520"/>
              <a:ext cx="1335600" cy="190692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sp>
          <p:nvSpPr>
            <p:cNvPr id="140" name="_s21512"/>
            <p:cNvSpPr/>
            <p:nvPr/>
          </p:nvSpPr>
          <p:spPr>
            <a:xfrm>
              <a:off x="4011120" y="24922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trick Duva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D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_s21514"/>
            <p:cNvSpPr/>
            <p:nvPr/>
          </p:nvSpPr>
          <p:spPr>
            <a:xfrm>
              <a:off x="203220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téphane Dupon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Vent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_s21515"/>
            <p:cNvSpPr/>
            <p:nvPr/>
          </p:nvSpPr>
          <p:spPr>
            <a:xfrm>
              <a:off x="599004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ierre Mart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Mécaniqu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_s21519"/>
            <p:cNvSpPr/>
            <p:nvPr/>
          </p:nvSpPr>
          <p:spPr>
            <a:xfrm>
              <a:off x="2880360" y="349344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hilippe Mor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ssista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_s21521"/>
            <p:cNvSpPr/>
            <p:nvPr/>
          </p:nvSpPr>
          <p:spPr>
            <a:xfrm>
              <a:off x="10429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Gérard Leroy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ublicité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_s21523"/>
            <p:cNvSpPr/>
            <p:nvPr/>
          </p:nvSpPr>
          <p:spPr>
            <a:xfrm>
              <a:off x="302148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nard Dav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ompétition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_s21525"/>
            <p:cNvSpPr/>
            <p:nvPr/>
          </p:nvSpPr>
          <p:spPr>
            <a:xfrm>
              <a:off x="500040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oland Rover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arrosseri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_s21527"/>
            <p:cNvSpPr/>
            <p:nvPr/>
          </p:nvSpPr>
          <p:spPr>
            <a:xfrm>
              <a:off x="69793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trand Mich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neumatiqu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12000" y="2421000"/>
            <a:ext cx="823680" cy="11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DC7A-71B4-41A4-979D-B54B8A71A05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85B14-6E76-4C12-BF8E-2190D8AEE7DA}" type="datetime5">
              <a:rPr lang="en-US"/>
              <a:t>Jul 30, 2026</a:t>
            </a:fld>
          </a:p>
        </p:txBody>
      </p:sp>
    </p:spTree>
  </p:cSld>
  <p:transition spd="slow">
    <p:cover dir="d"/>
    <p:sndAc>
      <p:stSnd>
        <p:snd r:embed="rId2" name="arrow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épann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 J/7 – 24H/2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él : 01 45 52 08 3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1619280" y="549360"/>
            <a:ext cx="56167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ssistance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5508720" y="2708280"/>
            <a:ext cx="2735280" cy="576360"/>
          </a:xfrm>
          <a:prstGeom prst="wedgeRoundRectCallout">
            <a:avLst>
              <a:gd name="adj1" fmla="val -33287"/>
              <a:gd name="adj2" fmla="val 137328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ujours prêt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C53E-13D5-4C71-B05A-D4929BBE2CC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232193-B135-47D3-979C-3C310FA1F379}" type="datetime5">
              <a:rPr lang="en-US"/>
              <a:t>Jul 30, 2026</a:t>
            </a:fld>
          </a:p>
        </p:txBody>
      </p:sp>
    </p:spTree>
  </p:cSld>
  <p:transition spd="slow">
    <p:cover dir="d"/>
    <p:sndAc>
      <p:stSnd>
        <p:snd r:embed="rId5" name="arrow.wav"/>
      </p:stSnd>
    </p:sndAc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5:51:00Z</dcterms:modified>
  <cp:revision>20</cp:revision>
  <dc:subject/>
  <dc:title>SportPro SA</dc:title>
</cp:coreProperties>
</file>