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01B-50D2-4D96-B855-8ECB09CC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3B5-E019-4FBC-82D2-3A393BEB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604-3BAE-4B6E-9AAA-C60AB066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33F-AEAC-4350-BD79-9B62DEFC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6874-56C5-4EBC-93A4-313E2AA3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FAE2-54FF-485E-A533-7C59C938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25D-E764-4D97-A161-F27290BD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4911-F834-43E6-B6AB-D1275737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DB18-4A44-4EC0-BFD5-2C48955F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C6FC-5FBC-4502-8A98-4B4081C1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49C3-C09F-4CA0-A9AB-F42F8877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496-85B3-4FB8-A365-01497A3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AD8E-4BAA-4651-B87F-F312CFA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2B08-61F0-46F7-A81B-6FC9ED81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0D78-1C6E-474A-91E3-37A6CD54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7BFC-6172-4F4A-8E26-5E71819C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001D-1117-4AAC-9F64-14BAC98B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DAA-BAB7-4ACB-8BC4-E3BB5740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23E-FD3D-4571-9DCD-A3ADDED7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3D9-6F52-4B4D-98C0-493C85A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1FE-ABDF-4FCE-A427-3E05129C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ED1-464C-4C6B-B75C-9CC05C1F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A2A-5805-471B-9584-409777E8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DB4-469F-46EC-8155-799C3F5F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593F-33CA-444D-8498-28FE1AD75030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305-D067-4C48-B4D6-143F26F17C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7232-05F6-4F10-897A-B2421EE35C50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BE8A-AE35-473D-84AE-EB7B4AEF47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D6D-3B64-430F-BE36-1730FB7BB9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C5C35-608B-4349-BEC2-BB665235BC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C16-9E35-4C57-A646-F7A95F7F7A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73EF7-4696-44C1-83BC-00850693BB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7A4-A387-448F-AA24-653BAC484C5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43A09-D951-4046-91C1-014686779F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702-70C4-4D5E-A6C2-173045CE382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EA7E8-6117-4F1A-AC43-E680FAA9D7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B54-F6CA-4145-8B2C-1D389E8FD67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AE207-053A-402A-B2AA-C05917B668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FB8-CED8-49A0-A6C7-CE772A6980A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17F00-54BE-485A-8668-40D2B80EA5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7" name="_s21528"/>
            <p:cNvCxnSpPr>
              <a:stCxn id="118" idx="0"/>
              <a:endCxn id="11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6"/>
            <p:cNvCxnSpPr>
              <a:stCxn id="121" idx="0"/>
              <a:endCxn id="11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2" name="_s21524"/>
            <p:cNvCxnSpPr>
              <a:stCxn id="123" idx="0"/>
              <a:endCxn id="12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2"/>
            <p:cNvCxnSpPr>
              <a:stCxn id="126" idx="0"/>
              <a:endCxn id="12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0"/>
            <p:cNvCxnSpPr>
              <a:stCxn id="128" idx="4"/>
              <a:endCxn id="12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18"/>
            <p:cNvCxnSpPr>
              <a:stCxn id="119" idx="0"/>
              <a:endCxn id="12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17"/>
            <p:cNvCxnSpPr>
              <a:stCxn id="124" idx="0"/>
              <a:endCxn id="12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65C-9AA7-49E0-8DCB-B194801BAC6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400A3-E8D4-4909-983E-B6FE69BA2F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A6C-F9AF-4FB3-A0B1-77C62F6BF2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39D0A-1F29-407A-A515-A5B1301F92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14:45Z</dcterms:modified>
  <cp:revision>11</cp:revision>
  <dc:subject/>
  <dc:title>SportPro SA</dc:title>
</cp:coreProperties>
</file>