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5C58-DEDF-4ED5-A61D-7BE09AC6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7D51-EC0B-4E8C-95CA-66BBDC31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185-F190-46F1-9CA0-065DE96D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04D-72C5-4A7D-AE5A-3FD1E3BC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D603-2320-4372-872A-EBA9C513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F51E-B3AB-4430-A491-AEB2D480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0081-A867-4CCC-B18F-E34BF923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B035-6FDF-4CFE-8514-4ECF7892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3B33-09C4-4493-835A-6A97F4B2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8667-F4D2-4239-813C-D285A394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3DB7-3800-45D8-B0F5-F81637D1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68E-75DA-40BA-A2CC-14C23128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27E8-5A35-48AE-9886-1AB104E8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C723-0F30-4652-8C16-08CF2D45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E8D3-9164-4F52-982A-4A001764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7FD4-B10A-4B8A-88A5-3F1538CC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A33C-3829-4F82-9696-6019452C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6AB-7187-4C7C-8095-F643CE8F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C16-F6E4-40F9-8D35-42A24978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621-EA9B-4A71-92EE-68ABD9F9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0C0-EAFF-4F0F-A681-C8D15651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E9B-CC71-46E9-9712-5CF486C0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263-2596-4010-9DFB-6182D12B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C6F-112B-4110-9F8D-544B56BE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38DE-4521-4586-9609-3595AA757763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EBD5-354C-4E6F-A1DA-DC1E1E47E26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3EF8-E7E0-469D-9D91-B605BA9CE294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D402-FE75-4F7E-8BAC-3B4C6CD58F8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6E8-3602-48F1-9085-62FA1B28C4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AC22C-871F-44BC-8CCA-5890E65206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A98-0316-47EC-828F-3BE39FC4D0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D2866-AB82-4CF4-A6DE-9564998043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CDE-81BB-48BF-B767-24A4F7C9714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E7E5D-5933-4CB3-A59F-62A2E4A7C0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100-31BD-4FA6-975F-0325840422C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7E9B7-013B-4168-9DAA-67FFD09C3C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3230-05EC-44EC-A17F-5A4B309D252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47BDD-C036-4D91-96A5-5B7DF0294D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C60-48B8-4A6D-8DE0-64FEB046053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8A783-2598-45F0-997C-4599A242D6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15" name="_s21528"/>
            <p:cNvCxnSpPr>
              <a:stCxn id="116" idx="0"/>
              <a:endCxn id="117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18" name="_s21526"/>
            <p:cNvCxnSpPr>
              <a:stCxn id="119" idx="0"/>
              <a:endCxn id="117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0" name="_s21524"/>
            <p:cNvCxnSpPr>
              <a:stCxn id="121" idx="0"/>
              <a:endCxn id="122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3" name="_s21522"/>
            <p:cNvCxnSpPr>
              <a:stCxn id="124" idx="0"/>
              <a:endCxn id="122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5" name="_s21520"/>
            <p:cNvCxnSpPr>
              <a:stCxn id="126" idx="4"/>
              <a:endCxn id="127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8" name="_s21518"/>
            <p:cNvCxnSpPr>
              <a:stCxn id="117" idx="0"/>
              <a:endCxn id="127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9" name="_s21517"/>
            <p:cNvCxnSpPr>
              <a:stCxn id="122" idx="0"/>
              <a:endCxn id="127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27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8E0-E71E-46F7-830A-077EF4D3B86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BC522-A76E-49F5-A421-A70EF7E620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1:53:06Z</dcterms:modified>
  <cp:revision>7</cp:revision>
  <dc:subject/>
  <dc:title>SportPro SA</dc:title>
</cp:coreProperties>
</file>