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4C40-D6B6-444C-9B95-98BEBBEE3986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8835-7777-4F1C-97C8-CACB6B85B1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073-9A4A-4703-8289-2D7631EC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7EE-C51E-4B4D-8E14-93C0C56B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FE5-D04F-4089-9A5A-4FF36419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36C-D523-4846-BAE0-E7D198EC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5FC1-519B-42B3-8970-AF6AAAFB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E2A4-2FC0-47DE-ABC5-19FEBE91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79D5-1F7E-4B16-8DD7-4C292378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8B0F-7958-4B81-B30A-08A99928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8C00-3CC9-4914-B6A4-565B530C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0B7B-4388-420F-BD05-413BBBAD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3821-12E0-4D48-93CF-9F26F511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1B1-41DF-48BF-A575-F7C0A9E2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A1EC-E5CD-436A-A986-779337DD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3358-29E3-4974-9C4E-9A04EBBD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B274-28E6-473B-99C8-A4B8E86B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A8D5-68F7-4C7F-9E99-CB36E6F2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4668-4FB0-4CA1-A820-FB6D9460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530-68C2-4D21-82D7-B1E96466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B93-5CF8-4AE6-BA9F-830A9368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610-7DFE-4887-AD66-1076735C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808-DAA0-4E93-AF1A-C35CC79C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993-C222-4025-998C-F511F5C8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0CD3-A586-47CE-A69E-B331437F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2FA-C9FA-4720-BFD8-8DE070F7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F543-218B-491D-9A5F-F2984D27FD42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50F7-F9B7-458A-BA1E-883667478C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D595-8FDB-4DC6-A2B7-661F89BAFC96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70B3-0BBD-4FDB-9FA1-C6C249DD1B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C:/Exercices%20PowerPoint%202003/Locations.ppt" TargetMode="External"/><Relationship Id="rId3" Type="http://schemas.openxmlformats.org/officeDocument/2006/relationships/hyperlink" Target="http://www.allsportauto.com/" TargetMode="External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" Target="slide6.xml"/><Relationship Id="rId5" Type="http://schemas.openxmlformats.org/officeDocument/2006/relationships/audio" Target="../media/arrow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179280" y="18900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11453" y="3837"/>
                </a:moveTo>
                <a:lnTo>
                  <a:pt x="14029" y="6448"/>
                </a:ln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lnTo>
                  <a:pt x="18416" y="10800"/>
                </a:lnTo>
                <a:lnTo>
                  <a:pt x="16762" y="10800"/>
                </a:lnTo>
                <a:lnTo>
                  <a:pt x="16762" y="17989"/>
                </a:lnTo>
                <a:lnTo>
                  <a:pt x="6143" y="17989"/>
                </a:lnTo>
                <a:lnTo>
                  <a:pt x="6143" y="10800"/>
                </a:lnTo>
                <a:lnTo>
                  <a:pt x="4490" y="10800"/>
                </a:lnTo>
                <a:close/>
              </a:path>
              <a:path fill="darkenLess" w="22905" h="21600">
                <a:moveTo>
                  <a:pt x="14029" y="6448"/>
                </a:move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close/>
              </a:path>
              <a:path fill="darkenLess" w="22905" h="21600">
                <a:moveTo>
                  <a:pt x="10530" y="14299"/>
                </a:moveTo>
                <a:lnTo>
                  <a:pt x="12375" y="14299"/>
                </a:lnTo>
                <a:lnTo>
                  <a:pt x="12375" y="17989"/>
                </a:lnTo>
                <a:lnTo>
                  <a:pt x="16762" y="17989"/>
                </a:lnTo>
                <a:lnTo>
                  <a:pt x="16762" y="10800"/>
                </a:lnTo>
                <a:lnTo>
                  <a:pt x="6143" y="10800"/>
                </a:lnTo>
                <a:lnTo>
                  <a:pt x="6143" y="17989"/>
                </a:lnTo>
                <a:lnTo>
                  <a:pt x="10530" y="1798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040" y="11592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Véhicules à lou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760" y="404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Notre site We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193-0B44-4591-8FC3-8188A3C2ADA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A121C-DD6D-42F7-A3E9-89100E3D65ED}" type="datetime5">
              <a:rPr lang="en-US"/>
              <a:t>Jul 29, 2026</a:t>
            </a:fld>
          </a:p>
        </p:txBody>
      </p:sp>
    </p:spTree>
  </p:cSld>
  <p:transition spd="slow">
    <p:newsflash/>
    <p:sndAc>
      <p:stSnd>
        <p:snd r:embed="rId4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443-2615-478F-A16B-5DE2570C90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622FE-7E19-4BFF-8945-24B2BB7F57F3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394-D116-40E8-82A5-6C3EE4DDC8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D965F-5E9B-4382-9711-9F9E28AF814E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E0B-C2DB-4826-AA67-2370A70FDC6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C34CC-91B8-43AF-8E06-57B382836B2D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1C6-E3B4-421D-8CF7-C43FA95FB7C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9223A-15C3-4956-A521-DAF0D69E247C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06B-59AA-4E99-88CE-A9C3B41E499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5B934-5C77-4DAD-BA62-A7F61B1360BB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250920" y="189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90" h="21600">
                <a:moveTo>
                  <a:pt x="108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90" h="21600">
                <a:moveTo>
                  <a:pt x="8269" y="8224"/>
                </a:moveTo>
                <a:lnTo>
                  <a:pt x="12133" y="8224"/>
                </a:lnTo>
                <a:lnTo>
                  <a:pt x="12133" y="15221"/>
                </a:lnTo>
                <a:lnTo>
                  <a:pt x="13421" y="15221"/>
                </a:lnTo>
                <a:lnTo>
                  <a:pt x="13421" y="16144"/>
                </a:lnTo>
                <a:lnTo>
                  <a:pt x="8269" y="16144"/>
                </a:lnTo>
                <a:lnTo>
                  <a:pt x="8269" y="15221"/>
                </a:lnTo>
                <a:lnTo>
                  <a:pt x="9557" y="15221"/>
                </a:lnTo>
                <a:lnTo>
                  <a:pt x="9557" y="9129"/>
                </a:lnTo>
                <a:lnTo>
                  <a:pt x="8269" y="912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4AF9-F4E6-4303-A14A-3EACDA8EE34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067F7-E8D1-4B52-A57C-C53A5D074E58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8" name="_s21528"/>
            <p:cNvCxnSpPr>
              <a:stCxn id="129" idx="0"/>
              <a:endCxn id="130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6"/>
            <p:cNvCxnSpPr>
              <a:stCxn id="132" idx="0"/>
              <a:endCxn id="130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3" name="_s21524"/>
            <p:cNvCxnSpPr>
              <a:stCxn id="134" idx="0"/>
              <a:endCxn id="135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2"/>
            <p:cNvCxnSpPr>
              <a:stCxn id="137" idx="0"/>
              <a:endCxn id="135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20"/>
            <p:cNvCxnSpPr>
              <a:stCxn id="139" idx="4"/>
              <a:endCxn id="140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8"/>
            <p:cNvCxnSpPr>
              <a:stCxn id="130" idx="0"/>
              <a:endCxn id="140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2" name="_s21517"/>
            <p:cNvCxnSpPr>
              <a:stCxn id="135" idx="0"/>
              <a:endCxn id="140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40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2AC-0F73-4FB9-B9AB-937AF5F7B00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E22D9-4AF1-4175-A0AA-8E7AACE40157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997-ADAB-46AA-9A88-B949753669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CC875-492F-4FDB-871C-4A10246DAC4A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6:00:36Z</dcterms:modified>
  <cp:revision>22</cp:revision>
  <dc:subject/>
  <dc:title>SportPro SA</dc:title>
</cp:coreProperties>
</file>