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5.png" ContentType="image/png"/>
  <Override PartName="/ppt/media/hammer.wav" ContentType="audio/x-wav"/>
  <Override PartName="/ppt/media/applause.wav" ContentType="audio/x-wav"/>
  <Override PartName="/ppt/media/image1.png" ContentType="image/png"/>
  <Override PartName="/ppt/media/image3.wmf" ContentType="image/x-wmf"/>
  <Override PartName="/ppt/media/arrow.wav" ContentType="audio/x-wav"/>
  <Override PartName="/ppt/media/image13.jpeg" ContentType="image/jpeg"/>
  <Override PartName="/ppt/media/image4.gif" ContentType="image/gif"/>
  <Override PartName="/ppt/media/image8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D5DB-CB87-4752-84A0-612B498523EB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F73F-468B-4DBE-A979-C5F80D8F6A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9B9-3CD1-4D07-93B8-ABE80577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9D4-6498-40EE-ADEF-4E1239C4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804-4EA6-47EA-9257-06892671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A9E-7025-42A2-BCFC-3E087867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0721-9183-4048-8C5A-80DD7A8E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3D9F-2564-4D8E-8531-E9621A05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52CE-423C-4C16-8E95-9A415B7C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4CAF-C0E4-440E-B2B1-0516EC84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7CD5-8E85-449B-A117-C0BA48F3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2D99-D821-4EC7-BF38-40FE7472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2160-10BC-40BE-91FA-92358BB1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1C7-A24A-486F-93FF-87124E04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5F21-F6D9-466D-90A9-9E350D54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BD20-2B2D-44DE-944B-4351D0DB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343D-B06F-47B3-B4DD-9780F9E5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4073-CDF2-4771-BC30-DE3E9B2E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E78B-E5D6-4968-92B3-948FFF7D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5A3A-6C4D-4C51-BFDA-CA9B8BC5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DEE8-D74C-4432-B547-47501208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963C-4997-407A-9498-8F9EB192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E523-1AEA-40DA-819A-F6F0C590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662-C2DD-4E06-A787-90CEB340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2AB-94D2-4382-87E6-52526E78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9DF-22C0-40FA-8317-8D4C364C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E70A-A75A-498A-B4C3-5A27FBE97059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AC09-BAC0-4E7E-BCC3-8C925C3B179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04F8-8F02-4C41-9603-739317868E88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F901-18AF-4712-940B-FB4C3EF4968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C:/Exercices%20PowerPoint%202003/Locations.ppt" TargetMode="External"/><Relationship Id="rId3" Type="http://schemas.openxmlformats.org/officeDocument/2006/relationships/hyperlink" Target="http://www.allsportauto.com/" TargetMode="External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" Target="slide6.xml"/><Relationship Id="rId5" Type="http://schemas.openxmlformats.org/officeDocument/2006/relationships/audio" Target="../media/arrow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wmf"/><Relationship Id="rId5" Type="http://schemas.openxmlformats.org/officeDocument/2006/relationships/audio" Target="../media/arrow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4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179280" y="18900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11453" y="3837"/>
                </a:moveTo>
                <a:lnTo>
                  <a:pt x="14029" y="6448"/>
                </a:ln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lnTo>
                  <a:pt x="18416" y="10800"/>
                </a:lnTo>
                <a:lnTo>
                  <a:pt x="16762" y="10800"/>
                </a:lnTo>
                <a:lnTo>
                  <a:pt x="16762" y="17989"/>
                </a:lnTo>
                <a:lnTo>
                  <a:pt x="6143" y="17989"/>
                </a:lnTo>
                <a:lnTo>
                  <a:pt x="6143" y="10800"/>
                </a:lnTo>
                <a:lnTo>
                  <a:pt x="4490" y="10800"/>
                </a:lnTo>
                <a:close/>
              </a:path>
              <a:path fill="darkenLess" w="22905" h="21600">
                <a:moveTo>
                  <a:pt x="14029" y="6448"/>
                </a:move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close/>
              </a:path>
              <a:path fill="darkenLess" w="22905" h="21600">
                <a:moveTo>
                  <a:pt x="10530" y="14299"/>
                </a:moveTo>
                <a:lnTo>
                  <a:pt x="12375" y="14299"/>
                </a:lnTo>
                <a:lnTo>
                  <a:pt x="12375" y="17989"/>
                </a:lnTo>
                <a:lnTo>
                  <a:pt x="16762" y="17989"/>
                </a:lnTo>
                <a:lnTo>
                  <a:pt x="16762" y="10800"/>
                </a:lnTo>
                <a:lnTo>
                  <a:pt x="6143" y="10800"/>
                </a:lnTo>
                <a:lnTo>
                  <a:pt x="6143" y="17989"/>
                </a:lnTo>
                <a:lnTo>
                  <a:pt x="10530" y="1798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4040" y="11592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Véhicules à lou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4760" y="4046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Notre site Web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3A89-ED1C-4AD7-B9C2-F8659822436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0634D-8ADA-4042-A5E9-9A2A484DFB26}" type="datetime5">
              <a:rPr lang="en-US"/>
              <a:t>Jul 29, 2026</a:t>
            </a:fld>
          </a:p>
        </p:txBody>
      </p:sp>
    </p:spTree>
  </p:cSld>
  <p:transition spd="slow">
    <p:newsflash/>
    <p:sndAc>
      <p:stSnd>
        <p:snd r:embed="rId4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30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779-A8A6-4F43-8125-03B2507B28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26766-0469-44C4-A600-6D2A7D9545D4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8" name="arrow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67"/>
                            </p:stCondLst>
                            <p:childTnLst>
                              <p:par>
                                <p:cTn id="1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767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767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767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767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767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7B6-5E3C-46AC-96D4-C2E910D129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3B664-6D7D-4D92-BA98-592EA9A8BD10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7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7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2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3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3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DB4-991F-41E2-A8F4-90C8659346E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4579E-A7B0-4D75-B261-53EC2E682BAD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1" name="arrow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7D4-59BE-46E4-A78D-405776C52F9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5AACC-F48C-423F-8040-2E47D0091EBF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52A-D25C-428A-9FAE-D93817A17F6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46DED-F2F8-4602-B685-45137C6F1A98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13065600">
            <a:off x="7885080" y="5660640"/>
            <a:ext cx="493920" cy="4935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250920" y="189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90" h="21600">
                <a:moveTo>
                  <a:pt x="1084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90" h="21600">
                <a:moveTo>
                  <a:pt x="8269" y="8224"/>
                </a:moveTo>
                <a:lnTo>
                  <a:pt x="12133" y="8224"/>
                </a:lnTo>
                <a:lnTo>
                  <a:pt x="12133" y="15221"/>
                </a:lnTo>
                <a:lnTo>
                  <a:pt x="13421" y="15221"/>
                </a:lnTo>
                <a:lnTo>
                  <a:pt x="13421" y="16144"/>
                </a:lnTo>
                <a:lnTo>
                  <a:pt x="8269" y="16144"/>
                </a:lnTo>
                <a:lnTo>
                  <a:pt x="8269" y="15221"/>
                </a:lnTo>
                <a:lnTo>
                  <a:pt x="9557" y="15221"/>
                </a:lnTo>
                <a:lnTo>
                  <a:pt x="9557" y="9129"/>
                </a:lnTo>
                <a:lnTo>
                  <a:pt x="8269" y="912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65DD-B0BF-4EF1-AB92-472CA6803ED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261F8-CEF5-47E5-B4F3-2ECE7713B164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Motion origin="layout" path="M 3.88889E-006 3.17919E-006 L -0.23177 -0.22451 E">
                                      <p:cBhvr>
                                        <p:cTn id="123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8" name="_s21528"/>
            <p:cNvCxnSpPr>
              <a:stCxn id="129" idx="0"/>
              <a:endCxn id="130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26"/>
            <p:cNvCxnSpPr>
              <a:stCxn id="132" idx="0"/>
              <a:endCxn id="130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3" name="_s21524"/>
            <p:cNvCxnSpPr>
              <a:stCxn id="134" idx="0"/>
              <a:endCxn id="135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6" name="_s21522"/>
            <p:cNvCxnSpPr>
              <a:stCxn id="137" idx="0"/>
              <a:endCxn id="135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8" name="_s21520"/>
            <p:cNvCxnSpPr>
              <a:stCxn id="139" idx="4"/>
              <a:endCxn id="140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1" name="_s21518"/>
            <p:cNvCxnSpPr>
              <a:stCxn id="130" idx="0"/>
              <a:endCxn id="140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2" name="_s21517"/>
            <p:cNvCxnSpPr>
              <a:stCxn id="135" idx="0"/>
              <a:endCxn id="140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40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00E-3144-475C-8D2B-218F7403F78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0A191-06C4-4251-A747-CECCAE3E475F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2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2716-392A-4900-9801-291C7EA1A26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0E2BF-50ED-4E91-BF09-CC8FE9E29908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5:51:00Z</dcterms:modified>
  <cp:revision>20</cp:revision>
  <dc:subject/>
  <dc:title>SportPro SA</dc:title>
</cp:coreProperties>
</file>