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FFC4-6D3C-4132-AD6A-824AF9BF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86E-C44B-4DB0-B226-B5213FCC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A46-F91C-4E1B-9B43-80ADA1B2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0BD-0D72-45BE-9CFA-4F45A333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71DA-62C5-4FFA-A932-15168CD4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ABC0-2102-47C5-A7E9-34B9FD93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1F96-0ACD-46D0-8A45-38EB08E2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B5CE-4A5D-4C8D-9217-47542073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90B4-B9B1-4F0C-8B31-C4CE05BB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E481-B778-48EA-BF60-21A13E43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48A3-5CDE-45F0-B026-5E98F24B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B28C-F90A-4AD7-BFEC-974EC748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5163-0361-4A65-AF7A-9D928D4B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450C-41AE-450D-AB78-648EE6C6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B99E-B92E-4C80-9FD4-A3FB9FEC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0EF8-2901-480E-8213-CBBE2C76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BDD3-56A2-4C4E-8809-7E458494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3E0-1100-48BD-B477-72B4CCC3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25D-0063-4CA3-BAB4-6EE6AEE3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FDD6-60C0-4ABB-A60B-0D8DDBD9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2718-8909-489B-8770-4526F552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DCA-5D52-489A-B134-3434B8B3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C497-72FC-48F4-9925-948F37E7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41A7-4DA5-4902-97DB-969013BB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C804-AECD-4061-BF7B-818AAF9BC6E0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81C2-7603-4704-B704-4928397487D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0DC7-D2D7-4250-9F97-25A8A1AF359F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256B-64D1-4819-A2B0-700EEB05DA3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 SA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égl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sts sur notre circu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FC6D-EF51-4285-B3D4-CDD424B526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8D7F0-1B3E-4578-ABD2-96E29DDCDC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057-93FA-4C59-ACF9-CA437DC6B9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AF575-AE0B-4BE4-8C82-18E70358CB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3T11:06:38Z</dcterms:modified>
  <cp:revision>2</cp:revision>
  <dc:subject/>
  <dc:title>SportPro SA</dc:title>
</cp:coreProperties>
</file>