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3D6-D0D6-4B66-A83A-059DEF98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A218-517B-40CA-A483-7E72F1E1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6FB9-229D-43CC-A3AA-682B5D22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24FB-D68C-4845-84A4-9F715ABA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6ECC-21AF-4C1B-A84D-D9FD67EE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DB57-E797-439D-A7BA-BCCD587E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F832-D439-423F-ABEE-5A84A3A5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B460-92DE-4570-B5B5-62122D8B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0DC1-D482-4357-A70C-CD3B806B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E10D-3CD3-4BE6-9CA6-F5A75AB8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4942-311D-42B0-AC69-13EB28F9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D26C-7489-487D-8141-06B58E9B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9292-A589-4DFF-BB18-5984600C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629D-A752-40E0-8EDF-90E03797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16B2-763B-4200-94BC-68CEFCBC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0C36-27C8-421F-B607-5EF9D8B5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6A32-8E9D-4730-884F-76F63FF3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F387-9967-4743-A6AB-AEBAF3A4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CA25-5502-45C3-8676-A6E3252B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C20-B697-43D0-AD09-632A787E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503B-AF48-4DFA-AE74-A720C1C6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061-2248-419C-8D15-AEB1DF03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5BB5-7B9E-4B96-862E-2CB5AEBC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6E1C-8A17-4F53-A857-9A5C0AB5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987E-6F36-44E9-BDA4-5D5EB6E7D35A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7A00-3D97-41F8-9B70-0FA6C2C7E8E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E55F-5D3D-45BD-B00F-ACC298146853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FB83-9579-463D-B408-06D78F7BBE9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21B-30C3-488D-902C-A3BD001EAF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CFAE2-41D1-4898-8418-F1D49CE992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AD7D-9BA9-4AD0-8D3E-BC1D5B7E10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934BD-6D83-4B5C-A847-73E6B2B125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EDE2-4C4D-43EE-BEE6-94734F9C799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482B3-BB71-416D-942E-9FFCE17C4F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7AC-4DB9-4C08-B47D-82AA2D42FC5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D9785-D7B8-4695-B8B8-6619293241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23F1-AF04-4EE7-AC66-69017F72B5D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63A54-6F86-4D75-8CF4-967AF20499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9DBF-E8C8-4975-BB27-EA27DE2F759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E66BC-0F69-4400-80BB-E84DC3CFE0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15" name="_s21528"/>
            <p:cNvCxnSpPr>
              <a:stCxn id="116" idx="0"/>
              <a:endCxn id="117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18" name="_s21526"/>
            <p:cNvCxnSpPr>
              <a:stCxn id="119" idx="0"/>
              <a:endCxn id="117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0" name="_s21524"/>
            <p:cNvCxnSpPr>
              <a:stCxn id="121" idx="0"/>
              <a:endCxn id="122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3" name="_s21522"/>
            <p:cNvCxnSpPr>
              <a:stCxn id="124" idx="0"/>
              <a:endCxn id="122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5" name="_s21520"/>
            <p:cNvCxnSpPr>
              <a:stCxn id="126" idx="4"/>
              <a:endCxn id="127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8" name="_s21518"/>
            <p:cNvCxnSpPr>
              <a:stCxn id="117" idx="0"/>
              <a:endCxn id="127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9" name="_s21517"/>
            <p:cNvCxnSpPr>
              <a:stCxn id="122" idx="0"/>
              <a:endCxn id="127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27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4FC2-5A97-4340-9F90-5F604951EC5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46C3C-48D4-4B3D-9FBA-C1F59BFF35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1:53:06Z</dcterms:modified>
  <cp:revision>7</cp:revision>
  <dc:subject/>
  <dc:title>SportPro SA</dc:title>
</cp:coreProperties>
</file>