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626-2A3D-4F6F-9867-1952F5EA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C0C-8393-47A7-B581-CDDC20BC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886-AD93-420C-A8A1-901ED8E4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F3C-D2D0-4302-B927-72836A0A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788E-CBFE-4E2C-911D-CFCEDFCB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0768-4A36-4B45-A5F6-3C476F19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B7CB-0F3A-40FB-B831-06F97501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5270-AC77-4CF0-B7E3-8485F7D4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B8FA-3B11-4925-A4A7-26F58867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9D67-3A05-4391-A15C-7959DDE2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33DE-1DF0-46A6-B4E2-5754F635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4DD-7364-4825-8864-E7CDFD62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6E27-9852-4263-989E-724400F0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2120-B481-4D2A-852A-91391E1B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7464-940F-4ED3-AACF-0A595D12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4C86-9104-4F86-A20F-BF09D0BE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2B38-AF95-4EB6-9D22-33A1532E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8F3-BB45-43D1-A81C-CF895624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BA6-33BA-4A3B-8283-801D35E2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050-FD07-4962-8528-2D03E931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856-DB40-43C4-BF0F-1B0E3E78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A24-9B13-4F65-87AB-2490EACC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4DF-A697-427A-9533-6C984BE1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8C4-B0A7-4823-AF3D-446F3134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BE85-0DA7-4923-A5F0-345A0D319E76}" type="datetime5"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29 juil.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7C8-55BD-47B8-9A5C-66331436C55E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7C1C-92E9-4043-98FA-9BD79DB25552}" type="datetime5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29 juil.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1BF9-5C40-41AB-9AF6-AB2F5A265B26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85D-49ED-4B1E-B671-9F8FD34238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4E70C-9C4D-42EE-8805-C9BCD9FC3A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527-B012-4482-BAAB-C63F5ECA12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F95B4-0C2F-4E42-9F14-FF2C64C011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18:59:21Z</dcterms:modified>
  <cp:revision>3</cp:revision>
  <dc:subject/>
  <dc:title>SportPro SA</dc:title>
</cp:coreProperties>
</file>