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AF0D-4E28-43A2-AEC5-F5A9F7C7C6F9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F1E0-F238-4DB8-988C-647314A570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66F-EA6C-4EA6-8E41-C9ED0886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69B-72CD-460F-BB84-F0737FCC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DAC-8F14-49D7-955A-8CC6E00F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FF6-6C5B-4035-BA63-B9715293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FD31-C9E6-47DB-B42B-1712EAEC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FDA1-2505-4ECC-86E3-C454C2D1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410D-1BAE-4299-B03A-9D457D5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BA67-F4D8-42B7-9152-7C2485CC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B5BB-AEDF-4A66-8062-030F8B71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9B17-1C52-4B4B-B867-C531B5E2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351E-D905-46A8-A24C-06CBE7B0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576-7358-48E2-A01C-F7BB1AD3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5C51-F943-4D10-A2BD-F8FCFB3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D9EE-295C-473E-8670-91C2D601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34DF-CA31-4467-9CF0-F07386AF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E2C7-C950-4060-B57D-1D72C17B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08E2-4873-4CD7-8DEE-5EF2FFB2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D33-55CD-47F1-81EA-02A89E3E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B53-3EF2-429C-83C9-9270A540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66C-7FA7-4D68-A57F-4B4DA94C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A26-4E54-4DE6-B74C-8884AD27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690-E8BC-4C64-8A38-F20E4D6D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347-4FE7-4239-A806-16731B61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DD2-EF98-4E43-86DE-E682044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FE3E-5E37-4361-986C-D7DB78F8C89D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834A-E5E9-42A7-B6AC-171D4A7E5A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965B-884F-49EB-88E3-B770C6CFFC4B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3517-0FE3-47A2-9E3A-D24F01668C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666-3625-48EE-B686-2CF3CF6539E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B51A4-5B79-4BDA-9AAC-B54F2CA7C6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1C9-BBFC-4D50-95C7-2B07FBB2B2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10670-CCAD-4ECA-85AA-7792ED8E91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B33-0E8F-492F-9950-D14DA6C097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69D03-67B2-489E-87B5-46E055D494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BA0-E05F-4004-82DE-48726795F50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2C8FD-D508-4BB3-B6CA-3A930CB0A3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4D4-A641-49C0-9A07-6300E96ADB5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AF868-826E-4864-8D06-A7E8D2496E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2CC-DCDC-4D71-9365-4C8E11FC59F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A20BC-D034-4B85-B30E-C709D8A079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1E5-A6C0-47C6-A5FA-6AF0655D320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F6ED7-1728-45D2-A28F-34B8339757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6" name="_s21528"/>
            <p:cNvCxnSpPr>
              <a:stCxn id="127" idx="0"/>
              <a:endCxn id="128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6"/>
            <p:cNvCxnSpPr>
              <a:stCxn id="130" idx="0"/>
              <a:endCxn id="128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4"/>
            <p:cNvCxnSpPr>
              <a:stCxn id="132" idx="0"/>
              <a:endCxn id="133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2"/>
            <p:cNvCxnSpPr>
              <a:stCxn id="135" idx="0"/>
              <a:endCxn id="133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0"/>
            <p:cNvCxnSpPr>
              <a:stCxn id="137" idx="4"/>
              <a:endCxn id="138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9" name="_s21518"/>
            <p:cNvCxnSpPr>
              <a:stCxn id="128" idx="0"/>
              <a:endCxn id="138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7"/>
            <p:cNvCxnSpPr>
              <a:stCxn id="133" idx="0"/>
              <a:endCxn id="138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8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3CF-6091-4C2B-AEC6-BCECB66C1EA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755AF-2BCA-4F8F-83D9-600B0DBD2C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A9E-3951-4D36-A17B-8123379FA7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F85BE-089A-4882-8A25-349F4FB51D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10:06Z</dcterms:modified>
  <cp:revision>15</cp:revision>
  <dc:subject/>
  <dc:title>SportPro SA</dc:title>
</cp:coreProperties>
</file>