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191-6D51-41A8-B0E5-A84956AB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767-DB23-49F7-A978-4B3667C9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058-D446-4F23-884D-BC24F4DB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D06-CFBE-4AD3-A5DF-A6BBB251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7646-6E46-4C58-8D4C-66F81E5A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65F2-2D70-4528-A359-892E6290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856C-CF37-48A2-BFC7-B5578499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E11F-9896-4FAF-B016-503ED652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E145-8585-449C-B731-89F8E063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50CA-C991-497B-BBA4-40BD8234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A689-75A0-4BA5-AD38-B98F3C4C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A5C-3711-4C39-A6A4-2849033C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DD60-331E-4676-A853-5AF97F01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638E-CE1A-466A-B957-5184ED8E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944B-D97C-475D-9738-F0676842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126E-7837-492F-ABBB-6BD1AD1D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C435-8D07-4FF5-B914-AB51918F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62D-DEED-43A9-AADA-0910F941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CAF-090A-4261-819C-C6EC1CD7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EB0-90F8-4131-B2F9-07815960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769-82D9-4B5D-A268-A98BD11A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F45-B575-4382-8D4D-539362CE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CE4-73D8-43D2-BE39-7AC0246F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D45-0E1F-4F81-9DEC-F4986A5D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69E1-0C0E-4831-93D5-7E08AFEDC426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4E2E-D553-4E62-A4A4-54DE579F8D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3C69-2D80-4507-A46B-9A1ECC45E004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D92C-786A-4DAB-8D82-7DCBBC5A46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0BA-D2AC-4088-B72D-1FA893BB15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88870-B1C6-42D0-BF5D-A026F99D46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442-60AA-4D0F-AFDC-742B776FC7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58C4B-261A-42E3-8E0B-6043B25C6E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738-E393-4448-B82A-1409B8AAA51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E421E-25D5-40D3-90E2-5101FFB410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8FD-ACB3-4C8C-8CAF-FD4476673EC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DA195-A114-440F-823B-D65031C063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8A4-6BDA-400D-AD4F-96A7D7BD1FB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30924-89F8-450F-8948-D48E408A2B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75E-61CA-4993-A473-00D9A933057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22947-FFD7-497F-BA22-EDF6C4286E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1:34:50Z</dcterms:modified>
  <cp:revision>7</cp:revision>
  <dc:subject/>
  <dc:title>SportPro SA</dc:title>
</cp:coreProperties>
</file>