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5ED-796E-47F5-A7DC-D92C1471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1E9-C2DE-4F8D-8D36-A4E56961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B92-38B3-455C-97DA-81EAFD5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3AA-8CF1-4AC9-B8DD-35113718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397E-3FED-42EF-9F0B-9FD9DBB4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7933-C195-4BA9-9D59-3CD61B7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A38-0803-4DDC-B183-37892E5C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B690-0E15-41F0-81A9-324369F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AC7-F331-4D05-8935-DE92E0D9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B30-064F-42C1-AA45-0EFA750F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33FC-6393-4955-8D15-1F6C0C7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B90-3D0D-44CF-92D8-D0172C91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4744-0868-4290-B54B-E4B3F6F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7494-46A8-4F79-9FD2-D01C277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7A23-7781-4B37-8D97-F970082C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3512-7DEC-47E4-B6A9-A79B50B8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8FFE-15B4-4BEB-8CBF-132B67A8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4A8-A801-4E29-89CA-0DE39F37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CC4-3C5C-449F-A863-AF43F27B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711-246D-4153-8E2F-BF30790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097-3B71-47BB-BB1D-FD70D645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B2E-C395-4AF6-83B0-96A1D28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05C-7933-4F4E-87FC-026BF70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76A-1C96-49D9-9255-FF3F5E9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AC27-23FD-40BD-8C52-54EB33A317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8848-9C81-4B65-B5BA-5411894EA3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sportauto.com/modules.php?name=Search&amp;query=&amp;topic=701&amp;author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60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Véhicules à louer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tout renseignement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 45 23 56 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Stage Caterham sup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144960"/>
            <a:ext cx="1657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sche 91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5609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rrari F 35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68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MW Z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55436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6:46:09Z</dcterms:created>
  <dc:creator>Pierre Ballantin</dc:creator>
  <dc:description/>
  <dc:language>en-US</dc:language>
  <cp:lastModifiedBy>Pierre Ballantin</cp:lastModifiedBy>
  <dcterms:modified xsi:type="dcterms:W3CDTF">2004-01-13T10:08:20Z</dcterms:modified>
  <cp:revision>5</cp:revision>
  <dc:subject/>
  <dc:title>Véhicules à louer</dc:title>
</cp:coreProperties>
</file>