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0089-6045-485B-BE6D-778540A14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A486-32D5-41FA-8601-0C6B67FE8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EAEA-7298-4910-92F0-502883A88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8459-DF74-4E92-BFFD-7D967DF29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EAF26-3E36-4FDD-AD61-1B15837DC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9B006-CDBC-4EA5-97EA-7B9A6FE7F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F58EE-7DF9-4B28-8640-98C48F69A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790F0-C661-4270-A036-7EC2B634C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7568C-50FD-46FD-BBAF-0EA95A105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1C8B6-26AF-446C-85F8-516DB78E4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78552-91BE-42D9-9B7F-BE655B3D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CC9A-86EE-4099-A3E1-49A7B4D5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D77CC-EEEB-44AE-AC47-77DE7F3D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F0CC3-F756-438A-94CA-4B96DBA0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42E61-1087-4A9D-9524-7630856AD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B25A1-73B8-4660-8619-9ECF28962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6A3C9-FDA6-4915-9614-8131C37BA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1D35-414F-4C37-B3AE-2271C7B0A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8DA7-7C1C-468F-B295-A97B86D53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7747-84D3-436E-BC60-90E201F7B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0851-6D62-495B-9554-FC4C80433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B7A7-517C-4883-A59E-BB5C79F2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F728-44B5-480B-8D06-BBDBC40D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B402-FAED-416B-AF2C-DA725AE7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58920" y="6237360"/>
            <a:ext cx="21301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152BF-FA66-477D-99E0-66327CFC40C7}" type="datetime5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BD3B6-3896-48B0-BD8D-02C1097A0AE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0BAC-95B2-4910-BE8D-A4B0A98881DF}" type="datetime5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9FE52-ED6D-45E3-B6C5-1D6A5F7B52A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9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ff"/>
                </a:solidFill>
                <a:latin typeface="Arial"/>
              </a:rPr>
              <a:t>SportPro</a:t>
            </a:r>
            <a:endParaRPr b="1" lang="en-US" sz="8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TOUJOURS À LA POINTE DE LA COMPÉTITION AUTOMOBIL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Notre gamme de services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268000" y="2636640"/>
            <a:ext cx="5534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Saint-Den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ièces détaché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Pontoi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ise en ét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éparation des véhicu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sistance en cour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986F-01D0-455D-A653-08759574655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11A837-1949-45F3-B3E8-BC648B16D77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22920" y="764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portPro Préparation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4 Heures du Ma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llye de Tunis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ris - Dak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carrera C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F3 Class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Lotus Se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2E23-54D5-4733-AEEA-5C612FEDE8B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A843CE-675C-4B80-AF0F-2AFB5F57595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hiffre d’affaires 2003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476360" y="2924280"/>
          <a:ext cx="6535800" cy="2793960"/>
        </p:xfrm>
        <a:graphic>
          <a:graphicData uri="http://schemas.openxmlformats.org/drawingml/2006/table">
            <a:tbl>
              <a:tblPr/>
              <a:tblGrid>
                <a:gridCol w="1800000"/>
                <a:gridCol w="1224000"/>
                <a:gridCol w="1152720"/>
                <a:gridCol w="1123920"/>
                <a:gridCol w="1235160"/>
              </a:tblGrid>
              <a:tr h="93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4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ssistanc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éparatio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0D7B-F76A-426F-A30A-6D38182B49E0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24BDEF-0F15-4F5F-96AB-9E2F21E502B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Prévisions 2004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124000" y="2924280"/>
          <a:ext cx="5562720" cy="361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924280"/>
                    <a:ext cx="556272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9C37-96BE-4E7C-B0FF-588DC004147A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F39650-32E9-4B64-B669-B9F84DBA15E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Evolution du CA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116000" y="3284640"/>
          <a:ext cx="7416720" cy="199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284640"/>
                    <a:ext cx="7416720" cy="19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2D4A-D3D2-4CD8-844D-600B31756265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7C48FD-0377-4C46-920C-BC50B08AEB4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Evolution du CA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838080" y="2362320"/>
          <a:ext cx="7693200" cy="37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362320"/>
                    <a:ext cx="7693200" cy="37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3FC7-60EE-45D0-BB89-0AB8F8AC0815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D5C2B1-802F-4291-A04C-4355728EC8F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3T10:49:52Z</dcterms:created>
  <dc:creator>Pierre Ballantin</dc:creator>
  <dc:description/>
  <dc:language>en-US</dc:language>
  <cp:lastModifiedBy>Pierre Ballantin</cp:lastModifiedBy>
  <dcterms:modified xsi:type="dcterms:W3CDTF">2004-01-14T11:34:50Z</dcterms:modified>
  <cp:revision>7</cp:revision>
  <dc:subject/>
  <dc:title>SportPro SA</dc:title>
</cp:coreProperties>
</file>