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BFB5-4182-45F9-9A13-7C59419C2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0D09-A02A-40EE-B275-43DE8A75C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2FE3-C839-4DD4-944B-84FF09087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5AD3-C58C-4692-B733-CA883AC87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F05E8-E765-453C-8EEA-11FD7F18C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57ED8-B00A-4646-BE31-BB030093F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DE2BE-E15A-48FD-93E1-1F4EDF5BC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3CBF7-4273-4CB9-9EA6-A9AB8E0AF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3A15E-C1A0-4B06-AA12-B6909E1C0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A1F8D-0FBE-44F6-8916-B14A75AD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14D19-1C65-4ECE-BA19-A7957BE7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C5DE-859C-428C-8614-B2AD476D9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A64C7-4533-479E-B44D-145D3065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50FBD-3D7C-4E89-8B5D-7F5A9158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53863-04E0-47E2-8ABA-E24DC290C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8BA30-334A-4139-A301-E9ABDD4E4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D1E20-6024-4A38-A8CD-15C77856A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E781-7059-48B3-9D01-7674FA3B8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6F32-FCE2-434B-9EE8-6598A1DBD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FC1A-B827-4204-824E-9E2137538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C444-2194-4A8F-B13C-36E8EF6E1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5B84-80AE-45C4-91F2-423037FE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2869-3918-4DC4-B052-7D2CBC3E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8084-7DF4-4A3E-9D20-CC5774CD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58920" y="6237360"/>
            <a:ext cx="21301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4E620-1B38-4DD6-A602-129B220CA126}" type="datetime5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9AD1F-8AD2-4D28-8538-73799716910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1911A-7532-404E-8442-4901F8D55D71}" type="datetime5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1D0B3-805B-4FC6-9063-44193178D6E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9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ff"/>
                </a:solidFill>
                <a:latin typeface="Arial"/>
              </a:rPr>
              <a:t>SportPro</a:t>
            </a:r>
            <a:endParaRPr b="1" lang="en-US" sz="8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TOUJOURS À LA POINTE DE LA COMPÉTITION AUTOMOBIL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Notre gamme de services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268000" y="2636640"/>
            <a:ext cx="5534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Saint-Den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ièces détaché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Pontoi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ise en ét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éparation des véhicu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sistance en cour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53B1-48BB-456C-B840-B16173AF1D8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1465BC-430A-4218-B38B-D7508B2C7F3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22920" y="764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SportPro Préparation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4 Heures du Ma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llye de Tunis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ris - Dak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carrera C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F3 Class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Lotus Se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4F54-5231-40CA-96ED-9912C76574C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5AEDE5-A9FC-46F4-A7C8-2CE5F7FB1F8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hiffre d’affaires 2003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476360" y="2924280"/>
          <a:ext cx="6535800" cy="2793960"/>
        </p:xfrm>
        <a:graphic>
          <a:graphicData uri="http://schemas.openxmlformats.org/drawingml/2006/table">
            <a:tbl>
              <a:tblPr/>
              <a:tblGrid>
                <a:gridCol w="1800000"/>
                <a:gridCol w="1224000"/>
                <a:gridCol w="1152720"/>
                <a:gridCol w="1123920"/>
                <a:gridCol w="1235160"/>
              </a:tblGrid>
              <a:tr h="93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4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ssistanc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éparatio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D108-8D69-493D-9D03-4DAF2EF05EC6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9B4430-315F-4FF0-89A9-78B6469317B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Prévisions 2004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124000" y="2924280"/>
          <a:ext cx="5562720" cy="361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924280"/>
                    <a:ext cx="556272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1813-5F5B-45F0-B7B1-4CC770BE76E7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8C1E81-00C1-4A83-892A-D3696169A6B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Evolution du CA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116000" y="3284640"/>
          <a:ext cx="7416720" cy="199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284640"/>
                    <a:ext cx="7416720" cy="19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3576-1B77-4D48-9904-087172482867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64C5B0-EA70-439B-8298-4B5B8AB34C5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Evolution du CA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838080" y="2362320"/>
          <a:ext cx="7693200" cy="37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362320"/>
                    <a:ext cx="7693200" cy="37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7463-DFEE-4F0D-80BE-2305A0D71289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37715C-3123-40B6-AF81-34311EB7024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Société SportPro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042920" y="2492280"/>
            <a:ext cx="7632360" cy="3671640"/>
            <a:chOff x="1042920" y="2492280"/>
            <a:chExt cx="7632360" cy="3671640"/>
          </a:xfrm>
        </p:grpSpPr>
        <p:cxnSp>
          <p:nvCxnSpPr>
            <p:cNvPr id="115" name="_s21528"/>
            <p:cNvCxnSpPr>
              <a:stCxn id="116" idx="0"/>
              <a:endCxn id="117" idx="3"/>
            </p:cNvCxnSpPr>
            <p:nvPr/>
          </p:nvCxnSpPr>
          <p:spPr>
            <a:xfrm flipV="1" rot="16200000">
              <a:off x="7166520" y="4797360"/>
              <a:ext cx="334080" cy="106272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18" name="_s21526"/>
            <p:cNvCxnSpPr>
              <a:stCxn id="119" idx="0"/>
              <a:endCxn id="117" idx="3"/>
            </p:cNvCxnSpPr>
            <p:nvPr/>
          </p:nvCxnSpPr>
          <p:spPr>
            <a:xfrm flipH="1" flipV="1" rot="5400000">
              <a:off x="6175800" y="4869360"/>
              <a:ext cx="334080" cy="91944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20" name="_s21524"/>
            <p:cNvCxnSpPr>
              <a:stCxn id="121" idx="0"/>
              <a:endCxn id="122" idx="3"/>
            </p:cNvCxnSpPr>
            <p:nvPr/>
          </p:nvCxnSpPr>
          <p:spPr>
            <a:xfrm flipV="1" rot="16200000">
              <a:off x="3208680" y="4797360"/>
              <a:ext cx="334080" cy="106272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23" name="_s21522"/>
            <p:cNvCxnSpPr>
              <a:stCxn id="124" idx="0"/>
              <a:endCxn id="122" idx="3"/>
            </p:cNvCxnSpPr>
            <p:nvPr/>
          </p:nvCxnSpPr>
          <p:spPr>
            <a:xfrm flipH="1" flipV="1" rot="5400000">
              <a:off x="2218320" y="4869360"/>
              <a:ext cx="334080" cy="91944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25" name="_s21520"/>
            <p:cNvCxnSpPr>
              <a:stCxn id="126" idx="4"/>
              <a:endCxn id="127" idx="3"/>
            </p:cNvCxnSpPr>
            <p:nvPr/>
          </p:nvCxnSpPr>
          <p:spPr>
            <a:xfrm flipV="1">
              <a:off x="4505400" y="3159360"/>
              <a:ext cx="316440" cy="704880"/>
            </a:xfrm>
            <a:prstGeom prst="bentConnector2">
              <a:avLst/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28" name="_s21518"/>
            <p:cNvCxnSpPr>
              <a:stCxn id="117" idx="0"/>
              <a:endCxn id="127" idx="3"/>
            </p:cNvCxnSpPr>
            <p:nvPr/>
          </p:nvCxnSpPr>
          <p:spPr>
            <a:xfrm flipV="1" rot="16200000">
              <a:off x="5179680" y="2800800"/>
              <a:ext cx="1335600" cy="2052000"/>
            </a:xfrm>
            <a:prstGeom prst="bentConnector3">
              <a:avLst>
                <a:gd name="adj1" fmla="val 8546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29" name="_s21517"/>
            <p:cNvCxnSpPr>
              <a:stCxn id="122" idx="0"/>
              <a:endCxn id="127" idx="3"/>
            </p:cNvCxnSpPr>
            <p:nvPr/>
          </p:nvCxnSpPr>
          <p:spPr>
            <a:xfrm flipH="1" flipV="1" rot="5400000">
              <a:off x="3200760" y="2873520"/>
              <a:ext cx="1335600" cy="1906920"/>
            </a:xfrm>
            <a:prstGeom prst="bentConnector3">
              <a:avLst>
                <a:gd name="adj1" fmla="val 8546"/>
              </a:avLst>
            </a:prstGeom>
            <a:ln w="28440">
              <a:solidFill>
                <a:srgbClr val="666699"/>
              </a:solidFill>
              <a:miter/>
            </a:ln>
          </p:spPr>
        </p:cxnSp>
        <p:sp>
          <p:nvSpPr>
            <p:cNvPr id="127" name="_s21512"/>
            <p:cNvSpPr/>
            <p:nvPr/>
          </p:nvSpPr>
          <p:spPr>
            <a:xfrm>
              <a:off x="4011120" y="24922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ccc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atrick Duva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DG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2" name="_s21514"/>
            <p:cNvSpPr/>
            <p:nvPr/>
          </p:nvSpPr>
          <p:spPr>
            <a:xfrm>
              <a:off x="2032200" y="449496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Stéphane Dupond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Vente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7" name="_s21515"/>
            <p:cNvSpPr/>
            <p:nvPr/>
          </p:nvSpPr>
          <p:spPr>
            <a:xfrm>
              <a:off x="5990040" y="449496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ierre Marti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Mécaniqu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6" name="_s21519"/>
            <p:cNvSpPr/>
            <p:nvPr/>
          </p:nvSpPr>
          <p:spPr>
            <a:xfrm>
              <a:off x="2880360" y="349344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99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hilippe More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Assistant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4" name="_s21521"/>
            <p:cNvSpPr/>
            <p:nvPr/>
          </p:nvSpPr>
          <p:spPr>
            <a:xfrm>
              <a:off x="104292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Gérard Leroy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ublicité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1" name="_s21523"/>
            <p:cNvSpPr/>
            <p:nvPr/>
          </p:nvSpPr>
          <p:spPr>
            <a:xfrm>
              <a:off x="302148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Bernard Davi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Compétition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9" name="_s21525"/>
            <p:cNvSpPr/>
            <p:nvPr/>
          </p:nvSpPr>
          <p:spPr>
            <a:xfrm>
              <a:off x="500040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Roland Rover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Carrosseri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6" name="_s21527"/>
            <p:cNvSpPr/>
            <p:nvPr/>
          </p:nvSpPr>
          <p:spPr>
            <a:xfrm>
              <a:off x="697932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Bertrand Miche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neumatique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6592-2EFE-4EDE-8A9E-7E9FFB3BA908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F452BF-ACE9-4895-A670-4DE088DAA95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3T10:49:52Z</dcterms:created>
  <dc:creator>Pierre Ballantin</dc:creator>
  <dc:description/>
  <dc:language>en-US</dc:language>
  <cp:lastModifiedBy>Pierre Ballantin</cp:lastModifiedBy>
  <dcterms:modified xsi:type="dcterms:W3CDTF">2004-01-14T11:53:06Z</dcterms:modified>
  <cp:revision>7</cp:revision>
  <dc:subject/>
  <dc:title>SportPro SA</dc:title>
</cp:coreProperties>
</file>