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CC2-3E24-49EF-977B-213F0627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B50-58A5-471F-B16D-2D6ADA09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CAF-4572-45D4-865D-A7FE3B79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D24-724E-4714-9C79-566E5A69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723E-A71A-4D58-92FB-1F14AD11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D5DE-FF7C-4CA8-9AD8-D5DFCBAF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E17B-9D32-4A77-AA99-5B9E14A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25A6-C5EC-4226-80CA-3B34939E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0E69-A685-4982-89C0-74CA67C6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5655-E3FB-4798-B124-56D2742D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6588-8751-4AF2-A632-F2685831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7A1-7131-4ED5-91C9-0C480201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3766-92E8-4CD8-A16A-E23B8DF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5118-3B70-4A6B-A595-F5240FF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CC41-51F2-4E94-8722-28353F3E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522A-0E17-4CEF-9C87-2C72ADCD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7625-6B61-4654-A86B-A1D08EBB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00F-CE76-489A-A1D3-ECA19D8A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8B7-5614-436F-BE98-E974C3A6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FDB-0FBB-474D-8BAB-AC8EDBF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392-151C-44F7-B50A-DD4F9325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420-518B-4A8A-9B60-65D9D356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D74-7225-41F4-B19C-A4A96C66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9D0-1D78-4455-A11C-D3FC9835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69AA-871B-45CA-901A-085791AA64F9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25B-FB2B-41F7-90D0-9B8653B90B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371E-F717-461F-9896-91165261D561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9517-C3D6-4EA2-AB7D-FB5D1640DC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E01-D734-4115-95F8-2934E3FDBC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31C31-5E86-4054-B4B2-7527FAD9A2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3F2-B7FC-4F72-BC00-A324E24528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F0C56-CEC6-4B39-A731-81CCB97F06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FDD-7A82-44FB-9B44-7C1D2A0082F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CEB27-73C5-4C6F-AFED-96CB632EF5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356-672F-4E5A-9D03-D690C431ED9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B0678-A096-49A8-A9F1-3A33B1D6C7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8A4-F788-4D17-8A70-CD3CB084BF5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C1A46-49E9-4BCF-928E-C1C3C87E4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F52-FFB0-411C-A17B-5625AAF12CB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F9B56-A52F-4799-AF09-94A608032C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7" name="_s21528"/>
            <p:cNvCxnSpPr>
              <a:stCxn id="118" idx="0"/>
              <a:endCxn id="11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6"/>
            <p:cNvCxnSpPr>
              <a:stCxn id="121" idx="0"/>
              <a:endCxn id="11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2" name="_s21524"/>
            <p:cNvCxnSpPr>
              <a:stCxn id="123" idx="0"/>
              <a:endCxn id="12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2"/>
            <p:cNvCxnSpPr>
              <a:stCxn id="126" idx="0"/>
              <a:endCxn id="12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0"/>
            <p:cNvCxnSpPr>
              <a:stCxn id="128" idx="4"/>
              <a:endCxn id="12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18"/>
            <p:cNvCxnSpPr>
              <a:stCxn id="119" idx="0"/>
              <a:endCxn id="12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17"/>
            <p:cNvCxnSpPr>
              <a:stCxn id="124" idx="0"/>
              <a:endCxn id="12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99F-2540-4AF2-BA01-81058C3B86F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F8D3E-7B82-4658-9BD2-F31C8833A9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EF4-60A6-4C81-8C39-C8FAB04C1C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0C0F3-17F1-4DDA-A69D-E6E938C385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14:45Z</dcterms:modified>
  <cp:revision>11</cp:revision>
  <dc:subject/>
  <dc:title>SportPro SA</dc:title>
</cp:coreProperties>
</file>