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5.png" ContentType="image/png"/>
  <Override PartName="/ppt/media/hammer.wav" ContentType="audio/x-wav"/>
  <Override PartName="/ppt/media/applause.wav" ContentType="audio/x-wav"/>
  <Override PartName="/ppt/media/image1.png" ContentType="image/png"/>
  <Override PartName="/ppt/media/image3.wmf" ContentType="image/x-wmf"/>
  <Override PartName="/ppt/media/arrow.wav" ContentType="audio/x-wav"/>
  <Override PartName="/ppt/media/image13.jpeg" ContentType="image/jpeg"/>
  <Override PartName="/ppt/media/image4.gif" ContentType="image/gif"/>
  <Override PartName="/ppt/media/image8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B61D-DA33-43C8-8392-E1E8234EA31A}" type="datetime2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eudi 30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2C7B-E16F-4C37-A13D-74A66F084B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5ED-2EBD-42E4-A5FB-3ACB98C7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435E-EEB3-4706-9AA4-110684E9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96F6-1D1C-4BB2-8290-DA259DB3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E52C-707F-40FB-B513-F020E763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FDE3-6F8D-4DEE-AC50-01885CCD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9199-ACB7-46CC-9018-1E1F95CD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A5CE-3C62-400C-8941-4E790AAB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ED99-4E32-43A9-AF94-FD00DDF2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0992-BF7A-48C8-9D41-76F6A54E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E11D-AE9C-4B95-8641-DF8B94E5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BA3F-C3F6-4568-A3B4-86F8546C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35EF-CD58-4DBC-969C-E0F833C6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FEA6-4F12-4D7E-9529-CE406586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E200-8113-4549-A2A4-B73068D2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17AC-B861-4027-AC7E-5F7CC44E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8373-7B6D-4D62-898F-DBBFA0F0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0407-8506-457F-81DB-AFA7E8E7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D8B1-0F73-4DCA-A7BD-BE821785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D1AA-1BCC-49FF-942D-AAF912E7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066-8469-49A3-BD67-863E5A21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FF04-90EC-48C8-AB2C-77F1AC08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BB47-3A60-483A-BC7F-7CD7D279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B951-EBD8-4B7B-99CF-CB4303B6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C634-46F4-4E62-A5F8-C74B5260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2911-25DE-4D04-90BE-C83A2318D735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2B31-1F95-4161-B6A6-FA3FF944B9A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8202-6C3B-40A2-89A3-F6B2DD520DB8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673D-45D6-4F02-AA8D-48DBEFE3366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audio" Target="../media/arrow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4.wmf"/><Relationship Id="rId5" Type="http://schemas.openxmlformats.org/officeDocument/2006/relationships/audio" Target="../media/arrow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4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A bientôt …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4176720" cy="34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5EA8-54D2-4795-BEB8-0C5F493321BE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FDFC7-BA54-4113-935D-6F29AF77CFA3}" type="datetime5">
              <a:rPr lang="en-US"/>
              <a:t>Jul 30, 2026</a:t>
            </a:fld>
          </a:p>
        </p:txBody>
      </p:sp>
    </p:spTree>
  </p:cSld>
  <p:transition spd="slow">
    <p:newsflash/>
    <p:sndAc>
      <p:stSnd>
        <p:snd r:embed="rId2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3033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33F2-730B-402F-9699-7C28F4A0E6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BB08D-4E2B-43BD-A4E6-2BBD52C360F5}" type="datetime5">
              <a:rPr lang="en-US"/>
              <a:t>Jul 30, 2026</a:t>
            </a:fld>
          </a:p>
        </p:txBody>
      </p:sp>
    </p:spTree>
  </p:cSld>
  <p:transition spd="slow">
    <p:cover dir="d"/>
    <p:sndAc>
      <p:stSnd>
        <p:snd r:embed="rId8" name="arrow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767"/>
                            </p:stCondLst>
                            <p:childTnLst>
                              <p:par>
                                <p:cTn id="14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767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767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767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767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767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87A-6B83-434D-A7CC-4C3C4140AC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58C87-74B4-485B-8F95-EB7FB0161265}" type="datetime5">
              <a:rPr lang="en-US"/>
              <a:t>Jul 30, 2026</a:t>
            </a:fld>
          </a:p>
        </p:txBody>
      </p:sp>
    </p:spTree>
  </p:cSld>
  <p:transition spd="slow">
    <p:cover dir="d"/>
    <p:sndAc>
      <p:stSnd>
        <p:snd r:embed="rId7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8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7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2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3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63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AED2-9889-44E6-A5BB-578F46205F5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B6BE5-1428-43C1-AC86-205D694A218C}" type="datetime5">
              <a:rPr lang="en-US"/>
              <a:t>Jul 30, 2026</a:t>
            </a:fld>
          </a:p>
        </p:txBody>
      </p:sp>
    </p:spTree>
  </p:cSld>
  <p:transition spd="slow">
    <p:cover dir="d"/>
    <p:sndAc>
      <p:stSnd>
        <p:snd r:embed="rId1" name="arrow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146C-038F-4E89-88F7-6A6ED78B7F3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77081-BEBD-4315-A642-D6786E535286}" type="datetime5">
              <a:rPr lang="en-US"/>
              <a:t>Jul 30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DE34-B2A3-45F5-AAAD-381AD5E85FF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5D199-6D46-44BE-99D4-6FFC723C3AF2}" type="datetime5">
              <a:rPr lang="en-US"/>
              <a:t>Jul 30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 rot="13065600">
            <a:off x="7885080" y="5660640"/>
            <a:ext cx="493920" cy="49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FAA-DFC0-4414-BF96-1991DCA7C02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F098E-688D-47AA-B80A-5021FBD8FBBC}" type="datetime5">
              <a:rPr lang="en-US"/>
              <a:t>Jul 30, 2026</a:t>
            </a:fld>
          </a:p>
        </p:txBody>
      </p:sp>
    </p:spTree>
  </p:cSld>
  <p:transition spd="slow">
    <p:cover dir="d"/>
    <p:sndAc>
      <p:stSnd>
        <p:snd r:embed="rId4" name="arrow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Motion origin="layout" path="M 3.88889E-006 3.17919E-006 L -0.23177 -0.22451 E">
                                      <p:cBhvr>
                                        <p:cTn id="123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7" name="_s21528"/>
            <p:cNvCxnSpPr>
              <a:stCxn id="128" idx="0"/>
              <a:endCxn id="129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0" name="_s21526"/>
            <p:cNvCxnSpPr>
              <a:stCxn id="131" idx="0"/>
              <a:endCxn id="129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2" name="_s21524"/>
            <p:cNvCxnSpPr>
              <a:stCxn id="133" idx="0"/>
              <a:endCxn id="134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5" name="_s21522"/>
            <p:cNvCxnSpPr>
              <a:stCxn id="136" idx="0"/>
              <a:endCxn id="134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7" name="_s21520"/>
            <p:cNvCxnSpPr>
              <a:stCxn id="138" idx="4"/>
              <a:endCxn id="139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0" name="_s21518"/>
            <p:cNvCxnSpPr>
              <a:stCxn id="129" idx="0"/>
              <a:endCxn id="139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1" name="_s21517"/>
            <p:cNvCxnSpPr>
              <a:stCxn id="134" idx="0"/>
              <a:endCxn id="139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39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EE9-36B6-4CB1-8384-35691662E6B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4AC4C-DDFE-443C-8D9C-390DF960A71B}" type="datetime5">
              <a:rPr lang="en-US"/>
              <a:t>Jul 30, 2026</a:t>
            </a:fld>
          </a:p>
        </p:txBody>
      </p:sp>
    </p:spTree>
  </p:cSld>
  <p:transition spd="slow">
    <p:cover dir="d"/>
    <p:sndAc>
      <p:stSnd>
        <p:snd r:embed="rId2" name="arrow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BCC3-F79A-4468-AF9D-11E392D9B52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93B7D-6CB9-422B-9FF3-6A59D6A90B76}" type="datetime5">
              <a:rPr lang="en-US"/>
              <a:t>Jul 30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5:31:29Z</dcterms:modified>
  <cp:revision>17</cp:revision>
  <dc:subject/>
  <dc:title>SportPro SA</dc:title>
</cp:coreProperties>
</file>