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028-A0EE-47DA-BA56-71A0C792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391-3982-446A-B218-3BFD9094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BEBD-35A8-4A23-BCEC-F22B026A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D62-2A17-4C19-85B3-353D38FB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A842-3A1C-4D77-87F0-71F18D41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915E-ADF8-4362-BA34-A456D71E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5CD6-0358-4321-8DAD-51FC5CF3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C316-FEBD-4640-9510-A23949BF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3836-C726-4415-949A-408CD306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9DC0-0752-4D8C-819B-4EA33F76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A89B-612C-487B-90DB-5FE83CBB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C15-7CDB-4177-9D91-FB4E944A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B2CA-82BC-4871-8303-C4DDE5F1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846A-30C4-431F-A47C-630B7CD3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0CFD-F700-459B-95CD-97506AA0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3BE4-2F5E-4A8F-8A12-032BA6B3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4D0D-BC90-465A-9E83-E63ABD86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24C-0FBD-492F-B9DA-02B18040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7CF-1489-48CF-86BC-B4DCFD1C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6FF-ABAD-497D-9965-DE2200D2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34A-0F4E-4C99-8E6C-DD63D610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F81-E1F8-4AA9-A709-C2B875F2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6F7-60F7-4C9B-A5DC-F880394C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0D3-8E8C-4AEF-AA01-A91814C7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4678-B13B-4F43-A24A-0761DF7AA9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FC12-B23B-478C-90AD-D3967446F59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sportauto.com/modules.php?name=Search&amp;query=&amp;topic=701&amp;author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60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Véhicules à louer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ur tout renseignements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 45 23 56 8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Stage Caterham super sev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144960"/>
            <a:ext cx="165744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rsche 91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556092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rrari F 35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689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MW Z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55436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6:46:09Z</dcterms:created>
  <dc:creator>Pierre Ballantin</dc:creator>
  <dc:description/>
  <dc:language>en-US</dc:language>
  <cp:lastModifiedBy>Pierre Ballantin</cp:lastModifiedBy>
  <dcterms:modified xsi:type="dcterms:W3CDTF">2004-01-13T10:08:20Z</dcterms:modified>
  <cp:revision>5</cp:revision>
  <dc:subject/>
  <dc:title>Véhicules à louer</dc:title>
</cp:coreProperties>
</file>