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0705-FF9D-48BB-B9EB-77B51EA78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4B4A-329E-49FD-9CA6-975EE2BD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8936-BC2D-4561-BDF2-713331F14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AF0B-7ED2-48A8-83F8-248DEEF61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B0ED-89BA-41FB-AF86-30A53F65B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AB32-1892-40A1-BA4C-F7B03328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D2C8-6E0E-4F21-8CF5-668F17F3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08D1-4505-4880-A254-503D714B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E3C2-4847-4329-9819-2736FFEE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4725-F34F-4068-9734-45CDFDA1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8099E-6F15-42E9-9792-03C73A75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893F-9DB6-4462-A26A-12407BEF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7726-F562-4EFE-940D-4F6B4B26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E8D5-B62F-40DF-B5C4-5FE9D6A8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52D7-7A87-423D-81C4-355A389F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A5BE-93E7-4698-BB62-EF040A9C5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5EA9-A942-4607-99A7-8A5C33D81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01F0-8D63-4E69-9951-A689B8FE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5834-5ED4-4871-8476-35110F7D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D8E4-1B8C-4427-8DBE-AA6A03A0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E6A0-98D3-444B-90BB-8CE9250F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F98D-35E0-48D7-B562-59860E7E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2E15-F3EB-417E-8E22-F4EA8239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4F71-8B4B-41D2-BDD6-4CB2E4E6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73E0-BEF0-4EAF-A576-F79DA01BDE3D}" type="datetime5">
              <a:rPr b="0" lang="fr-FR" sz="1400" spc="-1" strike="noStrike">
                <a:solidFill>
                  <a:srgbClr val="003366"/>
                </a:solidFill>
                <a:latin typeface="Times New Roman"/>
              </a:rPr>
              <a:t>29 juil.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D171-FF1E-424C-BFC7-17014820EC31}" type="slidenum"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0530-9FB3-4CE4-85FE-68B4D14E39AD}" type="datetime5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29 juil.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05CA-C8D1-4938-8B98-2D86CC69D338}" type="slidenum"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77C9-8F59-4213-A150-8035AADA36A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A25E18-AFD9-45A0-9154-FF21230B34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5BB4-50FF-4FE5-A61A-7E6A2CDB1C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D48F7B-258A-4E2C-A38A-0C80ADA46C9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3T18:59:21Z</dcterms:modified>
  <cp:revision>3</cp:revision>
  <dc:subject/>
  <dc:title>SportPro SA</dc:title>
</cp:coreProperties>
</file>