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4.gif" ContentType="image/gif"/>
  <Override PartName="/ppt/media/image7.wmf" ContentType="image/x-wmf"/>
  <Override PartName="/ppt/media/image8.png" ContentType="image/png"/>
  <Override PartName="/ppt/media/image6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14.png" ContentType="image/png"/>
  <Override PartName="/ppt/media/image9.wmf" ContentType="image/x-wmf"/>
  <Override PartName="/ppt/media/image11.wmf" ContentType="image/x-wmf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D8D5-5768-4543-A1B4-9FB758D70565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0247-6C90-4160-B0FE-E06ABA870E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217-90E3-4638-BDB4-C6CEF26D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17E-DD5B-437A-976C-CFCD1A97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F624-ADB9-4768-B1BF-5D860281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75E-7485-4325-85BB-ED8A158F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467E-3822-4F1B-837E-AB52F253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9F66-022A-481D-967F-B9CE24FC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C890-BDA1-4485-8DE8-49C50794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F589-2B9B-4A24-8048-C98506EF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378A-F7BA-4147-B489-D85D162B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11AF-F1BA-4C9F-ACE5-E2B1C043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032C-180D-489A-95A8-6E55F67D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A19-3AF7-46C1-A6C1-118C54A7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8F63-605B-401A-AC66-975F00AC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ABCA-0C93-4FB0-9C4F-D2F3BB51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EB96-44C5-4489-A591-81E8BCC1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BE4E-96C5-4408-A0C4-E2ACE1AE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A976-3FC6-42AD-957F-53262748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523-489A-4675-8CFA-3B9242F6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2B4-FA57-4F54-802F-E60FC990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734-9545-4371-B0D6-F01B806C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026-4251-4734-BF9E-7B318C29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B2E-91CD-466A-895C-A09D79A8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D4B-DA8A-438B-83EE-0E9F595F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EC1-2E4E-4E34-897E-E4DE7770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EBC5-A49C-45FE-95FB-BCAA6B8882F9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75F1-683E-4B56-9D85-A690D2A69FA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688D-6B7D-4A31-A343-FFAA820627A9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55B8-05D6-44D0-8612-80BDBD748CC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BB1-B944-4741-AE97-3544A845009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E44E9-742C-421C-A723-2318FE243B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03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064-4A50-4E59-83FB-5B8C798613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3B8A4-7389-4AAE-A10E-F67CB56136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EF5-8919-474F-8663-778514D07A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1CF4C-6323-47F2-9CAF-0C09DF16A0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3FA-8E49-42FE-97C8-13EED328EF9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BD6B3-A3E4-4663-829F-1851FF7974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840B-6BF0-4880-B597-A47F213B00C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0A99E-52D6-4F2E-BF5B-843E87916F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9AA7-A4B6-43F2-BBAA-7C1E8C6876C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B3FB2-E311-4704-A6E2-1A154B36BA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498-DE33-47CF-8388-2293BC0F99E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5301E-677B-4F55-BBF4-670EAC25C9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6" name="_s21528"/>
            <p:cNvCxnSpPr>
              <a:stCxn id="127" idx="0"/>
              <a:endCxn id="128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9" name="_s21526"/>
            <p:cNvCxnSpPr>
              <a:stCxn id="130" idx="0"/>
              <a:endCxn id="128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24"/>
            <p:cNvCxnSpPr>
              <a:stCxn id="132" idx="0"/>
              <a:endCxn id="133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4" name="_s21522"/>
            <p:cNvCxnSpPr>
              <a:stCxn id="135" idx="0"/>
              <a:endCxn id="133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6" name="_s21520"/>
            <p:cNvCxnSpPr>
              <a:stCxn id="137" idx="4"/>
              <a:endCxn id="138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9" name="_s21518"/>
            <p:cNvCxnSpPr>
              <a:stCxn id="128" idx="0"/>
              <a:endCxn id="138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0" name="_s21517"/>
            <p:cNvCxnSpPr>
              <a:stCxn id="133" idx="0"/>
              <a:endCxn id="138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38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118-C001-42D8-8473-C36DA6E4332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D0F70-F2DF-48F0-86B3-386CED17E0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D43D-9A2A-4660-BB16-61E1EFC109C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3BA09-26CB-4613-AB8C-A42FDA4C1A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5:10:06Z</dcterms:modified>
  <cp:revision>15</cp:revision>
  <dc:subject/>
  <dc:title>SportPro SA</dc:title>
</cp:coreProperties>
</file>