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1.wmf" ContentType="image/x-wmf"/>
  <Override PartName="/ppt/media/image9.wmf" ContentType="image/x-wmf"/>
  <Override PartName="/ppt/media/image15.png" ContentType="image/png"/>
  <Override PartName="/ppt/media/hammer.wav" ContentType="audio/x-wav"/>
  <Override PartName="/ppt/media/applause.wav" ContentType="audio/x-wav"/>
  <Override PartName="/ppt/media/image1.png" ContentType="image/png"/>
  <Override PartName="/ppt/media/image3.wmf" ContentType="image/x-wmf"/>
  <Override PartName="/ppt/media/arrow.wav" ContentType="audio/x-wav"/>
  <Override PartName="/ppt/media/image13.jpeg" ContentType="image/jpeg"/>
  <Override PartName="/ppt/media/image4.gif" ContentType="image/gif"/>
  <Override PartName="/ppt/media/image8.png" ContentType="image/png"/>
  <Override PartName="/ppt/media/image5.png" ContentType="image/png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5EE15-5627-45B5-B00A-3AA09A5B6A17}" type="datetime2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ercredi 29 juillet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66ff"/>
                </a:solidFill>
                <a:latin typeface="Arial"/>
              </a:rPr>
              <a:t>Click to move the slide</a:t>
            </a:r>
            <a:endParaRPr b="1" lang="en-US" sz="9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6277E-5B49-414F-8507-1158C9CAEE5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’assistance est gratuite pour tous les véhicules préparés par nos so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tte assistance est alors valable pour l’Europe et l’Afrique du nord pour une durée de six mo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C2E3-5CCE-4A04-A25A-7CE2AF400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4236-B8CB-4729-89EA-32B7E59A1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AD75-D663-4521-BF93-90EE7EF21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676F-E499-4B2F-AED1-3F911AD0A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81797-4EF5-4D9A-8A11-29291C8F0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B3B1E-FD79-44AA-BBD7-7AAB87177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786C0-CED7-44F8-BF8E-7D5A0C34A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60744-5985-496B-8EBC-5D953389A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0A899-6DBC-4BD0-B73E-CC9E9DDFF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2F73A-571C-4511-A01A-AED1D6BDA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5EC77-910B-4DF3-AB65-875F2BED6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97F1-22D6-4CDB-B38B-53B0C4405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68959-BD26-4C8E-8EFC-ABF1C1293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99962-9236-480C-B207-3E0D64D2A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61352-4F36-464F-A936-B5267DB1D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B7593-8D27-4340-9A79-1AF91C9C1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93540-E602-4ED9-9673-0B6890E0C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9915-D842-43C1-AC12-516718A17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6F4A-8E6A-4635-807E-DE1DBA009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85FF-686A-4F45-AEF9-096E7BA23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8AD1-8131-46F9-BD8F-C0D865E0C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C44C-1E34-4C39-9A24-998BC5470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49E6-7172-43E4-A055-9660D549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4CFE-E722-41E5-9552-0EF89CAE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058920" y="6237360"/>
            <a:ext cx="21301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CC4DE-5FE4-4694-8B49-B26DC52263CB}" type="datetime5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Jul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EB73B-0E76-4BD1-9008-7DAB0F543D4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5179A-4E3A-4E4C-B794-686E6CCD24B8}" type="datetime5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ul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259C4-4C5D-4F53-AD69-364E92BD899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1" lang="en-US" sz="9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Click to edit the outline text format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audio" Target="../media/arrow.wav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audio" Target="../media/arrow.wav"/><Relationship Id="rId8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audio" Target="../media/arrow.wav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4.wmf"/><Relationship Id="rId5" Type="http://schemas.openxmlformats.org/officeDocument/2006/relationships/audio" Target="../media/arrow.wav"/><Relationship Id="rId6" Type="http://schemas.openxmlformats.org/officeDocument/2006/relationships/audio" Target="../media/hammer.wav"/><Relationship Id="rId7" Type="http://schemas.openxmlformats.org/officeDocument/2006/relationships/audio" Target="../media/hammer.wav"/><Relationship Id="rId8" Type="http://schemas.openxmlformats.org/officeDocument/2006/relationships/audio" Target="../media/hammer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9810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66ff"/>
                </a:solidFill>
                <a:latin typeface="Arial"/>
              </a:rPr>
              <a:t>SportPro</a:t>
            </a:r>
            <a:endParaRPr b="1" lang="en-US" sz="8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TOUJOURS À LA POINTE DE LA COMPÉTITION AUTOMOBIL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 flipH="1">
            <a:off x="611280" y="3141720"/>
            <a:ext cx="3435120" cy="1566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443640" y="476280"/>
            <a:ext cx="1944720" cy="18748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845964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  <p:sndAc>
      <p:stSnd>
        <p:snd r:embed="rId4" name="arro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629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A bientôt …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627280" y="2708280"/>
            <a:ext cx="4176720" cy="3414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84A6-BD8F-4C36-BA0C-A407E7A970FB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8F620F-77F0-42A8-91E5-FAC0C218BDBB}" type="datetime5">
              <a:rPr lang="en-US"/>
              <a:t>Jul 29, 2026</a:t>
            </a:fld>
          </a:p>
        </p:txBody>
      </p:sp>
    </p:spTree>
  </p:cSld>
  <p:transition spd="slow">
    <p:newsflash/>
    <p:sndAc>
      <p:stSnd>
        <p:snd r:embed="rId2" name="arrow.wav"/>
      </p:stSnd>
    </p:sndAc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" dur="13033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162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5" dur="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Notre gamme de services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268000" y="2636640"/>
            <a:ext cx="5534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rage de Saint-Den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ièces détaché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rage de Pontoi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mise en éta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éparation des véhicu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sistance en cour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900000" y="2492280"/>
            <a:ext cx="1209960" cy="114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9FE6-D618-4E4A-8CA2-333AC044805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FFB815-B45D-45A3-B893-F703003290B3}" type="datetime5">
              <a:rPr lang="en-US"/>
              <a:t>Jul 29, 2026</a:t>
            </a:fld>
          </a:p>
        </p:txBody>
      </p:sp>
    </p:spTree>
  </p:cSld>
  <p:transition spd="slow">
    <p:cover dir="d"/>
    <p:sndAc>
      <p:stSnd>
        <p:snd r:embed="rId8" name="arrow.wav"/>
      </p:stSnd>
    </p:sndAc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767"/>
                            </p:stCondLst>
                            <p:childTnLst>
                              <p:par>
                                <p:cTn id="14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98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767"/>
                            </p:stCondLst>
                            <p:childTnLst>
                              <p:par>
                                <p:cTn id="21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9767"/>
                            </p:stCondLst>
                            <p:childTnLst>
                              <p:par>
                                <p:cTn id="28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98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2767"/>
                            </p:stCondLst>
                            <p:childTnLst>
                              <p:par>
                                <p:cTn id="35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98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767"/>
                            </p:stCondLst>
                            <p:childTnLst>
                              <p:par>
                                <p:cTn id="42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98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8767"/>
                            </p:stCondLst>
                            <p:childTnLst>
                              <p:par>
                                <p:cTn id="49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22920" y="764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SportPro Préparation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4 Heures du Ma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llye de Tunis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ris - Dak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carrera Cu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F3 Classi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Lotus Se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13D6-87E3-4F22-AE8F-EB085EB4FF8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13CF6C-2FF6-45E1-9787-726F2ECB4520}" type="datetime5">
              <a:rPr lang="en-US"/>
              <a:t>Jul 29, 2026</a:t>
            </a:fld>
          </a:p>
        </p:txBody>
      </p:sp>
    </p:spTree>
  </p:cSld>
  <p:transition spd="slow">
    <p:cover dir="d"/>
    <p:sndAc>
      <p:stSnd>
        <p:snd r:embed="rId7" name="arrow.wav"/>
      </p:stSnd>
    </p:sndAc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800"/>
                            </p:stCondLst>
                            <p:childTnLst>
                              <p:par>
                                <p:cTn id="72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7700"/>
                            </p:stCondLst>
                            <p:childTnLst>
                              <p:par>
                                <p:cTn id="78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200"/>
                            </p:stCondLst>
                            <p:childTnLst>
                              <p:par>
                                <p:cTn id="84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3300"/>
                            </p:stCondLst>
                            <p:childTnLst>
                              <p:par>
                                <p:cTn id="90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6300"/>
                            </p:stCondLst>
                            <p:childTnLst>
                              <p:par>
                                <p:cTn id="96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Chiffre d’affaires 2003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476360" y="2924280"/>
          <a:ext cx="6535800" cy="2793960"/>
        </p:xfrm>
        <a:graphic>
          <a:graphicData uri="http://schemas.openxmlformats.org/drawingml/2006/table">
            <a:tbl>
              <a:tblPr/>
              <a:tblGrid>
                <a:gridCol w="1800000"/>
                <a:gridCol w="1224000"/>
                <a:gridCol w="1152720"/>
                <a:gridCol w="1123920"/>
                <a:gridCol w="1235160"/>
              </a:tblGrid>
              <a:tr h="93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1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2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3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4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30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ssistanc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3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éparatio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7084-9D93-4DE0-8BF9-22FF1B1C57DD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464DE2-8D17-4ED9-A404-7B612C74208F}" type="datetime5">
              <a:rPr lang="en-US"/>
              <a:t>Jul 29, 2026</a:t>
            </a:fld>
          </a:p>
        </p:txBody>
      </p:sp>
    </p:spTree>
  </p:cSld>
  <p:transition spd="slow">
    <p:cover dir="d"/>
    <p:sndAc>
      <p:stSnd>
        <p:snd r:embed="rId1" name="arrow.wav"/>
      </p:stSnd>
    </p:sndAc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Prévisions 2004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124000" y="2924280"/>
          <a:ext cx="5562720" cy="361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924280"/>
                    <a:ext cx="556272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211A-6BEC-4968-8AF3-AF8AE7D5F97F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4B9956-5634-4231-833B-9764FC3F8D6B}" type="datetime5">
              <a:rPr lang="en-US"/>
              <a:t>Jul 29, 2026</a:t>
            </a:fld>
          </a:p>
        </p:txBody>
      </p:sp>
    </p:spTree>
  </p:cSld>
  <p:transition spd="slow">
    <p:cover dir="d"/>
    <p:sndAc>
      <p:stSnd>
        <p:snd r:embed="rId3" name="arrow.wav"/>
      </p:stSnd>
    </p:sndAc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2" dur="2000" fill="hold"/>
                                        <p:tgtEl>
                                          <p:spTgt spid="11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Evolution du CA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116000" y="3284640"/>
          <a:ext cx="7416720" cy="1993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284640"/>
                    <a:ext cx="7416720" cy="19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CDE3-CC41-4307-9C34-84B244C1FED1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EB2E53-3EA2-4F6F-ACF1-8E2E04F77D79}" type="datetime5">
              <a:rPr lang="en-US"/>
              <a:t>Jul 29, 2026</a:t>
            </a:fld>
          </a:p>
        </p:txBody>
      </p:sp>
    </p:spTree>
  </p:cSld>
  <p:transition spd="slow">
    <p:cover dir="d"/>
    <p:sndAc>
      <p:stSnd>
        <p:snd r:embed="rId3" name="arrow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Evolution du CA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838080" y="2362320"/>
          <a:ext cx="7693200" cy="37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362320"/>
                    <a:ext cx="7693200" cy="37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 rot="13065600">
            <a:off x="7885080" y="5660640"/>
            <a:ext cx="493920" cy="493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EA34-DC5F-4A3A-B105-F1E2B9D4AA11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30E7D2-89D3-4598-9717-E719AEC856E0}" type="datetime5">
              <a:rPr lang="en-US"/>
              <a:t>Jul 29, 2026</a:t>
            </a:fld>
          </a:p>
        </p:txBody>
      </p:sp>
    </p:spTree>
  </p:cSld>
  <p:transition spd="slow">
    <p:cover dir="d"/>
    <p:sndAc>
      <p:stSnd>
        <p:snd r:embed="rId4" name="arrow.wav"/>
      </p:stSnd>
    </p:sndAc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animMotion origin="layout" path="M 3.88889E-006 3.17919E-006 L -0.23177 -0.22451 E">
                                      <p:cBhvr>
                                        <p:cTn id="123" dur="3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Société SportPro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042920" y="2492280"/>
            <a:ext cx="7632360" cy="3671640"/>
            <a:chOff x="1042920" y="2492280"/>
            <a:chExt cx="7632360" cy="3671640"/>
          </a:xfrm>
        </p:grpSpPr>
        <p:cxnSp>
          <p:nvCxnSpPr>
            <p:cNvPr id="127" name="_s21528"/>
            <p:cNvCxnSpPr>
              <a:stCxn id="128" idx="0"/>
              <a:endCxn id="129" idx="3"/>
            </p:cNvCxnSpPr>
            <p:nvPr/>
          </p:nvCxnSpPr>
          <p:spPr>
            <a:xfrm flipV="1" rot="16200000">
              <a:off x="7166520" y="4797360"/>
              <a:ext cx="334080" cy="106272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0" name="_s21526"/>
            <p:cNvCxnSpPr>
              <a:stCxn id="131" idx="0"/>
              <a:endCxn id="129" idx="3"/>
            </p:cNvCxnSpPr>
            <p:nvPr/>
          </p:nvCxnSpPr>
          <p:spPr>
            <a:xfrm flipH="1" flipV="1" rot="5400000">
              <a:off x="6175800" y="4869360"/>
              <a:ext cx="334080" cy="91944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2" name="_s21524"/>
            <p:cNvCxnSpPr>
              <a:stCxn id="133" idx="0"/>
              <a:endCxn id="134" idx="3"/>
            </p:cNvCxnSpPr>
            <p:nvPr/>
          </p:nvCxnSpPr>
          <p:spPr>
            <a:xfrm flipV="1" rot="16200000">
              <a:off x="3208680" y="4797360"/>
              <a:ext cx="334080" cy="106272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5" name="_s21522"/>
            <p:cNvCxnSpPr>
              <a:stCxn id="136" idx="0"/>
              <a:endCxn id="134" idx="3"/>
            </p:cNvCxnSpPr>
            <p:nvPr/>
          </p:nvCxnSpPr>
          <p:spPr>
            <a:xfrm flipH="1" flipV="1" rot="5400000">
              <a:off x="2218320" y="4869360"/>
              <a:ext cx="334080" cy="91944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7" name="_s21520"/>
            <p:cNvCxnSpPr>
              <a:stCxn id="138" idx="4"/>
              <a:endCxn id="139" idx="3"/>
            </p:cNvCxnSpPr>
            <p:nvPr/>
          </p:nvCxnSpPr>
          <p:spPr>
            <a:xfrm flipV="1">
              <a:off x="4505400" y="3159360"/>
              <a:ext cx="316440" cy="704880"/>
            </a:xfrm>
            <a:prstGeom prst="bentConnector2">
              <a:avLst/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40" name="_s21518"/>
            <p:cNvCxnSpPr>
              <a:stCxn id="129" idx="0"/>
              <a:endCxn id="139" idx="3"/>
            </p:cNvCxnSpPr>
            <p:nvPr/>
          </p:nvCxnSpPr>
          <p:spPr>
            <a:xfrm flipV="1" rot="16200000">
              <a:off x="5179680" y="2800800"/>
              <a:ext cx="1335600" cy="2052000"/>
            </a:xfrm>
            <a:prstGeom prst="bentConnector3">
              <a:avLst>
                <a:gd name="adj1" fmla="val 8546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41" name="_s21517"/>
            <p:cNvCxnSpPr>
              <a:stCxn id="134" idx="0"/>
              <a:endCxn id="139" idx="3"/>
            </p:cNvCxnSpPr>
            <p:nvPr/>
          </p:nvCxnSpPr>
          <p:spPr>
            <a:xfrm flipH="1" flipV="1" rot="5400000">
              <a:off x="3200760" y="2873520"/>
              <a:ext cx="1335600" cy="1906920"/>
            </a:xfrm>
            <a:prstGeom prst="bentConnector3">
              <a:avLst>
                <a:gd name="adj1" fmla="val 8546"/>
              </a:avLst>
            </a:prstGeom>
            <a:ln w="28440">
              <a:solidFill>
                <a:srgbClr val="666699"/>
              </a:solidFill>
              <a:miter/>
            </a:ln>
          </p:spPr>
        </p:cxnSp>
        <p:sp>
          <p:nvSpPr>
            <p:cNvPr id="139" name="_s21512"/>
            <p:cNvSpPr/>
            <p:nvPr/>
          </p:nvSpPr>
          <p:spPr>
            <a:xfrm>
              <a:off x="4011120" y="24922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ccc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atrick Duva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PDG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4" name="_s21514"/>
            <p:cNvSpPr/>
            <p:nvPr/>
          </p:nvSpPr>
          <p:spPr>
            <a:xfrm>
              <a:off x="2032200" y="449496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cc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Stéphane Dupond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Vente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9" name="_s21515"/>
            <p:cNvSpPr/>
            <p:nvPr/>
          </p:nvSpPr>
          <p:spPr>
            <a:xfrm>
              <a:off x="5990040" y="449496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cc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ierre Martin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Mécaniqu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8" name="_s21519"/>
            <p:cNvSpPr/>
            <p:nvPr/>
          </p:nvSpPr>
          <p:spPr>
            <a:xfrm>
              <a:off x="2880360" y="349344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99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hilippe More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Assistant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6" name="_s21521"/>
            <p:cNvSpPr/>
            <p:nvPr/>
          </p:nvSpPr>
          <p:spPr>
            <a:xfrm>
              <a:off x="104292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Gérard Leroy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Publicité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3" name="_s21523"/>
            <p:cNvSpPr/>
            <p:nvPr/>
          </p:nvSpPr>
          <p:spPr>
            <a:xfrm>
              <a:off x="302148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Bernard Davin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Compétition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1" name="_s21525"/>
            <p:cNvSpPr/>
            <p:nvPr/>
          </p:nvSpPr>
          <p:spPr>
            <a:xfrm>
              <a:off x="500040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Roland Rover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Carrosseri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8" name="_s21527"/>
            <p:cNvSpPr/>
            <p:nvPr/>
          </p:nvSpPr>
          <p:spPr>
            <a:xfrm>
              <a:off x="697932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Bertrand Miche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Pneumatique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012000" y="2421000"/>
            <a:ext cx="823680" cy="1147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A1B5-09B9-4F71-A8A0-D7C808696DA6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14F363-461A-431C-871A-ADC7827BA42E}" type="datetime5">
              <a:rPr lang="en-US"/>
              <a:t>Jul 29, 2026</a:t>
            </a:fld>
          </a:p>
        </p:txBody>
      </p:sp>
    </p:spTree>
  </p:cSld>
  <p:transition spd="slow">
    <p:cover dir="d"/>
    <p:sndAc>
      <p:stSnd>
        <p:snd r:embed="rId2" name="arrow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épann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7 J/7 – 24H/24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él : 01 45 52 08 3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5651640" y="3860640"/>
            <a:ext cx="2160360" cy="21607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1619280" y="549360"/>
            <a:ext cx="561672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Assistance</a:t>
            </a:r>
            <a:endParaRPr b="0" lang="en-US" sz="6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6" name=""/>
          <p:cNvSpPr/>
          <p:nvPr/>
        </p:nvSpPr>
        <p:spPr>
          <a:xfrm>
            <a:off x="5508720" y="2708280"/>
            <a:ext cx="2735280" cy="576360"/>
          </a:xfrm>
          <a:prstGeom prst="wedgeRoundRectCallout">
            <a:avLst>
              <a:gd name="adj1" fmla="val -33287"/>
              <a:gd name="adj2" fmla="val 137328"/>
              <a:gd name="adj3" fmla="val 16667"/>
            </a:avLst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oujours prêt 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FEA6-BB32-4945-8FF1-99AA3E64A2C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50CBBE-2E91-4170-A63C-D359C84E16E8}" type="datetime5">
              <a:rPr lang="en-US"/>
              <a:t>Jul 29, 2026</a:t>
            </a:fld>
          </a:p>
        </p:txBody>
      </p:sp>
    </p:spTree>
  </p:cSld>
  <p:transition spd="slow">
    <p:cover dir="d"/>
    <p:sndAc>
      <p:stSnd>
        <p:snd r:embed="rId5" name="arrow.wav"/>
      </p:stSnd>
    </p:sndAc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500"/>
                            </p:stCondLst>
                            <p:childTnLst>
                              <p:par>
                                <p:cTn id="1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3T10:49:52Z</dcterms:created>
  <dc:creator>Pierre Ballantin</dc:creator>
  <dc:description/>
  <dc:language>en-US</dc:language>
  <cp:lastModifiedBy>Pierre Ballantin</cp:lastModifiedBy>
  <dcterms:modified xsi:type="dcterms:W3CDTF">2004-01-14T15:31:29Z</dcterms:modified>
  <cp:revision>17</cp:revision>
  <dc:subject/>
  <dc:title>SportPro SA</dc:title>
</cp:coreProperties>
</file>