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809-E922-4F92-B576-441D9586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C7B-725C-4BFF-B06C-35DA8466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D1D-DBB9-4E88-AF97-4A6ABCE4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C26-14A3-45B4-9494-5C49103D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3FBD-19B4-438D-AE2B-CB217C18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2422-2DF6-428E-A957-69B5B549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5226-BEAC-4277-9472-5227F2B8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6743-E071-4C41-A1E5-09D12033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2E1E-E868-4600-805F-9DB0CA75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E26B-2F9D-4105-A1FF-26D7A905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9091-FEB4-4333-9E5A-ACBE23FA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DFD-F6BD-4608-BFDA-2982271B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DA06-6A76-45BB-B7A0-1A1063D5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5776-ECD9-4303-BC7F-47601060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D514-B214-44BD-98C6-51774DD4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68CF-CB77-430E-8886-977B5C63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6535-BF53-4DC3-B6C5-0B110272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D45-D831-475F-81A6-974FA1CA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759-A9D9-4E9F-94A0-4A645596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172-359E-45AC-9819-AC754870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B2D-B2A3-450D-BFDD-0CAB660B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9E0-637B-4098-8047-BC7F5B2A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C04-2B94-4A42-AED1-0B81663F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C9E-87BA-4CAF-B3BB-537D3EC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7459-107E-42FE-B88E-CBBE0A2CDB89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BAF0-0863-4C11-8831-404C876C1A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0EA1-618C-4817-B14F-E8705D9E9263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8A86-73B6-4C23-98AA-9F803380599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896-9FA9-49A3-8B3B-7A4EFF174B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AA93D-B4E1-4AAB-8B5D-CDC29DA434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203-A487-4998-8DE2-E282DBF40F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1E82E-D308-4384-9250-F24EDB523F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066-D4CE-4AEA-93D5-61446B5E5C6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DA5A7-3421-40C1-8D2C-A901319B88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FAB-970D-420D-B291-7B8C4407E83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451C7-850B-4C73-8758-A08B28E983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EA0-1EAD-4F50-A103-09A65EC29BA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C29BC-40C2-4BE6-BED6-F77DCA2242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947-F8E8-4E56-B304-20E597378C1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FF5D8-F0E9-4BC2-8E6F-49F5F338F4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17" name="_s21528"/>
            <p:cNvCxnSpPr>
              <a:stCxn id="118" idx="0"/>
              <a:endCxn id="119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0" name="_s21526"/>
            <p:cNvCxnSpPr>
              <a:stCxn id="121" idx="0"/>
              <a:endCxn id="119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2" name="_s21524"/>
            <p:cNvCxnSpPr>
              <a:stCxn id="123" idx="0"/>
              <a:endCxn id="124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5" name="_s21522"/>
            <p:cNvCxnSpPr>
              <a:stCxn id="126" idx="0"/>
              <a:endCxn id="124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7" name="_s21520"/>
            <p:cNvCxnSpPr>
              <a:stCxn id="128" idx="4"/>
              <a:endCxn id="129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0" name="_s21518"/>
            <p:cNvCxnSpPr>
              <a:stCxn id="119" idx="0"/>
              <a:endCxn id="129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17"/>
            <p:cNvCxnSpPr>
              <a:stCxn id="124" idx="0"/>
              <a:endCxn id="129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29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DB1-8C4C-4EE0-A1A8-EEE7D97E2CF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C2D2A-1B9A-4E73-A2A2-8B15FC7E23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891-67CE-4B7D-A3DB-9E6D9F2F19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65983-2C3E-44AC-94AB-C395947767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3:14:45Z</dcterms:modified>
  <cp:revision>11</cp:revision>
  <dc:subject/>
  <dc:title>SportPro SA</dc:title>
</cp:coreProperties>
</file>