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C154-37D4-48DA-AEF1-937AF6D58DF5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07AC-2676-4B6D-8429-051660B742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827-08BF-401E-A104-303541A6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35F-C4B6-47E1-9419-6F0537C1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BE2-3255-42F5-B43B-3E87F6A7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EEE-571E-40B9-9469-624B8BDE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3C01-6A33-4EBF-AAC3-96356A87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B9F6-216F-4E32-8F6C-0C2F8537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FB56-5637-4023-A43B-5BE4A6E0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B7AB-C606-4245-B8C4-1C1F4A2E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CA25-F93D-49B4-9519-9AA4B959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E063-ED94-4AFE-97E9-712E13CA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CF77-5A9B-46E4-A3AE-4BA1C5A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4CA-C1B8-4E55-AC03-6097C412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C3F2-84CE-404D-BBF4-8709731D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49AF-9FB3-48E9-84BE-408C7739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C881-B667-42BF-BFC8-612C3DAA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F9EE-3497-4525-B25C-A03A99C8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B379-30F9-4E77-97A9-302B6D76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D4F-9F58-422C-9B22-E46C2F32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306-FD0D-4EDC-971C-3CA7190F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D62-86D9-4264-B5CC-33D0A6F9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B99-A172-4CF7-A52D-2CF0DAB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400-1B4E-4B8E-BF9A-58440615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271-8528-4B2A-84A2-2E6E4AAF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164-EEB3-4E07-A2C9-8069C58E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9F13-4861-4F0A-AED0-8A2CB7A85EBE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A267-38F6-4A4B-BAD6-70BA979291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1E4D-47BC-4E4F-941C-F06BE3B2B418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2790-A44F-42D9-839B-DD72CBD2B7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B57-FF0B-4D27-9825-174299FD5E1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4E150-6983-44B5-A280-3FCE92D1B169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CF5-669F-43E6-8230-4825F4F59E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904C5-337F-4760-A57D-A9D6078F97E5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8D4-BA91-4455-88B4-FF79503596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F1755-8D93-4A58-961B-B6CFD472E6F2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60A-25AC-41E9-8BCF-BC7D7B58800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392DB-5666-4629-9FEC-8FA0E64A826E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FE1-317B-44F2-AFE4-FD701983B16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9769D-C336-4636-8D8C-F95D2B21F862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003-9863-4DA0-A442-29004C507F8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FE5B6-750C-43D1-AF5B-F28DDA97E2B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7D7-7FB4-4C0C-A361-8715F9E210B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AC489-E1B0-43F1-B91C-8AF836D139F9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545-301E-474D-85F0-63890B560AA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D8455-DAD1-4105-878C-DE1BFDDE73F1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27E-97D5-45D4-9564-539167B8CA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2ED2F-E3DB-47E7-B313-D99D26BB6F7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51:00Z</dcterms:modified>
  <cp:revision>20</cp:revision>
  <dc:subject/>
  <dc:title>SportPro SA</dc:title>
</cp:coreProperties>
</file>