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F17-D6D4-401F-81DF-A78B505A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279-3B50-4369-AA61-61C08A6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6F9-FAA1-43DC-B9DB-6F3B051D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4AC-4EA8-4832-A510-D2F6C439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B54C-9F6D-45DC-9877-EA97AE71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CB51-14D5-4534-B789-C015A003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7697-A5B4-4B08-86C7-A587206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3EB8-7524-4F58-9DAF-D9B3E661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AF9F-C542-4D8F-91AF-D8C63CB3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417B-BDDA-49CB-BE19-0FE58026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29B5-F007-4649-A71D-8825D3A0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1C7-6739-46E6-8ED7-58856981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9D6D-E6F7-495F-8971-FB400F4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9899-9DDB-48E2-98D6-FC584562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4BCE-348D-4E54-AB28-7A00C3D6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E0AF-84AD-4C7A-9BF3-D8F5ED6D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E145-A3BD-465D-B698-6418B123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088-DB89-46A8-90F9-401BC60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95F-0324-4CEE-BA00-FA537455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27B-813A-4D47-9E3A-8EA96247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FF0-053C-4B14-BDF4-2CC182E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158-C010-4AFD-98D6-1AB6C643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FAC-EDE5-4B6F-8061-0E3695B8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42A-522C-4033-B52E-F7BF95A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4A07-72FC-4B19-83D9-C1AD83E35156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2259-FA99-46FE-B1C6-B51B8AB70A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856-F49B-4F1D-A2BA-83B429D2F4E0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9BE-BF25-470E-8AC2-B78D041046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179-CC1C-43AA-B4FD-3C57BE99EE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E35E2-613F-49C4-AE09-7EF39E66C2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FBC-A5AA-4542-9DFE-52B2B7EB3E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A63B8-BE35-4E90-8A06-FCAB9553DE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C33-17EE-41AE-AE19-74D72C10D5B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47F9E-705F-4A54-9570-A743846F67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800-FE37-4D6D-BC41-4908DCE8AFD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DAFBA-DFFD-4C27-BE3E-2056ED087D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E94-BD6C-466B-B3D4-6112D25A3DC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15D0A-8C02-4C77-A822-F54DAC76E9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20:08:26Z</dcterms:modified>
  <cp:revision>5</cp:revision>
  <dc:subject/>
  <dc:title>SportPro SA</dc:title>
</cp:coreProperties>
</file>