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339-E3C0-4FDC-BF82-A7ACD4F4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1D4-9CF0-42F2-B6E7-9BD0FC9F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9D2-E587-4573-BFF6-CA2FFAAD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046-46FF-491B-8253-78A5B670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258E-3AA4-4DC0-A3F3-BFF7AC87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1993-9E65-4B71-BB3F-72CCCDCE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894-F50F-457C-8FE3-4A25748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2264-F146-4ADA-A594-8624CDCA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94E6-675C-45F8-92BE-711D1467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DE39-F4D0-4064-9757-8E138D06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FEB3-2912-48C6-BA11-5411AA1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CAC-F2EE-4613-8B09-BE3FA887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A691-A213-4C15-B51A-4C1D8FF7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2C73-B144-4728-83E4-191E4AB1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0595-C6E6-4CF7-8852-EECC3BC2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C24E-97D0-4C43-805A-E71CBBA8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0DD0-5E1D-4B3E-A331-EC2C7613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47B-C4AC-49E3-8F9D-1EE9EF4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9BC-7A5B-46E5-A898-E8BF29F6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0E5-684E-418A-B68A-FB10CD15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1DD-E918-43C5-A8F8-C5EF80F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793-BAFD-4245-81F6-34DC9D0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43F-81C4-44F1-8E2E-519A149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6C4-2F1A-4855-A7B7-F6129ED3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89A0-4AD7-4814-AEDC-924B54C6F615}" type="datetime5"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30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B3E-3B36-48E1-841A-527E6121D5E3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5260-755F-4217-9D69-A52730911E7A}" type="datetime5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30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F26A-8249-43A2-B51B-70CA83D0894B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23C-918C-4F4E-B1FD-E18FEC8D23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BDAB9-97BA-4CC3-9FA8-7DA8108200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89D-CBD8-45B4-9FF6-3279A84F48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E00C4-D859-4C7E-BBF4-92139B1B10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8:59:21Z</dcterms:modified>
  <cp:revision>3</cp:revision>
  <dc:subject/>
  <dc:title>SportPro SA</dc:title>
</cp:coreProperties>
</file>