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A8EB-65E3-415F-BBA8-F07005987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F4FB-DB46-4765-888E-2026E6FE6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AA97-44A6-457C-B758-9F05BC908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F12D-7B1F-4E95-BFA7-2FFE3AD3B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9257A-D7DF-464A-A613-E89E24E55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0C45A-138B-47A1-9561-FAB2C90D3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C549C-F0AF-441D-BB28-7C97139A1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62058-9656-4558-AF49-6117EAE3A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40FDF-6564-4540-9893-243703AB0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26093-A0AD-4E9A-B1BB-D75F61B4A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CBB1A-3FEC-4A27-932F-6FA7B661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BDA7-53F0-4A48-B0B1-DCCF2F39A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648F0-2818-4840-B485-78C81F3D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2BFFE-2533-4CF7-93D8-FF1768C9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F0B6D-FCE7-46B8-A839-1061FB649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30EA4-2CD7-461F-8285-D94D2BCC3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75CC6-613B-438B-8BE2-D2F9078A3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ED85-0A0E-47AC-8819-D02924656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E9DE-8C8D-486E-B56E-F179FEDE4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9471-4804-4445-B35B-A81A85700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66B5-3800-4AD0-BCE1-E4B9054D8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F780-3C8E-459A-9075-E3D8F3C9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AA81-0628-4BDC-969D-FCE5C6F7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F3F0-368D-4404-B63B-886143D9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89B0F-CC2F-403D-A369-1F283402EDE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3939B-47F5-43EF-9FA6-E449AB49972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llsportauto.com/modules.php?name=Search&amp;query=&amp;topic=701&amp;author=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19280" y="333360"/>
            <a:ext cx="66009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Tahoma"/>
              </a:rPr>
              <a:t>Véhicules à louer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619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ur tout renseignements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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01 45 23 56 8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Stage Caterham super seve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51280" y="3144960"/>
            <a:ext cx="1657440" cy="68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orsche 911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195640" y="2781360"/>
            <a:ext cx="5560920" cy="29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Ferrari F 355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79640" y="2708280"/>
            <a:ext cx="568944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BMW Z3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268360" y="2276640"/>
            <a:ext cx="5543640" cy="38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30T16:46:09Z</dcterms:created>
  <dc:creator>Pierre Ballantin</dc:creator>
  <dc:description/>
  <dc:language>en-US</dc:language>
  <cp:lastModifiedBy>Pierre Ballantin</cp:lastModifiedBy>
  <dcterms:modified xsi:type="dcterms:W3CDTF">2004-01-13T10:08:20Z</dcterms:modified>
  <cp:revision>5</cp:revision>
  <dc:subject/>
  <dc:title>Véhicules à louer</dc:title>
</cp:coreProperties>
</file>