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8553-D180-4137-9527-F7E3A2D16223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4F77-B9CC-4D57-81A0-DA7B88955B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C91-0DBF-40E2-9D74-EFC6AF71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D85-198C-44D6-A819-BDEC87D5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F83-87EE-4E95-9119-5011E623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B9F-2BDD-4B30-A098-F0857B33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5BE0-5CF5-4631-937C-A08EFDAE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6669-66CB-4AFB-8A2A-AD313827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AAA5-A4F9-4812-8AF2-56EDD56E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B643-0A35-4506-B874-9E9897FD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F5FD-A9C2-4280-A846-729A5657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C506-2171-4966-85A8-BE22B09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9212-0DA6-43A6-AC86-514A240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00C-B1B5-4578-8A47-1663EF38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6299-59DC-48DB-8A87-658A8865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B032-34B4-4BAD-9A1E-BFD6794A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DC40-ABEF-43E7-A667-BCBD647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FE3C-D6EC-4C6C-A805-E287A0DE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6AAC-C774-4971-B229-58754503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556-FC06-4E72-AE38-392ABE7F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48C-DDAF-4F13-B352-57188FC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45F-0893-41E2-8B27-7A4239C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2F0-0A3F-45DD-972D-F4076F8B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86A-2E0A-41A0-AC57-1BD3290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B61-34EF-4F44-8650-E1143648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3C9-7747-468E-9C78-C89A95DF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B85B-D084-4B5E-9152-DD7A95D8642D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E277-1EE9-4D56-BD73-66D85F21AE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E1BD-9DF3-4EFB-8A16-B55FCAC35FF7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92DC-2E8A-4011-9911-A7FAD8434D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1B8-E7C4-4CFC-A096-19E50A876D1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CB6F0-FA5A-4C64-89A4-649926FE9C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F25-49D4-4A59-ACE1-ED499267F6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A9CD0-8743-4314-AE25-4180CEF856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1F6-3427-4316-8B4A-D75F8EC7E6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9C5A3-2378-4D42-B4E6-7A5736612A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8DE-CE35-46D0-91C2-3FD915FF668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E45D9-4676-4050-A0A2-82CDAF9EF8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44F-5AB4-4DB0-8D39-CBB5B8175DB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6E76F-7E92-4ADF-94AF-0B1C44B352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EBA-0066-469E-BAE2-D117625BDF7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92218-EB6E-4F2B-90BE-A6318758EF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0E5-CC49-4DAD-9C47-E9E0AF30BE7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6AA5C-614C-4808-8BC1-577774E19C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6" name="_s21528"/>
            <p:cNvCxnSpPr>
              <a:stCxn id="127" idx="0"/>
              <a:endCxn id="128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6"/>
            <p:cNvCxnSpPr>
              <a:stCxn id="130" idx="0"/>
              <a:endCxn id="128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4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2"/>
            <p:cNvCxnSpPr>
              <a:stCxn id="135" idx="0"/>
              <a:endCxn id="133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0"/>
            <p:cNvCxnSpPr>
              <a:stCxn id="137" idx="4"/>
              <a:endCxn id="138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9" name="_s21518"/>
            <p:cNvCxnSpPr>
              <a:stCxn id="128" idx="0"/>
              <a:endCxn id="138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7"/>
            <p:cNvCxnSpPr>
              <a:stCxn id="133" idx="0"/>
              <a:endCxn id="138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8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EEF-BE0C-4135-92FC-E590923D910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0D797-A25F-4955-A6E0-EEA4B58D78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883-0796-4912-B682-460E924BC5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DD818-6B19-479F-9BF7-66CD367511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10:06Z</dcterms:modified>
  <cp:revision>15</cp:revision>
  <dc:subject/>
  <dc:title>SportPro SA</dc:title>
</cp:coreProperties>
</file>