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5.png" ContentType="image/png"/>
  <Override PartName="/ppt/media/hammer.wav" ContentType="audio/x-wav"/>
  <Override PartName="/ppt/media/applause.wav" ContentType="audio/x-wav"/>
  <Override PartName="/ppt/media/image1.png" ContentType="image/png"/>
  <Override PartName="/ppt/media/image3.wmf" ContentType="image/x-wmf"/>
  <Override PartName="/ppt/media/arrow.wav" ContentType="audio/x-wav"/>
  <Override PartName="/ppt/media/image13.jpeg" ContentType="image/jpeg"/>
  <Override PartName="/ppt/media/image4.gif" ContentType="image/gif"/>
  <Override PartName="/ppt/media/image8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D544-2249-48E3-B525-FE1811483C28}" type="datetime2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5E77-446B-4901-A89D-2A67932B88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F77C-FDA8-4D42-8416-6B512375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3066-335F-4ADD-8E5C-1799ABF2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D86E-7774-46EF-BE2A-71239DDB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2E47-667C-4F14-8D7A-95AC426D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F104-EEB7-4992-8E35-AB3E9841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0500-7380-45EF-9102-D8172DB9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2DA3-6824-4176-A5AB-30EA1920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E304-FFAA-4131-B6B4-5E53DA57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3CC7-8002-45B1-96BD-F1C543A7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5039-C9A0-4064-9189-90800D85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ED4E-1340-480B-98E4-BD403446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02A-CB65-447A-A979-37186C12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92A7-C63E-4492-AADA-85B07331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2E4F-33A8-4952-A5BF-F6E76656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495A-02C6-4BB8-8FBF-2B6D808A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6D8B-6004-48AE-A766-D9928E54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9DB6-CB37-4D48-8044-4C4EB4E7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3EE-4BE6-444C-BAE4-1C57C458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C888-3FF1-4E58-8423-1EEB6D83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BD5-7665-400D-98DF-FE90B140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29E4-7294-4858-8B90-AE5F68E0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BE2-3A6F-4892-BC1F-5AD075D1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C0A2-54EE-489F-886B-A7AD2E2D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21E6-E1C0-49E9-B640-2A4C541F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B9FB-36EE-4D3E-A938-8054D2B3B0FD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4D3B-4D30-4569-88EE-0A0547D6A73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EB6D-CA10-4581-956C-A31AC64443FB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55E2-BF8E-49FF-84CB-489CE339D18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audio" Target="../media/arrow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wmf"/><Relationship Id="rId5" Type="http://schemas.openxmlformats.org/officeDocument/2006/relationships/audio" Target="../media/arrow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4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A bientôt …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176720" cy="34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9F83-1BF5-4EF7-870C-B02D1F0AB15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51859-D549-4C89-9883-57E83793D859}" type="datetime5">
              <a:rPr lang="en-US"/>
              <a:t>Jul 31, 2026</a:t>
            </a:fld>
          </a:p>
        </p:txBody>
      </p:sp>
    </p:spTree>
  </p:cSld>
  <p:transition spd="slow">
    <p:newsflash/>
    <p:sndAc>
      <p:stSnd>
        <p:snd r:embed="rId2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3033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3F7-F099-4CDD-A745-DF556DCFCB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BCAE4-369B-4DE1-B805-74E6EAC1213D}" type="datetime5">
              <a:rPr lang="en-US"/>
              <a:t>Jul 31, 2026</a:t>
            </a:fld>
          </a:p>
        </p:txBody>
      </p:sp>
    </p:spTree>
  </p:cSld>
  <p:transition spd="slow">
    <p:cover dir="d"/>
    <p:sndAc>
      <p:stSnd>
        <p:snd r:embed="rId8" name="arrow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767"/>
                            </p:stCondLst>
                            <p:childTnLst>
                              <p:par>
                                <p:cTn id="14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767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767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767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767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767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D014-7C06-4518-8D30-A321B3E2B1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25421-7032-4729-96A9-B59D7A190C5E}" type="datetime5">
              <a:rPr lang="en-US"/>
              <a:t>Jul 31, 2026</a:t>
            </a:fld>
          </a:p>
        </p:txBody>
      </p:sp>
    </p:spTree>
  </p:cSld>
  <p:transition spd="slow">
    <p:cover dir="d"/>
    <p:sndAc>
      <p:stSnd>
        <p:snd r:embed="rId7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8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7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2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3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63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8EC-9831-4D54-846E-870FA79F7FB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34646-AC71-43F9-A89C-DDF1422C965D}" type="datetime5">
              <a:rPr lang="en-US"/>
              <a:t>Jul 31, 2026</a:t>
            </a:fld>
          </a:p>
        </p:txBody>
      </p:sp>
    </p:spTree>
  </p:cSld>
  <p:transition spd="slow">
    <p:cover dir="d"/>
    <p:sndAc>
      <p:stSnd>
        <p:snd r:embed="rId1" name="arrow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54C-4603-4872-8E5D-FAE37A900DC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7F125-F850-4666-B2B7-18AC96E1E3EB}" type="datetime5">
              <a:rPr lang="en-US"/>
              <a:t>Jul 31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F75B-8153-4A29-9526-7BAC62CCCB6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A07E4-EA30-460C-A32C-10939C4D678E}" type="datetime5">
              <a:rPr lang="en-US"/>
              <a:t>Jul 31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 rot="13065600">
            <a:off x="7885080" y="5660640"/>
            <a:ext cx="493920" cy="49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37E-6649-4DD1-9C05-A32EBD2443C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15ABF-E7D2-4A4E-9348-BA2A05A6EEDE}" type="datetime5">
              <a:rPr lang="en-US"/>
              <a:t>Jul 31, 2026</a:t>
            </a:fld>
          </a:p>
        </p:txBody>
      </p:sp>
    </p:spTree>
  </p:cSld>
  <p:transition spd="slow">
    <p:cover dir="d"/>
    <p:sndAc>
      <p:stSnd>
        <p:snd r:embed="rId4" name="arrow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Motion origin="layout" path="M 3.88889E-006 3.17919E-006 L -0.23177 -0.22451 E">
                                      <p:cBhvr>
                                        <p:cTn id="123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7" name="_s21528"/>
            <p:cNvCxnSpPr>
              <a:stCxn id="128" idx="0"/>
              <a:endCxn id="129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0" name="_s21526"/>
            <p:cNvCxnSpPr>
              <a:stCxn id="131" idx="0"/>
              <a:endCxn id="129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2" name="_s21524"/>
            <p:cNvCxnSpPr>
              <a:stCxn id="133" idx="0"/>
              <a:endCxn id="134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5" name="_s21522"/>
            <p:cNvCxnSpPr>
              <a:stCxn id="136" idx="0"/>
              <a:endCxn id="134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7" name="_s21520"/>
            <p:cNvCxnSpPr>
              <a:stCxn id="138" idx="4"/>
              <a:endCxn id="139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0" name="_s21518"/>
            <p:cNvCxnSpPr>
              <a:stCxn id="129" idx="0"/>
              <a:endCxn id="139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1" name="_s21517"/>
            <p:cNvCxnSpPr>
              <a:stCxn id="134" idx="0"/>
              <a:endCxn id="139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39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7A19-E37F-404E-8526-27B675F7393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7BD9D-1A3A-41D1-AF8E-7B78AE6E2589}" type="datetime5">
              <a:rPr lang="en-US"/>
              <a:t>Jul 31, 2026</a:t>
            </a:fld>
          </a:p>
        </p:txBody>
      </p:sp>
    </p:spTree>
  </p:cSld>
  <p:transition spd="slow">
    <p:cover dir="d"/>
    <p:sndAc>
      <p:stSnd>
        <p:snd r:embed="rId2" name="arrow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A4A5-58F0-4ABD-816D-8D84F92AEE0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381F9-84A0-4861-94E1-6733E2EF20BA}" type="datetime5">
              <a:rPr lang="en-US"/>
              <a:t>Jul 31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5:31:29Z</dcterms:modified>
  <cp:revision>17</cp:revision>
  <dc:subject/>
  <dc:title>SportPro SA</dc:title>
</cp:coreProperties>
</file>