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480C-8189-4710-8F3E-7DBB4CFA6071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8E66-2C1B-4D05-ACCA-FAFFE7CF94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129-8E54-48E8-814F-F004453C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469-DD94-4F9A-9FC3-D14FD44B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A5E-775E-45D6-9373-66D5CA03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4CD-9F57-493A-852D-B0A08E43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5D1-F40E-4CFC-BF02-2271A3EC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32C-2204-4E8D-803F-FE9065B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77C2-B887-474B-A987-2318847A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A687-A41C-4235-A1F5-288CA16D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1591-1963-488A-8F52-A5E2D38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60A-3182-44DA-B486-F271F44B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EB69-EA42-4F66-AF24-A8807BB9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A9E-A8AD-4BB8-8268-322F6A5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10EE-55C5-4A26-871D-077A401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6D9C-03F2-4FA4-B8F0-6D6C1C5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8FA5-EBA5-4869-A4C0-AF46F20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52E0-0E1B-46F8-BA8B-3714CBB1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CC12-885E-4261-B1B2-312A06CC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F6F-C768-4DE0-8DED-22869DE7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178-A067-4BE8-96E0-8DF273B0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703-5F71-4BFF-A358-0C2FEA3D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79F-53F2-4980-B0FE-05CDB8A3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392-86F9-490F-A34C-7463D8A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DE2-020D-4E30-9022-A729191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3F2-1F9D-422B-8A62-1F1F08CD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1344-9C99-442A-A19E-5E82B71D45C3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039-CC5C-4087-9F59-0116D576D2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3A5-06E2-485F-9B8C-2EFCA8FB2860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9873-E395-4F80-BDA9-EF5F3493AD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9EA-6BC5-4378-900C-089DCB1DC95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E6B3F-773C-4EAA-BC47-B64A43D3E65C}" type="datetime5">
              <a:rPr lang="en-US"/>
              <a:t>Jul 31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194-3AF1-4F15-86DE-E00ACA707A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FC4AE-679D-444F-BA4B-C466DAAE64D6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09C-AB80-4E75-831C-9B8E30B50C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889AC-2A2A-4C2B-928F-2C3C937854B7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388-8FD6-43CA-8B98-1F7D7704DC0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352E2-D2B9-4884-909B-26BC5806F47B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FCA-2B90-4069-9186-82D4FA8DDA9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8703D-369B-40CC-9129-77DE04C6E1D1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033-E174-4B68-AA97-A933AEFB61D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4FA8D-88CE-4119-88EB-10A1764D85FC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DD6-5D06-430B-9172-2EC1547F69A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3A4C-621B-403B-A224-C8C5CB5359B9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47B-F33C-440F-AAA1-5734EEA6420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6A93E-5F9F-470B-AC40-0D6F1FA565BF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A4D-6629-47FE-99AA-A326A2DC92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D7A20-9A59-473B-9A7D-212EECAF97FC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51:00Z</dcterms:modified>
  <cp:revision>20</cp:revision>
  <dc:subject/>
  <dc:title>SportPro SA</dc:title>
</cp:coreProperties>
</file>