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8B35-1845-4EF8-A642-59C81BD518FB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B9E3-2FDB-42DB-9DB9-89C85C2BB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8B9-E220-4ECB-ABE8-F212AE08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AF3-893B-4578-B7DC-2DF66D43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CA0-6D81-4DFF-B6C9-08F024FC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FF7-1445-4D0F-9828-650E09C4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B82D-60B4-4FBD-984C-20D2A938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42A0-F6C3-4979-ADC5-D08C19C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4DDA-F2F4-4C80-8CBD-B1AA7D7B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A353-302D-4AF1-98C5-E100711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9709-6CBA-40C0-9ECF-DC1BE8F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E67E-4D4C-47FF-ACD8-99B0EA35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D56F-295A-4BD6-BACD-7112424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2BD-CEC1-4362-8CDD-44A0547D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1AA-1CAA-4C4E-956A-1AE06A1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0204-9BE5-43A6-A0F0-04CAAA4E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3EBE-7318-4A21-B2E8-EBAFFCD2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553E-908F-4B76-B4C7-BC80A7FA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804B-27B1-4025-96C6-5F9ECFAB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1A9-436D-4C5B-BC73-03FB3917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FD2-BECB-4874-A91B-F54B80D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CA8-627A-4D1C-8E17-C1D51A75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351-9F74-4025-9ACC-F5C8D7E3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3C2-71EE-4CC6-AC96-53FC317D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74E-398B-47FD-913A-6B5C649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09C-339B-4F02-9B8A-D47D987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14C2-6609-4D2F-A8AC-7B4B43724096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8024-DF11-47D0-AAB7-82E13E15D5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9401-0D26-4945-8A8B-F455F863B881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8939-C5D7-4776-B7B4-54A09427B9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825-B099-4639-81E5-9D262C2E403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C15EE-8624-48FF-B856-900ECC40A8FA}" type="datetime5">
              <a:rPr lang="en-US"/>
              <a:t>Jul 31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426-AF01-4153-811D-D1A3C25FE6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46A19-F72C-4799-B053-431AF94238D5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9A2-E539-405F-A777-90B6FF07D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7B530-E1EC-47DB-89BC-658D91C6D2DC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CAC-2C62-4929-8C8D-E8DD1267E87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4E022-8864-49DA-9B53-96DEBAC4245E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4F6-BBA5-470A-B9E7-37A2A9D4C13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6E8C9-4D49-4917-A43E-C1923E07BE96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377-160E-45EE-9F6F-8472EC8D4CC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498D0-2894-4277-B16C-7017A1E80535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ADD-95BA-4016-B0DB-964B98DEA6F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2E448-7AD7-46A4-A1C6-22B382B2385D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87C-C90D-49A5-A582-219FB6411A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1B554-39E6-49D5-9B77-40D344FE4A0E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11D-C62E-419E-8901-123E5D7A2A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EB8CE-5A76-4F9C-8D5B-23F5203019B9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6:00:36Z</dcterms:modified>
  <cp:revision>22</cp:revision>
  <dc:subject/>
  <dc:title>SportPro SA</dc:title>
</cp:coreProperties>
</file>