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F91-62C1-4995-9760-5DBF4C86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88C-4768-42BE-8229-B207D1F1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8A4-5107-4D4A-A12A-EEB74F0E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BE3-69F0-4223-AED8-85E1888A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647B-8A48-4203-AE78-F132FA77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1BFB-1BB0-4D6B-BC49-1DF137A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9AFF-A963-4595-ACF5-B5B36796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13EC-B813-4BFA-9384-C2541E8E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AFB7-4852-4D40-9185-6B9E493E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83BC-2FF2-430C-987A-7EEE7903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F36E-56B2-48FD-A465-D982DE5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E2A-81A0-46FF-A9A3-232E526A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2A47-608D-4401-A40F-4C0AB06A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7840-917F-4349-9A35-A8228AD2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D77D-F77F-421D-ABA0-93103146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949A-7F43-4103-8885-AA4A3BC2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5160-1875-4B27-AD08-B411B957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C3E-7F8A-42F5-9563-92600F99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B73-A038-494A-AB43-523563FF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169-E302-44F0-B19A-CF8EA795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727-31C9-4F79-B5E7-5D1FACF9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62F-A437-484E-AC59-71C99E9A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366-9719-40C7-BE71-006B9598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A58-F0CC-4320-91FC-8211C6A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8A13-2FE2-40DA-80AD-FA9968934C45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228B-7930-44E2-B374-5F2454CF1C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5A0E-E52A-4DD7-8EB2-873AC65BD5AD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3D39-3603-4D7B-A65B-C50A5BA6A0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 SA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égl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s sur notre circu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A8F-9444-4977-99D3-37EC6271C7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81A05-385E-4807-A847-F04FC016A2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E78-1796-4E67-9B35-D7EE20D91B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E0546-4252-4640-A2DF-8EE0E6C473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1:06:38Z</dcterms:modified>
  <cp:revision>2</cp:revision>
  <dc:subject/>
  <dc:title>SportPro SA</dc:title>
</cp:coreProperties>
</file>