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68E6-3322-4622-A5A5-D911EA903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1BAC-9BCC-44E8-AE19-4761448C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A654-7847-4A47-BDAA-E730BCDC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F192-8120-4630-BEAB-A97001EB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4924-C6FB-44C9-9021-D1319220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D678-6392-4E47-9071-F1B33611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3A1C-D907-4E29-8E14-4715A420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7444-C350-4B15-8C96-5870FF7A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B5D2-A2F5-4208-A758-7C8EAE20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28BB-82CB-41C6-A8AF-6BB02A6D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FDD6-C4BB-42DB-A9E9-AD6924AD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8670-8504-4E7F-957C-414EE67C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CF79-A509-40A7-B6D8-974C1766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83DB-C12F-43F1-823D-0F014C1D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7A11-7979-4BEB-8E55-2FB804FC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4C19-1644-4AE6-8350-B5AB8777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AB5C-56F6-493A-9066-51603482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8F81-09F7-46DC-982A-AADA1D99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6E88-4D12-41E3-87B5-AA692FE8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99B3-9ABE-4DF2-9A59-3EA4E673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556F-269F-44BE-9B28-AB6613A8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4602-C9D3-4B43-90A2-FC50D7F1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D926-6753-4EAB-AD6D-E133604A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7B56-CD90-41A5-8BCF-BC3DB2D0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33D2-3B4A-4695-B861-423ADC070B33}" type="datetime5"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31 juil.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B18D-08E7-4E5A-B592-CFDA57FA8965}" type="slidenum"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00AF-B2CF-4F1E-90D0-36B367520565}" type="datetime5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31 juil.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D950-D0D9-49C3-9E8B-4B925A015A09}" type="slidenum"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B0AF-74B3-4E5E-8991-D0455B7B794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574CD-0F09-44D5-9BC8-C29D7860BF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66B4-F571-49F3-ACFC-7AE547A3F9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82967-80B7-4E11-AE88-02DA6F034B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3T18:59:21Z</dcterms:modified>
  <cp:revision>3</cp:revision>
  <dc:subject/>
  <dc:title>SportPro SA</dc:title>
</cp:coreProperties>
</file>