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D010-3A01-4201-A0BC-39672848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E58-ED2D-4144-8D51-F4F0BBFF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735A-9B52-4FA1-8A3A-F2593DD5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B52-EACC-4C09-85D3-59701B83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1B88-F7BA-4987-9364-6A92A71D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426D-B7F2-437D-A87E-19DEC489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8807-80AD-4E41-8CA9-C1867687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5683-531F-4AB9-8FEB-6F94F21A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5DE1-494F-447E-B9C5-39894841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E3A6-14FE-4FD0-9B44-4AD6DE56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2063-F440-4AA7-AAD3-AE9958E4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06F4-02BC-45B8-8D95-A9228CAF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AC6B-C4AD-412A-8198-55340B61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3C52-A2F0-4D5D-B906-78EA5B64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6A63-EE91-4B9F-8D2C-3C4DA2A3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AD1A-6685-431F-BAAB-66D29633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72A2-2858-40A7-85E0-D267A72C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676-4F31-475E-93BE-8031511A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92AC-F86F-4115-8F82-9DD151BD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B327-F4CF-4B72-8CC3-489F8120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34F-A5A9-4B14-AAD9-A0EBAC7B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55A3-C4C2-437F-A32D-FA912960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95E8-8468-4C6B-8134-C0DC2F0E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DA4E-CBDF-4784-882F-1ECD2A67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73C5-A01C-4E9D-BAEC-E4EA001E7AC9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91BF-B9E6-406A-ACC1-AF6BB0E801E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8746-E910-4777-934A-5C2C61B02115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9DCD-90E5-4F16-A493-0B6F722EB1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5F3-48D2-4194-AF85-F0FD43032EF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C23AD-8262-4547-8503-5225153DEC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6949-CEB9-4ACB-B0BF-36553A29D5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C4A34-A759-4C4C-902D-79965B4D44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9D1-D048-45E4-B780-02C202AAC17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B72A2-5226-4888-9F9A-CA89ABB251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0B4D-9D0E-422D-9BE6-D807E1C7468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53E5E-14C8-4F3E-A4EF-523EDDB20B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C1F7-1AC0-4D88-A00C-15407D123B0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7E3EB-2DC1-4E51-9D47-C6903FF9DF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3T20:08:26Z</dcterms:modified>
  <cp:revision>5</cp:revision>
  <dc:subject/>
  <dc:title>SportPro SA</dc:title>
</cp:coreProperties>
</file>