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364-0248-4BC2-82EA-2BD2DD73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44D-C03F-475C-877C-96CFEE75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3E9-D95C-44A2-BA7C-75461E98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B58-5BAC-4994-BC1D-B3E8EFF4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9795-6481-4F37-91A6-BF2A6C5B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B0A2-BAB8-45E3-9D6A-8CC38648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00C4-4A0C-45AF-9AC8-FE4A8C5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446F-4332-4D85-834B-02A07132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1C94-0ADC-42CC-A37F-8D9CE2F9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A1F2-A4EC-4FDE-BC58-DE252D0D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655D-332B-4729-828C-2EF0BD17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7CB-B48A-4C97-B2E5-497B38D2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B286-9834-4A80-B192-F5DF5E7D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5FCA-7570-4E96-ACD8-0E9166E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C3A9-27F9-407F-824B-C271B1D3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2A7A-DD80-4FD1-94AF-39877533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F89D-CAA1-4BA3-99EE-36D12B6D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177-6661-4E1E-82B8-E897C515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504-D9A9-407C-8CFC-2D1FB5B2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74A-19BB-4C82-9973-CDF5FCCD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352-5424-4469-8A2C-9262D18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ECB-7929-4AAE-A6FB-55D9652E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3FE-C9A9-42FD-8591-610BA5B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998-6982-49FA-AF7A-29E29E34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9874-4AB9-486D-ADBE-CF0BE10516EB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7182-BEB2-4F1E-97F8-E755B27480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E1D-1F47-488D-9B5D-986C9E61C63A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5240-6470-44FF-AABC-F4898EB9AB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521-5EFC-42A2-AE13-1DEF6427DF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52AE4-4BC8-4703-A5E4-D72E760224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B22-C321-4A94-B92B-49C8C10539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E4A03-0B30-4CEB-BD6A-730B95A48E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D8D-F991-4EEC-936F-F2E92869BAF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9F585-6392-47FA-B08B-8D7409E608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A72-F3C9-4933-B1E8-B5BECE9D1FF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D8A50-0775-414D-8B60-F43D5BD626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3C2-039F-4963-B557-6BB99967DB7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B1220-FE6C-407E-B6E3-00AA428A4C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8D0-2BD7-4506-8AFD-06945C82A2F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A151A-4115-432F-8196-7C106948F1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5" name="_s21528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18" name="_s21526"/>
            <p:cNvCxnSpPr>
              <a:stCxn id="119" idx="0"/>
              <a:endCxn id="117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4"/>
            <p:cNvCxnSpPr>
              <a:stCxn id="121" idx="0"/>
              <a:endCxn id="122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3" name="_s21522"/>
            <p:cNvCxnSpPr>
              <a:stCxn id="124" idx="0"/>
              <a:endCxn id="122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0"/>
            <p:cNvCxnSpPr>
              <a:stCxn id="126" idx="4"/>
              <a:endCxn id="127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8" name="_s21518"/>
            <p:cNvCxnSpPr>
              <a:stCxn id="117" idx="0"/>
              <a:endCxn id="127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17"/>
            <p:cNvCxnSpPr>
              <a:stCxn id="122" idx="0"/>
              <a:endCxn id="127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7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71F-A291-488D-8CCE-CDE4E4C0546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B9980-6754-4F61-916D-5E611CCC04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53:06Z</dcterms:modified>
  <cp:revision>7</cp:revision>
  <dc:subject/>
  <dc:title>SportPro SA</dc:title>
</cp:coreProperties>
</file>