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2AC-C4AA-454C-842E-62FB4468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2B6-D482-41C1-8A77-9C7A4588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A10-D012-4EC2-A1E8-A641924F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2A3-B795-415A-8E26-45D4D7BA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A017-C398-45CC-B971-64509331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7AEA-9BD5-443D-B148-9742109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CBCD-2C69-4C41-9BC7-58905E4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A44-EB52-4E11-86E4-F422F915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59EA-0F94-4CD6-96A9-7684FEB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4B76-14E5-40AF-B421-36B14C4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E41-2C0D-489C-B9B9-20FF9D0C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E71-4FCC-465C-A03D-1B48816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B13A-F77D-4A7F-AC63-5762C97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7688-A759-4E10-957F-589EE6E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6B86-4DE3-4222-819B-48AA4189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51A-30D7-49EE-8599-4587863B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B1C-3D20-40C6-9FE7-726EFBE5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BC8-87D3-4918-86C5-F2574120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BCD-EBAD-4B4B-BCED-82BB3B6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3BE-ACEF-4050-B3A2-55E77FD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6B3-81A5-4102-8309-880E5767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A9F-F71C-4E25-A072-540F6E9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0AB-C165-4D80-9180-4D736C6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A2F-C031-4D14-B669-8A03D64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58C6-3268-4372-A20B-5969B98D9A8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FABF-F535-481B-96F6-CAA38A0004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B61F-A502-4691-A7E9-77B5E43D5DE5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7264-7477-46A7-9241-C36473830A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568-A4BC-420A-9F49-0EC539999B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F82F4-D28F-4083-8CE2-43A8ED1D4E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ADE-BB31-438D-B450-C9E6007940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FBD5D-2C80-4E72-A8B7-5CFA8A80E3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53F-7554-45AE-B0C6-0148355A72C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2CEE3-D488-466E-91D7-4CBD671C90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450-E62F-4652-9073-06BF14BC6CF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DB4F1-9F0A-484B-AF09-A67F1E7C5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971-8961-4872-925F-EE16081E327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B6878-72F7-43BC-8DCC-33971C59A3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B19-3DDD-4C40-88C4-C948FB91FF2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5A04C-5AEB-4A46-947D-B8A6E21DAF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7" name="_s21528"/>
            <p:cNvCxnSpPr>
              <a:stCxn id="118" idx="0"/>
              <a:endCxn id="11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6"/>
            <p:cNvCxnSpPr>
              <a:stCxn id="121" idx="0"/>
              <a:endCxn id="11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2" name="_s21524"/>
            <p:cNvCxnSpPr>
              <a:stCxn id="123" idx="0"/>
              <a:endCxn id="12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2"/>
            <p:cNvCxnSpPr>
              <a:stCxn id="126" idx="0"/>
              <a:endCxn id="12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0"/>
            <p:cNvCxnSpPr>
              <a:stCxn id="128" idx="4"/>
              <a:endCxn id="12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18"/>
            <p:cNvCxnSpPr>
              <a:stCxn id="119" idx="0"/>
              <a:endCxn id="12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17"/>
            <p:cNvCxnSpPr>
              <a:stCxn id="124" idx="0"/>
              <a:endCxn id="12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686-DFDC-432A-B26F-F766435DE4A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8E0B2-5EFF-496B-85CD-A5F4C9191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FCB-C406-40BF-97DD-235AD2C552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7FEC8-A4DF-4E4D-98FB-C8256DFB96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14:45Z</dcterms:modified>
  <cp:revision>11</cp:revision>
  <dc:subject/>
  <dc:title>SportPro SA</dc:title>
</cp:coreProperties>
</file>