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13F6-3BE9-454A-A414-F4495B9C3D3F}" type="datetime2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5EB1-4AEA-4B27-8962-F293DE487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EC6-AA0E-4D32-AE6F-F760D391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3DB-D89A-41AF-9D00-B80910CB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7353-C02F-4455-95A1-DC90195B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968D-144F-4AE8-9E4D-F6A824D3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DF7D-5B97-491C-86D9-B613039A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1A4A-946C-46E6-BEAA-568DF6F3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314B-832E-4651-871B-828F2B67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051A-05C5-46A5-9F91-C47600A1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6D37-8722-4125-B876-9837ED78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83F3-19A2-4B17-85B7-E37F2F0E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557F-EB21-4B79-95B4-37B886CE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7E4-3146-47C7-AD12-8AC181FC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8204-B598-4F9D-9601-AB204A42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3D13-EAF4-436B-A5BB-FC72A656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1808-B76E-4B1F-8244-530DF287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842A-3550-46C8-8BF2-CF47F1C5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3DB0-EB37-4DF5-9220-0D72A62D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2CFB-3FF0-457C-8055-74E7314C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416-564A-4929-9FB0-D73D8851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68C-AAEA-4F57-AFA0-F88632EF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3AC5-64AF-4187-B5C2-0AC4059B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505-DFE8-4798-8E1D-19E6726F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4F57-B13A-43EC-9D48-F4222CE1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62C-0582-459F-8112-CA6B324A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2525-5AC4-437D-82CD-25FFEF2AA3BD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3292-4CAF-4FF5-864F-80ACD0DDC28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6C18-2A7F-40C4-A5AA-60CB31FD0177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7B4E-2CD4-48EE-BECE-49F5EF555DF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FA2-3607-4337-8AB9-C3D490E37EA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FC07F-1AC7-4132-9D14-69B9E4790A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2A2-1EAD-49B3-B719-B9E45C0ACA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CC5E2-EFF7-431F-A126-FAAD6086B8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947-4E04-4D14-9034-97B0EE513DD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70895-C535-4421-8296-7AB090BAE7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50B-43FA-4450-A1FE-F399D662CAD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6A6E1-7A3C-459A-A485-532A1BE2E6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14C-93E7-4A29-877D-8A5FAD17FF8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41155-A9E3-4DA8-9621-796FDC4BAD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81A-37D2-4977-8191-BD238234246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6DA56-38F4-423F-AC5A-C0EF4D83BF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4" name="_s21528"/>
            <p:cNvCxnSpPr>
              <a:stCxn id="125" idx="0"/>
              <a:endCxn id="126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7" name="_s21526"/>
            <p:cNvCxnSpPr>
              <a:stCxn id="128" idx="0"/>
              <a:endCxn id="126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9" name="_s21524"/>
            <p:cNvCxnSpPr>
              <a:stCxn id="130" idx="0"/>
              <a:endCxn id="131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2" name="_s21522"/>
            <p:cNvCxnSpPr>
              <a:stCxn id="133" idx="0"/>
              <a:endCxn id="131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4" name="_s21520"/>
            <p:cNvCxnSpPr>
              <a:stCxn id="135" idx="4"/>
              <a:endCxn id="136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7" name="_s21518"/>
            <p:cNvCxnSpPr>
              <a:stCxn id="126" idx="0"/>
              <a:endCxn id="136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8" name="_s21517"/>
            <p:cNvCxnSpPr>
              <a:stCxn id="131" idx="0"/>
              <a:endCxn id="136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36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269-6CB0-473E-9763-A19036E9711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FF269-5553-487D-8900-B1612C1C65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B5B-44EE-4399-936B-9D531E87034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1A926-6F65-4573-AB78-8920705A0B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3:24:59Z</dcterms:modified>
  <cp:revision>12</cp:revision>
  <dc:subject/>
  <dc:title>SportPro SA</dc:title>
</cp:coreProperties>
</file>