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B0B2-131C-4471-ABE3-DECD5ABFB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3D6E-97D7-4C4D-928F-FF940373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C37B-32B9-4004-8279-BBE5B64AD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7C17-8198-4BB3-B7EE-03F62333C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29F9-08A2-47B5-BF5D-55E9E8B5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4A68-A15E-4372-96B7-1DABED53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4C53-4A8C-4B73-A114-2C309BAF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1233-D01B-45A7-A92E-FBC275F5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D0D0-F8AB-48D5-B97A-72C1376D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F944-2C25-4FF0-8C21-DC82F10E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24BD-048A-4292-A998-5A291E24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FA8E-5ABF-4C80-8409-ED95A9F2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9E41-B4F3-4A9D-97AD-8C745C26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E08D-F29D-4CEE-B5E2-B27EA064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F3FB-68C5-4655-908B-FCE0FC3D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044D-916F-420D-9FF7-BFC966AA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2D4B-95E9-425D-87C0-5C1F7F72A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21FA-AC5D-4FAA-8D7C-C855F7A6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B4F7-2531-4D2E-BE0D-2A03C34B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54E9-38D6-4C3F-9387-1520AD78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239F-F48C-4014-BC05-C088A852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A465-8FB8-4576-84B4-94F12402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B203-75A5-492F-BAF2-756839D4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2FAD-3AA4-4CFE-8909-09B1DE7A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5758-9DFD-4E26-91EB-7781AA9FB592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327D-7891-47E0-A99A-CC19E886728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BE13-1CF4-40FE-9879-4C9BF4E48E64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3818-3541-492D-96FE-27A45A94A1E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 SA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égl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sts sur notre circu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A2BC-4DE2-4F25-B6A0-8014C8725CB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71837B-549B-4A3E-B81C-E2A5C912AD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E93B-0F2A-4180-BD8E-2F367B838B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B3C6B8-B645-471C-9664-3D9EAB5BC4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3T11:06:38Z</dcterms:modified>
  <cp:revision>2</cp:revision>
  <dc:subject/>
  <dc:title>SportPro SA</dc:title>
</cp:coreProperties>
</file>