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E3A-4803-4CD5-8563-F72EA6E3FBCC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596-B227-425B-9600-12FD37D9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B74-F8BC-4FC3-B2EC-6F5A02BA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F82-FFDD-4E85-85B4-38C445AC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06B-8B98-4BC3-872D-76CF0BC5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F43-3237-45B3-9AD0-02B3C46B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B508-BAD0-468D-8C71-A7EC5E53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4725-0AD7-40CF-9CF0-269DBB9B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2F0-D2E3-4E35-94A6-0B9313C3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E93-956A-447C-9E95-3456FB28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B08A-377F-45BC-BD7A-EF2AFD5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33B-83D7-456E-945F-EA5FE7E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BCA-F625-4251-9B8F-3EBB90F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A5C-5D9A-4761-9635-8D4023A7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7A37-E1BC-4057-8202-458D9FC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331-12C4-4C1A-97A8-25E3E96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1583-04DD-4650-B236-6EF0C0A8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3066-05F1-497D-B4D1-15BFF711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683-8CD1-43BE-96EA-74BB15C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725-CA1C-4385-8F6B-6DB0E2B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032-4B32-460A-9C10-070278C2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47B-0986-4C76-9398-1F550F0D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866-6F79-4693-8B1A-AD6F4BE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2C5-5109-4A03-A427-C8351EB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A77-A66C-4637-B2DB-5E87183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649-5A51-4CE7-BE7A-8F1A3DA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3099-EC0A-4896-BAAB-BBEC54337009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4B9-7770-4069-B109-B2F0AAD1B6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7B94-6C6A-4559-A040-5394CCEEB3A7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4EDA-9716-4EC4-AFF9-E9FB6D1EFE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77A-C83C-4FEC-BD1D-17F7847767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FA5B-0C22-4A8D-A303-78304FCEE4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A3-0CD1-4BBD-BDE2-874A08E905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E296F-760F-4308-87F9-32B62F2655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C84-11E2-4C85-9F14-61E5F57CCB0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B328B-59A7-494D-9316-97C6346975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B44-0A45-418E-8378-1D00DC6535A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7F1E2-4792-4858-B4D6-947548F3FF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290-8563-4B38-B876-977BAB21A52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51C72-EBA2-409F-A364-7A4FF9F2AC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2C6-A3D0-4A5D-881D-693B89D2C06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DD25B-8CE2-437B-B3AF-B801C35879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4" name="_s21528"/>
            <p:cNvCxnSpPr>
              <a:stCxn id="125" idx="0"/>
              <a:endCxn id="126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6"/>
            <p:cNvCxnSpPr>
              <a:stCxn id="128" idx="0"/>
              <a:endCxn id="126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4"/>
            <p:cNvCxnSpPr>
              <a:stCxn id="130" idx="0"/>
              <a:endCxn id="131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2"/>
            <p:cNvCxnSpPr>
              <a:stCxn id="133" idx="0"/>
              <a:endCxn id="131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0"/>
            <p:cNvCxnSpPr>
              <a:stCxn id="135" idx="4"/>
              <a:endCxn id="136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18"/>
            <p:cNvCxnSpPr>
              <a:stCxn id="126" idx="0"/>
              <a:endCxn id="136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17"/>
            <p:cNvCxnSpPr>
              <a:stCxn id="131" idx="0"/>
              <a:endCxn id="136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6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431-8894-4A03-897D-85D8528DE6B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7F6B6-53A9-45FE-BC28-DB2A146AEE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104-D6E9-48A3-ABFB-A21DF6653B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E868-3CDF-4DAA-9890-1F1379C1C4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24:59Z</dcterms:modified>
  <cp:revision>12</cp:revision>
  <dc:subject/>
  <dc:title>SportPro SA</dc:title>
</cp:coreProperties>
</file>