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30A4-43EF-4E3A-A085-E2E6C0E41385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B961-684A-4528-AD0F-BA780CA175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72E-447F-4635-8994-7E9E0963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12E-E23D-483B-9381-6C8B9F0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44E-28EC-4BCF-9DC6-C106086E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863-9913-4038-933A-75307C72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103-DAE6-499C-8B55-610D33E3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B634-18EC-4058-A02B-954FFBF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0EA-E856-47BC-80D4-D892524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8233-3FE8-4488-B7A5-EC1D2229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41E-BA5A-42FC-BE93-7DD17A7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9F4E-57B8-400F-896F-B0008EB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362-AC7F-4CA8-8449-6AEA534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8D7-68F9-404D-855D-D8CD341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B32-51BD-4E41-AA79-C68044B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F650-BF05-4E36-AADC-4F96E54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D339-6651-447C-9989-D99D813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993D-2AA6-4B6F-B500-97AAFFA9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967C-83B0-4D72-A687-1FCA7505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C9B-C6FF-459D-872D-F1F2685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2EF-CE58-477E-AA25-DB5930FE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433-FFD8-4131-A3E2-FBD820E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06D-9582-478C-A378-7DF65CD4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C18-9D5D-4118-8040-48AF336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857-F4FD-4BEE-BE88-66BD999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42F-903A-426A-893B-520088C4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DF41-7945-44B0-8E6E-B4F62045193A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0B0-E504-40A9-A99A-62D03B8F4E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EBD6-277B-4EFF-B68D-9BD5FB43B986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93F-A1E0-4962-B789-24E17588A9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C:/Exercices%20PowerPoint%202003/Locations.ppt" TargetMode="External"/><Relationship Id="rId3" Type="http://schemas.openxmlformats.org/officeDocument/2006/relationships/hyperlink" Target="http://www.allsportauto.com/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audio" Target="../media/arrow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79280" y="18900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040" y="11592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Véhicules à lou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760" y="404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Notre site Web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843-D3E9-46E5-B24B-183F63EA4D2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9A078-6432-4BA6-9B81-20F1A0031B2B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4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D3D-6775-40AA-9953-E6A0AD3DF2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00F34-10BA-4396-872B-1549B7B5D761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67D-8D96-48F9-AE24-CFCDE80D6A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E268B-3D83-4775-B69F-B1A9C26F057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9F6-384B-445B-8F4F-11311CE4A8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E1D0-038E-4903-A88D-A283140C18D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30F-662A-41BB-81D3-0C39CBE1C43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85BB-BEEA-4B8A-A13F-8FA518DD520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8A4-A447-45CA-9CD7-13CCFE4EC7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0E75-2B5B-4967-A819-9F17E71256A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50920" y="18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90" h="21600">
                <a:moveTo>
                  <a:pt x="1084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90" h="21600">
                <a:moveTo>
                  <a:pt x="8269" y="8224"/>
                </a:moveTo>
                <a:lnTo>
                  <a:pt x="12133" y="8224"/>
                </a:lnTo>
                <a:lnTo>
                  <a:pt x="12133" y="15221"/>
                </a:lnTo>
                <a:lnTo>
                  <a:pt x="13421" y="15221"/>
                </a:lnTo>
                <a:lnTo>
                  <a:pt x="13421" y="16144"/>
                </a:lnTo>
                <a:lnTo>
                  <a:pt x="8269" y="16144"/>
                </a:lnTo>
                <a:lnTo>
                  <a:pt x="8269" y="15221"/>
                </a:lnTo>
                <a:lnTo>
                  <a:pt x="9557" y="15221"/>
                </a:lnTo>
                <a:lnTo>
                  <a:pt x="9557" y="9129"/>
                </a:lnTo>
                <a:lnTo>
                  <a:pt x="8269" y="9129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8CC-F04D-441B-B9EF-AB2EA715D96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621CA-B7C3-4354-9DF4-4DB81892CB3E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8" name="_s21528"/>
            <p:cNvCxnSpPr>
              <a:stCxn id="129" idx="0"/>
              <a:endCxn id="130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6"/>
            <p:cNvCxnSpPr>
              <a:stCxn id="132" idx="0"/>
              <a:endCxn id="130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3" name="_s21524"/>
            <p:cNvCxnSpPr>
              <a:stCxn id="134" idx="0"/>
              <a:endCxn id="135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2"/>
            <p:cNvCxnSpPr>
              <a:stCxn id="137" idx="0"/>
              <a:endCxn id="135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8" name="_s21520"/>
            <p:cNvCxnSpPr>
              <a:stCxn id="139" idx="4"/>
              <a:endCxn id="140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8"/>
            <p:cNvCxnSpPr>
              <a:stCxn id="130" idx="0"/>
              <a:endCxn id="140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2" name="_s21517"/>
            <p:cNvCxnSpPr>
              <a:stCxn id="135" idx="0"/>
              <a:endCxn id="140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40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C5C-8945-44F8-8AB2-A9097CE785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AEC84-FE10-4A1A-94A7-D4F5AD49177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8FF-9A83-4D59-9475-903B2EDE2A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EC092-FC33-4882-B8E5-C60576ABFA03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51:00Z</dcterms:modified>
  <cp:revision>20</cp:revision>
  <dc:subject/>
  <dc:title>SportPro SA</dc:title>
</cp:coreProperties>
</file>