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59FF-C5C6-4C4C-B4C8-BF5921AE3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0677-1986-4F24-82B6-4A3261659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F735-6A62-45DA-BBCA-B173A9FE4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B1EF-FC36-46EA-B6E0-785E4BBE8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554B4-2F42-4916-9048-E2132C968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A5862-0850-4A3A-AC1A-07D6F01E7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6EFD8-C4B7-40C9-8657-F7BA1BBCE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9B058-9F3A-453C-8691-D1CFFAFB1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055F2-A54C-41AC-96F2-0940205FF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C9DD4-058C-496D-A289-3B431171B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C251F-A884-4FEA-826E-17F0AD41F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86B4-F663-4B28-B9D3-D49322DA6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6235E-DFEB-4EFB-B481-AA235C19C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50178-8F01-4922-BBEA-F57C10D05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C45EC-34CD-4621-9682-4FEA8ACA8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2D8C8-ACB0-40B7-B018-3FFC899FC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58682-874A-4128-9539-7EF6D2971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18B4-D546-4220-A945-609CFBEBC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8C83-26D7-4444-99B3-3F3559031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581D-5E27-424F-9D59-B63CE817A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3C05-F227-483D-85FB-9E673914B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D8F1-F1A6-4566-83BB-E2315E5A1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E135-6280-4966-A540-4CBF4E867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3E9E-3554-4727-8FE9-AB4A45C0A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3058920" y="6237360"/>
            <a:ext cx="21301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FDDAE-FC7F-4B9B-AD59-921140EC3ABD}" type="datetime5">
              <a:rPr b="0" lang="fr-FR" sz="1400" spc="-1" strike="noStrike">
                <a:solidFill>
                  <a:srgbClr val="003366"/>
                </a:solidFill>
                <a:latin typeface="Times New Roman"/>
              </a:rPr>
              <a:t>29 juil.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32AEF-EC16-4EE9-95BD-1E8256641F16}" type="slidenum">
              <a:rPr b="1" lang="fr-F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35873-888E-45F6-8671-C58B69F4895F}" type="datetime5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29 juil.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B469F-967C-4D2E-92B6-FB2DD9B4A12F}" type="slidenum">
              <a:rPr b="1" lang="fr-F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66ff"/>
                </a:solidFill>
                <a:latin typeface="Arial"/>
              </a:rPr>
              <a:t>Click to edit the title text format</a:t>
            </a:r>
            <a:endParaRPr b="1" lang="en-US" sz="9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Click to edit the outline text format</a:t>
            </a: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9810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66ff"/>
                </a:solidFill>
                <a:latin typeface="Arial"/>
              </a:rPr>
              <a:t>SportPro</a:t>
            </a:r>
            <a:endParaRPr b="1" lang="en-US" sz="8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TOUJOURS À LA POINTE DE LA COMPÉTITION AUTOMOBILE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Notre gamme de services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2268000" y="2636640"/>
            <a:ext cx="5534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arage de Saint-Deni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ièces détaché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arage de Pontois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mise en éta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éparation des véhicul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ssistance en cour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C6ED-3467-4ABF-868D-CDFE3C1A67B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2D084C-7AF8-492A-8AED-3055883F21B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322920" y="76428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SportPro Préparation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24 Heures du Ma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allye de Tunisi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aris - Daka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rophée carrera Cup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rophée F3 Classic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rophée Lotus Sev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A1CA-AA67-4254-9257-99B6CF6B187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43A982-EA63-42ED-91F5-819007B2561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3T10:49:52Z</dcterms:created>
  <dc:creator>Pierre Ballantin</dc:creator>
  <dc:description/>
  <dc:language>en-US</dc:language>
  <cp:lastModifiedBy>Pierre Ballantin</cp:lastModifiedBy>
  <dcterms:modified xsi:type="dcterms:W3CDTF">2004-01-13T18:59:21Z</dcterms:modified>
  <cp:revision>3</cp:revision>
  <dc:subject/>
  <dc:title>SportPro SA</dc:title>
</cp:coreProperties>
</file>