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2BA-9FF9-41AC-9D9B-EBB8E130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64DC-738B-4EE1-B3A8-595BF8E7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9C7-A972-4918-B24E-E43F902A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4DC-60C1-478A-888C-CE165548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9204-10BA-4C6B-8A06-E79432BA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8322-DABF-4D0D-9746-B9E9A768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2307-E478-4E8B-A942-C589E0E0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1E64-388F-4AE6-9821-CF5FA74C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6C50-C076-4D71-A4DE-3198549B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B299-CC9A-49BD-82EA-CF1CE010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5582-B61C-4A6F-99CE-AD5B7419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5F7-ECF8-47FB-8B5E-F935C326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3809-7E85-498E-AD06-B6473F88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80AE-0C6F-46A9-8116-29DA40C0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0C72-8CD4-4178-8193-D8792984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0715-A9A5-4CE3-89BE-830B42D6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5C34-0E90-4BE1-9102-16A420BD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987-3919-4164-B1FA-79BA592D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963-5B06-4A2F-ACA4-2EAFD13D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87DE-A55E-434F-A9EF-81241B40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959-8C1C-4710-ACC2-59A0523D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E8F-64F3-481F-AD34-23276E6A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5DD-C1B0-4669-843A-AB4351CB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7F9-B390-40C4-94FF-628ACC60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E89A-8D57-4459-8919-A544667FC3E9}" type="datetime5"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29 juil.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247A-70B3-46D1-A4D6-4720FA7A4F47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3D0F-8836-4498-BF98-6143DC55C634}" type="datetime5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29 juil.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7B21-F576-48A8-989D-2277B1ABB4D4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150-1A98-4D38-A932-EDAD0B6645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83ADC-EC66-4798-8286-972606F2E5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C5B-03B2-41AB-9BEB-0336649465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AEF2E-41C5-46F6-9F1B-1EF66CD88E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3T18:59:21Z</dcterms:modified>
  <cp:revision>3</cp:revision>
  <dc:subject/>
  <dc:title>SportPro SA</dc:title>
</cp:coreProperties>
</file>