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61C-8296-40BE-979A-019DE2F2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DCF-09EC-41FB-BFED-133CD030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90E-2E95-48B7-9A7B-CC862812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EFE-A61F-4F92-A449-996FE61D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F17E-F912-47AF-9524-ABDD1EB3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0D3E-DDFD-418D-8CC9-80CDF60F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58F-D50C-4EF0-80A3-054B7AC9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03AA-1D77-4072-9237-01A3BD06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C1F6-24DC-469D-833A-756A4C95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FBCD-53BC-4C6D-AA4D-32093995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AC1E-C0CF-4487-AD54-3F365B80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C1B-C9BB-4663-A20C-98D8AC77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C61A-725B-4073-9C49-7D9934A7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6F31-8C25-4AE4-920C-35F40E75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93C9-860A-4265-8475-199AA382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E6B0-F826-4D7A-957D-5E85565D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B571-F4D7-4F6E-8A54-B1ADFAFE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A1C-F881-4ADE-8FDA-7095087B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CCA-B01E-4CDE-B659-40AA16ED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92F-B838-4E4C-A120-6491DFB1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393-B023-4754-8AFD-33438DB3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5CE-CC14-41B2-94BD-FC9FF48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BE9-24A3-4D0E-90A0-8817F907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01B-DF8B-4C83-91FC-2DE61502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0921-2FF9-4D96-AA10-C5A83DE395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A66F-9A4E-4548-AE81-2F068D3C49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sportauto.com/modules.php?name=Search&amp;query=&amp;topic=701&amp;author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60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Véhicules à louer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r tout renseignement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 45 23 56 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Stage Caterham super sev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144960"/>
            <a:ext cx="16574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rsche 91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56092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rrari F 35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68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MW Z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55436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6:46:09Z</dcterms:created>
  <dc:creator>Pierre Ballantin</dc:creator>
  <dc:description/>
  <dc:language>en-US</dc:language>
  <cp:lastModifiedBy>Pierre Ballantin</cp:lastModifiedBy>
  <dcterms:modified xsi:type="dcterms:W3CDTF">2004-01-13T10:08:20Z</dcterms:modified>
  <cp:revision>5</cp:revision>
  <dc:subject/>
  <dc:title>Véhicules à louer</dc:title>
</cp:coreProperties>
</file>