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5.png" ContentType="image/png"/>
  <Override PartName="/ppt/media/hammer.wav" ContentType="audio/x-wav"/>
  <Override PartName="/ppt/media/applause.wav" ContentType="audio/x-wav"/>
  <Override PartName="/ppt/media/image1.png" ContentType="image/png"/>
  <Override PartName="/ppt/media/image3.wmf" ContentType="image/x-wmf"/>
  <Override PartName="/ppt/media/arrow.wav" ContentType="audio/x-wav"/>
  <Override PartName="/ppt/media/image13.jpeg" ContentType="image/jpeg"/>
  <Override PartName="/ppt/media/image4.gif" ContentType="image/gif"/>
  <Override PartName="/ppt/media/image8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A01-8996-4E39-BE17-9BB03516D852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598-8C38-439C-B928-2995D6595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6B1-FC6E-4DE3-AD11-640FE81D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7FD-F76D-4600-82AF-CA5D88D0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BCD-5020-47F7-B632-75F5078A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BC5-6DBA-406C-86E1-10AEE4D0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2C3-0CB3-408C-8B92-CDB7E27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C33-A4F3-471E-8EBB-F774EF0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F1A-4DF0-4138-A509-B664947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271D-021F-4457-86F5-E440C84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44D-97CF-4A67-BEB6-287C22C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BF10-C876-48DC-A570-6BFEA05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8B1-A8AF-4132-91CF-F83FDFD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D28-FD11-4AFC-B6A3-33149A85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3D25-85EA-410A-9C0F-5B6E95C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0FC7-CB2F-4E7E-86B5-4B34816D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8C87-543C-42A6-81E0-3A5F4C6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EEE-C2EF-479F-925F-9B7009E0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7AE-EA93-429E-8065-7B655924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761-0978-4E5F-9269-E6C688D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28C-C973-40A2-A124-5BFF054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7B9-F8D0-4C0C-B8A8-75FD304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175-57F4-4E9E-AEBE-206467C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B7F-E9E9-44EB-8D57-1888C27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736-5013-4A11-92BF-15307B9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CE1-6376-4898-A622-DF2599F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881-39EE-4B2B-9EC6-F3F521C93A61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0A0-5AAA-4C2A-B5A0-3A970BF620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8C53-FEC2-4901-8914-7E264DC6D928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6F5A-0161-40F7-8A75-88279688B8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4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2B5-B082-4FB2-BEA4-EAF84FBBE4F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AEF50-249E-47AE-AA29-292FCBD32F88}" type="datetime5">
              <a:rPr lang="en-US"/>
              <a:t>Jul 29, 2026</a:t>
            </a:fld>
          </a:p>
        </p:txBody>
      </p:sp>
    </p:spTree>
  </p:cSld>
  <p:transition spd="slow">
    <p:newsflash/>
    <p:sndAc>
      <p:stSnd>
        <p:snd r:embed="rId2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303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AE3-0BAF-4DB6-9B64-C779C3B4C6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80E5B-BE24-4F18-A51D-D55042E65A4B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8" name="arrow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767"/>
                            </p:stCondLst>
                            <p:childTnLst>
                              <p:par>
                                <p:cTn id="1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767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767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767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67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767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231-E45E-4819-9E8F-BE04792793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0D37-DF02-4FC1-9573-2D87000761F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7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2EE-0CD7-4CA6-976F-6FA716B1F0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32980-5E11-417F-89EB-8C9C23ECAC17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1" name="arrow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87E-41D1-4598-A8B9-4DB4088B958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016B6-1EED-419B-B54E-B8AC84754568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533-707D-44CA-BAF6-BFB7BD5E593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91A2B-8102-4776-A27F-D98EDF25D544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3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 rot="13065600">
            <a:off x="7885080" y="5660640"/>
            <a:ext cx="493920" cy="49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D97-FDAA-42E4-9EFD-18AB47AC315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B4623-5BF9-4C80-B148-40E0DE646A01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4" name="arrow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Motion origin="layout" path="M 3.88889E-006 3.17919E-006 L -0.23177 -0.22451 E">
                                      <p:cBhvr>
                                        <p:cTn id="12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7" name="_s21528"/>
            <p:cNvCxnSpPr>
              <a:stCxn id="128" idx="0"/>
              <a:endCxn id="129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0" name="_s21526"/>
            <p:cNvCxnSpPr>
              <a:stCxn id="131" idx="0"/>
              <a:endCxn id="129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2" name="_s21524"/>
            <p:cNvCxnSpPr>
              <a:stCxn id="133" idx="0"/>
              <a:endCxn id="134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5" name="_s21522"/>
            <p:cNvCxnSpPr>
              <a:stCxn id="136" idx="0"/>
              <a:endCxn id="134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7" name="_s21520"/>
            <p:cNvCxnSpPr>
              <a:stCxn id="138" idx="4"/>
              <a:endCxn id="139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8"/>
            <p:cNvCxnSpPr>
              <a:stCxn id="129" idx="0"/>
              <a:endCxn id="139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1" name="_s21517"/>
            <p:cNvCxnSpPr>
              <a:stCxn id="134" idx="0"/>
              <a:endCxn id="139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9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84D-F8DC-442C-A620-893DB10ECB3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3EDC-F8CD-43B8-8360-65C1A7BE264F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608-F660-41B8-B4A9-1FB953D639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82814-502D-483D-8C2E-1E448F761D0D}" type="datetime5">
              <a:rPr lang="en-US"/>
              <a:t>Jul 29, 2026</a:t>
            </a:fld>
          </a:p>
        </p:txBody>
      </p:sp>
    </p:spTree>
  </p:cSld>
  <p:transition spd="slow">
    <p:cover dir="d"/>
    <p:sndAc>
      <p:stSnd>
        <p:snd r:embed="rId5" name="arrow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31:29Z</dcterms:modified>
  <cp:revision>17</cp:revision>
  <dc:subject/>
  <dc:title>SportPro SA</dc:title>
</cp:coreProperties>
</file>