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C9A-FB9D-484C-B922-1AC31E18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873-2787-433F-BE7C-4651E5D5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40C-348D-4606-89C5-44EAD11D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129-75EE-45F3-BE39-B324B661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E345-EC99-408E-B3D8-4B470B46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E287-014D-4DB5-9EB7-D6119E7B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2FC9-B625-4B80-85BC-ED4458DD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867E-7D12-49D8-9C4D-A6A27D6F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82F9-4606-42DC-875F-DFB3BF72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BB7A-EB03-4187-B835-D548FA84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CA72-AA03-4008-A54D-12BC54A6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633-A4C3-4900-9690-52C63526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2078-0E68-4612-99E5-CA5846AA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E4BB-58A4-4C6C-9D78-F7EFA3E1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2473-0EA7-4BFB-88BB-76D1327D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2D44-4E8C-427C-8838-61C42AD1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485B-0F63-434B-B080-42DA1179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8F8-C0EC-4217-8397-B9BFC288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AE5-1195-4A04-B60D-EF0B8583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215-3342-4E58-B156-F5D51BA2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E47-CA39-4D43-9273-95F91E12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25B-9FA0-4FD3-BFAA-DB3A899D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FA8-9C0D-4E38-9459-7355F08E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A4D-C9AA-43B1-94C7-ABEFF240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E79D-4C93-48E0-89BF-E739E63B3BEE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F394-091E-4657-B2FB-E45F0B3A45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2294-3258-433E-A4FE-7C88F4145A80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22B0-19DF-4D99-AF02-266A5155B6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 SA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égl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s sur notre circu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C5B-00FE-4D6C-8AB1-866F67B230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D47AE-95A1-4467-B5C4-7C519F78D0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F33-FC9B-4103-B7A7-DABC8A2090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E21C5-6D6C-468F-ACD1-8B382AE25A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11:06:38Z</dcterms:modified>
  <cp:revision>2</cp:revision>
  <dc:subject/>
  <dc:title>SportPro SA</dc:title>
</cp:coreProperties>
</file>