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1BD-F3A9-45E3-98C7-34E521CB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F92-341E-4D0D-BD92-42F0E57D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D85-C6ED-4775-9770-A8EC3542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4A9-6ED1-4FD9-85C8-70DC4CCA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9F3B-22B6-4B2B-A175-C86CA21E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6F3E-5E19-4833-97BA-BE4FDA6A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EA25-55BD-48FD-99D5-62AA022F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E668-8A74-4182-8206-BD31DABA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B6F6-37AB-4A72-B6C8-F7810170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A107-5A39-4A41-8C7C-19C29089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44AA-CAC7-4272-9C0B-8CD31739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A40-DB89-4BA7-B11A-5D00C5BB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9AF5-E60A-4409-BAA9-C4853DEE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736F-971C-4BBA-9687-9BA9ADC8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9730-C78D-4324-BB42-6FF84C5D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C66A-DDEC-4F8F-8662-AD51E077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650C-EA31-4551-9F8B-8124C0FB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321-D5DB-445C-A8C1-204C1EB4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51D-3525-4524-BEE1-E19A81B3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4D8-FF06-44D8-984B-7E9EAECC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18D-4C28-4AA3-88FB-8748B42A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96F-2B78-465D-BC14-F823ED3A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96A-3077-45BE-8E5E-778BF5F9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0A1-DACC-429D-AFCF-5C2622BC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C7CC-1EDB-4AF4-B3B2-684C3BF0609E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FBED-CA14-480A-9AA9-3662540390A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610B-B49B-412A-B7CD-4373A8C8AD7F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06AE-D833-4DC4-A348-4DCD7B9663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5B5-9054-488D-AF9F-BA082EBC30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1B893-4D55-4E23-AE41-EC787665EC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95B-53D9-4BB4-A4E2-FCDF862D29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E279F-8BE0-4987-B647-CD57182BA7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D1B-493A-4660-810C-7CEF17834EF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E4192-F2F4-4CB7-BFF9-B04C568184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4A3-FC86-4192-AED3-7EEE4FDD01C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AF409-2D96-4203-8823-5BB0EA8A65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A5C-DAA3-4187-90DB-9908ACE7DB5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9313E-50E3-4F56-BEE3-99E252CAC6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20:08:26Z</dcterms:modified>
  <cp:revision>5</cp:revision>
  <dc:subject/>
  <dc:title>SportPro SA</dc:title>
</cp:coreProperties>
</file>