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wmf" ContentType="image/x-wmf"/>
  <Override PartName="/ppt/media/image4.gif" ContentType="image/gif"/>
  <Override PartName="/ppt/media/image7.wmf" ContentType="image/x-wmf"/>
  <Override PartName="/ppt/media/image8.png" ContentType="image/png"/>
  <Override PartName="/ppt/media/image6.png" ContentType="image/png"/>
  <Override PartName="/ppt/media/image12.jpeg" ContentType="image/jpeg"/>
  <Override PartName="/ppt/media/image10.wmf" ContentType="image/x-wmf"/>
  <Override PartName="/ppt/media/image2.png" ContentType="image/png"/>
  <Override PartName="/ppt/media/image14.png" ContentType="image/png"/>
  <Override PartName="/ppt/media/image9.wmf" ContentType="image/x-wmf"/>
  <Override PartName="/ppt/media/image11.wmf" ContentType="image/x-wmf"/>
  <Override PartName="/ppt/media/image13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F4E6-2A85-42DB-BA3D-8A436275CE06}" type="datetime2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ercredi 29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4889-D799-4B32-AD0D-22DBC66AB4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assistance est gratuite pour tous les véhicules préparés par nos so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tte assistance est alors valable pour l’Europe et l’Afrique du nord pour une durée de six m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3D40-B692-4010-8445-F63ECC184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8463-844F-4DA7-B727-ECD7953D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E7FE-9957-4CBF-A418-FE683E00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3F67-78D6-4663-8C15-0DB43816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2F74-757F-44CC-A299-7C2DA2599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6E97-018C-4B52-BB41-DDB9A805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D5C8-F12E-4EC1-BB73-84E91C0C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6D7E-5887-4DB6-BDF7-0D82B27F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2774-99AB-475D-BE65-D58BB50A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7EBC-AE5E-4059-BC9A-8FA6D10F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D4AE-9C46-4F53-839B-C299579A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E4AA-5E29-40C5-9034-32BF1E50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AE75-4BAA-47A4-AA78-AEDA30B9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0941-293F-4D14-89DC-8FDDA21C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6105-1A6A-4A20-8EFB-C4008DF6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ABE5-4F01-4D8A-92E5-4475D5DA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34A5-EDB2-49B8-AC57-EBC59594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6413-E8B0-4217-9F81-671C321F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40D7-50F5-43BF-A3D8-61C00B15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E13A-DEB5-44ED-B27A-BBA27B9A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EEB5-19A3-4F9E-9F3B-50BC5D66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1A6E-83C9-4440-BCD7-BE257ACB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330A-A6C3-461A-B6E9-AB485F66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5C55-4221-4926-9F17-4E67C85E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58920" y="6237360"/>
            <a:ext cx="2130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CD7E-EE47-4950-80B3-211E1652825B}" type="datetime5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1C17-A97F-4EE9-9782-1923091166F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D324-270C-479B-8A15-290E9E300DAB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7707-160B-4179-8673-201DDA26BE7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9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ff"/>
                </a:solidFill>
                <a:latin typeface="Arial"/>
              </a:rPr>
              <a:t>SportPro</a:t>
            </a:r>
            <a:endParaRPr b="1" lang="en-US" sz="8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OUJOURS À LA POINTE DE LA COMPÉTITION AUTOMOBIL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flipH="1">
            <a:off x="611280" y="3141720"/>
            <a:ext cx="3435120" cy="156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443640" y="476280"/>
            <a:ext cx="1944720" cy="1874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29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A bientôt …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627280" y="2708280"/>
            <a:ext cx="4176720" cy="341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9F14-F038-47B1-826C-A37F1FD36CB7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279FF6-2CD8-446D-8835-E0447F7F76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3033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Notre gamme de services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68000" y="2636640"/>
            <a:ext cx="553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Saint-De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èces détaché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rage de Pont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ise en é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paration des véhic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istance en cou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900000" y="2492280"/>
            <a:ext cx="1209960" cy="11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1B63-3D4D-470E-AD14-4CB29851022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A76F05-BAF2-47DF-AF5E-A2A970FCE2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29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portPro Préparation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Heures du M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llye de Tuni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is - Dak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carrera C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F3 Class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ophée Lotus Se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4A1F-29DA-405B-8AF8-60FA4E933F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3A925-A028-4084-A1E6-D818B385B5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hiffre d’affaires 2003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76360" y="2924280"/>
          <a:ext cx="6535800" cy="2793960"/>
        </p:xfrm>
        <a:graphic>
          <a:graphicData uri="http://schemas.openxmlformats.org/drawingml/2006/table">
            <a:tbl>
              <a:tblPr/>
              <a:tblGrid>
                <a:gridCol w="1800000"/>
                <a:gridCol w="1224000"/>
                <a:gridCol w="1152720"/>
                <a:gridCol w="1123920"/>
                <a:gridCol w="123516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im 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ist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épar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 0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DD35-60B3-4BCC-A07D-FFBD2FF0B36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FB4AF9-BCB7-4EFC-A223-C759137663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Prévisions 2004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124000" y="2924280"/>
          <a:ext cx="556272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24280"/>
                    <a:ext cx="5562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3EED-5F35-4FD1-ABC3-EC47E17F5D1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BCD2AD-D06D-4EE8-93F4-1A686979AC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116000" y="3284640"/>
          <a:ext cx="741672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284640"/>
                    <a:ext cx="741672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EB56-93FA-4C77-AC87-6C8180E83B7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8A17F3-8ECD-403B-ABD5-95144A9C0F2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Evolution du CA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4191-038E-49DF-A507-9D4252168D93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02DDF-F9BD-4E96-8A63-AA32294E7F8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Société SportPro</a:t>
            </a:r>
            <a:endParaRPr b="1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042920" y="2492280"/>
            <a:ext cx="7632360" cy="3671640"/>
            <a:chOff x="1042920" y="2492280"/>
            <a:chExt cx="7632360" cy="3671640"/>
          </a:xfrm>
        </p:grpSpPr>
        <p:cxnSp>
          <p:nvCxnSpPr>
            <p:cNvPr id="126" name="_s21528"/>
            <p:cNvCxnSpPr>
              <a:stCxn id="127" idx="0"/>
              <a:endCxn id="128" idx="3"/>
            </p:cNvCxnSpPr>
            <p:nvPr/>
          </p:nvCxnSpPr>
          <p:spPr>
            <a:xfrm flipV="1" rot="16200000">
              <a:off x="716652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29" name="_s21526"/>
            <p:cNvCxnSpPr>
              <a:stCxn id="130" idx="0"/>
              <a:endCxn id="128" idx="3"/>
            </p:cNvCxnSpPr>
            <p:nvPr/>
          </p:nvCxnSpPr>
          <p:spPr>
            <a:xfrm flipH="1" flipV="1" rot="5400000">
              <a:off x="617580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1" name="_s21524"/>
            <p:cNvCxnSpPr>
              <a:stCxn id="132" idx="0"/>
              <a:endCxn id="133" idx="3"/>
            </p:cNvCxnSpPr>
            <p:nvPr/>
          </p:nvCxnSpPr>
          <p:spPr>
            <a:xfrm flipV="1" rot="16200000">
              <a:off x="3208680" y="4797360"/>
              <a:ext cx="334080" cy="106272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4" name="_s21522"/>
            <p:cNvCxnSpPr>
              <a:stCxn id="135" idx="0"/>
              <a:endCxn id="133" idx="3"/>
            </p:cNvCxnSpPr>
            <p:nvPr/>
          </p:nvCxnSpPr>
          <p:spPr>
            <a:xfrm flipH="1" flipV="1" rot="5400000">
              <a:off x="2218320" y="4869360"/>
              <a:ext cx="334080" cy="919440"/>
            </a:xfrm>
            <a:prstGeom prst="bentConnector3">
              <a:avLst>
                <a:gd name="adj1" fmla="val 34304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6" name="_s21520"/>
            <p:cNvCxnSpPr>
              <a:stCxn id="137" idx="4"/>
              <a:endCxn id="138" idx="3"/>
            </p:cNvCxnSpPr>
            <p:nvPr/>
          </p:nvCxnSpPr>
          <p:spPr>
            <a:xfrm flipV="1">
              <a:off x="4505400" y="3159360"/>
              <a:ext cx="316440" cy="704880"/>
            </a:xfrm>
            <a:prstGeom prst="bentConnector2">
              <a:avLst/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39" name="_s21518"/>
            <p:cNvCxnSpPr>
              <a:stCxn id="128" idx="0"/>
              <a:endCxn id="138" idx="3"/>
            </p:cNvCxnSpPr>
            <p:nvPr/>
          </p:nvCxnSpPr>
          <p:spPr>
            <a:xfrm flipV="1" rot="16200000">
              <a:off x="5179680" y="2800800"/>
              <a:ext cx="1335600" cy="205200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cxnSp>
          <p:nvCxnSpPr>
            <p:cNvPr id="140" name="_s21517"/>
            <p:cNvCxnSpPr>
              <a:stCxn id="133" idx="0"/>
              <a:endCxn id="138" idx="3"/>
            </p:cNvCxnSpPr>
            <p:nvPr/>
          </p:nvCxnSpPr>
          <p:spPr>
            <a:xfrm flipH="1" flipV="1" rot="5400000">
              <a:off x="3200760" y="2873520"/>
              <a:ext cx="1335600" cy="1906920"/>
            </a:xfrm>
            <a:prstGeom prst="bentConnector3">
              <a:avLst>
                <a:gd name="adj1" fmla="val 8546"/>
              </a:avLst>
            </a:prstGeom>
            <a:ln w="28440">
              <a:solidFill>
                <a:srgbClr val="666699"/>
              </a:solidFill>
              <a:miter/>
            </a:ln>
          </p:spPr>
        </p:cxnSp>
        <p:sp>
          <p:nvSpPr>
            <p:cNvPr id="138" name="_s21512"/>
            <p:cNvSpPr/>
            <p:nvPr/>
          </p:nvSpPr>
          <p:spPr>
            <a:xfrm>
              <a:off x="4011120" y="24922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trick Duva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D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_s21514"/>
            <p:cNvSpPr/>
            <p:nvPr/>
          </p:nvSpPr>
          <p:spPr>
            <a:xfrm>
              <a:off x="203220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éphane Dupo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Vent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_s21515"/>
            <p:cNvSpPr/>
            <p:nvPr/>
          </p:nvSpPr>
          <p:spPr>
            <a:xfrm>
              <a:off x="5990040" y="449496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ierre Mart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Mécaniqu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_s21519"/>
            <p:cNvSpPr/>
            <p:nvPr/>
          </p:nvSpPr>
          <p:spPr>
            <a:xfrm>
              <a:off x="2880360" y="349344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hilippe Mor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ssista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_s21521"/>
            <p:cNvSpPr/>
            <p:nvPr/>
          </p:nvSpPr>
          <p:spPr>
            <a:xfrm>
              <a:off x="10429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Gérard Leroy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ublicité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_s21523"/>
            <p:cNvSpPr/>
            <p:nvPr/>
          </p:nvSpPr>
          <p:spPr>
            <a:xfrm>
              <a:off x="302148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nard Davi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ompéti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_s21525"/>
            <p:cNvSpPr/>
            <p:nvPr/>
          </p:nvSpPr>
          <p:spPr>
            <a:xfrm>
              <a:off x="500040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oland Rover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arrosseri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_s21527"/>
            <p:cNvSpPr/>
            <p:nvPr/>
          </p:nvSpPr>
          <p:spPr>
            <a:xfrm>
              <a:off x="6979320" y="5496480"/>
              <a:ext cx="1695960" cy="66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Bertrand Mich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Pneumatique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12000" y="2421000"/>
            <a:ext cx="823680" cy="11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F095-0F53-476A-8EC3-D10629C1A99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8987A-0727-454B-AD60-0B31E51B03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épann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 J/7 – 24H/2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él : 01 45 52 08 3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1619280" y="549360"/>
            <a:ext cx="56167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ssistance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5508720" y="2708280"/>
            <a:ext cx="2735280" cy="576360"/>
          </a:xfrm>
          <a:prstGeom prst="wedgeRoundRectCallout">
            <a:avLst>
              <a:gd name="adj1" fmla="val -33287"/>
              <a:gd name="adj2" fmla="val 137328"/>
              <a:gd name="adj3" fmla="val 1666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ujours prêt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ortPro S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BEED-23A5-44A8-88F4-B4477AD9D34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CC56E2-BDA1-40F3-B652-AB81BAB768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0:49:52Z</dcterms:created>
  <dc:creator>Pierre Ballantin</dc:creator>
  <dc:description/>
  <dc:language>en-US</dc:language>
  <cp:lastModifiedBy>Pierre Ballantin</cp:lastModifiedBy>
  <dcterms:modified xsi:type="dcterms:W3CDTF">2004-01-14T15:10:06Z</dcterms:modified>
  <cp:revision>15</cp:revision>
  <dc:subject/>
  <dc:title>SportPro SA</dc:title>
</cp:coreProperties>
</file>