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A0BC-3AA2-4EB8-95B8-B8C980D83C92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CA44-E217-4211-B472-D17B53C6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F79-52D9-49E6-B5E0-43ED6E71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B0C-7AC6-4191-9945-EA9117BA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786-71E3-4187-897E-03C2A313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BB6-4690-44EB-99F9-A66FB8AE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F497-12C4-437E-88D3-D44B041D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54B-1332-4D44-A9C9-9604FB84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F865-7273-4415-89E7-6AD1F44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7D25-4EBD-49F8-A718-25BDBFD5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B59A-79B1-4487-AF73-23056B5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F7C2-6FE3-40DF-A8F0-964C13D7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749-A0A7-4A38-AA48-7F24613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D70-8139-4332-B910-3F7E7869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DE03-AB67-490B-8ED3-3116868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230-FA70-4552-9C95-41241716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E6C9-7284-4592-BD11-4CC7E401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79BA-3C11-439F-863A-FC5B1BCD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B902-D822-46AB-8393-6E7AA03D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5C9-4202-46DA-9DE0-25198A1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9E8-C051-431A-97EF-51A23CF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E91-5DE2-42AB-85D1-CE4BE71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F49-8AAA-4C11-8B75-AE1BFE59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B2F-EB5E-43F8-AA5B-960F1320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15A-FFAE-4B2E-B1F2-2296C2D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E4B-13DD-4B7B-82F9-72EFF72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5CBA-0A94-4A4A-AC0B-FF4E3620530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265-1E76-4777-85B5-7B6EC6F192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54C8-BF06-404E-AD7C-997CBD802B1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F205-2928-4274-88B7-B27B519E3A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46D-BBE3-4091-9DDC-337FAF891E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CA6D1-41F6-4A3B-83B9-31EBF479B0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346-C107-4252-85BE-28FBC43FCC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5D88F-6628-4469-AE6A-1C1A5FD2FC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E0B-96CF-4E9A-80BD-41D1F3960EC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47783-D817-4463-927A-8D46ECC189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F8A-4E18-4E35-BD8E-5567A687B32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F51DA-2E5C-4474-98E5-A56CA8530F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3E4-D58C-4D80-A92F-DCC2EB8D9EE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83A38-D912-4F91-88BD-0F4CB6BC89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CBE-8B92-4434-AD94-104096BF93E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1F6B5-0934-4F83-8378-227FA1D67A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4" name="_s21528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6"/>
            <p:cNvCxnSpPr>
              <a:stCxn id="128" idx="0"/>
              <a:endCxn id="126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4"/>
            <p:cNvCxnSpPr>
              <a:stCxn id="130" idx="0"/>
              <a:endCxn id="131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2"/>
            <p:cNvCxnSpPr>
              <a:stCxn id="133" idx="0"/>
              <a:endCxn id="131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0"/>
            <p:cNvCxnSpPr>
              <a:stCxn id="135" idx="4"/>
              <a:endCxn id="136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18"/>
            <p:cNvCxnSpPr>
              <a:stCxn id="126" idx="0"/>
              <a:endCxn id="136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17"/>
            <p:cNvCxnSpPr>
              <a:stCxn id="131" idx="0"/>
              <a:endCxn id="136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6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D41-3B17-4B75-98AD-F907BFB7223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5C6E3-FF5F-4165-B00D-D09762C526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F59-74DD-4FEB-9801-4B4C4A1D8D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DC69D-262F-45F6-AE50-2C4FD90010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24:59Z</dcterms:modified>
  <cp:revision>12</cp:revision>
  <dc:subject/>
  <dc:title>SportPro SA</dc:title>
</cp:coreProperties>
</file>