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7756-BBE3-4580-85EB-3A0F583A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59DA-3A3C-4787-9FE5-F48DADF3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71D4-C88E-4675-AA7F-05B98D6B2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2400-8145-441B-B774-8276E1216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3247-E516-4DCF-9571-4439A15B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7FDE-4D7B-4C3B-BEFF-0302C952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57B9-FD07-431B-AEFA-45041E64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D665-FBAC-4C50-80F1-7544E49D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99D7-577D-44A7-AFE5-1CE1D556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E603-D6B9-4038-BD14-1B01EEC9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D537-E4B9-4373-AA40-896395CC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9E40-5F68-43CB-929A-EFA11587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CD94-7C78-4813-963A-C3546EBC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C568-597C-4C48-AA88-D16AA728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DEDB-7172-49A5-A499-4EE5AC6A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8F31-C05D-4C4F-80FF-4A252375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F238-0667-4C89-8BAD-5306FA17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9387-BB38-4DF0-A258-FE6DB72D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E881-36F2-42D5-A43C-5F0F6760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6D88-4F52-46BC-A8B0-F81F82CF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C241-AF64-46BB-8186-67C9C867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24BA-1716-4D3F-AA52-147AC54F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0494-3A63-499A-9773-0A6D5FCD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110A-1EAF-49D1-A150-42E8F40A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8356-BAC7-445E-8EBE-CD8416AC646B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F32B-B906-4F87-8D5B-C22177A92CA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AA76-7213-49B3-8B40-2433C173CAFD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7C89-E649-4101-A6D6-7A750ADF3A8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EF0C-8754-472F-8405-D50E2E4A4A6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4A87CD-B0E5-440F-8E6F-7FC1446CFB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F98A-353C-4D88-A465-6DD6CBA066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C3B0F3-01FF-4C3E-918F-CF763F9A80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3FCD-BDAD-434B-AC9C-A634E284264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AA9DFF-133E-49EC-9540-F4CFE77961C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460B-F1C9-42E4-910F-4584966C22C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A1D561-7C91-4610-B963-0DE4BE5A87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8181-F6A7-4C9A-B903-EF796CB78572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C251D-32C3-414D-8A3A-3C30776638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5C40-E5D7-430B-82E2-14FFE1A4DDC2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E32ED4-9159-4FE4-81B9-BA84C28287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1:34:50Z</dcterms:modified>
  <cp:revision>7</cp:revision>
  <dc:subject/>
  <dc:title>SportPro SA</dc:title>
</cp:coreProperties>
</file>