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80D6-E1A9-4BE2-BA45-86975930A656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7B8-E903-49A9-A669-970895025F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69F-D4AF-4432-99E1-A3514C54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C98-9870-4097-AEF6-28F16F0C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ADF-0128-4601-98AA-6F33EE79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821-2623-42C2-83B1-34EE16EB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961B-5066-4858-9FE2-011D6862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BA3-11F0-4CA8-8CC0-770DBB8D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BD4B-3BC7-41E8-83FC-1DD63926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A132-5317-4C61-AA3F-E67436A8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21F4-63AC-4856-A408-50F50E6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A5EB-892B-4ED0-901C-CD7FA334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278-5AAC-44AD-B5FB-B61001A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178-B4EC-47C7-92CC-A6663DD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FF51-A7EB-4789-84BF-63E1B05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225E-896E-4C07-9C27-864EF74F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4C28-643B-45D0-BF3A-0CF60D5D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4410-AA66-445B-B4E2-8FD1497D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3248-004F-4D11-AD84-232D36AE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436-4FDC-4CE7-932D-3ACDF37C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D61-BF56-4CB3-BBDA-65476D54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BE2-B5E0-4E9D-84CA-15C3C8B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010-3A4A-434E-8221-9FBEE4D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60D-5DE5-4268-9622-9EF146D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ABC-08D5-41C6-9D84-04BBA0F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DA7-EC19-4E07-864C-2DB6BF9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9834-3810-4C77-B257-C140C8DC028D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9C58-E806-4339-B74F-DFF9971F4A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098-0FB2-4D94-9C54-30207F39129B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E342-34DD-40C1-889B-27ABC489C8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AE0-843E-49B6-B7B4-9297CC58E10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F916F-E50B-473C-837D-1BBE31DDBE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2B0-BFF1-4284-81E7-A3D40ECE9B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B3B4F-8391-4D4A-AE37-84273122E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308-8899-4FCA-8091-9CAAD89689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17AF3-EF5D-44D0-B7A5-88E04F0C4A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3B1-9053-4BCE-9A0C-F8D80F7574F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DFEB6-F2B5-43B8-925F-2C9F71E2F4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FDB-12BC-498B-8FD1-0CD1063C4F2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42AEF-4043-4D68-884E-A785CDC91E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F75-DFDE-4D27-B773-5D09254E57D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3E6C0-CAFB-42AD-AF6A-8673052EAB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24E-82B8-4EF0-8F4C-0DB0C5F3E3C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645E9-247A-481D-8B40-B51BB6ABBF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6" name="_s21528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6"/>
            <p:cNvCxnSpPr>
              <a:stCxn id="130" idx="0"/>
              <a:endCxn id="128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4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2"/>
            <p:cNvCxnSpPr>
              <a:stCxn id="135" idx="0"/>
              <a:endCxn id="133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0"/>
            <p:cNvCxnSpPr>
              <a:stCxn id="137" idx="4"/>
              <a:endCxn id="138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9" name="_s21518"/>
            <p:cNvCxnSpPr>
              <a:stCxn id="128" idx="0"/>
              <a:endCxn id="138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7"/>
            <p:cNvCxnSpPr>
              <a:stCxn id="133" idx="0"/>
              <a:endCxn id="138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8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D8E-31C9-4B0A-8768-421A9E1AA07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88B7A-56FE-43D9-9B0D-1CD1A5215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708-07CE-483E-B86F-86EC484B79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33851-F148-4D4E-90FE-93FE3D96C5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10:06Z</dcterms:modified>
  <cp:revision>15</cp:revision>
  <dc:subject/>
  <dc:title>SportPro SA</dc:title>
</cp:coreProperties>
</file>