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599-0B56-4013-B6A1-2E4982D6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03C-4FCF-4D18-A9C4-4612272E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9EB-1607-461E-A806-7E7999DC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5B6-1D92-434D-A78C-F1317269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6ABB-6D64-4F0C-8F0C-D0993291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88F0-D36C-4519-BE6B-D7BC865B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4895-6357-468D-8595-83087C70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18ED-0586-4397-97A3-696BF43F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A00B-7AE3-4F4F-8B6F-ABDE9BA9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E2B6-6FB2-4A68-9A42-92542D96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DA94-1C00-4208-825F-500D8FAC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A15-4D59-4E45-BF63-1E50ADF3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E344-6CC2-4BF1-AB58-FB0B2C84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0CDF-633F-4E80-8D00-7F7A5705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4CDC-2DCB-4CB9-82AF-F7EB65D7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ED01-30BD-489B-AA53-AB04404E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7062-1642-4151-AF84-7466DABB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70C-8DB6-49BD-B582-C6115467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13D-EF61-47E7-AB7B-CCA1D3E9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0D7-8D2B-43F9-B520-577A0790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BCE-AB3C-4111-8B89-60FE775D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F53-0B6A-4A10-8AC0-6EBB29A8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1A9-CAA5-4954-9BA8-0F07337D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E56-E58B-42CC-9FC9-930AA4FB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A73A-0749-4AC3-A79E-9817C2EBA7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8CF4-3912-4382-A3E7-2E687BE5D8C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sportauto.com/modules.php?name=Search&amp;query=&amp;topic=701&amp;author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60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Véhicules à louer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ur tout renseignements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1 45 23 56 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Stage Caterham super sev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144960"/>
            <a:ext cx="165744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rsche 91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556092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rrari F 35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689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MW Z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55436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6:46:09Z</dcterms:created>
  <dc:creator>Pierre Ballantin</dc:creator>
  <dc:description/>
  <dc:language>en-US</dc:language>
  <cp:lastModifiedBy>Pierre Ballantin</cp:lastModifiedBy>
  <dcterms:modified xsi:type="dcterms:W3CDTF">2004-01-13T10:08:20Z</dcterms:modified>
  <cp:revision>5</cp:revision>
  <dc:subject/>
  <dc:title>Véhicules à louer</dc:title>
</cp:coreProperties>
</file>