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588-E29A-4A83-B0A0-8FC720EF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34C-CEF8-45AE-AE62-9A6CBED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943-F68E-4836-AE71-3C75630B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2DE-F18C-4ECF-B99B-4CCC99FC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0E40-8718-4EF2-B08E-4C5F8EEA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04A2-11EB-4AF1-B739-1F86B02B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B104-6D48-4713-B344-6C814792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75F4-2562-41E0-8B6C-D052AF49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ADEF-740E-46A8-ACC4-541B6260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28B8-FF3B-4C5C-A677-A6330E96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6BB-60D3-473A-95B6-12E4E99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843-A51A-46F8-8993-30CF716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1946-AAE3-4B6C-A769-22BC7E6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774C-7FA3-430A-95F8-DA9A405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A276-784D-46C1-A6EA-3137DB6B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249C-8F26-4541-A5FC-06FA5E6B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7AE2-482A-45BD-926F-38E8A9C5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1E3-4506-43C4-BF39-710736D1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FDA-203A-46D2-8AEB-AE29B3DE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1D9-B251-45B9-8AF4-81CFF00D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472-5AFA-42D9-B460-17D00207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65E-0E30-47BC-9B7B-2FD90C48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1C5-EB3F-4C09-93BB-50CF77A1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58E-3766-4083-8B22-9EEC767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6F7F-2612-4944-B881-FC999DDA621E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E929-8E95-475A-BA4D-54A6742B17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66AE-2FC2-42CE-9094-902EDC1B0C6D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B686-419F-4855-B2F6-AF27C0DD9E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B90-85C5-46D2-ACE8-8BEFD44225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03169-FABF-42E1-9395-FAAA49B2F5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2A6-0958-4CE6-839B-1292A068E5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18A89-EDEA-47D0-A714-6F62B76E12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098-5992-444F-8204-AA3F2A770D6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E6E49-754B-417F-A501-FB0EEEC09E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1D5-89E5-4D0A-8A18-C1F560C38A9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08C44-7F61-431C-8E50-C2B5DA1020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219-371B-4A1D-9485-31A0749CC43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906AC-9B73-415A-8AAC-D534E524F0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6C3-39ED-4C60-98FD-B1D97BF6700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84E8B-18C8-427F-8102-B82383CDEC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15" name="_s21528"/>
            <p:cNvCxnSpPr>
              <a:stCxn id="116" idx="0"/>
              <a:endCxn id="117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18" name="_s21526"/>
            <p:cNvCxnSpPr>
              <a:stCxn id="119" idx="0"/>
              <a:endCxn id="117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0" name="_s21524"/>
            <p:cNvCxnSpPr>
              <a:stCxn id="121" idx="0"/>
              <a:endCxn id="122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3" name="_s21522"/>
            <p:cNvCxnSpPr>
              <a:stCxn id="124" idx="0"/>
              <a:endCxn id="122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5" name="_s21520"/>
            <p:cNvCxnSpPr>
              <a:stCxn id="126" idx="4"/>
              <a:endCxn id="127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8" name="_s21518"/>
            <p:cNvCxnSpPr>
              <a:stCxn id="117" idx="0"/>
              <a:endCxn id="127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17"/>
            <p:cNvCxnSpPr>
              <a:stCxn id="122" idx="0"/>
              <a:endCxn id="127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27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631-8A3A-4F37-A5D8-0B514A78C2A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97600-2349-4DAF-A891-B0E6278BB8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53:06Z</dcterms:modified>
  <cp:revision>7</cp:revision>
  <dc:subject/>
  <dc:title>SportPro SA</dc:title>
</cp:coreProperties>
</file>