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5F6-6EBF-4022-8236-905731400B1A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899-38F4-4423-849E-E6940D67F1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1C0-2416-4ADA-A6E7-FAA9C8A5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812-9E60-4713-8415-F229DC5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7DE-B4A2-4BEE-9BCE-3495A017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70E-11A9-4E0D-9E95-E935E3DA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76DB-D0FF-4282-B148-6DC6F876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0F3C-0B92-4CB1-B95D-2D8666C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047C-10E6-44A5-AE4E-5EC1BC9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6E0B-09AB-4640-B3A9-D2D6D59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384A-222E-4872-B96E-2B493C79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A85-CA99-47C2-9B83-6A623B9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2CF-C172-44B5-9056-CE94161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9BC-D0F2-4623-8238-F5A137AF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CAA-1CC7-4859-BA69-CA5FDF49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5CA7-3336-48AE-A088-29FBB60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F0AA-31F5-4104-B887-B179371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58C-3A02-4E20-A4C1-D882244C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DD7D-FBA1-4D95-B1DF-F6711A0F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1B4-D284-40F7-9738-79B9BC7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08A-55DF-4299-8A78-AF465D4B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421-3036-4538-A21C-76FFFBA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F06-47EB-45F6-BF0E-A57F3615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A59-7AA8-48BA-BD5F-8FD06A9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05D-E01D-468C-80E4-4A9C7B2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93F-21D8-4AA4-BAA7-4B83E6B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0AE7-106D-43CC-8A46-1D3374B43A1A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820-E5DB-40BF-9B6C-28F3940D28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D5AC-3E8D-49D4-89E6-BB78493E9B1A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4DD-C1F6-441C-B192-D6BD4BEB9C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D02-0E5C-40E3-BAB0-3977E2B4C21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AA2FA-2EE2-4295-A737-EE59A4150879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BAF-E937-4559-8DBB-5D81579791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E3632-F4F4-4F73-A606-8258AF4613F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4F2-8824-43B4-AFAB-6E69D1A43D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4C2F0-7EBD-4734-873D-4A5FB80EABA6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203-E9A7-404B-9F67-6DE3EFC5A73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A5B30-0C41-4751-8F86-CFEC782F74D3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2E7-D32C-4C61-A5B5-AECEECE3E2F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6A8D0-1FBD-4B4D-8C29-01A29C6BCD42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751-86D0-462D-A2CB-10F02D09A3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1A97F-0156-40B8-9DBA-CBA7989FBAB5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F96-717A-4267-AA6A-D7E93980B0C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83134-A56E-4D54-BF22-D15E8C50AFA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FBF-B040-4328-8D84-ADE1D9274E7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12167-FEF9-4DD1-A50E-A4FF2E142E3C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8A5-8012-4C1C-B9C8-16F9531EAD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07718-4475-4EBB-8F88-E882439CCB3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6:00:36Z</dcterms:modified>
  <cp:revision>22</cp:revision>
  <dc:subject/>
  <dc:title>SportPro SA</dc:title>
</cp:coreProperties>
</file>