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C95A-18E6-46BA-90BF-932AFA5D8205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4A4-EEE3-4105-A239-5018866ADD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4E9-923E-4992-8939-8A23E317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E5F-43FF-4CE7-9FDA-6FFDB438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E0F-7418-4C57-B1DF-DC62FFB6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A2D-345E-4EA6-8C10-272552DC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0440-ED71-4E7A-ABEA-75A52D18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CD91-EEEF-4DB4-8B8C-973ED943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7DF2-0F7C-4408-A599-BA4D309D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57A2-A06B-428B-A92B-E0A24C6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4F0-600E-44B6-8229-D0AC87B5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BC16-F0B2-4BDE-9B2A-FC25FD18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314F-8CBF-4C3A-AC41-1F43A7F9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4AD-34EC-48E7-A7F3-D61D2EC7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CD68-F9E5-4C3F-A5A3-93AE28EC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04B4-AB1F-4FF0-9BDF-0979B18F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3D75-FF56-4F8C-8145-B68134B9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4155-CC07-4512-87A3-6D65D598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221B-7367-4F66-ADC7-8809CBAF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138-D8ED-4059-9D97-DE96110A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FB3-C5D4-4415-9932-B6CB5EF9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6EB-3948-473A-947F-ACB5EE73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08B-0BE5-4350-9A30-9FB278B0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A65-28F2-4C0A-8C69-9CD6B96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5B3-B3E3-46D1-BD71-6EADFFC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8A7-1F6D-4DAD-B3FE-3C26FF8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B13B-9879-4482-81DA-5CE3F65C6321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CEF8-563D-4C49-BADA-127BF755BF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8873-239C-4859-81BB-BF37404A2398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DA19-D28A-4436-BE10-A7B4374445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D0B-F35E-40A0-A083-22603B8F29B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86086-7019-4A91-B933-3246508A44E4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688-EFD9-4488-8E0D-DBF96B3552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40B15-4B0D-414F-A16D-662CCD281FF4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D9F-1F18-4A83-8ED0-E0A34EC9F2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266A0-F4A9-4B76-9D21-8A5AC6FC72AF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5F1-3D47-4A99-B416-712CACEBC07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E8176-4FF5-4AF6-B2AB-6258383D95B5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553-7C39-4152-9D71-7748FA298DA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06857-5360-46C8-A3ED-58A4ACBC2767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69A-6AE8-47A3-AB62-653D32006A2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85180-D44D-43A6-ACC9-68AB91F3F115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A32-C1CA-467D-BEDC-01D178CF4DB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B6A84-E0C3-4FC4-8FCD-33F8509AE61D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2E6-1E0A-4851-88CF-7BE65B8A519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09089-433A-46A9-AAC1-F2C90597043E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23B-C267-4A86-8A29-4E4E336182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8B0C5-6B21-4821-94EE-C368B8BE690E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6:00:36Z</dcterms:modified>
  <cp:revision>22</cp:revision>
  <dc:subject/>
  <dc:title>SportPro SA</dc:title>
</cp:coreProperties>
</file>