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65C-A58A-41D6-8F0A-0B794187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BB0-687C-40FE-9AF2-98D8A4DA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F35-8BA3-43EC-AE66-03DCF717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1FE-623C-403D-93EA-43AC869D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C8F5-E676-4502-81C3-3EB91D61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AD4E-900F-4DD1-87F7-258CFABA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0FD0-8555-494C-953B-F43FD93E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AD53-507A-41ED-9717-041A0350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B139-EF4F-4E77-BFF1-4CB44BEA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A450-1DFF-4C9A-BDF5-387D92BD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949F-806A-4A43-AC78-40ADCCE9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CB3-91F6-44A6-9542-3D96B040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3EDE-4305-4090-A610-0DD9135F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0199-5CE9-463C-B0FF-09462A17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9B14-E380-431E-9496-AA86D525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A39C-8607-4BE1-B0C1-7D7CE2E5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CBA5-BD88-4434-A851-5215A4B3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9ED-17A0-4800-8C7C-F56EF9E3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EC4-10FD-4F7D-BD45-8B14E299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0ED-8F2E-47DD-9613-9B89416D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1E75-8AA5-462F-B39D-8DDB6AAA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036-3507-4F42-A881-21EFA430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E95-577C-473D-805C-232207E7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333-73E4-4964-906C-B7F2E965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6C0F-49BA-4CE8-933D-325C6E3E82EF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26D6-9568-4BA4-913D-62946E236A3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4D13-D2B4-49CE-B8C9-7259E5C54B16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D123-2ADB-4231-AC1C-159DD1EC4B1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0F4-B649-4FEA-B9DC-BD01EF4DD3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82C81-F942-4D4A-9F00-0E6A0B7FAC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D2B-340D-4A41-AB52-117099C239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EE37F-F9A3-4562-9ED5-DEE42DD0ED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79E-C231-4EEB-B27B-554EFC113C5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1CF2F-9951-4A94-8FBE-7D03B4CAC6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3ED-6E9E-4BB0-B3D6-1ABC2E948D7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E8C40-FF9C-40C0-BAE8-FCE62E9222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65C-0025-4E56-9FCC-056922AF5E7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85152-B5A5-4C18-B0EA-8A8250C457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20:08:26Z</dcterms:modified>
  <cp:revision>5</cp:revision>
  <dc:subject/>
  <dc:title>SportPro SA</dc:title>
</cp:coreProperties>
</file>