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33E-9F95-48B1-B565-07D4910F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E16-BFE1-462F-BD1B-76072E5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717-F937-41DA-9C45-B04ED903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B64-4500-47EA-85E5-3861AC62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54BF-7CB8-4C4C-B86A-51A4F76E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5303-A709-4F7C-9D7E-7B5985C4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89D6-A733-4EFC-A859-B8C3F0DA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ED49-8EC0-4853-AB93-B717CCA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FE0-0B8A-4046-9B0B-FE1DE00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D2E0-4D45-4E6C-97E3-0279C0E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7DDA-EF31-4500-9E3C-800945A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09C-123D-4428-87CD-BEB626A5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98DF-28F9-45AD-BEDD-1D91369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1312-06D4-4832-B017-BA6B11A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3327-EB2D-46F8-AA76-98C80F2E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0A2E-2C2B-4479-BA4B-E543FD99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08A2-1B9A-4B01-BB8F-81C4F667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17A-8AEB-4168-808D-3DBEE5A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C4E-9CD4-4DDD-A840-2C11DFE1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100-7F77-4282-B89B-173BD475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F12-7A11-49C2-9E4D-F750B8F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1C0-B263-42F7-8163-BE56758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B74-BE9A-49B5-A226-CC9C529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727-1B11-43E3-A492-14E1FD8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94E-AFED-4FFF-B7C8-FAB171622E35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9E5F-2E0B-42F1-A78B-C197667CD3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EF80-EC2C-4B3C-BB16-D03EB5A231F9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C982-3FCA-4C4B-BFF7-ACB27570ED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CF8-03ED-4037-8A66-2BCA008626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07964-8B3B-4F36-A83F-019D910D5C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429-540B-4741-A1F8-B861D5B0EA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87FD3-3098-4DFA-9FC6-983685FFC7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7AB-14AA-4E3C-BFF9-FE418247BF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CD8EC-97B4-4B49-9D35-37262DD47D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25A-5301-4325-B631-3CDFC248CA4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9AD3E-A1FB-48B5-B530-3CCC579ADB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A47-E994-480A-B1F9-218CF9696A0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A06A9-A17B-4EB4-A1B1-FB8BD1A0C3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73D-B380-45D7-AEC3-56F78F9C2D7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E090D-09DD-49DA-9515-E60C5B826C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7" name="_s21528"/>
            <p:cNvCxnSpPr>
              <a:stCxn id="118" idx="0"/>
              <a:endCxn id="11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6"/>
            <p:cNvCxnSpPr>
              <a:stCxn id="121" idx="0"/>
              <a:endCxn id="11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2" name="_s21524"/>
            <p:cNvCxnSpPr>
              <a:stCxn id="123" idx="0"/>
              <a:endCxn id="12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2"/>
            <p:cNvCxnSpPr>
              <a:stCxn id="126" idx="0"/>
              <a:endCxn id="12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7" name="_s21520"/>
            <p:cNvCxnSpPr>
              <a:stCxn id="128" idx="4"/>
              <a:endCxn id="12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18"/>
            <p:cNvCxnSpPr>
              <a:stCxn id="119" idx="0"/>
              <a:endCxn id="12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17"/>
            <p:cNvCxnSpPr>
              <a:stCxn id="124" idx="0"/>
              <a:endCxn id="12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64D-8F7B-4501-A024-CFBBD45C4B6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65D1C-1436-4130-AAA3-610F2CC5F7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DC3-1421-4EEB-A52C-64182E0297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35EE7-D510-4264-A43E-B834A2F823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3:14:45Z</dcterms:modified>
  <cp:revision>11</cp:revision>
  <dc:subject/>
  <dc:title>SportPro SA</dc:title>
</cp:coreProperties>
</file>