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55D-0A52-4390-9EA3-FE2528D2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2B8-E643-47AC-B53E-36182108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3B0-6B1A-4435-BF1D-9596F8D2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388-936B-4D0C-A8C3-BC01F36C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814C-8703-4DFD-9448-0FBEB496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67D6-B7F3-4163-B00A-2D94BB3C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4D80-F640-40AE-A4AE-98C93A6E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ACC8-DF9F-4696-9607-D4725D59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A84F-9FDB-4D81-83D8-5E66D07F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678B-E0DD-4800-88C0-DE22D07C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EC86-8326-4724-9C57-9D86B5E6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918-EBF7-461C-90B0-556F780D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832D-ED29-4DBC-8237-B1F79A9F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5E01-F7DC-40C2-93A5-08BEEE7A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8CDB-C6E2-41CA-9CE0-EF871DCA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A29D-4F74-4FC5-BF5B-C638B1FF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BD01-6E1F-405D-976F-20FE7EE7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E94-FF0A-45F1-BCDB-E241DC84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78F-F48A-4815-8999-C2766806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FCF-B32C-4E22-8038-80515484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14C-49DF-463E-9484-115AB5A4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095-BD3D-43C0-8D3D-1A09531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DD7-73CF-48E0-90C3-F73C6AB6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4C8-7CA7-4396-A8ED-2B8F1068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CA6D-8CB6-4A6A-ADAA-DA226CEB47E0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8175-A4F3-40E9-BB9A-4CC7DBBB52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D817-0172-4E32-BF20-56F794410655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8380-52A7-454A-8414-8739C1F271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91E-7740-4D48-932E-5E19F15680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AC0A3-EA7F-4AA8-94CB-74C8DA6E72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1BF-7FB8-4364-BD9A-31A974CEC1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11042-1E42-4597-8ECC-E11690D0D7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057-B0F7-4FBC-813D-A676DD9BED0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8982A-7791-4507-BF8F-AC3F5CFD0C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E86-9260-4A52-A79D-049FF578D99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290BD-1BC3-48E6-8D35-87A85B4E7A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796-2380-47DC-A508-448E88040C8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DF319-02A2-46D7-BED4-7195EE1D20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487-A5D8-4384-9DD8-F8E3C6F02A5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CEC89-CF49-4531-ACCF-8B2782EDCD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1:34:50Z</dcterms:modified>
  <cp:revision>7</cp:revision>
  <dc:subject/>
  <dc:title>SportPro SA</dc:title>
</cp:coreProperties>
</file>