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DDEA-4572-4CAD-A4F1-4073F335F693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9106-B157-44F0-B04C-F362AFEB42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746-AD0C-4490-ADF9-B57AECC2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158-7D3F-49D5-AE6D-7276A8BE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6F0-7C18-470F-9A03-8BA15407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7E7-BED2-440A-83B0-4A124042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49F3-7314-4327-8F63-2C5D5728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5874-E2A7-4059-BA67-566CF4F2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1C43-21A2-4397-9DA0-BAD0682B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B8A4-4CFA-444C-9DA9-E434C100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4360-32FD-4761-8942-0A40B98F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4686-7C36-4E04-A882-1D897FF4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E507-2FBA-4FC1-8C63-0B24B0A9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87A-6CE3-4B71-BEC9-432E2163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94B1-FB02-4410-AB51-1A5B6726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D54F-0A8B-4B22-AF48-EE7DB752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B058-BB5F-484F-B023-DFFC0B4E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E622-1192-44B9-B848-38B823B0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C6B0-C307-41EE-B6E3-8432C35C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F2E-6F2B-4DA0-8582-44D74C2B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250-2387-4E7A-AF07-652A24CE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B79-A216-4539-B79D-600535E1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253-87A4-4E6B-BCC6-BFC3DCFD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6D6-64F5-4E74-A808-2AE2F6FE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4C3-FE3E-4959-8C94-0D799A2E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527-F435-4FA6-ABC1-F0F11AEF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7AAF-005A-491A-84B6-888E7255B8C4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4439-B4EF-443A-88B3-055E493E2F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BCD7-AA2B-4341-8953-FCC2E4F4D909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6C93-0E67-41B4-8CAC-18256EB07D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C:/Exercices%20PowerPoint%202003/Locations.ppt" TargetMode="External"/><Relationship Id="rId3" Type="http://schemas.openxmlformats.org/officeDocument/2006/relationships/hyperlink" Target="http://www.allsportauto.com/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audio" Target="../media/arrow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79280" y="18900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1159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éhicules à lo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760" y="40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Notre site We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613-C347-43AA-AAFB-134C88FB92E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DD7C3-C363-49C7-A76F-39179ABFF019}" type="datetime5">
              <a:rPr lang="en-US"/>
              <a:t>Jul 29, 2026</a:t>
            </a:fld>
          </a:p>
        </p:txBody>
      </p:sp>
    </p:spTree>
  </p:cSld>
  <p:transition spd="slow">
    <p:newsflash/>
    <p:sndAc>
      <p:stSnd>
        <p:snd r:embed="rId4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849-030A-414C-A8DB-964C837FA1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20F65-8212-4404-9287-313339872AAF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1E7-B321-4D77-AD50-752CD74BFB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7E0D8-43B0-40D5-8623-9CBF6B02BBA6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26A-2C8B-4229-900F-C324864AA48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C3ED0-B9F1-4DD1-989C-FC38AB42AC7D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704-FD24-4234-ABC1-8B9B5AE4B18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B0111-46F3-4D0C-84AA-BCBB815CDDB4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4C3-F346-4C64-96F8-BA97D5B7396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37DB1-9DBF-4E04-B03F-3535031F2377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50920" y="18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90" h="21600">
                <a:moveTo>
                  <a:pt x="108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90" h="21600">
                <a:moveTo>
                  <a:pt x="8269" y="8224"/>
                </a:moveTo>
                <a:lnTo>
                  <a:pt x="12133" y="8224"/>
                </a:lnTo>
                <a:lnTo>
                  <a:pt x="12133" y="15221"/>
                </a:lnTo>
                <a:lnTo>
                  <a:pt x="13421" y="15221"/>
                </a:lnTo>
                <a:lnTo>
                  <a:pt x="13421" y="16144"/>
                </a:lnTo>
                <a:lnTo>
                  <a:pt x="8269" y="16144"/>
                </a:lnTo>
                <a:lnTo>
                  <a:pt x="8269" y="15221"/>
                </a:lnTo>
                <a:lnTo>
                  <a:pt x="9557" y="15221"/>
                </a:lnTo>
                <a:lnTo>
                  <a:pt x="9557" y="9129"/>
                </a:lnTo>
                <a:lnTo>
                  <a:pt x="8269" y="912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2EB-FADF-4832-BE23-B0D13976ADE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8FE2D-5C19-4361-BA5B-95A4A0861770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8" name="_s21528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6"/>
            <p:cNvCxnSpPr>
              <a:stCxn id="132" idx="0"/>
              <a:endCxn id="130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3" name="_s21524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2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20"/>
            <p:cNvCxnSpPr>
              <a:stCxn id="139" idx="4"/>
              <a:endCxn id="140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8"/>
            <p:cNvCxnSpPr>
              <a:stCxn id="130" idx="0"/>
              <a:endCxn id="140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2" name="_s21517"/>
            <p:cNvCxnSpPr>
              <a:stCxn id="135" idx="0"/>
              <a:endCxn id="140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40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4AA-E981-49D8-9053-7B7BD68AE82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8235A-3B3A-46C2-89AB-0023F7422FBB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2A4-BC8C-49A9-BBA7-336686ACDE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5FB3E-4151-4E03-B628-AC3D7D57AB0A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51:00Z</dcterms:modified>
  <cp:revision>20</cp:revision>
  <dc:subject/>
  <dc:title>SportPro SA</dc:title>
</cp:coreProperties>
</file>