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C807-2BAD-462D-B987-EC7BA13F35B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6CEA-5829-47D2-8379-5D625BF803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40A1-F509-4967-8EB0-4A1F91C0A8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AA49-4878-4796-AF19-8D51258CC22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296D-766A-44C9-BD0A-07273ECF7F1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58CC-DB25-4496-8F82-2AC3084C50E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949F-C8C1-4C5E-B3B3-2300A7435D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4785-1A13-4D18-AA91-54B4EC02CF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12C9-86F9-461F-8AB6-E1003A3AC1F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20AB-29B9-4750-8790-F5E6FD5EC0D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ECDF-30DC-4F3C-8734-6F12F39BC55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F839-7664-4EFA-B1C4-FADFDA3E6AB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8CCB-CFEF-4AAF-8708-B8E56100841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6908-ABA2-4AF4-BEED-042D58CA9C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1609-3409-4836-8356-41ADC4E2CCE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E8C8-6F89-4934-829E-3622E00676C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5F73-3CB7-4B5B-97A8-1E43FC046F4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8E73-7C40-4A32-A1D5-C9726B859D5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27BE-B892-41D7-A9DB-5DE096A2937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6634-E671-44AB-BC06-6E2C0917B49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0283-F759-457E-9575-47389F416D8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C991-791C-42D9-894A-ACB63B488BF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81DE-29F0-4F2D-B163-762DBD86765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E5D4-859A-43FF-AB11-1692F1061F7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ABC2-4419-49DE-9622-245DEFAF5C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52F0-F59E-46D5-91E5-7D0F9D9C055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EB9A-221B-46B9-BE7A-2FCC6227306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F970-3618-44DB-AB7D-1355B5DF2B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B75A-9DA0-4962-9837-DAC147CF100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4279-9B8C-428C-99EA-4C7EFE435C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C627-21C5-45CF-B2AF-85B49DE1D21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CAEA-A330-498D-A082-0AF84839D7A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3502-2058-47E1-9177-760E34D0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9A8D-22BA-406C-AFEA-84DC2E60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B629-95A3-4314-89BA-1951C281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B43C-23AC-4DAB-AA6E-E7B9954E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02A3-C4DE-410D-81EA-46ACCC5F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EF17-C045-4113-840A-1FE4F606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8594-B628-4874-B8AF-6E89EF38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A6C9-B9F3-4CF5-AA11-702981A5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511F-2C4B-4755-B7C2-1476A9D8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5AE3-4F74-43B2-A97B-C865A01A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913D-8713-4574-A80A-0A011001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CFA7-BACF-4265-85CA-469B5368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2205-904F-4604-9BD5-2206EF05D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1224000" y="2279520"/>
            <a:ext cx="7005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f0"/>
                </a:solidFill>
                <a:latin typeface="Calibri"/>
                <a:ea typeface="Times New Roman"/>
              </a:rPr>
              <a:t>Avez-vous 2 heures à consacrer à la réflexion sur l’avenir de votre entreprise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727440" y="351000"/>
            <a:ext cx="232236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1"/>
          <p:cNvSpPr/>
          <p:nvPr/>
        </p:nvSpPr>
        <p:spPr>
          <a:xfrm>
            <a:off x="2017800" y="171468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3 Analyser les produits, les services, les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90640" y="3009960"/>
          <a:ext cx="7916760" cy="1881000"/>
        </p:xfrm>
        <a:graphic>
          <a:graphicData uri="http://schemas.openxmlformats.org/drawingml/2006/table">
            <a:tbl>
              <a:tblPr/>
              <a:tblGrid>
                <a:gridCol w="2638440"/>
                <a:gridCol w="2639880"/>
                <a:gridCol w="263844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i sont nos clients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s sont nos produits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s sont nos services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884160" y="5162400"/>
          <a:ext cx="7929720" cy="1100160"/>
        </p:xfrm>
        <a:graphic>
          <a:graphicData uri="http://schemas.openxmlformats.org/drawingml/2006/table">
            <a:tbl>
              <a:tblPr/>
              <a:tblGrid>
                <a:gridCol w="3963960"/>
                <a:gridCol w="3965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 est le métier de l’entreprise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le est la réelle valeur ajoutée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  <p:pic>
        <p:nvPicPr>
          <p:cNvPr id="99" name="Groupe 6" descr=""/>
          <p:cNvPicPr/>
          <p:nvPr/>
        </p:nvPicPr>
        <p:blipFill>
          <a:blip r:embed="rId1"/>
          <a:stretch/>
        </p:blipFill>
        <p:spPr>
          <a:xfrm>
            <a:off x="2335320" y="493560"/>
            <a:ext cx="51260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01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mer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28760" y="1357200"/>
          <a:ext cx="8286480" cy="5241960"/>
        </p:xfrm>
        <a:graphic>
          <a:graphicData uri="http://schemas.openxmlformats.org/drawingml/2006/table">
            <a:tbl>
              <a:tblPr/>
              <a:tblGrid>
                <a:gridCol w="6226200"/>
                <a:gridCol w="1076040"/>
                <a:gridCol w="98424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fournisseurs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fournisseurs potentiels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fournisseurs ont-ils été clas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cessus de prospection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cessus de vent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incipaux concurrents sont-ils connus et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 concurrents ont-ils été clas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entreprise a-t-elle été classée par rapport à ses concurren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cessus d’innovation a-t-il été identifi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cessus d’innovation des concurrents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1"/>
          <p:cNvSpPr/>
          <p:nvPr/>
        </p:nvSpPr>
        <p:spPr>
          <a:xfrm>
            <a:off x="2017800" y="178596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4 Analyser les modes de commerci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Groupe 4" descr=""/>
          <p:cNvPicPr/>
          <p:nvPr/>
        </p:nvPicPr>
        <p:blipFill>
          <a:blip r:embed="rId1"/>
          <a:stretch/>
        </p:blipFill>
        <p:spPr>
          <a:xfrm>
            <a:off x="2279520" y="493560"/>
            <a:ext cx="5187960" cy="78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1098720" y="3067200"/>
          <a:ext cx="7500600" cy="1854000"/>
        </p:xfrm>
        <a:graphic>
          <a:graphicData uri="http://schemas.openxmlformats.org/drawingml/2006/table">
            <a:tbl>
              <a:tblPr/>
              <a:tblGrid>
                <a:gridCol w="2500200"/>
                <a:gridCol w="2500200"/>
                <a:gridCol w="2500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urniss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curr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ints fo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ints fai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r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811080" y="5162400"/>
          <a:ext cx="8074080" cy="1100160"/>
        </p:xfrm>
        <a:graphic>
          <a:graphicData uri="http://schemas.openxmlformats.org/drawingml/2006/table">
            <a:tbl>
              <a:tblPr/>
              <a:tblGrid>
                <a:gridCol w="4037040"/>
                <a:gridCol w="4037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ent est-ce que je vends à mes client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ent est-ce que je touche les prospect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18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rgan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42960" y="1285920"/>
          <a:ext cx="8215200" cy="5241960"/>
        </p:xfrm>
        <a:graphic>
          <a:graphicData uri="http://schemas.openxmlformats.org/drawingml/2006/table">
            <a:tbl>
              <a:tblPr/>
              <a:tblGrid>
                <a:gridCol w="6172200"/>
                <a:gridCol w="1066680"/>
                <a:gridCol w="97632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organigramme hiérarchique a-t-il été dessin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organigramme fonctionnel a-t-il été dessin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rganigrammes fonctionnels et hiérarchiques ont-ils été superpo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grands processus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liste des moyens dont dispose l’entreprise a-t-elle été réalis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des de mangement de la direction générale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des de management des principaux cadres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sociogrammes des différents services et directions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éléments de motivation des différents collaborateurs et cadres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évaluation de la cohérence entre les objectifs et l’organisation de l’entreprise a-t-elle été fa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1"/>
          <p:cNvSpPr/>
          <p:nvPr/>
        </p:nvSpPr>
        <p:spPr>
          <a:xfrm>
            <a:off x="2035080" y="192888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5 Analyser l’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Groupe 4" descr=""/>
          <p:cNvPicPr/>
          <p:nvPr/>
        </p:nvPicPr>
        <p:blipFill>
          <a:blip r:embed="rId1"/>
          <a:stretch/>
        </p:blipFill>
        <p:spPr>
          <a:xfrm>
            <a:off x="2352600" y="706320"/>
            <a:ext cx="512784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847800" y="3027240"/>
          <a:ext cx="8037360" cy="3048120"/>
        </p:xfrm>
        <a:graphic>
          <a:graphicData uri="http://schemas.openxmlformats.org/drawingml/2006/table">
            <a:tbl>
              <a:tblPr/>
              <a:tblGrid>
                <a:gridCol w="1714320"/>
                <a:gridCol w="1581120"/>
                <a:gridCol w="1581120"/>
                <a:gridCol w="1579680"/>
                <a:gridCol w="15811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ément analys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s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iblement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yennement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faitement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GRAM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IV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34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Fin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28760" y="1285920"/>
          <a:ext cx="8358120" cy="5241960"/>
        </p:xfrm>
        <a:graphic>
          <a:graphicData uri="http://schemas.openxmlformats.org/drawingml/2006/table">
            <a:tbl>
              <a:tblPr/>
              <a:tblGrid>
                <a:gridCol w="6278400"/>
                <a:gridCol w="1085760"/>
                <a:gridCol w="9939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harge par personne et par activité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harge entre les différents services et directions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coûts-hommes ont-ils été détermin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alorisation des tâches avec le coût-homme a-t-elle été effect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essources humaines disponibles ont-elles été évalu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essources matérielles disponibles ont-elles été évalu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essources financières disponibles ont-elles été évalu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es projets à mener dans le projet d’entreprise et les ressources disponibles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arbitrages sur les projets à mener ont-ils été fa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retours sur investissement des projets à mener a-t-il été évalu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1"/>
          <p:cNvSpPr/>
          <p:nvPr/>
        </p:nvSpPr>
        <p:spPr>
          <a:xfrm>
            <a:off x="1862280" y="178596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6 Analyser les fin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Groupe 4" descr=""/>
          <p:cNvPicPr/>
          <p:nvPr/>
        </p:nvPicPr>
        <p:blipFill>
          <a:blip r:embed="rId1"/>
          <a:stretch/>
        </p:blipFill>
        <p:spPr>
          <a:xfrm>
            <a:off x="2182680" y="633240"/>
            <a:ext cx="511992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1101600" y="2967120"/>
          <a:ext cx="7183440" cy="1752480"/>
        </p:xfrm>
        <a:graphic>
          <a:graphicData uri="http://schemas.openxmlformats.org/drawingml/2006/table">
            <a:tbl>
              <a:tblPr/>
              <a:tblGrid>
                <a:gridCol w="2664000"/>
                <a:gridCol w="1490760"/>
                <a:gridCol w="1450800"/>
                <a:gridCol w="157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ciè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uma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 matéri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ponibles actuel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À mobiliser en 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t 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893880" y="5162400"/>
          <a:ext cx="7597800" cy="1100160"/>
        </p:xfrm>
        <a:graphic>
          <a:graphicData uri="http://schemas.openxmlformats.org/drawingml/2006/table">
            <a:tbl>
              <a:tblPr/>
              <a:tblGrid>
                <a:gridCol w="7597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 est le retour sur investissement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51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51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iagnos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28760" y="1357200"/>
          <a:ext cx="8358120" cy="5241960"/>
        </p:xfrm>
        <a:graphic>
          <a:graphicData uri="http://schemas.openxmlformats.org/drawingml/2006/table">
            <a:tbl>
              <a:tblPr/>
              <a:tblGrid>
                <a:gridCol w="6278400"/>
                <a:gridCol w="1085760"/>
                <a:gridCol w="9939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tes les analyses ont-elles été menées complètemen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oints forts de chaque élément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oints faibles de chaque élément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éléments ont-ils été mis en perspective les uns par rapport aux autr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incipales « maladies » de l’entreprise ont-elles été identifi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 face de chaque maladie, les axes de progression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axes de progression sont-ils cohérents avec la vision stratégiqu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a-t-elle été validée ou reformul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généraux ont-ils été validés ou réévalu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apacité de l’entreprise à mener son projet d’entreprise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1"/>
          <p:cNvSpPr/>
          <p:nvPr/>
        </p:nvSpPr>
        <p:spPr>
          <a:xfrm>
            <a:off x="2033640" y="174780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7 Faire le diagno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Groupe 5" descr=""/>
          <p:cNvPicPr/>
          <p:nvPr/>
        </p:nvPicPr>
        <p:blipFill>
          <a:blip r:embed="rId1"/>
          <a:stretch/>
        </p:blipFill>
        <p:spPr>
          <a:xfrm>
            <a:off x="2352600" y="407880"/>
            <a:ext cx="512136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1071720" y="2786040"/>
          <a:ext cx="7581600" cy="1854360"/>
        </p:xfrm>
        <a:graphic>
          <a:graphicData uri="http://schemas.openxmlformats.org/drawingml/2006/table">
            <a:tbl>
              <a:tblPr/>
              <a:tblGrid>
                <a:gridCol w="1704960"/>
                <a:gridCol w="1469880"/>
                <a:gridCol w="1468440"/>
                <a:gridCol w="1469880"/>
                <a:gridCol w="14684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è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ibl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n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portun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r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830160" y="5162400"/>
          <a:ext cx="8066160" cy="1160640"/>
        </p:xfrm>
        <a:graphic>
          <a:graphicData uri="http://schemas.openxmlformats.org/drawingml/2006/table">
            <a:tbl>
              <a:tblPr/>
              <a:tblGrid>
                <a:gridCol w="8066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les sont les « maladies » de l’entreprise qui empêcheraient d’atteindre les objectif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68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j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57120" y="1357200"/>
          <a:ext cx="8572680" cy="5241960"/>
        </p:xfrm>
        <a:graphic>
          <a:graphicData uri="http://schemas.openxmlformats.org/drawingml/2006/table">
            <a:tbl>
              <a:tblPr/>
              <a:tblGrid>
                <a:gridCol w="6440400"/>
                <a:gridCol w="1113120"/>
                <a:gridCol w="10191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est-elle clair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est-elle cohérente avec les capacités de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a-t-elle été suffisamment déclinée en objectifs mesurabl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liste des projets à mener a-t-elle été finalis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évolutions organisationnelles nécessaires ont-elles été identifi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lans marketing et commercial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lan financier a-t-il été construi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document « projet d’entreprise » a-t-il été rédig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jet d’entreprise est-il clair et compréhensible par tou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jet d’entreprise a-t-il été validé par les actionnaires puis communiqué aux collaborateur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1"/>
          <p:cNvSpPr/>
          <p:nvPr/>
        </p:nvSpPr>
        <p:spPr>
          <a:xfrm>
            <a:off x="2019240" y="174780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8 Rédiger et communiquer le projet d’entre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Groupe 4" descr=""/>
          <p:cNvPicPr/>
          <p:nvPr/>
        </p:nvPicPr>
        <p:blipFill>
          <a:blip r:embed="rId1"/>
          <a:stretch/>
        </p:blipFill>
        <p:spPr>
          <a:xfrm>
            <a:off x="2341440" y="407880"/>
            <a:ext cx="511992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1801800" y="4125960"/>
          <a:ext cx="6095880" cy="22255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812880" y="2786040"/>
          <a:ext cx="8074080" cy="1100160"/>
        </p:xfrm>
        <a:graphic>
          <a:graphicData uri="http://schemas.openxmlformats.org/drawingml/2006/table">
            <a:tbl>
              <a:tblPr/>
              <a:tblGrid>
                <a:gridCol w="4037040"/>
                <a:gridCol w="4037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 nouvelle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s objectifs généraux associés à cette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Diagramme 9" descr=""/>
          <p:cNvPicPr/>
          <p:nvPr/>
        </p:nvPicPr>
        <p:blipFill>
          <a:blip r:embed="rId1"/>
          <a:stretch/>
        </p:blipFill>
        <p:spPr>
          <a:xfrm>
            <a:off x="1420920" y="841320"/>
            <a:ext cx="6869160" cy="4316400"/>
          </a:xfrm>
          <a:prstGeom prst="rect">
            <a:avLst/>
          </a:prstGeom>
          <a:ln w="0">
            <a:noFill/>
          </a:ln>
        </p:spPr>
      </p:pic>
      <p:sp>
        <p:nvSpPr>
          <p:cNvPr id="185" name="Connecteur droit 10"/>
          <p:cNvSpPr/>
          <p:nvPr/>
        </p:nvSpPr>
        <p:spPr>
          <a:xfrm flipV="1">
            <a:off x="1660680" y="4803480"/>
            <a:ext cx="1046160" cy="839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onnecteur droit 11"/>
          <p:cNvSpPr/>
          <p:nvPr/>
        </p:nvSpPr>
        <p:spPr>
          <a:xfrm flipV="1">
            <a:off x="5962680" y="1564920"/>
            <a:ext cx="1046160" cy="83988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Ellipse 12"/>
          <p:cNvSpPr/>
          <p:nvPr/>
        </p:nvSpPr>
        <p:spPr>
          <a:xfrm>
            <a:off x="3753000" y="3548160"/>
            <a:ext cx="696600" cy="720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llipse 13"/>
          <p:cNvSpPr/>
          <p:nvPr/>
        </p:nvSpPr>
        <p:spPr>
          <a:xfrm>
            <a:off x="4389480" y="2139840"/>
            <a:ext cx="696960" cy="720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llipse 14"/>
          <p:cNvSpPr/>
          <p:nvPr/>
        </p:nvSpPr>
        <p:spPr>
          <a:xfrm>
            <a:off x="5324400" y="3525840"/>
            <a:ext cx="696960" cy="719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ilo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57120" y="1214280"/>
          <a:ext cx="8501040" cy="5241960"/>
        </p:xfrm>
        <a:graphic>
          <a:graphicData uri="http://schemas.openxmlformats.org/drawingml/2006/table">
            <a:tbl>
              <a:tblPr/>
              <a:tblGrid>
                <a:gridCol w="6386760"/>
                <a:gridCol w="1104840"/>
                <a:gridCol w="100944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tableaux de bord mensuels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tableaux de bord trimestriels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des de reporting des tableaux de bord sont-ils connus de tou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anagers connaissent-t-ils les modes de consolidation des tableaux de bord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unions mensuelles sont-elles programm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unions semestrielles sont-elles programm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unions annuelles sont-elles programm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temps nécessaire pour les bilans intermédiaires a-t-il été réserv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collaborateurs sont-ils conscients de l’importance du suivi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direction générale est-elle prête à consacrer le temps nécessaire au pilotag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1"/>
          <p:cNvSpPr/>
          <p:nvPr/>
        </p:nvSpPr>
        <p:spPr>
          <a:xfrm>
            <a:off x="2103480" y="174780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9 Piloter le projet d’entre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roupe 4" descr=""/>
          <p:cNvPicPr/>
          <p:nvPr/>
        </p:nvPicPr>
        <p:blipFill>
          <a:blip r:embed="rId1"/>
          <a:stretch/>
        </p:blipFill>
        <p:spPr>
          <a:xfrm>
            <a:off x="2236680" y="633240"/>
            <a:ext cx="546264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947880" y="2676600"/>
          <a:ext cx="7972200" cy="3954240"/>
        </p:xfrm>
        <a:graphic>
          <a:graphicData uri="http://schemas.openxmlformats.org/drawingml/2006/table">
            <a:tbl>
              <a:tblPr/>
              <a:tblGrid>
                <a:gridCol w="1992240"/>
                <a:gridCol w="1993680"/>
                <a:gridCol w="1992600"/>
                <a:gridCol w="199368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atte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non atte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ons correcti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l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û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Diagramme 3" descr=""/>
          <p:cNvPicPr/>
          <p:nvPr/>
        </p:nvPicPr>
        <p:blipFill>
          <a:blip r:embed="rId1"/>
          <a:stretch/>
        </p:blipFill>
        <p:spPr>
          <a:xfrm>
            <a:off x="2139840" y="1994040"/>
            <a:ext cx="4651560" cy="2779560"/>
          </a:xfrm>
          <a:prstGeom prst="rect">
            <a:avLst/>
          </a:prstGeom>
          <a:ln w="0">
            <a:noFill/>
          </a:ln>
        </p:spPr>
      </p:pic>
      <p:sp>
        <p:nvSpPr>
          <p:cNvPr id="196" name="Connecteur droit 4"/>
          <p:cNvSpPr/>
          <p:nvPr/>
        </p:nvSpPr>
        <p:spPr>
          <a:xfrm flipV="1">
            <a:off x="2266920" y="4303800"/>
            <a:ext cx="946080" cy="76824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onnecteur droit 5"/>
          <p:cNvSpPr/>
          <p:nvPr/>
        </p:nvSpPr>
        <p:spPr>
          <a:xfrm flipV="1">
            <a:off x="5735520" y="1999800"/>
            <a:ext cx="630360" cy="43812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e 9"/>
          <p:cNvGrpSpPr/>
          <p:nvPr/>
        </p:nvGrpSpPr>
        <p:grpSpPr>
          <a:xfrm>
            <a:off x="4494240" y="2914560"/>
            <a:ext cx="812880" cy="498600"/>
            <a:chOff x="4494240" y="2914560"/>
            <a:chExt cx="812880" cy="498600"/>
          </a:xfrm>
        </p:grpSpPr>
        <p:sp>
          <p:nvSpPr>
            <p:cNvPr id="199" name="Ellipse 7"/>
            <p:cNvSpPr/>
            <p:nvPr/>
          </p:nvSpPr>
          <p:spPr>
            <a:xfrm>
              <a:off x="4527360" y="2914560"/>
              <a:ext cx="538200" cy="498600"/>
            </a:xfrm>
            <a:prstGeom prst="ellipse">
              <a:avLst/>
            </a:prstGeom>
            <a:solidFill>
              <a:srgbClr val="984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ZoneTexte 8"/>
            <p:cNvSpPr/>
            <p:nvPr/>
          </p:nvSpPr>
          <p:spPr>
            <a:xfrm>
              <a:off x="4494240" y="2923200"/>
              <a:ext cx="81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85880" y="1214280"/>
          <a:ext cx="7643880" cy="5241960"/>
        </p:xfrm>
        <a:graphic>
          <a:graphicData uri="http://schemas.openxmlformats.org/drawingml/2006/table">
            <a:tbl>
              <a:tblPr/>
              <a:tblGrid>
                <a:gridCol w="5742000"/>
                <a:gridCol w="993600"/>
                <a:gridCol w="90828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fait l’analyse des résultats obtenus sur les 3 dernières ann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mis en perspective ces résultats avec vos ambitions pour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mis en perspective ces résultats avec vos ambitions personnell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quelles sont les valeurs que vous souhaitez véhiculer dans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naissez-vous les objectifs personnels des différents actionnair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rédigé une première vision de l’entreprise à horizon 3 an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’apporterait cette vision à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’apporterait cette vision aux actionnair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e rapporterait cette vision aux collaborate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e vous apporterait cette vision à vous à titre personnel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i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28760" y="1285920"/>
          <a:ext cx="8477280" cy="5241960"/>
        </p:xfrm>
        <a:graphic>
          <a:graphicData uri="http://schemas.openxmlformats.org/drawingml/2006/table">
            <a:tbl>
              <a:tblPr/>
              <a:tblGrid>
                <a:gridCol w="6368760"/>
                <a:gridCol w="1101960"/>
                <a:gridCol w="10065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bilan annuels ont-ils été réali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 historique des principaux événements a-t-il été construi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réunion de bilan global a-t-elle eu lieu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synthèse du bilan a-t-elle été fa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recherche des causes des dysfonctionnements éventuels a-t-elle été fa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actions correctives à mener dans le prochain projet d’entreprise ont-elles été listées 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jet d’entreprise a-t-il été clôturé par une manifestation impliquant tous les collaborateur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sultats du projet d’entreprise ont-ils été communiqués à tous les collaborateur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collaborateurs les plus méritants ont-ils été récompen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nouvelle vision a-t-elle été écr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1"/>
          <p:cNvSpPr/>
          <p:nvPr/>
        </p:nvSpPr>
        <p:spPr>
          <a:xfrm>
            <a:off x="2046240" y="174780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10 Faire le bilan et lancer le nouveau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e 8"/>
          <p:cNvGrpSpPr/>
          <p:nvPr/>
        </p:nvGrpSpPr>
        <p:grpSpPr>
          <a:xfrm>
            <a:off x="2085840" y="642960"/>
            <a:ext cx="5379120" cy="772920"/>
            <a:chOff x="2085840" y="642960"/>
            <a:chExt cx="5379120" cy="772920"/>
          </a:xfrm>
        </p:grpSpPr>
        <p:pic>
          <p:nvPicPr>
            <p:cNvPr id="205" name="Picture 3" descr=""/>
            <p:cNvPicPr/>
            <p:nvPr/>
          </p:nvPicPr>
          <p:blipFill>
            <a:blip r:embed="rId1"/>
            <a:stretch/>
          </p:blipFill>
          <p:spPr>
            <a:xfrm>
              <a:off x="2085840" y="642960"/>
              <a:ext cx="9018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ZoneTexte 6"/>
            <p:cNvSpPr/>
            <p:nvPr/>
          </p:nvSpPr>
          <p:spPr>
            <a:xfrm>
              <a:off x="3210480" y="653760"/>
              <a:ext cx="4254480" cy="703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Le tout en 60 minutes tous les a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t tous les 3 ans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7" name=""/>
          <p:cNvGraphicFramePr/>
          <p:nvPr/>
        </p:nvGraphicFramePr>
        <p:xfrm>
          <a:off x="1042920" y="2930400"/>
          <a:ext cx="7667640" cy="2865600"/>
        </p:xfrm>
        <a:graphic>
          <a:graphicData uri="http://schemas.openxmlformats.org/drawingml/2006/table">
            <a:tbl>
              <a:tblPr/>
              <a:tblGrid>
                <a:gridCol w="1916280"/>
                <a:gridCol w="1917720"/>
                <a:gridCol w="1915920"/>
                <a:gridCol w="1917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éments analys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 qui a bien march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 qui a mal march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 qu’il aurait fallu f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1"/>
          <p:cNvSpPr/>
          <p:nvPr/>
        </p:nvSpPr>
        <p:spPr>
          <a:xfrm>
            <a:off x="2062080" y="150012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1 Avoir et rédiger la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84400" y="2428920"/>
          <a:ext cx="7418160" cy="1881000"/>
        </p:xfrm>
        <a:graphic>
          <a:graphicData uri="http://schemas.openxmlformats.org/drawingml/2006/table">
            <a:tbl>
              <a:tblPr/>
              <a:tblGrid>
                <a:gridCol w="2473200"/>
                <a:gridCol w="2471760"/>
                <a:gridCol w="247320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s B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perso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professio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6 mo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1 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3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928800" y="4857840"/>
          <a:ext cx="7929360" cy="1100160"/>
        </p:xfrm>
        <a:graphic>
          <a:graphicData uri="http://schemas.openxmlformats.org/drawingml/2006/table">
            <a:tbl>
              <a:tblPr/>
              <a:tblGrid>
                <a:gridCol w="3963960"/>
                <a:gridCol w="3965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hérence entre personnel- professionnel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 vision de l’entreprise à 3 an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  <p:pic>
        <p:nvPicPr>
          <p:cNvPr id="66" name="Groupe 9" descr=""/>
          <p:cNvPicPr/>
          <p:nvPr/>
        </p:nvPicPr>
        <p:blipFill>
          <a:blip r:embed="rId1"/>
          <a:stretch/>
        </p:blipFill>
        <p:spPr>
          <a:xfrm>
            <a:off x="2382840" y="353880"/>
            <a:ext cx="51213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68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bjectif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14240" y="1249200"/>
          <a:ext cx="7929720" cy="5241960"/>
        </p:xfrm>
        <a:graphic>
          <a:graphicData uri="http://schemas.openxmlformats.org/drawingml/2006/table">
            <a:tbl>
              <a:tblPr/>
              <a:tblGrid>
                <a:gridCol w="5958000"/>
                <a:gridCol w="1030320"/>
                <a:gridCol w="94140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généraux sont-ils cohérents avec la vision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ont-ils été déclinés pour chaque direction fonctionnell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ont-ils été déclinés pour chaque direction opérationnell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fonctionnels et opérationnels sont-ils cohérents avec les objectif généraux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chiffre d’affaires est-il déterminé pour chaque anné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résultat net est-il déterminé pour chaque anné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effectifs ont-ils été évalués pour chaque anné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effectifs prévus sont-ils cohérents avec les résultats nets escomp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yens à mettre en place ont-ils été évalu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yens à mettre en place ont-ils été valorisés et intégrés dans le résultat ne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1"/>
          <p:cNvSpPr/>
          <p:nvPr/>
        </p:nvSpPr>
        <p:spPr>
          <a:xfrm>
            <a:off x="1843200" y="1643040"/>
            <a:ext cx="565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2 Décliner la vision en objectifs opératio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914400" y="3078000"/>
          <a:ext cx="7516800" cy="2757600"/>
        </p:xfrm>
        <a:graphic>
          <a:graphicData uri="http://schemas.openxmlformats.org/drawingml/2006/table">
            <a:tbl>
              <a:tblPr/>
              <a:tblGrid>
                <a:gridCol w="1498680"/>
                <a:gridCol w="1203120"/>
                <a:gridCol w="1203480"/>
                <a:gridCol w="1204920"/>
                <a:gridCol w="1203120"/>
                <a:gridCol w="120348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élais de réalis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iffre d’affai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ésultat 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ffectif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yens à mettre en pl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res objectif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r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pic>
        <p:nvPicPr>
          <p:cNvPr id="82" name="Groupe 5" descr=""/>
          <p:cNvPicPr/>
          <p:nvPr/>
        </p:nvPicPr>
        <p:blipFill>
          <a:blip r:embed="rId1"/>
          <a:stretch/>
        </p:blipFill>
        <p:spPr>
          <a:xfrm>
            <a:off x="2103480" y="420840"/>
            <a:ext cx="519264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84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ark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00040" y="1428840"/>
          <a:ext cx="8358120" cy="5241960"/>
        </p:xfrm>
        <a:graphic>
          <a:graphicData uri="http://schemas.openxmlformats.org/drawingml/2006/table">
            <a:tbl>
              <a:tblPr/>
              <a:tblGrid>
                <a:gridCol w="6278760"/>
                <a:gridCol w="1085760"/>
                <a:gridCol w="99360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produits commercialisés par l’entrepris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services commercialisés par l’entrepris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duits et services qui apportent la meilleure imag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duits et services qui apportent la meilleure marge nett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métier de l’entreprise a-t-il été identifi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es produits, les services et le métier de l’entreprise a-t-elle été vérifi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typologies de clients ont-elles été identifi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es clients, les produits et les services a-t-elle été vérifi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’image de l’entreprise et son métier a-t-elle été vérifi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valeurs de l’entreprise perçues par les clients sont-elles cohérentes avec les valeurs prônées par la direction général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9:57:44Z</dcterms:created>
  <dc:creator>Utilisateur Windows</dc:creator>
  <dc:description/>
  <dc:language>en-US</dc:language>
  <cp:lastModifiedBy>mmontaudouin</cp:lastModifiedBy>
  <dcterms:modified xsi:type="dcterms:W3CDTF">2010-03-30T15:26:59Z</dcterms:modified>
  <cp:revision>28</cp:revision>
  <dc:subject/>
  <dc:title>Diapositive 1</dc:title>
</cp:coreProperties>
</file>