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DD52-40F1-408D-9605-B248794179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F0B5-DE00-4F91-BD33-734632B4A1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554-5DAF-458B-8004-E40F0DEEA7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FD5C-429C-4218-8877-57ECBC5BA0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FB88-6E7F-4DA2-AF52-BD94F823FB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A09-0B75-4B1C-82D3-24CEE199BB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9908-8DC6-4F00-87DC-3D4C516654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89F-0D30-4063-A3DD-73AAA99DED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B6EE-0019-49A2-A654-C069F4D9F0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E823-2A5C-443C-9AE6-0534F1B277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0AB2-C8CB-4E45-AE54-7FA737CE23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711B-BC49-4AB4-9131-F24C6AA3DA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E091-DEDF-4A2C-90EF-36E02BCB2F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C27-90B5-4AAC-B41B-6C204361E5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650-C687-4F8D-A901-3D6EE06B01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B46F-5133-4860-871E-38FB5491B0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6DC3-34BE-48CF-99BF-5AC797319A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DA4-0050-44F4-B02B-55EC4E1587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6E14-7837-49C1-A7AB-47CFB11B74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A4CD-448D-4FB6-B700-C1781703A6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F65-92A7-4FD7-A1E0-035C4C3CA3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0F1-A0AF-40C0-B780-AA9C197193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E246-4724-48DB-8657-AF7FACBD63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31D-B0EE-4E40-A356-C10452D80A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A582-84C2-42DA-995B-CA77264F43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7921-B0B5-4FA6-B9BE-4FB4A1CF72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7825-BF91-450C-9230-E4E6E13901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0D8F-464A-43F7-A125-5E523FBB32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5220-39FB-45FD-98DD-A9DD2DD931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376E-CEAE-49D9-8D8D-035FEE2136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01B-6B01-4802-9256-ED90841373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CAFD-C034-45D5-9017-BECDAAE8CC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8B78-181B-4DDE-A665-42ECE22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F06-CA60-4363-91A9-3707ABF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D0E-6657-42D8-9DF7-298827F3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8AA-9BC3-4B8C-90C3-EEB73A8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6BD-EFAC-4195-B534-6EAE2EA7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2AE-04C2-40FD-BA19-2BF88AEA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F49-3AC4-475B-857E-69DBDE8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56E-4550-40A4-AA10-FD444E6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3B7-E199-4060-8A5F-D0BA7DC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FD5-D9C8-46B9-9772-4100837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936-EA43-4CA3-9475-30BA635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8B2-AB44-40A1-BF41-2403E87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3BD-2F4E-4C2B-BC5F-874578154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224000" y="2279520"/>
            <a:ext cx="700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b0f0"/>
                </a:solidFill>
                <a:latin typeface="Calibri"/>
                <a:ea typeface="Times New Roman"/>
              </a:rPr>
              <a:t>Avez-vous 2 heures à consacrer à la réflexion sur l’avenir de votre entrepris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727440" y="351000"/>
            <a:ext cx="23223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1"/>
          <p:cNvSpPr/>
          <p:nvPr/>
        </p:nvSpPr>
        <p:spPr>
          <a:xfrm>
            <a:off x="2017800" y="171468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3 Analyser les produits, les services, le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90640" y="3009960"/>
          <a:ext cx="7916760" cy="1881000"/>
        </p:xfrm>
        <a:graphic>
          <a:graphicData uri="http://schemas.openxmlformats.org/drawingml/2006/table">
            <a:tbl>
              <a:tblPr/>
              <a:tblGrid>
                <a:gridCol w="2638440"/>
                <a:gridCol w="2639880"/>
                <a:gridCol w="263844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i sont nos clien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produit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s sont nos services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884160" y="5162400"/>
          <a:ext cx="792972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métier de l’entrepris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 est la réelle valeur ajouté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99" name="Groupe 6" descr=""/>
          <p:cNvPicPr/>
          <p:nvPr/>
        </p:nvPicPr>
        <p:blipFill>
          <a:blip r:embed="rId1"/>
          <a:stretch/>
        </p:blipFill>
        <p:spPr>
          <a:xfrm>
            <a:off x="2335320" y="493560"/>
            <a:ext cx="51260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0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28760" y="1357200"/>
          <a:ext cx="8286480" cy="5241960"/>
        </p:xfrm>
        <a:graphic>
          <a:graphicData uri="http://schemas.openxmlformats.org/drawingml/2006/table">
            <a:tbl>
              <a:tblPr/>
              <a:tblGrid>
                <a:gridCol w="6226200"/>
                <a:gridCol w="1076040"/>
                <a:gridCol w="9842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potentiel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fournisseur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prospect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e ven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ux concurrents sont-ils connus et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 concurrents ont-ils été clas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entreprise a-t-elle été classée par rapport à ses concurren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cessus d’innovation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cessus d’innovation des concurrent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2017800" y="178596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4 Analyser les modes de commerc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Groupe 4" descr=""/>
          <p:cNvPicPr/>
          <p:nvPr/>
        </p:nvPicPr>
        <p:blipFill>
          <a:blip r:embed="rId1"/>
          <a:stretch/>
        </p:blipFill>
        <p:spPr>
          <a:xfrm>
            <a:off x="2279520" y="493560"/>
            <a:ext cx="5187960" cy="78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098720" y="3067200"/>
          <a:ext cx="7500600" cy="185400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urniss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cur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s fai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11080" y="516240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vends à mes clien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ment est-ce que je touche les prospect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1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rganis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285920"/>
          <a:ext cx="8215200" cy="5241960"/>
        </p:xfrm>
        <a:graphic>
          <a:graphicData uri="http://schemas.openxmlformats.org/drawingml/2006/table">
            <a:tbl>
              <a:tblPr/>
              <a:tblGrid>
                <a:gridCol w="6172200"/>
                <a:gridCol w="1066680"/>
                <a:gridCol w="97632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hiérarchique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organigramme fonctionnel a-t-il été dessin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rganigrammes fonctionnels et hiérarchiques ont-ils été superpo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grands processu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moyens dont dispose l’entreprise a-t-elle été ré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gement de la direction générale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management des principaux cadres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sociogrammes des différents services et direction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léments de motivation des différents collaborateurs et cadres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évaluation de la cohérence entre les objectifs et l’organisation de l’entreprise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2035080" y="192888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5 Analyser l’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Groupe 4" descr=""/>
          <p:cNvPicPr/>
          <p:nvPr/>
        </p:nvPicPr>
        <p:blipFill>
          <a:blip r:embed="rId1"/>
          <a:stretch/>
        </p:blipFill>
        <p:spPr>
          <a:xfrm>
            <a:off x="2352600" y="706320"/>
            <a:ext cx="51278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847800" y="3027240"/>
          <a:ext cx="8037360" cy="3048120"/>
        </p:xfrm>
        <a:graphic>
          <a:graphicData uri="http://schemas.openxmlformats.org/drawingml/2006/table">
            <a:tbl>
              <a:tblPr/>
              <a:tblGrid>
                <a:gridCol w="1714320"/>
                <a:gridCol w="1581120"/>
                <a:gridCol w="1581120"/>
                <a:gridCol w="1579680"/>
                <a:gridCol w="1581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 analys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s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n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faitement adapté aux obje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GRAM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3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in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28592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par personne et par activité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harge entre les différents services et direction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ûts-hommes ont-ils été détermin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alorisation des tâches avec le coût-homme a-t-elle été effect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humain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matériell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essources financières disponibles ont-elles été évalu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jets à mener dans le projet d’entreprise et les ressources disponibles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rbitrages sur les projets à mener ont-ils été fa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etours sur investissement des projets à mener a-t-il été évalu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1862280" y="178596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6 Analyser les fin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oupe 4" descr=""/>
          <p:cNvPicPr/>
          <p:nvPr/>
        </p:nvPicPr>
        <p:blipFill>
          <a:blip r:embed="rId1"/>
          <a:stretch/>
        </p:blipFill>
        <p:spPr>
          <a:xfrm>
            <a:off x="2182680" y="63324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101600" y="2967120"/>
          <a:ext cx="7183440" cy="1752480"/>
        </p:xfrm>
        <a:graphic>
          <a:graphicData uri="http://schemas.openxmlformats.org/drawingml/2006/table">
            <a:tbl>
              <a:tblPr/>
              <a:tblGrid>
                <a:gridCol w="2664000"/>
                <a:gridCol w="1490760"/>
                <a:gridCol w="1450800"/>
                <a:gridCol w="157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uma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sources matéri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ponibles actuel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mobiliser en 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t 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893880" y="5162400"/>
          <a:ext cx="7597800" cy="1100160"/>
        </p:xfrm>
        <a:graphic>
          <a:graphicData uri="http://schemas.openxmlformats.org/drawingml/2006/table">
            <a:tbl>
              <a:tblPr/>
              <a:tblGrid>
                <a:gridCol w="759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 est le retour sur investissement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51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8760" y="135720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400"/>
                <a:gridCol w="1085760"/>
                <a:gridCol w="9939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tes les analyses ont-elles été menées complètemen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ort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oints faibles de chaque élément ont-ils été identifi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éléments ont-ils été mis en perspective les uns par rapport aux aut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incipales « maladies » de l’entreprise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face de chaque maladie, les axes de progression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xes de progression sont-ils cohérents avec la vision stratégiqu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validée ou reformul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ont-ils été validés ou ré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apacité de l’entreprise à mener son projet d’entreprise a-t-elle été évalu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1"/>
          <p:cNvSpPr/>
          <p:nvPr/>
        </p:nvSpPr>
        <p:spPr>
          <a:xfrm>
            <a:off x="203364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7 Faire le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oupe 5" descr=""/>
          <p:cNvPicPr/>
          <p:nvPr/>
        </p:nvPicPr>
        <p:blipFill>
          <a:blip r:embed="rId1"/>
          <a:stretch/>
        </p:blipFill>
        <p:spPr>
          <a:xfrm>
            <a:off x="2352600" y="407880"/>
            <a:ext cx="512136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1071720" y="2786040"/>
          <a:ext cx="7581600" cy="1854360"/>
        </p:xfrm>
        <a:graphic>
          <a:graphicData uri="http://schemas.openxmlformats.org/drawingml/2006/table">
            <a:tbl>
              <a:tblPr/>
              <a:tblGrid>
                <a:gridCol w="1704960"/>
                <a:gridCol w="1469880"/>
                <a:gridCol w="1468440"/>
                <a:gridCol w="1469880"/>
                <a:gridCol w="14684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è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ibl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n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portun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0160" y="5162400"/>
          <a:ext cx="8066160" cy="1160640"/>
        </p:xfrm>
        <a:graphic>
          <a:graphicData uri="http://schemas.openxmlformats.org/drawingml/2006/table">
            <a:tbl>
              <a:tblPr/>
              <a:tblGrid>
                <a:gridCol w="8066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lles sont les « maladies » de l’entreprise qui empêcheraient d’atteindre les objectif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57120" y="1357200"/>
          <a:ext cx="8572680" cy="5241960"/>
        </p:xfrm>
        <a:graphic>
          <a:graphicData uri="http://schemas.openxmlformats.org/drawingml/2006/table">
            <a:tbl>
              <a:tblPr/>
              <a:tblGrid>
                <a:gridCol w="6440400"/>
                <a:gridCol w="1113120"/>
                <a:gridCol w="10191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lair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est-elle cohérente avec les capacités de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vision a-t-elle été suffisamment déclinée en objectifs mesurab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liste des projets à mener a-t-elle été finalis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évolutions organisationnelles nécessaire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lans marketing et commercial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lan financier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document « projet d’entreprise » a-t-il été rédig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est-il clair et compréhensible par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validé par les actionnaires puis communiqué aux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1"/>
          <p:cNvSpPr/>
          <p:nvPr/>
        </p:nvSpPr>
        <p:spPr>
          <a:xfrm>
            <a:off x="2019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8 Rédiger et communiqu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oupe 4" descr=""/>
          <p:cNvPicPr/>
          <p:nvPr/>
        </p:nvPicPr>
        <p:blipFill>
          <a:blip r:embed="rId1"/>
          <a:stretch/>
        </p:blipFill>
        <p:spPr>
          <a:xfrm>
            <a:off x="2341440" y="407880"/>
            <a:ext cx="511992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801800" y="4125960"/>
          <a:ext cx="6095880" cy="22255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812880" y="2786040"/>
          <a:ext cx="8074080" cy="1100160"/>
        </p:xfrm>
        <a:graphic>
          <a:graphicData uri="http://schemas.openxmlformats.org/drawingml/2006/table">
            <a:tbl>
              <a:tblPr/>
              <a:tblGrid>
                <a:gridCol w="4037040"/>
                <a:gridCol w="403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nouvell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s objectifs généraux associés à cet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Diagramme 9" descr=""/>
          <p:cNvPicPr/>
          <p:nvPr/>
        </p:nvPicPr>
        <p:blipFill>
          <a:blip r:embed="rId1"/>
          <a:stretch/>
        </p:blipFill>
        <p:spPr>
          <a:xfrm>
            <a:off x="1420920" y="841320"/>
            <a:ext cx="6869160" cy="4316400"/>
          </a:xfrm>
          <a:prstGeom prst="rect">
            <a:avLst/>
          </a:prstGeom>
          <a:ln w="0">
            <a:noFill/>
          </a:ln>
        </p:spPr>
      </p:pic>
      <p:sp>
        <p:nvSpPr>
          <p:cNvPr id="185" name="Connecteur droit 10"/>
          <p:cNvSpPr/>
          <p:nvPr/>
        </p:nvSpPr>
        <p:spPr>
          <a:xfrm flipV="1">
            <a:off x="1660680" y="480348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cteur droit 11"/>
          <p:cNvSpPr/>
          <p:nvPr/>
        </p:nvSpPr>
        <p:spPr>
          <a:xfrm flipV="1">
            <a:off x="5962680" y="1564920"/>
            <a:ext cx="1046160" cy="83988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12"/>
          <p:cNvSpPr/>
          <p:nvPr/>
        </p:nvSpPr>
        <p:spPr>
          <a:xfrm>
            <a:off x="3753000" y="3548160"/>
            <a:ext cx="69660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llipse 13"/>
          <p:cNvSpPr/>
          <p:nvPr/>
        </p:nvSpPr>
        <p:spPr>
          <a:xfrm>
            <a:off x="4389480" y="2139840"/>
            <a:ext cx="696960" cy="720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14"/>
          <p:cNvSpPr/>
          <p:nvPr/>
        </p:nvSpPr>
        <p:spPr>
          <a:xfrm>
            <a:off x="5324400" y="3525840"/>
            <a:ext cx="696960" cy="719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ilo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7120" y="1214280"/>
          <a:ext cx="8501040" cy="5241960"/>
        </p:xfrm>
        <a:graphic>
          <a:graphicData uri="http://schemas.openxmlformats.org/drawingml/2006/table">
            <a:tbl>
              <a:tblPr/>
              <a:tblGrid>
                <a:gridCol w="6386760"/>
                <a:gridCol w="1104840"/>
                <a:gridCol w="100944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mensu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ableaux de bord trimestriels ont-ils été construit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des de reporting des tableaux de bord sont-ils connus de tou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anagers connaissent-t-ils les modes de consolidation des tableaux de bord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mens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semestri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unions annuelles sont-elles programm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temps nécessaire pour les bilans intermédiaires a-t-il été réserv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collaborateurs sont-ils conscients de l’importance du suivi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direction générale est-elle prête à consacrer le temps nécessaire au pilotag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1"/>
          <p:cNvSpPr/>
          <p:nvPr/>
        </p:nvSpPr>
        <p:spPr>
          <a:xfrm>
            <a:off x="2103480" y="174780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9 Piloter le projet d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oupe 4" descr=""/>
          <p:cNvPicPr/>
          <p:nvPr/>
        </p:nvPicPr>
        <p:blipFill>
          <a:blip r:embed="rId1"/>
          <a:stretch/>
        </p:blipFill>
        <p:spPr>
          <a:xfrm>
            <a:off x="2236680" y="633240"/>
            <a:ext cx="5462640" cy="78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947880" y="2676600"/>
          <a:ext cx="7972200" cy="3954240"/>
        </p:xfrm>
        <a:graphic>
          <a:graphicData uri="http://schemas.openxmlformats.org/drawingml/2006/table">
            <a:tbl>
              <a:tblPr/>
              <a:tblGrid>
                <a:gridCol w="1992240"/>
                <a:gridCol w="1993680"/>
                <a:gridCol w="1992600"/>
                <a:gridCol w="199368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non atte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s correc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Diagramme 3" descr=""/>
          <p:cNvPicPr/>
          <p:nvPr/>
        </p:nvPicPr>
        <p:blipFill>
          <a:blip r:embed="rId1"/>
          <a:stretch/>
        </p:blipFill>
        <p:spPr>
          <a:xfrm>
            <a:off x="2139840" y="1994040"/>
            <a:ext cx="4651560" cy="2779560"/>
          </a:xfrm>
          <a:prstGeom prst="rect">
            <a:avLst/>
          </a:prstGeom>
          <a:ln w="0">
            <a:noFill/>
          </a:ln>
        </p:spPr>
      </p:pic>
      <p:sp>
        <p:nvSpPr>
          <p:cNvPr id="196" name="Connecteur droit 4"/>
          <p:cNvSpPr/>
          <p:nvPr/>
        </p:nvSpPr>
        <p:spPr>
          <a:xfrm flipV="1">
            <a:off x="2266920" y="4303800"/>
            <a:ext cx="946080" cy="7682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onnecteur droit 5"/>
          <p:cNvSpPr/>
          <p:nvPr/>
        </p:nvSpPr>
        <p:spPr>
          <a:xfrm flipV="1">
            <a:off x="5735520" y="1999800"/>
            <a:ext cx="630360" cy="43812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e 9"/>
          <p:cNvGrpSpPr/>
          <p:nvPr/>
        </p:nvGrpSpPr>
        <p:grpSpPr>
          <a:xfrm>
            <a:off x="4494240" y="2914560"/>
            <a:ext cx="812880" cy="498600"/>
            <a:chOff x="4494240" y="2914560"/>
            <a:chExt cx="812880" cy="498600"/>
          </a:xfrm>
        </p:grpSpPr>
        <p:sp>
          <p:nvSpPr>
            <p:cNvPr id="199" name="Ellipse 7"/>
            <p:cNvSpPr/>
            <p:nvPr/>
          </p:nvSpPr>
          <p:spPr>
            <a:xfrm>
              <a:off x="4527360" y="2914560"/>
              <a:ext cx="538200" cy="498600"/>
            </a:xfrm>
            <a:prstGeom prst="ellipse">
              <a:avLst/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ZoneTexte 8"/>
            <p:cNvSpPr/>
            <p:nvPr/>
          </p:nvSpPr>
          <p:spPr>
            <a:xfrm>
              <a:off x="4494240" y="2923200"/>
              <a:ext cx="81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85880" y="1214280"/>
          <a:ext cx="7643880" cy="5241960"/>
        </p:xfrm>
        <a:graphic>
          <a:graphicData uri="http://schemas.openxmlformats.org/drawingml/2006/table">
            <a:tbl>
              <a:tblPr/>
              <a:tblGrid>
                <a:gridCol w="5742000"/>
                <a:gridCol w="993600"/>
                <a:gridCol w="90828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fait l’analyse des résultats obtenus sur les 3 dernières ann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our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mis en perspective ces résultats avec vos ambitions personnell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quelles sont les valeurs que vous souhaitez véhiculer dans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naissez-vous les objectifs personnels des différents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vez-vous rédigé une première vision de l’entreprise à horizon 3 an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à l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’apporterait cette vision aux actionnair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rapporterait cette vision aux collaborat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avez vous ce que vous apporterait cette vision à vous à titre personnel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1285920"/>
          <a:ext cx="8477280" cy="5241960"/>
        </p:xfrm>
        <a:graphic>
          <a:graphicData uri="http://schemas.openxmlformats.org/drawingml/2006/table">
            <a:tbl>
              <a:tblPr/>
              <a:tblGrid>
                <a:gridCol w="6368760"/>
                <a:gridCol w="1101960"/>
                <a:gridCol w="100656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bilan annuels ont-ils été réali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n historique des principaux événements a-t-il été construi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éunion de bilan global a-t-elle eu lieu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synthèse du bilan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recherche des causes des dysfonctionnements éventuels a-t-elle été fa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actions correctives à mener dans le prochain projet d’entreprise ont-elles été listées 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projet d’entreprise a-t-il été clôturé par une manifestation impliquant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résultats du projet d’entreprise ont-ils été communiqués à tous les collaborateur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collaborateurs les plus méritants ont-ils été récompens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nouvelle vision a-t-elle été écrit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1"/>
          <p:cNvSpPr/>
          <p:nvPr/>
        </p:nvSpPr>
        <p:spPr>
          <a:xfrm>
            <a:off x="2046240" y="1747800"/>
            <a:ext cx="566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0 Faire le bilan et lancer le nouveau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e 8"/>
          <p:cNvGrpSpPr/>
          <p:nvPr/>
        </p:nvGrpSpPr>
        <p:grpSpPr>
          <a:xfrm>
            <a:off x="2085840" y="642960"/>
            <a:ext cx="5379120" cy="772920"/>
            <a:chOff x="2085840" y="642960"/>
            <a:chExt cx="5379120" cy="772920"/>
          </a:xfrm>
        </p:grpSpPr>
        <p:pic>
          <p:nvPicPr>
            <p:cNvPr id="205" name="Picture 3" descr=""/>
            <p:cNvPicPr/>
            <p:nvPr/>
          </p:nvPicPr>
          <p:blipFill>
            <a:blip r:embed="rId1"/>
            <a:stretch/>
          </p:blipFill>
          <p:spPr>
            <a:xfrm>
              <a:off x="2085840" y="642960"/>
              <a:ext cx="90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ZoneTexte 6"/>
            <p:cNvSpPr/>
            <p:nvPr/>
          </p:nvSpPr>
          <p:spPr>
            <a:xfrm>
              <a:off x="3210480" y="653760"/>
              <a:ext cx="4254480" cy="703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Le tout en 60 minutes tous les a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  <a:ea typeface="Verdana"/>
                </a:rPr>
                <a:t>et tous les 3 an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1042920" y="2930400"/>
          <a:ext cx="7667640" cy="2865600"/>
        </p:xfrm>
        <a:graphic>
          <a:graphicData uri="http://schemas.openxmlformats.org/drawingml/2006/table">
            <a:tbl>
              <a:tblPr/>
              <a:tblGrid>
                <a:gridCol w="1916280"/>
                <a:gridCol w="1917720"/>
                <a:gridCol w="1915920"/>
                <a:gridCol w="191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éments analy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bien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i a mal march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 qu’il aurait fallu 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2062080" y="1500120"/>
            <a:ext cx="56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1 Avoir et rédiger la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84400" y="2428920"/>
          <a:ext cx="7418160" cy="1881000"/>
        </p:xfrm>
        <a:graphic>
          <a:graphicData uri="http://schemas.openxmlformats.org/drawingml/2006/table">
            <a:tbl>
              <a:tblPr/>
              <a:tblGrid>
                <a:gridCol w="2473200"/>
                <a:gridCol w="2471760"/>
                <a:gridCol w="24732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s B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ers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ctifs professio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6 m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1 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s 3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28800" y="4857840"/>
          <a:ext cx="7929360" cy="1100160"/>
        </p:xfrm>
        <a:graphic>
          <a:graphicData uri="http://schemas.openxmlformats.org/drawingml/2006/table">
            <a:tbl>
              <a:tblPr/>
              <a:tblGrid>
                <a:gridCol w="3963960"/>
                <a:gridCol w="3965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hérence entre personnel- professionnel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 vision de l’entreprise à 3 ans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  <p:pic>
        <p:nvPicPr>
          <p:cNvPr id="66" name="Groupe 9" descr=""/>
          <p:cNvPicPr/>
          <p:nvPr/>
        </p:nvPicPr>
        <p:blipFill>
          <a:blip r:embed="rId1"/>
          <a:stretch/>
        </p:blipFill>
        <p:spPr>
          <a:xfrm>
            <a:off x="2382840" y="353880"/>
            <a:ext cx="5121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68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4240" y="1249200"/>
          <a:ext cx="7929720" cy="5241960"/>
        </p:xfrm>
        <a:graphic>
          <a:graphicData uri="http://schemas.openxmlformats.org/drawingml/2006/table">
            <a:tbl>
              <a:tblPr/>
              <a:tblGrid>
                <a:gridCol w="5958000"/>
                <a:gridCol w="1030320"/>
                <a:gridCol w="9414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généraux sont-ils cohérents avec la vision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fonc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ont-ils été déclinés pour chaque direction opérationnel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objectifs fonctionnels et opérationnels sont-ils cohérents avec les objectif généraux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chiffre d’affaires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résultat net est-il déterminé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ont-ils été évalués pour chaque année du projet d’entrepris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effectifs prévus sont-ils cohérents avec les résultats nets escomp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évalu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moyens à mettre en place ont-ils été valorisés et intégrés dans le résultat net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1843200" y="1643040"/>
            <a:ext cx="56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84807"/>
                </a:solidFill>
                <a:latin typeface="Verdana"/>
                <a:ea typeface="Verdana"/>
              </a:rPr>
              <a:t>2 Décliner la vision en objectifs opérat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914400" y="3078000"/>
          <a:ext cx="7516800" cy="2757600"/>
        </p:xfrm>
        <a:graphic>
          <a:graphicData uri="http://schemas.openxmlformats.org/drawingml/2006/table">
            <a:tbl>
              <a:tblPr/>
              <a:tblGrid>
                <a:gridCol w="1498680"/>
                <a:gridCol w="1203120"/>
                <a:gridCol w="1203480"/>
                <a:gridCol w="1204920"/>
                <a:gridCol w="1203120"/>
                <a:gridCol w="12034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ffre d’aff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ésultat n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yens à mettre en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res objec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82" name="Groupe 5" descr=""/>
          <p:cNvPicPr/>
          <p:nvPr/>
        </p:nvPicPr>
        <p:blipFill>
          <a:blip r:embed="rId1"/>
          <a:stretch/>
        </p:blipFill>
        <p:spPr>
          <a:xfrm>
            <a:off x="2103480" y="420840"/>
            <a:ext cx="519264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Diagramme 3" descr=""/>
          <p:cNvPicPr/>
          <p:nvPr/>
        </p:nvPicPr>
        <p:blipFill>
          <a:blip r:embed="rId1"/>
          <a:stretch/>
        </p:blipFill>
        <p:spPr>
          <a:xfrm>
            <a:off x="566640" y="1146240"/>
            <a:ext cx="737100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4"/>
          <p:cNvSpPr/>
          <p:nvPr/>
        </p:nvSpPr>
        <p:spPr>
          <a:xfrm flipV="1">
            <a:off x="1940040" y="4973400"/>
            <a:ext cx="428400" cy="3538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necteur droit 5"/>
          <p:cNvSpPr/>
          <p:nvPr/>
        </p:nvSpPr>
        <p:spPr>
          <a:xfrm flipV="1">
            <a:off x="6143760" y="1571400"/>
            <a:ext cx="769680" cy="618840"/>
          </a:xfrm>
          <a:prstGeom prst="line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6"/>
          <p:cNvSpPr/>
          <p:nvPr/>
        </p:nvSpPr>
        <p:spPr>
          <a:xfrm>
            <a:off x="3989520" y="2255760"/>
            <a:ext cx="51408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7"/>
          <p:cNvSpPr/>
          <p:nvPr/>
        </p:nvSpPr>
        <p:spPr>
          <a:xfrm>
            <a:off x="4730760" y="252900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8"/>
          <p:cNvSpPr/>
          <p:nvPr/>
        </p:nvSpPr>
        <p:spPr>
          <a:xfrm>
            <a:off x="500076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9"/>
          <p:cNvSpPr/>
          <p:nvPr/>
        </p:nvSpPr>
        <p:spPr>
          <a:xfrm>
            <a:off x="4730760" y="4005360"/>
            <a:ext cx="51264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llipse 10"/>
          <p:cNvSpPr/>
          <p:nvPr/>
        </p:nvSpPr>
        <p:spPr>
          <a:xfrm>
            <a:off x="4002120" y="42879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llipse 11"/>
          <p:cNvSpPr/>
          <p:nvPr/>
        </p:nvSpPr>
        <p:spPr>
          <a:xfrm>
            <a:off x="3314880" y="399888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12"/>
          <p:cNvSpPr/>
          <p:nvPr/>
        </p:nvSpPr>
        <p:spPr>
          <a:xfrm>
            <a:off x="2975040" y="3263760"/>
            <a:ext cx="512640" cy="53028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13"/>
          <p:cNvSpPr/>
          <p:nvPr/>
        </p:nvSpPr>
        <p:spPr>
          <a:xfrm>
            <a:off x="3290760" y="2530440"/>
            <a:ext cx="513000" cy="531720"/>
          </a:xfrm>
          <a:prstGeom prst="ellipse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  <a:ea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0040" y="1428840"/>
          <a:ext cx="8358120" cy="5241960"/>
        </p:xfrm>
        <a:graphic>
          <a:graphicData uri="http://schemas.openxmlformats.org/drawingml/2006/table">
            <a:tbl>
              <a:tblPr/>
              <a:tblGrid>
                <a:gridCol w="6278760"/>
                <a:gridCol w="1085760"/>
                <a:gridCol w="993600"/>
              </a:tblGrid>
              <a:tr h="36612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produit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us les services commercialisés par l’entrepris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imag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produits et services qui apportent la meilleure marge nette ont-ils été listé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 métier de l’entreprise a-t-il été identifié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produits, les services et le métier de l’entreprise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typologies de clients ont-elles été identifiées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es clients, les produits et les services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 cohérence entre l’image de l’entreprise et son métier a-t-elle été vérifié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487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es valeurs de l’entreprise perçues par les clients sont-elles cohérentes avec les valeurs prônées par la direction générale 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e3bc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9:57:44Z</dcterms:created>
  <dc:creator>Utilisateur Windows</dc:creator>
  <dc:description/>
  <dc:language>en-US</dc:language>
  <cp:lastModifiedBy>mmontaudouin</cp:lastModifiedBy>
  <dcterms:modified xsi:type="dcterms:W3CDTF">2010-03-30T15:26:59Z</dcterms:modified>
  <cp:revision>28</cp:revision>
  <dc:subject/>
  <dc:title>Diapositive 1</dc:title>
</cp:coreProperties>
</file>