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A4E3-B80C-42C0-A2C2-87B6407631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6D1-C2DC-4CC9-898C-048A0FC95F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5B94-7D1E-447C-9619-5044E52BAD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423B-1234-488B-B6ED-C1BE8F1423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E21C-6502-400D-A841-D0C632C99A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4B85-5290-439A-8672-9383FDF5B8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7419-F931-427F-9002-F526DE3D86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2375-B6F4-479F-B1B8-97AA537FCA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0440-022B-4CD1-9C25-55DA21925E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AE0F-0ABA-4C88-ACE3-2182531FF2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A085-543E-40DA-9489-A3E2B265CE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ACD-577F-467B-BF82-3E62F10253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D575-E7F5-4599-96BE-D37CE99CE3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685-0B7C-4FBC-9DBB-853556F2EA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7DE0-52CB-4BE1-978C-D0C3B04D83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DE1-8467-40C5-A0C0-BE369F80D9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CD6C-5C37-4A28-BF13-90EE4325A1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3BE-DC28-4297-A276-F1ED6AC161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8093-2AA5-4334-AFB4-B1F2C04E6C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1233-919B-4699-A6DD-2C8C80D0A9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8EDB-7A83-418B-924D-41F122F6CC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08B7-5221-4761-B239-B941938A06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1495-12C6-4B69-9D53-7E75FC0E74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AB3-4665-4022-AFFE-21A690FF0E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76B0-2E37-45A9-945B-C55E7D9507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8665-ADA3-4ED6-A025-2B3176C849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14E4-AA3C-4BCD-920F-77CC05E051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B80-11A9-4F09-B911-E46A7F2FCF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9E2E-FCA1-41CD-8363-815460485B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0547-6775-4092-B86A-8631AE48F1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7E0-2956-4E43-A710-76752BD8F3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5D4D-A6CA-4D90-A5DC-79DD2596EB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BDC-169D-44EC-9D93-D9B69D5A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1C1-CF61-4A2C-9A83-E10F2168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94F-A182-4F98-B1C5-E4A77EF5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39E-19E9-4E34-8F1C-FC0FFF03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30B-786B-4B56-8F96-8985FD49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A91-F3CE-4F42-9CE1-AF74621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FC3-72BA-4B56-8F2C-7C9476EF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40B-AD0A-4677-8C6E-BB41C681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D2C-A8C3-4A89-BE52-5C5B8006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0B9-C302-4650-9FD0-0663377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934-7BF8-49BB-825D-F0C4ABB5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6B0-E06D-4000-AE42-27B93AD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EDB2-2C79-4814-9D77-DC527567D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-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-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ûts-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âches avec le coût-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les « 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a-t-il été réserv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1960"/>
                <a:gridCol w="10065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é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e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été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1960"/>
        </p:xfrm>
        <a:graphic>
          <a:graphicData uri="http://schemas.openxmlformats.org/drawingml/2006/table">
            <a:tbl>
              <a:tblPr/>
              <a:tblGrid>
                <a:gridCol w="5958000"/>
                <a:gridCol w="1030320"/>
                <a:gridCol w="9414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,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,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mmontaudouin</cp:lastModifiedBy>
  <dcterms:modified xsi:type="dcterms:W3CDTF">2010-03-30T15:26:59Z</dcterms:modified>
  <cp:revision>28</cp:revision>
  <dc:subject/>
  <dc:title>Diapositive 1</dc:title>
</cp:coreProperties>
</file>