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03BA-8F1A-4B8E-8B2D-F2284FC4D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AD5BB-45E0-43C2-B1F9-B5F943F2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1EAFF-53D1-436A-A11A-E343B383A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FF22-5011-42D5-A3FD-614002B7D1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54652-7AD4-4413-9E41-5CB8ED6B92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D2C0-4DCE-49F9-9DF6-CB3D4D07F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0F8D-310E-44AB-A972-6A823A327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F8815-4ADD-4434-A238-49E95736D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6E83-A936-4AF9-AD8F-6A0A2C613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D0EC9-4CC3-40EA-88F5-697157735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4840-ED11-4231-9173-90A847F47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F3C7-22C8-47E7-810B-2E05DD2A1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D80F9-9193-44A7-ABC1-FE2253C6A9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ow to Configure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ho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chard Harris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2376360" y="1257480"/>
            <a:ext cx="4391280" cy="43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762120" y="571680"/>
            <a:ext cx="76197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0-31T22:34:28Z</dcterms:created>
  <dc:creator>Mark R Harrison</dc:creator>
  <dc:description/>
  <dc:language>en-US</dc:language>
  <cp:lastModifiedBy>Mark R Harrison</cp:lastModifiedBy>
  <dcterms:modified xsi:type="dcterms:W3CDTF">1997-10-31T22:38:37Z</dcterms:modified>
  <cp:revision>1</cp:revision>
  <dc:subject/>
  <dc:title>How to Configure Eshop</dc:title>
</cp:coreProperties>
</file>