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152-A601-49A2-A830-1BDC1969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9E6-F521-41D9-8E1B-C9D0C3CE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7AB-CD3C-4B08-8070-EC8DC3F9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2E7-FF38-4D88-ABA9-376EB184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37B-ED96-4B78-8A3C-0395631A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746-E615-4BCB-B494-FA0A5328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3EF-1CDD-4B4F-A582-2524C8D1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45E-C538-4775-BC75-DD8AE6D9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F08-642B-4824-9106-DBCEEAC9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B31-5F4C-48E8-890E-313517F3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84B-4044-49E2-A20D-DD0FD5EF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D39-71C6-4202-8B17-D689B4B6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CCE3-58CC-42E0-BB1A-B692EBDCD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onfig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Har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31T22:34:28Z</dcterms:created>
  <dc:creator>Mark R Harrison</dc:creator>
  <dc:description/>
  <dc:language>en-US</dc:language>
  <cp:lastModifiedBy>Mark R Harrison</cp:lastModifiedBy>
  <dcterms:modified xsi:type="dcterms:W3CDTF">1997-10-31T22:38:37Z</dcterms:modified>
  <cp:revision>1</cp:revision>
  <dc:subject/>
  <dc:title>How to Configure Eshop</dc:title>
</cp:coreProperties>
</file>