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3C1-7773-4F6E-9E49-4711BF0D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12B-D23F-4497-94D1-57E956A6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176-484F-48F5-8893-59594F3C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CCA-8526-4A2B-A257-F8FB9F4E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3C1-FAE4-4AA3-8E38-5662D135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0A9-E204-4903-9D58-03CEA370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753-05E7-45B5-A327-5110BC2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D93-1CA9-4D96-8321-5BF10737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5C4-C6C7-48F3-8A15-807F7F3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F25-E09F-4CC0-8421-0AE4CC9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65A-097C-47A4-8720-4B89E52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BC6-2FC2-45BF-85EE-30FCBFF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097-B9D4-4DB7-B507-924D1F010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onfig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Har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1T22:34:28Z</dcterms:created>
  <dc:creator>Mark R Harrison</dc:creator>
  <dc:description/>
  <dc:language>en-US</dc:language>
  <cp:lastModifiedBy>Mark R Harrison</cp:lastModifiedBy>
  <dcterms:modified xsi:type="dcterms:W3CDTF">1997-10-31T22:38:37Z</dcterms:modified>
  <cp:revision>1</cp:revision>
  <dc:subject/>
  <dc:title>How to Configure Eshop</dc:title>
</cp:coreProperties>
</file>