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E54-DCB8-465E-8EB2-F6CA6FC9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42E-A774-4816-8056-ED00C00E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B76-1A99-4C7F-82C4-240FDF3A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187-8DCC-4B8E-9E66-17B00705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EB4-C60D-4839-987D-C7D5F809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FE7-7A61-466C-9E9B-39131112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2D4-8821-4753-8BBF-2E0D7AF1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0A4-C83B-46D5-BEF5-089BA511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3B0-164A-4D78-86C2-0703E30D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5D1-C78C-455E-BC98-748632D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0C6-23C6-46E2-B282-A50DC24B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A7B-A02E-49BA-A455-975F03A7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1AAA-5ED9-42EE-BDB4-D9078D5D2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onfig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Har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31T22:34:28Z</dcterms:created>
  <dc:creator>Mark R Harrison</dc:creator>
  <dc:description/>
  <dc:language>en-US</dc:language>
  <cp:lastModifiedBy>Mark R Harrison</cp:lastModifiedBy>
  <dcterms:modified xsi:type="dcterms:W3CDTF">1997-10-31T22:38:37Z</dcterms:modified>
  <cp:revision>1</cp:revision>
  <dc:subject/>
  <dc:title>How to Configure Eshop</dc:title>
</cp:coreProperties>
</file>