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2481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réseaux Eth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deux types de commu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990720"/>
            <a:ext cx="7488360" cy="553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cut-throu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2038320"/>
            <a:ext cx="9144000" cy="364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ernet d’entrepr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16000" y="914400"/>
            <a:ext cx="7056360" cy="531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ie d’Ethernet partag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622520"/>
            <a:ext cx="9144000" cy="44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de la trame Eth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45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ernet partag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63640" y="990720"/>
            <a:ext cx="5832720" cy="556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SMA/C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801800"/>
            <a:ext cx="9144000" cy="412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Manch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1143000"/>
            <a:ext cx="8748720" cy="529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al Eth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427120"/>
            <a:ext cx="9144000" cy="287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formance Eth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19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seau Ethernet en sé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292480"/>
            <a:ext cx="9144000" cy="313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67000" y="76320"/>
            <a:ext cx="5343480" cy="6781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4000" y="641520"/>
            <a:ext cx="259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age d’un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agée à une sol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t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0:42:32Z</dcterms:created>
  <dc:creator> Guy Pujolle</dc:creator>
  <dc:description/>
  <dc:language>en-US</dc:language>
  <cp:lastModifiedBy>SULPICE</cp:lastModifiedBy>
  <dcterms:modified xsi:type="dcterms:W3CDTF">2004-05-26T15:33:23Z</dcterms:modified>
  <cp:revision>15</cp:revision>
  <dc:subject/>
  <dc:title>Cours 15</dc:title>
</cp:coreProperties>
</file>