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rotocoles de niveau t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ise SR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8640"/>
            <a:ext cx="914400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sation du bit P/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44720"/>
            <a:ext cx="914400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117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5560" y="4581360"/>
            <a:ext cx="780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P-D est une extension du LAP-B pour les réseaux dans lesquels il 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canaux multipoints. Il faut donc une adresse dans la t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tte adresse sur deux octets est formé  de plusieurs ch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est décrite dans la fig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complète LAP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36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311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5240" y="41688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rotocole PPP (Point-to-Point Protocol) a été développé par l’IETF p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aliser le transport de paquets IP ou de paquets de contrô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64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7600" y="5032440"/>
            <a:ext cx="86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rame ATM comporte 53 octets. C’est une trame puisque pour découvri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 de la trame, il suffit de compter 424 bits. Une vérification de l’exactitude de la f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trame et donc du début de la suivante est réalisée par un mécanism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sh effectué sur l’en-tê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ATM sur l’interface 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92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3040" y="539280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terface UNI (User Network Interface) se distingue par une zone spécif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hamp GFC. Les champs VPI/VCI forment la réfé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ATM sur l’interface N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714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8520" y="5465880"/>
            <a:ext cx="850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terface NNI (Network Node Interface) se trouve entre deux commutateurs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les commutateurs se trouvent dans le même réseau ou dans des rése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7560" y="3716280"/>
            <a:ext cx="87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est une trame parce qu’il y a un préambule, non indiqué dans la fig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6 octets du type 10101010101 ………..011. L’avantage de ce préam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la probabilité infime de retrouver une même suite dans les données à transpo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ongueur est comprise entre 64 octets et 1500 oct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Ethernet étend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603440"/>
            <a:ext cx="9144000" cy="45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me LAP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7040" y="4191120"/>
            <a:ext cx="795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rotocole LAP-B (Link Access Protocol - channel B) est une trame 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été normalisée pour transporter des paquets X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un protocole provenant d’une norme plus large dénomm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DLC (High-level Data Link Contr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anal B est un canal bipoint, c’est-à-dire allant d’un point à un autr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est du type 01111110 et ne doit pas être retrouvé dans la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onnées. Pour cela on effectue de l’insertion d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 de contrôle LAP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37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 de contrôle LAP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86080"/>
            <a:ext cx="8280360" cy="47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t de données LAP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5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d’acquit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03364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d’acquittement LAP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3800"/>
            <a:ext cx="91440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RN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38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sation de R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68400"/>
            <a:ext cx="9144000" cy="39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0:37:21Z</dcterms:created>
  <dc:creator> Guy Pujolle</dc:creator>
  <dc:description/>
  <dc:language>en-US</dc:language>
  <cp:lastModifiedBy>SULPICE</cp:lastModifiedBy>
  <dcterms:modified xsi:type="dcterms:W3CDTF">2004-05-26T15:30:51Z</dcterms:modified>
  <cp:revision>21</cp:revision>
  <dc:subject/>
  <dc:title>Cours 9</dc:title>
</cp:coreProperties>
</file>