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2481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tation de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253800" y="198900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tatio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u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89360" y="2819520"/>
            <a:ext cx="8812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commutation de circuit est un type de commutation dans lequel un circuit joign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ux interlocuteurs est établi à leur demande par la mise bout à bout de circui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els. Le circuit est désassemblé à la fin de la trans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l faut nécessairement une signalis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signalisation correspond à un passage de commandes, comme celles nécess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à la mise en place d’un circuit à la demande d’un utilisateu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signalisation correspond aux  éléments à mettre en œuvre dans un résea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façon à assurer l’ouverture, la fermeture et le maintien des circu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circuit est en général assez mal utilis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60680" y="1341360"/>
            <a:ext cx="6583320" cy="147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capsulation –Décapsul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ns 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2124000"/>
            <a:ext cx="914400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capsulation – Décapsul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étérogè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4360" y="1515960"/>
            <a:ext cx="7704000" cy="4649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t du paquet IPv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064360" cy="3316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987640" y="184464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16360" y="2708280"/>
            <a:ext cx="151128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5240" y="4876920"/>
            <a:ext cx="8439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en-tête d’un paquet IPv4 contient de nombreuses informations qui se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veloppées dans la suite de ce cours. Principalement, le paquet do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ir des informations permettant de retrouver sa place dans le messag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éléments de contrôle, les adresses émetteur et récepteur et des inform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nel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aux rése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tation de paqu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3800" y="198900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tatio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qu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6485040" cy="14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55640" y="3141720"/>
            <a:ext cx="79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paquet est l’entité de base acheminée par les réseaux. Un paqu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ent un nombre variable ou fixe d’éléments binaires. Long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z courts, de façon à optimiser les reprises sur erreur, les paquets se sont allongés à mesure que les taux d’erreur diminuaient. Ils peuvent atteindre aujourd’hui plusieurs milliers d’oct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6920" y="4941720"/>
            <a:ext cx="770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t de paquets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nique générique consistant à transporter des blocs d’information, dénommés paquets, de nœud en nœud pour les acheminer à un récept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utation de paquets téléphon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132000" y="1846440"/>
            <a:ext cx="5688000" cy="1031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7960" y="1989000"/>
            <a:ext cx="27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tation de paqu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voix téléphoniq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6640" y="2819520"/>
            <a:ext cx="8232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paquets de parole téléphonique sont tout petit pour ne pas perdre de 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à la paquétisation de l’inform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 téléphone sortent des octets les uns derrière les autres grâce à un codeur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odeur, appelé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d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octets sont mis dans un paquet jusqu’à ce que le paquet soit plein ou 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on ne puisse attendre plus longtemps. En effet, la parole téléphonique 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 application di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mps ré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e le moment du départ de la voix et l’arrivée de cette voix  à l’oreille 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inataire il ne doit pas s’écouler plus de 100 ms. C’est le tem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al pour obtenir une bonne qualité de la commun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accepte de monter jusqu’à 300 ms mais la qualité de la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 dégradé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utation de circuits et de paqu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16360" y="914400"/>
            <a:ext cx="5400720" cy="2657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916360" y="3551400"/>
            <a:ext cx="5327640" cy="2697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70520" y="1989000"/>
            <a:ext cx="200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tatio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uits (5 circu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4114800"/>
            <a:ext cx="186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tatio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qu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4840" y="5105520"/>
            <a:ext cx="24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commutatio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quets est beauc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 effic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utage des paque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193080" cy="3802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334520" y="335772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7560" y="5229360"/>
            <a:ext cx="780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que routeur possède une table de routage qui décide en fonctio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adresse destination de la ligne de sortie du rout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s l’exemple, le paquet i a pris une première route et le paquet i+1 pr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 autre rou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1773360"/>
            <a:ext cx="6494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18720" y="136044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que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232000">
            <a:off x="2484360" y="2492280"/>
            <a:ext cx="6494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2160" y="28526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quet i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71240" y="14842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esynchron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7272360" cy="40719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77760" y="5257800"/>
            <a:ext cx="744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temps de traversée du réseau est variable mais borné par 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s de traversée maximal du résea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processus de sortie du réseau est le même mais décalé de ce 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traversée maxi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07640" y="1484280"/>
            <a:ext cx="231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tteur                   Récep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capsulation - Décaps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497800" cy="25779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70320" y="4816440"/>
            <a:ext cx="759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paquets sont encapsulés dans une trame puis décapsulés à l’arrivé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 trame est une entité qui a pour objectif de transporter un paquet d’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œud avers un autre nœu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tecture d’un réseau 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7091280" cy="3949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18840" y="5181480"/>
            <a:ext cx="813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P : Internet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ur aller d’un terminal connecté sur le réseau X jusqu’à une mach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nectée sur le réseau T, les paquets IP sont encapsulés dans la trame 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éseau X, puis décapsulés puis réencapsulés dans la trame Y et ainsi de su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9T21:57:25Z</dcterms:created>
  <dc:creator> Guy Pujolle</dc:creator>
  <dc:description/>
  <dc:language>en-US</dc:language>
  <cp:lastModifiedBy>SULPICE</cp:lastModifiedBy>
  <dcterms:modified xsi:type="dcterms:W3CDTF">2004-05-26T15:31:18Z</dcterms:modified>
  <cp:revision>26</cp:revision>
  <dc:subject/>
  <dc:title>Introduction</dc:title>
</cp:coreProperties>
</file>