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2481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chitecture phys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ccord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1976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5688000" cy="1973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880" y="359244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eur en T pour câble coax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0040" y="6019920"/>
            <a:ext cx="55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se RJ 45 qui est aujourd’hui la nome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e coupl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6680" y="5105520"/>
            <a:ext cx="78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arte coupleur ou carte réseau fait l’interface entre la machine utilisa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le câble ou les émetteurs/récepteur ra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itesse de l’interface et la vitesse de la prise réseau sont dépend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 type de réseau qui est raccord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œud de transf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209080" cy="349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99760" y="5176800"/>
            <a:ext cx="81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nœud de transfert est un équipement de réseau qui permet de réceptio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aquets arrivants, de déterminer la bonne ligne de sortie et d’émettre s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ligne de sortie qui lui a été affec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ux types de nœuds de transfert : les routeurs et les commutat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pé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1428840"/>
            <a:ext cx="7848720" cy="18144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2640" y="3592440"/>
            <a:ext cx="840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répéteur est un organe réseau qui a pour mission de répéter les élé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ires pour que ces signaux reprennent la forme qui leur a  été don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l’émet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épéteur n’est pas un organe intelligent capable d’apporter des fonctionnal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émentai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épéteur ne fait qu’augmenter la longueur du support physiq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2289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8640" y="4076640"/>
            <a:ext cx="877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nt est un répéteur intelligent capable de s’apercevoir que la trame qu’il reço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’a pas besoin d’être répétée parce que le récepteur est du même côté de la lia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ponts permettent d’agrandir les réseaux en les tronçonnant en sous rése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autre façon de voir les ponts est de noter que le pont est capable de détec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dresse qui se situe dans la trame et de déterminer s’il doit ou non le répéter v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sortie (voire plusieurs sorties dans le cas d’adresse de destination en multipoi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ntra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300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11760" y="5176800"/>
            <a:ext cx="828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oncentrateur récupère le trafic provenant de plusieurs machines qui lui s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ées. Il est lui-même connecté sur un réseau plus puissant pour y f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er le trafic qu’il a concent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2949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9960" y="4816440"/>
            <a:ext cx="77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hub est un mot assez générique qui désigne un point central cap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concentrer le trafic. Le hub peut jouer divers rôles comme celui de p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 de rou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ub géné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4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ie en éto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835280"/>
            <a:ext cx="8713800" cy="402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ie en 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07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upport phys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esoin d’un support physique pour transporter les éléments binai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faut des câbles ou des ondes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prises sur le support phys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transceivers pour transmettre et recevoir les signa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coupleurs ou cartes de communications pour traiter les signaux reçus ou préparer les données à transmet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ie en ar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642160" cy="41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ie en ann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37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ie à double ann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72000" cy="184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50072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195640" y="3573360"/>
            <a:ext cx="5545080" cy="2698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ement d’accè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775280" cy="5002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âblage d’entre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s une entreprise, il faut des câbles ou un système radio pour véhiculer l’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 les entreprises possèdent un système câblé à partir d’un point cent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oints de rattachement qui sont câblés pour les machines très puissantes et les serveurs de l’entrep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 points de rattachement qui sont de plus en plus souvent radio pour les équipement termina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âblage d’une entrep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97800" cy="3782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8640" y="5537160"/>
            <a:ext cx="86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câblage d’une entreprise est important parce que très 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ème de câblage permettant d’intégrer les câbles téléphoniques et de donn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nneau de distribution et câblage en étoile pour simplifier la gestion de l’ensem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ire de fils torsad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713800" cy="2603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7040" y="4745160"/>
            <a:ext cx="7674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aire torsadée est un moyen peu coûteux mais qui possède des lim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ransmission et de qualité de la communic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ne centaine de Mbit/s sur moins de 100 mèt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lindée ou non blindée (le blindage apporte un écran aux br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ectromagnétiques si le blindage est bien à la terre mais dem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entretien bien supérieu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âble coax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324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03920" y="5013360"/>
            <a:ext cx="837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âble coaxial a une très bonne immunité contre les bruits électromagn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es. La bande passante est très importante (de l’ordre de 1 GH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âblage assez complex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re op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09080" cy="186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54680" y="4384800"/>
            <a:ext cx="779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fibre optique n’est pas gênée par les bruits électromagnét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ès bonne qualité de la commun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ès haut dé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ût toujours en descente mais reste cher par rapport à la réutilisation 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es métall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sation sur les grandes artères de rése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d’un réseau cellul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274160" cy="50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uy Pujolle, Cours Réseaux et télécoms  © Copyright Editions Eyrolles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22:35:32Z</dcterms:created>
  <dc:creator> Guy Pujolle</dc:creator>
  <dc:description/>
  <dc:language>en-US</dc:language>
  <cp:lastModifiedBy>SULPICE</cp:lastModifiedBy>
  <dcterms:modified xsi:type="dcterms:W3CDTF">2004-05-26T15:28:45Z</dcterms:modified>
  <cp:revision>34</cp:revision>
  <dc:subject/>
  <dc:title>Equipement d’accès</dc:title>
</cp:coreProperties>
</file>