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81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modèle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veau t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569080" cy="16509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8497800" cy="20545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739440" y="3232080"/>
            <a:ext cx="32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liaison entre deux nœu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6360" y="59691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 d’une t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veau t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rame est un bloc de donnée dont on sait reconnaître le début et la f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111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01010101010101010101010……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 sig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olation d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rame peut comporter une adresse ou une réfé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mode peut être en connexion ou 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tateur ou routeur de t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C, LAP-D, PPP, ATM, Eth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veau t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ôle principal du niveau trame est de transporter le paquet de niveau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 permettant de détecter le début et la fin de la t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’autres fonctionnalités peuvent être assuré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ntrôle des erreurs en lig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nsmission après rejet d’une t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’adresse de niveau 2 ou de référence de niveau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u niveau 2 (contrôle des tram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éristiques d'un protocole de niveau t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7520" y="2397240"/>
            <a:ext cx="7576200" cy="2333160"/>
            <a:chOff x="767520" y="2397240"/>
            <a:chExt cx="7576200" cy="2333160"/>
          </a:xfrm>
        </p:grpSpPr>
        <p:sp>
          <p:nvSpPr>
            <p:cNvPr id="338" name=""/>
            <p:cNvSpPr/>
            <p:nvPr/>
          </p:nvSpPr>
          <p:spPr>
            <a:xfrm>
              <a:off x="1539720" y="3170160"/>
              <a:ext cx="544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39720" y="4349880"/>
              <a:ext cx="544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11320" y="3170160"/>
              <a:ext cx="10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28960" y="306540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22560" y="306540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28920" y="306540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49080" y="2397240"/>
              <a:ext cx="4077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temps d'émission d'une t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67040" y="2702160"/>
              <a:ext cx="348840" cy="34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0" y="15047"/>
                  </a:moveTo>
                  <a:arcTo wR="10800" hR="10800" stAng="9410655" swAng="2836082"/>
                  <a:lnTo>
                    <a:pt x="10800" y="10800"/>
                  </a:lnTo>
                  <a:close/>
                </a:path>
                <a:path fill="none" w="21600" h="21600">
                  <a:moveTo>
                    <a:pt x="870" y="15047"/>
                  </a:moveTo>
                  <a:arcTo wR="10800" hR="10800" stAng="9410655" swAng="2836082"/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73400" y="2702160"/>
              <a:ext cx="348840" cy="34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32" y="6331"/>
                  </a:moveTo>
                  <a:arcTo wR="10800" hR="10800" stAng="-1466637" swAng="287528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32" y="6331"/>
                  </a:moveTo>
                  <a:arcTo wR="10800" hR="10800" stAng="-1466637" swAng="2875281"/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68600" y="2874960"/>
              <a:ext cx="31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03360" y="2797200"/>
              <a:ext cx="1355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émette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04800" y="3578400"/>
              <a:ext cx="965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tem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3760" y="3881880"/>
              <a:ext cx="348840" cy="34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3" y="15031"/>
                  </a:moveTo>
                  <a:arcTo wR="10800" hR="10800" stAng="9416309" swAng="2824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63" y="15031"/>
                  </a:moveTo>
                  <a:arcTo wR="10800" hR="10800" stAng="9416309" swAng="2824598"/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80400" y="405432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921840" y="4272120"/>
              <a:ext cx="3008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trame d'acquitt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04440" y="4272120"/>
              <a:ext cx="1439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récepte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7520" y="3387600"/>
              <a:ext cx="1270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délai d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7880" y="3595680"/>
              <a:ext cx="177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propag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28960" y="3170160"/>
              <a:ext cx="27000" cy="1198800"/>
            </a:xfrm>
            <a:custGeom>
              <a:avLst/>
              <a:gdLst/>
              <a:ahLst/>
              <a:rect l="l" t="t" r="r" b="b"/>
              <a:pathLst>
                <a:path w="17" h="755">
                  <a:moveTo>
                    <a:pt x="0" y="0"/>
                  </a:moveTo>
                  <a:lnTo>
                    <a:pt x="16" y="0"/>
                  </a:lnTo>
                  <a:lnTo>
                    <a:pt x="16" y="754"/>
                  </a:lnTo>
                  <a:lnTo>
                    <a:pt x="0" y="754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54120" y="4161240"/>
              <a:ext cx="349920" cy="3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1" y="8146"/>
                  </a:moveTo>
                  <a:arcTo wR="10800" hR="10800" stAng="-9946547" swAng="2875965"/>
                  <a:lnTo>
                    <a:pt x="10800" y="10800"/>
                  </a:lnTo>
                  <a:close/>
                </a:path>
                <a:path fill="none" w="21600" h="21600">
                  <a:moveTo>
                    <a:pt x="331" y="8146"/>
                  </a:moveTo>
                  <a:arcTo wR="10800" hR="10800" stAng="-9946547" swAng="2875965"/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28960" y="3170160"/>
              <a:ext cx="1376280" cy="107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54480" y="3778560"/>
              <a:ext cx="348840" cy="34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0" y="15047"/>
                  </a:moveTo>
                  <a:arcTo wR="10800" hR="10800" stAng="9410655" swAng="2836082"/>
                  <a:lnTo>
                    <a:pt x="10800" y="10800"/>
                  </a:lnTo>
                  <a:close/>
                </a:path>
                <a:path fill="none" w="21600" h="21600">
                  <a:moveTo>
                    <a:pt x="870" y="15047"/>
                  </a:moveTo>
                  <a:arcTo wR="10800" hR="10800" stAng="9410655" swAng="2836082"/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71640" y="3777120"/>
              <a:ext cx="348840" cy="34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41" y="6351"/>
                  </a:moveTo>
                  <a:arcTo wR="10800" hR="10800" stAng="-1459535" swAng="28612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41" y="6351"/>
                  </a:moveTo>
                  <a:arcTo wR="10800" hR="10800" stAng="-1459535" swAng="2861289"/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68640" y="3951360"/>
              <a:ext cx="12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92360" y="3933720"/>
              <a:ext cx="36720" cy="435240"/>
            </a:xfrm>
            <a:custGeom>
              <a:avLst/>
              <a:gdLst/>
              <a:ahLst/>
              <a:rect l="l" t="t" r="r" b="b"/>
              <a:pathLst>
                <a:path w="23" h="274">
                  <a:moveTo>
                    <a:pt x="0" y="0"/>
                  </a:moveTo>
                  <a:lnTo>
                    <a:pt x="22" y="0"/>
                  </a:lnTo>
                  <a:lnTo>
                    <a:pt x="22" y="273"/>
                  </a:lnTo>
                  <a:lnTo>
                    <a:pt x="0" y="273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47720" y="4179240"/>
              <a:ext cx="349920" cy="34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1" y="8146"/>
                  </a:moveTo>
                  <a:arcTo wR="10800" hR="10800" stAng="-9946547" swAng="2875965"/>
                  <a:lnTo>
                    <a:pt x="10800" y="10800"/>
                  </a:lnTo>
                  <a:close/>
                </a:path>
                <a:path fill="none" w="21600" h="21600">
                  <a:moveTo>
                    <a:pt x="331" y="8146"/>
                  </a:moveTo>
                  <a:arcTo wR="10800" hR="10800" stAng="-9946547" swAng="2875965"/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22560" y="3170160"/>
              <a:ext cx="137628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31640" y="2996640"/>
              <a:ext cx="347400" cy="34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728" y="21154"/>
                  </a:moveTo>
                  <a:arcTo wR="10800" hR="10800" stAng="6391607" swAng="2891944"/>
                  <a:lnTo>
                    <a:pt x="10800" y="10800"/>
                  </a:lnTo>
                  <a:close/>
                </a:path>
                <a:path fill="none" w="21600" h="21600">
                  <a:moveTo>
                    <a:pt x="7728" y="21154"/>
                  </a:moveTo>
                  <a:arcTo wR="10800" hR="10800" stAng="6391607" swAng="2891944"/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4992840" y="3273480"/>
              <a:ext cx="906480" cy="10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26920" y="2996280"/>
              <a:ext cx="347760" cy="3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715" y="21150"/>
                  </a:moveTo>
                  <a:arcTo wR="10800" hR="10800" stAng="6395886" swAng="2880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7715" y="21150"/>
                  </a:moveTo>
                  <a:arcTo wR="10800" hR="10800" stAng="6395886" swAng="2880360"/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4503600" y="3274920"/>
              <a:ext cx="889200" cy="107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86320" y="4349880"/>
              <a:ext cx="52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55880" y="4161240"/>
              <a:ext cx="349200" cy="3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1" y="8146"/>
                  </a:moveTo>
                  <a:arcTo wR="10800" hR="10800" stAng="-9946547" swAng="2875965"/>
                  <a:lnTo>
                    <a:pt x="10800" y="10800"/>
                  </a:lnTo>
                  <a:close/>
                </a:path>
                <a:path fill="none" w="21600" h="21600">
                  <a:moveTo>
                    <a:pt x="331" y="8146"/>
                  </a:moveTo>
                  <a:arcTo wR="10800" hR="10800" stAng="-9946547" swAng="2875965"/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0360" y="3152880"/>
              <a:ext cx="137664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94000" y="3152880"/>
              <a:ext cx="663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68680" y="4332240"/>
              <a:ext cx="559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p:transition spd="slow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veau Paqu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80360" cy="25005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671040" y="4529160"/>
            <a:ext cx="801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apsulation d’un paquet dans une trame : le paquet ne peut être transpor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 que. En effet, le récepteur ne pourrait pas détecter les débuts et 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s de paqu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onction de fonctions supplémentaires dans l’en-tête et la zone de f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paquet : contrôle d’erreur, contrôle de flo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veau paqu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is grandes fonctionnalités à satisfai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essage/référen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age/commut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ôle de fl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paquet est une suite d’éléments binaires dont on ne peut distinguer le début et la fin (exemple IP et X.2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transporter un paquet, il faut l’encapsuler dans une t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un drape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sign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p:transition spd="slow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062080" y="3444840"/>
            <a:ext cx="4294440" cy="203508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641840" y="4519440"/>
            <a:ext cx="425520" cy="48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351240" y="3735360"/>
            <a:ext cx="426960" cy="49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962000" y="3728880"/>
            <a:ext cx="608040" cy="78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256440" y="4513320"/>
            <a:ext cx="60300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519360" y="4708440"/>
            <a:ext cx="425520" cy="48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19600" y="3649680"/>
            <a:ext cx="438120" cy="48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87280" y="3844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049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7280" y="42530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87280" y="44593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602400" y="35542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2400" y="3759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02400" y="3965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2400" y="41702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036880" y="3587760"/>
            <a:ext cx="24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386080" y="4067280"/>
            <a:ext cx="24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251400" y="4645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512040" y="485136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21360" y="5877000"/>
            <a:ext cx="470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emin ou circuit virtuel = association de i, j, k, l,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486160" y="4417920"/>
            <a:ext cx="426960" cy="480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796080" y="4809960"/>
            <a:ext cx="425520" cy="48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623960" y="3360600"/>
            <a:ext cx="439920" cy="48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838840" y="4229280"/>
            <a:ext cx="425520" cy="48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863800" y="4152960"/>
            <a:ext cx="49536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778200" y="4095720"/>
            <a:ext cx="89532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073480" y="4495680"/>
            <a:ext cx="762120" cy="1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76560" y="4361040"/>
            <a:ext cx="25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161960" y="407520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86240" y="4551480"/>
            <a:ext cx="24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41640" y="312732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71640" y="4724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987640" y="37162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211640" y="45813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580000" y="38606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32360" y="52610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veau paqu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hemin ou circuit virtu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able de commuta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j   D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4720" y="484344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i   C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p:transition spd="slow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veau paqu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x types de paqu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aquets indépendants (datagramme) utilisant le routage et possédant l’adresse complète du destinat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aquets dépendant du flot. Les paquets sont toujours commutés le long d’un même chemin. Utilisation d’une réfé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3338640" y="3859200"/>
            <a:ext cx="2895480" cy="2313720"/>
            <a:chOff x="3338640" y="3859200"/>
            <a:chExt cx="2895480" cy="2313720"/>
          </a:xfrm>
        </p:grpSpPr>
        <p:grpSp>
          <p:nvGrpSpPr>
            <p:cNvPr id="421" name=""/>
            <p:cNvGrpSpPr/>
            <p:nvPr/>
          </p:nvGrpSpPr>
          <p:grpSpPr>
            <a:xfrm>
              <a:off x="3354480" y="3919680"/>
              <a:ext cx="726840" cy="2011320"/>
              <a:chOff x="3354480" y="3919680"/>
              <a:chExt cx="726840" cy="2011320"/>
            </a:xfrm>
          </p:grpSpPr>
          <p:sp>
            <p:nvSpPr>
              <p:cNvPr id="422" name=""/>
              <p:cNvSpPr/>
              <p:nvPr/>
            </p:nvSpPr>
            <p:spPr>
              <a:xfrm>
                <a:off x="3360600" y="3919680"/>
                <a:ext cx="720720" cy="201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354480" y="4203720"/>
                <a:ext cx="72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354480" y="4481640"/>
                <a:ext cx="72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354480" y="4773600"/>
                <a:ext cx="72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354480" y="5064120"/>
                <a:ext cx="72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354480" y="5342040"/>
                <a:ext cx="72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354480" y="5632560"/>
                <a:ext cx="72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5506920" y="3919680"/>
              <a:ext cx="727200" cy="2011320"/>
              <a:chOff x="5506920" y="3919680"/>
              <a:chExt cx="727200" cy="2011320"/>
            </a:xfrm>
          </p:grpSpPr>
          <p:sp>
            <p:nvSpPr>
              <p:cNvPr id="430" name=""/>
              <p:cNvSpPr/>
              <p:nvPr/>
            </p:nvSpPr>
            <p:spPr>
              <a:xfrm>
                <a:off x="5513400" y="3919680"/>
                <a:ext cx="720720" cy="201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506920" y="4203720"/>
                <a:ext cx="72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506920" y="4481640"/>
                <a:ext cx="72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506920" y="4773600"/>
                <a:ext cx="72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506920" y="5064120"/>
                <a:ext cx="72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506920" y="5342040"/>
                <a:ext cx="72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506920" y="5632560"/>
                <a:ext cx="72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3360600" y="5931000"/>
              <a:ext cx="2873520" cy="214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72120" y="3859200"/>
              <a:ext cx="112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Applic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74640" y="4010040"/>
              <a:ext cx="229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71760" y="4162320"/>
              <a:ext cx="1192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Présent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74640" y="4313160"/>
              <a:ext cx="229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72840" y="4465800"/>
              <a:ext cx="786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Sess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74640" y="4618080"/>
              <a:ext cx="229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72840" y="4768920"/>
              <a:ext cx="1014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Trans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274640" y="4921200"/>
              <a:ext cx="229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73560" y="5072040"/>
              <a:ext cx="774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Résea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74640" y="5224320"/>
              <a:ext cx="229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72480" y="5376960"/>
              <a:ext cx="842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Liaison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74640" y="5527800"/>
              <a:ext cx="229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273560" y="5680080"/>
              <a:ext cx="87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Phys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38640" y="5867280"/>
              <a:ext cx="2876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Support physique d'interconnex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360600" y="4780080"/>
              <a:ext cx="720720" cy="290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13400" y="4780080"/>
              <a:ext cx="720720" cy="290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veau me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niveau message doit assurer un transfert de données entre les entités de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 transport doit être transparent, c'est-à-dire indépendant des éléments binaires transporté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service de transport doit optimiser l'utilisation des infrastructures sous-jac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p:transition spd="slow"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veau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97800" cy="33480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384840" y="5176800"/>
            <a:ext cx="858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niveau transport est de bout en bout. Il a pour objectif le transport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de bout en bout. Pour cela, il s’appuie sur le niveau paquet auq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remet des paquets pour qu’ils soient transportés par les équipements de résea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odèle de réfé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404720" y="1773360"/>
            <a:ext cx="5652720" cy="4463280"/>
            <a:chOff x="1404720" y="1773360"/>
            <a:chExt cx="5652720" cy="4463280"/>
          </a:xfrm>
        </p:grpSpPr>
        <p:sp>
          <p:nvSpPr>
            <p:cNvPr id="43" name=""/>
            <p:cNvSpPr/>
            <p:nvPr/>
          </p:nvSpPr>
          <p:spPr>
            <a:xfrm>
              <a:off x="4943880" y="1915200"/>
              <a:ext cx="40428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27" y="14945"/>
                  </a:moveTo>
                  <a:arcTo wR="10800" hR="10800" stAng="9445979" swAng="2783477"/>
                  <a:lnTo>
                    <a:pt x="10800" y="10800"/>
                  </a:lnTo>
                  <a:close/>
                </a:path>
                <a:path fill="none" w="21600" h="21600">
                  <a:moveTo>
                    <a:pt x="827" y="14945"/>
                  </a:moveTo>
                  <a:arcTo wR="10800" hR="10800" stAng="9445979" swAng="278347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27400" y="1917000"/>
              <a:ext cx="40428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48" y="6367"/>
                  </a:moveTo>
                  <a:arcTo wR="10800" hR="10800" stAng="-1453893" swAng="288653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48" y="6367"/>
                  </a:moveTo>
                  <a:arcTo wR="10800" hR="10800" stAng="-1453893" swAng="288653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70840" y="2086920"/>
              <a:ext cx="138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1454400" y="1790640"/>
              <a:ext cx="1855080" cy="4024080"/>
              <a:chOff x="1454400" y="1790640"/>
              <a:chExt cx="1855080" cy="4024080"/>
            </a:xfrm>
          </p:grpSpPr>
          <p:sp>
            <p:nvSpPr>
              <p:cNvPr id="47" name=""/>
              <p:cNvSpPr/>
              <p:nvPr/>
            </p:nvSpPr>
            <p:spPr>
              <a:xfrm>
                <a:off x="1454400" y="1790640"/>
                <a:ext cx="1855080" cy="578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54400" y="2366280"/>
                <a:ext cx="1855080" cy="578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454400" y="2944800"/>
                <a:ext cx="1855080" cy="56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54400" y="3503880"/>
                <a:ext cx="1855080" cy="578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454400" y="4082040"/>
                <a:ext cx="1855080" cy="578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54400" y="4660560"/>
                <a:ext cx="1855080" cy="578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454400" y="5236560"/>
                <a:ext cx="1855080" cy="578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1504440" y="1858320"/>
              <a:ext cx="1199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04720" y="2495880"/>
              <a:ext cx="1328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ésent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39200" y="2654640"/>
              <a:ext cx="235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39200" y="2866680"/>
              <a:ext cx="235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97840" y="3101400"/>
              <a:ext cx="817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59160" y="3601440"/>
              <a:ext cx="1126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ranspor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20120" y="3811680"/>
              <a:ext cx="235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20120" y="4020840"/>
              <a:ext cx="235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07560" y="423108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ése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16120" y="4616280"/>
              <a:ext cx="1183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iaison de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80840" y="4826160"/>
              <a:ext cx="968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nné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9600" y="5035680"/>
              <a:ext cx="235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76520" y="5245560"/>
              <a:ext cx="974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hys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5180400" y="1773360"/>
              <a:ext cx="1874520" cy="4024800"/>
              <a:chOff x="5180400" y="1773360"/>
              <a:chExt cx="1874520" cy="4024800"/>
            </a:xfrm>
          </p:grpSpPr>
          <p:sp>
            <p:nvSpPr>
              <p:cNvPr id="68" name=""/>
              <p:cNvSpPr/>
              <p:nvPr/>
            </p:nvSpPr>
            <p:spPr>
              <a:xfrm>
                <a:off x="5180400" y="1773360"/>
                <a:ext cx="1874520" cy="578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80400" y="2349720"/>
                <a:ext cx="1874520" cy="578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80400" y="2927880"/>
                <a:ext cx="1874520" cy="56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80400" y="3487320"/>
                <a:ext cx="1874520" cy="578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80400" y="4065480"/>
                <a:ext cx="1874520" cy="578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80400" y="4641480"/>
                <a:ext cx="1874520" cy="578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180400" y="5220000"/>
                <a:ext cx="1874520" cy="578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5293800" y="1824120"/>
              <a:ext cx="1199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94080" y="2427840"/>
              <a:ext cx="1328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ésent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67000" y="2847240"/>
              <a:ext cx="235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87200" y="3057120"/>
              <a:ext cx="817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48160" y="3582360"/>
              <a:ext cx="1126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ranspor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67000" y="3792240"/>
              <a:ext cx="235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67000" y="4004280"/>
              <a:ext cx="235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92880" y="4213440"/>
              <a:ext cx="939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52840" y="4719960"/>
              <a:ext cx="1120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Data Link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33960" y="4929840"/>
              <a:ext cx="235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47920" y="5139360"/>
              <a:ext cx="235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20240" y="5351040"/>
              <a:ext cx="907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86040" y="5787720"/>
              <a:ext cx="2742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upport   de   commun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43880" y="2510280"/>
              <a:ext cx="40428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27" y="14945"/>
                  </a:moveTo>
                  <a:arcTo wR="10800" hR="10800" stAng="9445979" swAng="2783477"/>
                  <a:lnTo>
                    <a:pt x="10800" y="10800"/>
                  </a:lnTo>
                  <a:close/>
                </a:path>
                <a:path fill="none" w="21600" h="21600">
                  <a:moveTo>
                    <a:pt x="827" y="14945"/>
                  </a:moveTo>
                  <a:arcTo wR="10800" hR="10800" stAng="9445979" swAng="278347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27400" y="2512080"/>
              <a:ext cx="404280" cy="3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48" y="6367"/>
                  </a:moveTo>
                  <a:arcTo wR="10800" hR="10800" stAng="-1453893" swAng="288653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48" y="6367"/>
                  </a:moveTo>
                  <a:arcTo wR="10800" hR="10800" stAng="-1453893" swAng="288653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70840" y="2682000"/>
              <a:ext cx="138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43880" y="3105360"/>
              <a:ext cx="40428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27" y="14945"/>
                  </a:moveTo>
                  <a:arcTo wR="10800" hR="10800" stAng="9445979" swAng="2783477"/>
                  <a:lnTo>
                    <a:pt x="10800" y="10800"/>
                  </a:lnTo>
                  <a:close/>
                </a:path>
                <a:path fill="none" w="21600" h="21600">
                  <a:moveTo>
                    <a:pt x="827" y="14945"/>
                  </a:moveTo>
                  <a:arcTo wR="10800" hR="10800" stAng="9445979" swAng="278347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27400" y="3107160"/>
              <a:ext cx="404280" cy="3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48" y="6367"/>
                  </a:moveTo>
                  <a:arcTo wR="10800" hR="10800" stAng="-1453893" swAng="288653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48" y="6367"/>
                  </a:moveTo>
                  <a:arcTo wR="10800" hR="10800" stAng="-1453893" swAng="288653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70840" y="3277440"/>
              <a:ext cx="138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43880" y="3697920"/>
              <a:ext cx="404280" cy="3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4" y="15033"/>
                  </a:moveTo>
                  <a:arcTo wR="10800" hR="10800" stAng="9415590" swAng="2806206"/>
                  <a:lnTo>
                    <a:pt x="10800" y="10800"/>
                  </a:lnTo>
                  <a:close/>
                </a:path>
                <a:path fill="none" w="21600" h="21600">
                  <a:moveTo>
                    <a:pt x="864" y="15033"/>
                  </a:moveTo>
                  <a:arcTo wR="10800" hR="10800" stAng="9415590" swAng="280620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27400" y="3699360"/>
              <a:ext cx="404280" cy="35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58" y="6390"/>
                  </a:moveTo>
                  <a:arcTo wR="10800" hR="10800" stAng="-1446134" swAng="285439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58" y="6390"/>
                  </a:moveTo>
                  <a:arcTo wR="10800" hR="10800" stAng="-1446134" swAng="285439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70840" y="3872520"/>
              <a:ext cx="138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3880" y="4190400"/>
              <a:ext cx="40428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27" y="14945"/>
                  </a:moveTo>
                  <a:arcTo wR="10800" hR="10800" stAng="9445979" swAng="2783477"/>
                  <a:lnTo>
                    <a:pt x="10800" y="10800"/>
                  </a:lnTo>
                  <a:close/>
                </a:path>
                <a:path fill="none" w="21600" h="21600">
                  <a:moveTo>
                    <a:pt x="827" y="14945"/>
                  </a:moveTo>
                  <a:arcTo wR="10800" hR="10800" stAng="9445979" swAng="278347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27400" y="4192200"/>
              <a:ext cx="40428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48" y="6367"/>
                  </a:moveTo>
                  <a:arcTo wR="10800" hR="10800" stAng="-1453893" swAng="288653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48" y="6367"/>
                  </a:moveTo>
                  <a:arcTo wR="10800" hR="10800" stAng="-1453893" swAng="288653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0840" y="4362120"/>
              <a:ext cx="138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3880" y="4785480"/>
              <a:ext cx="40428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27" y="14945"/>
                  </a:moveTo>
                  <a:arcTo wR="10800" hR="10800" stAng="9445979" swAng="2783477"/>
                  <a:lnTo>
                    <a:pt x="10800" y="10800"/>
                  </a:lnTo>
                  <a:close/>
                </a:path>
                <a:path fill="none" w="21600" h="21600">
                  <a:moveTo>
                    <a:pt x="827" y="14945"/>
                  </a:moveTo>
                  <a:arcTo wR="10800" hR="10800" stAng="9445979" swAng="278347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27400" y="4787280"/>
              <a:ext cx="404280" cy="3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48" y="6367"/>
                  </a:moveTo>
                  <a:arcTo wR="10800" hR="10800" stAng="-1453893" swAng="288653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48" y="6367"/>
                  </a:moveTo>
                  <a:arcTo wR="10800" hR="10800" stAng="-1453893" swAng="288653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54400" y="5832000"/>
              <a:ext cx="5603040" cy="404640"/>
            </a:xfrm>
            <a:custGeom>
              <a:avLst/>
              <a:gdLst/>
              <a:ahLst/>
              <a:rect l="l" t="t" r="r" b="b"/>
              <a:pathLst>
                <a:path w="2298" h="191">
                  <a:moveTo>
                    <a:pt x="0" y="0"/>
                  </a:moveTo>
                  <a:lnTo>
                    <a:pt x="0" y="190"/>
                  </a:lnTo>
                  <a:lnTo>
                    <a:pt x="2297" y="190"/>
                  </a:lnTo>
                  <a:lnTo>
                    <a:pt x="2297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70840" y="4957200"/>
              <a:ext cx="138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3880" y="5377680"/>
              <a:ext cx="404280" cy="3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4" y="15033"/>
                  </a:moveTo>
                  <a:arcTo wR="10800" hR="10800" stAng="9415590" swAng="2806206"/>
                  <a:lnTo>
                    <a:pt x="10800" y="10800"/>
                  </a:lnTo>
                  <a:close/>
                </a:path>
                <a:path fill="none" w="21600" h="21600">
                  <a:moveTo>
                    <a:pt x="864" y="15033"/>
                  </a:moveTo>
                  <a:arcTo wR="10800" hR="10800" stAng="9415590" swAng="280620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27400" y="5379120"/>
              <a:ext cx="404280" cy="35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58" y="6390"/>
                  </a:moveTo>
                  <a:arcTo wR="10800" hR="10800" stAng="-1446134" swAng="285439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58" y="6390"/>
                  </a:moveTo>
                  <a:arcTo wR="10800" hR="10800" stAng="-1446134" swAng="285439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70840" y="5552640"/>
              <a:ext cx="138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veau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684360" y="1066680"/>
            <a:ext cx="806580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veau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ôle de la couche session est de fournir aux entités de présentation, les moyens nécessaires pour organiser et synchroniser leur dialogue. Pour arriver à ce but, la couche session doit fournir les services nécessaires à l'établissement d'une connexion, son maintien et sa libé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e en place, ferme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maintien de la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on du dial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 de 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608800" y="4091040"/>
            <a:ext cx="726840" cy="2011320"/>
            <a:chOff x="5608800" y="4091040"/>
            <a:chExt cx="726840" cy="2011320"/>
          </a:xfrm>
        </p:grpSpPr>
        <p:sp>
          <p:nvSpPr>
            <p:cNvPr id="464" name=""/>
            <p:cNvSpPr/>
            <p:nvPr/>
          </p:nvSpPr>
          <p:spPr>
            <a:xfrm>
              <a:off x="5614920" y="4091040"/>
              <a:ext cx="720720" cy="201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08800" y="437508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08800" y="465300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08800" y="494532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08800" y="523584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08800" y="551340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08800" y="580392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7761240" y="4091040"/>
            <a:ext cx="727200" cy="2011320"/>
            <a:chOff x="7761240" y="4091040"/>
            <a:chExt cx="727200" cy="2011320"/>
          </a:xfrm>
        </p:grpSpPr>
        <p:sp>
          <p:nvSpPr>
            <p:cNvPr id="472" name=""/>
            <p:cNvSpPr/>
            <p:nvPr/>
          </p:nvSpPr>
          <p:spPr>
            <a:xfrm>
              <a:off x="7767720" y="4091040"/>
              <a:ext cx="720720" cy="201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761240" y="437508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761240" y="465300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61240" y="494532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761240" y="523584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761240" y="551340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761240" y="580392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614920" y="6102360"/>
            <a:ext cx="2873520" cy="21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26440" y="4030560"/>
            <a:ext cx="11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ppl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528960" y="4181400"/>
            <a:ext cx="22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526080" y="4334040"/>
            <a:ext cx="1192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Prés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528960" y="4484520"/>
            <a:ext cx="22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27160" y="4637160"/>
            <a:ext cx="786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Ses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528960" y="4789440"/>
            <a:ext cx="22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527160" y="4940280"/>
            <a:ext cx="1014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Transp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528960" y="5092560"/>
            <a:ext cx="22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27880" y="5243400"/>
            <a:ext cx="774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Résea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528960" y="5396040"/>
            <a:ext cx="22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526800" y="5548320"/>
            <a:ext cx="84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Liais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528960" y="5699160"/>
            <a:ext cx="22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27520" y="5851440"/>
            <a:ext cx="87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Phys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642280" y="6021360"/>
            <a:ext cx="2876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Support physique d'interconnex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614920" y="4659480"/>
            <a:ext cx="720720" cy="29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767720" y="4659480"/>
            <a:ext cx="720720" cy="29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39640" y="3068640"/>
            <a:ext cx="79837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che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couche présentation se charge de la syntaxe des informations que les entités d'application se communiqu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syntaxe abstraite ASN.1 normalisée par l'ISO, qui a pris comme base la syntaxe X409 de l'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SO 8824 ou UIT X.208 définit la syntaxe ASN.1 (Abstract Syntax Notation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pression (Huffman, MPEG2, MPEG4,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114880" y="2146320"/>
            <a:ext cx="901440" cy="2835000"/>
            <a:chOff x="5114880" y="2146320"/>
            <a:chExt cx="901440" cy="2835000"/>
          </a:xfrm>
        </p:grpSpPr>
        <p:sp>
          <p:nvSpPr>
            <p:cNvPr id="500" name=""/>
            <p:cNvSpPr/>
            <p:nvPr/>
          </p:nvSpPr>
          <p:spPr>
            <a:xfrm>
              <a:off x="5122440" y="2146320"/>
              <a:ext cx="893880" cy="283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14880" y="2547000"/>
              <a:ext cx="8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114880" y="2938320"/>
              <a:ext cx="8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14880" y="3350520"/>
              <a:ext cx="8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14880" y="3759840"/>
              <a:ext cx="8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14880" y="4151160"/>
              <a:ext cx="8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14880" y="4560840"/>
              <a:ext cx="8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7786800" y="2146320"/>
            <a:ext cx="901080" cy="2835000"/>
            <a:chOff x="7786800" y="2146320"/>
            <a:chExt cx="901080" cy="2835000"/>
          </a:xfrm>
        </p:grpSpPr>
        <p:sp>
          <p:nvSpPr>
            <p:cNvPr id="508" name=""/>
            <p:cNvSpPr/>
            <p:nvPr/>
          </p:nvSpPr>
          <p:spPr>
            <a:xfrm>
              <a:off x="7794720" y="2146320"/>
              <a:ext cx="893160" cy="283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786800" y="2547000"/>
              <a:ext cx="89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786800" y="2938320"/>
              <a:ext cx="89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786800" y="3350520"/>
              <a:ext cx="89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786800" y="3759840"/>
              <a:ext cx="89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786800" y="4151160"/>
              <a:ext cx="89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786800" y="4560840"/>
              <a:ext cx="89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5122800" y="4981680"/>
            <a:ext cx="3565440" cy="301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252480" y="2060640"/>
            <a:ext cx="11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ppl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256080" y="2273400"/>
            <a:ext cx="22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253920" y="2487600"/>
            <a:ext cx="1192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Prés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56080" y="2700360"/>
            <a:ext cx="22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254280" y="2916360"/>
            <a:ext cx="786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Ses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256080" y="3130560"/>
            <a:ext cx="22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254280" y="3343320"/>
            <a:ext cx="1014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Transp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56080" y="3557520"/>
            <a:ext cx="22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255720" y="3770280"/>
            <a:ext cx="774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Résea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256080" y="3984480"/>
            <a:ext cx="22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253920" y="4200480"/>
            <a:ext cx="84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Liais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256080" y="4413240"/>
            <a:ext cx="22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254640" y="4627440"/>
            <a:ext cx="87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Phys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570640" y="4941720"/>
            <a:ext cx="2876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Support physique d'interconnex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122800" y="2556000"/>
            <a:ext cx="893880" cy="390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794720" y="2556000"/>
            <a:ext cx="893520" cy="390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che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uche application est la dernière du modèle de référence. Cette couche donne aux processus d'application le moyen d'accéder à l'environnement des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t de fichiers, message électronique, transactions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3564000" y="2841480"/>
            <a:ext cx="726480" cy="2011320"/>
            <a:chOff x="3564000" y="2841480"/>
            <a:chExt cx="726480" cy="2011320"/>
          </a:xfrm>
        </p:grpSpPr>
        <p:sp>
          <p:nvSpPr>
            <p:cNvPr id="535" name=""/>
            <p:cNvSpPr/>
            <p:nvPr/>
          </p:nvSpPr>
          <p:spPr>
            <a:xfrm>
              <a:off x="3570120" y="2841480"/>
              <a:ext cx="720360" cy="201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64000" y="3125520"/>
              <a:ext cx="72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64000" y="3403440"/>
              <a:ext cx="72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64000" y="3695400"/>
              <a:ext cx="72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64000" y="3985920"/>
              <a:ext cx="72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64000" y="4263840"/>
              <a:ext cx="72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564000" y="4554360"/>
              <a:ext cx="72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716440" y="2841480"/>
            <a:ext cx="727200" cy="2011320"/>
            <a:chOff x="5716440" y="2841480"/>
            <a:chExt cx="727200" cy="2011320"/>
          </a:xfrm>
        </p:grpSpPr>
        <p:sp>
          <p:nvSpPr>
            <p:cNvPr id="543" name=""/>
            <p:cNvSpPr/>
            <p:nvPr/>
          </p:nvSpPr>
          <p:spPr>
            <a:xfrm>
              <a:off x="5722920" y="2841480"/>
              <a:ext cx="720720" cy="201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716440" y="3125520"/>
              <a:ext cx="72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716440" y="3403440"/>
              <a:ext cx="72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16440" y="3695400"/>
              <a:ext cx="72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16440" y="3985920"/>
              <a:ext cx="72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6440" y="4263840"/>
              <a:ext cx="72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6440" y="4554360"/>
              <a:ext cx="72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570120" y="4853160"/>
            <a:ext cx="2873520" cy="21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81640" y="2781360"/>
            <a:ext cx="11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ppl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484160" y="2932200"/>
            <a:ext cx="22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81640" y="3084480"/>
            <a:ext cx="1192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Prés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484160" y="3235320"/>
            <a:ext cx="22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482360" y="3387600"/>
            <a:ext cx="786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Ses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484160" y="3540240"/>
            <a:ext cx="22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482360" y="3691080"/>
            <a:ext cx="1014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Transp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484160" y="3843360"/>
            <a:ext cx="22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483080" y="3994200"/>
            <a:ext cx="774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Résea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484160" y="4146480"/>
            <a:ext cx="22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482000" y="4299120"/>
            <a:ext cx="84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Liais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484160" y="4449600"/>
            <a:ext cx="22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483080" y="4602240"/>
            <a:ext cx="87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Phys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581640" y="4816440"/>
            <a:ext cx="2876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Support physique d'interconnex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70120" y="2841480"/>
            <a:ext cx="720720" cy="290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22920" y="2841480"/>
            <a:ext cx="720720" cy="290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odèle de réfé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1143000"/>
            <a:ext cx="7559640" cy="526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 couche phys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uche physique fournit les moyens mécaniques, électriques, fonctionnels et procéduraux nécessaires à l'activation, au maintien et à la désactivation des connexions physiques destinées à la transmission des éléments binaires entre entités de li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65280" y="2340000"/>
            <a:ext cx="936000" cy="2587680"/>
            <a:chOff x="665280" y="2340000"/>
            <a:chExt cx="936000" cy="2587680"/>
          </a:xfrm>
        </p:grpSpPr>
        <p:sp>
          <p:nvSpPr>
            <p:cNvPr id="112" name=""/>
            <p:cNvSpPr/>
            <p:nvPr/>
          </p:nvSpPr>
          <p:spPr>
            <a:xfrm>
              <a:off x="671400" y="2340000"/>
              <a:ext cx="929880" cy="258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5280" y="2706840"/>
              <a:ext cx="9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5280" y="3065400"/>
              <a:ext cx="9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5280" y="3438720"/>
              <a:ext cx="9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5280" y="3813120"/>
              <a:ext cx="9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5280" y="4170240"/>
              <a:ext cx="9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5280" y="4545000"/>
              <a:ext cx="9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430440" y="2340000"/>
            <a:ext cx="938160" cy="2587680"/>
            <a:chOff x="3430440" y="2340000"/>
            <a:chExt cx="938160" cy="2587680"/>
          </a:xfrm>
        </p:grpSpPr>
        <p:sp>
          <p:nvSpPr>
            <p:cNvPr id="120" name=""/>
            <p:cNvSpPr/>
            <p:nvPr/>
          </p:nvSpPr>
          <p:spPr>
            <a:xfrm>
              <a:off x="3436920" y="2340000"/>
              <a:ext cx="931680" cy="258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30440" y="2706840"/>
              <a:ext cx="9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30440" y="3065400"/>
              <a:ext cx="9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30440" y="3438720"/>
              <a:ext cx="9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30440" y="3813120"/>
              <a:ext cx="9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440" y="4170240"/>
              <a:ext cx="9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0440" y="4545000"/>
              <a:ext cx="9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71400" y="4924440"/>
            <a:ext cx="3697560" cy="280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74160" y="2276640"/>
            <a:ext cx="13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74160" y="2471760"/>
            <a:ext cx="2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3440" y="2665440"/>
            <a:ext cx="14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és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74160" y="2860560"/>
            <a:ext cx="2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74520" y="3056040"/>
            <a:ext cx="9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74160" y="3251160"/>
            <a:ext cx="2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74520" y="3446640"/>
            <a:ext cx="124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74160" y="3641760"/>
            <a:ext cx="2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74160" y="3836880"/>
            <a:ext cx="94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ése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74160" y="4032360"/>
            <a:ext cx="2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73800" y="4227480"/>
            <a:ext cx="102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ais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74160" y="4422600"/>
            <a:ext cx="2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74880" y="4616280"/>
            <a:ext cx="107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ys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4894200"/>
            <a:ext cx="3626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ort physique d'inter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1400" y="4551480"/>
            <a:ext cx="930240" cy="37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36920" y="4551480"/>
            <a:ext cx="932040" cy="376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ouche phys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physique : nœuds de commutation, lignes physiques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ègles permettant le transport des éléments binai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e 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tion (amplitude, phase, fréqu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m (Modulateur-Démodulate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/s - Ba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age de voies basses vitesses sur une voie haute vit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age statis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3886200" y="1600200"/>
            <a:ext cx="4843440" cy="766080"/>
            <a:chOff x="3886200" y="1600200"/>
            <a:chExt cx="4843440" cy="766080"/>
          </a:xfrm>
        </p:grpSpPr>
        <p:sp>
          <p:nvSpPr>
            <p:cNvPr id="147" name=""/>
            <p:cNvSpPr/>
            <p:nvPr/>
          </p:nvSpPr>
          <p:spPr>
            <a:xfrm>
              <a:off x="4038480" y="2311200"/>
              <a:ext cx="72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86200" y="2311200"/>
              <a:ext cx="103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407120" y="1931760"/>
              <a:ext cx="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94160" y="1944720"/>
              <a:ext cx="1040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96040" y="1944720"/>
              <a:ext cx="455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8840" y="1932120"/>
              <a:ext cx="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48400" y="2311200"/>
              <a:ext cx="25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26240" y="2311200"/>
              <a:ext cx="145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61000" y="2222640"/>
              <a:ext cx="0" cy="10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7272360" y="1931760"/>
              <a:ext cx="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59760" y="1944720"/>
              <a:ext cx="74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94520" y="1932120"/>
              <a:ext cx="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81920" y="2311200"/>
              <a:ext cx="74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717040" y="2222640"/>
              <a:ext cx="0" cy="10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80720" y="165096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55440" y="167652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01640" y="20304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47840" y="20304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46320" y="16002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68480" y="195408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58560" y="192888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886200" y="2819520"/>
            <a:ext cx="4965480" cy="863640"/>
            <a:chOff x="3886200" y="2819520"/>
            <a:chExt cx="4965480" cy="863640"/>
          </a:xfrm>
        </p:grpSpPr>
        <p:sp>
          <p:nvSpPr>
            <p:cNvPr id="169" name=""/>
            <p:cNvSpPr/>
            <p:nvPr/>
          </p:nvSpPr>
          <p:spPr>
            <a:xfrm>
              <a:off x="3981240" y="3232080"/>
              <a:ext cx="481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30480" y="323208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54440" y="3232080"/>
              <a:ext cx="1812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08680" y="3232080"/>
              <a:ext cx="11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799480" y="3143520"/>
              <a:ext cx="0" cy="10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4495680" y="2857680"/>
              <a:ext cx="812880" cy="806400"/>
              <a:chOff x="4495680" y="2857680"/>
              <a:chExt cx="812880" cy="806400"/>
            </a:xfrm>
          </p:grpSpPr>
          <p:sp>
            <p:nvSpPr>
              <p:cNvPr id="175" name=""/>
              <p:cNvSpPr/>
              <p:nvPr/>
            </p:nvSpPr>
            <p:spPr>
              <a:xfrm>
                <a:off x="4495680" y="2857680"/>
                <a:ext cx="37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862520" y="2863800"/>
                <a:ext cx="7920" cy="781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870440" y="3664080"/>
                <a:ext cx="438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276520" y="2819520"/>
              <a:ext cx="812880" cy="806400"/>
              <a:chOff x="5276520" y="2819520"/>
              <a:chExt cx="812880" cy="806400"/>
            </a:xfrm>
          </p:grpSpPr>
          <p:sp>
            <p:nvSpPr>
              <p:cNvPr id="179" name=""/>
              <p:cNvSpPr/>
              <p:nvPr/>
            </p:nvSpPr>
            <p:spPr>
              <a:xfrm>
                <a:off x="5276520" y="2819520"/>
                <a:ext cx="37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643360" y="2826000"/>
                <a:ext cx="7920" cy="780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51280" y="3625920"/>
                <a:ext cx="438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7410240" y="2876760"/>
              <a:ext cx="812880" cy="806400"/>
              <a:chOff x="7410240" y="2876760"/>
              <a:chExt cx="812880" cy="806400"/>
            </a:xfrm>
          </p:grpSpPr>
          <p:sp>
            <p:nvSpPr>
              <p:cNvPr id="183" name=""/>
              <p:cNvSpPr/>
              <p:nvPr/>
            </p:nvSpPr>
            <p:spPr>
              <a:xfrm>
                <a:off x="7410240" y="2876760"/>
                <a:ext cx="37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77080" y="2882880"/>
                <a:ext cx="7920" cy="781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785000" y="3683160"/>
                <a:ext cx="438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886200" y="2857680"/>
              <a:ext cx="812520" cy="806400"/>
              <a:chOff x="3886200" y="2857680"/>
              <a:chExt cx="812520" cy="806400"/>
            </a:xfrm>
          </p:grpSpPr>
          <p:sp>
            <p:nvSpPr>
              <p:cNvPr id="187" name=""/>
              <p:cNvSpPr/>
              <p:nvPr/>
            </p:nvSpPr>
            <p:spPr>
              <a:xfrm>
                <a:off x="3886200" y="3664080"/>
                <a:ext cx="379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252680" y="2876400"/>
                <a:ext cx="7920" cy="780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260600" y="2857680"/>
                <a:ext cx="438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886360" y="2819520"/>
              <a:ext cx="812880" cy="806400"/>
              <a:chOff x="5886360" y="2819520"/>
              <a:chExt cx="812880" cy="806400"/>
            </a:xfrm>
          </p:grpSpPr>
          <p:sp>
            <p:nvSpPr>
              <p:cNvPr id="191" name=""/>
              <p:cNvSpPr/>
              <p:nvPr/>
            </p:nvSpPr>
            <p:spPr>
              <a:xfrm>
                <a:off x="5886360" y="3625920"/>
                <a:ext cx="37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6252840" y="2838240"/>
                <a:ext cx="8280" cy="780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261120" y="2819520"/>
                <a:ext cx="438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819840" y="2876760"/>
              <a:ext cx="812880" cy="806400"/>
              <a:chOff x="6819840" y="2876760"/>
              <a:chExt cx="812880" cy="806400"/>
            </a:xfrm>
          </p:grpSpPr>
          <p:sp>
            <p:nvSpPr>
              <p:cNvPr id="195" name=""/>
              <p:cNvSpPr/>
              <p:nvPr/>
            </p:nvSpPr>
            <p:spPr>
              <a:xfrm>
                <a:off x="6819840" y="3683160"/>
                <a:ext cx="37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7186320" y="2895480"/>
                <a:ext cx="7920" cy="780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194240" y="2876760"/>
                <a:ext cx="438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038800" y="2876760"/>
              <a:ext cx="812880" cy="806400"/>
              <a:chOff x="8038800" y="2876760"/>
              <a:chExt cx="812880" cy="806400"/>
            </a:xfrm>
          </p:grpSpPr>
          <p:sp>
            <p:nvSpPr>
              <p:cNvPr id="199" name=""/>
              <p:cNvSpPr/>
              <p:nvPr/>
            </p:nvSpPr>
            <p:spPr>
              <a:xfrm>
                <a:off x="8038800" y="3683160"/>
                <a:ext cx="37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8405640" y="2895480"/>
                <a:ext cx="7920" cy="780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413560" y="2876760"/>
                <a:ext cx="438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4191120" y="4799160"/>
            <a:ext cx="4628880" cy="903240"/>
            <a:chOff x="4191120" y="4799160"/>
            <a:chExt cx="4628880" cy="903240"/>
          </a:xfrm>
        </p:grpSpPr>
        <p:sp>
          <p:nvSpPr>
            <p:cNvPr id="203" name=""/>
            <p:cNvSpPr/>
            <p:nvPr/>
          </p:nvSpPr>
          <p:spPr>
            <a:xfrm>
              <a:off x="4191120" y="5249880"/>
              <a:ext cx="462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6064200" y="4875480"/>
              <a:ext cx="641160" cy="759960"/>
              <a:chOff x="6064200" y="4875480"/>
              <a:chExt cx="641160" cy="7599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6064200" y="4876920"/>
                <a:ext cx="322200" cy="758520"/>
                <a:chOff x="6064200" y="4876920"/>
                <a:chExt cx="322200" cy="7585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065640" y="4876920"/>
                  <a:ext cx="32076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10"/>
                      </a:moveTo>
                      <a:arcTo wR="10800" hR="10800" stAng="-10771233" swAng="53371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10"/>
                      </a:moveTo>
                      <a:arcTo wR="10800" hR="10800" stAng="-10771233" swAng="5337198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064200" y="4876920"/>
                  <a:ext cx="32040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3" y="1"/>
                      </a:moveTo>
                      <a:arcTo wR="10800" hR="10800" stAng="-5434036" swAng="54049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3" y="1"/>
                      </a:moveTo>
                      <a:arcTo wR="10800" hR="10800" stAng="-5434036" swAng="540498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374160" y="4875480"/>
                <a:ext cx="331200" cy="758520"/>
                <a:chOff x="6374160" y="4875480"/>
                <a:chExt cx="331200" cy="7585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374160" y="4875480"/>
                  <a:ext cx="32940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709"/>
                      </a:moveTo>
                      <a:arcTo wR="10800" hR="10800" stAng="-29046" swAng="5429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709"/>
                      </a:moveTo>
                      <a:arcTo wR="10800" hR="10800" stAng="-29046" swAng="5429046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375240" y="4875480"/>
                  <a:ext cx="33012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287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2876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" name=""/>
            <p:cNvGrpSpPr/>
            <p:nvPr/>
          </p:nvGrpSpPr>
          <p:grpSpPr>
            <a:xfrm>
              <a:off x="6696000" y="4875480"/>
              <a:ext cx="627120" cy="759960"/>
              <a:chOff x="6696000" y="4875480"/>
              <a:chExt cx="627120" cy="75996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6696000" y="4876920"/>
                <a:ext cx="317160" cy="758520"/>
                <a:chOff x="6696000" y="4876920"/>
                <a:chExt cx="317160" cy="7585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6696000" y="4876920"/>
                  <a:ext cx="31716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10"/>
                      </a:moveTo>
                      <a:arcTo wR="10800" hR="10800" stAng="-10771375" swAng="53029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10"/>
                      </a:moveTo>
                      <a:arcTo wR="10800" hR="10800" stAng="-10771375" swAng="530297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696000" y="4876920"/>
                  <a:ext cx="31716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85" y="2"/>
                      </a:moveTo>
                      <a:arcTo wR="10800" hR="10800" stAng="-5468404" swAng="54392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85" y="2"/>
                      </a:moveTo>
                      <a:arcTo wR="10800" hR="10800" stAng="-5468404" swAng="54392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7000920" y="4875480"/>
                <a:ext cx="322200" cy="758520"/>
                <a:chOff x="7000920" y="4875480"/>
                <a:chExt cx="322200" cy="7585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7000920" y="4875480"/>
                  <a:ext cx="32040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709"/>
                      </a:moveTo>
                      <a:arcTo wR="10800" hR="10800" stAng="-29055" swAng="54632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709"/>
                      </a:moveTo>
                      <a:arcTo wR="10800" hR="10800" stAng="-29055" swAng="546323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002360" y="4875480"/>
                  <a:ext cx="32076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3" y="21599"/>
                      </a:moveTo>
                      <a:arcTo wR="10800" hR="10800" stAng="5434179" swAng="539458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3" y="21599"/>
                      </a:moveTo>
                      <a:arcTo wR="10800" hR="10800" stAng="5434179" swAng="539458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"/>
            <p:cNvGrpSpPr/>
            <p:nvPr/>
          </p:nvGrpSpPr>
          <p:grpSpPr>
            <a:xfrm>
              <a:off x="7939080" y="4875480"/>
              <a:ext cx="640440" cy="759960"/>
              <a:chOff x="7939080" y="4875480"/>
              <a:chExt cx="640440" cy="75996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7939080" y="4876920"/>
                <a:ext cx="331560" cy="758520"/>
                <a:chOff x="7939080" y="4876920"/>
                <a:chExt cx="331560" cy="7585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7940520" y="4876920"/>
                  <a:ext cx="33012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10"/>
                      </a:moveTo>
                      <a:arcTo wR="10800" hR="10800" stAng="-10771233" swAng="53381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10"/>
                      </a:moveTo>
                      <a:arcTo wR="10800" hR="10800" stAng="-10771233" swAng="53381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939080" y="4876920"/>
                  <a:ext cx="32976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6" y="0"/>
                      </a:moveTo>
                      <a:arcTo wR="10800" hR="10800" stAng="-5433054" swAng="54040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6" y="0"/>
                      </a:moveTo>
                      <a:arcTo wR="10800" hR="10800" stAng="-5433054" swAng="5404008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8258400" y="4875480"/>
                <a:ext cx="321120" cy="759960"/>
                <a:chOff x="8258400" y="4875480"/>
                <a:chExt cx="321120" cy="7599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8258400" y="4875480"/>
                  <a:ext cx="32004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708"/>
                      </a:moveTo>
                      <a:arcTo wR="10800" hR="10800" stAng="-29203" swAng="549789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708"/>
                      </a:moveTo>
                      <a:arcTo wR="10800" hR="10800" stAng="-29203" swAng="549789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8259840" y="4876920"/>
                  <a:ext cx="31968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84" y="21598"/>
                      </a:moveTo>
                      <a:arcTo wR="10800" hR="10800" stAng="5468691" swAng="53599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84" y="21598"/>
                      </a:moveTo>
                      <a:arcTo wR="10800" hR="10800" stAng="5468691" swAng="535993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"/>
            <p:cNvGrpSpPr/>
            <p:nvPr/>
          </p:nvGrpSpPr>
          <p:grpSpPr>
            <a:xfrm>
              <a:off x="4194000" y="4875480"/>
              <a:ext cx="639360" cy="759960"/>
              <a:chOff x="4194000" y="4875480"/>
              <a:chExt cx="639360" cy="75996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4194000" y="4876920"/>
                <a:ext cx="317160" cy="758520"/>
                <a:chOff x="4194000" y="4876920"/>
                <a:chExt cx="317160" cy="7585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4194000" y="4876920"/>
                  <a:ext cx="31716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10"/>
                      </a:moveTo>
                      <a:arcTo wR="10800" hR="10800" stAng="-10771375" swAng="53029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10"/>
                      </a:moveTo>
                      <a:arcTo wR="10800" hR="10800" stAng="-10771375" swAng="530297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194720" y="4876920"/>
                  <a:ext cx="31644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85" y="2"/>
                      </a:moveTo>
                      <a:arcTo wR="10800" hR="10800" stAng="-5468404" swAng="54392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85" y="2"/>
                      </a:moveTo>
                      <a:arcTo wR="10800" hR="10800" stAng="-5468404" swAng="54392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4499280" y="4875480"/>
                <a:ext cx="334080" cy="759960"/>
                <a:chOff x="4499280" y="4875480"/>
                <a:chExt cx="334080" cy="7599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4499280" y="4875480"/>
                  <a:ext cx="33264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708"/>
                      </a:moveTo>
                      <a:arcTo wR="10800" hR="10800" stAng="-29186" swAng="54620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708"/>
                      </a:moveTo>
                      <a:arcTo wR="10800" hR="10800" stAng="-29186" swAng="546208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500360" y="4876920"/>
                  <a:ext cx="33300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7" y="21600"/>
                      </a:moveTo>
                      <a:arcTo wR="10800" hR="10800" stAng="5432896" swAng="53957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7" y="21600"/>
                      </a:moveTo>
                      <a:arcTo wR="10800" hR="10800" stAng="5432896" swAng="539573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" name=""/>
            <p:cNvGrpSpPr/>
            <p:nvPr/>
          </p:nvGrpSpPr>
          <p:grpSpPr>
            <a:xfrm>
              <a:off x="7310160" y="4875480"/>
              <a:ext cx="641520" cy="759960"/>
              <a:chOff x="7310160" y="4875480"/>
              <a:chExt cx="641520" cy="75996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7310160" y="4875480"/>
                <a:ext cx="331920" cy="758520"/>
                <a:chOff x="7310160" y="4875480"/>
                <a:chExt cx="331920" cy="7585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7311960" y="4875480"/>
                  <a:ext cx="33012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287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2876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310160" y="4875480"/>
                  <a:ext cx="33012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709"/>
                      </a:moveTo>
                      <a:arcTo wR="10800" hR="10800" stAng="-29046" swAng="5429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709"/>
                      </a:moveTo>
                      <a:arcTo wR="10800" hR="10800" stAng="-29046" swAng="5429046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629480" y="4876920"/>
                <a:ext cx="322200" cy="758520"/>
                <a:chOff x="7629480" y="4876920"/>
                <a:chExt cx="322200" cy="7585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629480" y="4876920"/>
                  <a:ext cx="32040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3" y="1"/>
                      </a:moveTo>
                      <a:arcTo wR="10800" hR="10800" stAng="-5434036" swAng="54049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3" y="1"/>
                      </a:moveTo>
                      <a:arcTo wR="10800" hR="10800" stAng="-5434036" swAng="540498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630920" y="4876920"/>
                  <a:ext cx="32076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10"/>
                      </a:moveTo>
                      <a:arcTo wR="10800" hR="10800" stAng="-10771233" swAng="53371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10"/>
                      </a:moveTo>
                      <a:arcTo wR="10800" hR="10800" stAng="-10771233" swAng="5337198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"/>
            <p:cNvGrpSpPr/>
            <p:nvPr/>
          </p:nvGrpSpPr>
          <p:grpSpPr>
            <a:xfrm>
              <a:off x="5435280" y="4875480"/>
              <a:ext cx="641160" cy="759960"/>
              <a:chOff x="5435280" y="4875480"/>
              <a:chExt cx="641160" cy="75996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5435280" y="4875480"/>
                <a:ext cx="334800" cy="759960"/>
                <a:chOff x="5435280" y="4875480"/>
                <a:chExt cx="334800" cy="7599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437080" y="4876920"/>
                  <a:ext cx="33300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7" y="21600"/>
                      </a:moveTo>
                      <a:arcTo wR="10800" hR="10800" stAng="5432896" swAng="53957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7" y="21600"/>
                      </a:moveTo>
                      <a:arcTo wR="10800" hR="10800" stAng="5432896" swAng="539573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435280" y="4875480"/>
                  <a:ext cx="33336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708"/>
                      </a:moveTo>
                      <a:arcTo wR="10800" hR="10800" stAng="-29186" swAng="54620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708"/>
                      </a:moveTo>
                      <a:arcTo wR="10800" hR="10800" stAng="-29186" swAng="546208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5759280" y="4876920"/>
                <a:ext cx="317160" cy="758520"/>
                <a:chOff x="5759280" y="4876920"/>
                <a:chExt cx="317160" cy="7585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760000" y="4876920"/>
                  <a:ext cx="31644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85" y="2"/>
                      </a:moveTo>
                      <a:arcTo wR="10800" hR="10800" stAng="-5468404" swAng="54392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85" y="2"/>
                      </a:moveTo>
                      <a:arcTo wR="10800" hR="10800" stAng="-5468404" swAng="54392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759280" y="4876920"/>
                  <a:ext cx="317160" cy="75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10"/>
                      </a:moveTo>
                      <a:arcTo wR="10800" hR="10800" stAng="-10771375" swAng="53029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10"/>
                      </a:moveTo>
                      <a:arcTo wR="10800" hR="10800" stAng="-10771375" swAng="530297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"/>
            <p:cNvGrpSpPr/>
            <p:nvPr/>
          </p:nvGrpSpPr>
          <p:grpSpPr>
            <a:xfrm>
              <a:off x="4819320" y="4799160"/>
              <a:ext cx="628560" cy="903240"/>
              <a:chOff x="4819320" y="4799160"/>
              <a:chExt cx="628560" cy="90324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5130720" y="4876920"/>
                <a:ext cx="317160" cy="825480"/>
                <a:chOff x="5130720" y="4876920"/>
                <a:chExt cx="317160" cy="8254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5130720" y="4876920"/>
                  <a:ext cx="317160" cy="825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17"/>
                      </a:moveTo>
                      <a:arcTo wR="10800" hR="10800" stAng="-10773687" swAng="53052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17"/>
                      </a:moveTo>
                      <a:arcTo wR="10800" hR="10800" stAng="-10773687" swAng="530528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130720" y="4876920"/>
                  <a:ext cx="317160" cy="825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85" y="2"/>
                      </a:moveTo>
                      <a:arcTo wR="10800" hR="10800" stAng="-5468404" swAng="54415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85" y="2"/>
                      </a:moveTo>
                      <a:arcTo wR="10800" hR="10800" stAng="-5468404" swAng="544155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4819320" y="4799160"/>
                <a:ext cx="322560" cy="834840"/>
                <a:chOff x="4819320" y="4799160"/>
                <a:chExt cx="322560" cy="83484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4819320" y="4799160"/>
                  <a:ext cx="320760" cy="83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686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6866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821120" y="4799160"/>
                  <a:ext cx="320760" cy="83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84" y="21598"/>
                      </a:moveTo>
                      <a:arcTo wR="10800" hR="10800" stAng="5468665" swAng="53313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84" y="21598"/>
                      </a:moveTo>
                      <a:arcTo wR="10800" hR="10800" stAng="5468665" swAng="533133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ouche phys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tout ou r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e d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tion de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2349360" y="3144960"/>
            <a:ext cx="5175720" cy="2406240"/>
            <a:chOff x="2349360" y="3144960"/>
            <a:chExt cx="5175720" cy="2406240"/>
          </a:xfrm>
        </p:grpSpPr>
        <p:sp>
          <p:nvSpPr>
            <p:cNvPr id="256" name=""/>
            <p:cNvSpPr/>
            <p:nvPr/>
          </p:nvSpPr>
          <p:spPr>
            <a:xfrm>
              <a:off x="2352600" y="3344760"/>
              <a:ext cx="1322640" cy="55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52600" y="3621240"/>
              <a:ext cx="120960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55840" y="3898800"/>
              <a:ext cx="115560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59080" y="4165560"/>
              <a:ext cx="109044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359080" y="4557240"/>
              <a:ext cx="1090440" cy="1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349360" y="4730400"/>
              <a:ext cx="116208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349360" y="4896000"/>
              <a:ext cx="1212840" cy="3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352600" y="4998600"/>
              <a:ext cx="1322640" cy="55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10200" y="4346640"/>
              <a:ext cx="1549440" cy="16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13600" y="4340160"/>
              <a:ext cx="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4340160"/>
              <a:ext cx="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56240" y="4340160"/>
              <a:ext cx="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42120" y="4340160"/>
              <a:ext cx="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32600" y="3907800"/>
              <a:ext cx="205560" cy="20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8" y="15066"/>
                  </a:moveTo>
                  <a:arcTo wR="10800" hR="10800" stAng="9403938" swAng="2839818"/>
                  <a:lnTo>
                    <a:pt x="10800" y="10800"/>
                  </a:lnTo>
                  <a:close/>
                </a:path>
                <a:path fill="none" w="21600" h="21600">
                  <a:moveTo>
                    <a:pt x="878" y="15066"/>
                  </a:moveTo>
                  <a:arcTo wR="10800" hR="10800" stAng="9403938" swAng="2839818"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62280" y="3910680"/>
              <a:ext cx="206280" cy="20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21" y="6306"/>
                  </a:moveTo>
                  <a:arcTo wR="10800" hR="10800" stAng="-1475407" swAng="29023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21" y="6306"/>
                  </a:moveTo>
                  <a:arcTo wR="10800" hR="10800" stAng="-1475407" swAng="2902329"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37240" y="4011480"/>
              <a:ext cx="515880" cy="27000"/>
            </a:xfrm>
            <a:custGeom>
              <a:avLst/>
              <a:gdLst/>
              <a:ahLst/>
              <a:rect l="l" t="t" r="r" b="b"/>
              <a:pathLst>
                <a:path w="325" h="17">
                  <a:moveTo>
                    <a:pt x="0" y="0"/>
                  </a:moveTo>
                  <a:lnTo>
                    <a:pt x="324" y="0"/>
                  </a:lnTo>
                  <a:lnTo>
                    <a:pt x="32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97120" y="4078440"/>
              <a:ext cx="800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donné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06800" y="5019840"/>
              <a:ext cx="17182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Numéro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la voie basse vites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12040" y="3697200"/>
              <a:ext cx="64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tr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18080" y="3144960"/>
              <a:ext cx="538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voi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16640" y="3421080"/>
              <a:ext cx="1154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haute vites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69040" y="3195720"/>
              <a:ext cx="1489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voie basse vites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77360" y="34718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28040" y="37101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64680" y="38624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77360" y="490860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56000" y="3627360"/>
              <a:ext cx="1650960" cy="1660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24200" y="4181400"/>
              <a:ext cx="1158840" cy="54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00920" y="4390920"/>
              <a:ext cx="205920" cy="20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751" y="19812"/>
                  </a:moveTo>
                  <a:arcTo wR="10800" hR="10800" stAng="3393608" swAng="292638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751" y="19812"/>
                  </a:moveTo>
                  <a:arcTo wR="10800" hR="10800" stAng="3393608" swAng="2926389"/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6203520" y="4576320"/>
              <a:ext cx="5076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ouche phys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age de voies basses vitesses sur une voie haute vit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eur tempo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eur statis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veau phys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24861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765360" y="4508640"/>
            <a:ext cx="780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modems — modem est l’acronyme de modulateur-démodulateur —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ent les signaux binaires produits par les ordinateurs ou 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quipements terminaux en des signaux également binaires, mais do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une forme sinusoïdale, qui leur offre une propagation de meilleure quali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2476800" y="2997360"/>
            <a:ext cx="3966120" cy="3003120"/>
            <a:chOff x="2476800" y="2997360"/>
            <a:chExt cx="3966120" cy="3003120"/>
          </a:xfrm>
        </p:grpSpPr>
        <p:grpSp>
          <p:nvGrpSpPr>
            <p:cNvPr id="292" name=""/>
            <p:cNvGrpSpPr/>
            <p:nvPr/>
          </p:nvGrpSpPr>
          <p:grpSpPr>
            <a:xfrm>
              <a:off x="2499120" y="3075840"/>
              <a:ext cx="995040" cy="2616480"/>
              <a:chOff x="2499120" y="3075840"/>
              <a:chExt cx="995040" cy="2616480"/>
            </a:xfrm>
          </p:grpSpPr>
          <p:sp>
            <p:nvSpPr>
              <p:cNvPr id="293" name=""/>
              <p:cNvSpPr/>
              <p:nvPr/>
            </p:nvSpPr>
            <p:spPr>
              <a:xfrm>
                <a:off x="2507760" y="3075840"/>
                <a:ext cx="986400" cy="2616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499120" y="3445200"/>
                <a:ext cx="98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499120" y="3806640"/>
                <a:ext cx="98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499120" y="4186440"/>
                <a:ext cx="98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499120" y="4564440"/>
                <a:ext cx="98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499120" y="4926240"/>
                <a:ext cx="98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499120" y="5304240"/>
                <a:ext cx="98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5447520" y="3075840"/>
              <a:ext cx="995040" cy="2616480"/>
              <a:chOff x="5447520" y="3075840"/>
              <a:chExt cx="995040" cy="2616480"/>
            </a:xfrm>
          </p:grpSpPr>
          <p:sp>
            <p:nvSpPr>
              <p:cNvPr id="301" name=""/>
              <p:cNvSpPr/>
              <p:nvPr/>
            </p:nvSpPr>
            <p:spPr>
              <a:xfrm>
                <a:off x="5456160" y="3075840"/>
                <a:ext cx="986400" cy="2616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47520" y="3445200"/>
                <a:ext cx="98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447520" y="3806640"/>
                <a:ext cx="98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47520" y="4186440"/>
                <a:ext cx="98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447520" y="4564440"/>
                <a:ext cx="98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447520" y="4926240"/>
                <a:ext cx="98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447520" y="5304240"/>
                <a:ext cx="98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2507760" y="5692680"/>
              <a:ext cx="3935160" cy="278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55880" y="2997360"/>
              <a:ext cx="112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Applic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59840" y="3193560"/>
              <a:ext cx="229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56600" y="3391560"/>
              <a:ext cx="1192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Présent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759840" y="3587760"/>
              <a:ext cx="229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58040" y="3786480"/>
              <a:ext cx="786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Sess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59840" y="3984480"/>
              <a:ext cx="229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57680" y="4180680"/>
              <a:ext cx="1014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Trans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59840" y="4379040"/>
              <a:ext cx="229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59840" y="4575240"/>
              <a:ext cx="774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Résea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59840" y="4773960"/>
              <a:ext cx="229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57680" y="4971960"/>
              <a:ext cx="842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Liaison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59840" y="5168160"/>
              <a:ext cx="229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57320" y="5366160"/>
              <a:ext cx="87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Phys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76800" y="5694840"/>
              <a:ext cx="3539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   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Support physique d'interconnex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7760" y="4934520"/>
              <a:ext cx="986760" cy="377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56160" y="4934520"/>
              <a:ext cx="986760" cy="377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veau t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7560" y="1628640"/>
            <a:ext cx="75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niveau trame est responsable de l’acheminement correct des paq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 lui sont remis, de nœud en nœ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fonction première du niveau trame est de détecter les débuts et 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s des éléments binaires formant une t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18:31:30Z</dcterms:created>
  <dc:creator> Guy Pujolle</dc:creator>
  <dc:description/>
  <dc:language>en-US</dc:language>
  <cp:lastModifiedBy>SULPICE</cp:lastModifiedBy>
  <dcterms:modified xsi:type="dcterms:W3CDTF">2004-05-26T15:29:25Z</dcterms:modified>
  <cp:revision>24</cp:revision>
  <dc:subject/>
  <dc:title>Commutation de circuit</dc:title>
</cp:coreProperties>
</file>