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rotocoles de niveau paqu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tement des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561440" cy="54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dresses IPv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838080"/>
            <a:ext cx="7416720" cy="54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tocole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387520"/>
            <a:ext cx="9144000" cy="29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émentation de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454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xion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2739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5040" y="4889520"/>
            <a:ext cx="79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tocole X.25  utilise une commutation de niveau paquet (la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trouve dans la zone de supervision du paqu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ircuit virtuel ou chemin X.25 est réalisé grâce à la suite de références 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ellent « voie logique » dans le monde X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u paquet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6840" y="4745160"/>
            <a:ext cx="83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aquet X.25 porte une référence (voie logique) qui tient sur 12 bits (gro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voie logique + voie logique). Cette référence est suivie d’un identific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ype de paquet indiquant si le paquet est un paquet de données ou un paqu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uper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43280" y="2133720"/>
            <a:ext cx="360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quet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77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24720" cy="679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quet d’a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914400"/>
            <a:ext cx="8135640" cy="529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e  de libé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838080"/>
            <a:ext cx="7848720" cy="55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xion de réseau de niveau paqu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08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2120" y="4941720"/>
            <a:ext cx="855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igure montre une interconnexion de deux réseaux IP, A et B, au niveau paqu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aquets IP sont encapsulés dans la trame du réseau A puis dans la trame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eau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quet de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822400"/>
            <a:ext cx="9144000" cy="207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es paquets de contrô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0397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quet d’interru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7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quet de réinitialisation et de rep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9144000" cy="31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ctionnement d’un P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11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560" y="4800600"/>
            <a:ext cx="855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PAD (Packet Assembler Desassembler) est un organe qui se situe dans 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seau et qui se substitue au logiciel qui devrait se trouver dans la mach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e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te solution était astucieuse à l’époque où les machines n’étaient pas puiss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ne supportaient pas de logiciel réseau. Aujourd’hui cette fonction a disp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gmentation des datagram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43000"/>
            <a:ext cx="7452000" cy="526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us de perte dans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quet IPv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70160"/>
            <a:ext cx="91440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dresses IPv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95360"/>
            <a:ext cx="9144000" cy="31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u paquet IPv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144880"/>
            <a:ext cx="9144000" cy="343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mp en-tête suiv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678040"/>
            <a:ext cx="9144000" cy="23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mp d’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07324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14:00Z</dcterms:created>
  <dc:creator> Guy Pujolle</dc:creator>
  <dc:description/>
  <dc:language>en-US</dc:language>
  <cp:lastModifiedBy>SULPICE</cp:lastModifiedBy>
  <dcterms:modified xsi:type="dcterms:W3CDTF">2004-05-26T15:31:37Z</dcterms:modified>
  <cp:revision>22</cp:revision>
  <dc:subject/>
  <dc:title>Cours 10</dc:title>
</cp:coreProperties>
</file>