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architectures log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chitecture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990720"/>
            <a:ext cx="8207280" cy="55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architecture TCP/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59640" cy="29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920" y="4581360"/>
            <a:ext cx="867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architecture TCP/IP contient trois niveaux protocolaire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niveau IP (Internet Protocol) qui est un niveau paqu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niveau TCP (Transmission Control Protocol) qui regroupe les niv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ssage et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niveau applicatif qui regroupe les niveaux présentation et ap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est à noter que l’architecture TCP/IP s’appuie sur des niveaux trames quelcon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’architecture des réseaux loc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53440" cy="3730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6120" y="5465880"/>
            <a:ext cx="85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réseaux locaux ont une architecture spécifique dans le sens où une fo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émentaire doit apparaître : l’accès au support physique qui peut être partag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 niveau supplémentaire entre le niveau 1 et 2 est représenté par la couche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AC : Medium Access Contr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eau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914400"/>
            <a:ext cx="7848360" cy="547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seau 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réseaux Ethernet sont ceux qui se servent d’une trame de type Ethernet pour transporter les paqu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grands types de réseaux Ethern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partag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tations sont connectées sur un même support phys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commu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stations sont connectées en point à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UIT-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rchitecture UIT-T fait référence à l’environnement AT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 définit une trame de petite dimension (53 octe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3933720"/>
            <a:ext cx="8244000" cy="18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UIT-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07640" cy="3429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8800" y="4653000"/>
            <a:ext cx="833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tte architecture possède 4 niveaux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niveau physique (niveau physique du modèle de référence + recon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424 bits formant la cellu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uche ATM (niveau t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ouche AAL (niveau messag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couches supérieures qui sont en fait aujourd’hui les couches TCP/I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 MP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21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9240" y="5537160"/>
            <a:ext cx="77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de type routeur/commutateur avec le niveau paquet IP pour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isation et un niveau trame pour la commu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19:10:56Z</dcterms:created>
  <dc:creator> Guy Pujolle</dc:creator>
  <dc:description/>
  <dc:language>en-US</dc:language>
  <cp:lastModifiedBy>SULPICE</cp:lastModifiedBy>
  <dcterms:modified xsi:type="dcterms:W3CDTF">2004-05-26T15:29:59Z</dcterms:modified>
  <cp:revision>15</cp:revision>
  <dc:subject/>
  <dc:title>Cours 6</dc:title>
</cp:coreProperties>
</file>