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fonctionnalités de base des rés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ôle de 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562040"/>
            <a:ext cx="8424720" cy="4722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de rou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1212840"/>
            <a:ext cx="8209080" cy="511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de routag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990720"/>
            <a:ext cx="8280360" cy="52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4520" y="170028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Hot potatoes avec b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9144000" cy="2184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06360" y="1576440"/>
            <a:ext cx="21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ssage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ssage p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ssage X.1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8964720" cy="197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7800" y="193680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ressage international X.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ressage dans 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ssage par une adresse de dest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4 adresse sur 4 octets, divisée en deux pa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 partie adresse du sous-rés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esse de l’utilis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4 adresse sur 16 oct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niveaux de hiérarch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ables de routage IPv4 peuvent devenir très grandes puisque juste 2 niveaux de hiérarchie sont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tables IPv6 sont réduites grâce au fort niveau de hiérarchis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écur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sécurité recouvre de nombreux domaines, qui peuvent être regroupés en trois concep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fonctions de sécurité, qui sont déterminées par les actions pouvant compromettre la sécurité d’un établiss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mécanismes de sécurité, qui définissent les algorithmes à mettre en œuv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ervices de sécurité, qui représentent les logiciels et matériels réalisant des mécanismes dans le but de mettre à la disposition des utilisateurs les fonctions de sécurité dont ils ont beso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écur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q types de services de sécurité sont généralement mis en œuvre dans les réseau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nfidentialité, qui doit permettre de conserver les données confidentielles même si elles sont interceptées lors de la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uthentification, qui permet de vérifier que la personne qui se connecte est bien la personne qui a donné son n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intégrité, qui garantit que les données reçues sont bien celles qui ont été émi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non-répudiation, qui permet d’assurer qu’un message a bien été envoyé par un émetteur spécifié et reçu par un récepteur spécifi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contrôle d’accès, qui restreint l’accès à des ressources sous des conditions bien définies et par des utilisateurs spécifi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s modes avec et sans connex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mode avec connexion va avec une com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, relais de t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mode sans connexion va avec un rou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mode avec connexion peut avoir un rou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(si on peut parler de routage de niveau T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mode sans connexion peut être en com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commu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ode multi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mode multi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944720"/>
            <a:ext cx="8713800" cy="38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ôle de 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réseaux commutés et réseaux rout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ut : empêcher que les nœuds soient congestionn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rôle par le terminal intelli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xemple: slow start et congestion avoid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rôle par le rés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ôle d ’accès : CAC (Connection Admission Contro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io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ntrôle de congestion a pour objectif de faire sortir le réseau d’un état de con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emporisateur, destruction de paque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ôle de 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3332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3760" y="532116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ôle de flux dans un réseau commuté par une limitation du nombre 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quets sur un chemin (circuit virtue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ntrôle de 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24720" cy="280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3200" y="4437000"/>
            <a:ext cx="860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rôle de flux dans un réseau par limitation des accès sur les interfaces d’entr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e réseau. Par exemple, algorithme du slow start congestion avoidanc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ôle de 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27040" y="4889520"/>
            <a:ext cx="786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ôle de flux dynamique sur un chemin (circuit virtuel) par une fenêtr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l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ôle de fl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497800" cy="2873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31560" y="4797360"/>
            <a:ext cx="77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ôle de flux dans un réseau commuté par une réservation de mé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es nœuds traversés par le chemin (circuit virtue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9:23:29Z</dcterms:created>
  <dc:creator> Guy Pujolle</dc:creator>
  <dc:description/>
  <dc:language>en-US</dc:language>
  <cp:lastModifiedBy>SULPICE</cp:lastModifiedBy>
  <dcterms:modified xsi:type="dcterms:W3CDTF">2004-05-26T15:30:15Z</dcterms:modified>
  <cp:revision>18</cp:revision>
  <dc:subject/>
  <dc:title>Cours 8</dc:title>
</cp:coreProperties>
</file>