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sans f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WPA : Wi-Fi Protected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nitié par le Wi-Fi Alliance et comporte deux sécurité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é sur TKIP : Changement de clé tous les 10 ko de données échang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thentification par le protocole IEEE802.1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personnels Bluet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luetoo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écoupage en s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2408400"/>
            <a:ext cx="9144000" cy="29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uetooth :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012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1080" y="5176800"/>
            <a:ext cx="46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ransmission s’effectue sur 1, 3 ou 5 s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ad h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ocole de rou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ocole réa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ODV (Ad-hoc On Demand Distance Ve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tocole proac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LSR (Optimized Link State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sans f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éseaux PAN (Personal Area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éseaux LAN (Local Area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éseaux MAN (Metropolitan Area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réseaux WAN (Wide Area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EEE 80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che Phy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999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tesse jusqu’à 11 Mbit/s (bande 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1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tesse jusqu’à 54 Mbit/s (bande UN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3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tesse jusqu’à 54 Mbit/s (bande IS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005/2006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tesse jusqu’à 32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che Liaison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é de serv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2004)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élioration de la sécur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688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4)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stion des hand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570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.11 – Wi-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16000" y="1206360"/>
            <a:ext cx="7128000" cy="54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andes de fréquences dans Wi-F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802.11, 802.11b et 802.11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nde sans licence ISM dans les 2,4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rgeur de bande : 8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802.11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ande sans licence UN-II dans les 5 G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rgeur de bande : 300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fectation des can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249228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2492280"/>
            <a:ext cx="143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0072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1700280"/>
            <a:ext cx="144756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700280"/>
            <a:ext cx="144756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1700280"/>
            <a:ext cx="144756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6072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19640" y="1700280"/>
            <a:ext cx="144756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0036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7964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700280"/>
            <a:ext cx="1447920" cy="151272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720" y="321300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32846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83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1700280"/>
            <a:ext cx="1439640" cy="1512720"/>
          </a:xfrm>
          <a:prstGeom prst="ellipse">
            <a:avLst/>
          </a:prstGeom>
          <a:solidFill>
            <a:srgbClr val="00008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1700280"/>
            <a:ext cx="1447920" cy="1512720"/>
          </a:xfrm>
          <a:prstGeom prst="ellipse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0360" y="1700280"/>
            <a:ext cx="1447920" cy="1512720"/>
          </a:xfrm>
          <a:prstGeom prst="ellipse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20720" y="2492280"/>
            <a:ext cx="6121440" cy="71928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2637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2637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56360" y="263700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6108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0072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2492280"/>
            <a:ext cx="66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740720" y="1628640"/>
            <a:ext cx="14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42100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20720" y="3211560"/>
            <a:ext cx="6121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20720" y="32115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83,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628640"/>
            <a:ext cx="1440" cy="16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4656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0692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67280" y="4205160"/>
            <a:ext cx="144756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4205160"/>
            <a:ext cx="144756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6560" y="4205160"/>
            <a:ext cx="144756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6920" y="4205160"/>
            <a:ext cx="1447920" cy="1513080"/>
          </a:xfrm>
          <a:prstGeom prst="ellipse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571824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1280" y="578952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83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6920" y="4205160"/>
            <a:ext cx="1439640" cy="1513080"/>
          </a:xfrm>
          <a:prstGeom prst="ellipse">
            <a:avLst/>
          </a:prstGeom>
          <a:solidFill>
            <a:srgbClr val="ff99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6200" y="4205160"/>
            <a:ext cx="1447920" cy="1513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205160"/>
            <a:ext cx="1447920" cy="1513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47640" y="57164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0000"/>
                </a:solidFill>
                <a:latin typeface="Arial"/>
              </a:rPr>
              <a:t>83,5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86200" y="4221000"/>
            <a:ext cx="1447560" cy="1513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5840" y="4221000"/>
            <a:ext cx="1447920" cy="1513080"/>
          </a:xfrm>
          <a:prstGeom prst="ellipse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6200" y="5013360"/>
            <a:ext cx="6121440" cy="719280"/>
          </a:xfrm>
          <a:prstGeom prst="rect">
            <a:avLst/>
          </a:prstGeom>
          <a:solidFill>
            <a:srgbClr val="ffffff"/>
          </a:solidFill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30200" y="4997520"/>
            <a:ext cx="66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7640" y="4133880"/>
            <a:ext cx="1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6200" y="4133880"/>
            <a:ext cx="144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716440"/>
            <a:ext cx="6121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1840" y="5141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81840" y="5141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6560" y="492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6560" y="492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2200" y="51418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1840" y="51418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nal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6920" y="492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6920" y="492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anaux de 802.11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 canaux de 20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-localisation de 8 résea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u sein du même 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7964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564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795920"/>
            <a:ext cx="863640" cy="863640"/>
          </a:xfrm>
          <a:prstGeom prst="ellipse">
            <a:avLst/>
          </a:prstGeom>
          <a:solidFill>
            <a:srgbClr val="ff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5227560"/>
            <a:ext cx="88930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52275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764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00364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893080" y="5154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18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1928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2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672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28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22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4800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24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26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036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3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04000" y="5443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32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28000" y="53658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3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468360" y="53658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5,15 G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59500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83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5877000"/>
            <a:ext cx="864216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587052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0000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2275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9308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516720" y="1700280"/>
          <a:ext cx="2252520" cy="2638440"/>
        </p:xfrm>
        <a:graphic>
          <a:graphicData uri="http://schemas.openxmlformats.org/drawingml/2006/table">
            <a:tbl>
              <a:tblPr/>
              <a:tblGrid>
                <a:gridCol w="1003320"/>
                <a:gridCol w="1249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é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n G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81080"/>
                          <a:tab algn="l" pos="289080"/>
                          <a:tab algn="l" pos="39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écurité dans Wi-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cès au rés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ervice Set ID (SSID) : équivalent au nom de rés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cess Control List (ACL) : basé sur les adresses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ired Encryption Privacy (WEP) : Mécanisme de chiffrement basé sur le RC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hent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iff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hentification d’un term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81240" y="1219320"/>
            <a:ext cx="6048360" cy="544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3:22:19Z</dcterms:created>
  <dc:creator> Guy Pujolle</dc:creator>
  <dc:description/>
  <dc:language>en-US</dc:language>
  <cp:lastModifiedBy>SULPICE</cp:lastModifiedBy>
  <dcterms:modified xsi:type="dcterms:W3CDTF">2004-05-26T15:34:08Z</dcterms:modified>
  <cp:revision>8</cp:revision>
  <dc:subject/>
  <dc:title>Cours 18</dc:title>
</cp:coreProperties>
</file>