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2481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protocoles de niveau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low start &amp; congestion avoi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33720" y="1231920"/>
            <a:ext cx="6408720" cy="562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ragment U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2416320"/>
            <a:ext cx="9144000" cy="289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veau mes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veau de protocole capable de prendre en charge la transmission des messages de bout en bo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 niveau découpe les messages en paquets et demande au niveau paquet de bien vouloir les transpor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deux protocoles importants proviennent du monde IP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blissement d’une connexion T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1280" y="990720"/>
            <a:ext cx="8101080" cy="54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xion de plusieu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s sur un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ême adresse 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496960"/>
            <a:ext cx="9144000" cy="27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205000"/>
            <a:ext cx="2386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t T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11520" y="0"/>
            <a:ext cx="64324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ôle de flux T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911240"/>
            <a:ext cx="9144000" cy="39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 d’un fragment T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41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quittement T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201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s ce schéma les paquets IP sont numérotés en séqu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s la réalité les paquets 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ennent le numéro 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mier octet transpor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85840" y="1052640"/>
            <a:ext cx="7058160" cy="5410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876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ise dans T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33720" y="1168560"/>
            <a:ext cx="6408720" cy="56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23:33:05Z</dcterms:created>
  <dc:creator> Guy Pujolle</dc:creator>
  <dc:description/>
  <dc:language>en-US</dc:language>
  <cp:lastModifiedBy>SULPICE</cp:lastModifiedBy>
  <dcterms:modified xsi:type="dcterms:W3CDTF">2004-05-26T15:32:09Z</dcterms:modified>
  <cp:revision>15</cp:revision>
  <dc:subject/>
  <dc:title>Cours 11</dc:title>
</cp:coreProperties>
</file>