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réseaux téléc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 et MP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 : Circuit virtu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768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3760" y="4889520"/>
            <a:ext cx="743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nœuds qui commutent les paquets à l’intérieur d’un VPI s’appell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s brasseurs ou commutateurs VP (Virtual Pa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ommutateurs ATM sont des commutateurs VC/VP travaill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ur l’ensemble de la réfé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 :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16000" y="1143000"/>
            <a:ext cx="6842160" cy="344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47200" y="4648320"/>
            <a:ext cx="828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chitecture ATM possèdent trois plans. Un plan est un réseau ; donc, l’A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ède trois réseaux mais qui sont multiplexés  sur un même réseau phys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utilisateur qui transporte les données utilis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contrôle qui ouvre et ferme les circuits virtu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 de gestion qui transporte les informations de ges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connaissance du plan se fait grâce à la valeur de la réfé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7848720" cy="3038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3600" y="4745160"/>
            <a:ext cx="803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tre grande classes de qualité de serv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BR Constant Bit Rate : garantie de service pour les clients à débit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BR Variable Bit Rate : garantie de service pour les clients à débit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BR Available Bit Rate : garantie partielle de service (sur le taux de per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BR Unspecified Bit Rate : aucune garantie de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LS : version 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6985080" cy="3532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0840" y="4960800"/>
            <a:ext cx="832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PLS (MultiProtocol Label Swit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ociation d’une technique de signalisation IP et d’une commutation de t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LS : version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987560"/>
            <a:ext cx="8642160" cy="3749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PLS : version hétérogè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68360" y="1527120"/>
            <a:ext cx="8207280" cy="467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RNIS : Réseau Numérique à Intégration de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592280"/>
            <a:ext cx="8280360" cy="45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que S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8964720" cy="1903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4280" y="4076640"/>
            <a:ext cx="8649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technique STM (Synchronous Transfert Mode) est une technologi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port synchrone permettant d’affecter un canal adapté à chaque utilisa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antage : il est très simple de transporter des applications synchrones à dé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convénient : le support physique est mal utilisé pour les applications asynchr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NET/SD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NET (Synchronous Optical Network) normalisé en Amérique du Nord et SDH (Synchronous Digital Hierarchy) normalisé par l’UIT-T sont deux solutions de type S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trame de niveau physique est émise toutes les 125 µs. En fonction de la vitesse de la ligne la trame est plus ou moins lon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valeurs les plus classiques sont indiquées dans le tabl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C: Optical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16360" y="1557360"/>
            <a:ext cx="4176720" cy="36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TM (Asynchronous Transfert Mode) est une technique de transfert de niveau trame (appelée également cellul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bjectif: obtenir le meilleur gain statistique possible en utilisant au mieux les lignes de commun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mes de 53 oct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4581360"/>
            <a:ext cx="7704000" cy="153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-tête de la cellule 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47640" y="838080"/>
            <a:ext cx="655344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52000" cy="2994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75920" y="4508640"/>
            <a:ext cx="83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aille de la cellule ATM a été conçue pour faire transiter de la par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léphonique en paquets. Le temps de remplissage de la trame à la vite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64 Kbit/s est de 6 ms (une trame toutes les 125 µs et il faut remplir 48 oct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ntrainte temporelle à respecter pour les réseaux qui ont des échos étan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ms de traversée, il ne fallait pas que le temps de paquétisation dépas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tte val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48720" cy="4202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98320" y="582444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TM est une commutation avec mise en place de chemins (circuits virtu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igure décrit une table de commu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TM – Virtua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560" y="3429000"/>
            <a:ext cx="851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circuit virtuel est ouvert par une signalisation ATM qui met en place le che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est défini par une suite de références. Cependant, les références étant ass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ngues (jusqu’à 28 bits), pour réduire la table de commutation, l’opérateur se se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conduits virtue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onduit virtuel est un chemin qui permet de multiplexer les circuits virtu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n’utilisant que la partie VPI (Virtual Path Identifier) de la référence. 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fférents circuits virtuels sont différenciés par leur numé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CI (Virtual Channel Identifier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5440" cy="16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22:58:01Z</dcterms:created>
  <dc:creator> Guy Pujolle</dc:creator>
  <dc:description/>
  <dc:language>en-US</dc:language>
  <cp:lastModifiedBy>SULPICE</cp:lastModifiedBy>
  <dcterms:modified xsi:type="dcterms:W3CDTF">2004-05-26T15:33:39Z</dcterms:modified>
  <cp:revision>18</cp:revision>
  <dc:subject/>
  <dc:title>Cours 16</dc:title>
</cp:coreProperties>
</file>