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de mob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éseau G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94560" y="1916280"/>
            <a:ext cx="8246160" cy="2100240"/>
            <a:chOff x="394560" y="1916280"/>
            <a:chExt cx="8246160" cy="2100240"/>
          </a:xfrm>
        </p:grpSpPr>
        <p:sp>
          <p:nvSpPr>
            <p:cNvPr id="59" name=""/>
            <p:cNvSpPr/>
            <p:nvPr/>
          </p:nvSpPr>
          <p:spPr>
            <a:xfrm>
              <a:off x="7040520" y="3102120"/>
              <a:ext cx="493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534440" y="2057760"/>
              <a:ext cx="1106280" cy="1958760"/>
            </a:xfrm>
            <a:prstGeom prst="ellipse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492120" y="2592720"/>
              <a:ext cx="407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33600" y="2656080"/>
              <a:ext cx="660240" cy="1285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432" y="0"/>
                  </a:lnTo>
                  <a:lnTo>
                    <a:pt x="240" y="96"/>
                  </a:lnTo>
                  <a:lnTo>
                    <a:pt x="67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514000">
              <a:off x="394920" y="3616560"/>
              <a:ext cx="801720" cy="13176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lnTo>
                    <a:pt x="432" y="0"/>
                  </a:lnTo>
                  <a:lnTo>
                    <a:pt x="240" y="96"/>
                  </a:lnTo>
                  <a:lnTo>
                    <a:pt x="67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43160" y="3232440"/>
              <a:ext cx="752400" cy="51120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SM B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5440" y="2529000"/>
              <a:ext cx="704880" cy="121464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SM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43160" y="2529000"/>
              <a:ext cx="752400" cy="511200"/>
            </a:xfrm>
            <a:prstGeom prst="rect">
              <a:avLst/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SM B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11240" y="2465640"/>
              <a:ext cx="0" cy="1405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78160" y="2529000"/>
              <a:ext cx="0" cy="1341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5560" y="3488040"/>
              <a:ext cx="56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95560" y="2784600"/>
              <a:ext cx="56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5337360" y="1916280"/>
              <a:ext cx="464760" cy="458640"/>
              <a:chOff x="5337360" y="1916280"/>
              <a:chExt cx="464760" cy="458640"/>
            </a:xfrm>
          </p:grpSpPr>
          <p:sp>
            <p:nvSpPr>
              <p:cNvPr id="72" name=""/>
              <p:cNvSpPr/>
              <p:nvPr/>
            </p:nvSpPr>
            <p:spPr>
              <a:xfrm>
                <a:off x="5344920" y="2192760"/>
                <a:ext cx="457200" cy="1724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337360" y="1957320"/>
                <a:ext cx="457200" cy="3214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44920" y="1957320"/>
                <a:ext cx="451080" cy="323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94600" y="2071440"/>
                <a:ext cx="38232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356440" y="1959120"/>
                <a:ext cx="432360" cy="3333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344920" y="1916280"/>
                <a:ext cx="457200" cy="104040"/>
              </a:xfrm>
              <a:prstGeom prst="ellipse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56440" y="2041920"/>
                <a:ext cx="42660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HL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AU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889440" y="2565720"/>
              <a:ext cx="3276720" cy="140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90880" y="2526120"/>
              <a:ext cx="3275280" cy="14079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13400" y="3078360"/>
              <a:ext cx="2038320" cy="1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94560" y="2144880"/>
              <a:ext cx="84744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346640" y="2220840"/>
              <a:ext cx="990720" cy="662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4118040" y="2830680"/>
              <a:ext cx="837720" cy="593640"/>
              <a:chOff x="4118040" y="2830680"/>
              <a:chExt cx="837720" cy="593640"/>
            </a:xfrm>
          </p:grpSpPr>
          <p:sp>
            <p:nvSpPr>
              <p:cNvPr id="85" name=""/>
              <p:cNvSpPr/>
              <p:nvPr/>
            </p:nvSpPr>
            <p:spPr>
              <a:xfrm>
                <a:off x="4190400" y="2892600"/>
                <a:ext cx="66996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118040" y="2830680"/>
                <a:ext cx="837720" cy="59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39080" y="2927520"/>
                <a:ext cx="540360" cy="28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06680" y="2923560"/>
                <a:ext cx="50832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MSC/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285800" y="3136680"/>
                <a:ext cx="6487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6327720" y="2830680"/>
              <a:ext cx="723960" cy="441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MS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96520" y="3364200"/>
              <a:ext cx="271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éseau à Comm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circ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2240" y="3135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39080" y="4889520"/>
            <a:ext cx="60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GSM est une solution de type commutation de circu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G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200" y="990720"/>
            <a:ext cx="8246160" cy="4773600"/>
            <a:chOff x="250200" y="990720"/>
            <a:chExt cx="8246160" cy="4773600"/>
          </a:xfrm>
        </p:grpSpPr>
        <p:grpSp>
          <p:nvGrpSpPr>
            <p:cNvPr id="96" name=""/>
            <p:cNvGrpSpPr/>
            <p:nvPr/>
          </p:nvGrpSpPr>
          <p:grpSpPr>
            <a:xfrm>
              <a:off x="250200" y="990720"/>
              <a:ext cx="8246160" cy="2100240"/>
              <a:chOff x="250200" y="990720"/>
              <a:chExt cx="8246160" cy="2100240"/>
            </a:xfrm>
          </p:grpSpPr>
          <p:sp>
            <p:nvSpPr>
              <p:cNvPr id="97" name=""/>
              <p:cNvSpPr/>
              <p:nvPr/>
            </p:nvSpPr>
            <p:spPr>
              <a:xfrm>
                <a:off x="6896160" y="2176560"/>
                <a:ext cx="49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90080" y="1132200"/>
                <a:ext cx="1106280" cy="1958760"/>
              </a:xfrm>
              <a:prstGeom prst="ellipse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ircu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7760" y="1667160"/>
                <a:ext cx="40788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489240" y="1730520"/>
                <a:ext cx="660240" cy="12852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0"/>
                    </a:moveTo>
                    <a:lnTo>
                      <a:pt x="432" y="0"/>
                    </a:lnTo>
                    <a:lnTo>
                      <a:pt x="240" y="96"/>
                    </a:lnTo>
                    <a:lnTo>
                      <a:pt x="67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20514000">
                <a:off x="250560" y="2691000"/>
                <a:ext cx="801720" cy="131760"/>
              </a:xfrm>
              <a:custGeom>
                <a:avLst/>
                <a:gdLst/>
                <a:ahLst/>
                <a:rect l="l" t="t" r="r" b="b"/>
                <a:pathLst>
                  <a:path w="672" h="96">
                    <a:moveTo>
                      <a:pt x="0" y="0"/>
                    </a:moveTo>
                    <a:lnTo>
                      <a:pt x="432" y="0"/>
                    </a:lnTo>
                    <a:lnTo>
                      <a:pt x="240" y="96"/>
                    </a:lnTo>
                    <a:lnTo>
                      <a:pt x="672" y="9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98800" y="2306880"/>
                <a:ext cx="752400" cy="511200"/>
              </a:xfrm>
              <a:prstGeom prst="rect">
                <a:avLst/>
              </a:prstGeom>
              <a:solidFill>
                <a:srgbClr val="66ff66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M B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21080" y="1603440"/>
                <a:ext cx="704880" cy="1214640"/>
              </a:xfrm>
              <a:prstGeom prst="rect">
                <a:avLst/>
              </a:prstGeom>
              <a:solidFill>
                <a:srgbClr val="66ff66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SM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B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198800" y="1603440"/>
                <a:ext cx="752400" cy="511200"/>
              </a:xfrm>
              <a:prstGeom prst="rect">
                <a:avLst/>
              </a:prstGeom>
              <a:solidFill>
                <a:srgbClr val="66ff66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GSM B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6880" y="1540080"/>
                <a:ext cx="0" cy="140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33800" y="1603440"/>
                <a:ext cx="0" cy="134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51200" y="2562480"/>
                <a:ext cx="56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951200" y="1859040"/>
                <a:ext cx="56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5193000" y="990720"/>
                <a:ext cx="464760" cy="458640"/>
                <a:chOff x="5193000" y="990720"/>
                <a:chExt cx="464760" cy="4586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00560" y="1267200"/>
                  <a:ext cx="457200" cy="1724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193000" y="1031760"/>
                  <a:ext cx="457200" cy="321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5200560" y="1031760"/>
                  <a:ext cx="451080" cy="323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50240" y="1145880"/>
                  <a:ext cx="382320" cy="30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212080" y="1033560"/>
                  <a:ext cx="432360" cy="333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00560" y="990720"/>
                  <a:ext cx="457200" cy="104040"/>
                </a:xfrm>
                <a:prstGeom prst="ellipse">
                  <a:avLst/>
                </a:prstGeom>
                <a:solidFill>
                  <a:srgbClr val="ffffcc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12080" y="1116360"/>
                  <a:ext cx="42660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HL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AU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3745080" y="1640160"/>
                <a:ext cx="3276720" cy="1407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746520" y="1600560"/>
                <a:ext cx="3275280" cy="1407960"/>
              </a:xfrm>
              <a:prstGeom prst="ellipse">
                <a:avLst/>
              </a:prstGeom>
              <a:solidFill>
                <a:srgbClr val="ddddd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69040" y="2152800"/>
                <a:ext cx="2038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50200" y="1219320"/>
                <a:ext cx="84744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4202280" y="1295280"/>
                <a:ext cx="990720" cy="6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3973680" y="1905120"/>
                <a:ext cx="837720" cy="593640"/>
                <a:chOff x="3973680" y="1905120"/>
                <a:chExt cx="837720" cy="5936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046040" y="1967040"/>
                  <a:ext cx="669960" cy="4694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73680" y="1905120"/>
                  <a:ext cx="837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194720" y="2001960"/>
                  <a:ext cx="54036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62320" y="1998000"/>
                  <a:ext cx="508320" cy="48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MSC/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VL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141440" y="2211120"/>
                  <a:ext cx="6487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6183360" y="1905120"/>
                <a:ext cx="723960" cy="441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MS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052160" y="243864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éseau à Commut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e circu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287880" y="221004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225960" y="2433600"/>
              <a:ext cx="5270400" cy="3330720"/>
              <a:chOff x="3225960" y="2433600"/>
              <a:chExt cx="5270400" cy="3330720"/>
            </a:xfrm>
          </p:grpSpPr>
          <p:sp>
            <p:nvSpPr>
              <p:cNvPr id="132" name=""/>
              <p:cNvSpPr/>
              <p:nvPr/>
            </p:nvSpPr>
            <p:spPr>
              <a:xfrm>
                <a:off x="7390080" y="3805200"/>
                <a:ext cx="1106280" cy="1959120"/>
              </a:xfrm>
              <a:prstGeom prst="ellipse">
                <a:avLst/>
              </a:prstGeom>
              <a:solidFill>
                <a:srgbClr val="99ffcc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93800"/>
                    <a:tab algn="l" pos="1587600"/>
                    <a:tab algn="l" pos="2381400"/>
                    <a:tab algn="l" pos="3174840"/>
                    <a:tab algn="l" pos="3968640"/>
                    <a:tab algn="l" pos="4762440"/>
                    <a:tab algn="l" pos="5556240"/>
                    <a:tab algn="l" pos="6350040"/>
                    <a:tab algn="l" pos="7143840"/>
                    <a:tab algn="l" pos="7937640"/>
                    <a:tab algn="l" pos="8731080"/>
                    <a:tab algn="l" pos="9524880"/>
                    <a:tab algn="l" pos="103186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3745080" y="3859200"/>
                <a:ext cx="3352680" cy="1828440"/>
                <a:chOff x="3745080" y="3859200"/>
                <a:chExt cx="3352680" cy="18284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45080" y="3908880"/>
                  <a:ext cx="3352680" cy="17787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746160" y="3859200"/>
                  <a:ext cx="3351240" cy="1778760"/>
                </a:xfrm>
                <a:prstGeom prst="ellipse">
                  <a:avLst/>
                </a:prstGeom>
                <a:solidFill>
                  <a:srgbClr val="ddddd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3680" y="4469040"/>
                <a:ext cx="1218960" cy="609120"/>
                <a:chOff x="3973680" y="4469040"/>
                <a:chExt cx="1218960" cy="60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79160" y="4532400"/>
                  <a:ext cx="974520" cy="4816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3680" y="4469040"/>
                  <a:ext cx="1218960" cy="60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295160" y="4568400"/>
                  <a:ext cx="786240" cy="28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51320" y="4564440"/>
                  <a:ext cx="529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SGSN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17760" y="4782960"/>
                  <a:ext cx="943920" cy="2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802480" y="4469040"/>
                <a:ext cx="990720" cy="53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GGS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040360" y="4849920"/>
                <a:ext cx="76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28360" y="4989600"/>
                <a:ext cx="203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Réseau à transfer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 paque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25960" y="2602080"/>
                <a:ext cx="824040" cy="209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93200" y="4697640"/>
                <a:ext cx="60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896160" y="2433600"/>
                <a:ext cx="615960" cy="176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455400" y="579132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GPRS : réseau de commutation de circuits pour la parole télépho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réseau à transfert de paquets pour la partie donn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réseau GP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219320"/>
            <a:ext cx="6767640" cy="51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347840"/>
            <a:ext cx="8497800" cy="49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GSM et UM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990720"/>
            <a:ext cx="6121440" cy="54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ad h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1346040"/>
            <a:ext cx="7417080" cy="508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cellulai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3280" y="1143000"/>
            <a:ext cx="6840720" cy="51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 changement intercellulaire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andover ou hand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1397160"/>
            <a:ext cx="82072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d’un réseau de mob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1143000"/>
            <a:ext cx="734544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interfaces des environnements rad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7920000" cy="46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DMA (Frequency Division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ultiple Acc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374840"/>
            <a:ext cx="8207280" cy="497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DMA (Time Divi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Acc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207280" cy="49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DMA (Code Divis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Acces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692360"/>
            <a:ext cx="71294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éseaux de mob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044720"/>
            <a:ext cx="5559480" cy="566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02:42:15Z</dcterms:created>
  <dc:creator> Guy Pujolle</dc:creator>
  <dc:description/>
  <dc:language>en-US</dc:language>
  <cp:lastModifiedBy>SULPICE</cp:lastModifiedBy>
  <dcterms:modified xsi:type="dcterms:W3CDTF">2004-05-26T15:33:54Z</dcterms:modified>
  <cp:revision>14</cp:revision>
  <dc:subject/>
  <dc:title>Cours 17</dc:title>
</cp:coreProperties>
</file>