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éseau maillé à transfert de paqu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24000" y="2089080"/>
            <a:ext cx="8569080" cy="35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éseaux vidé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lévision numé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bit entre 1 et 8 Mbit/s une fois compressé partant d’une qualité très moyenne jusqu’à une excellente qualit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x de type streaming : contrainte tempor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de voie de retour puisque le flot est unidirecti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ement, un  très grand nombre de paquets avec des contraintes pas trop fo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 le protocole IP (Internet Protoco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iquement des paquets IP, pour toutes les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rande simplicité du réseau Internet ; ce qui implique un coût très fa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telligence se trouve dans les machines terminales des utilisateurs (contrôle de flu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puis les années 2000 apparition de la gestion des priorit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Serv (Integrated Service) dans lequel les contrôles s’effectuent flux par flux (ne passe pas bien à l’échel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Serv (regroupement des flots en trois grandes class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réseaux de télécommunications  AT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eaux ATM utilisant de petits paquets de longueur constante de 53 oct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it virtuel très rap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ut débit de transf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oin d’une sign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isation ATM dans un premier tem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verra que l’idée de la fin des années 90 est de transformer cette signalisation en une signalisation effectuée par des paquets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eau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98000" cy="212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6200" y="395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22100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eaux utilisant des trames de type Eth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mes de longueur quelconque entre 64 et 1500 oct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esse de destination et adresse source sur 6 octets de type plat : toutes les adresses sont différentes mais il n’y a pas de hiérarch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grandes catégories de rés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égorie de rése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29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1080" y="5032440"/>
            <a:ext cx="35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N : Personal Are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 : Local Are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N : Metropolitan Are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N : Wide Are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atégories de rése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éseaux des opérateurs de télé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és vers les circuits puis vers les paquets à l’intérieur de circuits virt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éseaux infor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és vers le transfert de paquets de données (email, fichiers, Peer-to-Peer (P2P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éseaux de canaux de télé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és vers la diffusion de canaux soit par des antennes soit par les réseaux câb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atégories de rése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s des trois types de réseaux vers le multimédia (association voix, données, im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communication : de la parole téléphonique aux transfert de données et de canaux de télévision sur du circuit virtu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eaux de données vers la téléphonie paquet et la vidéo paqu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eaux de vidéo vers la téléphonie et les données par des canaux spécif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éseaux de télé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parole téléphonique en premier li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pplication isochrone de type « stream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mps réel : retard maximal de 300 ms mais 100 ms pour obtenir une très bonne intera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bit relativement fa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4 Kbit/s (1 octet toutes les 125 µ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ression allant jusqu’à 2 K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ation aujourd’hui classique du 8 Kbit/s (1 octet toutes les 1 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age de la parole télépho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05440" cy="525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léphonie en paqu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s de bout en bout pour de la très bonne intera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e paquét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8 Kbit/s = 1octet toutes les 1 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’é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end de la vitesse de la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e transport dans le ré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end du nombre de nœuds traversés et de la d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 – Internet Service Prov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ation de paquets provenant du monde Internet : les paquets 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égration de toutes les données provenant des applications dans des paquets 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ème de la qualité de servic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dimensionnement du rés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de priorité dans les nœu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canismes de contrô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22:25:27Z</dcterms:created>
  <dc:creator> Guy Pujolle</dc:creator>
  <dc:description/>
  <dc:language>en-US</dc:language>
  <cp:lastModifiedBy>SULPICE</cp:lastModifiedBy>
  <dcterms:modified xsi:type="dcterms:W3CDTF">2004-05-26T15:27:57Z</dcterms:modified>
  <cp:revision>15</cp:revision>
  <dc:subject/>
  <dc:title>Diapositive 1</dc:title>
</cp:coreProperties>
</file>