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réseaux X.25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relais de t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 d’un réseau relais de tr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32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détaillé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85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du relais de tr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666800"/>
            <a:ext cx="914400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me LAP-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441440"/>
            <a:ext cx="9144000" cy="484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ommutation du relais de tr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542960"/>
            <a:ext cx="9144000" cy="463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ôle de flux – relais de tr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838080"/>
            <a:ext cx="6551640" cy="547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aison virtue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26920" y="1143000"/>
            <a:ext cx="7848720" cy="52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er implémentation de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9144000" cy="3568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5240" y="5824440"/>
            <a:ext cx="809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.25 est vu comme une interface entre deux nœuds. Chaque nœud du rés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relié aux autres nœuds par une interface X.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è implémentation de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663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9080" y="5608800"/>
            <a:ext cx="51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.25 est vu comme un protocole de bout en 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è implémentation de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308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4480" y="5824440"/>
            <a:ext cx="84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terfaces externes sont vues comme des interfaces nœud-nœ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nterfaces internes sont quelconques et peuvent être celles d’un réseau rou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ôle de flux X.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301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00120" y="5105520"/>
            <a:ext cx="75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ôle de flux sur un chemin avec une limitation du nombre de cl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vant utiliser le chemin, et réservation partielle de ressources dans 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œuds traversés par le che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urallocation des mémoires tam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1754280"/>
            <a:ext cx="8569080" cy="425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domaines d’adr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1790640"/>
            <a:ext cx="8713800" cy="39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t des adresses I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836800"/>
            <a:ext cx="9144000" cy="205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sse X.1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805120"/>
            <a:ext cx="9144000" cy="211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0:27:41Z</dcterms:created>
  <dc:creator> Guy Pujolle</dc:creator>
  <dc:description/>
  <dc:language>en-US</dc:language>
  <cp:lastModifiedBy>SULPICE</cp:lastModifiedBy>
  <dcterms:modified xsi:type="dcterms:W3CDTF">2004-05-26T15:33:08Z</dcterms:modified>
  <cp:revision>18</cp:revision>
  <dc:subject/>
  <dc:title>Cours 14</dc:title>
</cp:coreProperties>
</file>