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5219700" cy="7732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E3A-629C-4E76-AF63-D1952BED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F91-FAB4-4539-AAD8-8B84BDE3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1B8EC-5C69-478C-992A-720EF86E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19E6D-250E-4198-9389-207CEEC6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3D178-0B73-4E73-9C4E-FB6488B9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A4BD0-D3DC-4310-8B1A-1292437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31E96-1609-4C82-8718-26A0E647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D38E2-20E5-42C1-BC26-7BD48765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2659E-BBE0-432B-89A3-AF36FA91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82407-76FE-43DF-8E46-8CFE1B48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DB4E1-CEA2-4DFC-9BC7-9381E9A4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87077-5296-4AAF-ACFB-4955928A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E0F-01F5-49B5-AD4D-F20B5343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937AC-26E9-4294-91B9-03919F15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8E091-D3BE-4E7A-8FD9-ACE25D79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4F8D6-B428-4A22-AE08-4A634DE3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AF1F8-1820-438C-8254-E553EF11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29C69-3E38-4E0D-AC9B-59493AD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43F49-FDE6-4312-9A45-28E060F2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DB108-3600-4100-9A78-079C3687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E95AF-A4D0-4D7E-BB24-172AF68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781B8-3515-4DAF-820E-A77B9D6E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E2BDE-3938-47BD-AE12-BDDFE51B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E51-D04D-4EEC-8E84-8A8D56EE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11ED4-8C80-49D9-BC46-DB0CE10F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99FD4-79D9-4E9F-A7AC-35DE40E6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46B2A-E284-4305-9C8F-8AB8976A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DEA13-69A5-4BE6-B538-8877CCC1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E6D4C-18F1-42BE-990A-4D3B64E7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1A6CF-EA52-47CB-8D95-24D8A25B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AC807-5F15-4DFE-9ECD-5921654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9C019-E7A8-4EAD-A2F6-35CCB955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EE6F0-1201-4F25-A179-E75093D6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CBF0E-9AA1-442B-B4A6-58829A3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1276C-68C8-4AC7-B82B-5EC7F30A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8200C-06F8-4345-9E73-48D5C663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B7DC1-07CE-459C-AB81-9DA8871F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00D8E-EEFA-4256-872E-4A2F2B37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44A39-9C19-4607-B1BD-E206775E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03C94-0915-40C6-A876-784AA7A3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C2066-AD9E-49B7-B95B-E4E7D7F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59F0C-F29C-4A32-A619-CC2D52AA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6F730-0527-49E8-965C-2D5AB99C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3A43C-8472-42EC-ABEE-18919AF5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25DED-9EEA-4E86-A135-697B1CF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5A6E4-7B3B-4FBC-A66F-876D45F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12341-43AF-49FE-98F3-98B18DF7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7ABE4-EC96-4BFF-B24F-EE90E33B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5465-6B89-422C-B1B4-900607C2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AAF-9259-4831-B8B1-D99EFC8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3583-CEF7-45C2-AC87-D131A94C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56C5-8718-46E4-8240-154BB375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A01C-A934-4D6E-8B68-C6F8182C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0E81-E748-48FE-9143-A1212301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B5DC-1510-4387-BC4A-731ADEA3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2EA-8258-478E-8E2D-D77FC4EB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533B-36C1-4D69-8A73-F2D3C963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FF8A-287B-4ABE-A15E-F3CAD0E3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B5C8-CF2B-45CA-A0CB-2A8A7F7C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E8A3-EB69-4669-961A-CBAF893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469C-CF21-4D78-855B-7C28AB17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FB6A-99A6-4E77-A677-3A5A8865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0669-D3EB-4409-BB11-5666AD25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B471-FA32-4AFB-9CDD-3D63AC9B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8992-F8F8-4695-A8FB-D9AE6E4B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2B14-6293-4CC6-AA13-8982FCA8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43E-C77D-46AF-9096-4C45A1AB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AC04-77DA-4AC3-9AA1-3EA84564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677B-7698-4337-9789-F98DB062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9DE21-CFE9-4671-A7B0-86EF25B6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2250-C3FE-44CE-87FD-09284C55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3AF4-9962-4CF5-9F0A-83A03654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44C9-633D-429F-AE81-A578DC9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2BC3-19E0-4AE6-8911-56FCFD2B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7C65-7745-4F0D-AEB8-19539E22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C131-B473-4BC0-91E5-19BBDEE6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A63C-8412-4192-9D3E-D4E379D7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A85-B830-485F-A4CD-15CBB16E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DF3C-086B-4063-89E8-D4B07C88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A39F-6914-488D-88D6-5A63431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F138-5BE5-4CD5-9E4D-FC6BD624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1AFE-11B9-4C9D-9B62-932F72D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991F-B798-40BD-8A08-50116CA9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B35F-E31E-4E1E-B91B-242AA93B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CDE4F-0A54-4477-9167-B23F24FF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4DDD-09FB-48D1-8374-84995A0F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36B2-9B57-4925-A7B5-01E0C47B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313AC-9125-41AA-8AAD-9952F20F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D8C-3E81-4F8A-B3F9-67B2EA5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CE4E-E065-4FE1-913A-3F4040E8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11DF6-5FC6-4170-A232-0A580B6B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0370-B378-4216-AED1-2CA2C11D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EDA9F-1B84-4328-B5D4-067976D6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FF255-4C0C-4517-BDC4-C15F4355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7C7E1-6898-4CB0-B6E2-2F545652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8ECEE-561D-40AA-9D3C-4DC22693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28159-4BD4-461A-A6A2-DC7203B0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400A4-7185-410C-B594-3435B6D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39C3-3CF8-41A3-914C-D1CDF2B0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C70-A5E8-4A8F-B72D-16A4FD20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AC7A6-B475-49B5-898C-5FE8B325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CF035-3166-4987-A7E0-BDB2BA90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852DA-917D-4626-88A1-1AE6E4B7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320E0-213C-4FB8-8927-FE835DC7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D1512-72C4-47D2-93D7-DF81726D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5715B-33D5-46D5-8FDC-3BFC3EC5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F80D7-F9BE-48F4-B5E9-169A108A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04691-3DEE-4855-B8D2-8E471935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D78E-FDCC-427E-90B6-8739872F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5C01-5A52-4D99-8522-0DC6FE4E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EEE-432F-4168-856F-3C2E04BA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18C1E-97B6-433F-B842-6328F68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3BAF7-41F4-4C05-BC62-264F06D8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37E4C-0EE8-4179-A14D-A3B1C49C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356E0-06CC-49FA-840B-A74F7158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F5A69-B4DE-480C-8FF0-CAA2F09A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1E4E0-C877-420C-9B7F-38515C91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58B5-F15F-4532-A885-AA96940F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63BA6-DD78-4D2E-9F9E-D5EB37B6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B3C52-264C-459B-9CB2-7FD5E4DC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6417B-B4DE-4DE3-A1DA-C8F027AE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3E2-5D60-4EE4-9706-001E9AC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35775-AE58-415D-864E-279108E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56F15-1178-4A9D-B4C8-42DEEA8B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54B5-4351-4B62-98A6-3E7EE98B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CCE9D-D2F9-4ABA-B715-8CB98690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43B05-0686-488E-8F6C-8FB65F1F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5DA3-1355-463D-93BE-F64BBC66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AA914-63D9-4A08-A929-C2B80191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11690-61E5-41C6-81A4-0F1C0B02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5634-EC65-4D9E-81F7-7B81EBE8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2FCB-FF57-416A-AECD-5162DDB6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B886-976E-49FF-98C0-357A011731CA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8E3A-1C53-440C-B15D-A9966A23B7D7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449F-695C-4760-B08A-1ADBE9E7805B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C727-0E43-4CD3-8500-B1401070AA23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5932440" y="6324840"/>
            <a:ext cx="274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36000" tIns="82800" bIns="82800" anchor="b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  <a:ea typeface="MS PGothic"/>
              </a:rPr>
              <a:t>MAY </a:t>
            </a:r>
            <a:r>
              <a:rPr b="1" lang="fr-FR" sz="1600" spc="-1" strike="noStrike">
                <a:solidFill>
                  <a:srgbClr val="e42518"/>
                </a:solidFill>
                <a:latin typeface="Arial"/>
                <a:ea typeface="MS PGothic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A551-5072-436C-96C0-58483ECF978F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075B-CB59-41E4-A980-D17627D31828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0C69-6C74-4AC4-8E8F-8ABE130F474A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C44-1309-4026-9D33-3A5AE5489BE4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5237-5D97-4C63-95FF-68F8905859D6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141A-4089-4E2D-955E-30253DF1F65E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B841-6BF8-40B8-95B5-A6689148A327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95600" y="3054240"/>
            <a:ext cx="660384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d7d74"/>
                </a:solidFill>
                <a:latin typeface="Arial"/>
              </a:rPr>
              <a:t>NOM DE LA FAMILLE D’ACHAT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693440" y="4525560"/>
            <a:ext cx="5257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7d74"/>
                </a:solidFill>
                <a:latin typeface="Arial"/>
              </a:rPr>
              <a:t>SOUS-TITRE</a:t>
            </a:r>
            <a:endParaRPr b="1" lang="en-US" sz="17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24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FQ and current main products price comparisons, current suppliers and worldwide off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Benchmarks with external buyers in terms of price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ategic levers to reduce cos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3FE8-B269-402B-9C88-E2C045BBF9D8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2920" y="1609560"/>
          <a:ext cx="8856720" cy="5034240"/>
        </p:xfrm>
        <a:graphic>
          <a:graphicData uri="http://schemas.openxmlformats.org/drawingml/2006/table">
            <a:tbl>
              <a:tblPr/>
              <a:tblGrid>
                <a:gridCol w="1431720"/>
                <a:gridCol w="2229120"/>
                <a:gridCol w="922320"/>
                <a:gridCol w="871560"/>
                <a:gridCol w="714240"/>
                <a:gridCol w="839880"/>
                <a:gridCol w="1023840"/>
                <a:gridCol w="82404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levers to reduc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pa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Benchmark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lling mod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ontractual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upplier perform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ume reb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of disburs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s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fine reporting pro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and standardise deliver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billing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dentify key suppli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view schedu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rocess for forec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sign proce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external spend to in-house or approved supplie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rporate 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omplianc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mplement repor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ghlight non-panel sp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nternal SWOT analysi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9AB4-2E00-4424-99AF-20C483B15A4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703440" y="1785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03440" y="216684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4524480" y="1785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4524480" y="216684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81080" indent="-18108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703440" y="4186080"/>
            <a:ext cx="358920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703440" y="456732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4524480" y="4186080"/>
            <a:ext cx="358596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4524480" y="456732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Explanation of Strategy : needs, market situation and cost comparis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Risk evolution in terms of supply failure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iming number of suppliers by type and segme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Espace réservé du numéro de diapositive 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6BAD-7989-4696-AAAC-27B2E6B0FF80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1200"/>
            </a:b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and not Panel suppliers, A, B, C + Area status, In/out Panel versus previous strategy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1" name="Espace réservé du numéro de diapositive 3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023C-7524-4964-88F5-A0EDB5074C60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7"/>
          <p:cNvSpPr/>
          <p:nvPr/>
        </p:nvSpPr>
        <p:spPr>
          <a:xfrm>
            <a:off x="2625840" y="3235320"/>
            <a:ext cx="1552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Meet Suppliers &amp; Launch Te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/03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8"/>
          <p:cNvSpPr/>
          <p:nvPr/>
        </p:nvSpPr>
        <p:spPr>
          <a:xfrm>
            <a:off x="4340160" y="3228840"/>
            <a:ext cx="1540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Shortlist suppli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/04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8"/>
          <p:cNvSpPr/>
          <p:nvPr/>
        </p:nvSpPr>
        <p:spPr>
          <a:xfrm>
            <a:off x="6115680" y="2368440"/>
            <a:ext cx="1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2"/>
          <p:cNvSpPr/>
          <p:nvPr/>
        </p:nvSpPr>
        <p:spPr>
          <a:xfrm>
            <a:off x="822240" y="3240000"/>
            <a:ext cx="14637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Defini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urrent sit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"/>
          <p:cNvSpPr/>
          <p:nvPr/>
        </p:nvSpPr>
        <p:spPr>
          <a:xfrm>
            <a:off x="684360" y="1731960"/>
            <a:ext cx="7745400" cy="268200"/>
          </a:xfrm>
          <a:prstGeom prst="rightArrow">
            <a:avLst>
              <a:gd name="adj1" fmla="val 45861"/>
              <a:gd name="adj2" fmla="val 100409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6"/>
          <p:cNvGrpSpPr/>
          <p:nvPr/>
        </p:nvGrpSpPr>
        <p:grpSpPr>
          <a:xfrm>
            <a:off x="4600440" y="2200320"/>
            <a:ext cx="828720" cy="449280"/>
            <a:chOff x="4600440" y="2200320"/>
            <a:chExt cx="828720" cy="449280"/>
          </a:xfrm>
        </p:grpSpPr>
        <p:sp>
          <p:nvSpPr>
            <p:cNvPr id="618" name="Rectangle 7"/>
            <p:cNvSpPr/>
            <p:nvPr/>
          </p:nvSpPr>
          <p:spPr>
            <a:xfrm>
              <a:off x="4600440" y="2610000"/>
              <a:ext cx="30924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h Hing Transformer Mfy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4600440" y="2591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elier Proteg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4600440" y="2573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ge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4600440" y="2555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plast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1"/>
            <p:cNvSpPr/>
            <p:nvPr/>
          </p:nvSpPr>
          <p:spPr>
            <a:xfrm>
              <a:off x="4600440" y="25372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ka Elektronik LTD STI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4600440" y="2518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enzen Moso Power Suppl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>
              <a:off x="4600440" y="2500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Ma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4600440" y="2482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Circui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5"/>
            <p:cNvSpPr/>
            <p:nvPr/>
          </p:nvSpPr>
          <p:spPr>
            <a:xfrm>
              <a:off x="4600440" y="24645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wall Electric Products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6"/>
            <p:cNvSpPr/>
            <p:nvPr/>
          </p:nvSpPr>
          <p:spPr>
            <a:xfrm>
              <a:off x="4600440" y="2446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n Nang Elect. APPLI.  MFY.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7"/>
            <p:cNvSpPr/>
            <p:nvPr/>
          </p:nvSpPr>
          <p:spPr>
            <a:xfrm>
              <a:off x="4600440" y="2428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 Microelectron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8"/>
            <p:cNvSpPr/>
            <p:nvPr/>
          </p:nvSpPr>
          <p:spPr>
            <a:xfrm>
              <a:off x="4600440" y="2410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ield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9"/>
            <p:cNvSpPr/>
            <p:nvPr/>
          </p:nvSpPr>
          <p:spPr>
            <a:xfrm>
              <a:off x="4600440" y="2392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CO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0"/>
            <p:cNvSpPr/>
            <p:nvPr/>
          </p:nvSpPr>
          <p:spPr>
            <a:xfrm>
              <a:off x="4600440" y="23738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rhard Kurz GMBH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1"/>
            <p:cNvSpPr/>
            <p:nvPr/>
          </p:nvSpPr>
          <p:spPr>
            <a:xfrm>
              <a:off x="4600440" y="2355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ten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2"/>
            <p:cNvSpPr/>
            <p:nvPr/>
          </p:nvSpPr>
          <p:spPr>
            <a:xfrm>
              <a:off x="4600440" y="2337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IQ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3"/>
            <p:cNvSpPr/>
            <p:nvPr/>
          </p:nvSpPr>
          <p:spPr>
            <a:xfrm>
              <a:off x="4600440" y="2319480"/>
              <a:ext cx="30924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tronix Franc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4"/>
            <p:cNvSpPr/>
            <p:nvPr/>
          </p:nvSpPr>
          <p:spPr>
            <a:xfrm>
              <a:off x="4600440" y="2301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3 Technolog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5"/>
            <p:cNvSpPr/>
            <p:nvPr/>
          </p:nvSpPr>
          <p:spPr>
            <a:xfrm>
              <a:off x="4600440" y="2283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6"/>
            <p:cNvSpPr/>
            <p:nvPr/>
          </p:nvSpPr>
          <p:spPr>
            <a:xfrm>
              <a:off x="4600440" y="22647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S Technology Industry Park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7"/>
            <p:cNvSpPr/>
            <p:nvPr/>
          </p:nvSpPr>
          <p:spPr>
            <a:xfrm>
              <a:off x="4600440" y="22464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8"/>
            <p:cNvSpPr/>
            <p:nvPr/>
          </p:nvSpPr>
          <p:spPr>
            <a:xfrm>
              <a:off x="5301360" y="2629080"/>
              <a:ext cx="1278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1 1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9"/>
            <p:cNvSpPr/>
            <p:nvPr/>
          </p:nvSpPr>
          <p:spPr>
            <a:xfrm>
              <a:off x="5155920" y="2629080"/>
              <a:ext cx="14616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0"/>
            <p:cNvSpPr/>
            <p:nvPr/>
          </p:nvSpPr>
          <p:spPr>
            <a:xfrm>
              <a:off x="5022720" y="2629080"/>
              <a:ext cx="1332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1"/>
            <p:cNvSpPr/>
            <p:nvPr/>
          </p:nvSpPr>
          <p:spPr>
            <a:xfrm>
              <a:off x="4909680" y="2629080"/>
              <a:ext cx="11268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6 9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2"/>
            <p:cNvSpPr/>
            <p:nvPr/>
          </p:nvSpPr>
          <p:spPr>
            <a:xfrm>
              <a:off x="5301360" y="2610000"/>
              <a:ext cx="127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3"/>
            <p:cNvSpPr/>
            <p:nvPr/>
          </p:nvSpPr>
          <p:spPr>
            <a:xfrm>
              <a:off x="5155920" y="2610000"/>
              <a:ext cx="145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34"/>
            <p:cNvSpPr/>
            <p:nvPr/>
          </p:nvSpPr>
          <p:spPr>
            <a:xfrm>
              <a:off x="5022720" y="2610000"/>
              <a:ext cx="1332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5"/>
            <p:cNvSpPr/>
            <p:nvPr/>
          </p:nvSpPr>
          <p:spPr>
            <a:xfrm>
              <a:off x="4909680" y="2610000"/>
              <a:ext cx="11268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6"/>
            <p:cNvSpPr/>
            <p:nvPr/>
          </p:nvSpPr>
          <p:spPr>
            <a:xfrm>
              <a:off x="5301360" y="2591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7"/>
            <p:cNvSpPr/>
            <p:nvPr/>
          </p:nvSpPr>
          <p:spPr>
            <a:xfrm>
              <a:off x="5155920" y="2591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38"/>
            <p:cNvSpPr/>
            <p:nvPr/>
          </p:nvSpPr>
          <p:spPr>
            <a:xfrm>
              <a:off x="5022720" y="2591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39"/>
            <p:cNvSpPr/>
            <p:nvPr/>
          </p:nvSpPr>
          <p:spPr>
            <a:xfrm>
              <a:off x="4909680" y="2591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40"/>
            <p:cNvSpPr/>
            <p:nvPr/>
          </p:nvSpPr>
          <p:spPr>
            <a:xfrm>
              <a:off x="5301360" y="2573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1"/>
            <p:cNvSpPr/>
            <p:nvPr/>
          </p:nvSpPr>
          <p:spPr>
            <a:xfrm>
              <a:off x="5155920" y="2573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42"/>
            <p:cNvSpPr/>
            <p:nvPr/>
          </p:nvSpPr>
          <p:spPr>
            <a:xfrm>
              <a:off x="5022720" y="2573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43"/>
            <p:cNvSpPr/>
            <p:nvPr/>
          </p:nvSpPr>
          <p:spPr>
            <a:xfrm>
              <a:off x="4909680" y="2573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44"/>
            <p:cNvSpPr/>
            <p:nvPr/>
          </p:nvSpPr>
          <p:spPr>
            <a:xfrm>
              <a:off x="5301360" y="2555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45"/>
            <p:cNvSpPr/>
            <p:nvPr/>
          </p:nvSpPr>
          <p:spPr>
            <a:xfrm>
              <a:off x="5155920" y="2555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46"/>
            <p:cNvSpPr/>
            <p:nvPr/>
          </p:nvSpPr>
          <p:spPr>
            <a:xfrm>
              <a:off x="5022720" y="2555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47"/>
            <p:cNvSpPr/>
            <p:nvPr/>
          </p:nvSpPr>
          <p:spPr>
            <a:xfrm>
              <a:off x="4909680" y="2555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48"/>
            <p:cNvSpPr/>
            <p:nvPr/>
          </p:nvSpPr>
          <p:spPr>
            <a:xfrm>
              <a:off x="5301360" y="25372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49"/>
            <p:cNvSpPr/>
            <p:nvPr/>
          </p:nvSpPr>
          <p:spPr>
            <a:xfrm>
              <a:off x="5155920" y="25372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50"/>
            <p:cNvSpPr/>
            <p:nvPr/>
          </p:nvSpPr>
          <p:spPr>
            <a:xfrm>
              <a:off x="5022720" y="25372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51"/>
            <p:cNvSpPr/>
            <p:nvPr/>
          </p:nvSpPr>
          <p:spPr>
            <a:xfrm>
              <a:off x="4909680" y="25372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2"/>
            <p:cNvSpPr/>
            <p:nvPr/>
          </p:nvSpPr>
          <p:spPr>
            <a:xfrm>
              <a:off x="5301360" y="2518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 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3"/>
            <p:cNvSpPr/>
            <p:nvPr/>
          </p:nvSpPr>
          <p:spPr>
            <a:xfrm>
              <a:off x="5155920" y="2518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54"/>
            <p:cNvSpPr/>
            <p:nvPr/>
          </p:nvSpPr>
          <p:spPr>
            <a:xfrm>
              <a:off x="5022720" y="2518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5"/>
            <p:cNvSpPr/>
            <p:nvPr/>
          </p:nvSpPr>
          <p:spPr>
            <a:xfrm>
              <a:off x="4909680" y="2518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6"/>
            <p:cNvSpPr/>
            <p:nvPr/>
          </p:nvSpPr>
          <p:spPr>
            <a:xfrm>
              <a:off x="5301360" y="2500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7"/>
            <p:cNvSpPr/>
            <p:nvPr/>
          </p:nvSpPr>
          <p:spPr>
            <a:xfrm>
              <a:off x="5155920" y="2500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58"/>
            <p:cNvSpPr/>
            <p:nvPr/>
          </p:nvSpPr>
          <p:spPr>
            <a:xfrm>
              <a:off x="5022720" y="2500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59"/>
            <p:cNvSpPr/>
            <p:nvPr/>
          </p:nvSpPr>
          <p:spPr>
            <a:xfrm>
              <a:off x="4909680" y="2500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60"/>
            <p:cNvSpPr/>
            <p:nvPr/>
          </p:nvSpPr>
          <p:spPr>
            <a:xfrm>
              <a:off x="5301360" y="2482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1"/>
            <p:cNvSpPr/>
            <p:nvPr/>
          </p:nvSpPr>
          <p:spPr>
            <a:xfrm>
              <a:off x="5155920" y="2482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62"/>
            <p:cNvSpPr/>
            <p:nvPr/>
          </p:nvSpPr>
          <p:spPr>
            <a:xfrm>
              <a:off x="5022720" y="2482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3"/>
            <p:cNvSpPr/>
            <p:nvPr/>
          </p:nvSpPr>
          <p:spPr>
            <a:xfrm>
              <a:off x="4909680" y="2482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4"/>
            <p:cNvSpPr/>
            <p:nvPr/>
          </p:nvSpPr>
          <p:spPr>
            <a:xfrm>
              <a:off x="5301360" y="24645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5"/>
            <p:cNvSpPr/>
            <p:nvPr/>
          </p:nvSpPr>
          <p:spPr>
            <a:xfrm>
              <a:off x="5155920" y="24645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6"/>
            <p:cNvSpPr/>
            <p:nvPr/>
          </p:nvSpPr>
          <p:spPr>
            <a:xfrm>
              <a:off x="5022720" y="24645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7"/>
            <p:cNvSpPr/>
            <p:nvPr/>
          </p:nvSpPr>
          <p:spPr>
            <a:xfrm>
              <a:off x="4909680" y="24645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8"/>
            <p:cNvSpPr/>
            <p:nvPr/>
          </p:nvSpPr>
          <p:spPr>
            <a:xfrm>
              <a:off x="5301360" y="2446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9"/>
            <p:cNvSpPr/>
            <p:nvPr/>
          </p:nvSpPr>
          <p:spPr>
            <a:xfrm>
              <a:off x="5155920" y="2446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70"/>
            <p:cNvSpPr/>
            <p:nvPr/>
          </p:nvSpPr>
          <p:spPr>
            <a:xfrm>
              <a:off x="5022720" y="2446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71"/>
            <p:cNvSpPr/>
            <p:nvPr/>
          </p:nvSpPr>
          <p:spPr>
            <a:xfrm>
              <a:off x="4909680" y="2446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72"/>
            <p:cNvSpPr/>
            <p:nvPr/>
          </p:nvSpPr>
          <p:spPr>
            <a:xfrm>
              <a:off x="5301360" y="2428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73"/>
            <p:cNvSpPr/>
            <p:nvPr/>
          </p:nvSpPr>
          <p:spPr>
            <a:xfrm>
              <a:off x="5155920" y="2428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74"/>
            <p:cNvSpPr/>
            <p:nvPr/>
          </p:nvSpPr>
          <p:spPr>
            <a:xfrm>
              <a:off x="5022720" y="2428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5"/>
            <p:cNvSpPr/>
            <p:nvPr/>
          </p:nvSpPr>
          <p:spPr>
            <a:xfrm>
              <a:off x="4909680" y="2428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6"/>
            <p:cNvSpPr/>
            <p:nvPr/>
          </p:nvSpPr>
          <p:spPr>
            <a:xfrm>
              <a:off x="5301360" y="2410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7"/>
            <p:cNvSpPr/>
            <p:nvPr/>
          </p:nvSpPr>
          <p:spPr>
            <a:xfrm>
              <a:off x="5155920" y="2410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8"/>
            <p:cNvSpPr/>
            <p:nvPr/>
          </p:nvSpPr>
          <p:spPr>
            <a:xfrm>
              <a:off x="5022720" y="2410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79"/>
            <p:cNvSpPr/>
            <p:nvPr/>
          </p:nvSpPr>
          <p:spPr>
            <a:xfrm>
              <a:off x="4909680" y="2410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80"/>
            <p:cNvSpPr/>
            <p:nvPr/>
          </p:nvSpPr>
          <p:spPr>
            <a:xfrm>
              <a:off x="5301360" y="2392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81"/>
            <p:cNvSpPr/>
            <p:nvPr/>
          </p:nvSpPr>
          <p:spPr>
            <a:xfrm>
              <a:off x="5155920" y="2392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82"/>
            <p:cNvSpPr/>
            <p:nvPr/>
          </p:nvSpPr>
          <p:spPr>
            <a:xfrm>
              <a:off x="5022720" y="2392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83"/>
            <p:cNvSpPr/>
            <p:nvPr/>
          </p:nvSpPr>
          <p:spPr>
            <a:xfrm>
              <a:off x="4909680" y="2392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84"/>
            <p:cNvSpPr/>
            <p:nvPr/>
          </p:nvSpPr>
          <p:spPr>
            <a:xfrm>
              <a:off x="5301360" y="23738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5"/>
            <p:cNvSpPr/>
            <p:nvPr/>
          </p:nvSpPr>
          <p:spPr>
            <a:xfrm>
              <a:off x="5155920" y="23738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6"/>
            <p:cNvSpPr/>
            <p:nvPr/>
          </p:nvSpPr>
          <p:spPr>
            <a:xfrm>
              <a:off x="5022720" y="23738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7"/>
            <p:cNvSpPr/>
            <p:nvPr/>
          </p:nvSpPr>
          <p:spPr>
            <a:xfrm>
              <a:off x="4909680" y="23738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8"/>
            <p:cNvSpPr/>
            <p:nvPr/>
          </p:nvSpPr>
          <p:spPr>
            <a:xfrm>
              <a:off x="5301360" y="2355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9"/>
            <p:cNvSpPr/>
            <p:nvPr/>
          </p:nvSpPr>
          <p:spPr>
            <a:xfrm>
              <a:off x="5155920" y="2355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90"/>
            <p:cNvSpPr/>
            <p:nvPr/>
          </p:nvSpPr>
          <p:spPr>
            <a:xfrm>
              <a:off x="5022720" y="2355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91"/>
            <p:cNvSpPr/>
            <p:nvPr/>
          </p:nvSpPr>
          <p:spPr>
            <a:xfrm>
              <a:off x="4909680" y="2355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92"/>
            <p:cNvSpPr/>
            <p:nvPr/>
          </p:nvSpPr>
          <p:spPr>
            <a:xfrm>
              <a:off x="5301360" y="2337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93"/>
            <p:cNvSpPr/>
            <p:nvPr/>
          </p:nvSpPr>
          <p:spPr>
            <a:xfrm>
              <a:off x="5155920" y="2337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94"/>
            <p:cNvSpPr/>
            <p:nvPr/>
          </p:nvSpPr>
          <p:spPr>
            <a:xfrm>
              <a:off x="5022720" y="2337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5"/>
            <p:cNvSpPr/>
            <p:nvPr/>
          </p:nvSpPr>
          <p:spPr>
            <a:xfrm>
              <a:off x="4909680" y="2337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96"/>
            <p:cNvSpPr/>
            <p:nvPr/>
          </p:nvSpPr>
          <p:spPr>
            <a:xfrm>
              <a:off x="5301360" y="2319480"/>
              <a:ext cx="127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97"/>
            <p:cNvSpPr/>
            <p:nvPr/>
          </p:nvSpPr>
          <p:spPr>
            <a:xfrm>
              <a:off x="5155920" y="2319480"/>
              <a:ext cx="145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98"/>
            <p:cNvSpPr/>
            <p:nvPr/>
          </p:nvSpPr>
          <p:spPr>
            <a:xfrm>
              <a:off x="5022720" y="2319480"/>
              <a:ext cx="1332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9"/>
            <p:cNvSpPr/>
            <p:nvPr/>
          </p:nvSpPr>
          <p:spPr>
            <a:xfrm>
              <a:off x="4909680" y="2319480"/>
              <a:ext cx="11268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00"/>
            <p:cNvSpPr/>
            <p:nvPr/>
          </p:nvSpPr>
          <p:spPr>
            <a:xfrm>
              <a:off x="5301360" y="2301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01"/>
            <p:cNvSpPr/>
            <p:nvPr/>
          </p:nvSpPr>
          <p:spPr>
            <a:xfrm>
              <a:off x="5155920" y="2301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2"/>
            <p:cNvSpPr/>
            <p:nvPr/>
          </p:nvSpPr>
          <p:spPr>
            <a:xfrm>
              <a:off x="5022720" y="2301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3"/>
            <p:cNvSpPr/>
            <p:nvPr/>
          </p:nvSpPr>
          <p:spPr>
            <a:xfrm>
              <a:off x="4909680" y="2301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4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04"/>
            <p:cNvSpPr/>
            <p:nvPr/>
          </p:nvSpPr>
          <p:spPr>
            <a:xfrm>
              <a:off x="5301360" y="2283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05"/>
            <p:cNvSpPr/>
            <p:nvPr/>
          </p:nvSpPr>
          <p:spPr>
            <a:xfrm>
              <a:off x="5155920" y="2283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06"/>
            <p:cNvSpPr/>
            <p:nvPr/>
          </p:nvSpPr>
          <p:spPr>
            <a:xfrm>
              <a:off x="5022720" y="2283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7"/>
            <p:cNvSpPr/>
            <p:nvPr/>
          </p:nvSpPr>
          <p:spPr>
            <a:xfrm>
              <a:off x="4909680" y="2283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08"/>
            <p:cNvSpPr/>
            <p:nvPr/>
          </p:nvSpPr>
          <p:spPr>
            <a:xfrm>
              <a:off x="5301360" y="22647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09"/>
            <p:cNvSpPr/>
            <p:nvPr/>
          </p:nvSpPr>
          <p:spPr>
            <a:xfrm>
              <a:off x="5155920" y="22647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10"/>
            <p:cNvSpPr/>
            <p:nvPr/>
          </p:nvSpPr>
          <p:spPr>
            <a:xfrm>
              <a:off x="5022720" y="22647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11"/>
            <p:cNvSpPr/>
            <p:nvPr/>
          </p:nvSpPr>
          <p:spPr>
            <a:xfrm>
              <a:off x="4909680" y="22647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12"/>
            <p:cNvSpPr/>
            <p:nvPr/>
          </p:nvSpPr>
          <p:spPr>
            <a:xfrm>
              <a:off x="5301360" y="22464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13"/>
            <p:cNvSpPr/>
            <p:nvPr/>
          </p:nvSpPr>
          <p:spPr>
            <a:xfrm>
              <a:off x="5155920" y="22464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4"/>
            <p:cNvSpPr/>
            <p:nvPr/>
          </p:nvSpPr>
          <p:spPr>
            <a:xfrm>
              <a:off x="5022720" y="22464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6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5"/>
            <p:cNvSpPr/>
            <p:nvPr/>
          </p:nvSpPr>
          <p:spPr>
            <a:xfrm>
              <a:off x="4909680" y="22464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6"/>
            <p:cNvSpPr/>
            <p:nvPr/>
          </p:nvSpPr>
          <p:spPr>
            <a:xfrm>
              <a:off x="5301360" y="2200320"/>
              <a:ext cx="127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7"/>
            <p:cNvSpPr/>
            <p:nvPr/>
          </p:nvSpPr>
          <p:spPr>
            <a:xfrm>
              <a:off x="5155920" y="2200320"/>
              <a:ext cx="145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luded in bud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18"/>
            <p:cNvSpPr/>
            <p:nvPr/>
          </p:nvSpPr>
          <p:spPr>
            <a:xfrm>
              <a:off x="5022720" y="2200320"/>
              <a:ext cx="1332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vings % vs T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9"/>
            <p:cNvSpPr/>
            <p:nvPr/>
          </p:nvSpPr>
          <p:spPr>
            <a:xfrm>
              <a:off x="4909680" y="2200320"/>
              <a:ext cx="11268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savings Electronic (€)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0"/>
            <p:cNvSpPr/>
            <p:nvPr/>
          </p:nvSpPr>
          <p:spPr>
            <a:xfrm>
              <a:off x="4600440" y="2200320"/>
              <a:ext cx="30924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2" name="Picture 123" descr="MCj04395970000[1]"/>
          <p:cNvPicPr/>
          <p:nvPr/>
        </p:nvPicPr>
        <p:blipFill>
          <a:blip r:embed="rId1"/>
          <a:stretch/>
        </p:blipFill>
        <p:spPr>
          <a:xfrm>
            <a:off x="3170160" y="2117880"/>
            <a:ext cx="506520" cy="76356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124"/>
          <p:cNvSpPr/>
          <p:nvPr/>
        </p:nvSpPr>
        <p:spPr>
          <a:xfrm>
            <a:off x="2241720" y="2027160"/>
            <a:ext cx="50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r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5"/>
          <p:cNvSpPr/>
          <p:nvPr/>
        </p:nvSpPr>
        <p:spPr>
          <a:xfrm>
            <a:off x="3947040" y="2027160"/>
            <a:ext cx="4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Apr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6"/>
          <p:cNvSpPr/>
          <p:nvPr/>
        </p:nvSpPr>
        <p:spPr>
          <a:xfrm>
            <a:off x="5603400" y="2027160"/>
            <a:ext cx="35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29"/>
          <p:cNvGrpSpPr/>
          <p:nvPr/>
        </p:nvGrpSpPr>
        <p:grpSpPr>
          <a:xfrm>
            <a:off x="1298520" y="2206800"/>
            <a:ext cx="827280" cy="885600"/>
            <a:chOff x="1298520" y="2206800"/>
            <a:chExt cx="827280" cy="885600"/>
          </a:xfrm>
        </p:grpSpPr>
        <p:grpSp>
          <p:nvGrpSpPr>
            <p:cNvPr id="737" name="Group 130"/>
            <p:cNvGrpSpPr/>
            <p:nvPr/>
          </p:nvGrpSpPr>
          <p:grpSpPr>
            <a:xfrm>
              <a:off x="1298520" y="2206800"/>
              <a:ext cx="827280" cy="450720"/>
              <a:chOff x="1298520" y="2206800"/>
              <a:chExt cx="827280" cy="450720"/>
            </a:xfrm>
          </p:grpSpPr>
          <p:sp>
            <p:nvSpPr>
              <p:cNvPr id="738" name="Freeform 131"/>
              <p:cNvSpPr/>
              <p:nvPr/>
            </p:nvSpPr>
            <p:spPr>
              <a:xfrm>
                <a:off x="1298520" y="220680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32"/>
              <p:cNvSpPr/>
              <p:nvPr/>
            </p:nvSpPr>
            <p:spPr>
              <a:xfrm>
                <a:off x="1452600" y="222012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33"/>
              <p:cNvSpPr/>
              <p:nvPr/>
            </p:nvSpPr>
            <p:spPr>
              <a:xfrm>
                <a:off x="1606680" y="223020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34"/>
              <p:cNvSpPr/>
              <p:nvPr/>
            </p:nvSpPr>
            <p:spPr>
              <a:xfrm>
                <a:off x="1764000" y="223020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35"/>
              <p:cNvSpPr/>
              <p:nvPr/>
            </p:nvSpPr>
            <p:spPr>
              <a:xfrm>
                <a:off x="1832400" y="222264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36"/>
            <p:cNvGrpSpPr/>
            <p:nvPr/>
          </p:nvGrpSpPr>
          <p:grpSpPr>
            <a:xfrm>
              <a:off x="1298520" y="2641680"/>
              <a:ext cx="827280" cy="450720"/>
              <a:chOff x="1298520" y="2641680"/>
              <a:chExt cx="827280" cy="450720"/>
            </a:xfrm>
          </p:grpSpPr>
          <p:sp>
            <p:nvSpPr>
              <p:cNvPr id="744" name="Freeform 137"/>
              <p:cNvSpPr/>
              <p:nvPr/>
            </p:nvSpPr>
            <p:spPr>
              <a:xfrm flipV="1">
                <a:off x="1298520" y="264168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50720"/>
                  <a:gd name="textAreaBottom" fmla="*/ 45144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38"/>
              <p:cNvSpPr/>
              <p:nvPr/>
            </p:nvSpPr>
            <p:spPr>
              <a:xfrm flipV="1">
                <a:off x="1452600" y="264204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37040"/>
                  <a:gd name="textAreaBottom" fmla="*/ 43776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39"/>
              <p:cNvSpPr/>
              <p:nvPr/>
            </p:nvSpPr>
            <p:spPr>
              <a:xfrm flipV="1">
                <a:off x="1606680" y="264204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360 h 426960"/>
                  <a:gd name="textAreaBottom" fmla="*/ 42768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40"/>
              <p:cNvSpPr/>
              <p:nvPr/>
            </p:nvSpPr>
            <p:spPr>
              <a:xfrm flipV="1">
                <a:off x="1764000" y="268308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360 h 385920"/>
                  <a:gd name="textAreaBottom" fmla="*/ 38664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41"/>
              <p:cNvSpPr/>
              <p:nvPr/>
            </p:nvSpPr>
            <p:spPr>
              <a:xfrm flipV="1">
                <a:off x="1832400" y="265536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Text Box 144"/>
          <p:cNvSpPr/>
          <p:nvPr/>
        </p:nvSpPr>
        <p:spPr>
          <a:xfrm>
            <a:off x="533880" y="2027160"/>
            <a:ext cx="66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Febr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45"/>
          <p:cNvSpPr/>
          <p:nvPr/>
        </p:nvSpPr>
        <p:spPr>
          <a:xfrm>
            <a:off x="1331640" y="1484280"/>
            <a:ext cx="93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46"/>
          <p:cNvSpPr/>
          <p:nvPr/>
        </p:nvSpPr>
        <p:spPr>
          <a:xfrm>
            <a:off x="3048840" y="14842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47"/>
          <p:cNvSpPr/>
          <p:nvPr/>
        </p:nvSpPr>
        <p:spPr>
          <a:xfrm>
            <a:off x="7565040" y="1484280"/>
            <a:ext cx="8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63"/>
          <p:cNvSpPr/>
          <p:nvPr/>
        </p:nvSpPr>
        <p:spPr>
          <a:xfrm>
            <a:off x="77616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64"/>
          <p:cNvSpPr/>
          <p:nvPr/>
        </p:nvSpPr>
        <p:spPr>
          <a:xfrm>
            <a:off x="2403360" y="1787400"/>
            <a:ext cx="184320" cy="250920"/>
          </a:xfrm>
          <a:prstGeom prst="downArrow">
            <a:avLst>
              <a:gd name="adj1" fmla="val 50000"/>
              <a:gd name="adj2" fmla="val 335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65"/>
          <p:cNvSpPr/>
          <p:nvPr/>
        </p:nvSpPr>
        <p:spPr>
          <a:xfrm>
            <a:off x="405144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66"/>
          <p:cNvSpPr/>
          <p:nvPr/>
        </p:nvSpPr>
        <p:spPr>
          <a:xfrm>
            <a:off x="568008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7"/>
          <p:cNvSpPr/>
          <p:nvPr/>
        </p:nvSpPr>
        <p:spPr>
          <a:xfrm>
            <a:off x="728676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68" descr="MCj04339640000[1]"/>
          <p:cNvPicPr/>
          <p:nvPr/>
        </p:nvPicPr>
        <p:blipFill>
          <a:blip r:embed="rId2"/>
          <a:stretch/>
        </p:blipFill>
        <p:spPr>
          <a:xfrm>
            <a:off x="8453520" y="1555920"/>
            <a:ext cx="644400" cy="653760"/>
          </a:xfrm>
          <a:prstGeom prst="rect">
            <a:avLst/>
          </a:prstGeom>
          <a:ln w="0">
            <a:noFill/>
          </a:ln>
        </p:spPr>
      </p:pic>
      <p:sp>
        <p:nvSpPr>
          <p:cNvPr id="759" name="Trapèze 178"/>
          <p:cNvSpPr/>
          <p:nvPr/>
        </p:nvSpPr>
        <p:spPr>
          <a:xfrm rot="5400000">
            <a:off x="357120" y="4628880"/>
            <a:ext cx="2571480" cy="1571760"/>
          </a:xfrm>
          <a:custGeom>
            <a:avLst/>
            <a:gdLst/>
            <a:ahLst/>
            <a:rect l="l" t="t" r="r" b="b"/>
            <a:pathLst>
              <a:path w="2571750" h="1571625">
                <a:moveTo>
                  <a:pt x="0" y="1571625"/>
                </a:moveTo>
                <a:lnTo>
                  <a:pt x="392906" y="0"/>
                </a:lnTo>
                <a:lnTo>
                  <a:pt x="2178844" y="0"/>
                </a:lnTo>
                <a:lnTo>
                  <a:pt x="257175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rapèze 179"/>
          <p:cNvSpPr/>
          <p:nvPr/>
        </p:nvSpPr>
        <p:spPr>
          <a:xfrm rot="5400000">
            <a:off x="2486160" y="4627440"/>
            <a:ext cx="1714320" cy="1571760"/>
          </a:xfrm>
          <a:custGeom>
            <a:avLst/>
            <a:gdLst/>
            <a:ahLst/>
            <a:rect l="l" t="t" r="r" b="b"/>
            <a:pathLst>
              <a:path w="1714500" h="1571625">
                <a:moveTo>
                  <a:pt x="0" y="1571625"/>
                </a:moveTo>
                <a:lnTo>
                  <a:pt x="392906" y="0"/>
                </a:lnTo>
                <a:lnTo>
                  <a:pt x="1321594" y="0"/>
                </a:lnTo>
                <a:lnTo>
                  <a:pt x="171450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28"/>
          <p:cNvSpPr/>
          <p:nvPr/>
        </p:nvSpPr>
        <p:spPr>
          <a:xfrm>
            <a:off x="5946840" y="3044880"/>
            <a:ext cx="1539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Quality test and internal vali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Meeting with internal custom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/05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rice Negoti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26"/>
          <p:cNvSpPr/>
          <p:nvPr/>
        </p:nvSpPr>
        <p:spPr>
          <a:xfrm>
            <a:off x="7127280" y="2025720"/>
            <a:ext cx="41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J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riangle isocèle 182"/>
          <p:cNvSpPr/>
          <p:nvPr/>
        </p:nvSpPr>
        <p:spPr>
          <a:xfrm rot="5400000">
            <a:off x="8107920" y="4707720"/>
            <a:ext cx="414360" cy="1428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rapèze 183"/>
          <p:cNvSpPr/>
          <p:nvPr/>
        </p:nvSpPr>
        <p:spPr>
          <a:xfrm rot="5400000">
            <a:off x="4581000" y="4633920"/>
            <a:ext cx="898560" cy="1571400"/>
          </a:xfrm>
          <a:custGeom>
            <a:avLst/>
            <a:gdLst/>
            <a:ahLst/>
            <a:rect l="l" t="t" r="r" b="b"/>
            <a:pathLst>
              <a:path w="898525" h="1571625">
                <a:moveTo>
                  <a:pt x="0" y="1571625"/>
                </a:moveTo>
                <a:lnTo>
                  <a:pt x="224631" y="0"/>
                </a:lnTo>
                <a:lnTo>
                  <a:pt x="673894" y="0"/>
                </a:lnTo>
                <a:lnTo>
                  <a:pt x="898525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à coins arrondis 184"/>
          <p:cNvSpPr/>
          <p:nvPr/>
        </p:nvSpPr>
        <p:spPr>
          <a:xfrm>
            <a:off x="5929200" y="3214800"/>
            <a:ext cx="1454400" cy="1714320"/>
          </a:xfrm>
          <a:custGeom>
            <a:avLst/>
            <a:gdLst>
              <a:gd name="textAreaLeft" fmla="*/ 70920 w 1454400"/>
              <a:gd name="textAreaRight" fmla="*/ 1383480 w 1454400"/>
              <a:gd name="textAreaTop" fmla="*/ 70920 h 1714320"/>
              <a:gd name="textAreaBottom" fmla="*/ 1643400 h 1714320"/>
            </a:gdLst>
            <a:ahLst/>
            <a:rect l="textAreaLeft" t="textAreaTop" r="textAreaRight" b="textAreaBottom"/>
            <a:pathLst>
              <a:path w="21600" h="25459">
                <a:moveTo>
                  <a:pt x="3600" y="0"/>
                </a:moveTo>
                <a:arcTo wR="3600" hR="3600" stAng="16200000" swAng="-5400000"/>
                <a:lnTo>
                  <a:pt x="0" y="21859"/>
                </a:lnTo>
                <a:arcTo wR="3600" hR="3600" stAng="10800000" swAng="-5400000"/>
                <a:lnTo>
                  <a:pt x="18000" y="25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7"/>
          <p:cNvSpPr/>
          <p:nvPr/>
        </p:nvSpPr>
        <p:spPr>
          <a:xfrm>
            <a:off x="4594320" y="149688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7"/>
          <p:cNvSpPr/>
          <p:nvPr/>
        </p:nvSpPr>
        <p:spPr>
          <a:xfrm>
            <a:off x="6051600" y="148428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oneTexte 187"/>
          <p:cNvSpPr/>
          <p:nvPr/>
        </p:nvSpPr>
        <p:spPr>
          <a:xfrm>
            <a:off x="1000080" y="51991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consolida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ZoneTexte 188"/>
          <p:cNvSpPr/>
          <p:nvPr/>
        </p:nvSpPr>
        <p:spPr>
          <a:xfrm>
            <a:off x="2714760" y="520056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ZoneTexte 189"/>
          <p:cNvSpPr/>
          <p:nvPr/>
        </p:nvSpPr>
        <p:spPr>
          <a:xfrm>
            <a:off x="4371840" y="52135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suppliers in the shortli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oneTexte 190"/>
          <p:cNvSpPr/>
          <p:nvPr/>
        </p:nvSpPr>
        <p:spPr>
          <a:xfrm>
            <a:off x="7385040" y="5286240"/>
            <a:ext cx="128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c00000"/>
                </a:solidFill>
                <a:latin typeface="Arial"/>
              </a:rPr>
              <a:t>X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8"/>
          <p:cNvSpPr/>
          <p:nvPr/>
        </p:nvSpPr>
        <p:spPr>
          <a:xfrm>
            <a:off x="5942160" y="3228840"/>
            <a:ext cx="1541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28"/>
          <p:cNvSpPr/>
          <p:nvPr/>
        </p:nvSpPr>
        <p:spPr>
          <a:xfrm>
            <a:off x="7500960" y="3219480"/>
            <a:ext cx="1541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Defin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96"/>
          <p:cNvSpPr/>
          <p:nvPr/>
        </p:nvSpPr>
        <p:spPr>
          <a:xfrm>
            <a:off x="5929200" y="5203800"/>
            <a:ext cx="1571760" cy="439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4"/>
          <p:cNvSpPr/>
          <p:nvPr/>
        </p:nvSpPr>
        <p:spPr>
          <a:xfrm>
            <a:off x="4765680" y="6143760"/>
            <a:ext cx="2949480" cy="43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5"/>
          <p:cNvSpPr/>
          <p:nvPr/>
        </p:nvSpPr>
        <p:spPr>
          <a:xfrm>
            <a:off x="6229440" y="6351480"/>
            <a:ext cx="5792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6"/>
          <p:cNvSpPr/>
          <p:nvPr/>
        </p:nvSpPr>
        <p:spPr>
          <a:xfrm>
            <a:off x="6929280" y="6351480"/>
            <a:ext cx="578160" cy="18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631980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9"/>
          <p:cNvSpPr/>
          <p:nvPr/>
        </p:nvSpPr>
        <p:spPr>
          <a:xfrm>
            <a:off x="702432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1"/>
          <p:cNvSpPr/>
          <p:nvPr/>
        </p:nvSpPr>
        <p:spPr>
          <a:xfrm>
            <a:off x="4888080" y="6351480"/>
            <a:ext cx="89820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2"/>
          <p:cNvSpPr/>
          <p:nvPr/>
        </p:nvSpPr>
        <p:spPr>
          <a:xfrm>
            <a:off x="4854600" y="6153120"/>
            <a:ext cx="117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 sav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3"/>
          <p:cNvSpPr/>
          <p:nvPr/>
        </p:nvSpPr>
        <p:spPr>
          <a:xfrm rot="13500000">
            <a:off x="5843520" y="638604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4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F6F8-65C5-4C14-9D1D-20F45F4A4E58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03040" y="1536840"/>
          <a:ext cx="8740800" cy="4991040"/>
        </p:xfrm>
        <a:graphic>
          <a:graphicData uri="http://schemas.openxmlformats.org/drawingml/2006/table">
            <a:tbl>
              <a:tblPr/>
              <a:tblGrid>
                <a:gridCol w="1278000"/>
                <a:gridCol w="1243080"/>
                <a:gridCol w="1244520"/>
                <a:gridCol w="1243080"/>
                <a:gridCol w="1244520"/>
                <a:gridCol w="1243080"/>
                <a:gridCol w="1244520"/>
              </a:tblGrid>
              <a:tr h="99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ie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0"/>
          <p:cNvSpPr/>
          <p:nvPr/>
        </p:nvSpPr>
        <p:spPr>
          <a:xfrm>
            <a:off x="1996920" y="1778040"/>
            <a:ext cx="6797880" cy="415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8"/>
          <p:cNvSpPr/>
          <p:nvPr/>
        </p:nvSpPr>
        <p:spPr>
          <a:xfrm>
            <a:off x="4243320" y="1771560"/>
            <a:ext cx="4551480" cy="2776680"/>
          </a:xfrm>
          <a:custGeom>
            <a:avLst/>
            <a:gdLst>
              <a:gd name="textAreaLeft" fmla="*/ 0 w 4551480"/>
              <a:gd name="textAreaRight" fmla="*/ 4551840 w 4551480"/>
              <a:gd name="textAreaTop" fmla="*/ 0 h 2776680"/>
              <a:gd name="textAreaBottom" fmla="*/ 2777040 h 277668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6"/>
          <p:cNvSpPr/>
          <p:nvPr/>
        </p:nvSpPr>
        <p:spPr>
          <a:xfrm>
            <a:off x="6170760" y="1770120"/>
            <a:ext cx="2635200" cy="190512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61da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"/>
          <p:cNvSpPr/>
          <p:nvPr/>
        </p:nvSpPr>
        <p:spPr>
          <a:xfrm>
            <a:off x="2006640" y="5934240"/>
            <a:ext cx="698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 flipV="1">
            <a:off x="2006640" y="1433520"/>
            <a:ext cx="0" cy="45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1696320" y="5924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8524440" y="6029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1502280" y="150336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24"/>
          <p:cNvGrpSpPr/>
          <p:nvPr/>
        </p:nvGrpSpPr>
        <p:grpSpPr>
          <a:xfrm>
            <a:off x="1996920" y="1778040"/>
            <a:ext cx="6814800" cy="4155840"/>
            <a:chOff x="1996920" y="1778040"/>
            <a:chExt cx="6814800" cy="4155840"/>
          </a:xfrm>
        </p:grpSpPr>
        <p:sp>
          <p:nvSpPr>
            <p:cNvPr id="795" name="Rectangle 12"/>
            <p:cNvSpPr/>
            <p:nvPr/>
          </p:nvSpPr>
          <p:spPr>
            <a:xfrm>
              <a:off x="199692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3"/>
            <p:cNvSpPr/>
            <p:nvPr/>
          </p:nvSpPr>
          <p:spPr>
            <a:xfrm>
              <a:off x="4265280" y="454860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4"/>
            <p:cNvSpPr/>
            <p:nvPr/>
          </p:nvSpPr>
          <p:spPr>
            <a:xfrm>
              <a:off x="653400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5"/>
            <p:cNvSpPr/>
            <p:nvPr/>
          </p:nvSpPr>
          <p:spPr>
            <a:xfrm>
              <a:off x="199836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6"/>
            <p:cNvSpPr/>
            <p:nvPr/>
          </p:nvSpPr>
          <p:spPr>
            <a:xfrm>
              <a:off x="4266720" y="316332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7"/>
            <p:cNvSpPr/>
            <p:nvPr/>
          </p:nvSpPr>
          <p:spPr>
            <a:xfrm>
              <a:off x="653544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1"/>
            <p:cNvSpPr/>
            <p:nvPr/>
          </p:nvSpPr>
          <p:spPr>
            <a:xfrm>
              <a:off x="2006280" y="177804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2"/>
            <p:cNvSpPr/>
            <p:nvPr/>
          </p:nvSpPr>
          <p:spPr>
            <a:xfrm>
              <a:off x="427500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3"/>
            <p:cNvSpPr/>
            <p:nvPr/>
          </p:nvSpPr>
          <p:spPr>
            <a:xfrm>
              <a:off x="654336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Text Box 27"/>
          <p:cNvSpPr/>
          <p:nvPr/>
        </p:nvSpPr>
        <p:spPr>
          <a:xfrm>
            <a:off x="6223680" y="17701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9"/>
          <p:cNvSpPr/>
          <p:nvPr/>
        </p:nvSpPr>
        <p:spPr>
          <a:xfrm>
            <a:off x="4278240" y="1766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2004840" y="177804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26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E358-9D7F-46D2-AEEE-D455F0CF70DA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6"/>
          <p:cNvSpPr/>
          <p:nvPr/>
        </p:nvSpPr>
        <p:spPr>
          <a:xfrm>
            <a:off x="65160" y="3227400"/>
            <a:ext cx="1744560" cy="130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competi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iance with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nan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ility to work on a “partnership”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67560" y="3112920"/>
            <a:ext cx="112896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8"/>
          <p:cNvSpPr/>
          <p:nvPr/>
        </p:nvSpPr>
        <p:spPr>
          <a:xfrm>
            <a:off x="4581360" y="6108840"/>
            <a:ext cx="1743120" cy="684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lumes purch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x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9"/>
          <p:cNvSpPr/>
          <p:nvPr/>
        </p:nvSpPr>
        <p:spPr>
          <a:xfrm>
            <a:off x="4685760" y="5994360"/>
            <a:ext cx="156024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ompetitive le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e 19"/>
          <p:cNvGrpSpPr/>
          <p:nvPr/>
        </p:nvGrpSpPr>
        <p:grpSpPr>
          <a:xfrm>
            <a:off x="239760" y="1538280"/>
            <a:ext cx="2712960" cy="5086440"/>
            <a:chOff x="239760" y="1538280"/>
            <a:chExt cx="2712960" cy="5086440"/>
          </a:xfrm>
        </p:grpSpPr>
        <p:sp>
          <p:nvSpPr>
            <p:cNvPr id="814" name="Text Box 10"/>
            <p:cNvSpPr/>
            <p:nvPr/>
          </p:nvSpPr>
          <p:spPr>
            <a:xfrm>
              <a:off x="240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4"/>
            <p:cNvSpPr/>
            <p:nvPr/>
          </p:nvSpPr>
          <p:spPr>
            <a:xfrm>
              <a:off x="239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and targeted suppliers turnover and market shar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’s turnover and weight, Supplier Evaluation, Purchasing contract signed, ISO 14001, ECO V7, Payment term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17" name="Groupe 19"/>
          <p:cNvGrpSpPr/>
          <p:nvPr/>
        </p:nvGrpSpPr>
        <p:grpSpPr>
          <a:xfrm>
            <a:off x="6170760" y="1538280"/>
            <a:ext cx="2712960" cy="5086440"/>
            <a:chOff x="6170760" y="1538280"/>
            <a:chExt cx="2712960" cy="5086440"/>
          </a:xfrm>
        </p:grpSpPr>
        <p:sp>
          <p:nvSpPr>
            <p:cNvPr id="818" name="Text Box 10"/>
            <p:cNvSpPr/>
            <p:nvPr/>
          </p:nvSpPr>
          <p:spPr>
            <a:xfrm>
              <a:off x="6171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6170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e 19"/>
          <p:cNvGrpSpPr/>
          <p:nvPr/>
        </p:nvGrpSpPr>
        <p:grpSpPr>
          <a:xfrm>
            <a:off x="3205080" y="1538280"/>
            <a:ext cx="2712960" cy="5086440"/>
            <a:chOff x="3205080" y="1538280"/>
            <a:chExt cx="2712960" cy="5086440"/>
          </a:xfrm>
        </p:grpSpPr>
        <p:sp>
          <p:nvSpPr>
            <p:cNvPr id="821" name="Text Box 10"/>
            <p:cNvSpPr/>
            <p:nvPr/>
          </p:nvSpPr>
          <p:spPr>
            <a:xfrm>
              <a:off x="320544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4"/>
            <p:cNvSpPr/>
            <p:nvPr/>
          </p:nvSpPr>
          <p:spPr>
            <a:xfrm>
              <a:off x="320508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Espace réservé du numéro de diapositive 11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8A1-8CDF-40D5-8DCF-90A61C72E6D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hat – Who – When in order to match the targeted strategy and the Panel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5" name="Espace réservé du numéro de diapositive 1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3A9-64A3-4D45-BFEB-5AD353DF09C8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557360" y="1347840"/>
          <a:ext cx="7267680" cy="4676760"/>
        </p:xfrm>
        <a:graphic>
          <a:graphicData uri="http://schemas.openxmlformats.org/drawingml/2006/table">
            <a:tbl>
              <a:tblPr/>
              <a:tblGrid>
                <a:gridCol w="1211400"/>
                <a:gridCol w="1211040"/>
                <a:gridCol w="1211400"/>
                <a:gridCol w="1211040"/>
                <a:gridCol w="1211400"/>
                <a:gridCol w="121140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4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3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7" name="AutoShape 50"/>
          <p:cNvSpPr/>
          <p:nvPr/>
        </p:nvSpPr>
        <p:spPr>
          <a:xfrm>
            <a:off x="3090960" y="6218280"/>
            <a:ext cx="18072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1"/>
          <p:cNvSpPr/>
          <p:nvPr/>
        </p:nvSpPr>
        <p:spPr>
          <a:xfrm>
            <a:off x="3203280" y="6326280"/>
            <a:ext cx="31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estones / Key events / Key planned achie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2"/>
          <p:cNvSpPr/>
          <p:nvPr/>
        </p:nvSpPr>
        <p:spPr>
          <a:xfrm>
            <a:off x="217440" y="2587680"/>
            <a:ext cx="1209600" cy="612720"/>
          </a:xfrm>
          <a:prstGeom prst="rect">
            <a:avLst/>
          </a:prstGeom>
          <a:solidFill>
            <a:srgbClr val="fcc91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3"/>
          <p:cNvSpPr/>
          <p:nvPr/>
        </p:nvSpPr>
        <p:spPr>
          <a:xfrm>
            <a:off x="217440" y="3287880"/>
            <a:ext cx="1209600" cy="61272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54"/>
          <p:cNvSpPr/>
          <p:nvPr/>
        </p:nvSpPr>
        <p:spPr>
          <a:xfrm>
            <a:off x="217440" y="3987720"/>
            <a:ext cx="1209600" cy="61272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56"/>
          <p:cNvSpPr/>
          <p:nvPr/>
        </p:nvSpPr>
        <p:spPr>
          <a:xfrm>
            <a:off x="217440" y="1728720"/>
            <a:ext cx="1209600" cy="7714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57"/>
          <p:cNvSpPr/>
          <p:nvPr/>
        </p:nvSpPr>
        <p:spPr>
          <a:xfrm>
            <a:off x="6472080" y="6264360"/>
            <a:ext cx="181080" cy="350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8"/>
          <p:cNvSpPr/>
          <p:nvPr/>
        </p:nvSpPr>
        <p:spPr>
          <a:xfrm>
            <a:off x="6645960" y="632628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ving miles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54"/>
          <p:cNvSpPr/>
          <p:nvPr/>
        </p:nvSpPr>
        <p:spPr>
          <a:xfrm>
            <a:off x="214200" y="5388120"/>
            <a:ext cx="1209960" cy="612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214200" y="4687920"/>
            <a:ext cx="1209960" cy="612720"/>
          </a:xfrm>
          <a:prstGeom prst="rect">
            <a:avLst/>
          </a:prstGeom>
          <a:solidFill>
            <a:srgbClr val="a3a3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lèche droite 24"/>
          <p:cNvSpPr/>
          <p:nvPr/>
        </p:nvSpPr>
        <p:spPr>
          <a:xfrm>
            <a:off x="1589040" y="1689120"/>
            <a:ext cx="237636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ldwide Panel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lèche droite 25"/>
          <p:cNvSpPr/>
          <p:nvPr/>
        </p:nvSpPr>
        <p:spPr>
          <a:xfrm>
            <a:off x="4000680" y="183996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and Purchasing Dpt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lèche droite 26"/>
          <p:cNvSpPr/>
          <p:nvPr/>
        </p:nvSpPr>
        <p:spPr>
          <a:xfrm>
            <a:off x="6453360" y="199224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lèche droite 27"/>
          <p:cNvSpPr/>
          <p:nvPr/>
        </p:nvSpPr>
        <p:spPr>
          <a:xfrm>
            <a:off x="7643880" y="214308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Te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50"/>
          <p:cNvSpPr/>
          <p:nvPr/>
        </p:nvSpPr>
        <p:spPr>
          <a:xfrm>
            <a:off x="3890880" y="157176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57"/>
          <p:cNvSpPr/>
          <p:nvPr/>
        </p:nvSpPr>
        <p:spPr>
          <a:xfrm>
            <a:off x="2682720" y="232560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lèche droite 30"/>
          <p:cNvSpPr/>
          <p:nvPr/>
        </p:nvSpPr>
        <p:spPr>
          <a:xfrm>
            <a:off x="1584360" y="250200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lèche droite 31"/>
          <p:cNvSpPr/>
          <p:nvPr/>
        </p:nvSpPr>
        <p:spPr>
          <a:xfrm>
            <a:off x="3995640" y="2643120"/>
            <a:ext cx="2374920" cy="4287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erly Review &amp;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lèche droite 32"/>
          <p:cNvSpPr/>
          <p:nvPr/>
        </p:nvSpPr>
        <p:spPr>
          <a:xfrm>
            <a:off x="6448320" y="2786040"/>
            <a:ext cx="115272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lèche droite 33"/>
          <p:cNvSpPr/>
          <p:nvPr/>
        </p:nvSpPr>
        <p:spPr>
          <a:xfrm>
            <a:off x="2286000" y="3357720"/>
            <a:ext cx="1692360" cy="4284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lèche droite 34"/>
          <p:cNvSpPr/>
          <p:nvPr/>
        </p:nvSpPr>
        <p:spPr>
          <a:xfrm>
            <a:off x="2786040" y="407196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lèche droite 35"/>
          <p:cNvSpPr/>
          <p:nvPr/>
        </p:nvSpPr>
        <p:spPr>
          <a:xfrm>
            <a:off x="2786040" y="478620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lèche droite 36"/>
          <p:cNvSpPr/>
          <p:nvPr/>
        </p:nvSpPr>
        <p:spPr>
          <a:xfrm>
            <a:off x="2786040" y="5500800"/>
            <a:ext cx="1908360" cy="4284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57"/>
          <p:cNvSpPr/>
          <p:nvPr/>
        </p:nvSpPr>
        <p:spPr>
          <a:xfrm>
            <a:off x="3895560" y="318132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57"/>
          <p:cNvSpPr/>
          <p:nvPr/>
        </p:nvSpPr>
        <p:spPr>
          <a:xfrm>
            <a:off x="4610160" y="389556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57"/>
          <p:cNvSpPr/>
          <p:nvPr/>
        </p:nvSpPr>
        <p:spPr>
          <a:xfrm>
            <a:off x="4624560" y="453852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57"/>
          <p:cNvSpPr/>
          <p:nvPr/>
        </p:nvSpPr>
        <p:spPr>
          <a:xfrm>
            <a:off x="4624560" y="532440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lèche droite 41"/>
          <p:cNvSpPr/>
          <p:nvPr/>
        </p:nvSpPr>
        <p:spPr>
          <a:xfrm>
            <a:off x="7643880" y="292896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50"/>
          <p:cNvSpPr/>
          <p:nvPr/>
        </p:nvSpPr>
        <p:spPr>
          <a:xfrm>
            <a:off x="6307200" y="172404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0"/>
          <p:cNvSpPr/>
          <p:nvPr/>
        </p:nvSpPr>
        <p:spPr>
          <a:xfrm>
            <a:off x="7524720" y="187632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lèche droite 44"/>
          <p:cNvSpPr/>
          <p:nvPr/>
        </p:nvSpPr>
        <p:spPr>
          <a:xfrm>
            <a:off x="645012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lèche droite 45"/>
          <p:cNvSpPr/>
          <p:nvPr/>
        </p:nvSpPr>
        <p:spPr>
          <a:xfrm>
            <a:off x="645012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lèche droite 46"/>
          <p:cNvSpPr/>
          <p:nvPr/>
        </p:nvSpPr>
        <p:spPr>
          <a:xfrm>
            <a:off x="645012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lèche droite 47"/>
          <p:cNvSpPr/>
          <p:nvPr/>
        </p:nvSpPr>
        <p:spPr>
          <a:xfrm>
            <a:off x="764388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lèche droite 48"/>
          <p:cNvSpPr/>
          <p:nvPr/>
        </p:nvSpPr>
        <p:spPr>
          <a:xfrm>
            <a:off x="764388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lèche droite 49"/>
          <p:cNvSpPr/>
          <p:nvPr/>
        </p:nvSpPr>
        <p:spPr>
          <a:xfrm>
            <a:off x="764388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lèche droite 50"/>
          <p:cNvSpPr/>
          <p:nvPr/>
        </p:nvSpPr>
        <p:spPr>
          <a:xfrm>
            <a:off x="1690560" y="6283440"/>
            <a:ext cx="900360" cy="3603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ggregation / Standardisation / Globalisation / Total Cost of Ownership / Other level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Main savings to conduct, “Easy track” extract 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343080" y="172404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704520" y="1574640"/>
            <a:ext cx="3091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acts on Value Chain / Cos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4815000" y="173520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5"/>
          <p:cNvSpPr/>
          <p:nvPr/>
        </p:nvSpPr>
        <p:spPr>
          <a:xfrm>
            <a:off x="6088320" y="1585800"/>
            <a:ext cx="1445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ow to lever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6"/>
          <p:cNvSpPr/>
          <p:nvPr/>
        </p:nvSpPr>
        <p:spPr>
          <a:xfrm>
            <a:off x="34308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7"/>
          <p:cNvSpPr/>
          <p:nvPr/>
        </p:nvSpPr>
        <p:spPr>
          <a:xfrm>
            <a:off x="1524240" y="5259240"/>
            <a:ext cx="147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8"/>
          <p:cNvSpPr/>
          <p:nvPr/>
        </p:nvSpPr>
        <p:spPr>
          <a:xfrm>
            <a:off x="481500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9"/>
          <p:cNvSpPr/>
          <p:nvPr/>
        </p:nvSpPr>
        <p:spPr>
          <a:xfrm>
            <a:off x="5884560" y="5259240"/>
            <a:ext cx="1720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0"/>
          <p:cNvSpPr/>
          <p:nvPr/>
        </p:nvSpPr>
        <p:spPr>
          <a:xfrm rot="5400000">
            <a:off x="2976480" y="3095640"/>
            <a:ext cx="3284640" cy="5414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1"/>
          <p:cNvSpPr/>
          <p:nvPr/>
        </p:nvSpPr>
        <p:spPr>
          <a:xfrm rot="10800000">
            <a:off x="34308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32"/>
          <p:cNvSpPr/>
          <p:nvPr/>
        </p:nvSpPr>
        <p:spPr>
          <a:xfrm rot="10800000">
            <a:off x="481500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Espace réservé du numéro de diapositive 1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613-D326-481D-8364-4AA616E13AAC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ommodity Market Strategy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Internal Context &amp; Need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Worldwide Market analysi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argeted strategy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Suppliers Qualification, Process &amp; Cost compariso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he Panel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Action Pla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EA14-CDA9-44C9-91B1-A95467D71B10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urnover, quantities, technologies involved, shares by sub-families and sit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518" name="Groupe 24"/>
          <p:cNvGrpSpPr/>
          <p:nvPr/>
        </p:nvGrpSpPr>
        <p:grpSpPr>
          <a:xfrm>
            <a:off x="210960" y="1568520"/>
            <a:ext cx="2578320" cy="5030640"/>
            <a:chOff x="210960" y="1568520"/>
            <a:chExt cx="2578320" cy="5030640"/>
          </a:xfrm>
        </p:grpSpPr>
        <p:sp>
          <p:nvSpPr>
            <p:cNvPr id="519" name="Rectangle 5"/>
            <p:cNvSpPr/>
            <p:nvPr/>
          </p:nvSpPr>
          <p:spPr>
            <a:xfrm>
              <a:off x="210960" y="2240280"/>
              <a:ext cx="257832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gment Character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res of the family (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arly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9"/>
            <p:cNvSpPr/>
            <p:nvPr/>
          </p:nvSpPr>
          <p:spPr>
            <a:xfrm>
              <a:off x="210960" y="1568520"/>
              <a:ext cx="2578320" cy="67284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descrip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e 21"/>
          <p:cNvGrpSpPr/>
          <p:nvPr/>
        </p:nvGrpSpPr>
        <p:grpSpPr>
          <a:xfrm>
            <a:off x="2854440" y="1568520"/>
            <a:ext cx="1962000" cy="5030640"/>
            <a:chOff x="2854440" y="1568520"/>
            <a:chExt cx="1962000" cy="5030640"/>
          </a:xfrm>
        </p:grpSpPr>
        <p:sp>
          <p:nvSpPr>
            <p:cNvPr id="522" name="Rectangle 5"/>
            <p:cNvSpPr/>
            <p:nvPr/>
          </p:nvSpPr>
          <p:spPr>
            <a:xfrm>
              <a:off x="285444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9"/>
            <p:cNvSpPr/>
            <p:nvPr/>
          </p:nvSpPr>
          <p:spPr>
            <a:xfrm>
              <a:off x="2854440" y="1568520"/>
              <a:ext cx="1962000" cy="6728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e 22"/>
          <p:cNvGrpSpPr/>
          <p:nvPr/>
        </p:nvGrpSpPr>
        <p:grpSpPr>
          <a:xfrm>
            <a:off x="4881600" y="1568520"/>
            <a:ext cx="1960560" cy="5030640"/>
            <a:chOff x="4881600" y="1568520"/>
            <a:chExt cx="1960560" cy="5030640"/>
          </a:xfrm>
        </p:grpSpPr>
        <p:sp>
          <p:nvSpPr>
            <p:cNvPr id="525" name="Rectangle 5"/>
            <p:cNvSpPr/>
            <p:nvPr/>
          </p:nvSpPr>
          <p:spPr>
            <a:xfrm>
              <a:off x="4881600" y="2240280"/>
              <a:ext cx="196056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9"/>
            <p:cNvSpPr/>
            <p:nvPr/>
          </p:nvSpPr>
          <p:spPr>
            <a:xfrm>
              <a:off x="4881600" y="1568520"/>
              <a:ext cx="1960560" cy="6728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e 23"/>
          <p:cNvGrpSpPr/>
          <p:nvPr/>
        </p:nvGrpSpPr>
        <p:grpSpPr>
          <a:xfrm>
            <a:off x="6907320" y="1568520"/>
            <a:ext cx="1962000" cy="5030640"/>
            <a:chOff x="6907320" y="1568520"/>
            <a:chExt cx="1962000" cy="5030640"/>
          </a:xfrm>
        </p:grpSpPr>
        <p:sp>
          <p:nvSpPr>
            <p:cNvPr id="528" name="Rectangle 5"/>
            <p:cNvSpPr/>
            <p:nvPr/>
          </p:nvSpPr>
          <p:spPr>
            <a:xfrm>
              <a:off x="690732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9"/>
            <p:cNvSpPr/>
            <p:nvPr/>
          </p:nvSpPr>
          <p:spPr>
            <a:xfrm>
              <a:off x="6907320" y="1568520"/>
              <a:ext cx="1962000" cy="67284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70EE-CBE7-4575-8662-D76BAD56724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98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pecifications / Product / Service production: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echnology changes to come / Specific quality &amp; logistic requests 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ignificant quantity changes for specific components or services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Out sourcing trends, Purchase to be done in LCC (targeted market share …)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2" name="Espace réservé du numéro de diapositive 1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A72E-2103-446E-8ECB-10E93940EC3C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717480" y="1811160"/>
          <a:ext cx="8101080" cy="4424400"/>
        </p:xfrm>
        <a:graphic>
          <a:graphicData uri="http://schemas.openxmlformats.org/drawingml/2006/table">
            <a:tbl>
              <a:tblPr/>
              <a:tblGrid>
                <a:gridCol w="390600"/>
                <a:gridCol w="4307040"/>
                <a:gridCol w="3403440"/>
              </a:tblGrid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wer cost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chnology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cess expertis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ve mandate to cut cos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up internal resources for more strategic proces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dding non-core ope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the number of people on the payr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-engineering 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fixed assets from our balance sh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handle the spikes and drops in processing volum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AutoShape 55"/>
          <p:cNvSpPr/>
          <p:nvPr/>
        </p:nvSpPr>
        <p:spPr>
          <a:xfrm rot="5400000">
            <a:off x="-1867680" y="3871440"/>
            <a:ext cx="4427640" cy="307080"/>
          </a:xfrm>
          <a:custGeom>
            <a:avLst/>
            <a:gdLst>
              <a:gd name="textAreaLeft" fmla="*/ 0 w 4427640"/>
              <a:gd name="textAreaRight" fmla="*/ 4428000 w 442764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der to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63360" y="6521400"/>
            <a:ext cx="1651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1440" bIns="9144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orr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e 21"/>
          <p:cNvGrpSpPr/>
          <p:nvPr/>
        </p:nvGrpSpPr>
        <p:grpSpPr>
          <a:xfrm>
            <a:off x="6134040" y="1511280"/>
            <a:ext cx="2832120" cy="5086440"/>
            <a:chOff x="6134040" y="1511280"/>
            <a:chExt cx="2832120" cy="5086440"/>
          </a:xfrm>
        </p:grpSpPr>
        <p:sp>
          <p:nvSpPr>
            <p:cNvPr id="537" name="Text Box 10"/>
            <p:cNvSpPr/>
            <p:nvPr/>
          </p:nvSpPr>
          <p:spPr>
            <a:xfrm>
              <a:off x="625392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6253200" y="1511280"/>
              <a:ext cx="2712960" cy="396720"/>
            </a:xfrm>
            <a:prstGeom prst="rect">
              <a:avLst/>
            </a:prstGeom>
            <a:solidFill>
              <a:srgbClr val="00a2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9" name="Object 6"/>
            <p:cNvGraphicFramePr/>
            <p:nvPr/>
          </p:nvGraphicFramePr>
          <p:xfrm>
            <a:off x="6134040" y="1957680"/>
            <a:ext cx="2725560" cy="181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404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1" name="Groupe 19"/>
          <p:cNvGrpSpPr/>
          <p:nvPr/>
        </p:nvGrpSpPr>
        <p:grpSpPr>
          <a:xfrm>
            <a:off x="38160" y="1511280"/>
            <a:ext cx="2832120" cy="5086440"/>
            <a:chOff x="38160" y="1511280"/>
            <a:chExt cx="2832120" cy="5086440"/>
          </a:xfrm>
        </p:grpSpPr>
        <p:sp>
          <p:nvSpPr>
            <p:cNvPr id="542" name="Text Box 10"/>
            <p:cNvSpPr/>
            <p:nvPr/>
          </p:nvSpPr>
          <p:spPr>
            <a:xfrm>
              <a:off x="15804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4"/>
            <p:cNvSpPr/>
            <p:nvPr/>
          </p:nvSpPr>
          <p:spPr>
            <a:xfrm>
              <a:off x="157320" y="1511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Object 6"/>
            <p:cNvGraphicFramePr/>
            <p:nvPr/>
          </p:nvGraphicFramePr>
          <p:xfrm>
            <a:off x="38160" y="1957680"/>
            <a:ext cx="2725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6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6" name="Groupe 20"/>
          <p:cNvGrpSpPr/>
          <p:nvPr/>
        </p:nvGrpSpPr>
        <p:grpSpPr>
          <a:xfrm>
            <a:off x="3086280" y="1511280"/>
            <a:ext cx="2831760" cy="5086440"/>
            <a:chOff x="3086280" y="1511280"/>
            <a:chExt cx="2831760" cy="5086440"/>
          </a:xfrm>
        </p:grpSpPr>
        <p:sp>
          <p:nvSpPr>
            <p:cNvPr id="547" name="Text Box 10"/>
            <p:cNvSpPr/>
            <p:nvPr/>
          </p:nvSpPr>
          <p:spPr>
            <a:xfrm>
              <a:off x="3206160" y="1920240"/>
              <a:ext cx="271188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3205440" y="1511280"/>
              <a:ext cx="2712600" cy="3967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9" name="Object 6"/>
            <p:cNvGraphicFramePr/>
            <p:nvPr/>
          </p:nvGraphicFramePr>
          <p:xfrm>
            <a:off x="3086280" y="1957680"/>
            <a:ext cx="2725200" cy="181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86280" y="1957680"/>
                      <a:ext cx="272520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60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2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B863-FB67-44ED-9320-B560D810D1A9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492120" y="1562040"/>
            <a:ext cx="815976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Trends in th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703440" y="196848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703440" y="234936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524480" y="196848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524480" y="234936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03440" y="4368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703440" y="474984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4524480" y="4368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4524480" y="474984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69920" indent="-16992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space réservé du numéro de diapositive 3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DF9F-B053-439A-B524-A9F002360D5D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5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5634-D294-4F37-982C-40F0A0D600D2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e 24"/>
          <p:cNvGrpSpPr/>
          <p:nvPr/>
        </p:nvGrpSpPr>
        <p:grpSpPr>
          <a:xfrm>
            <a:off x="210960" y="1568520"/>
            <a:ext cx="4146840" cy="4932360"/>
            <a:chOff x="210960" y="1568520"/>
            <a:chExt cx="4146840" cy="4932360"/>
          </a:xfrm>
        </p:grpSpPr>
        <p:sp>
          <p:nvSpPr>
            <p:cNvPr id="567" name="Rectangle 5"/>
            <p:cNvSpPr/>
            <p:nvPr/>
          </p:nvSpPr>
          <p:spPr>
            <a:xfrm>
              <a:off x="210960" y="196668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300"/>
                </a:spcBef>
                <a:buClr>
                  <a:srgbClr val="ce1111"/>
                </a:buClr>
                <a:buFont typeface="Wingdings 2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210960" y="156852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drivers &amp; Break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e 24"/>
          <p:cNvGrpSpPr/>
          <p:nvPr/>
        </p:nvGrpSpPr>
        <p:grpSpPr>
          <a:xfrm>
            <a:off x="4643280" y="1571760"/>
            <a:ext cx="4146840" cy="4932360"/>
            <a:chOff x="4643280" y="1571760"/>
            <a:chExt cx="4146840" cy="4932360"/>
          </a:xfrm>
        </p:grpSpPr>
        <p:sp>
          <p:nvSpPr>
            <p:cNvPr id="570" name="Rectangle 5"/>
            <p:cNvSpPr/>
            <p:nvPr/>
          </p:nvSpPr>
          <p:spPr>
            <a:xfrm>
              <a:off x="4643280" y="196992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4643280" y="157176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 Sourcing &amp; Access to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1571760" y="5316480"/>
            <a:ext cx="143964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0FEC-AB95-430B-8FE1-C9A4E873E0AD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71280" y="6643440"/>
            <a:ext cx="74883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2556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Stakeholder Interviews,12/2005 – 02/2006; Cap Gemini Analysis,-10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2073240" y="1357200"/>
            <a:ext cx="5149800" cy="41720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6"/>
          <p:cNvSpPr/>
          <p:nvPr/>
        </p:nvSpPr>
        <p:spPr>
          <a:xfrm>
            <a:off x="5286240" y="1671480"/>
            <a:ext cx="3564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gotiate deals with suppliers– e.g. rebates and indemnity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strong relationships with preferred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incentives 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es tied to work type e.g. fixed for transactional, value based for lit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Rectangle 7"/>
          <p:cNvGrpSpPr/>
          <p:nvPr/>
        </p:nvGrpSpPr>
        <p:grpSpPr>
          <a:xfrm>
            <a:off x="6059520" y="3054240"/>
            <a:ext cx="2822400" cy="603360"/>
            <a:chOff x="6059520" y="3054240"/>
            <a:chExt cx="2822400" cy="603360"/>
          </a:xfrm>
        </p:grpSpPr>
        <p:pic>
          <p:nvPicPr>
            <p:cNvPr id="578" name="Rectangle 7" descr=""/>
            <p:cNvPicPr/>
            <p:nvPr/>
          </p:nvPicPr>
          <p:blipFill>
            <a:blip r:embed="rId2"/>
            <a:stretch/>
          </p:blipFill>
          <p:spPr>
            <a:xfrm>
              <a:off x="6059520" y="3054240"/>
              <a:ext cx="2822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072120" y="3071880"/>
              <a:ext cx="27957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itive tenderin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verage scale to improve quality and commercial benef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Rectangle 8"/>
          <p:cNvGrpSpPr/>
          <p:nvPr/>
        </p:nvGrpSpPr>
        <p:grpSpPr>
          <a:xfrm>
            <a:off x="6754680" y="4084560"/>
            <a:ext cx="2187720" cy="736560"/>
            <a:chOff x="6754680" y="4084560"/>
            <a:chExt cx="2187720" cy="736560"/>
          </a:xfrm>
        </p:grpSpPr>
        <p:pic>
          <p:nvPicPr>
            <p:cNvPr id="581" name="Rectangle 8" descr=""/>
            <p:cNvPicPr/>
            <p:nvPr/>
          </p:nvPicPr>
          <p:blipFill>
            <a:blip r:embed="rId3"/>
            <a:stretch/>
          </p:blipFill>
          <p:spPr>
            <a:xfrm>
              <a:off x="6754680" y="4084560"/>
              <a:ext cx="218772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6767640" y="4097160"/>
              <a:ext cx="216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annel non-compliant spend through approved l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locate preferred suppliers for different types of 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Rectangle 9"/>
          <p:cNvGrpSpPr/>
          <p:nvPr/>
        </p:nvGrpSpPr>
        <p:grpSpPr>
          <a:xfrm>
            <a:off x="5888160" y="5522760"/>
            <a:ext cx="3127320" cy="817560"/>
            <a:chOff x="5888160" y="5522760"/>
            <a:chExt cx="3127320" cy="817560"/>
          </a:xfrm>
        </p:grpSpPr>
        <p:pic>
          <p:nvPicPr>
            <p:cNvPr id="584" name="Rectangle 9" descr=""/>
            <p:cNvPicPr/>
            <p:nvPr/>
          </p:nvPicPr>
          <p:blipFill>
            <a:blip r:embed="rId4"/>
            <a:stretch/>
          </p:blipFill>
          <p:spPr>
            <a:xfrm>
              <a:off x="5888160" y="5522760"/>
              <a:ext cx="3127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905440" y="5535720"/>
              <a:ext cx="30956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solidate invo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andard terms and conditions and discounted pricing for all activities by each suppl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ear charging mechanis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0"/>
          <p:cNvSpPr/>
          <p:nvPr/>
        </p:nvSpPr>
        <p:spPr>
          <a:xfrm>
            <a:off x="3759120" y="5533920"/>
            <a:ext cx="21304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engineer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payment process for solicitors, expert witnesses and ex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-71280" y="3807000"/>
            <a:ext cx="2928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on use of Legal Services in order to reduce maverick spend and exposure to r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lance work completed externally vs. intern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demand for varying types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388800" y="2859120"/>
            <a:ext cx="2968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ion with other Business Units or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 framework agreements with QC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839880" y="1787400"/>
            <a:ext cx="3160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specification for transactional external solicitors’ wo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s agreed for external solicito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28760" y="5529240"/>
            <a:ext cx="3457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relationship and associated risk of ad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legal advice for potential duplications e.g. Same kind of issue for different 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tiation of  charges prior to work commencing e.g. Fixed fees for small and routine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40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Qualification and evaluation process for suppliers all purchasing parameters combined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upplier mapping versus key needs / internal constrai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63D2-CC96-47B5-816E-D464F0510377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65040" y="1609560"/>
          <a:ext cx="8448840" cy="4199040"/>
        </p:xfrm>
        <a:graphic>
          <a:graphicData uri="http://schemas.openxmlformats.org/drawingml/2006/table">
            <a:tbl>
              <a:tblPr/>
              <a:tblGrid>
                <a:gridCol w="1081080"/>
                <a:gridCol w="1833480"/>
                <a:gridCol w="729000"/>
                <a:gridCol w="961920"/>
                <a:gridCol w="960480"/>
                <a:gridCol w="960480"/>
                <a:gridCol w="961920"/>
                <a:gridCol w="960480"/>
              </a:tblGrid>
              <a:tr h="338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needs / internal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61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rea of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Internal knowl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Key Account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Capabil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umber of expe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uro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Wor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 of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7:18:09Z</dcterms:created>
  <dc:creator>Olivier AUDINO</dc:creator>
  <dc:description/>
  <cp:keywords/>
  <dc:language>en-US</dc:language>
  <cp:lastModifiedBy>Olivier Audino</cp:lastModifiedBy>
  <dcterms:modified xsi:type="dcterms:W3CDTF">2014-03-17T22:52:00Z</dcterms:modified>
  <cp:revision>49</cp:revision>
  <dc:subject>Market Strategy</dc:subject>
  <dc:title>Stratégie Ach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