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5219700" cy="7732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0FA-1652-43DE-B598-9C669562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8F5-C7A8-41E9-85AE-D3EABAB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2BC17-5DAB-4256-A1C7-41A3B46F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F00F7-AE06-4CAC-BC6B-5E99E2A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D3276-5871-45D0-8D28-D8102C8F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4716C-1143-4F01-8C75-BC63A01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7E331-A869-4204-B08F-9E55BBF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EB41-414B-4226-9280-8F5F009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B878-3ADA-4393-85ED-DA55FAAD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18FC-41EA-4296-AEAA-256D690C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4DB3-D35C-4D87-9E4D-D3A47FCC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12CE4-2B9C-4E82-8748-7FD24C3C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FA3-E61D-4EF9-AF0A-7E78FCF0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543BF-A3A9-4B2A-A904-A2A1DA0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7375B-5303-4B35-AE74-383DFAD0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F1282-FCC1-424F-88ED-ACDE7D6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24B9C-613D-4D3C-A373-BE7669D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76D6-F41A-4F3C-B03B-BBDA7DB8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6C71A-D916-40F1-ABF8-359754B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76DBD-FB8F-4E80-A37B-92BF1CE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42FC7-CD85-43DB-966C-14A8EA7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F2986-8A02-4531-B2C3-0FC0E32D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47C92-3999-4042-AF06-8054B401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706-E0C4-4052-904B-E4D983AC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56A15-50EE-4DB3-A778-E7FF0361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37502-0E44-4B45-B6C8-836ECE58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9EB5-3874-4F43-B390-69269FE0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B8165-FAB2-4E40-8170-F697A09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B53CC-D52A-4E4C-ABED-9F6913B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A20B0-B879-4EDC-8E1B-52D8872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FCA38-6CB3-44F8-8747-F635098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E00FE-460D-4990-BFA9-436B340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5240E-3379-4DB5-99ED-3C3F360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B92F-73AD-4242-939E-98AE33A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8D5A9-957D-4205-857F-E7F2E970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3FE86-CB10-40D1-A907-90A6423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59A7A-E4E4-4412-8B5E-367A1772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CAC9-CFD2-43EE-B697-4ECBE2C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C326-FCA6-4F50-8BC8-AAA16F4F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D2B45-871E-432F-97C3-2329D31F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9A492-192C-4DEF-81C2-C9630F29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920D7-9972-43F3-B524-82EB645A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2588-000A-4A04-9892-FA98F1C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1C5A3-33C6-4979-8522-ED076B9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B1556-8D89-457E-B527-CAC28F6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93FB2-5BF8-4A10-89F1-C48E22E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3A54-D96B-4AE5-ACB3-40964D3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9772A-920B-4F40-90F8-4B7C374D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467E2-DBF2-438F-B08B-3D31A65D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A97-C416-4AE7-B6DB-B6E731A8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6476-8293-4CBD-9601-27A4EE9E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F01B-04FD-459E-B61B-C25D291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B54F-BEB9-4E7F-98E2-C9036A73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8C1-E1C3-4A8E-A530-AF0088F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CEA-3E29-4CE4-AADE-DE7CD161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13C-C684-476C-9BFF-CD909F10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12B-7839-409B-BC20-E9467BA5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4774-2B76-46C0-8087-B338536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9C1-5BA4-4A3D-B47B-280ABA14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E2C8-4668-4418-AE3D-B7060F18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F288-4CAD-4489-ABEF-21E1F67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ADA-2A46-4C70-BBD6-54ECCB80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F5A0-BA3C-419B-AA28-D8D53404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3C3EC-4534-489A-BC8C-D8B329B1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E97C-4F68-40C7-AFE0-78F507D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41C3-9BF2-4DF0-9D89-EEB12852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ECE-3C7D-4135-BE94-C198CC02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CD2D-0282-4987-B3BA-9E415D7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4F98-EEAF-4CC6-8200-48E73CE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6A13-1AD2-401A-805F-4EF36915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FDC9-6E68-4AF7-99FF-19BEE10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2579-F28D-4122-89E7-5329522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93CB-7D12-41CE-AF17-9FB038A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FA61-F5A5-414B-8461-1301D75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F728-3A57-402B-996A-5D15C20C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8334-B3F0-4AE7-8D3B-41684290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383C-F825-460C-8F92-3ECD1D7A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F77-E251-4CC7-B837-EAB5588F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B966-B206-44C2-BF3E-84D2BC78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FF9E-13C3-414F-B68A-5A6A338D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26D6-3E81-4637-A71F-CD30B69B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06DB-DC69-4836-B231-3008F079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2D51-8698-4C91-B9DD-3927C65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71C2-296D-4933-95E2-3E80BFE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D05D-4DF6-44A2-9FF5-E26644D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E472-A389-4EE5-8596-C3D269A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8590-B694-4ECA-AA87-BA24900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54358-1F84-40D1-9BCC-8C272EEF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BFB-527B-44BF-960F-CB2E68FF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5CDE-59DF-4B12-B601-ADC0DBDF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52138-87B5-4709-9BE3-DFB1BDAE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DA2A7-5353-4424-A2BE-106D0BD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B6FB0-785F-4466-844A-3908705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6558-D600-4A78-A8ED-DF6B3F4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C4F5-8445-4234-8F60-865AEC4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22143-EA4A-429E-9327-619599B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2030-F76D-4E28-9147-58BC7DE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A3DB-D114-445E-B2C1-C7EE003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A305-97CB-47DB-A10E-268720D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CFE-4717-43A8-9E1B-ECA26E1C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9738-445E-4878-B364-9784D47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A92D-B82B-44BF-82D4-949C9FE0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89F4E-E497-4B06-9431-9DB62777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9E45-2F07-4BC3-9A53-A478BD9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F80FE-ED84-46A5-90A9-3EF6536B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1C716-AA9D-477E-971C-ABF4A3C4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EDF9-2498-41B8-8BA1-3887857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BD64-F9FC-47F7-BF47-A4494A71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7185-D84A-4CBA-9387-8FF4FC8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0FDD-0B43-47F7-8D15-04CF052D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819-D4E0-4E6D-9B7D-EB93735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011C-1F94-4A88-8230-B75FF92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696E7-A6BC-4A6A-A583-BF869B77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A1F44-7D1F-4CE8-96DA-2EA9A95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CA2C-F6EB-40FC-AFA1-121E6F4B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5F55-1789-4850-BF56-99BF685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1F90-32BC-4921-98F6-6C7506D3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DB898-F8D2-4D2A-82EA-ED157FC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112A4-BCCC-46A7-BEAB-B9BEF6F2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B345-F958-4034-8217-E52226E4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3987A-2EAF-4CAD-B2B1-A56954EB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7D9-F29D-44AB-AF6B-650974CF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E0A5-781C-4535-AC8A-5B9A4473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CB9B1-4E21-4DDB-832D-6B0769A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22244-70E5-458F-A2BC-27D6BFD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F559-8F00-43C0-A008-E2B2801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F45E-EC3D-4BCC-A47E-FABF460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FDC8-A7E3-4D61-A613-93453620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7544E-825F-4D02-B947-C5A9717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4C98-AD1D-4E47-9755-317BDAF9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ED53-0573-445C-9816-9D312369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C53A-5D02-49DA-8D97-E338B1CB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6623-55F8-4554-B2EE-99845544731F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4D8F-BC7B-48FD-9FBC-1A276705E2CD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80F9-217E-4850-B8D8-475965F93651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6A51-8796-4247-A7B7-C12BBBC464E4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932440" y="632484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36000" tIns="82800" bIns="82800" anchor="b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  <a:ea typeface="MS PGothic"/>
              </a:rPr>
              <a:t>MAY </a:t>
            </a:r>
            <a:r>
              <a:rPr b="1" lang="fr-FR" sz="1600" spc="-1" strike="noStrike">
                <a:solidFill>
                  <a:srgbClr val="e42518"/>
                </a:solidFill>
                <a:latin typeface="Arial"/>
                <a:ea typeface="MS PGothic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CB94-EE76-4BA5-8FB7-37822DED9150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3905-008F-421B-BD2B-D5883AA39F87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294E-FB07-4FFD-9003-3D814A37481E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515D-AFF6-488B-81B4-378023930AB4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20A-A4B8-4009-9E4A-8EDF6C147F56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40C2-9244-4872-819F-BB09E6536334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022D-4CEF-4272-8CD0-D0E24E5D7E12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5600" y="3054240"/>
            <a:ext cx="66038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d7d74"/>
                </a:solidFill>
                <a:latin typeface="Arial"/>
              </a:rPr>
              <a:t>NOM DE LA FAMILLE D’ACHA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93440" y="4525560"/>
            <a:ext cx="5257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7d74"/>
                </a:solidFill>
                <a:latin typeface="Arial"/>
              </a:rPr>
              <a:t>SOUS-TITRE</a:t>
            </a:r>
            <a:endParaRPr b="1" lang="en-US" sz="17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24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FQ and current main products price comparisons, current suppliers and worldwide off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Benchmarks with external buyers in terms of price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ategic levers to reduce cos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4BBA-29AB-403D-92F0-117D97CAA984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2920" y="1609560"/>
          <a:ext cx="8856720" cy="5034240"/>
        </p:xfrm>
        <a:graphic>
          <a:graphicData uri="http://schemas.openxmlformats.org/drawingml/2006/table">
            <a:tbl>
              <a:tblPr/>
              <a:tblGrid>
                <a:gridCol w="1431720"/>
                <a:gridCol w="2229120"/>
                <a:gridCol w="922320"/>
                <a:gridCol w="871560"/>
                <a:gridCol w="714240"/>
                <a:gridCol w="839880"/>
                <a:gridCol w="1023840"/>
                <a:gridCol w="8240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levers to reduc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pa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Benchmark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lling mod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ntractual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pplier perform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ume reb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of disburs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fine reporting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standardise delive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billing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entify key suppli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ew 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cess for forec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sig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external spend to in-house or approved suppli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rporate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omplianc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mplement repor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ghlight non-panel sp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nternal SWOT analysi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56DD-D360-4904-9A6D-923478A9A31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3440" y="1785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03440" y="216684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24480" y="1785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524480" y="216684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81080" indent="-18108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03440" y="4186080"/>
            <a:ext cx="358920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703440" y="456732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4524480" y="4186080"/>
            <a:ext cx="358596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4524480" y="456732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Explanation of Strategy : needs, market situation and cost comparis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Risk evolution in terms of supply failure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iming number of suppliers by type and segme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Espace réservé du numéro de diapositive 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4B34-90F9-48EE-920D-3C6B95BE4E1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1200"/>
            </a:b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and not Panel suppliers, A, B, C + Area status, In/out Panel versus previous strategy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Espace réservé du numéro de diapositive 3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058-0FE7-46D9-87FD-EEF35B62EAE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7"/>
          <p:cNvSpPr/>
          <p:nvPr/>
        </p:nvSpPr>
        <p:spPr>
          <a:xfrm>
            <a:off x="2625840" y="3235320"/>
            <a:ext cx="1552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Meet Suppliers &amp; Launch Te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/03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8"/>
          <p:cNvSpPr/>
          <p:nvPr/>
        </p:nvSpPr>
        <p:spPr>
          <a:xfrm>
            <a:off x="4340160" y="3228840"/>
            <a:ext cx="1540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Shortlist suppli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/04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8"/>
          <p:cNvSpPr/>
          <p:nvPr/>
        </p:nvSpPr>
        <p:spPr>
          <a:xfrm>
            <a:off x="6115680" y="2368440"/>
            <a:ext cx="1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2"/>
          <p:cNvSpPr/>
          <p:nvPr/>
        </p:nvSpPr>
        <p:spPr>
          <a:xfrm>
            <a:off x="822240" y="3240000"/>
            <a:ext cx="14637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Defi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"/>
          <p:cNvSpPr/>
          <p:nvPr/>
        </p:nvSpPr>
        <p:spPr>
          <a:xfrm>
            <a:off x="684360" y="1731960"/>
            <a:ext cx="7745400" cy="268200"/>
          </a:xfrm>
          <a:prstGeom prst="rightArrow">
            <a:avLst>
              <a:gd name="adj1" fmla="val 45861"/>
              <a:gd name="adj2" fmla="val 100409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4600440" y="2200320"/>
            <a:ext cx="828720" cy="449280"/>
            <a:chOff x="4600440" y="2200320"/>
            <a:chExt cx="828720" cy="449280"/>
          </a:xfrm>
        </p:grpSpPr>
        <p:sp>
          <p:nvSpPr>
            <p:cNvPr id="618" name="Rectangle 7"/>
            <p:cNvSpPr/>
            <p:nvPr/>
          </p:nvSpPr>
          <p:spPr>
            <a:xfrm>
              <a:off x="4600440" y="2610000"/>
              <a:ext cx="30924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h Hing Transformer Mfy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4600440" y="2591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lier Proteg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4600440" y="2573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ge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4600440" y="2555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ast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4600440" y="25372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ka Elektronik LTD STI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4600440" y="2518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nzen Moso Power Suppl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600440" y="2500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Ma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4600440" y="2482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Circui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4600440" y="24645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wall Electric Products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4600440" y="2446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n Nang Elect. APPLI.  MFY.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7"/>
            <p:cNvSpPr/>
            <p:nvPr/>
          </p:nvSpPr>
          <p:spPr>
            <a:xfrm>
              <a:off x="4600440" y="2428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 Microelectron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8"/>
            <p:cNvSpPr/>
            <p:nvPr/>
          </p:nvSpPr>
          <p:spPr>
            <a:xfrm>
              <a:off x="4600440" y="2410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ield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9"/>
            <p:cNvSpPr/>
            <p:nvPr/>
          </p:nvSpPr>
          <p:spPr>
            <a:xfrm>
              <a:off x="4600440" y="2392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CO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0"/>
            <p:cNvSpPr/>
            <p:nvPr/>
          </p:nvSpPr>
          <p:spPr>
            <a:xfrm>
              <a:off x="4600440" y="23738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hard Kurz GMBH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1"/>
            <p:cNvSpPr/>
            <p:nvPr/>
          </p:nvSpPr>
          <p:spPr>
            <a:xfrm>
              <a:off x="4600440" y="2355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te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2"/>
            <p:cNvSpPr/>
            <p:nvPr/>
          </p:nvSpPr>
          <p:spPr>
            <a:xfrm>
              <a:off x="4600440" y="2337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IQ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3"/>
            <p:cNvSpPr/>
            <p:nvPr/>
          </p:nvSpPr>
          <p:spPr>
            <a:xfrm>
              <a:off x="4600440" y="2319480"/>
              <a:ext cx="30924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tronix Fran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4"/>
            <p:cNvSpPr/>
            <p:nvPr/>
          </p:nvSpPr>
          <p:spPr>
            <a:xfrm>
              <a:off x="4600440" y="2301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 Technolog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>
              <a:off x="4600440" y="2283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>
              <a:off x="4600440" y="22647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 Technology Industry Park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4600440" y="22464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8"/>
            <p:cNvSpPr/>
            <p:nvPr/>
          </p:nvSpPr>
          <p:spPr>
            <a:xfrm>
              <a:off x="5301360" y="2629080"/>
              <a:ext cx="1278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1 1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9"/>
            <p:cNvSpPr/>
            <p:nvPr/>
          </p:nvSpPr>
          <p:spPr>
            <a:xfrm>
              <a:off x="5155920" y="2629080"/>
              <a:ext cx="14616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0"/>
            <p:cNvSpPr/>
            <p:nvPr/>
          </p:nvSpPr>
          <p:spPr>
            <a:xfrm>
              <a:off x="5022720" y="2629080"/>
              <a:ext cx="1332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1"/>
            <p:cNvSpPr/>
            <p:nvPr/>
          </p:nvSpPr>
          <p:spPr>
            <a:xfrm>
              <a:off x="4909680" y="2629080"/>
              <a:ext cx="11268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6 9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2"/>
            <p:cNvSpPr/>
            <p:nvPr/>
          </p:nvSpPr>
          <p:spPr>
            <a:xfrm>
              <a:off x="5301360" y="2610000"/>
              <a:ext cx="127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3"/>
            <p:cNvSpPr/>
            <p:nvPr/>
          </p:nvSpPr>
          <p:spPr>
            <a:xfrm>
              <a:off x="5155920" y="2610000"/>
              <a:ext cx="145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4"/>
            <p:cNvSpPr/>
            <p:nvPr/>
          </p:nvSpPr>
          <p:spPr>
            <a:xfrm>
              <a:off x="5022720" y="2610000"/>
              <a:ext cx="1332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5"/>
            <p:cNvSpPr/>
            <p:nvPr/>
          </p:nvSpPr>
          <p:spPr>
            <a:xfrm>
              <a:off x="4909680" y="2610000"/>
              <a:ext cx="11268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6"/>
            <p:cNvSpPr/>
            <p:nvPr/>
          </p:nvSpPr>
          <p:spPr>
            <a:xfrm>
              <a:off x="5301360" y="2591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7"/>
            <p:cNvSpPr/>
            <p:nvPr/>
          </p:nvSpPr>
          <p:spPr>
            <a:xfrm>
              <a:off x="5155920" y="2591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38"/>
            <p:cNvSpPr/>
            <p:nvPr/>
          </p:nvSpPr>
          <p:spPr>
            <a:xfrm>
              <a:off x="5022720" y="2591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9"/>
            <p:cNvSpPr/>
            <p:nvPr/>
          </p:nvSpPr>
          <p:spPr>
            <a:xfrm>
              <a:off x="4909680" y="2591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0"/>
            <p:cNvSpPr/>
            <p:nvPr/>
          </p:nvSpPr>
          <p:spPr>
            <a:xfrm>
              <a:off x="5301360" y="2573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1"/>
            <p:cNvSpPr/>
            <p:nvPr/>
          </p:nvSpPr>
          <p:spPr>
            <a:xfrm>
              <a:off x="5155920" y="2573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2"/>
            <p:cNvSpPr/>
            <p:nvPr/>
          </p:nvSpPr>
          <p:spPr>
            <a:xfrm>
              <a:off x="5022720" y="2573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3"/>
            <p:cNvSpPr/>
            <p:nvPr/>
          </p:nvSpPr>
          <p:spPr>
            <a:xfrm>
              <a:off x="4909680" y="2573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44"/>
            <p:cNvSpPr/>
            <p:nvPr/>
          </p:nvSpPr>
          <p:spPr>
            <a:xfrm>
              <a:off x="5301360" y="2555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5"/>
            <p:cNvSpPr/>
            <p:nvPr/>
          </p:nvSpPr>
          <p:spPr>
            <a:xfrm>
              <a:off x="5155920" y="2555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6"/>
            <p:cNvSpPr/>
            <p:nvPr/>
          </p:nvSpPr>
          <p:spPr>
            <a:xfrm>
              <a:off x="5022720" y="2555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7"/>
            <p:cNvSpPr/>
            <p:nvPr/>
          </p:nvSpPr>
          <p:spPr>
            <a:xfrm>
              <a:off x="4909680" y="2555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8"/>
            <p:cNvSpPr/>
            <p:nvPr/>
          </p:nvSpPr>
          <p:spPr>
            <a:xfrm>
              <a:off x="5301360" y="25372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49"/>
            <p:cNvSpPr/>
            <p:nvPr/>
          </p:nvSpPr>
          <p:spPr>
            <a:xfrm>
              <a:off x="5155920" y="25372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0"/>
            <p:cNvSpPr/>
            <p:nvPr/>
          </p:nvSpPr>
          <p:spPr>
            <a:xfrm>
              <a:off x="5022720" y="25372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1"/>
            <p:cNvSpPr/>
            <p:nvPr/>
          </p:nvSpPr>
          <p:spPr>
            <a:xfrm>
              <a:off x="4909680" y="25372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2"/>
            <p:cNvSpPr/>
            <p:nvPr/>
          </p:nvSpPr>
          <p:spPr>
            <a:xfrm>
              <a:off x="5301360" y="2518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3"/>
            <p:cNvSpPr/>
            <p:nvPr/>
          </p:nvSpPr>
          <p:spPr>
            <a:xfrm>
              <a:off x="5155920" y="2518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54"/>
            <p:cNvSpPr/>
            <p:nvPr/>
          </p:nvSpPr>
          <p:spPr>
            <a:xfrm>
              <a:off x="5022720" y="2518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5"/>
            <p:cNvSpPr/>
            <p:nvPr/>
          </p:nvSpPr>
          <p:spPr>
            <a:xfrm>
              <a:off x="4909680" y="2518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6"/>
            <p:cNvSpPr/>
            <p:nvPr/>
          </p:nvSpPr>
          <p:spPr>
            <a:xfrm>
              <a:off x="5301360" y="2500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7"/>
            <p:cNvSpPr/>
            <p:nvPr/>
          </p:nvSpPr>
          <p:spPr>
            <a:xfrm>
              <a:off x="5155920" y="2500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8"/>
            <p:cNvSpPr/>
            <p:nvPr/>
          </p:nvSpPr>
          <p:spPr>
            <a:xfrm>
              <a:off x="5022720" y="2500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9"/>
            <p:cNvSpPr/>
            <p:nvPr/>
          </p:nvSpPr>
          <p:spPr>
            <a:xfrm>
              <a:off x="4909680" y="2500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0"/>
            <p:cNvSpPr/>
            <p:nvPr/>
          </p:nvSpPr>
          <p:spPr>
            <a:xfrm>
              <a:off x="5301360" y="2482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1"/>
            <p:cNvSpPr/>
            <p:nvPr/>
          </p:nvSpPr>
          <p:spPr>
            <a:xfrm>
              <a:off x="5155920" y="2482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2"/>
            <p:cNvSpPr/>
            <p:nvPr/>
          </p:nvSpPr>
          <p:spPr>
            <a:xfrm>
              <a:off x="5022720" y="2482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3"/>
            <p:cNvSpPr/>
            <p:nvPr/>
          </p:nvSpPr>
          <p:spPr>
            <a:xfrm>
              <a:off x="4909680" y="2482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"/>
            <p:cNvSpPr/>
            <p:nvPr/>
          </p:nvSpPr>
          <p:spPr>
            <a:xfrm>
              <a:off x="5301360" y="24645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5"/>
            <p:cNvSpPr/>
            <p:nvPr/>
          </p:nvSpPr>
          <p:spPr>
            <a:xfrm>
              <a:off x="5155920" y="24645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6"/>
            <p:cNvSpPr/>
            <p:nvPr/>
          </p:nvSpPr>
          <p:spPr>
            <a:xfrm>
              <a:off x="5022720" y="24645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7"/>
            <p:cNvSpPr/>
            <p:nvPr/>
          </p:nvSpPr>
          <p:spPr>
            <a:xfrm>
              <a:off x="4909680" y="24645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8"/>
            <p:cNvSpPr/>
            <p:nvPr/>
          </p:nvSpPr>
          <p:spPr>
            <a:xfrm>
              <a:off x="5301360" y="2446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9"/>
            <p:cNvSpPr/>
            <p:nvPr/>
          </p:nvSpPr>
          <p:spPr>
            <a:xfrm>
              <a:off x="5155920" y="2446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0"/>
            <p:cNvSpPr/>
            <p:nvPr/>
          </p:nvSpPr>
          <p:spPr>
            <a:xfrm>
              <a:off x="5022720" y="2446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1"/>
            <p:cNvSpPr/>
            <p:nvPr/>
          </p:nvSpPr>
          <p:spPr>
            <a:xfrm>
              <a:off x="4909680" y="2446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72"/>
            <p:cNvSpPr/>
            <p:nvPr/>
          </p:nvSpPr>
          <p:spPr>
            <a:xfrm>
              <a:off x="5301360" y="2428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3"/>
            <p:cNvSpPr/>
            <p:nvPr/>
          </p:nvSpPr>
          <p:spPr>
            <a:xfrm>
              <a:off x="5155920" y="2428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74"/>
            <p:cNvSpPr/>
            <p:nvPr/>
          </p:nvSpPr>
          <p:spPr>
            <a:xfrm>
              <a:off x="5022720" y="2428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5"/>
            <p:cNvSpPr/>
            <p:nvPr/>
          </p:nvSpPr>
          <p:spPr>
            <a:xfrm>
              <a:off x="4909680" y="2428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6"/>
            <p:cNvSpPr/>
            <p:nvPr/>
          </p:nvSpPr>
          <p:spPr>
            <a:xfrm>
              <a:off x="5301360" y="2410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7"/>
            <p:cNvSpPr/>
            <p:nvPr/>
          </p:nvSpPr>
          <p:spPr>
            <a:xfrm>
              <a:off x="5155920" y="2410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8"/>
            <p:cNvSpPr/>
            <p:nvPr/>
          </p:nvSpPr>
          <p:spPr>
            <a:xfrm>
              <a:off x="5022720" y="2410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9"/>
            <p:cNvSpPr/>
            <p:nvPr/>
          </p:nvSpPr>
          <p:spPr>
            <a:xfrm>
              <a:off x="4909680" y="2410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80"/>
            <p:cNvSpPr/>
            <p:nvPr/>
          </p:nvSpPr>
          <p:spPr>
            <a:xfrm>
              <a:off x="5301360" y="2392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1"/>
            <p:cNvSpPr/>
            <p:nvPr/>
          </p:nvSpPr>
          <p:spPr>
            <a:xfrm>
              <a:off x="5155920" y="2392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2"/>
            <p:cNvSpPr/>
            <p:nvPr/>
          </p:nvSpPr>
          <p:spPr>
            <a:xfrm>
              <a:off x="5022720" y="2392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3"/>
            <p:cNvSpPr/>
            <p:nvPr/>
          </p:nvSpPr>
          <p:spPr>
            <a:xfrm>
              <a:off x="4909680" y="2392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4"/>
            <p:cNvSpPr/>
            <p:nvPr/>
          </p:nvSpPr>
          <p:spPr>
            <a:xfrm>
              <a:off x="5301360" y="23738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5"/>
            <p:cNvSpPr/>
            <p:nvPr/>
          </p:nvSpPr>
          <p:spPr>
            <a:xfrm>
              <a:off x="5155920" y="23738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6"/>
            <p:cNvSpPr/>
            <p:nvPr/>
          </p:nvSpPr>
          <p:spPr>
            <a:xfrm>
              <a:off x="5022720" y="23738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7"/>
            <p:cNvSpPr/>
            <p:nvPr/>
          </p:nvSpPr>
          <p:spPr>
            <a:xfrm>
              <a:off x="4909680" y="23738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8"/>
            <p:cNvSpPr/>
            <p:nvPr/>
          </p:nvSpPr>
          <p:spPr>
            <a:xfrm>
              <a:off x="5301360" y="2355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9"/>
            <p:cNvSpPr/>
            <p:nvPr/>
          </p:nvSpPr>
          <p:spPr>
            <a:xfrm>
              <a:off x="5155920" y="2355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0"/>
            <p:cNvSpPr/>
            <p:nvPr/>
          </p:nvSpPr>
          <p:spPr>
            <a:xfrm>
              <a:off x="5022720" y="2355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1"/>
            <p:cNvSpPr/>
            <p:nvPr/>
          </p:nvSpPr>
          <p:spPr>
            <a:xfrm>
              <a:off x="4909680" y="2355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2"/>
            <p:cNvSpPr/>
            <p:nvPr/>
          </p:nvSpPr>
          <p:spPr>
            <a:xfrm>
              <a:off x="5301360" y="2337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3"/>
            <p:cNvSpPr/>
            <p:nvPr/>
          </p:nvSpPr>
          <p:spPr>
            <a:xfrm>
              <a:off x="5155920" y="2337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4"/>
            <p:cNvSpPr/>
            <p:nvPr/>
          </p:nvSpPr>
          <p:spPr>
            <a:xfrm>
              <a:off x="5022720" y="2337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5"/>
            <p:cNvSpPr/>
            <p:nvPr/>
          </p:nvSpPr>
          <p:spPr>
            <a:xfrm>
              <a:off x="4909680" y="2337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6"/>
            <p:cNvSpPr/>
            <p:nvPr/>
          </p:nvSpPr>
          <p:spPr>
            <a:xfrm>
              <a:off x="5301360" y="2319480"/>
              <a:ext cx="127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7"/>
            <p:cNvSpPr/>
            <p:nvPr/>
          </p:nvSpPr>
          <p:spPr>
            <a:xfrm>
              <a:off x="5155920" y="2319480"/>
              <a:ext cx="145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98"/>
            <p:cNvSpPr/>
            <p:nvPr/>
          </p:nvSpPr>
          <p:spPr>
            <a:xfrm>
              <a:off x="5022720" y="2319480"/>
              <a:ext cx="1332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9"/>
            <p:cNvSpPr/>
            <p:nvPr/>
          </p:nvSpPr>
          <p:spPr>
            <a:xfrm>
              <a:off x="4909680" y="2319480"/>
              <a:ext cx="11268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0"/>
            <p:cNvSpPr/>
            <p:nvPr/>
          </p:nvSpPr>
          <p:spPr>
            <a:xfrm>
              <a:off x="5301360" y="2301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1"/>
            <p:cNvSpPr/>
            <p:nvPr/>
          </p:nvSpPr>
          <p:spPr>
            <a:xfrm>
              <a:off x="5155920" y="2301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5022720" y="2301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4909680" y="2301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4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4"/>
            <p:cNvSpPr/>
            <p:nvPr/>
          </p:nvSpPr>
          <p:spPr>
            <a:xfrm>
              <a:off x="5301360" y="2283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5"/>
            <p:cNvSpPr/>
            <p:nvPr/>
          </p:nvSpPr>
          <p:spPr>
            <a:xfrm>
              <a:off x="5155920" y="2283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6"/>
            <p:cNvSpPr/>
            <p:nvPr/>
          </p:nvSpPr>
          <p:spPr>
            <a:xfrm>
              <a:off x="5022720" y="2283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7"/>
            <p:cNvSpPr/>
            <p:nvPr/>
          </p:nvSpPr>
          <p:spPr>
            <a:xfrm>
              <a:off x="4909680" y="2283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8"/>
            <p:cNvSpPr/>
            <p:nvPr/>
          </p:nvSpPr>
          <p:spPr>
            <a:xfrm>
              <a:off x="5301360" y="22647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5155920" y="22647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5022720" y="22647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4909680" y="22647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5301360" y="22464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3"/>
            <p:cNvSpPr/>
            <p:nvPr/>
          </p:nvSpPr>
          <p:spPr>
            <a:xfrm>
              <a:off x="5155920" y="22464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4"/>
            <p:cNvSpPr/>
            <p:nvPr/>
          </p:nvSpPr>
          <p:spPr>
            <a:xfrm>
              <a:off x="5022720" y="22464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5"/>
            <p:cNvSpPr/>
            <p:nvPr/>
          </p:nvSpPr>
          <p:spPr>
            <a:xfrm>
              <a:off x="4909680" y="22464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6"/>
            <p:cNvSpPr/>
            <p:nvPr/>
          </p:nvSpPr>
          <p:spPr>
            <a:xfrm>
              <a:off x="5301360" y="2200320"/>
              <a:ext cx="127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7"/>
            <p:cNvSpPr/>
            <p:nvPr/>
          </p:nvSpPr>
          <p:spPr>
            <a:xfrm>
              <a:off x="5155920" y="2200320"/>
              <a:ext cx="145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ed in bud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"/>
            <p:cNvSpPr/>
            <p:nvPr/>
          </p:nvSpPr>
          <p:spPr>
            <a:xfrm>
              <a:off x="5022720" y="2200320"/>
              <a:ext cx="1332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 % vs T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9"/>
            <p:cNvSpPr/>
            <p:nvPr/>
          </p:nvSpPr>
          <p:spPr>
            <a:xfrm>
              <a:off x="4909680" y="2200320"/>
              <a:ext cx="11268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savings Electronic (€)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0"/>
            <p:cNvSpPr/>
            <p:nvPr/>
          </p:nvSpPr>
          <p:spPr>
            <a:xfrm>
              <a:off x="4600440" y="2200320"/>
              <a:ext cx="30924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123" descr="MCj04395970000[1]"/>
          <p:cNvPicPr/>
          <p:nvPr/>
        </p:nvPicPr>
        <p:blipFill>
          <a:blip r:embed="rId1"/>
          <a:stretch/>
        </p:blipFill>
        <p:spPr>
          <a:xfrm>
            <a:off x="3170160" y="2117880"/>
            <a:ext cx="506520" cy="7635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24"/>
          <p:cNvSpPr/>
          <p:nvPr/>
        </p:nvSpPr>
        <p:spPr>
          <a:xfrm>
            <a:off x="2241720" y="2027160"/>
            <a:ext cx="50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5"/>
          <p:cNvSpPr/>
          <p:nvPr/>
        </p:nvSpPr>
        <p:spPr>
          <a:xfrm>
            <a:off x="3947040" y="2027160"/>
            <a:ext cx="4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Apr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6"/>
          <p:cNvSpPr/>
          <p:nvPr/>
        </p:nvSpPr>
        <p:spPr>
          <a:xfrm>
            <a:off x="5603400" y="2027160"/>
            <a:ext cx="35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29"/>
          <p:cNvGrpSpPr/>
          <p:nvPr/>
        </p:nvGrpSpPr>
        <p:grpSpPr>
          <a:xfrm>
            <a:off x="1298520" y="2206800"/>
            <a:ext cx="827280" cy="885600"/>
            <a:chOff x="1298520" y="2206800"/>
            <a:chExt cx="827280" cy="885600"/>
          </a:xfrm>
        </p:grpSpPr>
        <p:grpSp>
          <p:nvGrpSpPr>
            <p:cNvPr id="737" name="Group 130"/>
            <p:cNvGrpSpPr/>
            <p:nvPr/>
          </p:nvGrpSpPr>
          <p:grpSpPr>
            <a:xfrm>
              <a:off x="1298520" y="2206800"/>
              <a:ext cx="827280" cy="450720"/>
              <a:chOff x="1298520" y="2206800"/>
              <a:chExt cx="827280" cy="450720"/>
            </a:xfrm>
          </p:grpSpPr>
          <p:sp>
            <p:nvSpPr>
              <p:cNvPr id="738" name="Freeform 131"/>
              <p:cNvSpPr/>
              <p:nvPr/>
            </p:nvSpPr>
            <p:spPr>
              <a:xfrm>
                <a:off x="1298520" y="220680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32"/>
              <p:cNvSpPr/>
              <p:nvPr/>
            </p:nvSpPr>
            <p:spPr>
              <a:xfrm>
                <a:off x="1452600" y="222012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33"/>
              <p:cNvSpPr/>
              <p:nvPr/>
            </p:nvSpPr>
            <p:spPr>
              <a:xfrm>
                <a:off x="1606680" y="223020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34"/>
              <p:cNvSpPr/>
              <p:nvPr/>
            </p:nvSpPr>
            <p:spPr>
              <a:xfrm>
                <a:off x="1764000" y="223020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35"/>
              <p:cNvSpPr/>
              <p:nvPr/>
            </p:nvSpPr>
            <p:spPr>
              <a:xfrm>
                <a:off x="1832400" y="222264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36"/>
            <p:cNvGrpSpPr/>
            <p:nvPr/>
          </p:nvGrpSpPr>
          <p:grpSpPr>
            <a:xfrm>
              <a:off x="1298520" y="2641680"/>
              <a:ext cx="827280" cy="450720"/>
              <a:chOff x="1298520" y="2641680"/>
              <a:chExt cx="827280" cy="450720"/>
            </a:xfrm>
          </p:grpSpPr>
          <p:sp>
            <p:nvSpPr>
              <p:cNvPr id="744" name="Freeform 137"/>
              <p:cNvSpPr/>
              <p:nvPr/>
            </p:nvSpPr>
            <p:spPr>
              <a:xfrm flipV="1">
                <a:off x="1298520" y="264168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50720"/>
                  <a:gd name="textAreaBottom" fmla="*/ 45144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38"/>
              <p:cNvSpPr/>
              <p:nvPr/>
            </p:nvSpPr>
            <p:spPr>
              <a:xfrm flipV="1">
                <a:off x="1452600" y="264204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37040"/>
                  <a:gd name="textAreaBottom" fmla="*/ 43776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9"/>
              <p:cNvSpPr/>
              <p:nvPr/>
            </p:nvSpPr>
            <p:spPr>
              <a:xfrm flipV="1">
                <a:off x="1606680" y="264204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360 h 426960"/>
                  <a:gd name="textAreaBottom" fmla="*/ 42768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0"/>
              <p:cNvSpPr/>
              <p:nvPr/>
            </p:nvSpPr>
            <p:spPr>
              <a:xfrm flipV="1">
                <a:off x="1764000" y="268308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41"/>
              <p:cNvSpPr/>
              <p:nvPr/>
            </p:nvSpPr>
            <p:spPr>
              <a:xfrm flipV="1">
                <a:off x="1832400" y="265536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144"/>
          <p:cNvSpPr/>
          <p:nvPr/>
        </p:nvSpPr>
        <p:spPr>
          <a:xfrm>
            <a:off x="533880" y="2027160"/>
            <a:ext cx="6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Febr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5"/>
          <p:cNvSpPr/>
          <p:nvPr/>
        </p:nvSpPr>
        <p:spPr>
          <a:xfrm>
            <a:off x="1331640" y="148428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6"/>
          <p:cNvSpPr/>
          <p:nvPr/>
        </p:nvSpPr>
        <p:spPr>
          <a:xfrm>
            <a:off x="3048840" y="14842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7"/>
          <p:cNvSpPr/>
          <p:nvPr/>
        </p:nvSpPr>
        <p:spPr>
          <a:xfrm>
            <a:off x="7565040" y="14842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63"/>
          <p:cNvSpPr/>
          <p:nvPr/>
        </p:nvSpPr>
        <p:spPr>
          <a:xfrm>
            <a:off x="77616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64"/>
          <p:cNvSpPr/>
          <p:nvPr/>
        </p:nvSpPr>
        <p:spPr>
          <a:xfrm>
            <a:off x="2403360" y="1787400"/>
            <a:ext cx="184320" cy="250920"/>
          </a:xfrm>
          <a:prstGeom prst="downArrow">
            <a:avLst>
              <a:gd name="adj1" fmla="val 50000"/>
              <a:gd name="adj2" fmla="val 335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65"/>
          <p:cNvSpPr/>
          <p:nvPr/>
        </p:nvSpPr>
        <p:spPr>
          <a:xfrm>
            <a:off x="405144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66"/>
          <p:cNvSpPr/>
          <p:nvPr/>
        </p:nvSpPr>
        <p:spPr>
          <a:xfrm>
            <a:off x="568008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7"/>
          <p:cNvSpPr/>
          <p:nvPr/>
        </p:nvSpPr>
        <p:spPr>
          <a:xfrm>
            <a:off x="728676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68" descr="MCj04339640000[1]"/>
          <p:cNvPicPr/>
          <p:nvPr/>
        </p:nvPicPr>
        <p:blipFill>
          <a:blip r:embed="rId2"/>
          <a:stretch/>
        </p:blipFill>
        <p:spPr>
          <a:xfrm>
            <a:off x="8453520" y="1555920"/>
            <a:ext cx="644400" cy="653760"/>
          </a:xfrm>
          <a:prstGeom prst="rect">
            <a:avLst/>
          </a:prstGeom>
          <a:ln w="0">
            <a:noFill/>
          </a:ln>
        </p:spPr>
      </p:pic>
      <p:sp>
        <p:nvSpPr>
          <p:cNvPr id="759" name="Trapèze 178"/>
          <p:cNvSpPr/>
          <p:nvPr/>
        </p:nvSpPr>
        <p:spPr>
          <a:xfrm rot="5400000">
            <a:off x="357120" y="4628880"/>
            <a:ext cx="2571480" cy="1571760"/>
          </a:xfrm>
          <a:custGeom>
            <a:avLst/>
            <a:gdLst/>
            <a:ahLst/>
            <a:rect l="l" t="t" r="r" b="b"/>
            <a:pathLst>
              <a:path w="2571750" h="1571625">
                <a:moveTo>
                  <a:pt x="0" y="1571625"/>
                </a:moveTo>
                <a:lnTo>
                  <a:pt x="392906" y="0"/>
                </a:lnTo>
                <a:lnTo>
                  <a:pt x="2178844" y="0"/>
                </a:lnTo>
                <a:lnTo>
                  <a:pt x="257175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rapèze 179"/>
          <p:cNvSpPr/>
          <p:nvPr/>
        </p:nvSpPr>
        <p:spPr>
          <a:xfrm rot="5400000">
            <a:off x="2486160" y="4627440"/>
            <a:ext cx="1714320" cy="1571760"/>
          </a:xfrm>
          <a:custGeom>
            <a:avLst/>
            <a:gdLst/>
            <a:ahLst/>
            <a:rect l="l" t="t" r="r" b="b"/>
            <a:pathLst>
              <a:path w="1714500" h="1571625">
                <a:moveTo>
                  <a:pt x="0" y="1571625"/>
                </a:moveTo>
                <a:lnTo>
                  <a:pt x="392906" y="0"/>
                </a:lnTo>
                <a:lnTo>
                  <a:pt x="1321594" y="0"/>
                </a:lnTo>
                <a:lnTo>
                  <a:pt x="171450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5946840" y="3044880"/>
            <a:ext cx="153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Quality test and internal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eeting with internal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/05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rice Negoti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6"/>
          <p:cNvSpPr/>
          <p:nvPr/>
        </p:nvSpPr>
        <p:spPr>
          <a:xfrm>
            <a:off x="7127280" y="2025720"/>
            <a:ext cx="4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riangle isocèle 182"/>
          <p:cNvSpPr/>
          <p:nvPr/>
        </p:nvSpPr>
        <p:spPr>
          <a:xfrm rot="5400000">
            <a:off x="8107920" y="4707720"/>
            <a:ext cx="414360" cy="1428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rapèze 183"/>
          <p:cNvSpPr/>
          <p:nvPr/>
        </p:nvSpPr>
        <p:spPr>
          <a:xfrm rot="5400000">
            <a:off x="4581000" y="4633920"/>
            <a:ext cx="898560" cy="1571400"/>
          </a:xfrm>
          <a:custGeom>
            <a:avLst/>
            <a:gdLst/>
            <a:ahLst/>
            <a:rect l="l" t="t" r="r" b="b"/>
            <a:pathLst>
              <a:path w="898525" h="1571625">
                <a:moveTo>
                  <a:pt x="0" y="1571625"/>
                </a:moveTo>
                <a:lnTo>
                  <a:pt x="224631" y="0"/>
                </a:lnTo>
                <a:lnTo>
                  <a:pt x="673894" y="0"/>
                </a:lnTo>
                <a:lnTo>
                  <a:pt x="898525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à coins arrondis 184"/>
          <p:cNvSpPr/>
          <p:nvPr/>
        </p:nvSpPr>
        <p:spPr>
          <a:xfrm>
            <a:off x="5929200" y="3214800"/>
            <a:ext cx="1454400" cy="1714320"/>
          </a:xfrm>
          <a:custGeom>
            <a:avLst/>
            <a:gdLst>
              <a:gd name="textAreaLeft" fmla="*/ 70920 w 1454400"/>
              <a:gd name="textAreaRight" fmla="*/ 1383480 w 1454400"/>
              <a:gd name="textAreaTop" fmla="*/ 70920 h 1714320"/>
              <a:gd name="textAreaBottom" fmla="*/ 1643400 h 1714320"/>
            </a:gdLst>
            <a:ahLst/>
            <a:rect l="textAreaLeft" t="textAreaTop" r="textAreaRight" b="textAreaBottom"/>
            <a:pathLst>
              <a:path w="21600" h="25459">
                <a:moveTo>
                  <a:pt x="3600" y="0"/>
                </a:moveTo>
                <a:arcTo wR="3600" hR="3600" stAng="16200000" swAng="-5400000"/>
                <a:lnTo>
                  <a:pt x="0" y="21859"/>
                </a:lnTo>
                <a:arcTo wR="3600" hR="3600" stAng="10800000" swAng="-5400000"/>
                <a:lnTo>
                  <a:pt x="18000" y="25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7"/>
          <p:cNvSpPr/>
          <p:nvPr/>
        </p:nvSpPr>
        <p:spPr>
          <a:xfrm>
            <a:off x="4594320" y="149688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7"/>
          <p:cNvSpPr/>
          <p:nvPr/>
        </p:nvSpPr>
        <p:spPr>
          <a:xfrm>
            <a:off x="6051600" y="14842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oneTexte 187"/>
          <p:cNvSpPr/>
          <p:nvPr/>
        </p:nvSpPr>
        <p:spPr>
          <a:xfrm>
            <a:off x="1000080" y="5199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consolida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oneTexte 188"/>
          <p:cNvSpPr/>
          <p:nvPr/>
        </p:nvSpPr>
        <p:spPr>
          <a:xfrm>
            <a:off x="2714760" y="520056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oneTexte 189"/>
          <p:cNvSpPr/>
          <p:nvPr/>
        </p:nvSpPr>
        <p:spPr>
          <a:xfrm>
            <a:off x="4371840" y="52135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suppliers in the short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oneTexte 190"/>
          <p:cNvSpPr/>
          <p:nvPr/>
        </p:nvSpPr>
        <p:spPr>
          <a:xfrm>
            <a:off x="7385040" y="528624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c00000"/>
                </a:solidFill>
                <a:latin typeface="Arial"/>
              </a:rPr>
              <a:t>X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8"/>
          <p:cNvSpPr/>
          <p:nvPr/>
        </p:nvSpPr>
        <p:spPr>
          <a:xfrm>
            <a:off x="5942160" y="3228840"/>
            <a:ext cx="1541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28"/>
          <p:cNvSpPr/>
          <p:nvPr/>
        </p:nvSpPr>
        <p:spPr>
          <a:xfrm>
            <a:off x="7500960" y="3219480"/>
            <a:ext cx="1541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6"/>
          <p:cNvSpPr/>
          <p:nvPr/>
        </p:nvSpPr>
        <p:spPr>
          <a:xfrm>
            <a:off x="5929200" y="5203800"/>
            <a:ext cx="1571760" cy="439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4765680" y="6143760"/>
            <a:ext cx="2949480" cy="43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6229440" y="6351480"/>
            <a:ext cx="579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6"/>
          <p:cNvSpPr/>
          <p:nvPr/>
        </p:nvSpPr>
        <p:spPr>
          <a:xfrm>
            <a:off x="6929280" y="6351480"/>
            <a:ext cx="57816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631980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702432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4888080" y="6351480"/>
            <a:ext cx="89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4854600" y="6153120"/>
            <a:ext cx="117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 sav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3"/>
          <p:cNvSpPr/>
          <p:nvPr/>
        </p:nvSpPr>
        <p:spPr>
          <a:xfrm rot="13500000">
            <a:off x="5843520" y="638604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D674-C48A-48A3-A99E-91C41273A24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3040" y="1536840"/>
          <a:ext cx="8740800" cy="4991040"/>
        </p:xfrm>
        <a:graphic>
          <a:graphicData uri="http://schemas.openxmlformats.org/drawingml/2006/table">
            <a:tbl>
              <a:tblPr/>
              <a:tblGrid>
                <a:gridCol w="1278000"/>
                <a:gridCol w="1243080"/>
                <a:gridCol w="1244520"/>
                <a:gridCol w="1243080"/>
                <a:gridCol w="1244520"/>
                <a:gridCol w="1243080"/>
                <a:gridCol w="1244520"/>
              </a:tblGrid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0"/>
          <p:cNvSpPr/>
          <p:nvPr/>
        </p:nvSpPr>
        <p:spPr>
          <a:xfrm>
            <a:off x="1996920" y="1778040"/>
            <a:ext cx="6797880" cy="415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8"/>
          <p:cNvSpPr/>
          <p:nvPr/>
        </p:nvSpPr>
        <p:spPr>
          <a:xfrm>
            <a:off x="4243320" y="1771560"/>
            <a:ext cx="4551480" cy="2776680"/>
          </a:xfrm>
          <a:custGeom>
            <a:avLst/>
            <a:gdLst>
              <a:gd name="textAreaLeft" fmla="*/ 0 w 4551480"/>
              <a:gd name="textAreaRight" fmla="*/ 4551840 w 455148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6"/>
          <p:cNvSpPr/>
          <p:nvPr/>
        </p:nvSpPr>
        <p:spPr>
          <a:xfrm>
            <a:off x="6170760" y="1770120"/>
            <a:ext cx="2635200" cy="19051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d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2006640" y="593424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 flipV="1">
            <a:off x="2006640" y="1433520"/>
            <a:ext cx="0" cy="45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1696320" y="5924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8524440" y="6029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502280" y="15033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24"/>
          <p:cNvGrpSpPr/>
          <p:nvPr/>
        </p:nvGrpSpPr>
        <p:grpSpPr>
          <a:xfrm>
            <a:off x="1996920" y="1778040"/>
            <a:ext cx="6814800" cy="4155840"/>
            <a:chOff x="1996920" y="1778040"/>
            <a:chExt cx="6814800" cy="4155840"/>
          </a:xfrm>
        </p:grpSpPr>
        <p:sp>
          <p:nvSpPr>
            <p:cNvPr id="795" name="Rectangle 12"/>
            <p:cNvSpPr/>
            <p:nvPr/>
          </p:nvSpPr>
          <p:spPr>
            <a:xfrm>
              <a:off x="199692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"/>
            <p:cNvSpPr/>
            <p:nvPr/>
          </p:nvSpPr>
          <p:spPr>
            <a:xfrm>
              <a:off x="4265280" y="454860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4"/>
            <p:cNvSpPr/>
            <p:nvPr/>
          </p:nvSpPr>
          <p:spPr>
            <a:xfrm>
              <a:off x="653400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"/>
            <p:cNvSpPr/>
            <p:nvPr/>
          </p:nvSpPr>
          <p:spPr>
            <a:xfrm>
              <a:off x="199836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6"/>
            <p:cNvSpPr/>
            <p:nvPr/>
          </p:nvSpPr>
          <p:spPr>
            <a:xfrm>
              <a:off x="4266720" y="316332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7"/>
            <p:cNvSpPr/>
            <p:nvPr/>
          </p:nvSpPr>
          <p:spPr>
            <a:xfrm>
              <a:off x="653544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2006280" y="177804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"/>
            <p:cNvSpPr/>
            <p:nvPr/>
          </p:nvSpPr>
          <p:spPr>
            <a:xfrm>
              <a:off x="427500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3"/>
            <p:cNvSpPr/>
            <p:nvPr/>
          </p:nvSpPr>
          <p:spPr>
            <a:xfrm>
              <a:off x="654336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6223680" y="17701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4278240" y="1766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2004840" y="17780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26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6ADB-8228-4BDE-969E-BDCA51BF5E4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65160" y="3227400"/>
            <a:ext cx="1744560" cy="130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competi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nan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ility to work on a “partnership”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67560" y="3112920"/>
            <a:ext cx="112896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4581360" y="6108840"/>
            <a:ext cx="1743120" cy="68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lumes purch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x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4685760" y="5994360"/>
            <a:ext cx="156024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ompetitive le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e 19"/>
          <p:cNvGrpSpPr/>
          <p:nvPr/>
        </p:nvGrpSpPr>
        <p:grpSpPr>
          <a:xfrm>
            <a:off x="239760" y="1538280"/>
            <a:ext cx="2712960" cy="5086440"/>
            <a:chOff x="239760" y="1538280"/>
            <a:chExt cx="2712960" cy="5086440"/>
          </a:xfrm>
        </p:grpSpPr>
        <p:sp>
          <p:nvSpPr>
            <p:cNvPr id="814" name="Text Box 10"/>
            <p:cNvSpPr/>
            <p:nvPr/>
          </p:nvSpPr>
          <p:spPr>
            <a:xfrm>
              <a:off x="240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4"/>
            <p:cNvSpPr/>
            <p:nvPr/>
          </p:nvSpPr>
          <p:spPr>
            <a:xfrm>
              <a:off x="239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and targeted suppliers turnover and market shar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’s turnover and weight, Supplier Evaluation, Purchasing contract signed, ISO 14001, ECO V7, Payment term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17" name="Groupe 19"/>
          <p:cNvGrpSpPr/>
          <p:nvPr/>
        </p:nvGrpSpPr>
        <p:grpSpPr>
          <a:xfrm>
            <a:off x="6170760" y="1538280"/>
            <a:ext cx="2712960" cy="5086440"/>
            <a:chOff x="6170760" y="1538280"/>
            <a:chExt cx="2712960" cy="5086440"/>
          </a:xfrm>
        </p:grpSpPr>
        <p:sp>
          <p:nvSpPr>
            <p:cNvPr id="818" name="Text Box 10"/>
            <p:cNvSpPr/>
            <p:nvPr/>
          </p:nvSpPr>
          <p:spPr>
            <a:xfrm>
              <a:off x="6171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6170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e 19"/>
          <p:cNvGrpSpPr/>
          <p:nvPr/>
        </p:nvGrpSpPr>
        <p:grpSpPr>
          <a:xfrm>
            <a:off x="3205080" y="1538280"/>
            <a:ext cx="2712960" cy="5086440"/>
            <a:chOff x="3205080" y="1538280"/>
            <a:chExt cx="2712960" cy="5086440"/>
          </a:xfrm>
        </p:grpSpPr>
        <p:sp>
          <p:nvSpPr>
            <p:cNvPr id="821" name="Text Box 10"/>
            <p:cNvSpPr/>
            <p:nvPr/>
          </p:nvSpPr>
          <p:spPr>
            <a:xfrm>
              <a:off x="320544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4"/>
            <p:cNvSpPr/>
            <p:nvPr/>
          </p:nvSpPr>
          <p:spPr>
            <a:xfrm>
              <a:off x="320508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Espace réservé du numéro de diapositive 11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BA03-CCD7-4BF1-B18E-E740C155672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at – Who – When in order to match the targeted strategy and the Panel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5" name="Espace réservé du numéro de diapositive 1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C20-1113-4142-9DB6-D6BECCAC31B8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57360" y="1347840"/>
          <a:ext cx="7267680" cy="4676760"/>
        </p:xfrm>
        <a:graphic>
          <a:graphicData uri="http://schemas.openxmlformats.org/drawingml/2006/table">
            <a:tbl>
              <a:tblPr/>
              <a:tblGrid>
                <a:gridCol w="1211400"/>
                <a:gridCol w="1211040"/>
                <a:gridCol w="1211400"/>
                <a:gridCol w="1211040"/>
                <a:gridCol w="1211400"/>
                <a:gridCol w="1211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AutoShape 50"/>
          <p:cNvSpPr/>
          <p:nvPr/>
        </p:nvSpPr>
        <p:spPr>
          <a:xfrm>
            <a:off x="3090960" y="6218280"/>
            <a:ext cx="18072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3203280" y="6326280"/>
            <a:ext cx="31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tones / Key events / Key planned achie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2"/>
          <p:cNvSpPr/>
          <p:nvPr/>
        </p:nvSpPr>
        <p:spPr>
          <a:xfrm>
            <a:off x="217440" y="2587680"/>
            <a:ext cx="1209600" cy="612720"/>
          </a:xfrm>
          <a:prstGeom prst="rect">
            <a:avLst/>
          </a:prstGeom>
          <a:solidFill>
            <a:srgbClr val="fcc9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3"/>
          <p:cNvSpPr/>
          <p:nvPr/>
        </p:nvSpPr>
        <p:spPr>
          <a:xfrm>
            <a:off x="217440" y="3287880"/>
            <a:ext cx="1209600" cy="61272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4"/>
          <p:cNvSpPr/>
          <p:nvPr/>
        </p:nvSpPr>
        <p:spPr>
          <a:xfrm>
            <a:off x="217440" y="3987720"/>
            <a:ext cx="1209600" cy="61272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17440" y="1728720"/>
            <a:ext cx="1209600" cy="7714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7"/>
          <p:cNvSpPr/>
          <p:nvPr/>
        </p:nvSpPr>
        <p:spPr>
          <a:xfrm>
            <a:off x="6472080" y="6264360"/>
            <a:ext cx="181080" cy="35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6645960" y="6326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ing 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14200" y="5388120"/>
            <a:ext cx="1209960" cy="61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214200" y="4687920"/>
            <a:ext cx="1209960" cy="612720"/>
          </a:xfrm>
          <a:prstGeom prst="rect">
            <a:avLst/>
          </a:prstGeom>
          <a:solidFill>
            <a:srgbClr val="a3a3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lèche droite 24"/>
          <p:cNvSpPr/>
          <p:nvPr/>
        </p:nvSpPr>
        <p:spPr>
          <a:xfrm>
            <a:off x="1589040" y="1689120"/>
            <a:ext cx="237636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ldwide Panel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lèche droite 25"/>
          <p:cNvSpPr/>
          <p:nvPr/>
        </p:nvSpPr>
        <p:spPr>
          <a:xfrm>
            <a:off x="4000680" y="183996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and Purchasing Dpt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lèche droite 26"/>
          <p:cNvSpPr/>
          <p:nvPr/>
        </p:nvSpPr>
        <p:spPr>
          <a:xfrm>
            <a:off x="6453360" y="199224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lèche droite 27"/>
          <p:cNvSpPr/>
          <p:nvPr/>
        </p:nvSpPr>
        <p:spPr>
          <a:xfrm>
            <a:off x="7643880" y="214308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Te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50"/>
          <p:cNvSpPr/>
          <p:nvPr/>
        </p:nvSpPr>
        <p:spPr>
          <a:xfrm>
            <a:off x="3890880" y="157176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7"/>
          <p:cNvSpPr/>
          <p:nvPr/>
        </p:nvSpPr>
        <p:spPr>
          <a:xfrm>
            <a:off x="2682720" y="232560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lèche droite 30"/>
          <p:cNvSpPr/>
          <p:nvPr/>
        </p:nvSpPr>
        <p:spPr>
          <a:xfrm>
            <a:off x="1584360" y="250200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èche droite 31"/>
          <p:cNvSpPr/>
          <p:nvPr/>
        </p:nvSpPr>
        <p:spPr>
          <a:xfrm>
            <a:off x="3995640" y="2643120"/>
            <a:ext cx="2374920" cy="4287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erly Review &amp;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lèche droite 32"/>
          <p:cNvSpPr/>
          <p:nvPr/>
        </p:nvSpPr>
        <p:spPr>
          <a:xfrm>
            <a:off x="6448320" y="2786040"/>
            <a:ext cx="115272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lèche droite 33"/>
          <p:cNvSpPr/>
          <p:nvPr/>
        </p:nvSpPr>
        <p:spPr>
          <a:xfrm>
            <a:off x="2286000" y="3357720"/>
            <a:ext cx="1692360" cy="42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lèche droite 34"/>
          <p:cNvSpPr/>
          <p:nvPr/>
        </p:nvSpPr>
        <p:spPr>
          <a:xfrm>
            <a:off x="2786040" y="407196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lèche droite 35"/>
          <p:cNvSpPr/>
          <p:nvPr/>
        </p:nvSpPr>
        <p:spPr>
          <a:xfrm>
            <a:off x="2786040" y="478620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lèche droite 36"/>
          <p:cNvSpPr/>
          <p:nvPr/>
        </p:nvSpPr>
        <p:spPr>
          <a:xfrm>
            <a:off x="2786040" y="5500800"/>
            <a:ext cx="1908360" cy="42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7"/>
          <p:cNvSpPr/>
          <p:nvPr/>
        </p:nvSpPr>
        <p:spPr>
          <a:xfrm>
            <a:off x="3895560" y="318132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57"/>
          <p:cNvSpPr/>
          <p:nvPr/>
        </p:nvSpPr>
        <p:spPr>
          <a:xfrm>
            <a:off x="4610160" y="389556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4624560" y="453852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57"/>
          <p:cNvSpPr/>
          <p:nvPr/>
        </p:nvSpPr>
        <p:spPr>
          <a:xfrm>
            <a:off x="4624560" y="532440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lèche droite 41"/>
          <p:cNvSpPr/>
          <p:nvPr/>
        </p:nvSpPr>
        <p:spPr>
          <a:xfrm>
            <a:off x="7643880" y="292896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50"/>
          <p:cNvSpPr/>
          <p:nvPr/>
        </p:nvSpPr>
        <p:spPr>
          <a:xfrm>
            <a:off x="6307200" y="172404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0"/>
          <p:cNvSpPr/>
          <p:nvPr/>
        </p:nvSpPr>
        <p:spPr>
          <a:xfrm>
            <a:off x="7524720" y="187632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lèche droite 44"/>
          <p:cNvSpPr/>
          <p:nvPr/>
        </p:nvSpPr>
        <p:spPr>
          <a:xfrm>
            <a:off x="645012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lèche droite 45"/>
          <p:cNvSpPr/>
          <p:nvPr/>
        </p:nvSpPr>
        <p:spPr>
          <a:xfrm>
            <a:off x="645012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lèche droite 46"/>
          <p:cNvSpPr/>
          <p:nvPr/>
        </p:nvSpPr>
        <p:spPr>
          <a:xfrm>
            <a:off x="645012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lèche droite 47"/>
          <p:cNvSpPr/>
          <p:nvPr/>
        </p:nvSpPr>
        <p:spPr>
          <a:xfrm>
            <a:off x="764388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lèche droite 48"/>
          <p:cNvSpPr/>
          <p:nvPr/>
        </p:nvSpPr>
        <p:spPr>
          <a:xfrm>
            <a:off x="764388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lèche droite 49"/>
          <p:cNvSpPr/>
          <p:nvPr/>
        </p:nvSpPr>
        <p:spPr>
          <a:xfrm>
            <a:off x="764388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lèche droite 50"/>
          <p:cNvSpPr/>
          <p:nvPr/>
        </p:nvSpPr>
        <p:spPr>
          <a:xfrm>
            <a:off x="1690560" y="6283440"/>
            <a:ext cx="900360" cy="360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ggregation / Standardisation / Globalisation / Total Cost of Ownership / Other level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Main savings to conduct, “Easy track” extract 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343080" y="172404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04520" y="1574640"/>
            <a:ext cx="3091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acts on Value Chain / Cos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4815000" y="173520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5"/>
          <p:cNvSpPr/>
          <p:nvPr/>
        </p:nvSpPr>
        <p:spPr>
          <a:xfrm>
            <a:off x="6088320" y="1585800"/>
            <a:ext cx="1445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ow to le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34308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24240" y="5259240"/>
            <a:ext cx="147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481500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5884560" y="5259240"/>
            <a:ext cx="172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0"/>
          <p:cNvSpPr/>
          <p:nvPr/>
        </p:nvSpPr>
        <p:spPr>
          <a:xfrm rot="5400000">
            <a:off x="2976480" y="3095640"/>
            <a:ext cx="3284640" cy="5414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1"/>
          <p:cNvSpPr/>
          <p:nvPr/>
        </p:nvSpPr>
        <p:spPr>
          <a:xfrm rot="10800000">
            <a:off x="34308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2"/>
          <p:cNvSpPr/>
          <p:nvPr/>
        </p:nvSpPr>
        <p:spPr>
          <a:xfrm rot="10800000">
            <a:off x="481500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Espace réservé du numéro de diapositive 1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970-BC29-4EAB-9338-66A1633B061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ommodity Market Strateg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Internal Context &amp; Need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Worldwide Market analysi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argeted strategy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Suppliers Qualification, Process &amp; Cost compariso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he Panel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Action Pla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AE25-01AF-4DD5-B2CB-235BC1DAE6F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urnover, quantities, technologies involved, shares by sub-families and sit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18" name="Groupe 24"/>
          <p:cNvGrpSpPr/>
          <p:nvPr/>
        </p:nvGrpSpPr>
        <p:grpSpPr>
          <a:xfrm>
            <a:off x="210960" y="1568520"/>
            <a:ext cx="2578320" cy="5030640"/>
            <a:chOff x="210960" y="1568520"/>
            <a:chExt cx="2578320" cy="5030640"/>
          </a:xfrm>
        </p:grpSpPr>
        <p:sp>
          <p:nvSpPr>
            <p:cNvPr id="519" name="Rectangle 5"/>
            <p:cNvSpPr/>
            <p:nvPr/>
          </p:nvSpPr>
          <p:spPr>
            <a:xfrm>
              <a:off x="210960" y="2240280"/>
              <a:ext cx="257832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gment Character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s of the family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arly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10960" y="1568520"/>
              <a:ext cx="2578320" cy="6728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descrip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e 21"/>
          <p:cNvGrpSpPr/>
          <p:nvPr/>
        </p:nvGrpSpPr>
        <p:grpSpPr>
          <a:xfrm>
            <a:off x="2854440" y="1568520"/>
            <a:ext cx="1962000" cy="5030640"/>
            <a:chOff x="2854440" y="1568520"/>
            <a:chExt cx="1962000" cy="5030640"/>
          </a:xfrm>
        </p:grpSpPr>
        <p:sp>
          <p:nvSpPr>
            <p:cNvPr id="522" name="Rectangle 5"/>
            <p:cNvSpPr/>
            <p:nvPr/>
          </p:nvSpPr>
          <p:spPr>
            <a:xfrm>
              <a:off x="285444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9"/>
            <p:cNvSpPr/>
            <p:nvPr/>
          </p:nvSpPr>
          <p:spPr>
            <a:xfrm>
              <a:off x="2854440" y="1568520"/>
              <a:ext cx="1962000" cy="67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e 22"/>
          <p:cNvGrpSpPr/>
          <p:nvPr/>
        </p:nvGrpSpPr>
        <p:grpSpPr>
          <a:xfrm>
            <a:off x="4881600" y="1568520"/>
            <a:ext cx="1960560" cy="5030640"/>
            <a:chOff x="4881600" y="1568520"/>
            <a:chExt cx="1960560" cy="5030640"/>
          </a:xfrm>
        </p:grpSpPr>
        <p:sp>
          <p:nvSpPr>
            <p:cNvPr id="525" name="Rectangle 5"/>
            <p:cNvSpPr/>
            <p:nvPr/>
          </p:nvSpPr>
          <p:spPr>
            <a:xfrm>
              <a:off x="4881600" y="2240280"/>
              <a:ext cx="196056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4881600" y="1568520"/>
              <a:ext cx="1960560" cy="672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e 23"/>
          <p:cNvGrpSpPr/>
          <p:nvPr/>
        </p:nvGrpSpPr>
        <p:grpSpPr>
          <a:xfrm>
            <a:off x="6907320" y="1568520"/>
            <a:ext cx="1962000" cy="5030640"/>
            <a:chOff x="6907320" y="1568520"/>
            <a:chExt cx="1962000" cy="5030640"/>
          </a:xfrm>
        </p:grpSpPr>
        <p:sp>
          <p:nvSpPr>
            <p:cNvPr id="528" name="Rectangle 5"/>
            <p:cNvSpPr/>
            <p:nvPr/>
          </p:nvSpPr>
          <p:spPr>
            <a:xfrm>
              <a:off x="690732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6907320" y="1568520"/>
              <a:ext cx="1962000" cy="6728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8412-B964-498B-B166-8C6CBA6968F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98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pecifications / Product / Service production: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echnology changes to come / Specific quality &amp; logistic requests 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ignificant quantity changes for specific components or services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ut sourcing trends, Purchase to be done in LCC (targeted market share …)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Espace réservé du numéro de diapositive 1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FF37-6776-4924-BDAD-72FD05965B3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7480" y="1811160"/>
          <a:ext cx="8101080" cy="4424400"/>
        </p:xfrm>
        <a:graphic>
          <a:graphicData uri="http://schemas.openxmlformats.org/drawingml/2006/table">
            <a:tbl>
              <a:tblPr/>
              <a:tblGrid>
                <a:gridCol w="390600"/>
                <a:gridCol w="4307040"/>
                <a:gridCol w="34034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er cost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ology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cess experti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ve mandate to cut cos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up internal resources for more strategic proces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dding non-core ope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the number of people on the payr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ngineering 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fixed assets from our balance 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handle the spikes and drops in processing volu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55"/>
          <p:cNvSpPr/>
          <p:nvPr/>
        </p:nvSpPr>
        <p:spPr>
          <a:xfrm rot="5400000">
            <a:off x="-1867680" y="3871440"/>
            <a:ext cx="4427640" cy="307080"/>
          </a:xfrm>
          <a:custGeom>
            <a:avLst/>
            <a:gdLst>
              <a:gd name="textAreaLeft" fmla="*/ 0 w 4427640"/>
              <a:gd name="textAreaRight" fmla="*/ 4428000 w 442764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der to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3360" y="6521400"/>
            <a:ext cx="165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1440" bIns="914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r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e 21"/>
          <p:cNvGrpSpPr/>
          <p:nvPr/>
        </p:nvGrpSpPr>
        <p:grpSpPr>
          <a:xfrm>
            <a:off x="6134040" y="1511280"/>
            <a:ext cx="2832120" cy="5086440"/>
            <a:chOff x="6134040" y="1511280"/>
            <a:chExt cx="2832120" cy="5086440"/>
          </a:xfrm>
        </p:grpSpPr>
        <p:sp>
          <p:nvSpPr>
            <p:cNvPr id="537" name="Text Box 10"/>
            <p:cNvSpPr/>
            <p:nvPr/>
          </p:nvSpPr>
          <p:spPr>
            <a:xfrm>
              <a:off x="625392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253200" y="1511280"/>
              <a:ext cx="2712960" cy="396720"/>
            </a:xfrm>
            <a:prstGeom prst="rect">
              <a:avLst/>
            </a:prstGeom>
            <a:solidFill>
              <a:srgbClr val="00a2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9" name="Object 6"/>
            <p:cNvGraphicFramePr/>
            <p:nvPr/>
          </p:nvGraphicFramePr>
          <p:xfrm>
            <a:off x="6134040" y="1957680"/>
            <a:ext cx="2725560" cy="18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404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e 19"/>
          <p:cNvGrpSpPr/>
          <p:nvPr/>
        </p:nvGrpSpPr>
        <p:grpSpPr>
          <a:xfrm>
            <a:off x="38160" y="1511280"/>
            <a:ext cx="2832120" cy="5086440"/>
            <a:chOff x="38160" y="1511280"/>
            <a:chExt cx="2832120" cy="5086440"/>
          </a:xfrm>
        </p:grpSpPr>
        <p:sp>
          <p:nvSpPr>
            <p:cNvPr id="542" name="Text Box 10"/>
            <p:cNvSpPr/>
            <p:nvPr/>
          </p:nvSpPr>
          <p:spPr>
            <a:xfrm>
              <a:off x="15804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4"/>
            <p:cNvSpPr/>
            <p:nvPr/>
          </p:nvSpPr>
          <p:spPr>
            <a:xfrm>
              <a:off x="157320" y="1511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6"/>
            <p:cNvGraphicFramePr/>
            <p:nvPr/>
          </p:nvGraphicFramePr>
          <p:xfrm>
            <a:off x="38160" y="1957680"/>
            <a:ext cx="2725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6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Groupe 20"/>
          <p:cNvGrpSpPr/>
          <p:nvPr/>
        </p:nvGrpSpPr>
        <p:grpSpPr>
          <a:xfrm>
            <a:off x="3086280" y="1511280"/>
            <a:ext cx="2831760" cy="5086440"/>
            <a:chOff x="3086280" y="1511280"/>
            <a:chExt cx="2831760" cy="5086440"/>
          </a:xfrm>
        </p:grpSpPr>
        <p:sp>
          <p:nvSpPr>
            <p:cNvPr id="547" name="Text Box 10"/>
            <p:cNvSpPr/>
            <p:nvPr/>
          </p:nvSpPr>
          <p:spPr>
            <a:xfrm>
              <a:off x="3206160" y="1920240"/>
              <a:ext cx="271188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205440" y="1511280"/>
              <a:ext cx="2712600" cy="396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Object 6"/>
            <p:cNvGraphicFramePr/>
            <p:nvPr/>
          </p:nvGraphicFramePr>
          <p:xfrm>
            <a:off x="3086280" y="1957680"/>
            <a:ext cx="2725200" cy="181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86280" y="1957680"/>
                      <a:ext cx="272520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60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1B78-C9AF-4D86-922A-83E545E126E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92120" y="1562040"/>
            <a:ext cx="8159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Trends in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03440" y="196848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703440" y="234936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24480" y="196848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24480" y="234936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03440" y="4368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03440" y="474984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4524480" y="4368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4524480" y="474984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69920" indent="-16992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C472-B171-4470-8FC0-85768D7CC9B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1D2-C21C-45E6-B47A-89EF1ADEDD0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24"/>
          <p:cNvGrpSpPr/>
          <p:nvPr/>
        </p:nvGrpSpPr>
        <p:grpSpPr>
          <a:xfrm>
            <a:off x="210960" y="1568520"/>
            <a:ext cx="4146840" cy="4932360"/>
            <a:chOff x="210960" y="1568520"/>
            <a:chExt cx="4146840" cy="4932360"/>
          </a:xfrm>
        </p:grpSpPr>
        <p:sp>
          <p:nvSpPr>
            <p:cNvPr id="567" name="Rectangle 5"/>
            <p:cNvSpPr/>
            <p:nvPr/>
          </p:nvSpPr>
          <p:spPr>
            <a:xfrm>
              <a:off x="210960" y="196668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00"/>
                </a:spcBef>
                <a:buClr>
                  <a:srgbClr val="ce1111"/>
                </a:buClr>
                <a:buFont typeface="Wingdings 2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10960" y="156852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drivers &amp;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e 24"/>
          <p:cNvGrpSpPr/>
          <p:nvPr/>
        </p:nvGrpSpPr>
        <p:grpSpPr>
          <a:xfrm>
            <a:off x="4643280" y="1571760"/>
            <a:ext cx="4146840" cy="4932360"/>
            <a:chOff x="4643280" y="1571760"/>
            <a:chExt cx="4146840" cy="4932360"/>
          </a:xfrm>
        </p:grpSpPr>
        <p:sp>
          <p:nvSpPr>
            <p:cNvPr id="570" name="Rectangle 5"/>
            <p:cNvSpPr/>
            <p:nvPr/>
          </p:nvSpPr>
          <p:spPr>
            <a:xfrm>
              <a:off x="4643280" y="196992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4643280" y="157176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 Sourcing &amp; Access to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1571760" y="5316480"/>
            <a:ext cx="143964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8DA7-6127-4DC9-970F-C8BF7BF1E01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1280" y="6643440"/>
            <a:ext cx="74883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2556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Stakeholder Interviews,12/2005 – 02/2006; Cap Gemini Analysis,-10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2073240" y="1357200"/>
            <a:ext cx="5149800" cy="41720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5286240" y="1671480"/>
            <a:ext cx="356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gotiate deals with suppliers– e.g. rebates and indemnity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relationships with preferred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centives 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s tied to work type e.g. fixed for transactional, value based for lit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Rectangle 7"/>
          <p:cNvGrpSpPr/>
          <p:nvPr/>
        </p:nvGrpSpPr>
        <p:grpSpPr>
          <a:xfrm>
            <a:off x="6059520" y="3054240"/>
            <a:ext cx="2822400" cy="603360"/>
            <a:chOff x="6059520" y="3054240"/>
            <a:chExt cx="2822400" cy="603360"/>
          </a:xfrm>
        </p:grpSpPr>
        <p:pic>
          <p:nvPicPr>
            <p:cNvPr id="578" name="Rectangle 7" descr=""/>
            <p:cNvPicPr/>
            <p:nvPr/>
          </p:nvPicPr>
          <p:blipFill>
            <a:blip r:embed="rId2"/>
            <a:stretch/>
          </p:blipFill>
          <p:spPr>
            <a:xfrm>
              <a:off x="6059520" y="3054240"/>
              <a:ext cx="2822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072120" y="3071880"/>
              <a:ext cx="27957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itive tenderin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verage scale to improve quality and commercial benef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Rectangle 8"/>
          <p:cNvGrpSpPr/>
          <p:nvPr/>
        </p:nvGrpSpPr>
        <p:grpSpPr>
          <a:xfrm>
            <a:off x="6754680" y="4084560"/>
            <a:ext cx="2187720" cy="736560"/>
            <a:chOff x="6754680" y="4084560"/>
            <a:chExt cx="2187720" cy="736560"/>
          </a:xfrm>
        </p:grpSpPr>
        <p:pic>
          <p:nvPicPr>
            <p:cNvPr id="581" name="Rectangle 8" descr=""/>
            <p:cNvPicPr/>
            <p:nvPr/>
          </p:nvPicPr>
          <p:blipFill>
            <a:blip r:embed="rId3"/>
            <a:stretch/>
          </p:blipFill>
          <p:spPr>
            <a:xfrm>
              <a:off x="6754680" y="4084560"/>
              <a:ext cx="2187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767640" y="4097160"/>
              <a:ext cx="216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nnel non-compliant spend through approved 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locate preferred suppliers for different types of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Rectangle 9"/>
          <p:cNvGrpSpPr/>
          <p:nvPr/>
        </p:nvGrpSpPr>
        <p:grpSpPr>
          <a:xfrm>
            <a:off x="5888160" y="5522760"/>
            <a:ext cx="3127320" cy="817560"/>
            <a:chOff x="5888160" y="5522760"/>
            <a:chExt cx="3127320" cy="817560"/>
          </a:xfrm>
        </p:grpSpPr>
        <p:pic>
          <p:nvPicPr>
            <p:cNvPr id="584" name="Rectangle 9" descr=""/>
            <p:cNvPicPr/>
            <p:nvPr/>
          </p:nvPicPr>
          <p:blipFill>
            <a:blip r:embed="rId4"/>
            <a:stretch/>
          </p:blipFill>
          <p:spPr>
            <a:xfrm>
              <a:off x="5888160" y="5522760"/>
              <a:ext cx="3127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905440" y="5535720"/>
              <a:ext cx="3095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olidate invo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ndard terms and conditions and discounted pricing for all activities by each suppl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arging mechani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3759120" y="5533920"/>
            <a:ext cx="2130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engineer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ayment process for solicitors, expert witnesses and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-71280" y="3807000"/>
            <a:ext cx="2928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on use of Legal Services in order to reduce maverick spend and exposure to 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 work completed externally vs. inter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demand for varying types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88800" y="2859120"/>
            <a:ext cx="2968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on with other Business Units o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framework agreements with Q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839880" y="1787400"/>
            <a:ext cx="3160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specification for transactional external solicitors’ 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s agreed for external solici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28760" y="5529240"/>
            <a:ext cx="3457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relationship and associated risk of ad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legal advice for potential duplications e.g. Same kind of issue for different 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ion of  charges prior to work commencing e.g. Fixed fees for small and routin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0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Qualification and evaluation process for suppliers all purchasing parameters combined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upplier mapping versus key needs / internal constrai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AFE-145A-4AC7-9607-0D0464BC2C14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65040" y="1609560"/>
          <a:ext cx="8448840" cy="4199040"/>
        </p:xfrm>
        <a:graphic>
          <a:graphicData uri="http://schemas.openxmlformats.org/drawingml/2006/table">
            <a:tbl>
              <a:tblPr/>
              <a:tblGrid>
                <a:gridCol w="1081080"/>
                <a:gridCol w="1833480"/>
                <a:gridCol w="729000"/>
                <a:gridCol w="961920"/>
                <a:gridCol w="960480"/>
                <a:gridCol w="960480"/>
                <a:gridCol w="961920"/>
                <a:gridCol w="960480"/>
              </a:tblGrid>
              <a:tr h="33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needs / internal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61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rea of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nternal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Key Account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apab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umber of exp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Wor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 of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7:18:09Z</dcterms:created>
  <dc:creator>Olivier AUDINO</dc:creator>
  <dc:description/>
  <cp:keywords/>
  <dc:language>en-US</dc:language>
  <cp:lastModifiedBy>Olivier Audino</cp:lastModifiedBy>
  <dcterms:modified xsi:type="dcterms:W3CDTF">2014-03-17T22:52:00Z</dcterms:modified>
  <cp:revision>49</cp:revision>
  <dc:subject>Market Strategy</dc:subject>
  <dc:title>Stratégie Ach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