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5219700" cy="7732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A7EB-07F9-428E-BE7C-EFF659B3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B41-0EF4-4CC1-B665-8A3F0A7A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877C5-3720-4AED-93F9-1258B486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61B1E-5FB5-4DD6-8466-6E7CF042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A8045-2147-49ED-AE61-E330600F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3762F-15D1-4BE6-BDAA-8F498059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01A78-60CE-463A-BE2F-72209459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E44D9-4C86-431E-ACAC-9B6F215C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D44EF-8CD4-48E4-98C2-D559CD76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A9F22-A59C-444B-A9B6-9F35D6CF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0E47F-4698-41AA-AA7C-6F79A555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C3BD4-7315-4A26-8912-1A4DE259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981-D5F1-4060-8AE7-AD9A01A0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E751F-1036-4130-AACF-3DE04A62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F4440-DEB4-4BE9-925C-9A983BEB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949B5-A1BD-404E-8E4D-582C21D6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D5078-C5B5-4EF8-A3E2-4ED4FDA3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EAC41-BE98-4E37-9710-8C9CCAE0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58F68-97A7-4370-AE01-BDCA8980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AC259-74E2-4106-BD63-61EFFC61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6F6E9-CC43-4881-BCD9-444A6C43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D2A4E-5F02-43E9-B165-1845BA1A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029A8-D640-4952-8E0E-AF50C8AC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124-B2E7-4D01-A9D9-DF75D88F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1BAB8-E9EA-4A81-98F7-934BFC53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3CA23-CF3C-40C9-9290-8A5C95F8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705C2-642E-4071-AB57-029AC07E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E052F-6581-45CD-B6AE-2E3D44BB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95DC2-39DA-4FE9-A291-741D0100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76745-CF88-43D3-A5E6-D9F20856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DB08E-9FE6-49DF-AA51-0A424DB9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F5CCA-7448-425D-A822-FEE017AE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A08D1-223F-4C43-9AEE-C0ED9B55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54B33-A517-4FF4-B2D5-AC393CFA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CC320-B675-4E9F-94F4-32076336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32DD5-85B4-47C1-97F2-F40EA913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DAFDD-2AED-436D-A4CE-FA647610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C7D99-4F9A-463E-9AF1-D78ECBCE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6AFFB-46AB-4CAF-AD55-C2657A06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EA854-48DB-4217-9579-AAA9F82A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D0EE5-D17A-43E4-835A-2E9BACC2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D5B5A-D4CC-4103-A6FA-5FD54E31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3265A-0F03-4B9C-BE51-9727D549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DDB69-9115-46ED-9477-8FFF5503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A8A3F-C919-4E51-B285-8704E402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14D90-F6B5-41DD-8349-80E94512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3486F-6C86-4675-A274-0DEDD71A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1BF09-0111-47D3-BA2E-400690EE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C6C40-FC91-46B3-82C3-F4477109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07E-F49C-4E15-99D3-68026BD4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EDA7-BED8-4E37-A3E7-7F0A026B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AAA4-6091-48C2-91DB-7D28FB4A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ED00-0FF2-4FCD-8AA2-1E74F435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318C-0D95-460C-A7F8-F157F48D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B9E6-17AB-4AA6-A3D3-1B270613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5BD7-57FD-445B-90A0-8F1CD71D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BC34-23C3-4D6E-BBCE-16DF3BB6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C1C6-BEB1-472D-9BBC-39C753AD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701A-6758-493D-86DF-C3607D1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376D-DBBD-42B2-A4F1-872B4760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B58B-6142-43FF-9394-D6E7D32E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6F60-B58A-4BE9-84D3-DF3CC8B6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8009-E894-4F4F-B864-D782BFAE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83AF-9274-4A70-987E-2306682D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C48F-11CC-4F49-B152-BA156769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84784-3143-433C-98F3-7F44D8A4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69D-F9F9-46C3-BC5B-32E068BB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2590-6854-4133-BE2D-3EB57002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BA39-9D3D-4669-BA41-CCB315FD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4005-261E-4F3F-9AA5-1A183641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7133-42F0-488B-9591-44C1B9D3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B7D7-4841-487C-8D80-682CCB3A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7C34-53B7-4B45-A5FF-2A691A4B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46E66-64C5-4758-871A-929A6A52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5531-38D1-4EA1-B71E-76190B3B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8FE5-F08F-4D32-B166-129C59AB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BD6AB-EB74-427A-A9C0-8170721A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071-49C3-4D9A-9486-A722B8C9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9E44B-ED31-40FF-BFEE-E10AAFB7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C857C-9910-4A2E-9457-E444BC95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94E7-5138-4473-85E3-415E1907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3F1D8-2F39-4525-821A-E2D7BC25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4C5E-7A28-4F1F-A992-1C974D35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4D3E-F58A-401D-AC48-ED8A5597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3166-7985-4A03-BE8D-39EDF01F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3F91B-1BB6-4670-88FC-516E958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B3D08-DEFE-40D7-8A7D-D6317A61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B9E6-5F08-416D-8010-00B37D50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532-CA43-4303-81A8-16F49162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B0FC0-BFAA-47FD-B8A9-6E6A9179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13860-A14A-4EA5-9B99-7B9FC1FC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0223A-8C59-405C-A9B1-0CE13202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94BF-FC1F-4C4C-9C28-0A8C96E9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5E3C0-4ED7-4261-A988-33BAFDA3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0620E-2CFD-4582-91A7-DE9E5630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6EF9F-239A-44F4-B52B-164388ED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FD259-F36B-4992-870E-A2092D7B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CF2FC-9320-42BD-BF78-5DED75D1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DF2B5-57AD-4EC6-B547-E4628B02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094-AABD-4766-9520-5941AD2C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60AB1-0E1B-48F5-8C12-28549C6B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7EA35-FF92-441B-B3E2-C3F3421A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0F8DD-B1DC-4CF7-B573-A0337029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2BAC8-70D4-4CFF-B9DF-16C301E0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77641-A148-442D-A9FD-0D306B5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69F2D-9749-483B-B4B6-4EC79C57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D8211-3BFC-43F0-8091-1E78C0E7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3A3B6-5522-44EF-82E8-1B98A307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32D09-CC49-407D-AA9C-089E9E16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F5179-BC2A-48AC-8C25-EC8A2772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BDE-CC52-4ECA-BB95-EE39555F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2B8D-91FE-485E-B7D5-6BA7DE69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7F38D-B5C3-461C-8489-09DD830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31952-C275-4C43-8217-BFE953FB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A3C4C-670E-4E11-9374-CE9858D2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55C26-B9DA-45FD-A736-95083D1D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7574F-2751-4813-8090-738A1594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0AFC7-692B-4050-B10E-75A50ED5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7717B-1BD6-4BB7-BD03-572B428D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B4227-67D2-4018-A6B8-219F0E08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E4A07-14E8-4149-B396-68C1603F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F30-61CD-41F7-8104-CE31D6DC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182600" y="188640"/>
            <a:ext cx="768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6EF4E-7FD6-4122-A4C2-ABC1DC15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DCAD7-9666-443E-8C48-69D73C63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B32E5-7ED3-40DA-9346-2BF30A6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57352-0548-4AC2-92D9-6DCC92AD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186920" y="4074120"/>
            <a:ext cx="769644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8B94C-C686-40F7-AC9D-8A8E7619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30720" y="189504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869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130720" y="4074120"/>
            <a:ext cx="375552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6CDFD-6DFC-4EF4-9199-940DCAA0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78900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91080" y="189504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18692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78900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91080" y="4074120"/>
            <a:ext cx="2477880" cy="1989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9BBA1-10C1-42F6-92D6-A7BBA42D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379B2-C7B4-41A7-A474-0A53EC3B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5ADFC-B6CF-407B-8A54-A9C2DD07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F777D-A19A-453B-BB5E-6228767B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hyperlink" Target="mailto:oaudino@bme-network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F710-89F8-4DD0-A3CF-4622C684DE1B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A7AE-977E-44DE-A669-1517D1D4F2D5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8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9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0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73D5-199D-4271-885B-9F9AA380F492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1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2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3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8A3F-B371-45BD-8EE8-8C009D32B0F2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5932440" y="6324840"/>
            <a:ext cx="274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36000" tIns="82800" bIns="82800" anchor="b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Arial"/>
                <a:ea typeface="MS PGothic"/>
              </a:rPr>
              <a:t>MAY </a:t>
            </a:r>
            <a:r>
              <a:rPr b="1" lang="fr-FR" sz="1600" spc="-1" strike="noStrike">
                <a:solidFill>
                  <a:srgbClr val="e42518"/>
                </a:solidFill>
                <a:latin typeface="Arial"/>
                <a:ea typeface="MS PGothic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210F-03D0-4E88-9EFB-D5CCEEF96FB5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6AF7-359C-47B8-8463-D39453D55CF5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E8C6-1337-4846-8693-23E07EE0F3FC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87A7-182D-4A58-BE2C-6D02167A2C58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3B44-264C-44F1-B801-FFF1E008408C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9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0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1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3561-A943-49F9-AFBE-FA4F8A96FA13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ZoneTexte 7"/>
          <p:cNvSpPr/>
          <p:nvPr/>
        </p:nvSpPr>
        <p:spPr>
          <a:xfrm>
            <a:off x="3206880" y="6524640"/>
            <a:ext cx="388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Olivier Audino – </a:t>
            </a:r>
            <a:r>
              <a:rPr b="0" lang="fr-FR" sz="10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oaudino@bme-network.com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9" descr="BME-group_mini.png"/>
          <p:cNvPicPr/>
          <p:nvPr/>
        </p:nvPicPr>
        <p:blipFill>
          <a:blip r:embed="rId3"/>
          <a:stretch/>
        </p:blipFill>
        <p:spPr>
          <a:xfrm>
            <a:off x="2843280" y="6524640"/>
            <a:ext cx="344520" cy="2635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e111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e858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Third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3" marL="1562040" indent="-228600">
              <a:spcBef>
                <a:spcPts val="349"/>
              </a:spcBef>
              <a:buClr>
                <a:srgbClr val="8e85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4" marL="1981080" indent="-228600">
              <a:spcBef>
                <a:spcPts val="349"/>
              </a:spcBef>
              <a:buClr>
                <a:srgbClr val="8e85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5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  <a:p>
            <a:pPr lvl="6" marL="198108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e8581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11952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587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C646-5E3F-4876-ACF9-E2A09C3B5995}" type="slidenum">
              <a:rPr b="0" lang="en-US" sz="1000" spc="-1" strike="noStrike">
                <a:solidFill>
                  <a:srgbClr val="c00000"/>
                </a:solidFill>
                <a:latin typeface="Times New Roman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95600" y="3054240"/>
            <a:ext cx="660384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d7d74"/>
                </a:solidFill>
                <a:latin typeface="Arial"/>
              </a:rPr>
              <a:t>NOM DE LA FAMILLE D’ACHAT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693440" y="4525560"/>
            <a:ext cx="5257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d7d74"/>
                </a:solidFill>
                <a:latin typeface="Arial"/>
              </a:rPr>
              <a:t>SOUS-TITRE</a:t>
            </a:r>
            <a:endParaRPr b="1" lang="en-US" sz="1700" spc="-1" strike="noStrike">
              <a:solidFill>
                <a:srgbClr val="8e85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724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RFQ and current main products price comparisons, current suppliers and worldwide off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Benchmarks with external buyers in terms of price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ategic levers to reduce cos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58DA-269F-48B4-BB76-EC4E48377D1F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42920" y="1609560"/>
          <a:ext cx="8856720" cy="5034240"/>
        </p:xfrm>
        <a:graphic>
          <a:graphicData uri="http://schemas.openxmlformats.org/drawingml/2006/table">
            <a:tbl>
              <a:tblPr/>
              <a:tblGrid>
                <a:gridCol w="1431720"/>
                <a:gridCol w="2229120"/>
                <a:gridCol w="922320"/>
                <a:gridCol w="871560"/>
                <a:gridCol w="714240"/>
                <a:gridCol w="839880"/>
                <a:gridCol w="1023840"/>
                <a:gridCol w="824040"/>
              </a:tblGrid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levers to reduce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tential Sa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th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der for pa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Benchmark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lling mod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ontractual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upplier perform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olume reb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of disburs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s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fine reporting pro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 and standardise deliver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 billing r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dentify key suppli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view schedu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rocess for forec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Design proced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 external spend to in-house or approved supplier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rporate 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ompliance poli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mplement repor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ghlight non-panel spe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buClr>
                          <a:srgbClr val="00b05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2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Internal SWOT analysi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C30F-566F-422B-B21D-F6EC967DC996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703440" y="1785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5"/>
          <p:cNvSpPr/>
          <p:nvPr/>
        </p:nvSpPr>
        <p:spPr>
          <a:xfrm>
            <a:off x="703440" y="216684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4524480" y="1785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4524480" y="216684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81080" indent="-18108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703440" y="4186080"/>
            <a:ext cx="358920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703440" y="456732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4524480" y="4186080"/>
            <a:ext cx="3585960" cy="38124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1"/>
          <p:cNvSpPr/>
          <p:nvPr/>
        </p:nvSpPr>
        <p:spPr>
          <a:xfrm>
            <a:off x="4524480" y="456732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marL="133200" indent="-133200">
              <a:lnSpc>
                <a:spcPct val="90000"/>
              </a:lnSpc>
              <a:spcBef>
                <a:spcPts val="41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4. Targeted Strategy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Explanation of Strategy : needs, market situation and cost comparis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Risk evolution in terms of supply failure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iming number of suppliers by type and segme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9" name="Espace réservé du numéro de diapositive 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3E9E-1E56-47BA-B24A-D14A7B96C471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1200"/>
            </a:b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and not Panel suppliers, A, B, C + Area status, In/out Panel versus previous strategy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1" name="Espace réservé du numéro de diapositive 3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CEDE-DA49-4E34-8439-E0CA138B2703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27"/>
          <p:cNvSpPr/>
          <p:nvPr/>
        </p:nvSpPr>
        <p:spPr>
          <a:xfrm>
            <a:off x="2625840" y="3235320"/>
            <a:ext cx="1552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Meet Suppliers &amp; Launch Tend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9/03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8"/>
          <p:cNvSpPr/>
          <p:nvPr/>
        </p:nvSpPr>
        <p:spPr>
          <a:xfrm>
            <a:off x="4340160" y="3228840"/>
            <a:ext cx="1540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Shortlist supplier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0/04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58"/>
          <p:cNvSpPr/>
          <p:nvPr/>
        </p:nvSpPr>
        <p:spPr>
          <a:xfrm>
            <a:off x="6115680" y="2368440"/>
            <a:ext cx="16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62"/>
          <p:cNvSpPr/>
          <p:nvPr/>
        </p:nvSpPr>
        <p:spPr>
          <a:xfrm>
            <a:off x="822240" y="3240000"/>
            <a:ext cx="14637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Definit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urrent sit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193680">
              <a:lnSpc>
                <a:spcPct val="100000"/>
              </a:lnSpc>
              <a:spcBef>
                <a:spcPts val="139"/>
              </a:spcBef>
              <a:buClr>
                <a:srgbClr val="d42a15"/>
              </a:buClr>
              <a:buSzPct val="80000"/>
              <a:buFont typeface="Arial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  <a:ea typeface="ＭＳ Ｐゴシック"/>
              </a:rPr>
              <a:t>Constr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"/>
          <p:cNvSpPr/>
          <p:nvPr/>
        </p:nvSpPr>
        <p:spPr>
          <a:xfrm>
            <a:off x="684360" y="1731960"/>
            <a:ext cx="7745400" cy="268200"/>
          </a:xfrm>
          <a:prstGeom prst="rightArrow">
            <a:avLst>
              <a:gd name="adj1" fmla="val 45861"/>
              <a:gd name="adj2" fmla="val 100409"/>
            </a:avLst>
          </a:prstGeom>
          <a:solidFill>
            <a:srgbClr val="a6a6a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6"/>
          <p:cNvGrpSpPr/>
          <p:nvPr/>
        </p:nvGrpSpPr>
        <p:grpSpPr>
          <a:xfrm>
            <a:off x="4600440" y="2200320"/>
            <a:ext cx="828720" cy="449280"/>
            <a:chOff x="4600440" y="2200320"/>
            <a:chExt cx="828720" cy="449280"/>
          </a:xfrm>
        </p:grpSpPr>
        <p:sp>
          <p:nvSpPr>
            <p:cNvPr id="618" name="Rectangle 7"/>
            <p:cNvSpPr/>
            <p:nvPr/>
          </p:nvSpPr>
          <p:spPr>
            <a:xfrm>
              <a:off x="4600440" y="2610000"/>
              <a:ext cx="30924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h Hing Transformer Mfy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8"/>
            <p:cNvSpPr/>
            <p:nvPr/>
          </p:nvSpPr>
          <p:spPr>
            <a:xfrm>
              <a:off x="4600440" y="2591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elier Proteg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4600440" y="2573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ge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4600440" y="25556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mplast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1"/>
            <p:cNvSpPr/>
            <p:nvPr/>
          </p:nvSpPr>
          <p:spPr>
            <a:xfrm>
              <a:off x="4600440" y="25372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ka Elektronik LTD STI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2"/>
            <p:cNvSpPr/>
            <p:nvPr/>
          </p:nvSpPr>
          <p:spPr>
            <a:xfrm>
              <a:off x="4600440" y="2518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enzen Moso Power Suppl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3"/>
            <p:cNvSpPr/>
            <p:nvPr/>
          </p:nvSpPr>
          <p:spPr>
            <a:xfrm>
              <a:off x="4600440" y="2500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Ma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4"/>
            <p:cNvSpPr/>
            <p:nvPr/>
          </p:nvSpPr>
          <p:spPr>
            <a:xfrm>
              <a:off x="4600440" y="24829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Circui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5"/>
            <p:cNvSpPr/>
            <p:nvPr/>
          </p:nvSpPr>
          <p:spPr>
            <a:xfrm>
              <a:off x="4600440" y="24645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nwall Electric Products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6"/>
            <p:cNvSpPr/>
            <p:nvPr/>
          </p:nvSpPr>
          <p:spPr>
            <a:xfrm>
              <a:off x="4600440" y="2446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on Nang Elect. APPLI.  MFY.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7"/>
            <p:cNvSpPr/>
            <p:nvPr/>
          </p:nvSpPr>
          <p:spPr>
            <a:xfrm>
              <a:off x="4600440" y="2428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 Microelectronic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8"/>
            <p:cNvSpPr/>
            <p:nvPr/>
          </p:nvSpPr>
          <p:spPr>
            <a:xfrm>
              <a:off x="4600440" y="2410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field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9"/>
            <p:cNvSpPr/>
            <p:nvPr/>
          </p:nvSpPr>
          <p:spPr>
            <a:xfrm>
              <a:off x="4600440" y="23922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COS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0"/>
            <p:cNvSpPr/>
            <p:nvPr/>
          </p:nvSpPr>
          <p:spPr>
            <a:xfrm>
              <a:off x="4600440" y="237384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rhard Kurz GMBH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1"/>
            <p:cNvSpPr/>
            <p:nvPr/>
          </p:nvSpPr>
          <p:spPr>
            <a:xfrm>
              <a:off x="4600440" y="2355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ten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2"/>
            <p:cNvSpPr/>
            <p:nvPr/>
          </p:nvSpPr>
          <p:spPr>
            <a:xfrm>
              <a:off x="4600440" y="2337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PIQ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23"/>
            <p:cNvSpPr/>
            <p:nvPr/>
          </p:nvSpPr>
          <p:spPr>
            <a:xfrm>
              <a:off x="4600440" y="2319480"/>
              <a:ext cx="30924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tronix Franc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4"/>
            <p:cNvSpPr/>
            <p:nvPr/>
          </p:nvSpPr>
          <p:spPr>
            <a:xfrm>
              <a:off x="4600440" y="230148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3 Technology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5"/>
            <p:cNvSpPr/>
            <p:nvPr/>
          </p:nvSpPr>
          <p:spPr>
            <a:xfrm>
              <a:off x="4600440" y="228312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oupe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6"/>
            <p:cNvSpPr/>
            <p:nvPr/>
          </p:nvSpPr>
          <p:spPr>
            <a:xfrm>
              <a:off x="4600440" y="226476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S Technology Industry Park CO LTD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27"/>
            <p:cNvSpPr/>
            <p:nvPr/>
          </p:nvSpPr>
          <p:spPr>
            <a:xfrm>
              <a:off x="4600440" y="2246400"/>
              <a:ext cx="30924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l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28"/>
            <p:cNvSpPr/>
            <p:nvPr/>
          </p:nvSpPr>
          <p:spPr>
            <a:xfrm>
              <a:off x="5301360" y="2629080"/>
              <a:ext cx="1278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1 1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29"/>
            <p:cNvSpPr/>
            <p:nvPr/>
          </p:nvSpPr>
          <p:spPr>
            <a:xfrm>
              <a:off x="5155920" y="2629080"/>
              <a:ext cx="14616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0"/>
            <p:cNvSpPr/>
            <p:nvPr/>
          </p:nvSpPr>
          <p:spPr>
            <a:xfrm>
              <a:off x="5022720" y="2629080"/>
              <a:ext cx="13320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31"/>
            <p:cNvSpPr/>
            <p:nvPr/>
          </p:nvSpPr>
          <p:spPr>
            <a:xfrm>
              <a:off x="4909680" y="2629080"/>
              <a:ext cx="112680" cy="20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06 913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32"/>
            <p:cNvSpPr/>
            <p:nvPr/>
          </p:nvSpPr>
          <p:spPr>
            <a:xfrm>
              <a:off x="5301360" y="2610000"/>
              <a:ext cx="127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3"/>
            <p:cNvSpPr/>
            <p:nvPr/>
          </p:nvSpPr>
          <p:spPr>
            <a:xfrm>
              <a:off x="5155920" y="2610000"/>
              <a:ext cx="1458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34"/>
            <p:cNvSpPr/>
            <p:nvPr/>
          </p:nvSpPr>
          <p:spPr>
            <a:xfrm>
              <a:off x="5022720" y="2610000"/>
              <a:ext cx="13320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35"/>
            <p:cNvSpPr/>
            <p:nvPr/>
          </p:nvSpPr>
          <p:spPr>
            <a:xfrm>
              <a:off x="4909680" y="2610000"/>
              <a:ext cx="112680" cy="19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36"/>
            <p:cNvSpPr/>
            <p:nvPr/>
          </p:nvSpPr>
          <p:spPr>
            <a:xfrm>
              <a:off x="5301360" y="2591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37"/>
            <p:cNvSpPr/>
            <p:nvPr/>
          </p:nvSpPr>
          <p:spPr>
            <a:xfrm>
              <a:off x="5155920" y="2591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38"/>
            <p:cNvSpPr/>
            <p:nvPr/>
          </p:nvSpPr>
          <p:spPr>
            <a:xfrm>
              <a:off x="5022720" y="2591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39"/>
            <p:cNvSpPr/>
            <p:nvPr/>
          </p:nvSpPr>
          <p:spPr>
            <a:xfrm>
              <a:off x="4909680" y="2591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40"/>
            <p:cNvSpPr/>
            <p:nvPr/>
          </p:nvSpPr>
          <p:spPr>
            <a:xfrm>
              <a:off x="5301360" y="2573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41"/>
            <p:cNvSpPr/>
            <p:nvPr/>
          </p:nvSpPr>
          <p:spPr>
            <a:xfrm>
              <a:off x="5155920" y="2573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42"/>
            <p:cNvSpPr/>
            <p:nvPr/>
          </p:nvSpPr>
          <p:spPr>
            <a:xfrm>
              <a:off x="5022720" y="2573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43"/>
            <p:cNvSpPr/>
            <p:nvPr/>
          </p:nvSpPr>
          <p:spPr>
            <a:xfrm>
              <a:off x="4909680" y="2573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44"/>
            <p:cNvSpPr/>
            <p:nvPr/>
          </p:nvSpPr>
          <p:spPr>
            <a:xfrm>
              <a:off x="5301360" y="25556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45"/>
            <p:cNvSpPr/>
            <p:nvPr/>
          </p:nvSpPr>
          <p:spPr>
            <a:xfrm>
              <a:off x="5155920" y="25556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46"/>
            <p:cNvSpPr/>
            <p:nvPr/>
          </p:nvSpPr>
          <p:spPr>
            <a:xfrm>
              <a:off x="5022720" y="25556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47"/>
            <p:cNvSpPr/>
            <p:nvPr/>
          </p:nvSpPr>
          <p:spPr>
            <a:xfrm>
              <a:off x="4909680" y="25556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48"/>
            <p:cNvSpPr/>
            <p:nvPr/>
          </p:nvSpPr>
          <p:spPr>
            <a:xfrm>
              <a:off x="5301360" y="25372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49"/>
            <p:cNvSpPr/>
            <p:nvPr/>
          </p:nvSpPr>
          <p:spPr>
            <a:xfrm>
              <a:off x="5155920" y="25372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50"/>
            <p:cNvSpPr/>
            <p:nvPr/>
          </p:nvSpPr>
          <p:spPr>
            <a:xfrm>
              <a:off x="5022720" y="25372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51"/>
            <p:cNvSpPr/>
            <p:nvPr/>
          </p:nvSpPr>
          <p:spPr>
            <a:xfrm>
              <a:off x="4909680" y="25372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52"/>
            <p:cNvSpPr/>
            <p:nvPr/>
          </p:nvSpPr>
          <p:spPr>
            <a:xfrm>
              <a:off x="5301360" y="2518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 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53"/>
            <p:cNvSpPr/>
            <p:nvPr/>
          </p:nvSpPr>
          <p:spPr>
            <a:xfrm>
              <a:off x="5155920" y="2518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54"/>
            <p:cNvSpPr/>
            <p:nvPr/>
          </p:nvSpPr>
          <p:spPr>
            <a:xfrm>
              <a:off x="5022720" y="2518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55"/>
            <p:cNvSpPr/>
            <p:nvPr/>
          </p:nvSpPr>
          <p:spPr>
            <a:xfrm>
              <a:off x="4909680" y="2518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739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56"/>
            <p:cNvSpPr/>
            <p:nvPr/>
          </p:nvSpPr>
          <p:spPr>
            <a:xfrm>
              <a:off x="5301360" y="2500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7"/>
            <p:cNvSpPr/>
            <p:nvPr/>
          </p:nvSpPr>
          <p:spPr>
            <a:xfrm>
              <a:off x="5155920" y="2500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58"/>
            <p:cNvSpPr/>
            <p:nvPr/>
          </p:nvSpPr>
          <p:spPr>
            <a:xfrm>
              <a:off x="5022720" y="2500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59"/>
            <p:cNvSpPr/>
            <p:nvPr/>
          </p:nvSpPr>
          <p:spPr>
            <a:xfrm>
              <a:off x="4909680" y="2500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60"/>
            <p:cNvSpPr/>
            <p:nvPr/>
          </p:nvSpPr>
          <p:spPr>
            <a:xfrm>
              <a:off x="5301360" y="24829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1"/>
            <p:cNvSpPr/>
            <p:nvPr/>
          </p:nvSpPr>
          <p:spPr>
            <a:xfrm>
              <a:off x="5155920" y="24829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62"/>
            <p:cNvSpPr/>
            <p:nvPr/>
          </p:nvSpPr>
          <p:spPr>
            <a:xfrm>
              <a:off x="5022720" y="24829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3"/>
            <p:cNvSpPr/>
            <p:nvPr/>
          </p:nvSpPr>
          <p:spPr>
            <a:xfrm>
              <a:off x="4909680" y="24829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11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4"/>
            <p:cNvSpPr/>
            <p:nvPr/>
          </p:nvSpPr>
          <p:spPr>
            <a:xfrm>
              <a:off x="5301360" y="24645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65"/>
            <p:cNvSpPr/>
            <p:nvPr/>
          </p:nvSpPr>
          <p:spPr>
            <a:xfrm>
              <a:off x="5155920" y="24645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66"/>
            <p:cNvSpPr/>
            <p:nvPr/>
          </p:nvSpPr>
          <p:spPr>
            <a:xfrm>
              <a:off x="5022720" y="24645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67"/>
            <p:cNvSpPr/>
            <p:nvPr/>
          </p:nvSpPr>
          <p:spPr>
            <a:xfrm>
              <a:off x="4909680" y="24645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68"/>
            <p:cNvSpPr/>
            <p:nvPr/>
          </p:nvSpPr>
          <p:spPr>
            <a:xfrm>
              <a:off x="5301360" y="2446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69"/>
            <p:cNvSpPr/>
            <p:nvPr/>
          </p:nvSpPr>
          <p:spPr>
            <a:xfrm>
              <a:off x="5155920" y="2446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70"/>
            <p:cNvSpPr/>
            <p:nvPr/>
          </p:nvSpPr>
          <p:spPr>
            <a:xfrm>
              <a:off x="5022720" y="2446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71"/>
            <p:cNvSpPr/>
            <p:nvPr/>
          </p:nvSpPr>
          <p:spPr>
            <a:xfrm>
              <a:off x="4909680" y="2446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72"/>
            <p:cNvSpPr/>
            <p:nvPr/>
          </p:nvSpPr>
          <p:spPr>
            <a:xfrm>
              <a:off x="5301360" y="2428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73"/>
            <p:cNvSpPr/>
            <p:nvPr/>
          </p:nvSpPr>
          <p:spPr>
            <a:xfrm>
              <a:off x="5155920" y="2428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74"/>
            <p:cNvSpPr/>
            <p:nvPr/>
          </p:nvSpPr>
          <p:spPr>
            <a:xfrm>
              <a:off x="5022720" y="2428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75"/>
            <p:cNvSpPr/>
            <p:nvPr/>
          </p:nvSpPr>
          <p:spPr>
            <a:xfrm>
              <a:off x="4909680" y="2428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76"/>
            <p:cNvSpPr/>
            <p:nvPr/>
          </p:nvSpPr>
          <p:spPr>
            <a:xfrm>
              <a:off x="5301360" y="2410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77"/>
            <p:cNvSpPr/>
            <p:nvPr/>
          </p:nvSpPr>
          <p:spPr>
            <a:xfrm>
              <a:off x="5155920" y="2410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78"/>
            <p:cNvSpPr/>
            <p:nvPr/>
          </p:nvSpPr>
          <p:spPr>
            <a:xfrm>
              <a:off x="5022720" y="2410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79"/>
            <p:cNvSpPr/>
            <p:nvPr/>
          </p:nvSpPr>
          <p:spPr>
            <a:xfrm>
              <a:off x="4909680" y="2410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 7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80"/>
            <p:cNvSpPr/>
            <p:nvPr/>
          </p:nvSpPr>
          <p:spPr>
            <a:xfrm>
              <a:off x="5301360" y="23922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81"/>
            <p:cNvSpPr/>
            <p:nvPr/>
          </p:nvSpPr>
          <p:spPr>
            <a:xfrm>
              <a:off x="5155920" y="23922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82"/>
            <p:cNvSpPr/>
            <p:nvPr/>
          </p:nvSpPr>
          <p:spPr>
            <a:xfrm>
              <a:off x="5022720" y="23922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0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83"/>
            <p:cNvSpPr/>
            <p:nvPr/>
          </p:nvSpPr>
          <p:spPr>
            <a:xfrm>
              <a:off x="4909680" y="23922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 75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84"/>
            <p:cNvSpPr/>
            <p:nvPr/>
          </p:nvSpPr>
          <p:spPr>
            <a:xfrm>
              <a:off x="5301360" y="237384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5"/>
            <p:cNvSpPr/>
            <p:nvPr/>
          </p:nvSpPr>
          <p:spPr>
            <a:xfrm>
              <a:off x="5155920" y="237384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86"/>
            <p:cNvSpPr/>
            <p:nvPr/>
          </p:nvSpPr>
          <p:spPr>
            <a:xfrm>
              <a:off x="5022720" y="237384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87"/>
            <p:cNvSpPr/>
            <p:nvPr/>
          </p:nvSpPr>
          <p:spPr>
            <a:xfrm>
              <a:off x="4909680" y="237384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88"/>
            <p:cNvSpPr/>
            <p:nvPr/>
          </p:nvSpPr>
          <p:spPr>
            <a:xfrm>
              <a:off x="5301360" y="2355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89"/>
            <p:cNvSpPr/>
            <p:nvPr/>
          </p:nvSpPr>
          <p:spPr>
            <a:xfrm>
              <a:off x="5155920" y="2355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90"/>
            <p:cNvSpPr/>
            <p:nvPr/>
          </p:nvSpPr>
          <p:spPr>
            <a:xfrm>
              <a:off x="5022720" y="2355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91"/>
            <p:cNvSpPr/>
            <p:nvPr/>
          </p:nvSpPr>
          <p:spPr>
            <a:xfrm>
              <a:off x="4909680" y="2355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92"/>
            <p:cNvSpPr/>
            <p:nvPr/>
          </p:nvSpPr>
          <p:spPr>
            <a:xfrm>
              <a:off x="5301360" y="2337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93"/>
            <p:cNvSpPr/>
            <p:nvPr/>
          </p:nvSpPr>
          <p:spPr>
            <a:xfrm>
              <a:off x="5155920" y="2337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94"/>
            <p:cNvSpPr/>
            <p:nvPr/>
          </p:nvSpPr>
          <p:spPr>
            <a:xfrm>
              <a:off x="5022720" y="2337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95"/>
            <p:cNvSpPr/>
            <p:nvPr/>
          </p:nvSpPr>
          <p:spPr>
            <a:xfrm>
              <a:off x="4909680" y="2337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6 14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96"/>
            <p:cNvSpPr/>
            <p:nvPr/>
          </p:nvSpPr>
          <p:spPr>
            <a:xfrm>
              <a:off x="5301360" y="2319480"/>
              <a:ext cx="127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97"/>
            <p:cNvSpPr/>
            <p:nvPr/>
          </p:nvSpPr>
          <p:spPr>
            <a:xfrm>
              <a:off x="5155920" y="2319480"/>
              <a:ext cx="1458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98"/>
            <p:cNvSpPr/>
            <p:nvPr/>
          </p:nvSpPr>
          <p:spPr>
            <a:xfrm>
              <a:off x="5022720" y="2319480"/>
              <a:ext cx="13320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4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99"/>
            <p:cNvSpPr/>
            <p:nvPr/>
          </p:nvSpPr>
          <p:spPr>
            <a:xfrm>
              <a:off x="4909680" y="2319480"/>
              <a:ext cx="112680" cy="17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3 194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00"/>
            <p:cNvSpPr/>
            <p:nvPr/>
          </p:nvSpPr>
          <p:spPr>
            <a:xfrm>
              <a:off x="5301360" y="230148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01"/>
            <p:cNvSpPr/>
            <p:nvPr/>
          </p:nvSpPr>
          <p:spPr>
            <a:xfrm>
              <a:off x="5155920" y="230148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8 000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2"/>
            <p:cNvSpPr/>
            <p:nvPr/>
          </p:nvSpPr>
          <p:spPr>
            <a:xfrm>
              <a:off x="5022720" y="230148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,2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03"/>
            <p:cNvSpPr/>
            <p:nvPr/>
          </p:nvSpPr>
          <p:spPr>
            <a:xfrm>
              <a:off x="4909680" y="230148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4 185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04"/>
            <p:cNvSpPr/>
            <p:nvPr/>
          </p:nvSpPr>
          <p:spPr>
            <a:xfrm>
              <a:off x="5301360" y="228312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 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05"/>
            <p:cNvSpPr/>
            <p:nvPr/>
          </p:nvSpPr>
          <p:spPr>
            <a:xfrm>
              <a:off x="5155920" y="228312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06"/>
            <p:cNvSpPr/>
            <p:nvPr/>
          </p:nvSpPr>
          <p:spPr>
            <a:xfrm>
              <a:off x="5022720" y="228312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7"/>
            <p:cNvSpPr/>
            <p:nvPr/>
          </p:nvSpPr>
          <p:spPr>
            <a:xfrm>
              <a:off x="4909680" y="228312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08"/>
            <p:cNvSpPr/>
            <p:nvPr/>
          </p:nvSpPr>
          <p:spPr>
            <a:xfrm>
              <a:off x="5301360" y="226476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09"/>
            <p:cNvSpPr/>
            <p:nvPr/>
          </p:nvSpPr>
          <p:spPr>
            <a:xfrm>
              <a:off x="5155920" y="226476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10"/>
            <p:cNvSpPr/>
            <p:nvPr/>
          </p:nvSpPr>
          <p:spPr>
            <a:xfrm>
              <a:off x="5022720" y="226476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,8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11"/>
            <p:cNvSpPr/>
            <p:nvPr/>
          </p:nvSpPr>
          <p:spPr>
            <a:xfrm>
              <a:off x="4909680" y="226476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7 891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12"/>
            <p:cNvSpPr/>
            <p:nvPr/>
          </p:nvSpPr>
          <p:spPr>
            <a:xfrm>
              <a:off x="5301360" y="2246400"/>
              <a:ext cx="127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13"/>
            <p:cNvSpPr/>
            <p:nvPr/>
          </p:nvSpPr>
          <p:spPr>
            <a:xfrm>
              <a:off x="5155920" y="2246400"/>
              <a:ext cx="1458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4"/>
            <p:cNvSpPr/>
            <p:nvPr/>
          </p:nvSpPr>
          <p:spPr>
            <a:xfrm>
              <a:off x="5022720" y="2246400"/>
              <a:ext cx="13320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6%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5"/>
            <p:cNvSpPr/>
            <p:nvPr/>
          </p:nvSpPr>
          <p:spPr>
            <a:xfrm>
              <a:off x="4909680" y="2246400"/>
              <a:ext cx="112680" cy="18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2 106 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6"/>
            <p:cNvSpPr/>
            <p:nvPr/>
          </p:nvSpPr>
          <p:spPr>
            <a:xfrm>
              <a:off x="5301360" y="2200320"/>
              <a:ext cx="127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7"/>
            <p:cNvSpPr/>
            <p:nvPr/>
          </p:nvSpPr>
          <p:spPr>
            <a:xfrm>
              <a:off x="5155920" y="2200320"/>
              <a:ext cx="1458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cluded in budge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18"/>
            <p:cNvSpPr/>
            <p:nvPr/>
          </p:nvSpPr>
          <p:spPr>
            <a:xfrm>
              <a:off x="5022720" y="2200320"/>
              <a:ext cx="133200" cy="46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vings % vs TO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9"/>
            <p:cNvSpPr/>
            <p:nvPr/>
          </p:nvSpPr>
          <p:spPr>
            <a:xfrm>
              <a:off x="4909680" y="2200320"/>
              <a:ext cx="11268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savings Electronic (€)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20"/>
            <p:cNvSpPr/>
            <p:nvPr/>
          </p:nvSpPr>
          <p:spPr>
            <a:xfrm>
              <a:off x="4600440" y="2200320"/>
              <a:ext cx="309240" cy="46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2" name="Picture 123" descr="MCj04395970000[1]"/>
          <p:cNvPicPr/>
          <p:nvPr/>
        </p:nvPicPr>
        <p:blipFill>
          <a:blip r:embed="rId1"/>
          <a:stretch/>
        </p:blipFill>
        <p:spPr>
          <a:xfrm>
            <a:off x="3170160" y="2117880"/>
            <a:ext cx="506520" cy="76356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124"/>
          <p:cNvSpPr/>
          <p:nvPr/>
        </p:nvSpPr>
        <p:spPr>
          <a:xfrm>
            <a:off x="2241720" y="2027160"/>
            <a:ext cx="50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r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25"/>
          <p:cNvSpPr/>
          <p:nvPr/>
        </p:nvSpPr>
        <p:spPr>
          <a:xfrm>
            <a:off x="3947040" y="2027160"/>
            <a:ext cx="4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Apr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6"/>
          <p:cNvSpPr/>
          <p:nvPr/>
        </p:nvSpPr>
        <p:spPr>
          <a:xfrm>
            <a:off x="5603400" y="2027160"/>
            <a:ext cx="35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M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29"/>
          <p:cNvGrpSpPr/>
          <p:nvPr/>
        </p:nvGrpSpPr>
        <p:grpSpPr>
          <a:xfrm>
            <a:off x="1298520" y="2206800"/>
            <a:ext cx="827280" cy="885600"/>
            <a:chOff x="1298520" y="2206800"/>
            <a:chExt cx="827280" cy="885600"/>
          </a:xfrm>
        </p:grpSpPr>
        <p:grpSp>
          <p:nvGrpSpPr>
            <p:cNvPr id="737" name="Group 130"/>
            <p:cNvGrpSpPr/>
            <p:nvPr/>
          </p:nvGrpSpPr>
          <p:grpSpPr>
            <a:xfrm>
              <a:off x="1298520" y="2206800"/>
              <a:ext cx="827280" cy="450720"/>
              <a:chOff x="1298520" y="2206800"/>
              <a:chExt cx="827280" cy="450720"/>
            </a:xfrm>
          </p:grpSpPr>
          <p:sp>
            <p:nvSpPr>
              <p:cNvPr id="738" name="Freeform 131"/>
              <p:cNvSpPr/>
              <p:nvPr/>
            </p:nvSpPr>
            <p:spPr>
              <a:xfrm>
                <a:off x="1298520" y="220680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50720"/>
                  <a:gd name="textAreaBottom" fmla="*/ 45108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32"/>
              <p:cNvSpPr/>
              <p:nvPr/>
            </p:nvSpPr>
            <p:spPr>
              <a:xfrm>
                <a:off x="1452600" y="222012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7040"/>
                  <a:gd name="textAreaBottom" fmla="*/ 43740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33"/>
              <p:cNvSpPr/>
              <p:nvPr/>
            </p:nvSpPr>
            <p:spPr>
              <a:xfrm>
                <a:off x="1606680" y="223020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34"/>
              <p:cNvSpPr/>
              <p:nvPr/>
            </p:nvSpPr>
            <p:spPr>
              <a:xfrm>
                <a:off x="1764000" y="223020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35"/>
              <p:cNvSpPr/>
              <p:nvPr/>
            </p:nvSpPr>
            <p:spPr>
              <a:xfrm>
                <a:off x="1832400" y="222264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420840"/>
                  <a:gd name="textAreaBottom" fmla="*/ 42120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Group 136"/>
            <p:cNvGrpSpPr/>
            <p:nvPr/>
          </p:nvGrpSpPr>
          <p:grpSpPr>
            <a:xfrm>
              <a:off x="1298520" y="2641680"/>
              <a:ext cx="827280" cy="450720"/>
              <a:chOff x="1298520" y="2641680"/>
              <a:chExt cx="827280" cy="450720"/>
            </a:xfrm>
          </p:grpSpPr>
          <p:sp>
            <p:nvSpPr>
              <p:cNvPr id="744" name="Freeform 137"/>
              <p:cNvSpPr/>
              <p:nvPr/>
            </p:nvSpPr>
            <p:spPr>
              <a:xfrm flipV="1">
                <a:off x="1298520" y="2641680"/>
                <a:ext cx="154080" cy="4507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50720"/>
                  <a:gd name="textAreaBottom" fmla="*/ 451440 h 450720"/>
                </a:gdLst>
                <a:ahLst/>
                <a:rect l="textAreaLeft" t="textAreaTop" r="textAreaRight" b="textAreaBottom"/>
                <a:pathLst>
                  <a:path w="292" h="722">
                    <a:moveTo>
                      <a:pt x="292" y="244"/>
                    </a:moveTo>
                    <a:lnTo>
                      <a:pt x="292" y="554"/>
                    </a:lnTo>
                    <a:lnTo>
                      <a:pt x="248" y="554"/>
                    </a:lnTo>
                    <a:lnTo>
                      <a:pt x="243" y="695"/>
                    </a:lnTo>
                    <a:lnTo>
                      <a:pt x="221" y="695"/>
                    </a:lnTo>
                    <a:lnTo>
                      <a:pt x="221" y="554"/>
                    </a:lnTo>
                    <a:lnTo>
                      <a:pt x="167" y="554"/>
                    </a:lnTo>
                    <a:lnTo>
                      <a:pt x="174" y="570"/>
                    </a:lnTo>
                    <a:lnTo>
                      <a:pt x="174" y="580"/>
                    </a:lnTo>
                    <a:lnTo>
                      <a:pt x="162" y="597"/>
                    </a:lnTo>
                    <a:lnTo>
                      <a:pt x="162" y="607"/>
                    </a:lnTo>
                    <a:lnTo>
                      <a:pt x="174" y="607"/>
                    </a:lnTo>
                    <a:lnTo>
                      <a:pt x="162" y="705"/>
                    </a:lnTo>
                    <a:lnTo>
                      <a:pt x="140" y="705"/>
                    </a:lnTo>
                    <a:lnTo>
                      <a:pt x="130" y="607"/>
                    </a:lnTo>
                    <a:lnTo>
                      <a:pt x="140" y="607"/>
                    </a:lnTo>
                    <a:lnTo>
                      <a:pt x="140" y="597"/>
                    </a:lnTo>
                    <a:lnTo>
                      <a:pt x="130" y="580"/>
                    </a:lnTo>
                    <a:lnTo>
                      <a:pt x="130" y="570"/>
                    </a:lnTo>
                    <a:lnTo>
                      <a:pt x="135" y="554"/>
                    </a:lnTo>
                    <a:lnTo>
                      <a:pt x="103" y="554"/>
                    </a:lnTo>
                    <a:lnTo>
                      <a:pt x="98" y="722"/>
                    </a:lnTo>
                    <a:lnTo>
                      <a:pt x="76" y="722"/>
                    </a:lnTo>
                    <a:lnTo>
                      <a:pt x="49" y="347"/>
                    </a:lnTo>
                    <a:lnTo>
                      <a:pt x="27" y="347"/>
                    </a:lnTo>
                    <a:lnTo>
                      <a:pt x="27" y="331"/>
                    </a:lnTo>
                    <a:lnTo>
                      <a:pt x="22" y="331"/>
                    </a:lnTo>
                    <a:lnTo>
                      <a:pt x="17" y="326"/>
                    </a:lnTo>
                    <a:lnTo>
                      <a:pt x="17" y="320"/>
                    </a:lnTo>
                    <a:lnTo>
                      <a:pt x="10" y="304"/>
                    </a:lnTo>
                    <a:lnTo>
                      <a:pt x="10" y="293"/>
                    </a:lnTo>
                    <a:lnTo>
                      <a:pt x="0" y="293"/>
                    </a:lnTo>
                    <a:lnTo>
                      <a:pt x="0" y="271"/>
                    </a:lnTo>
                    <a:lnTo>
                      <a:pt x="37" y="271"/>
                    </a:lnTo>
                    <a:lnTo>
                      <a:pt x="32" y="227"/>
                    </a:lnTo>
                    <a:lnTo>
                      <a:pt x="32" y="222"/>
                    </a:lnTo>
                    <a:lnTo>
                      <a:pt x="37" y="222"/>
                    </a:lnTo>
                    <a:lnTo>
                      <a:pt x="44" y="217"/>
                    </a:lnTo>
                    <a:lnTo>
                      <a:pt x="93" y="200"/>
                    </a:lnTo>
                    <a:lnTo>
                      <a:pt x="113" y="163"/>
                    </a:lnTo>
                    <a:lnTo>
                      <a:pt x="135" y="136"/>
                    </a:lnTo>
                    <a:lnTo>
                      <a:pt x="140" y="119"/>
                    </a:lnTo>
                    <a:lnTo>
                      <a:pt x="152" y="119"/>
                    </a:lnTo>
                    <a:lnTo>
                      <a:pt x="152" y="97"/>
                    </a:lnTo>
                    <a:lnTo>
                      <a:pt x="147" y="92"/>
                    </a:lnTo>
                    <a:lnTo>
                      <a:pt x="140" y="87"/>
                    </a:lnTo>
                    <a:lnTo>
                      <a:pt x="140" y="76"/>
                    </a:lnTo>
                    <a:lnTo>
                      <a:pt x="130" y="59"/>
                    </a:lnTo>
                    <a:lnTo>
                      <a:pt x="130" y="44"/>
                    </a:lnTo>
                    <a:lnTo>
                      <a:pt x="167" y="0"/>
                    </a:lnTo>
                    <a:lnTo>
                      <a:pt x="228" y="0"/>
                    </a:lnTo>
                    <a:lnTo>
                      <a:pt x="243" y="5"/>
                    </a:lnTo>
                    <a:lnTo>
                      <a:pt x="260" y="17"/>
                    </a:lnTo>
                    <a:lnTo>
                      <a:pt x="260" y="22"/>
                    </a:lnTo>
                    <a:lnTo>
                      <a:pt x="260" y="32"/>
                    </a:lnTo>
                    <a:lnTo>
                      <a:pt x="255" y="32"/>
                    </a:lnTo>
                    <a:lnTo>
                      <a:pt x="248" y="39"/>
                    </a:lnTo>
                    <a:lnTo>
                      <a:pt x="255" y="59"/>
                    </a:lnTo>
                    <a:lnTo>
                      <a:pt x="255" y="66"/>
                    </a:lnTo>
                    <a:lnTo>
                      <a:pt x="248" y="71"/>
                    </a:lnTo>
                    <a:lnTo>
                      <a:pt x="270" y="92"/>
                    </a:lnTo>
                    <a:lnTo>
                      <a:pt x="260" y="97"/>
                    </a:lnTo>
                    <a:lnTo>
                      <a:pt x="265" y="103"/>
                    </a:lnTo>
                    <a:lnTo>
                      <a:pt x="260" y="109"/>
                    </a:lnTo>
                    <a:lnTo>
                      <a:pt x="265" y="114"/>
                    </a:lnTo>
                    <a:lnTo>
                      <a:pt x="265" y="119"/>
                    </a:lnTo>
                    <a:lnTo>
                      <a:pt x="260" y="119"/>
                    </a:lnTo>
                    <a:lnTo>
                      <a:pt x="265" y="136"/>
                    </a:lnTo>
                    <a:lnTo>
                      <a:pt x="255" y="141"/>
                    </a:lnTo>
                    <a:lnTo>
                      <a:pt x="228" y="141"/>
                    </a:lnTo>
                    <a:lnTo>
                      <a:pt x="221" y="151"/>
                    </a:lnTo>
                    <a:lnTo>
                      <a:pt x="265" y="185"/>
                    </a:lnTo>
                    <a:lnTo>
                      <a:pt x="292" y="2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38"/>
              <p:cNvSpPr/>
              <p:nvPr/>
            </p:nvSpPr>
            <p:spPr>
              <a:xfrm flipV="1">
                <a:off x="1452600" y="2642040"/>
                <a:ext cx="154080" cy="43704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360 h 437040"/>
                  <a:gd name="textAreaBottom" fmla="*/ 437760 h 437040"/>
                </a:gdLst>
                <a:ahLst/>
                <a:rect l="textAreaLeft" t="textAreaTop" r="textAreaRight" b="textAreaBottom"/>
                <a:pathLst>
                  <a:path w="292" h="700">
                    <a:moveTo>
                      <a:pt x="0" y="222"/>
                    </a:moveTo>
                    <a:lnTo>
                      <a:pt x="49" y="119"/>
                    </a:lnTo>
                    <a:lnTo>
                      <a:pt x="81" y="114"/>
                    </a:lnTo>
                    <a:lnTo>
                      <a:pt x="108" y="114"/>
                    </a:lnTo>
                    <a:lnTo>
                      <a:pt x="113" y="107"/>
                    </a:lnTo>
                    <a:lnTo>
                      <a:pt x="120" y="102"/>
                    </a:lnTo>
                    <a:lnTo>
                      <a:pt x="130" y="102"/>
                    </a:lnTo>
                    <a:lnTo>
                      <a:pt x="147" y="102"/>
                    </a:lnTo>
                    <a:lnTo>
                      <a:pt x="157" y="97"/>
                    </a:lnTo>
                    <a:lnTo>
                      <a:pt x="152" y="81"/>
                    </a:lnTo>
                    <a:lnTo>
                      <a:pt x="152" y="32"/>
                    </a:lnTo>
                    <a:lnTo>
                      <a:pt x="162" y="17"/>
                    </a:lnTo>
                    <a:lnTo>
                      <a:pt x="179" y="5"/>
                    </a:lnTo>
                    <a:lnTo>
                      <a:pt x="206" y="0"/>
                    </a:lnTo>
                    <a:lnTo>
                      <a:pt x="233" y="5"/>
                    </a:lnTo>
                    <a:lnTo>
                      <a:pt x="265" y="17"/>
                    </a:lnTo>
                    <a:lnTo>
                      <a:pt x="260" y="32"/>
                    </a:lnTo>
                    <a:lnTo>
                      <a:pt x="270" y="49"/>
                    </a:lnTo>
                    <a:lnTo>
                      <a:pt x="265" y="70"/>
                    </a:lnTo>
                    <a:lnTo>
                      <a:pt x="276" y="87"/>
                    </a:lnTo>
                    <a:lnTo>
                      <a:pt x="276" y="92"/>
                    </a:lnTo>
                    <a:lnTo>
                      <a:pt x="265" y="97"/>
                    </a:lnTo>
                    <a:lnTo>
                      <a:pt x="260" y="97"/>
                    </a:lnTo>
                    <a:lnTo>
                      <a:pt x="260" y="114"/>
                    </a:lnTo>
                    <a:lnTo>
                      <a:pt x="260" y="119"/>
                    </a:lnTo>
                    <a:lnTo>
                      <a:pt x="222" y="124"/>
                    </a:lnTo>
                    <a:lnTo>
                      <a:pt x="276" y="141"/>
                    </a:lnTo>
                    <a:lnTo>
                      <a:pt x="281" y="151"/>
                    </a:lnTo>
                    <a:lnTo>
                      <a:pt x="276" y="249"/>
                    </a:lnTo>
                    <a:lnTo>
                      <a:pt x="292" y="249"/>
                    </a:lnTo>
                    <a:lnTo>
                      <a:pt x="292" y="532"/>
                    </a:lnTo>
                    <a:lnTo>
                      <a:pt x="281" y="532"/>
                    </a:lnTo>
                    <a:lnTo>
                      <a:pt x="260" y="515"/>
                    </a:lnTo>
                    <a:lnTo>
                      <a:pt x="254" y="575"/>
                    </a:lnTo>
                    <a:lnTo>
                      <a:pt x="243" y="575"/>
                    </a:lnTo>
                    <a:lnTo>
                      <a:pt x="238" y="575"/>
                    </a:lnTo>
                    <a:lnTo>
                      <a:pt x="238" y="619"/>
                    </a:lnTo>
                    <a:lnTo>
                      <a:pt x="249" y="634"/>
                    </a:lnTo>
                    <a:lnTo>
                      <a:pt x="265" y="641"/>
                    </a:lnTo>
                    <a:lnTo>
                      <a:pt x="281" y="651"/>
                    </a:lnTo>
                    <a:lnTo>
                      <a:pt x="287" y="668"/>
                    </a:lnTo>
                    <a:lnTo>
                      <a:pt x="173" y="668"/>
                    </a:lnTo>
                    <a:lnTo>
                      <a:pt x="173" y="478"/>
                    </a:lnTo>
                    <a:lnTo>
                      <a:pt x="157" y="488"/>
                    </a:lnTo>
                    <a:lnTo>
                      <a:pt x="157" y="673"/>
                    </a:lnTo>
                    <a:lnTo>
                      <a:pt x="140" y="673"/>
                    </a:lnTo>
                    <a:lnTo>
                      <a:pt x="130" y="521"/>
                    </a:lnTo>
                    <a:lnTo>
                      <a:pt x="113" y="542"/>
                    </a:lnTo>
                    <a:lnTo>
                      <a:pt x="108" y="558"/>
                    </a:lnTo>
                    <a:lnTo>
                      <a:pt x="103" y="575"/>
                    </a:lnTo>
                    <a:lnTo>
                      <a:pt x="86" y="575"/>
                    </a:lnTo>
                    <a:lnTo>
                      <a:pt x="86" y="602"/>
                    </a:lnTo>
                    <a:lnTo>
                      <a:pt x="86" y="612"/>
                    </a:lnTo>
                    <a:lnTo>
                      <a:pt x="86" y="619"/>
                    </a:lnTo>
                    <a:lnTo>
                      <a:pt x="98" y="619"/>
                    </a:lnTo>
                    <a:lnTo>
                      <a:pt x="125" y="634"/>
                    </a:lnTo>
                    <a:lnTo>
                      <a:pt x="125" y="651"/>
                    </a:lnTo>
                    <a:lnTo>
                      <a:pt x="59" y="651"/>
                    </a:lnTo>
                    <a:lnTo>
                      <a:pt x="22" y="612"/>
                    </a:lnTo>
                    <a:lnTo>
                      <a:pt x="22" y="700"/>
                    </a:lnTo>
                    <a:lnTo>
                      <a:pt x="0" y="700"/>
                    </a:lnTo>
                    <a:lnTo>
                      <a:pt x="0" y="461"/>
                    </a:lnTo>
                    <a:lnTo>
                      <a:pt x="0" y="2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39"/>
              <p:cNvSpPr/>
              <p:nvPr/>
            </p:nvSpPr>
            <p:spPr>
              <a:xfrm flipV="1">
                <a:off x="1606680" y="2642040"/>
                <a:ext cx="165600" cy="426960"/>
              </a:xfrm>
              <a:custGeom>
                <a:avLst/>
                <a:gdLst>
                  <a:gd name="textAreaLeft" fmla="*/ 0 w 165600"/>
                  <a:gd name="textAreaRight" fmla="*/ 165960 w 165600"/>
                  <a:gd name="textAreaTop" fmla="*/ 360 h 426960"/>
                  <a:gd name="textAreaBottom" fmla="*/ 427680 h 426960"/>
                </a:gdLst>
                <a:ahLst/>
                <a:rect l="textAreaLeft" t="textAreaTop" r="textAreaRight" b="textAreaBottom"/>
                <a:pathLst>
                  <a:path w="313" h="683">
                    <a:moveTo>
                      <a:pt x="0" y="515"/>
                    </a:moveTo>
                    <a:lnTo>
                      <a:pt x="11" y="515"/>
                    </a:lnTo>
                    <a:lnTo>
                      <a:pt x="11" y="683"/>
                    </a:lnTo>
                    <a:lnTo>
                      <a:pt x="22" y="683"/>
                    </a:lnTo>
                    <a:lnTo>
                      <a:pt x="27" y="515"/>
                    </a:lnTo>
                    <a:lnTo>
                      <a:pt x="38" y="515"/>
                    </a:lnTo>
                    <a:lnTo>
                      <a:pt x="43" y="651"/>
                    </a:lnTo>
                    <a:lnTo>
                      <a:pt x="54" y="651"/>
                    </a:lnTo>
                    <a:lnTo>
                      <a:pt x="60" y="515"/>
                    </a:lnTo>
                    <a:lnTo>
                      <a:pt x="162" y="515"/>
                    </a:lnTo>
                    <a:lnTo>
                      <a:pt x="162" y="536"/>
                    </a:lnTo>
                    <a:lnTo>
                      <a:pt x="156" y="558"/>
                    </a:lnTo>
                    <a:lnTo>
                      <a:pt x="141" y="585"/>
                    </a:lnTo>
                    <a:lnTo>
                      <a:pt x="135" y="617"/>
                    </a:lnTo>
                    <a:lnTo>
                      <a:pt x="135" y="634"/>
                    </a:lnTo>
                    <a:lnTo>
                      <a:pt x="135" y="644"/>
                    </a:lnTo>
                    <a:lnTo>
                      <a:pt x="146" y="644"/>
                    </a:lnTo>
                    <a:lnTo>
                      <a:pt x="162" y="634"/>
                    </a:lnTo>
                    <a:lnTo>
                      <a:pt x="178" y="639"/>
                    </a:lnTo>
                    <a:lnTo>
                      <a:pt x="195" y="644"/>
                    </a:lnTo>
                    <a:lnTo>
                      <a:pt x="200" y="644"/>
                    </a:lnTo>
                    <a:lnTo>
                      <a:pt x="217" y="644"/>
                    </a:lnTo>
                    <a:lnTo>
                      <a:pt x="217" y="683"/>
                    </a:lnTo>
                    <a:lnTo>
                      <a:pt x="232" y="683"/>
                    </a:lnTo>
                    <a:lnTo>
                      <a:pt x="232" y="644"/>
                    </a:lnTo>
                    <a:lnTo>
                      <a:pt x="254" y="644"/>
                    </a:lnTo>
                    <a:lnTo>
                      <a:pt x="254" y="629"/>
                    </a:lnTo>
                    <a:lnTo>
                      <a:pt x="249" y="624"/>
                    </a:lnTo>
                    <a:lnTo>
                      <a:pt x="237" y="612"/>
                    </a:lnTo>
                    <a:lnTo>
                      <a:pt x="237" y="515"/>
                    </a:lnTo>
                    <a:lnTo>
                      <a:pt x="205" y="515"/>
                    </a:lnTo>
                    <a:lnTo>
                      <a:pt x="195" y="541"/>
                    </a:lnTo>
                    <a:lnTo>
                      <a:pt x="200" y="553"/>
                    </a:lnTo>
                    <a:lnTo>
                      <a:pt x="200" y="558"/>
                    </a:lnTo>
                    <a:lnTo>
                      <a:pt x="200" y="563"/>
                    </a:lnTo>
                    <a:lnTo>
                      <a:pt x="200" y="573"/>
                    </a:lnTo>
                    <a:lnTo>
                      <a:pt x="189" y="580"/>
                    </a:lnTo>
                    <a:lnTo>
                      <a:pt x="183" y="585"/>
                    </a:lnTo>
                    <a:lnTo>
                      <a:pt x="195" y="553"/>
                    </a:lnTo>
                    <a:lnTo>
                      <a:pt x="205" y="515"/>
                    </a:lnTo>
                    <a:lnTo>
                      <a:pt x="254" y="515"/>
                    </a:lnTo>
                    <a:lnTo>
                      <a:pt x="254" y="629"/>
                    </a:lnTo>
                    <a:lnTo>
                      <a:pt x="254" y="644"/>
                    </a:lnTo>
                    <a:lnTo>
                      <a:pt x="254" y="651"/>
                    </a:lnTo>
                    <a:lnTo>
                      <a:pt x="276" y="651"/>
                    </a:lnTo>
                    <a:lnTo>
                      <a:pt x="276" y="515"/>
                    </a:lnTo>
                    <a:lnTo>
                      <a:pt x="291" y="515"/>
                    </a:lnTo>
                    <a:lnTo>
                      <a:pt x="291" y="351"/>
                    </a:lnTo>
                    <a:lnTo>
                      <a:pt x="303" y="351"/>
                    </a:lnTo>
                    <a:lnTo>
                      <a:pt x="303" y="324"/>
                    </a:lnTo>
                    <a:lnTo>
                      <a:pt x="313" y="324"/>
                    </a:lnTo>
                    <a:lnTo>
                      <a:pt x="313" y="308"/>
                    </a:lnTo>
                    <a:lnTo>
                      <a:pt x="298" y="232"/>
                    </a:lnTo>
                    <a:lnTo>
                      <a:pt x="244" y="232"/>
                    </a:lnTo>
                    <a:lnTo>
                      <a:pt x="244" y="173"/>
                    </a:lnTo>
                    <a:lnTo>
                      <a:pt x="217" y="173"/>
                    </a:lnTo>
                    <a:lnTo>
                      <a:pt x="183" y="146"/>
                    </a:lnTo>
                    <a:lnTo>
                      <a:pt x="178" y="134"/>
                    </a:lnTo>
                    <a:lnTo>
                      <a:pt x="162" y="134"/>
                    </a:lnTo>
                    <a:lnTo>
                      <a:pt x="141" y="119"/>
                    </a:lnTo>
                    <a:lnTo>
                      <a:pt x="141" y="112"/>
                    </a:lnTo>
                    <a:lnTo>
                      <a:pt x="168" y="112"/>
                    </a:lnTo>
                    <a:lnTo>
                      <a:pt x="173" y="107"/>
                    </a:lnTo>
                    <a:lnTo>
                      <a:pt x="173" y="102"/>
                    </a:lnTo>
                    <a:lnTo>
                      <a:pt x="173" y="97"/>
                    </a:lnTo>
                    <a:lnTo>
                      <a:pt x="173" y="85"/>
                    </a:lnTo>
                    <a:lnTo>
                      <a:pt x="173" y="80"/>
                    </a:lnTo>
                    <a:lnTo>
                      <a:pt x="178" y="75"/>
                    </a:lnTo>
                    <a:lnTo>
                      <a:pt x="178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62" y="37"/>
                    </a:lnTo>
                    <a:lnTo>
                      <a:pt x="119" y="0"/>
                    </a:lnTo>
                    <a:lnTo>
                      <a:pt x="65" y="10"/>
                    </a:lnTo>
                    <a:lnTo>
                      <a:pt x="48" y="32"/>
                    </a:lnTo>
                    <a:lnTo>
                      <a:pt x="43" y="64"/>
                    </a:lnTo>
                    <a:lnTo>
                      <a:pt x="48" y="85"/>
                    </a:lnTo>
                    <a:lnTo>
                      <a:pt x="70" y="112"/>
                    </a:lnTo>
                    <a:lnTo>
                      <a:pt x="75" y="124"/>
                    </a:lnTo>
                    <a:lnTo>
                      <a:pt x="27" y="146"/>
                    </a:lnTo>
                    <a:lnTo>
                      <a:pt x="16" y="161"/>
                    </a:lnTo>
                    <a:lnTo>
                      <a:pt x="11" y="173"/>
                    </a:lnTo>
                    <a:lnTo>
                      <a:pt x="5" y="173"/>
                    </a:lnTo>
                    <a:lnTo>
                      <a:pt x="0" y="232"/>
                    </a:lnTo>
                    <a:lnTo>
                      <a:pt x="0" y="5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40"/>
              <p:cNvSpPr/>
              <p:nvPr/>
            </p:nvSpPr>
            <p:spPr>
              <a:xfrm flipV="1">
                <a:off x="1764000" y="2683080"/>
                <a:ext cx="156960" cy="38592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360 h 385920"/>
                  <a:gd name="textAreaBottom" fmla="*/ 386640 h 385920"/>
                </a:gdLst>
                <a:ahLst/>
                <a:rect l="textAreaLeft" t="textAreaTop" r="textAreaRight" b="textAreaBottom"/>
                <a:pathLst>
                  <a:path w="297" h="617">
                    <a:moveTo>
                      <a:pt x="103" y="434"/>
                    </a:moveTo>
                    <a:lnTo>
                      <a:pt x="118" y="536"/>
                    </a:lnTo>
                    <a:lnTo>
                      <a:pt x="123" y="541"/>
                    </a:lnTo>
                    <a:lnTo>
                      <a:pt x="123" y="546"/>
                    </a:lnTo>
                    <a:lnTo>
                      <a:pt x="130" y="553"/>
                    </a:lnTo>
                    <a:lnTo>
                      <a:pt x="135" y="563"/>
                    </a:lnTo>
                    <a:lnTo>
                      <a:pt x="140" y="573"/>
                    </a:lnTo>
                    <a:lnTo>
                      <a:pt x="140" y="580"/>
                    </a:lnTo>
                    <a:lnTo>
                      <a:pt x="123" y="590"/>
                    </a:lnTo>
                    <a:lnTo>
                      <a:pt x="118" y="595"/>
                    </a:lnTo>
                    <a:lnTo>
                      <a:pt x="118" y="602"/>
                    </a:lnTo>
                    <a:lnTo>
                      <a:pt x="108" y="612"/>
                    </a:lnTo>
                    <a:lnTo>
                      <a:pt x="86" y="617"/>
                    </a:lnTo>
                    <a:lnTo>
                      <a:pt x="59" y="607"/>
                    </a:lnTo>
                    <a:lnTo>
                      <a:pt x="59" y="602"/>
                    </a:lnTo>
                    <a:lnTo>
                      <a:pt x="59" y="595"/>
                    </a:lnTo>
                    <a:lnTo>
                      <a:pt x="69" y="585"/>
                    </a:lnTo>
                    <a:lnTo>
                      <a:pt x="81" y="563"/>
                    </a:lnTo>
                    <a:lnTo>
                      <a:pt x="86" y="558"/>
                    </a:lnTo>
                    <a:lnTo>
                      <a:pt x="86" y="541"/>
                    </a:lnTo>
                    <a:lnTo>
                      <a:pt x="64" y="541"/>
                    </a:lnTo>
                    <a:lnTo>
                      <a:pt x="20" y="385"/>
                    </a:lnTo>
                    <a:lnTo>
                      <a:pt x="15" y="373"/>
                    </a:lnTo>
                    <a:lnTo>
                      <a:pt x="15" y="363"/>
                    </a:lnTo>
                    <a:lnTo>
                      <a:pt x="15" y="356"/>
                    </a:lnTo>
                    <a:lnTo>
                      <a:pt x="27" y="341"/>
                    </a:lnTo>
                    <a:lnTo>
                      <a:pt x="37" y="329"/>
                    </a:lnTo>
                    <a:lnTo>
                      <a:pt x="20" y="308"/>
                    </a:lnTo>
                    <a:lnTo>
                      <a:pt x="15" y="308"/>
                    </a:lnTo>
                    <a:lnTo>
                      <a:pt x="0" y="232"/>
                    </a:lnTo>
                    <a:lnTo>
                      <a:pt x="74" y="232"/>
                    </a:lnTo>
                    <a:lnTo>
                      <a:pt x="74" y="205"/>
                    </a:lnTo>
                    <a:lnTo>
                      <a:pt x="64" y="210"/>
                    </a:lnTo>
                    <a:lnTo>
                      <a:pt x="59" y="210"/>
                    </a:lnTo>
                    <a:lnTo>
                      <a:pt x="59" y="232"/>
                    </a:lnTo>
                    <a:lnTo>
                      <a:pt x="47" y="232"/>
                    </a:lnTo>
                    <a:lnTo>
                      <a:pt x="47" y="210"/>
                    </a:lnTo>
                    <a:lnTo>
                      <a:pt x="42" y="210"/>
                    </a:lnTo>
                    <a:lnTo>
                      <a:pt x="32" y="232"/>
                    </a:lnTo>
                    <a:lnTo>
                      <a:pt x="27" y="232"/>
                    </a:lnTo>
                    <a:lnTo>
                      <a:pt x="32" y="210"/>
                    </a:lnTo>
                    <a:lnTo>
                      <a:pt x="20" y="210"/>
                    </a:lnTo>
                    <a:lnTo>
                      <a:pt x="10" y="195"/>
                    </a:lnTo>
                    <a:lnTo>
                      <a:pt x="10" y="178"/>
                    </a:lnTo>
                    <a:lnTo>
                      <a:pt x="15" y="168"/>
                    </a:lnTo>
                    <a:lnTo>
                      <a:pt x="32" y="151"/>
                    </a:lnTo>
                    <a:lnTo>
                      <a:pt x="59" y="134"/>
                    </a:lnTo>
                    <a:lnTo>
                      <a:pt x="69" y="119"/>
                    </a:lnTo>
                    <a:lnTo>
                      <a:pt x="81" y="102"/>
                    </a:lnTo>
                    <a:lnTo>
                      <a:pt x="108" y="90"/>
                    </a:lnTo>
                    <a:lnTo>
                      <a:pt x="145" y="80"/>
                    </a:lnTo>
                    <a:lnTo>
                      <a:pt x="145" y="75"/>
                    </a:lnTo>
                    <a:lnTo>
                      <a:pt x="145" y="58"/>
                    </a:lnTo>
                    <a:lnTo>
                      <a:pt x="145" y="53"/>
                    </a:lnTo>
                    <a:lnTo>
                      <a:pt x="184" y="5"/>
                    </a:lnTo>
                    <a:lnTo>
                      <a:pt x="189" y="5"/>
                    </a:lnTo>
                    <a:lnTo>
                      <a:pt x="199" y="0"/>
                    </a:lnTo>
                    <a:lnTo>
                      <a:pt x="211" y="0"/>
                    </a:lnTo>
                    <a:lnTo>
                      <a:pt x="238" y="20"/>
                    </a:lnTo>
                    <a:lnTo>
                      <a:pt x="243" y="37"/>
                    </a:lnTo>
                    <a:lnTo>
                      <a:pt x="243" y="42"/>
                    </a:lnTo>
                    <a:lnTo>
                      <a:pt x="238" y="53"/>
                    </a:lnTo>
                    <a:lnTo>
                      <a:pt x="231" y="58"/>
                    </a:lnTo>
                    <a:lnTo>
                      <a:pt x="243" y="58"/>
                    </a:lnTo>
                    <a:lnTo>
                      <a:pt x="216" y="85"/>
                    </a:lnTo>
                    <a:lnTo>
                      <a:pt x="287" y="129"/>
                    </a:lnTo>
                    <a:lnTo>
                      <a:pt x="297" y="227"/>
                    </a:lnTo>
                    <a:lnTo>
                      <a:pt x="199" y="434"/>
                    </a:lnTo>
                    <a:lnTo>
                      <a:pt x="103" y="4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41"/>
              <p:cNvSpPr/>
              <p:nvPr/>
            </p:nvSpPr>
            <p:spPr>
              <a:xfrm flipV="1">
                <a:off x="1832400" y="2655360"/>
                <a:ext cx="293400" cy="4208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-360 h 420840"/>
                  <a:gd name="textAreaBottom" fmla="*/ 420840 h 420840"/>
                </a:gdLst>
                <a:ahLst/>
                <a:rect l="textAreaLeft" t="textAreaTop" r="textAreaRight" b="textAreaBottom"/>
                <a:pathLst>
                  <a:path w="557" h="673">
                    <a:moveTo>
                      <a:pt x="69" y="446"/>
                    </a:moveTo>
                    <a:lnTo>
                      <a:pt x="69" y="548"/>
                    </a:lnTo>
                    <a:lnTo>
                      <a:pt x="54" y="565"/>
                    </a:lnTo>
                    <a:lnTo>
                      <a:pt x="27" y="570"/>
                    </a:lnTo>
                    <a:lnTo>
                      <a:pt x="0" y="565"/>
                    </a:lnTo>
                    <a:lnTo>
                      <a:pt x="5" y="575"/>
                    </a:lnTo>
                    <a:lnTo>
                      <a:pt x="47" y="592"/>
                    </a:lnTo>
                    <a:lnTo>
                      <a:pt x="81" y="592"/>
                    </a:lnTo>
                    <a:lnTo>
                      <a:pt x="74" y="614"/>
                    </a:lnTo>
                    <a:lnTo>
                      <a:pt x="81" y="624"/>
                    </a:lnTo>
                    <a:lnTo>
                      <a:pt x="81" y="629"/>
                    </a:lnTo>
                    <a:lnTo>
                      <a:pt x="123" y="629"/>
                    </a:lnTo>
                    <a:lnTo>
                      <a:pt x="123" y="619"/>
                    </a:lnTo>
                    <a:lnTo>
                      <a:pt x="123" y="607"/>
                    </a:lnTo>
                    <a:lnTo>
                      <a:pt x="108" y="592"/>
                    </a:lnTo>
                    <a:lnTo>
                      <a:pt x="113" y="592"/>
                    </a:lnTo>
                    <a:lnTo>
                      <a:pt x="123" y="553"/>
                    </a:lnTo>
                    <a:lnTo>
                      <a:pt x="140" y="521"/>
                    </a:lnTo>
                    <a:lnTo>
                      <a:pt x="177" y="537"/>
                    </a:lnTo>
                    <a:lnTo>
                      <a:pt x="167" y="585"/>
                    </a:lnTo>
                    <a:lnTo>
                      <a:pt x="150" y="614"/>
                    </a:lnTo>
                    <a:lnTo>
                      <a:pt x="123" y="636"/>
                    </a:lnTo>
                    <a:lnTo>
                      <a:pt x="108" y="641"/>
                    </a:lnTo>
                    <a:lnTo>
                      <a:pt x="101" y="641"/>
                    </a:lnTo>
                    <a:lnTo>
                      <a:pt x="101" y="646"/>
                    </a:lnTo>
                    <a:lnTo>
                      <a:pt x="101" y="656"/>
                    </a:lnTo>
                    <a:lnTo>
                      <a:pt x="140" y="656"/>
                    </a:lnTo>
                    <a:lnTo>
                      <a:pt x="172" y="656"/>
                    </a:lnTo>
                    <a:lnTo>
                      <a:pt x="211" y="624"/>
                    </a:lnTo>
                    <a:lnTo>
                      <a:pt x="211" y="656"/>
                    </a:lnTo>
                    <a:lnTo>
                      <a:pt x="221" y="619"/>
                    </a:lnTo>
                    <a:lnTo>
                      <a:pt x="221" y="592"/>
                    </a:lnTo>
                    <a:lnTo>
                      <a:pt x="216" y="565"/>
                    </a:lnTo>
                    <a:lnTo>
                      <a:pt x="216" y="532"/>
                    </a:lnTo>
                    <a:lnTo>
                      <a:pt x="238" y="527"/>
                    </a:lnTo>
                    <a:lnTo>
                      <a:pt x="243" y="629"/>
                    </a:lnTo>
                    <a:lnTo>
                      <a:pt x="253" y="629"/>
                    </a:lnTo>
                    <a:lnTo>
                      <a:pt x="258" y="500"/>
                    </a:lnTo>
                    <a:lnTo>
                      <a:pt x="270" y="500"/>
                    </a:lnTo>
                    <a:lnTo>
                      <a:pt x="280" y="673"/>
                    </a:lnTo>
                    <a:lnTo>
                      <a:pt x="297" y="673"/>
                    </a:lnTo>
                    <a:lnTo>
                      <a:pt x="297" y="500"/>
                    </a:lnTo>
                    <a:lnTo>
                      <a:pt x="427" y="500"/>
                    </a:lnTo>
                    <a:lnTo>
                      <a:pt x="427" y="629"/>
                    </a:lnTo>
                    <a:lnTo>
                      <a:pt x="437" y="629"/>
                    </a:lnTo>
                    <a:lnTo>
                      <a:pt x="449" y="500"/>
                    </a:lnTo>
                    <a:lnTo>
                      <a:pt x="486" y="500"/>
                    </a:lnTo>
                    <a:lnTo>
                      <a:pt x="486" y="673"/>
                    </a:lnTo>
                    <a:lnTo>
                      <a:pt x="498" y="673"/>
                    </a:lnTo>
                    <a:lnTo>
                      <a:pt x="557" y="195"/>
                    </a:lnTo>
                    <a:lnTo>
                      <a:pt x="535" y="185"/>
                    </a:lnTo>
                    <a:lnTo>
                      <a:pt x="518" y="173"/>
                    </a:lnTo>
                    <a:lnTo>
                      <a:pt x="491" y="158"/>
                    </a:lnTo>
                    <a:lnTo>
                      <a:pt x="476" y="158"/>
                    </a:lnTo>
                    <a:lnTo>
                      <a:pt x="469" y="163"/>
                    </a:lnTo>
                    <a:lnTo>
                      <a:pt x="459" y="173"/>
                    </a:lnTo>
                    <a:lnTo>
                      <a:pt x="449" y="244"/>
                    </a:lnTo>
                    <a:lnTo>
                      <a:pt x="415" y="151"/>
                    </a:lnTo>
                    <a:lnTo>
                      <a:pt x="405" y="136"/>
                    </a:lnTo>
                    <a:lnTo>
                      <a:pt x="395" y="124"/>
                    </a:lnTo>
                    <a:lnTo>
                      <a:pt x="356" y="97"/>
                    </a:lnTo>
                    <a:lnTo>
                      <a:pt x="361" y="92"/>
                    </a:lnTo>
                    <a:lnTo>
                      <a:pt x="368" y="92"/>
                    </a:lnTo>
                    <a:lnTo>
                      <a:pt x="368" y="76"/>
                    </a:lnTo>
                    <a:lnTo>
                      <a:pt x="368" y="70"/>
                    </a:lnTo>
                    <a:lnTo>
                      <a:pt x="341" y="22"/>
                    </a:lnTo>
                    <a:lnTo>
                      <a:pt x="319" y="5"/>
                    </a:lnTo>
                    <a:lnTo>
                      <a:pt x="280" y="0"/>
                    </a:lnTo>
                    <a:lnTo>
                      <a:pt x="253" y="5"/>
                    </a:lnTo>
                    <a:lnTo>
                      <a:pt x="231" y="27"/>
                    </a:lnTo>
                    <a:lnTo>
                      <a:pt x="226" y="49"/>
                    </a:lnTo>
                    <a:lnTo>
                      <a:pt x="238" y="49"/>
                    </a:lnTo>
                    <a:lnTo>
                      <a:pt x="238" y="65"/>
                    </a:lnTo>
                    <a:lnTo>
                      <a:pt x="243" y="70"/>
                    </a:lnTo>
                    <a:lnTo>
                      <a:pt x="231" y="92"/>
                    </a:lnTo>
                    <a:lnTo>
                      <a:pt x="243" y="92"/>
                    </a:lnTo>
                    <a:lnTo>
                      <a:pt x="243" y="102"/>
                    </a:lnTo>
                    <a:lnTo>
                      <a:pt x="248" y="109"/>
                    </a:lnTo>
                    <a:lnTo>
                      <a:pt x="248" y="114"/>
                    </a:lnTo>
                    <a:lnTo>
                      <a:pt x="253" y="119"/>
                    </a:lnTo>
                    <a:lnTo>
                      <a:pt x="292" y="119"/>
                    </a:lnTo>
                    <a:lnTo>
                      <a:pt x="297" y="119"/>
                    </a:lnTo>
                    <a:lnTo>
                      <a:pt x="302" y="131"/>
                    </a:lnTo>
                    <a:lnTo>
                      <a:pt x="292" y="158"/>
                    </a:lnTo>
                    <a:lnTo>
                      <a:pt x="297" y="266"/>
                    </a:lnTo>
                    <a:lnTo>
                      <a:pt x="297" y="320"/>
                    </a:lnTo>
                    <a:lnTo>
                      <a:pt x="297" y="331"/>
                    </a:lnTo>
                    <a:lnTo>
                      <a:pt x="231" y="331"/>
                    </a:lnTo>
                    <a:lnTo>
                      <a:pt x="238" y="283"/>
                    </a:lnTo>
                    <a:lnTo>
                      <a:pt x="258" y="288"/>
                    </a:lnTo>
                    <a:lnTo>
                      <a:pt x="258" y="304"/>
                    </a:lnTo>
                    <a:lnTo>
                      <a:pt x="297" y="320"/>
                    </a:lnTo>
                    <a:lnTo>
                      <a:pt x="297" y="266"/>
                    </a:lnTo>
                    <a:lnTo>
                      <a:pt x="253" y="261"/>
                    </a:lnTo>
                    <a:lnTo>
                      <a:pt x="253" y="234"/>
                    </a:lnTo>
                    <a:lnTo>
                      <a:pt x="231" y="222"/>
                    </a:lnTo>
                    <a:lnTo>
                      <a:pt x="231" y="207"/>
                    </a:lnTo>
                    <a:lnTo>
                      <a:pt x="231" y="212"/>
                    </a:lnTo>
                    <a:lnTo>
                      <a:pt x="226" y="217"/>
                    </a:lnTo>
                    <a:lnTo>
                      <a:pt x="226" y="222"/>
                    </a:lnTo>
                    <a:lnTo>
                      <a:pt x="231" y="239"/>
                    </a:lnTo>
                    <a:lnTo>
                      <a:pt x="226" y="239"/>
                    </a:lnTo>
                    <a:lnTo>
                      <a:pt x="216" y="234"/>
                    </a:lnTo>
                    <a:lnTo>
                      <a:pt x="189" y="222"/>
                    </a:lnTo>
                    <a:lnTo>
                      <a:pt x="184" y="222"/>
                    </a:lnTo>
                    <a:lnTo>
                      <a:pt x="204" y="244"/>
                    </a:lnTo>
                    <a:lnTo>
                      <a:pt x="167" y="239"/>
                    </a:lnTo>
                    <a:lnTo>
                      <a:pt x="69" y="4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df3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9" name="Text Box 144"/>
          <p:cNvSpPr/>
          <p:nvPr/>
        </p:nvSpPr>
        <p:spPr>
          <a:xfrm>
            <a:off x="533880" y="2027160"/>
            <a:ext cx="66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Febr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45"/>
          <p:cNvSpPr/>
          <p:nvPr/>
        </p:nvSpPr>
        <p:spPr>
          <a:xfrm>
            <a:off x="1331640" y="1484280"/>
            <a:ext cx="93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46"/>
          <p:cNvSpPr/>
          <p:nvPr/>
        </p:nvSpPr>
        <p:spPr>
          <a:xfrm>
            <a:off x="3048840" y="148428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47"/>
          <p:cNvSpPr/>
          <p:nvPr/>
        </p:nvSpPr>
        <p:spPr>
          <a:xfrm>
            <a:off x="7565040" y="1484280"/>
            <a:ext cx="84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163"/>
          <p:cNvSpPr/>
          <p:nvPr/>
        </p:nvSpPr>
        <p:spPr>
          <a:xfrm>
            <a:off x="77616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64"/>
          <p:cNvSpPr/>
          <p:nvPr/>
        </p:nvSpPr>
        <p:spPr>
          <a:xfrm>
            <a:off x="2403360" y="1787400"/>
            <a:ext cx="184320" cy="250920"/>
          </a:xfrm>
          <a:prstGeom prst="downArrow">
            <a:avLst>
              <a:gd name="adj1" fmla="val 50000"/>
              <a:gd name="adj2" fmla="val 335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65"/>
          <p:cNvSpPr/>
          <p:nvPr/>
        </p:nvSpPr>
        <p:spPr>
          <a:xfrm>
            <a:off x="405144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166"/>
          <p:cNvSpPr/>
          <p:nvPr/>
        </p:nvSpPr>
        <p:spPr>
          <a:xfrm>
            <a:off x="5680080" y="1779480"/>
            <a:ext cx="184320" cy="252360"/>
          </a:xfrm>
          <a:prstGeom prst="downArrow">
            <a:avLst>
              <a:gd name="adj1" fmla="val 50000"/>
              <a:gd name="adj2" fmla="val 33753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167"/>
          <p:cNvSpPr/>
          <p:nvPr/>
        </p:nvSpPr>
        <p:spPr>
          <a:xfrm>
            <a:off x="7286760" y="1779480"/>
            <a:ext cx="183960" cy="252360"/>
          </a:xfrm>
          <a:prstGeom prst="downArrow">
            <a:avLst>
              <a:gd name="adj1" fmla="val 50000"/>
              <a:gd name="adj2" fmla="val 3381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68" descr="MCj04339640000[1]"/>
          <p:cNvPicPr/>
          <p:nvPr/>
        </p:nvPicPr>
        <p:blipFill>
          <a:blip r:embed="rId2"/>
          <a:stretch/>
        </p:blipFill>
        <p:spPr>
          <a:xfrm>
            <a:off x="8453520" y="1555920"/>
            <a:ext cx="644400" cy="653760"/>
          </a:xfrm>
          <a:prstGeom prst="rect">
            <a:avLst/>
          </a:prstGeom>
          <a:ln w="0">
            <a:noFill/>
          </a:ln>
        </p:spPr>
      </p:pic>
      <p:sp>
        <p:nvSpPr>
          <p:cNvPr id="759" name="Trapèze 178"/>
          <p:cNvSpPr/>
          <p:nvPr/>
        </p:nvSpPr>
        <p:spPr>
          <a:xfrm rot="5400000">
            <a:off x="357120" y="4628880"/>
            <a:ext cx="2571480" cy="1571760"/>
          </a:xfrm>
          <a:custGeom>
            <a:avLst/>
            <a:gdLst/>
            <a:ahLst/>
            <a:rect l="l" t="t" r="r" b="b"/>
            <a:pathLst>
              <a:path w="2571750" h="1571625">
                <a:moveTo>
                  <a:pt x="0" y="1571625"/>
                </a:moveTo>
                <a:lnTo>
                  <a:pt x="392906" y="0"/>
                </a:lnTo>
                <a:lnTo>
                  <a:pt x="2178844" y="0"/>
                </a:lnTo>
                <a:lnTo>
                  <a:pt x="257175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rapèze 179"/>
          <p:cNvSpPr/>
          <p:nvPr/>
        </p:nvSpPr>
        <p:spPr>
          <a:xfrm rot="5400000">
            <a:off x="2486160" y="4627440"/>
            <a:ext cx="1714320" cy="1571760"/>
          </a:xfrm>
          <a:custGeom>
            <a:avLst/>
            <a:gdLst/>
            <a:ahLst/>
            <a:rect l="l" t="t" r="r" b="b"/>
            <a:pathLst>
              <a:path w="1714500" h="1571625">
                <a:moveTo>
                  <a:pt x="0" y="1571625"/>
                </a:moveTo>
                <a:lnTo>
                  <a:pt x="392906" y="0"/>
                </a:lnTo>
                <a:lnTo>
                  <a:pt x="1321594" y="0"/>
                </a:lnTo>
                <a:lnTo>
                  <a:pt x="1714500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28"/>
          <p:cNvSpPr/>
          <p:nvPr/>
        </p:nvSpPr>
        <p:spPr>
          <a:xfrm>
            <a:off x="5946840" y="3044880"/>
            <a:ext cx="1539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Quality test and internal valid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Meeting with internal custom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9/05/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rice Negoti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26"/>
          <p:cNvSpPr/>
          <p:nvPr/>
        </p:nvSpPr>
        <p:spPr>
          <a:xfrm>
            <a:off x="7127280" y="2025720"/>
            <a:ext cx="41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Ju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7f7f7f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riangle isocèle 182"/>
          <p:cNvSpPr/>
          <p:nvPr/>
        </p:nvSpPr>
        <p:spPr>
          <a:xfrm rot="5400000">
            <a:off x="8107920" y="4707720"/>
            <a:ext cx="414360" cy="142884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rapèze 183"/>
          <p:cNvSpPr/>
          <p:nvPr/>
        </p:nvSpPr>
        <p:spPr>
          <a:xfrm rot="5400000">
            <a:off x="4581000" y="4633920"/>
            <a:ext cx="898560" cy="1571400"/>
          </a:xfrm>
          <a:custGeom>
            <a:avLst/>
            <a:gdLst/>
            <a:ahLst/>
            <a:rect l="l" t="t" r="r" b="b"/>
            <a:pathLst>
              <a:path w="898525" h="1571625">
                <a:moveTo>
                  <a:pt x="0" y="1571625"/>
                </a:moveTo>
                <a:lnTo>
                  <a:pt x="224631" y="0"/>
                </a:lnTo>
                <a:lnTo>
                  <a:pt x="673894" y="0"/>
                </a:lnTo>
                <a:lnTo>
                  <a:pt x="898525" y="1571625"/>
                </a:lnTo>
                <a:lnTo>
                  <a:pt x="0" y="1571625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à coins arrondis 184"/>
          <p:cNvSpPr/>
          <p:nvPr/>
        </p:nvSpPr>
        <p:spPr>
          <a:xfrm>
            <a:off x="5929200" y="3214800"/>
            <a:ext cx="1454400" cy="1714320"/>
          </a:xfrm>
          <a:custGeom>
            <a:avLst/>
            <a:gdLst>
              <a:gd name="textAreaLeft" fmla="*/ 70920 w 1454400"/>
              <a:gd name="textAreaRight" fmla="*/ 1383480 w 1454400"/>
              <a:gd name="textAreaTop" fmla="*/ 70920 h 1714320"/>
              <a:gd name="textAreaBottom" fmla="*/ 1643400 h 1714320"/>
            </a:gdLst>
            <a:ahLst/>
            <a:rect l="textAreaLeft" t="textAreaTop" r="textAreaRight" b="textAreaBottom"/>
            <a:pathLst>
              <a:path w="21600" h="25459">
                <a:moveTo>
                  <a:pt x="3600" y="0"/>
                </a:moveTo>
                <a:arcTo wR="3600" hR="3600" stAng="16200000" swAng="-5400000"/>
                <a:lnTo>
                  <a:pt x="0" y="21859"/>
                </a:lnTo>
                <a:arcTo wR="3600" hR="3600" stAng="10800000" swAng="-5400000"/>
                <a:lnTo>
                  <a:pt x="18000" y="254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fe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47"/>
          <p:cNvSpPr/>
          <p:nvPr/>
        </p:nvSpPr>
        <p:spPr>
          <a:xfrm>
            <a:off x="4594320" y="1496880"/>
            <a:ext cx="82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ort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7"/>
          <p:cNvSpPr/>
          <p:nvPr/>
        </p:nvSpPr>
        <p:spPr>
          <a:xfrm>
            <a:off x="6051600" y="1484280"/>
            <a:ext cx="111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oneTexte 187"/>
          <p:cNvSpPr/>
          <p:nvPr/>
        </p:nvSpPr>
        <p:spPr>
          <a:xfrm>
            <a:off x="1000080" y="51991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consolida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ZoneTexte 188"/>
          <p:cNvSpPr/>
          <p:nvPr/>
        </p:nvSpPr>
        <p:spPr>
          <a:xfrm>
            <a:off x="2714760" y="520056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ZoneTexte 189"/>
          <p:cNvSpPr/>
          <p:nvPr/>
        </p:nvSpPr>
        <p:spPr>
          <a:xfrm>
            <a:off x="4371840" y="521352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suppliers in the shortli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ZoneTexte 190"/>
          <p:cNvSpPr/>
          <p:nvPr/>
        </p:nvSpPr>
        <p:spPr>
          <a:xfrm>
            <a:off x="7385040" y="5286240"/>
            <a:ext cx="128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c00000"/>
                </a:solidFill>
                <a:latin typeface="Arial"/>
              </a:rPr>
              <a:t>X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8"/>
          <p:cNvSpPr/>
          <p:nvPr/>
        </p:nvSpPr>
        <p:spPr>
          <a:xfrm>
            <a:off x="5942160" y="3228840"/>
            <a:ext cx="1541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28"/>
          <p:cNvSpPr/>
          <p:nvPr/>
        </p:nvSpPr>
        <p:spPr>
          <a:xfrm>
            <a:off x="7500960" y="3219480"/>
            <a:ext cx="1541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 2" charset="2"/>
              <a:buChar char="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Defin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buClr>
                <a:srgbClr val="d42a15"/>
              </a:buClr>
              <a:buSzPct val="80000"/>
              <a:buFont typeface="Wingdings" charset="2"/>
              <a:buChar char="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100" spc="-1" strike="noStrike">
                <a:solidFill>
                  <a:srgbClr val="fe735c"/>
                </a:solidFill>
                <a:latin typeface="Arial"/>
              </a:rPr>
              <a:t>PANEL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3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96"/>
          <p:cNvSpPr/>
          <p:nvPr/>
        </p:nvSpPr>
        <p:spPr>
          <a:xfrm>
            <a:off x="5929200" y="5203800"/>
            <a:ext cx="1571760" cy="439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XX invited suppl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4"/>
          <p:cNvSpPr/>
          <p:nvPr/>
        </p:nvSpPr>
        <p:spPr>
          <a:xfrm>
            <a:off x="4765680" y="6143760"/>
            <a:ext cx="2949480" cy="433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6845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5"/>
          <p:cNvSpPr/>
          <p:nvPr/>
        </p:nvSpPr>
        <p:spPr>
          <a:xfrm>
            <a:off x="6229440" y="6351480"/>
            <a:ext cx="57924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6"/>
          <p:cNvSpPr/>
          <p:nvPr/>
        </p:nvSpPr>
        <p:spPr>
          <a:xfrm>
            <a:off x="6929280" y="6351480"/>
            <a:ext cx="578160" cy="18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8"/>
          <p:cNvSpPr/>
          <p:nvPr/>
        </p:nvSpPr>
        <p:spPr>
          <a:xfrm>
            <a:off x="631980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9"/>
          <p:cNvSpPr/>
          <p:nvPr/>
        </p:nvSpPr>
        <p:spPr>
          <a:xfrm>
            <a:off x="7024320" y="615312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1"/>
          <p:cNvSpPr/>
          <p:nvPr/>
        </p:nvSpPr>
        <p:spPr>
          <a:xfrm>
            <a:off x="4888080" y="6351480"/>
            <a:ext cx="89820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3240" indent="-3240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2"/>
          <p:cNvSpPr/>
          <p:nvPr/>
        </p:nvSpPr>
        <p:spPr>
          <a:xfrm>
            <a:off x="4854600" y="6153120"/>
            <a:ext cx="1171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 sav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3"/>
          <p:cNvSpPr/>
          <p:nvPr/>
        </p:nvSpPr>
        <p:spPr>
          <a:xfrm rot="13500000">
            <a:off x="5843520" y="6386040"/>
            <a:ext cx="108000" cy="10800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4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AF90-4622-4EA6-AA07-CC17FB339FD3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203040" y="1536840"/>
          <a:ext cx="8740800" cy="4991040"/>
        </p:xfrm>
        <a:graphic>
          <a:graphicData uri="http://schemas.openxmlformats.org/drawingml/2006/table">
            <a:tbl>
              <a:tblPr/>
              <a:tblGrid>
                <a:gridCol w="1278000"/>
                <a:gridCol w="1243080"/>
                <a:gridCol w="1244520"/>
                <a:gridCol w="1243080"/>
                <a:gridCol w="1244520"/>
                <a:gridCol w="1243080"/>
                <a:gridCol w="1244520"/>
              </a:tblGrid>
              <a:tr h="99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ie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kne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port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30"/>
          <p:cNvSpPr/>
          <p:nvPr/>
        </p:nvSpPr>
        <p:spPr>
          <a:xfrm>
            <a:off x="1996920" y="1778040"/>
            <a:ext cx="6797880" cy="4156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28"/>
          <p:cNvSpPr/>
          <p:nvPr/>
        </p:nvSpPr>
        <p:spPr>
          <a:xfrm>
            <a:off x="4243320" y="1771560"/>
            <a:ext cx="4551480" cy="2776680"/>
          </a:xfrm>
          <a:custGeom>
            <a:avLst/>
            <a:gdLst>
              <a:gd name="textAreaLeft" fmla="*/ 0 w 4551480"/>
              <a:gd name="textAreaRight" fmla="*/ 4551840 w 4551480"/>
              <a:gd name="textAreaTop" fmla="*/ 0 h 2776680"/>
              <a:gd name="textAreaBottom" fmla="*/ 2777040 h 277668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26"/>
          <p:cNvSpPr/>
          <p:nvPr/>
        </p:nvSpPr>
        <p:spPr>
          <a:xfrm>
            <a:off x="6170760" y="1770120"/>
            <a:ext cx="2635200" cy="190512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1660" h="1200">
                <a:moveTo>
                  <a:pt x="0" y="0"/>
                </a:moveTo>
                <a:lnTo>
                  <a:pt x="0" y="163"/>
                </a:lnTo>
                <a:lnTo>
                  <a:pt x="7" y="427"/>
                </a:lnTo>
                <a:lnTo>
                  <a:pt x="47" y="624"/>
                </a:lnTo>
                <a:lnTo>
                  <a:pt x="162" y="874"/>
                </a:lnTo>
                <a:lnTo>
                  <a:pt x="406" y="1017"/>
                </a:lnTo>
                <a:lnTo>
                  <a:pt x="752" y="1132"/>
                </a:lnTo>
                <a:lnTo>
                  <a:pt x="1030" y="1159"/>
                </a:lnTo>
                <a:lnTo>
                  <a:pt x="1423" y="1200"/>
                </a:lnTo>
                <a:lnTo>
                  <a:pt x="1660" y="1200"/>
                </a:lnTo>
                <a:lnTo>
                  <a:pt x="1660" y="0"/>
                </a:lnTo>
                <a:lnTo>
                  <a:pt x="0" y="0"/>
                </a:lnTo>
                <a:close/>
              </a:path>
            </a:pathLst>
          </a:custGeom>
          <a:solidFill>
            <a:srgbClr val="61da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4"/>
          <p:cNvSpPr/>
          <p:nvPr/>
        </p:nvSpPr>
        <p:spPr>
          <a:xfrm>
            <a:off x="2006640" y="5934240"/>
            <a:ext cx="698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"/>
          <p:cNvSpPr/>
          <p:nvPr/>
        </p:nvSpPr>
        <p:spPr>
          <a:xfrm flipV="1">
            <a:off x="2006640" y="1433520"/>
            <a:ext cx="0" cy="45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1696320" y="5924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7"/>
          <p:cNvSpPr/>
          <p:nvPr/>
        </p:nvSpPr>
        <p:spPr>
          <a:xfrm>
            <a:off x="8524440" y="60292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1502280" y="150336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24"/>
          <p:cNvGrpSpPr/>
          <p:nvPr/>
        </p:nvGrpSpPr>
        <p:grpSpPr>
          <a:xfrm>
            <a:off x="1996920" y="1778040"/>
            <a:ext cx="6814800" cy="4155840"/>
            <a:chOff x="1996920" y="1778040"/>
            <a:chExt cx="6814800" cy="4155840"/>
          </a:xfrm>
        </p:grpSpPr>
        <p:sp>
          <p:nvSpPr>
            <p:cNvPr id="795" name="Rectangle 12"/>
            <p:cNvSpPr/>
            <p:nvPr/>
          </p:nvSpPr>
          <p:spPr>
            <a:xfrm>
              <a:off x="199692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3"/>
            <p:cNvSpPr/>
            <p:nvPr/>
          </p:nvSpPr>
          <p:spPr>
            <a:xfrm>
              <a:off x="4265280" y="454860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4"/>
            <p:cNvSpPr/>
            <p:nvPr/>
          </p:nvSpPr>
          <p:spPr>
            <a:xfrm>
              <a:off x="6534000" y="454860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5"/>
            <p:cNvSpPr/>
            <p:nvPr/>
          </p:nvSpPr>
          <p:spPr>
            <a:xfrm>
              <a:off x="199836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6"/>
            <p:cNvSpPr/>
            <p:nvPr/>
          </p:nvSpPr>
          <p:spPr>
            <a:xfrm>
              <a:off x="4266720" y="316332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7"/>
            <p:cNvSpPr/>
            <p:nvPr/>
          </p:nvSpPr>
          <p:spPr>
            <a:xfrm>
              <a:off x="6535440" y="316332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21"/>
            <p:cNvSpPr/>
            <p:nvPr/>
          </p:nvSpPr>
          <p:spPr>
            <a:xfrm>
              <a:off x="2006280" y="1778040"/>
              <a:ext cx="226872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22"/>
            <p:cNvSpPr/>
            <p:nvPr/>
          </p:nvSpPr>
          <p:spPr>
            <a:xfrm>
              <a:off x="427500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3"/>
            <p:cNvSpPr/>
            <p:nvPr/>
          </p:nvSpPr>
          <p:spPr>
            <a:xfrm>
              <a:off x="6543360" y="1778040"/>
              <a:ext cx="2268360" cy="138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Text Box 27"/>
          <p:cNvSpPr/>
          <p:nvPr/>
        </p:nvSpPr>
        <p:spPr>
          <a:xfrm>
            <a:off x="6223680" y="177012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9"/>
          <p:cNvSpPr/>
          <p:nvPr/>
        </p:nvSpPr>
        <p:spPr>
          <a:xfrm>
            <a:off x="4278240" y="17668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2004840" y="177804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Espace réservé du numéro de diapositive 26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2BCF-3E18-4523-9BFB-13E6351E0AB7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6"/>
          <p:cNvSpPr/>
          <p:nvPr/>
        </p:nvSpPr>
        <p:spPr>
          <a:xfrm>
            <a:off x="65160" y="3227400"/>
            <a:ext cx="1744560" cy="1305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competi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iance with ne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mit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nancial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bility to work on a “partnership”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367560" y="3112920"/>
            <a:ext cx="112896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8"/>
          <p:cNvSpPr/>
          <p:nvPr/>
        </p:nvSpPr>
        <p:spPr>
          <a:xfrm>
            <a:off x="4581360" y="6108840"/>
            <a:ext cx="1743120" cy="684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lumes purch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ix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buClr>
                <a:srgbClr val="bbe0e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29"/>
          <p:cNvSpPr/>
          <p:nvPr/>
        </p:nvSpPr>
        <p:spPr>
          <a:xfrm>
            <a:off x="4685760" y="5994360"/>
            <a:ext cx="1560240" cy="18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 marL="185760" indent="-185760" algn="ctr"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173381"/>
                </a:solidFill>
                <a:latin typeface="Arial"/>
              </a:rPr>
              <a:t>Competitive lev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trengths and weaknesses of Panel suppli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anel suppliers vs. strategic lever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e 19"/>
          <p:cNvGrpSpPr/>
          <p:nvPr/>
        </p:nvGrpSpPr>
        <p:grpSpPr>
          <a:xfrm>
            <a:off x="239760" y="1538280"/>
            <a:ext cx="2712960" cy="5086440"/>
            <a:chOff x="239760" y="1538280"/>
            <a:chExt cx="2712960" cy="5086440"/>
          </a:xfrm>
        </p:grpSpPr>
        <p:sp>
          <p:nvSpPr>
            <p:cNvPr id="814" name="Text Box 10"/>
            <p:cNvSpPr/>
            <p:nvPr/>
          </p:nvSpPr>
          <p:spPr>
            <a:xfrm>
              <a:off x="240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 Box 14"/>
            <p:cNvSpPr/>
            <p:nvPr/>
          </p:nvSpPr>
          <p:spPr>
            <a:xfrm>
              <a:off x="239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5. The Panel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and targeted suppliers turnover and market shar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s know and How per technologies or servic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’s turnover and weight, Supplier Evaluation, Purchasing contract signed, ISO 14001, ECO V7, Payment term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17" name="Groupe 19"/>
          <p:cNvGrpSpPr/>
          <p:nvPr/>
        </p:nvGrpSpPr>
        <p:grpSpPr>
          <a:xfrm>
            <a:off x="6170760" y="1538280"/>
            <a:ext cx="2712960" cy="5086440"/>
            <a:chOff x="6170760" y="1538280"/>
            <a:chExt cx="2712960" cy="5086440"/>
          </a:xfrm>
        </p:grpSpPr>
        <p:sp>
          <p:nvSpPr>
            <p:cNvPr id="818" name="Text Box 10"/>
            <p:cNvSpPr/>
            <p:nvPr/>
          </p:nvSpPr>
          <p:spPr>
            <a:xfrm>
              <a:off x="617112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617076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e 19"/>
          <p:cNvGrpSpPr/>
          <p:nvPr/>
        </p:nvGrpSpPr>
        <p:grpSpPr>
          <a:xfrm>
            <a:off x="3205080" y="1538280"/>
            <a:ext cx="2712960" cy="5086440"/>
            <a:chOff x="3205080" y="1538280"/>
            <a:chExt cx="2712960" cy="5086440"/>
          </a:xfrm>
        </p:grpSpPr>
        <p:sp>
          <p:nvSpPr>
            <p:cNvPr id="821" name="Text Box 10"/>
            <p:cNvSpPr/>
            <p:nvPr/>
          </p:nvSpPr>
          <p:spPr>
            <a:xfrm>
              <a:off x="3205440" y="1947240"/>
              <a:ext cx="271260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RA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nal Weigh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ayment terms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ertifications (ISO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eo coverage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ontract timelin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 Box 14"/>
            <p:cNvSpPr/>
            <p:nvPr/>
          </p:nvSpPr>
          <p:spPr>
            <a:xfrm>
              <a:off x="3205080" y="1538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upplier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Espace réservé du numéro de diapositive 11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86B9-11C9-401D-9D9A-9A1EF10B93FE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hat – Who – When in order to match the targeted strategy and the Panel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5" name="Espace réservé du numéro de diapositive 1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8B1E-B9C1-4E20-A238-B1E5C2205F0D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6" name=""/>
          <p:cNvGraphicFramePr/>
          <p:nvPr/>
        </p:nvGraphicFramePr>
        <p:xfrm>
          <a:off x="1557360" y="1347840"/>
          <a:ext cx="7267680" cy="4676760"/>
        </p:xfrm>
        <a:graphic>
          <a:graphicData uri="http://schemas.openxmlformats.org/drawingml/2006/table">
            <a:tbl>
              <a:tblPr/>
              <a:tblGrid>
                <a:gridCol w="1211400"/>
                <a:gridCol w="1211040"/>
                <a:gridCol w="1211400"/>
                <a:gridCol w="1211040"/>
                <a:gridCol w="1211400"/>
                <a:gridCol w="121140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1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2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3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4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34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7" name="AutoShape 50"/>
          <p:cNvSpPr/>
          <p:nvPr/>
        </p:nvSpPr>
        <p:spPr>
          <a:xfrm>
            <a:off x="3090960" y="6218280"/>
            <a:ext cx="18072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51"/>
          <p:cNvSpPr/>
          <p:nvPr/>
        </p:nvSpPr>
        <p:spPr>
          <a:xfrm>
            <a:off x="3203280" y="6326280"/>
            <a:ext cx="313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estones / Key events / Key planned achie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2"/>
          <p:cNvSpPr/>
          <p:nvPr/>
        </p:nvSpPr>
        <p:spPr>
          <a:xfrm>
            <a:off x="217440" y="2587680"/>
            <a:ext cx="1209600" cy="612720"/>
          </a:xfrm>
          <a:prstGeom prst="rect">
            <a:avLst/>
          </a:prstGeom>
          <a:solidFill>
            <a:srgbClr val="fcc91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3"/>
          <p:cNvSpPr/>
          <p:nvPr/>
        </p:nvSpPr>
        <p:spPr>
          <a:xfrm>
            <a:off x="217440" y="3287880"/>
            <a:ext cx="1209600" cy="61272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54"/>
          <p:cNvSpPr/>
          <p:nvPr/>
        </p:nvSpPr>
        <p:spPr>
          <a:xfrm>
            <a:off x="217440" y="3987720"/>
            <a:ext cx="1209600" cy="612720"/>
          </a:xfrm>
          <a:prstGeom prst="rect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56"/>
          <p:cNvSpPr/>
          <p:nvPr/>
        </p:nvSpPr>
        <p:spPr>
          <a:xfrm>
            <a:off x="217440" y="1728720"/>
            <a:ext cx="1209600" cy="7714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57"/>
          <p:cNvSpPr/>
          <p:nvPr/>
        </p:nvSpPr>
        <p:spPr>
          <a:xfrm>
            <a:off x="6472080" y="6264360"/>
            <a:ext cx="181080" cy="350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8"/>
          <p:cNvSpPr/>
          <p:nvPr/>
        </p:nvSpPr>
        <p:spPr>
          <a:xfrm>
            <a:off x="6645960" y="6326280"/>
            <a:ext cx="12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ving miles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54"/>
          <p:cNvSpPr/>
          <p:nvPr/>
        </p:nvSpPr>
        <p:spPr>
          <a:xfrm>
            <a:off x="214200" y="5388120"/>
            <a:ext cx="1209960" cy="612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214200" y="4687920"/>
            <a:ext cx="1209960" cy="612720"/>
          </a:xfrm>
          <a:prstGeom prst="rect">
            <a:avLst/>
          </a:prstGeom>
          <a:solidFill>
            <a:srgbClr val="a3a3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lèche droite 24"/>
          <p:cNvSpPr/>
          <p:nvPr/>
        </p:nvSpPr>
        <p:spPr>
          <a:xfrm>
            <a:off x="1589040" y="1689120"/>
            <a:ext cx="237636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ldwide Panel Commun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lèche droite 25"/>
          <p:cNvSpPr/>
          <p:nvPr/>
        </p:nvSpPr>
        <p:spPr>
          <a:xfrm>
            <a:off x="4000680" y="183996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and Purchasing Dpt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lèche droite 26"/>
          <p:cNvSpPr/>
          <p:nvPr/>
        </p:nvSpPr>
        <p:spPr>
          <a:xfrm>
            <a:off x="6453360" y="199224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gal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lèche droite 27"/>
          <p:cNvSpPr/>
          <p:nvPr/>
        </p:nvSpPr>
        <p:spPr>
          <a:xfrm>
            <a:off x="7643880" y="214308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 Ten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50"/>
          <p:cNvSpPr/>
          <p:nvPr/>
        </p:nvSpPr>
        <p:spPr>
          <a:xfrm>
            <a:off x="3890880" y="157176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57"/>
          <p:cNvSpPr/>
          <p:nvPr/>
        </p:nvSpPr>
        <p:spPr>
          <a:xfrm>
            <a:off x="2682720" y="232560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lèche droite 30"/>
          <p:cNvSpPr/>
          <p:nvPr/>
        </p:nvSpPr>
        <p:spPr>
          <a:xfrm>
            <a:off x="1584360" y="2502000"/>
            <a:ext cx="2376360" cy="4284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lèche droite 31"/>
          <p:cNvSpPr/>
          <p:nvPr/>
        </p:nvSpPr>
        <p:spPr>
          <a:xfrm>
            <a:off x="3995640" y="2643120"/>
            <a:ext cx="2374920" cy="4287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uarterly Review &amp; Adju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lèche droite 32"/>
          <p:cNvSpPr/>
          <p:nvPr/>
        </p:nvSpPr>
        <p:spPr>
          <a:xfrm>
            <a:off x="6448320" y="2786040"/>
            <a:ext cx="115272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lèche droite 33"/>
          <p:cNvSpPr/>
          <p:nvPr/>
        </p:nvSpPr>
        <p:spPr>
          <a:xfrm>
            <a:off x="2286000" y="3357720"/>
            <a:ext cx="1692360" cy="42840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lèche droite 34"/>
          <p:cNvSpPr/>
          <p:nvPr/>
        </p:nvSpPr>
        <p:spPr>
          <a:xfrm>
            <a:off x="2786040" y="407196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lèche droite 35"/>
          <p:cNvSpPr/>
          <p:nvPr/>
        </p:nvSpPr>
        <p:spPr>
          <a:xfrm>
            <a:off x="2786040" y="4786200"/>
            <a:ext cx="1908360" cy="4287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lèche droite 36"/>
          <p:cNvSpPr/>
          <p:nvPr/>
        </p:nvSpPr>
        <p:spPr>
          <a:xfrm>
            <a:off x="2786040" y="5500800"/>
            <a:ext cx="1908360" cy="4284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nel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val 57"/>
          <p:cNvSpPr/>
          <p:nvPr/>
        </p:nvSpPr>
        <p:spPr>
          <a:xfrm>
            <a:off x="3895560" y="318132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val 57"/>
          <p:cNvSpPr/>
          <p:nvPr/>
        </p:nvSpPr>
        <p:spPr>
          <a:xfrm>
            <a:off x="4610160" y="3895560"/>
            <a:ext cx="18108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57"/>
          <p:cNvSpPr/>
          <p:nvPr/>
        </p:nvSpPr>
        <p:spPr>
          <a:xfrm>
            <a:off x="4624560" y="453852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57"/>
          <p:cNvSpPr/>
          <p:nvPr/>
        </p:nvSpPr>
        <p:spPr>
          <a:xfrm>
            <a:off x="4624560" y="5324400"/>
            <a:ext cx="180720" cy="35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lèche droite 41"/>
          <p:cNvSpPr/>
          <p:nvPr/>
        </p:nvSpPr>
        <p:spPr>
          <a:xfrm>
            <a:off x="7643880" y="2928960"/>
            <a:ext cx="1152360" cy="4287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c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50"/>
          <p:cNvSpPr/>
          <p:nvPr/>
        </p:nvSpPr>
        <p:spPr>
          <a:xfrm>
            <a:off x="6307200" y="172404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50"/>
          <p:cNvSpPr/>
          <p:nvPr/>
        </p:nvSpPr>
        <p:spPr>
          <a:xfrm>
            <a:off x="7524720" y="1876320"/>
            <a:ext cx="181080" cy="457200"/>
          </a:xfrm>
          <a:prstGeom prst="diamond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lèche droite 44"/>
          <p:cNvSpPr/>
          <p:nvPr/>
        </p:nvSpPr>
        <p:spPr>
          <a:xfrm>
            <a:off x="645012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lèche droite 45"/>
          <p:cNvSpPr/>
          <p:nvPr/>
        </p:nvSpPr>
        <p:spPr>
          <a:xfrm>
            <a:off x="645012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lèche droite 46"/>
          <p:cNvSpPr/>
          <p:nvPr/>
        </p:nvSpPr>
        <p:spPr>
          <a:xfrm>
            <a:off x="645012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lèche droite 47"/>
          <p:cNvSpPr/>
          <p:nvPr/>
        </p:nvSpPr>
        <p:spPr>
          <a:xfrm>
            <a:off x="7643880" y="407196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lèche droite 48"/>
          <p:cNvSpPr/>
          <p:nvPr/>
        </p:nvSpPr>
        <p:spPr>
          <a:xfrm>
            <a:off x="7643880" y="4786200"/>
            <a:ext cx="647640" cy="4287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a3a3e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lèche droite 49"/>
          <p:cNvSpPr/>
          <p:nvPr/>
        </p:nvSpPr>
        <p:spPr>
          <a:xfrm>
            <a:off x="7643880" y="5500800"/>
            <a:ext cx="647640" cy="42840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ff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lèche droite 50"/>
          <p:cNvSpPr/>
          <p:nvPr/>
        </p:nvSpPr>
        <p:spPr>
          <a:xfrm>
            <a:off x="1690560" y="6283440"/>
            <a:ext cx="900360" cy="36036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6. Action Plan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Aggregation / Standardisation / Globalisation / Total Cost of Ownership / Other levels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Main savings to conduct, “Easy track” extract 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343080" y="172404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3"/>
          <p:cNvSpPr/>
          <p:nvPr/>
        </p:nvSpPr>
        <p:spPr>
          <a:xfrm>
            <a:off x="704520" y="1574640"/>
            <a:ext cx="3091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acts on Value Chain / Cost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24"/>
          <p:cNvSpPr/>
          <p:nvPr/>
        </p:nvSpPr>
        <p:spPr>
          <a:xfrm>
            <a:off x="4815000" y="1735200"/>
            <a:ext cx="3914640" cy="32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25"/>
          <p:cNvSpPr/>
          <p:nvPr/>
        </p:nvSpPr>
        <p:spPr>
          <a:xfrm>
            <a:off x="6088320" y="1585800"/>
            <a:ext cx="14457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How to lever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6"/>
          <p:cNvSpPr/>
          <p:nvPr/>
        </p:nvSpPr>
        <p:spPr>
          <a:xfrm>
            <a:off x="34308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27"/>
          <p:cNvSpPr/>
          <p:nvPr/>
        </p:nvSpPr>
        <p:spPr>
          <a:xfrm>
            <a:off x="1524240" y="5259240"/>
            <a:ext cx="1473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Expected sav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28"/>
          <p:cNvSpPr/>
          <p:nvPr/>
        </p:nvSpPr>
        <p:spPr>
          <a:xfrm>
            <a:off x="4815000" y="5392800"/>
            <a:ext cx="3914640" cy="12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46800" anchor="t">
            <a:noAutofit/>
          </a:bodyPr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jnv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ctr"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29"/>
          <p:cNvSpPr/>
          <p:nvPr/>
        </p:nvSpPr>
        <p:spPr>
          <a:xfrm>
            <a:off x="5884560" y="5259240"/>
            <a:ext cx="1720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Succ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0"/>
          <p:cNvSpPr/>
          <p:nvPr/>
        </p:nvSpPr>
        <p:spPr>
          <a:xfrm rot="5400000">
            <a:off x="2976480" y="3095640"/>
            <a:ext cx="3284640" cy="5414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1"/>
          <p:cNvSpPr/>
          <p:nvPr/>
        </p:nvSpPr>
        <p:spPr>
          <a:xfrm rot="10800000">
            <a:off x="34308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32"/>
          <p:cNvSpPr/>
          <p:nvPr/>
        </p:nvSpPr>
        <p:spPr>
          <a:xfrm rot="10800000">
            <a:off x="4815000" y="5076360"/>
            <a:ext cx="3914640" cy="1825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Espace réservé du numéro de diapositive 1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58C-5D16-44EB-BF84-90A322CE611F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Commodity Market Strategy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86920" y="1895040"/>
            <a:ext cx="7696440" cy="41720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Internal Context &amp; Need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Worldwide Market analysis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argeted strategy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Suppliers Qualification, Process &amp; Cost compariso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The Panel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e11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e8581"/>
                </a:solidFill>
                <a:latin typeface="Arial"/>
              </a:rPr>
              <a:t>Action Plan</a:t>
            </a:r>
            <a:endParaRPr b="1" lang="en-US" sz="2000" spc="-1" strike="noStrike">
              <a:solidFill>
                <a:srgbClr val="8e8581"/>
              </a:solidFill>
              <a:latin typeface="Arial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8FC2-4071-4D99-B01A-877C1D2A6F9B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urnover, quantities, technologies involved, shares by sub-families and site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518" name="Groupe 24"/>
          <p:cNvGrpSpPr/>
          <p:nvPr/>
        </p:nvGrpSpPr>
        <p:grpSpPr>
          <a:xfrm>
            <a:off x="210960" y="1568520"/>
            <a:ext cx="2578320" cy="5030640"/>
            <a:chOff x="210960" y="1568520"/>
            <a:chExt cx="2578320" cy="5030640"/>
          </a:xfrm>
        </p:grpSpPr>
        <p:sp>
          <p:nvSpPr>
            <p:cNvPr id="519" name="Rectangle 5"/>
            <p:cNvSpPr/>
            <p:nvPr/>
          </p:nvSpPr>
          <p:spPr>
            <a:xfrm>
              <a:off x="210960" y="2240280"/>
              <a:ext cx="257832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gment Character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ares of the family (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arly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9"/>
            <p:cNvSpPr/>
            <p:nvPr/>
          </p:nvSpPr>
          <p:spPr>
            <a:xfrm>
              <a:off x="210960" y="1568520"/>
              <a:ext cx="2578320" cy="67284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descrip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e 21"/>
          <p:cNvGrpSpPr/>
          <p:nvPr/>
        </p:nvGrpSpPr>
        <p:grpSpPr>
          <a:xfrm>
            <a:off x="2854440" y="1568520"/>
            <a:ext cx="1962000" cy="5030640"/>
            <a:chOff x="2854440" y="1568520"/>
            <a:chExt cx="1962000" cy="5030640"/>
          </a:xfrm>
        </p:grpSpPr>
        <p:sp>
          <p:nvSpPr>
            <p:cNvPr id="522" name="Rectangle 5"/>
            <p:cNvSpPr/>
            <p:nvPr/>
          </p:nvSpPr>
          <p:spPr>
            <a:xfrm>
              <a:off x="285444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19"/>
            <p:cNvSpPr/>
            <p:nvPr/>
          </p:nvSpPr>
          <p:spPr>
            <a:xfrm>
              <a:off x="2854440" y="1568520"/>
              <a:ext cx="1962000" cy="6728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e 22"/>
          <p:cNvGrpSpPr/>
          <p:nvPr/>
        </p:nvGrpSpPr>
        <p:grpSpPr>
          <a:xfrm>
            <a:off x="4881600" y="1568520"/>
            <a:ext cx="1960560" cy="5030640"/>
            <a:chOff x="4881600" y="1568520"/>
            <a:chExt cx="1960560" cy="5030640"/>
          </a:xfrm>
        </p:grpSpPr>
        <p:sp>
          <p:nvSpPr>
            <p:cNvPr id="525" name="Rectangle 5"/>
            <p:cNvSpPr/>
            <p:nvPr/>
          </p:nvSpPr>
          <p:spPr>
            <a:xfrm>
              <a:off x="4881600" y="2240280"/>
              <a:ext cx="196056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9"/>
            <p:cNvSpPr/>
            <p:nvPr/>
          </p:nvSpPr>
          <p:spPr>
            <a:xfrm>
              <a:off x="4881600" y="1568520"/>
              <a:ext cx="1960560" cy="6728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e 23"/>
          <p:cNvGrpSpPr/>
          <p:nvPr/>
        </p:nvGrpSpPr>
        <p:grpSpPr>
          <a:xfrm>
            <a:off x="6907320" y="1568520"/>
            <a:ext cx="1962000" cy="5030640"/>
            <a:chOff x="6907320" y="1568520"/>
            <a:chExt cx="1962000" cy="5030640"/>
          </a:xfrm>
        </p:grpSpPr>
        <p:sp>
          <p:nvSpPr>
            <p:cNvPr id="528" name="Rectangle 5"/>
            <p:cNvSpPr/>
            <p:nvPr/>
          </p:nvSpPr>
          <p:spPr>
            <a:xfrm>
              <a:off x="6907320" y="2240280"/>
              <a:ext cx="1962000" cy="43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87200" indent="-187200">
                <a:lnSpc>
                  <a:spcPct val="150000"/>
                </a:lnSpc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9"/>
            <p:cNvSpPr/>
            <p:nvPr/>
          </p:nvSpPr>
          <p:spPr>
            <a:xfrm>
              <a:off x="6907320" y="1568520"/>
              <a:ext cx="1962000" cy="672840"/>
            </a:xfrm>
            <a:prstGeom prst="rect">
              <a:avLst/>
            </a:prstGeom>
            <a:solidFill>
              <a:srgbClr val="00b0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(Country…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2E08-2C01-4B68-A7DA-F739FF08FA60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98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1. Internal Need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pecifications / Product / Service production: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echnology changes to come / Specific quality &amp; logistic requests 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Significant quantity changes for specific components or services</a:t>
            </a:r>
            <a:br>
              <a:rPr sz="1200"/>
            </a:br>
            <a:r>
              <a:rPr b="0" lang="fr-FR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Out sourcing trends, Purchase to be done in LCC (targeted market share …)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2" name="Espace réservé du numéro de diapositive 10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51C9-368E-4250-BCA4-F455759D22F6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717480" y="1811160"/>
          <a:ext cx="8101080" cy="4424400"/>
        </p:xfrm>
        <a:graphic>
          <a:graphicData uri="http://schemas.openxmlformats.org/drawingml/2006/table">
            <a:tbl>
              <a:tblPr/>
              <a:tblGrid>
                <a:gridCol w="390600"/>
                <a:gridCol w="4307040"/>
                <a:gridCol w="3403440"/>
              </a:tblGrid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d1f0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ower cost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chnology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cess expertis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ve mandate to cut cos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up internal resources for more strategic proces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dding non-core oper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the number of people on the payro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rage vendors’ </a:t>
                      </a: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-engineering sk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ve fixed assets from our balance sh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 not handle the spikes and drops in processing volum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AutoShape 55"/>
          <p:cNvSpPr/>
          <p:nvPr/>
        </p:nvSpPr>
        <p:spPr>
          <a:xfrm rot="5400000">
            <a:off x="-1867680" y="3871440"/>
            <a:ext cx="4427640" cy="307080"/>
          </a:xfrm>
          <a:custGeom>
            <a:avLst/>
            <a:gdLst>
              <a:gd name="textAreaLeft" fmla="*/ 0 w 4427640"/>
              <a:gd name="textAreaRight" fmla="*/ 4428000 w 4427640"/>
              <a:gd name="textAreaTop" fmla="*/ 0 h 307080"/>
              <a:gd name="textAreaBottom" fmla="*/ 307440 h 30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0" y="0"/>
                </a:lnTo>
                <a:lnTo>
                  <a:pt x="21600" y="10800"/>
                </a:lnTo>
                <a:lnTo>
                  <a:pt x="20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der to Dis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6"/>
          <p:cNvSpPr/>
          <p:nvPr/>
        </p:nvSpPr>
        <p:spPr>
          <a:xfrm>
            <a:off x="63360" y="6521400"/>
            <a:ext cx="1651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1440" bIns="9144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Forr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e 21"/>
          <p:cNvGrpSpPr/>
          <p:nvPr/>
        </p:nvGrpSpPr>
        <p:grpSpPr>
          <a:xfrm>
            <a:off x="6134040" y="1511280"/>
            <a:ext cx="2832120" cy="5086440"/>
            <a:chOff x="6134040" y="1511280"/>
            <a:chExt cx="2832120" cy="5086440"/>
          </a:xfrm>
        </p:grpSpPr>
        <p:sp>
          <p:nvSpPr>
            <p:cNvPr id="537" name="Text Box 10"/>
            <p:cNvSpPr/>
            <p:nvPr/>
          </p:nvSpPr>
          <p:spPr>
            <a:xfrm>
              <a:off x="625392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6253200" y="1511280"/>
              <a:ext cx="2712960" cy="396720"/>
            </a:xfrm>
            <a:prstGeom prst="rect">
              <a:avLst/>
            </a:prstGeom>
            <a:solidFill>
              <a:srgbClr val="00a2d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3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39" name="Object 6"/>
            <p:cNvGraphicFramePr/>
            <p:nvPr/>
          </p:nvGraphicFramePr>
          <p:xfrm>
            <a:off x="6134040" y="1957680"/>
            <a:ext cx="2725560" cy="181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0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404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1" name="Groupe 19"/>
          <p:cNvGrpSpPr/>
          <p:nvPr/>
        </p:nvGrpSpPr>
        <p:grpSpPr>
          <a:xfrm>
            <a:off x="38160" y="1511280"/>
            <a:ext cx="2832120" cy="5086440"/>
            <a:chOff x="38160" y="1511280"/>
            <a:chExt cx="2832120" cy="5086440"/>
          </a:xfrm>
        </p:grpSpPr>
        <p:sp>
          <p:nvSpPr>
            <p:cNvPr id="542" name="Text Box 10"/>
            <p:cNvSpPr/>
            <p:nvPr/>
          </p:nvSpPr>
          <p:spPr>
            <a:xfrm>
              <a:off x="158040" y="1920240"/>
              <a:ext cx="271224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4"/>
            <p:cNvSpPr/>
            <p:nvPr/>
          </p:nvSpPr>
          <p:spPr>
            <a:xfrm>
              <a:off x="157320" y="1511280"/>
              <a:ext cx="2712960" cy="3967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1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4" name="Object 6"/>
            <p:cNvGraphicFramePr/>
            <p:nvPr/>
          </p:nvGraphicFramePr>
          <p:xfrm>
            <a:off x="38160" y="1957680"/>
            <a:ext cx="2725560" cy="1819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5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160" y="1957680"/>
                      <a:ext cx="272556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46" name="Groupe 20"/>
          <p:cNvGrpSpPr/>
          <p:nvPr/>
        </p:nvGrpSpPr>
        <p:grpSpPr>
          <a:xfrm>
            <a:off x="3086280" y="1511280"/>
            <a:ext cx="2831760" cy="5086440"/>
            <a:chOff x="3086280" y="1511280"/>
            <a:chExt cx="2831760" cy="5086440"/>
          </a:xfrm>
        </p:grpSpPr>
        <p:sp>
          <p:nvSpPr>
            <p:cNvPr id="547" name="Text Box 10"/>
            <p:cNvSpPr/>
            <p:nvPr/>
          </p:nvSpPr>
          <p:spPr>
            <a:xfrm>
              <a:off x="3206160" y="1920240"/>
              <a:ext cx="2711880" cy="46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Top 5 suppliers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1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urnover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et result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mployees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eo cover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spcBef>
                  <a:spcPts val="689"/>
                </a:spcBef>
                <a:buClr>
                  <a:srgbClr val="bbe0e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pplier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14"/>
            <p:cNvSpPr/>
            <p:nvPr/>
          </p:nvSpPr>
          <p:spPr>
            <a:xfrm>
              <a:off x="3205440" y="1511280"/>
              <a:ext cx="2712600" cy="3967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gment 2: .........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9" name="Object 6"/>
            <p:cNvGraphicFramePr/>
            <p:nvPr/>
          </p:nvGraphicFramePr>
          <p:xfrm>
            <a:off x="3086280" y="1957680"/>
            <a:ext cx="2725200" cy="1819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5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86280" y="1957680"/>
                      <a:ext cx="2725200" cy="18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3604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2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F62C-DEC1-49C9-985B-14E09665FAC9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492120" y="1562040"/>
            <a:ext cx="8159760" cy="2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54000" bIns="54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ey Trends in the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703440" y="196848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703440" y="2349360"/>
            <a:ext cx="3589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4524480" y="196848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4524480" y="2349360"/>
            <a:ext cx="358596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81080" indent="-181080">
              <a:lnSpc>
                <a:spcPct val="90000"/>
              </a:lnSpc>
              <a:spcBef>
                <a:spcPts val="374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8"/>
          <p:cNvSpPr/>
          <p:nvPr/>
        </p:nvSpPr>
        <p:spPr>
          <a:xfrm>
            <a:off x="703440" y="4368960"/>
            <a:ext cx="358920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703440" y="4749840"/>
            <a:ext cx="358920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33200" indent="-13320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4524480" y="4368960"/>
            <a:ext cx="3585960" cy="380880"/>
          </a:xfrm>
          <a:prstGeom prst="rect">
            <a:avLst/>
          </a:prstGeom>
          <a:solidFill>
            <a:srgbClr val="cecee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r" pos="834552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4524480" y="4749840"/>
            <a:ext cx="3585960" cy="17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280" rIns="71280" tIns="71280" bIns="71280" anchor="t">
            <a:noAutofit/>
          </a:bodyPr>
          <a:p>
            <a:pPr marL="169920" indent="-169920">
              <a:lnSpc>
                <a:spcPct val="90000"/>
              </a:lnSpc>
              <a:spcBef>
                <a:spcPts val="1250"/>
              </a:spcBef>
              <a:buClr>
                <a:srgbClr val="008f6d"/>
              </a:buClr>
              <a:buSzPct val="110000"/>
              <a:buFont typeface="Arial"/>
              <a:buChar char="•"/>
              <a:tabLst>
                <a:tab algn="r" pos="834552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space réservé du numéro de diapositive 32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B7BF-5A3B-42DA-BEEA-2A14F96CA22E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Companies, current and new technologies &amp; services involved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urrent main suppliers and new comer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upplier news and financial situation</a:t>
            </a:r>
            <a:br>
              <a:rPr sz="1200"/>
            </a:b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Level of turnover per purchasing families and areas</a:t>
            </a:r>
            <a:br>
              <a:rPr sz="1400"/>
            </a:b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5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39A9-9BFE-4A69-B80A-280CA6ED043B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Groupe 24"/>
          <p:cNvGrpSpPr/>
          <p:nvPr/>
        </p:nvGrpSpPr>
        <p:grpSpPr>
          <a:xfrm>
            <a:off x="210960" y="1568520"/>
            <a:ext cx="4146840" cy="4932360"/>
            <a:chOff x="210960" y="1568520"/>
            <a:chExt cx="4146840" cy="4932360"/>
          </a:xfrm>
        </p:grpSpPr>
        <p:sp>
          <p:nvSpPr>
            <p:cNvPr id="567" name="Rectangle 5"/>
            <p:cNvSpPr/>
            <p:nvPr/>
          </p:nvSpPr>
          <p:spPr>
            <a:xfrm>
              <a:off x="210960" y="196668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300"/>
                </a:spcBef>
                <a:buClr>
                  <a:srgbClr val="ce1111"/>
                </a:buClr>
                <a:buFont typeface="Wingdings 2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9"/>
            <p:cNvSpPr/>
            <p:nvPr/>
          </p:nvSpPr>
          <p:spPr>
            <a:xfrm>
              <a:off x="210960" y="156852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drivers &amp; Breakdow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e 24"/>
          <p:cNvGrpSpPr/>
          <p:nvPr/>
        </p:nvGrpSpPr>
        <p:grpSpPr>
          <a:xfrm>
            <a:off x="4643280" y="1571760"/>
            <a:ext cx="4146840" cy="4932360"/>
            <a:chOff x="4643280" y="1571760"/>
            <a:chExt cx="4146840" cy="4932360"/>
          </a:xfrm>
        </p:grpSpPr>
        <p:sp>
          <p:nvSpPr>
            <p:cNvPr id="570" name="Rectangle 5"/>
            <p:cNvSpPr/>
            <p:nvPr/>
          </p:nvSpPr>
          <p:spPr>
            <a:xfrm>
              <a:off x="4643280" y="1969920"/>
              <a:ext cx="4146840" cy="453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5840" indent="-285840"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9"/>
            <p:cNvSpPr/>
            <p:nvPr/>
          </p:nvSpPr>
          <p:spPr>
            <a:xfrm>
              <a:off x="4643280" y="1571760"/>
              <a:ext cx="4146840" cy="399960"/>
            </a:xfrm>
            <a:prstGeom prst="rect">
              <a:avLst/>
            </a:prstGeom>
            <a:solidFill>
              <a:srgbClr val="d1d1f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r Sourcing &amp; Access to Mark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2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1571760" y="5316480"/>
            <a:ext cx="143964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Espace réservé du numéro de diapositive 14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FF27-3879-41CD-A10F-DC8988A91A8F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71280" y="6643440"/>
            <a:ext cx="74883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560" bIns="25560" anchor="b">
            <a:sp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urce: Stakeholder Interviews,12/2005 – 02/2006; Cap Gemini Analysis,-10/20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With"/>
          <p:cNvPicPr/>
          <p:nvPr/>
        </p:nvPicPr>
        <p:blipFill>
          <a:blip r:embed="rId1">
            <a:alphaModFix amt="75000"/>
          </a:blip>
          <a:stretch/>
        </p:blipFill>
        <p:spPr>
          <a:xfrm>
            <a:off x="2073240" y="1357200"/>
            <a:ext cx="5149800" cy="417204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6"/>
          <p:cNvSpPr/>
          <p:nvPr/>
        </p:nvSpPr>
        <p:spPr>
          <a:xfrm>
            <a:off x="5286240" y="1671480"/>
            <a:ext cx="356400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gotiate deals with suppliers– e.g. rebates and indemnity lim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strong relationships with preferred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incentives 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es tied to work type e.g. fixed for transactional, value based for liti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Rectangle 7"/>
          <p:cNvGrpSpPr/>
          <p:nvPr/>
        </p:nvGrpSpPr>
        <p:grpSpPr>
          <a:xfrm>
            <a:off x="6059520" y="3054240"/>
            <a:ext cx="2822400" cy="603360"/>
            <a:chOff x="6059520" y="3054240"/>
            <a:chExt cx="2822400" cy="603360"/>
          </a:xfrm>
        </p:grpSpPr>
        <p:pic>
          <p:nvPicPr>
            <p:cNvPr id="578" name="Rectangle 7" descr=""/>
            <p:cNvPicPr/>
            <p:nvPr/>
          </p:nvPicPr>
          <p:blipFill>
            <a:blip r:embed="rId2"/>
            <a:stretch/>
          </p:blipFill>
          <p:spPr>
            <a:xfrm>
              <a:off x="6059520" y="3054240"/>
              <a:ext cx="28224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6072120" y="3071880"/>
              <a:ext cx="279576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petitive tendering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verage scale to improve quality and commercial benef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Rectangle 8"/>
          <p:cNvGrpSpPr/>
          <p:nvPr/>
        </p:nvGrpSpPr>
        <p:grpSpPr>
          <a:xfrm>
            <a:off x="6754680" y="4084560"/>
            <a:ext cx="2187720" cy="736560"/>
            <a:chOff x="6754680" y="4084560"/>
            <a:chExt cx="2187720" cy="736560"/>
          </a:xfrm>
        </p:grpSpPr>
        <p:pic>
          <p:nvPicPr>
            <p:cNvPr id="581" name="Rectangle 8" descr=""/>
            <p:cNvPicPr/>
            <p:nvPr/>
          </p:nvPicPr>
          <p:blipFill>
            <a:blip r:embed="rId3"/>
            <a:stretch/>
          </p:blipFill>
          <p:spPr>
            <a:xfrm>
              <a:off x="6754680" y="4084560"/>
              <a:ext cx="218772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6767640" y="4097160"/>
              <a:ext cx="216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hannel non-compliant spend through approved lis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llocate preferred suppliers for different types of 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Rectangle 9"/>
          <p:cNvGrpSpPr/>
          <p:nvPr/>
        </p:nvGrpSpPr>
        <p:grpSpPr>
          <a:xfrm>
            <a:off x="5888160" y="5522760"/>
            <a:ext cx="3127320" cy="817560"/>
            <a:chOff x="5888160" y="5522760"/>
            <a:chExt cx="3127320" cy="817560"/>
          </a:xfrm>
        </p:grpSpPr>
        <p:pic>
          <p:nvPicPr>
            <p:cNvPr id="584" name="Rectangle 9" descr=""/>
            <p:cNvPicPr/>
            <p:nvPr/>
          </p:nvPicPr>
          <p:blipFill>
            <a:blip r:embed="rId4"/>
            <a:stretch/>
          </p:blipFill>
          <p:spPr>
            <a:xfrm>
              <a:off x="5888160" y="5522760"/>
              <a:ext cx="31273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905440" y="5535720"/>
              <a:ext cx="3095640" cy="76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solidate invo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tandard terms and conditions and discounted pricing for all activities by each suppl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66760" indent="-1522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lear charging mechanis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Text Box 10"/>
          <p:cNvSpPr/>
          <p:nvPr/>
        </p:nvSpPr>
        <p:spPr>
          <a:xfrm>
            <a:off x="3759120" y="5533920"/>
            <a:ext cx="21304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-engineer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payment process for solicitors, expert witnesses and ex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-71280" y="3807000"/>
            <a:ext cx="29289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icy on use of Legal Services in order to reduce maverick spend and exposure to ri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lance work completed externally vs. intern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2080" indent="-20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demand for varying types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2"/>
          <p:cNvSpPr/>
          <p:nvPr/>
        </p:nvSpPr>
        <p:spPr>
          <a:xfrm>
            <a:off x="388800" y="2859120"/>
            <a:ext cx="29689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aboration with other Business Units or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152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 framework agreements with QC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839880" y="1787400"/>
            <a:ext cx="3160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specification for transactional external solicitors’ wor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Levels agreed for external solicito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428760" y="5529240"/>
            <a:ext cx="3457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relationship and associated risk of ad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are legal advice for potential duplications e.g. Same kind of issue for different 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tiation of  charges prior to work commencing e.g. Fixed fees for small and routine 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82600" y="188640"/>
            <a:ext cx="7680240" cy="1268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2. Worldwide Market Analysis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st drivers / Typical cost breakdown :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Which parameters push price evolutions and trend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Currency, Volume and Raw materials impacts 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   - 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Typical cost breakdown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4000" y="188640"/>
            <a:ext cx="7680240" cy="1143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marL="36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3. Suppliers qualification process, cost comparison </a:t>
            </a:r>
            <a:br>
              <a:rPr sz="24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Qualification and evaluation process for suppliers all purchasing parameters combined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upplier mapping versus key needs / internal constraints</a:t>
            </a:r>
            <a:endParaRPr b="1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69627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6F9D-20A1-46EB-8C8B-3257D6FBB6C3}" type="slidenum">
              <a:rPr b="0" lang="en-US" sz="1000" spc="-1" strike="noStrike">
                <a:solidFill>
                  <a:srgbClr val="c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365040" y="1609560"/>
          <a:ext cx="8448840" cy="4199040"/>
        </p:xfrm>
        <a:graphic>
          <a:graphicData uri="http://schemas.openxmlformats.org/drawingml/2006/table">
            <a:tbl>
              <a:tblPr/>
              <a:tblGrid>
                <a:gridCol w="1081080"/>
                <a:gridCol w="1833480"/>
                <a:gridCol w="729000"/>
                <a:gridCol w="961920"/>
                <a:gridCol w="960480"/>
                <a:gridCol w="960480"/>
                <a:gridCol w="961920"/>
                <a:gridCol w="960480"/>
              </a:tblGrid>
              <a:tr h="338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needs / internal constra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plier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26172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Area of Experti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Internal knowled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Key Account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Capabil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 Number of expe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Pr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61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stomer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4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 speci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Euro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Wor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 of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7:18:09Z</dcterms:created>
  <dc:creator>Olivier AUDINO</dc:creator>
  <dc:description/>
  <cp:keywords/>
  <dc:language>en-US</dc:language>
  <cp:lastModifiedBy>Olivier Audino</cp:lastModifiedBy>
  <dcterms:modified xsi:type="dcterms:W3CDTF">2014-03-17T22:52:00Z</dcterms:modified>
  <cp:revision>49</cp:revision>
  <dc:subject>Market Strategy</dc:subject>
  <dc:title>Stratégie Ach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