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1A0-92F0-444E-96C5-F6B00110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380-37F9-4FC4-A70C-F226EDDE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F07-3727-4AAC-AFD3-9A79B301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3B3-3531-4C6C-96D8-CA5AA0AD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337-00CE-4ED5-9C92-02931320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E3F-820D-447E-8DAC-D1A7281D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7C9-4C8F-45E3-9F36-1C2D921B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6A8E-20C9-44D3-BE43-4390F925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640-56B9-4031-933A-B237ACDE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AA6-2E78-4943-A3EC-8C2531F8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0F1-1BE2-4565-B92F-25B5F10B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83D-E21E-413A-9CDD-A16DFA6C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Page </a:t>
            </a:r>
            <a:fld id="{7FD7221B-CEBB-4D74-B126-6242EE1CF1A8}" type="slidenum">
              <a:rPr b="0" lang="fr-FR" sz="6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   Rapport flash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Livrable N°27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B6FF-6530-41D9-8FB7-91CEB621B3D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156360"/>
            <a:ext cx="91440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Auteur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création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B2797C2F-7EA5-4094-A243-F5824C818221}" type="slidenum">
              <a:rPr b="0" lang="fr-FR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om du fichier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modificat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Emplacement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°de vers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rojet X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Rapport flash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Livrable N°27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ebd189"/>
                </a:solidFill>
                <a:latin typeface="Arial"/>
              </a:rPr>
              <a:t>Comité</a:t>
            </a:r>
            <a:br>
              <a:rPr sz="10600"/>
            </a:br>
            <a:r>
              <a:rPr b="1" lang="en-US" sz="10600" spc="-1" strike="noStrike">
                <a:solidFill>
                  <a:srgbClr val="ebd189"/>
                </a:solidFill>
                <a:latin typeface="Arial"/>
              </a:rPr>
              <a:t>de</a:t>
            </a:r>
            <a:br>
              <a:rPr sz="10600"/>
            </a:br>
            <a:r>
              <a:rPr b="1" lang="en-US" sz="10600" spc="-1" strike="noStrike">
                <a:solidFill>
                  <a:srgbClr val="ebd189"/>
                </a:solidFill>
                <a:latin typeface="Arial"/>
              </a:rPr>
              <a:t>pilotage</a:t>
            </a:r>
            <a:endParaRPr b="0" lang="en-US" sz="106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ité de pilot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at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lann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Livrabl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û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èmes rencontré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roblèm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b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b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olutions proposé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MARCHAT Hugues</cp:lastModifiedBy>
  <dcterms:modified xsi:type="dcterms:W3CDTF">2000-07-05T20:21:25Z</dcterms:modified>
  <cp:revision>11</cp:revision>
  <dc:subject/>
  <dc:title>Organigramme projet</dc:title>
</cp:coreProperties>
</file>