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9EF-368D-4475-9801-57005348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D0F-8840-4F19-B5BB-D9E8E632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E75-A7F6-4F47-87FB-E1AE5D9C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D92-395F-474C-B2E3-7ECA043A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88B4-F91F-4229-8B91-5B2B9DA2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575D-B529-4AD6-AE55-BF8DA0B3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28DB-0FF2-4B3A-86A3-1549EF58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EF60-E418-4D18-B90A-7140452E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4B20-76CD-4BF9-A079-8CDEC25E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CA06-D3FF-4D80-AD51-CD0C8C1D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46D9-ECEB-40B6-B9F0-04BC9C74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DB9-8C1C-4728-97ED-89BE715A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46D6-C7FC-4747-8D28-D6D553B8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DDD6-C7D5-47D6-9408-9A5FFA4C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0A5B-7FAA-46A4-AE6A-9A78769F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619A-E139-42F5-8281-1131F623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423A-35A0-42A0-B0F6-730C7627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8A3-3422-408F-8ECE-4C64FA29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3D8-AACE-4194-9549-B6DF2148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31E-2D52-4D80-A853-980752B6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7D9-F0AA-4154-95D3-2D119164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065-8D19-4825-B4C7-E11AF1C3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01D-1A69-4FF9-9B9E-7C83FA15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E65-DB17-4D97-80AA-572BBDA3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772F-5D71-4101-9DC7-1D57447B58F4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48BF5B0E-BA35-4194-9D11-AFC188FFC509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Nom du documen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Livrable N°10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891E-5C7B-4174-9A7B-A1861CCE864D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683FD8D1-86BC-4E77-8718-E35FC554E2AA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Rapport final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e qui a été réalisé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fs complément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9040" y="8366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s problèmes rencontré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e qu’il faut amélior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e qu’il faut renouvel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merci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MARCHAT Hugues</cp:lastModifiedBy>
  <dcterms:modified xsi:type="dcterms:W3CDTF">2000-07-04T21:30:22Z</dcterms:modified>
  <cp:revision>10</cp:revision>
  <dc:subject/>
  <dc:title>Organigramme projet</dc:title>
</cp:coreProperties>
</file>