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74E-3B49-41CA-B377-1E3E85C9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F9E-382A-482C-9FE0-56AD06B1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A59-56F0-45F8-BC3B-909ED105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6AE-73B1-47DF-8523-90F138A3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B91-9CEB-4C65-9FAD-7C6AAA3D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4FA2-A445-4CC1-BE22-5D571E6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30CC-F827-4CCE-A61D-62EDE8E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8FFC-0A00-4A68-8B8B-A62C16D7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088A-D8E1-4B71-BC5A-B8596041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BB0C-6942-48A4-ABC8-25195B6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BF13-E566-4749-A2E1-43EFE5AF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B61-FB3C-4C1D-A24F-5020298C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8B24-5CF3-40DD-856C-AAEBB6E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E20-BCD7-42BB-AC77-FBCA45E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D79C-A511-411D-BEB9-DA6E706A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1B07-9F0E-4665-AEAC-7C650069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AB35-D44F-4E96-B495-6B8393C2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847-7D8E-448C-920B-241C09F9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3B6-1802-4F94-AE12-C2C20126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F76-0CAE-451D-B6C7-23CB4708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52C-741A-4E4F-90C7-0BD67DD6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ECB-CDD2-48B9-9D50-963B01FC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E2D-63BA-4723-932F-DE8F941A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9DF-E028-4FD5-9DC7-06F79348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405D-0C01-488F-834D-C1F706093D39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F25A2CB4-4252-40FB-95D9-0849041E2A78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Nom du documen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10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D34D-3832-4158-9BCF-B5D20B666FDE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416B2B2A-29DD-4157-B1F5-D5E63C3AB52F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Rapport final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i a été réalis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fs complément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8366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s problèmes rencontré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’il faut améli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’il faut renouvel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merci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MARCHAT Hugues</cp:lastModifiedBy>
  <dcterms:modified xsi:type="dcterms:W3CDTF">2000-07-04T21:30:22Z</dcterms:modified>
  <cp:revision>10</cp:revision>
  <dc:subject/>
  <dc:title>Organigramme projet</dc:title>
</cp:coreProperties>
</file>