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B44-35D1-4027-A492-430D7BC2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AED-D4DC-4749-B466-FB5CC58D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911-782E-40B4-A42B-915B9281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F90-6ABA-406A-8B46-26AD3E01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367-4F5C-4262-BFA1-98D382C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7CE-3C6B-42B7-BB04-D844D65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FFD-F1D6-49B5-9D11-AE0811D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7F2-CB77-47F0-A5D5-68DA59C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D78-38F1-4C62-951E-EFDEAAB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BF6-945F-4FC0-8528-87DE8FDD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334-75D6-4FB5-95D6-E6E91118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68B-F89B-49CA-9C5F-77076079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4A627BDF-F20D-4574-ACDF-4B2381194036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9FBF-C3A2-41B7-AA81-527053D1BC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0F862BC3-03E5-47B1-87B4-DEE572BE83AB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at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ann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ivrabl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û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oblèm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5T20:21:25Z</dcterms:modified>
  <cp:revision>11</cp:revision>
  <dc:subject/>
  <dc:title>Organigramme projet</dc:title>
</cp:coreProperties>
</file>