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CE2-E9D5-4B26-AD9D-CDCDE85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B41-600A-4556-A485-CDB273A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48A-BE63-4AE4-9C78-E1045623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5E0-3630-40DF-B643-16B8BE6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4C4-CCEF-4FF8-8AA6-F2CE5B46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7FDC-84F5-48B8-90BF-F67696D7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01F8-E3B0-492B-968A-0E8F3B9A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4C2-5353-49CE-8CE4-2C14B9C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FFEF-18FB-4A17-991D-1A125D4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7AC3-9427-4B3D-A4A6-FE6CA56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743-D3F2-4649-B0AF-786C20C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BE1-1CF6-4F71-82F4-446C20D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95A-467A-46D4-BAF0-AAF9011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257F-388A-48F2-A4A5-ACAD76C5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C3F8-1A23-413B-87A0-6CC2C1E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FD4-F996-4D29-8637-A8D4FA6C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74A-BE46-43DD-9418-917E2F70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ACA-CF54-4D26-B630-F4BB113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1F8-BCAF-4EFB-BA0D-07116B4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3F6-1E52-4376-AA8E-FB2DC70F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78A-6D89-473A-BF3A-C99F7017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6C2-6C63-4515-B1D1-23C8FFB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508-0DFF-465E-8A5D-1A2033E5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8DF-9D95-41AD-B4CC-9A58EBE2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F45-59C0-4853-A17A-F6C339EEB51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4A56DFC3-028C-46AD-B4AD-4BE1C72A86E4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Nom du documen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10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5A5-9E2B-4DD7-9EE6-D34142A091C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EE00F664-B3AE-4A36-B37F-8CF32EF2E7F1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fs complément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8366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4T21:30:22Z</dcterms:modified>
  <cp:revision>10</cp:revision>
  <dc:subject/>
  <dc:title>Organigramme projet</dc:title>
</cp:coreProperties>
</file>