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0F74E-C190-4384-87B5-6F133F0062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A036A-532D-4748-A584-C85C55A62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2DE2-B28A-4D41-A1AF-C351F6B2F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31451-0B7D-4453-AE20-620B67EE3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B581-55AF-4286-92B1-17F42F644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A770-20D3-419B-85AB-47F1D4E01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F5E26-7F46-4D81-8BEF-10C3CAC1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FEF8-8577-40A9-AE55-F43CFBC2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0EF5-063B-4694-B514-5588D8D76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2EFB-9A0A-461C-8B90-1F298C957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73AD-B874-447B-B5C8-463D49F06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69468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322320" y="16765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1066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69468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322320" y="3826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701C-B58F-44B1-90E3-43D202D05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0666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49360" y="3826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6668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9360" y="16765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066680" y="3826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0666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9900"/>
              </a:buClr>
              <a:buSzPct val="6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b97c01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55bad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eaeaea"/>
              </a:buClr>
              <a:buSzPct val="5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Auteur :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  Page </a:t>
            </a:r>
            <a:fld id="{5B0666BB-E415-42DA-8DDE-FB9D7C9B4FC2}" type="slidenum">
              <a:rPr b="0" lang="fr-FR" sz="6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Nom du fichier : 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Emplacement : 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Projet X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                                                           Rapport flash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eaeaea"/>
                </a:solidFill>
                <a:latin typeface="Arial"/>
              </a:rPr>
              <a:t>        Livrable N°27</a:t>
            </a:r>
            <a:endParaRPr b="0" lang="en-US" sz="6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11160" y="1836720"/>
            <a:ext cx="2268720" cy="2709720"/>
          </a:xfrm>
          <a:custGeom>
            <a:avLst/>
            <a:gdLst/>
            <a:ahLst/>
            <a:rect l="l" t="t" r="r" b="b"/>
            <a:pathLst>
              <a:path w="1429" h="1707">
                <a:moveTo>
                  <a:pt x="808" y="283"/>
                </a:moveTo>
                <a:lnTo>
                  <a:pt x="673" y="252"/>
                </a:lnTo>
                <a:lnTo>
                  <a:pt x="654" y="0"/>
                </a:lnTo>
                <a:lnTo>
                  <a:pt x="488" y="13"/>
                </a:lnTo>
                <a:lnTo>
                  <a:pt x="476" y="252"/>
                </a:lnTo>
                <a:lnTo>
                  <a:pt x="365" y="290"/>
                </a:lnTo>
                <a:lnTo>
                  <a:pt x="206" y="86"/>
                </a:lnTo>
                <a:lnTo>
                  <a:pt x="95" y="148"/>
                </a:lnTo>
                <a:lnTo>
                  <a:pt x="200" y="376"/>
                </a:lnTo>
                <a:lnTo>
                  <a:pt x="126" y="450"/>
                </a:lnTo>
                <a:lnTo>
                  <a:pt x="0" y="423"/>
                </a:lnTo>
                <a:lnTo>
                  <a:pt x="0" y="1273"/>
                </a:lnTo>
                <a:lnTo>
                  <a:pt x="101" y="1226"/>
                </a:lnTo>
                <a:lnTo>
                  <a:pt x="181" y="1306"/>
                </a:lnTo>
                <a:lnTo>
                  <a:pt x="70" y="1509"/>
                </a:lnTo>
                <a:lnTo>
                  <a:pt x="175" y="1596"/>
                </a:lnTo>
                <a:lnTo>
                  <a:pt x="365" y="1411"/>
                </a:lnTo>
                <a:lnTo>
                  <a:pt x="476" y="1448"/>
                </a:lnTo>
                <a:lnTo>
                  <a:pt x="501" y="1700"/>
                </a:lnTo>
                <a:lnTo>
                  <a:pt x="667" y="1707"/>
                </a:lnTo>
                <a:lnTo>
                  <a:pt x="685" y="1442"/>
                </a:lnTo>
                <a:lnTo>
                  <a:pt x="826" y="1405"/>
                </a:lnTo>
                <a:lnTo>
                  <a:pt x="993" y="1590"/>
                </a:lnTo>
                <a:lnTo>
                  <a:pt x="1103" y="1522"/>
                </a:lnTo>
                <a:lnTo>
                  <a:pt x="993" y="1300"/>
                </a:lnTo>
                <a:lnTo>
                  <a:pt x="1067" y="1207"/>
                </a:lnTo>
                <a:lnTo>
                  <a:pt x="1288" y="1312"/>
                </a:lnTo>
                <a:lnTo>
                  <a:pt x="1355" y="1196"/>
                </a:lnTo>
                <a:lnTo>
                  <a:pt x="1153" y="1047"/>
                </a:lnTo>
                <a:lnTo>
                  <a:pt x="1177" y="918"/>
                </a:lnTo>
                <a:lnTo>
                  <a:pt x="1429" y="894"/>
                </a:lnTo>
                <a:lnTo>
                  <a:pt x="1423" y="764"/>
                </a:lnTo>
                <a:lnTo>
                  <a:pt x="1171" y="727"/>
                </a:lnTo>
                <a:lnTo>
                  <a:pt x="1146" y="629"/>
                </a:lnTo>
                <a:lnTo>
                  <a:pt x="1349" y="487"/>
                </a:lnTo>
                <a:lnTo>
                  <a:pt x="1282" y="370"/>
                </a:lnTo>
                <a:lnTo>
                  <a:pt x="1054" y="462"/>
                </a:lnTo>
                <a:lnTo>
                  <a:pt x="980" y="388"/>
                </a:lnTo>
                <a:lnTo>
                  <a:pt x="1097" y="173"/>
                </a:lnTo>
                <a:lnTo>
                  <a:pt x="986" y="105"/>
                </a:lnTo>
                <a:lnTo>
                  <a:pt x="808" y="283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555ba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08000" y="15840"/>
            <a:ext cx="838080" cy="787320"/>
          </a:xfrm>
          <a:custGeom>
            <a:avLst/>
            <a:gdLst/>
            <a:ahLst/>
            <a:rect l="l" t="t" r="r" b="b"/>
            <a:pathLst>
              <a:path w="528" h="496">
                <a:moveTo>
                  <a:pt x="335" y="56"/>
                </a:moveTo>
                <a:lnTo>
                  <a:pt x="293" y="46"/>
                </a:lnTo>
                <a:lnTo>
                  <a:pt x="288" y="0"/>
                </a:lnTo>
                <a:lnTo>
                  <a:pt x="238" y="0"/>
                </a:lnTo>
                <a:lnTo>
                  <a:pt x="232" y="46"/>
                </a:lnTo>
                <a:lnTo>
                  <a:pt x="198" y="58"/>
                </a:lnTo>
                <a:lnTo>
                  <a:pt x="146" y="0"/>
                </a:lnTo>
                <a:lnTo>
                  <a:pt x="114" y="14"/>
                </a:lnTo>
                <a:lnTo>
                  <a:pt x="147" y="84"/>
                </a:lnTo>
                <a:lnTo>
                  <a:pt x="124" y="107"/>
                </a:lnTo>
                <a:lnTo>
                  <a:pt x="50" y="81"/>
                </a:lnTo>
                <a:lnTo>
                  <a:pt x="32" y="109"/>
                </a:lnTo>
                <a:lnTo>
                  <a:pt x="90" y="159"/>
                </a:lnTo>
                <a:lnTo>
                  <a:pt x="80" y="197"/>
                </a:lnTo>
                <a:lnTo>
                  <a:pt x="2" y="202"/>
                </a:lnTo>
                <a:lnTo>
                  <a:pt x="0" y="244"/>
                </a:lnTo>
                <a:lnTo>
                  <a:pt x="80" y="256"/>
                </a:lnTo>
                <a:lnTo>
                  <a:pt x="88" y="292"/>
                </a:lnTo>
                <a:lnTo>
                  <a:pt x="29" y="345"/>
                </a:lnTo>
                <a:lnTo>
                  <a:pt x="50" y="378"/>
                </a:lnTo>
                <a:lnTo>
                  <a:pt x="116" y="347"/>
                </a:lnTo>
                <a:lnTo>
                  <a:pt x="141" y="372"/>
                </a:lnTo>
                <a:lnTo>
                  <a:pt x="107" y="435"/>
                </a:lnTo>
                <a:lnTo>
                  <a:pt x="139" y="462"/>
                </a:lnTo>
                <a:lnTo>
                  <a:pt x="198" y="404"/>
                </a:lnTo>
                <a:lnTo>
                  <a:pt x="232" y="416"/>
                </a:lnTo>
                <a:lnTo>
                  <a:pt x="240" y="494"/>
                </a:lnTo>
                <a:lnTo>
                  <a:pt x="292" y="496"/>
                </a:lnTo>
                <a:lnTo>
                  <a:pt x="297" y="414"/>
                </a:lnTo>
                <a:lnTo>
                  <a:pt x="341" y="403"/>
                </a:lnTo>
                <a:lnTo>
                  <a:pt x="393" y="460"/>
                </a:lnTo>
                <a:lnTo>
                  <a:pt x="427" y="439"/>
                </a:lnTo>
                <a:lnTo>
                  <a:pt x="393" y="370"/>
                </a:lnTo>
                <a:lnTo>
                  <a:pt x="416" y="341"/>
                </a:lnTo>
                <a:lnTo>
                  <a:pt x="484" y="374"/>
                </a:lnTo>
                <a:lnTo>
                  <a:pt x="505" y="338"/>
                </a:lnTo>
                <a:lnTo>
                  <a:pt x="442" y="292"/>
                </a:lnTo>
                <a:lnTo>
                  <a:pt x="450" y="252"/>
                </a:lnTo>
                <a:lnTo>
                  <a:pt x="528" y="244"/>
                </a:lnTo>
                <a:lnTo>
                  <a:pt x="526" y="204"/>
                </a:lnTo>
                <a:lnTo>
                  <a:pt x="448" y="193"/>
                </a:lnTo>
                <a:lnTo>
                  <a:pt x="440" y="162"/>
                </a:lnTo>
                <a:lnTo>
                  <a:pt x="503" y="119"/>
                </a:lnTo>
                <a:lnTo>
                  <a:pt x="482" y="82"/>
                </a:lnTo>
                <a:lnTo>
                  <a:pt x="412" y="111"/>
                </a:lnTo>
                <a:lnTo>
                  <a:pt x="389" y="88"/>
                </a:lnTo>
                <a:lnTo>
                  <a:pt x="425" y="21"/>
                </a:lnTo>
                <a:lnTo>
                  <a:pt x="391" y="0"/>
                </a:lnTo>
                <a:lnTo>
                  <a:pt x="335" y="56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fcab4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192320" y="353880"/>
            <a:ext cx="2266920" cy="227016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32240" y="1270080"/>
            <a:ext cx="3670200" cy="36716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40" y="4797360"/>
            <a:ext cx="3417840" cy="2097000"/>
          </a:xfrm>
          <a:custGeom>
            <a:avLst/>
            <a:gdLst/>
            <a:ahLst/>
            <a:rect l="l" t="t" r="r" b="b"/>
            <a:pathLst>
              <a:path w="2153" h="1321">
                <a:moveTo>
                  <a:pt x="1368" y="358"/>
                </a:moveTo>
                <a:lnTo>
                  <a:pt x="1197" y="318"/>
                </a:lnTo>
                <a:lnTo>
                  <a:pt x="1173" y="0"/>
                </a:lnTo>
                <a:lnTo>
                  <a:pt x="964" y="16"/>
                </a:lnTo>
                <a:lnTo>
                  <a:pt x="948" y="318"/>
                </a:lnTo>
                <a:lnTo>
                  <a:pt x="808" y="366"/>
                </a:lnTo>
                <a:lnTo>
                  <a:pt x="606" y="109"/>
                </a:lnTo>
                <a:lnTo>
                  <a:pt x="467" y="187"/>
                </a:lnTo>
                <a:lnTo>
                  <a:pt x="599" y="474"/>
                </a:lnTo>
                <a:lnTo>
                  <a:pt x="506" y="568"/>
                </a:lnTo>
                <a:lnTo>
                  <a:pt x="202" y="459"/>
                </a:lnTo>
                <a:lnTo>
                  <a:pt x="132" y="576"/>
                </a:lnTo>
                <a:lnTo>
                  <a:pt x="365" y="778"/>
                </a:lnTo>
                <a:lnTo>
                  <a:pt x="327" y="933"/>
                </a:lnTo>
                <a:lnTo>
                  <a:pt x="7" y="956"/>
                </a:lnTo>
                <a:lnTo>
                  <a:pt x="0" y="1128"/>
                </a:lnTo>
                <a:lnTo>
                  <a:pt x="327" y="1174"/>
                </a:lnTo>
                <a:lnTo>
                  <a:pt x="358" y="1321"/>
                </a:lnTo>
                <a:lnTo>
                  <a:pt x="1804" y="1321"/>
                </a:lnTo>
                <a:lnTo>
                  <a:pt x="1835" y="1158"/>
                </a:lnTo>
                <a:lnTo>
                  <a:pt x="2153" y="1128"/>
                </a:lnTo>
                <a:lnTo>
                  <a:pt x="2146" y="964"/>
                </a:lnTo>
                <a:lnTo>
                  <a:pt x="1827" y="917"/>
                </a:lnTo>
                <a:lnTo>
                  <a:pt x="1795" y="793"/>
                </a:lnTo>
                <a:lnTo>
                  <a:pt x="2052" y="615"/>
                </a:lnTo>
                <a:lnTo>
                  <a:pt x="1967" y="467"/>
                </a:lnTo>
                <a:lnTo>
                  <a:pt x="1679" y="583"/>
                </a:lnTo>
                <a:lnTo>
                  <a:pt x="1586" y="490"/>
                </a:lnTo>
                <a:lnTo>
                  <a:pt x="1733" y="218"/>
                </a:lnTo>
                <a:lnTo>
                  <a:pt x="1593" y="132"/>
                </a:lnTo>
                <a:lnTo>
                  <a:pt x="1368" y="358"/>
                </a:lnTo>
                <a:close/>
              </a:path>
            </a:pathLst>
          </a:custGeom>
          <a:solidFill>
            <a:srgbClr val="00007a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494240" y="4425840"/>
            <a:ext cx="2263680" cy="226404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7a"/>
              </a:gs>
              <a:gs pos="100000">
                <a:srgbClr val="000054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6600" y="487440"/>
            <a:ext cx="2928960" cy="2930400"/>
          </a:xfrm>
          <a:custGeom>
            <a:avLst/>
            <a:gdLst/>
            <a:ahLst/>
            <a:rect l="l" t="t" r="r" b="b"/>
            <a:pathLst>
              <a:path w="2312" h="2313">
                <a:moveTo>
                  <a:pt x="1469" y="384"/>
                </a:moveTo>
                <a:lnTo>
                  <a:pt x="1285" y="342"/>
                </a:lnTo>
                <a:lnTo>
                  <a:pt x="1260" y="0"/>
                </a:lnTo>
                <a:lnTo>
                  <a:pt x="1035" y="17"/>
                </a:lnTo>
                <a:lnTo>
                  <a:pt x="1018" y="342"/>
                </a:lnTo>
                <a:lnTo>
                  <a:pt x="868" y="393"/>
                </a:lnTo>
                <a:lnTo>
                  <a:pt x="651" y="117"/>
                </a:lnTo>
                <a:lnTo>
                  <a:pt x="501" y="201"/>
                </a:lnTo>
                <a:lnTo>
                  <a:pt x="643" y="509"/>
                </a:lnTo>
                <a:lnTo>
                  <a:pt x="543" y="610"/>
                </a:lnTo>
                <a:lnTo>
                  <a:pt x="217" y="493"/>
                </a:lnTo>
                <a:lnTo>
                  <a:pt x="142" y="618"/>
                </a:lnTo>
                <a:lnTo>
                  <a:pt x="392" y="835"/>
                </a:lnTo>
                <a:lnTo>
                  <a:pt x="351" y="1002"/>
                </a:lnTo>
                <a:lnTo>
                  <a:pt x="8" y="1027"/>
                </a:lnTo>
                <a:lnTo>
                  <a:pt x="0" y="1211"/>
                </a:lnTo>
                <a:lnTo>
                  <a:pt x="351" y="1261"/>
                </a:lnTo>
                <a:lnTo>
                  <a:pt x="384" y="1419"/>
                </a:lnTo>
                <a:lnTo>
                  <a:pt x="125" y="1653"/>
                </a:lnTo>
                <a:lnTo>
                  <a:pt x="217" y="1795"/>
                </a:lnTo>
                <a:lnTo>
                  <a:pt x="509" y="1661"/>
                </a:lnTo>
                <a:lnTo>
                  <a:pt x="618" y="1770"/>
                </a:lnTo>
                <a:lnTo>
                  <a:pt x="467" y="2045"/>
                </a:lnTo>
                <a:lnTo>
                  <a:pt x="609" y="2162"/>
                </a:lnTo>
                <a:lnTo>
                  <a:pt x="868" y="1912"/>
                </a:lnTo>
                <a:lnTo>
                  <a:pt x="1018" y="1962"/>
                </a:lnTo>
                <a:lnTo>
                  <a:pt x="1052" y="2304"/>
                </a:lnTo>
                <a:lnTo>
                  <a:pt x="1277" y="2313"/>
                </a:lnTo>
                <a:lnTo>
                  <a:pt x="1302" y="1954"/>
                </a:lnTo>
                <a:lnTo>
                  <a:pt x="1494" y="1904"/>
                </a:lnTo>
                <a:lnTo>
                  <a:pt x="1720" y="2154"/>
                </a:lnTo>
                <a:lnTo>
                  <a:pt x="1870" y="2062"/>
                </a:lnTo>
                <a:lnTo>
                  <a:pt x="1720" y="1762"/>
                </a:lnTo>
                <a:lnTo>
                  <a:pt x="1820" y="1636"/>
                </a:lnTo>
                <a:lnTo>
                  <a:pt x="2120" y="1778"/>
                </a:lnTo>
                <a:lnTo>
                  <a:pt x="2212" y="1620"/>
                </a:lnTo>
                <a:lnTo>
                  <a:pt x="1937" y="1419"/>
                </a:lnTo>
                <a:lnTo>
                  <a:pt x="1970" y="1244"/>
                </a:lnTo>
                <a:lnTo>
                  <a:pt x="2312" y="1211"/>
                </a:lnTo>
                <a:lnTo>
                  <a:pt x="2304" y="1035"/>
                </a:lnTo>
                <a:lnTo>
                  <a:pt x="1962" y="985"/>
                </a:lnTo>
                <a:lnTo>
                  <a:pt x="1928" y="852"/>
                </a:lnTo>
                <a:lnTo>
                  <a:pt x="2204" y="660"/>
                </a:lnTo>
                <a:lnTo>
                  <a:pt x="2112" y="501"/>
                </a:lnTo>
                <a:lnTo>
                  <a:pt x="1803" y="626"/>
                </a:lnTo>
                <a:lnTo>
                  <a:pt x="1703" y="526"/>
                </a:lnTo>
                <a:lnTo>
                  <a:pt x="1861" y="234"/>
                </a:lnTo>
                <a:lnTo>
                  <a:pt x="1711" y="142"/>
                </a:lnTo>
                <a:lnTo>
                  <a:pt x="1469" y="384"/>
                </a:lnTo>
                <a:close/>
              </a:path>
            </a:pathLst>
          </a:custGeom>
          <a:gradFill rotWithShape="0">
            <a:gsLst>
              <a:gs pos="0">
                <a:srgbClr val="000054"/>
              </a:gs>
              <a:gs pos="100000">
                <a:srgbClr val="00007a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7147080" y="2556000"/>
            <a:ext cx="2008080" cy="399708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rot="16200000">
            <a:off x="3977280" y="-853200"/>
            <a:ext cx="1722600" cy="3429000"/>
          </a:xfrm>
          <a:custGeom>
            <a:avLst/>
            <a:gdLst/>
            <a:ahLst/>
            <a:rect l="l" t="t" r="r" b="b"/>
            <a:pathLst>
              <a:path w="1265" h="2518">
                <a:moveTo>
                  <a:pt x="1265" y="0"/>
                </a:moveTo>
                <a:lnTo>
                  <a:pt x="1128" y="18"/>
                </a:lnTo>
                <a:lnTo>
                  <a:pt x="1110" y="372"/>
                </a:lnTo>
                <a:lnTo>
                  <a:pt x="946" y="428"/>
                </a:lnTo>
                <a:lnTo>
                  <a:pt x="710" y="127"/>
                </a:lnTo>
                <a:lnTo>
                  <a:pt x="546" y="219"/>
                </a:lnTo>
                <a:lnTo>
                  <a:pt x="701" y="555"/>
                </a:lnTo>
                <a:lnTo>
                  <a:pt x="592" y="665"/>
                </a:lnTo>
                <a:lnTo>
                  <a:pt x="237" y="537"/>
                </a:lnTo>
                <a:lnTo>
                  <a:pt x="155" y="674"/>
                </a:lnTo>
                <a:lnTo>
                  <a:pt x="427" y="911"/>
                </a:lnTo>
                <a:lnTo>
                  <a:pt x="383" y="1093"/>
                </a:lnTo>
                <a:lnTo>
                  <a:pt x="9" y="1121"/>
                </a:lnTo>
                <a:lnTo>
                  <a:pt x="0" y="1322"/>
                </a:lnTo>
                <a:lnTo>
                  <a:pt x="383" y="1376"/>
                </a:lnTo>
                <a:lnTo>
                  <a:pt x="419" y="1549"/>
                </a:lnTo>
                <a:lnTo>
                  <a:pt x="136" y="1804"/>
                </a:lnTo>
                <a:lnTo>
                  <a:pt x="237" y="1959"/>
                </a:lnTo>
                <a:lnTo>
                  <a:pt x="555" y="1813"/>
                </a:lnTo>
                <a:lnTo>
                  <a:pt x="674" y="1932"/>
                </a:lnTo>
                <a:lnTo>
                  <a:pt x="509" y="2232"/>
                </a:lnTo>
                <a:lnTo>
                  <a:pt x="664" y="2360"/>
                </a:lnTo>
                <a:lnTo>
                  <a:pt x="946" y="2087"/>
                </a:lnTo>
                <a:lnTo>
                  <a:pt x="1110" y="2142"/>
                </a:lnTo>
                <a:lnTo>
                  <a:pt x="1147" y="2515"/>
                </a:lnTo>
                <a:lnTo>
                  <a:pt x="1265" y="2518"/>
                </a:lnTo>
                <a:lnTo>
                  <a:pt x="1265" y="0"/>
                </a:lnTo>
                <a:close/>
              </a:path>
            </a:pathLst>
          </a:custGeom>
          <a:gradFill rotWithShape="0">
            <a:gsLst>
              <a:gs pos="0">
                <a:srgbClr val="555bad"/>
              </a:gs>
              <a:gs pos="100000">
                <a:srgbClr val="00007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pic>
        <p:nvPicPr>
          <p:cNvPr id="57" name="Facbanna" descr=""/>
          <p:cNvPicPr/>
          <p:nvPr/>
        </p:nvPicPr>
        <p:blipFill>
          <a:blip r:embed="rId2"/>
          <a:stretch/>
        </p:blipFill>
        <p:spPr>
          <a:xfrm>
            <a:off x="3240" y="-3240"/>
            <a:ext cx="803160" cy="68580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bd18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bd1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C267-CAE2-4B4A-83E2-67CBDDBB6EE0}" type="slidenum">
              <a:rPr b="0" lang="en-US" sz="1400" spc="-1" strike="noStrike">
                <a:solidFill>
                  <a:srgbClr val="ebd18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6156360"/>
            <a:ext cx="9144000" cy="76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Auteur :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Date de création :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Page </a:t>
            </a:r>
            <a:fld id="{ACB77357-70EC-448C-8D38-854B089DC5C0}" type="slidenum">
              <a:rPr b="0" lang="fr-FR" sz="1000" spc="-1" strike="noStrike">
                <a:solidFill>
                  <a:srgbClr val="eaeaea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Nom du fichier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Date de modification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Emplacement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N°de version : </a:t>
            </a:r>
            <a:r>
              <a:rPr b="0" lang="fr-FR" sz="1000" spc="-1" strike="noStrike">
                <a:solidFill>
                  <a:srgbClr val="eaeaea"/>
                </a:solidFill>
                <a:latin typeface="Arial"/>
              </a:rPr>
              <a:t>	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Projet X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Rapport flash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eaeaea"/>
                </a:solidFill>
                <a:latin typeface="Arial"/>
              </a:rPr>
              <a:t>Livrable N°27</a:t>
            </a:r>
            <a:endParaRPr b="0" lang="en-US" sz="1000" spc="-1" strike="noStrike">
              <a:solidFill>
                <a:srgbClr val="eaeaea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600" spc="-1" strike="noStrike">
                <a:solidFill>
                  <a:srgbClr val="ebd189"/>
                </a:solidFill>
                <a:latin typeface="Arial"/>
              </a:rPr>
              <a:t>Comité</a:t>
            </a:r>
            <a:br>
              <a:rPr sz="10600"/>
            </a:br>
            <a:r>
              <a:rPr b="1" lang="en-US" sz="10600" spc="-1" strike="noStrike">
                <a:solidFill>
                  <a:srgbClr val="ebd189"/>
                </a:solidFill>
                <a:latin typeface="Arial"/>
              </a:rPr>
              <a:t>de</a:t>
            </a:r>
            <a:br>
              <a:rPr sz="10600"/>
            </a:br>
            <a:r>
              <a:rPr b="1" lang="en-US" sz="10600" spc="-1" strike="noStrike">
                <a:solidFill>
                  <a:srgbClr val="ebd189"/>
                </a:solidFill>
                <a:latin typeface="Arial"/>
              </a:rPr>
              <a:t>pilotage</a:t>
            </a:r>
            <a:endParaRPr b="0" lang="en-US" sz="10600" spc="-1" strike="noStrike">
              <a:solidFill>
                <a:srgbClr val="ebd18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Comité de pilotage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Dat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ériode concernée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articipan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hases du projet à examiner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ebd189"/>
                </a:solidFill>
                <a:latin typeface="Arial"/>
              </a:rPr>
              <a:t>Etat du prévu / réalisé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lanning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Livrabl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Coût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4"/>
            </a:gs>
            <a:gs pos="50000">
              <a:srgbClr val="00007a"/>
            </a:gs>
            <a:gs pos="100000">
              <a:srgbClr val="00005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bd189"/>
                </a:solidFill>
                <a:latin typeface="Arial"/>
              </a:rPr>
              <a:t>Problèmes rencontrés</a:t>
            </a:r>
            <a:endParaRPr b="0" lang="en-US" sz="4400" spc="-1" strike="noStrike">
              <a:solidFill>
                <a:srgbClr val="ebd18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907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Problèm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b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Pb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ff00"/>
              </a:buClr>
              <a:buSzPct val="8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eaeaea"/>
                </a:solidFill>
                <a:latin typeface="Arial"/>
              </a:rPr>
              <a:t>Solutions proposées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1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ol2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MARCHAT Hugues</cp:lastModifiedBy>
  <dcterms:modified xsi:type="dcterms:W3CDTF">2000-07-05T20:21:25Z</dcterms:modified>
  <cp:revision>11</cp:revision>
  <dc:subject/>
  <dc:title>Organigramme projet</dc:title>
</cp:coreProperties>
</file>