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0063" cy="9748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BFDF-DD51-4D5D-8611-01391879C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8F5B-CB45-4E72-A56E-50D957FA8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3D2C-DA2A-4006-B027-3A781EF1AA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3C38-C025-41CA-98D5-E68BD8B3F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FDC51-DC48-4C66-8DE4-C2048C4C9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5824-6DE1-45CD-8063-45834A3D1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3442A-4B40-44C6-BEC7-DB21BE3E1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3ADC8-80A3-47EA-B2B6-CF1FFD42E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30537-492D-4586-A360-64D16ADD1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040C3-F862-4D36-BBBE-13D0F12A3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AF70E-3F10-42A9-8D0D-A91D462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475CF-7D89-4DFC-9D3F-87B8EB535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87DBC-33EA-45F8-A353-526964A59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B61ED-3645-4E48-A761-CE002335E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C3E34-104E-4341-A261-734C2370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7C0E8-AC66-4BFE-A462-0FCD2B03E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B29C3-E80A-49CD-8BB0-356A7EBDE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6D3F-597D-4702-A113-994F0391F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11E9F-3801-4493-AD7C-A0F635BF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6153-5153-4523-B201-85A55F41C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0552F-C49F-423E-8F68-806B93BD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FB74-50B5-4423-B574-1DC2F53A9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AC74B-6B70-4562-8046-F9CDB7AA2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A014-EFBD-44EC-A4A1-DE60B590F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855FC-A856-459B-89D4-5261DD7821A2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6D1CEC2E-E96A-4BC0-B8E2-944BAB0D953D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"/>
          <p:cNvSpPr/>
          <p:nvPr/>
        </p:nvSpPr>
        <p:spPr>
          <a:xfrm>
            <a:off x="0" y="0"/>
            <a:ext cx="9144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Nom du documen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Livrable N°10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4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103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AB3DC-B451-40A8-81DD-2E257CFBF01C}" type="slidenum">
              <a:rPr b="0" lang="fr-FR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52280" y="6324480"/>
            <a:ext cx="8763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6400800"/>
            <a:ext cx="914400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440" y="6383160"/>
            <a:ext cx="9144000" cy="4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Auteur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création :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Page </a:t>
            </a:r>
            <a:fld id="{E134090D-74F9-41F4-9DCE-CFBC25D82FC7}" type="slidenum">
              <a:rPr b="0" lang="fr-FR" sz="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om du fichier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Date de modificat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Emplacement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N°de version : 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27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Projet X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Présentation de projet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fr-FR" sz="600" spc="-1" strike="noStrike">
                <a:solidFill>
                  <a:srgbClr val="ffffff"/>
                </a:solidFill>
                <a:latin typeface="Arial"/>
              </a:rPr>
              <a:t>             Livrable N°28</a:t>
            </a:r>
            <a:endParaRPr b="0" lang="en-US" sz="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7162920" y="4724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cc00"/>
                </a:solidFill>
                <a:latin typeface="Arial Black"/>
              </a:rPr>
              <a:t>Rapport final</a:t>
            </a:r>
            <a:endParaRPr b="0" lang="en-US" sz="7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1676520" y="4571640"/>
            <a:ext cx="6400800" cy="16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i a été réalisé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vr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fs complémentai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19040" y="836640"/>
            <a:ext cx="83059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Les problèmes rencontré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b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amélior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e qu’il faut renouveler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Remerciement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1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2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t3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7T00:48:07Z</dcterms:created>
  <dc:creator>marchat</dc:creator>
  <dc:description/>
  <dc:language>en-US</dc:language>
  <cp:lastModifiedBy>MARCHAT Hugues</cp:lastModifiedBy>
  <dcterms:modified xsi:type="dcterms:W3CDTF">2000-07-04T21:30:22Z</dcterms:modified>
  <cp:revision>10</cp:revision>
  <dc:subject/>
  <dc:title>Organigramme projet</dc:title>
</cp:coreProperties>
</file>