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76FE-D6DD-4604-A1E7-41E9D3FCC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437A-3012-4A00-8615-A562184D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54C6-05F7-4CB6-8601-3153C602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FD02-B62D-4EE9-989B-98A9381C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02AD-10D2-47BF-9E26-6C3E692F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B1BD-C6F1-4343-80CF-8BCB140D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3EA2-37FC-48E5-8C52-23B2326D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3816-3B08-4303-93FC-7807FEC2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AD70-C25A-4A1C-BD6B-666DE562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E05A-7EA0-49B0-A4DD-F6F116C5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433B-54CE-4792-A033-D14DFB188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2316-51CA-4C27-A221-3A70761AC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440" y="6383160"/>
            <a:ext cx="91440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Auteur :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Date de création :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                                                                Page </a:t>
            </a:r>
            <a:fld id="{62154E38-30BB-4FFA-AE2A-A227D2560265}" type="slidenum">
              <a:rPr b="0" lang="fr-FR" sz="6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Nom du fichier : 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Date de modification : 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Emplacement : 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N°de version : 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0"/>
            <a:ext cx="9144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Projet X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                                                                   Rapport flash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        Livrable N°27</a:t>
            </a:r>
            <a:endParaRPr b="0" lang="en-US" sz="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7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F367-59F8-47D5-865A-6304518CFB8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6324480"/>
            <a:ext cx="8763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156360"/>
            <a:ext cx="9144000" cy="7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Auteur :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Date de création :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Page </a:t>
            </a:r>
            <a:fld id="{693142B3-143B-403F-A4AB-651F76FAAD84}" type="slidenum">
              <a:rPr b="0" lang="fr-FR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Nom du fichier : 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Date de modification : 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Emplacement : 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N°de version : 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rojet X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Rapport flash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Livrable N°27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ebd189"/>
                </a:solidFill>
                <a:latin typeface="Arial"/>
              </a:rPr>
              <a:t>Comité</a:t>
            </a:r>
            <a:br>
              <a:rPr sz="10600"/>
            </a:br>
            <a:r>
              <a:rPr b="1" lang="en-US" sz="10600" spc="-1" strike="noStrike">
                <a:solidFill>
                  <a:srgbClr val="ebd189"/>
                </a:solidFill>
                <a:latin typeface="Arial"/>
              </a:rPr>
              <a:t>de</a:t>
            </a:r>
            <a:br>
              <a:rPr sz="10600"/>
            </a:br>
            <a:r>
              <a:rPr b="1" lang="en-US" sz="10600" spc="-1" strike="noStrike">
                <a:solidFill>
                  <a:srgbClr val="ebd189"/>
                </a:solidFill>
                <a:latin typeface="Arial"/>
              </a:rPr>
              <a:t>pilotage</a:t>
            </a:r>
            <a:endParaRPr b="0" lang="en-US" sz="106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mité de pilotag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Dat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Période concerné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Participant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Phases du projet à examiner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bd189"/>
                </a:solidFill>
                <a:latin typeface="Arial"/>
              </a:rPr>
              <a:t>Etat du prévu / réalisé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Planning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Livrabl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ût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blèmes rencontré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Problèm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b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b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olutions proposé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00:48:07Z</dcterms:created>
  <dc:creator>marchat</dc:creator>
  <dc:description/>
  <dc:language>en-US</dc:language>
  <cp:lastModifiedBy>MARCHAT Hugues</cp:lastModifiedBy>
  <dcterms:modified xsi:type="dcterms:W3CDTF">2000-07-05T20:21:25Z</dcterms:modified>
  <cp:revision>11</cp:revision>
  <dc:subject/>
  <dc:title>Organigramme projet</dc:title>
</cp:coreProperties>
</file>