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90A-330C-42C5-8975-0DE78A73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F1E-31F6-4C9D-A635-C20D068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404-7673-43A8-AC74-B5018AA1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AC0-881A-418C-981C-7D06249D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DDE0-5F89-4B59-B2A5-98EA56F2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FD45-6206-46D0-B0A8-5E4F2F4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AC93-4639-4061-857C-EC78E824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FCC0-38D8-4615-8272-3F0F547D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BA2D-FF0B-4D1C-AE18-DF606C7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1A4D-D49C-491D-B249-972F58E6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204A-381B-4CD3-8188-48167EBF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00D-F9BB-440C-9EF3-43978EB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6DDC-F9F9-4C9C-B78E-352933CB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DD8-127B-4F7B-985F-E761BB3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95B2-88B9-472B-867F-7AD6CCD8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408-D893-4766-9534-4791CB85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CD34-4692-44EF-B9E9-4EC566B3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52061-576B-458C-874B-C0143D22C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265F4-57B6-4DD6-A722-917E3624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05302-946E-4C97-9C07-E4E207F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8417E-DDB5-432F-A177-0DCDAE3C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24DDF-D9CE-4914-9CEF-A03487A2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80B-7AD3-4BC2-8210-B448ACF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BB8E2-A209-4781-9AD1-BF5D11D0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23EE2-2987-43DD-A609-85B3C1F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A661A-8315-4EA8-8CE0-BA19E611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AB4E2-0A86-4A13-A140-48DFE719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60E1C-6921-4BD1-87E8-0DEF8F11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0BBEB-0F31-4963-B17A-1D93205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139CF-9B57-411B-8407-501FE22D5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0F6-B1BC-4BE7-B858-76995904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E40-0288-4318-8847-B912457B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B6C-F922-40E9-9C51-A3FAE393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FE8-7451-4BEC-89DE-7A4374C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5C3-8903-4443-933C-7AB1354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429-8267-4973-BB76-C4788F9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893-05D1-4F08-BDFD-79D8604E75B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F6BC6C84-2DCA-4626-8374-A25D60811B8A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38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E3887DE9-EE66-4252-95D8-E1E1F2C44014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30/09/2000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\polo\communicatio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5844-4143-4B86-A128-E6DCD700B95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026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50" name="Freeform 1027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028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029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30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031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32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33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034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35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36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37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1038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1039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040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041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042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043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044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045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46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047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048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49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050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051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052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053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059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60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6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 Karen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484274CA-860B-4DEB-A291-CBE6847EA026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 28-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 30 septembre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 C:\polo\communication\présentations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 1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6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olo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BD14-A701-4E11-A424-B3A04B924C5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logiciel de gestion des st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site opérationnel de v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communication vers le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 complémentair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itiation à la micro-informa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ensibilisation à l’ensemble des techniques mises en œuv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904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planning trop serré dès le dé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disponibilité des acteurs de ter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développement en RAD du site (logique difficile à mettre en œuv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éalisation de l’interface graphique du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rganisation du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finesse de la plan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igueur dans la communication opérationnelle (compte rendus écrits synthétiqu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mode de fonctionnement avec le commandi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mise en place des rôles de chacun (temps pris pour la définition des fiches de po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gestion de la communication promotionn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Philippe qui a consacré beaucoup de son temps personnel au proj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Claudio pour sa rigu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François pour sa disponibi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À Henri pour la confiance accord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EFII-CAPS</dc:creator>
  <dc:description/>
  <dc:language>en-US</dc:language>
  <cp:lastModifiedBy>Utilisateur Windows</cp:lastModifiedBy>
  <dcterms:modified xsi:type="dcterms:W3CDTF">2008-06-18T06:50:03Z</dcterms:modified>
  <cp:revision>19</cp:revision>
  <dc:subject>O3-MODELES</dc:subject>
  <dc:title>Présentation de projet</dc:title>
</cp:coreProperties>
</file>