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7479-0B4C-4939-9B76-BFEF0DBA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0AD-521B-4121-9495-D1D84CC1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CF0-804E-4014-8D89-31EA0377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322-534C-424E-919F-102ECC59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01A-3283-4D3C-8E10-74A2D0DD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809-0D57-463E-8CBA-6C8DB44A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77F-156D-4B0E-96C0-79FB2BE1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0DA-B464-4D27-8E2E-4E384F34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ED5-B6DB-446F-A36F-98EC3772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932-808C-42E7-AD95-BBFDBB42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A91-2D12-4A4C-BB93-180AE0C7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CF9-5A69-4568-BBC2-C7EC1051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" name="Text Box 22"/>
          <p:cNvSpPr/>
          <p:nvPr/>
        </p:nvSpPr>
        <p:spPr>
          <a:xfrm>
            <a:off x="1440" y="6383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création : 03 juillet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Page </a:t>
            </a:r>
            <a:fld id="{7A5D6960-B077-4451-BE44-6ECD2BF7F24C}" type="slidenum">
              <a:rPr b="0" lang="fr-FR" sz="6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om du fichier :  27-Rapport flash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modification :  03 juillet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Emplacement  :C:\polo\communication\réunions\comité de pilotage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°de version : 1</a:t>
            </a:r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Text Box 23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   Rapport flash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Livrable N°27</a:t>
            </a:r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7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0" y="6156360"/>
            <a:ext cx="91440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Auteur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création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A4B52DF0-207E-4232-9C89-6E15E97DB53E}" type="slidenum">
              <a:rPr b="0" lang="fr-FR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om du fichier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modificat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Emplacement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°de vers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Projet X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Rapport flash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Livrable N°27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BB12-711F-44C4-84C6-FF44B0FC9401}" type="slidenum">
              <a:rPr b="0" lang="fr-F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ebd189"/>
                </a:solidFill>
                <a:latin typeface="Arial"/>
              </a:rPr>
              <a:t>Comité</a:t>
            </a:r>
            <a:br>
              <a:rPr sz="10600"/>
            </a:br>
            <a:r>
              <a:rPr b="1" lang="fr-FR" sz="10600" spc="-1" strike="noStrike">
                <a:solidFill>
                  <a:srgbClr val="ebd189"/>
                </a:solidFill>
                <a:latin typeface="Arial"/>
              </a:rPr>
              <a:t>de</a:t>
            </a:r>
            <a:br>
              <a:rPr sz="10600"/>
            </a:br>
            <a:r>
              <a:rPr b="1" lang="fr-FR" sz="10600" spc="-1" strike="noStrike">
                <a:solidFill>
                  <a:srgbClr val="ebd189"/>
                </a:solidFill>
                <a:latin typeface="Arial"/>
              </a:rPr>
              <a:t>pilotage</a:t>
            </a:r>
            <a:endParaRPr b="0" lang="en-US" sz="106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26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Comité de pilot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03 juille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05 juin au 03 juille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Henri, Philippe, Kar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hases du projet à examiner 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ise en place du si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ise en production du si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État du prévu / réali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899136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Problèmes rencontré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blèm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Disponibilité de Christoph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Solutions proposé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Faire faire la comm. par le C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Intégrer un nouveau responsable de la commun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EFII-CAPS</dc:creator>
  <dc:description/>
  <dc:language>en-US</dc:language>
  <cp:lastModifiedBy>Utilisateur Windows</cp:lastModifiedBy>
  <dcterms:modified xsi:type="dcterms:W3CDTF">2008-06-18T06:44:49Z</dcterms:modified>
  <cp:revision>16</cp:revision>
  <dc:subject>O3-MODELES</dc:subject>
  <dc:title>Rapport flash </dc:title>
</cp:coreProperties>
</file>