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0063" cy="9748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2AF8-9836-4809-90AC-DA168C93F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847E-4294-4840-BA65-9C7535D24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414E-8378-4E2C-AA48-81D4300FE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247E-B36D-4182-BB52-998BC2C59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90090-413B-47A8-9EBF-9D1CB9465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7C5CB-A1BC-4FFF-8D09-B7670C0BC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18F5B-2315-4F8F-87A0-6A4592E8D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A232F-64B6-4ED4-8720-979E4E354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2C984-A101-4EB9-856B-E03E36542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3AFEB-8114-44F8-9F2F-ED4AB2172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4215E-97BD-4560-8363-71237F0C7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9BDD-1D7D-46BE-899F-7125B16C5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C919E-D4C6-4D12-A333-FE05E1F04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788FB-A02C-4A7E-90B5-BA0E6CABE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0874A-6D02-4B8C-9A45-241E054E6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C6689-0134-49D4-8749-E34B8C0BB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3D9CE-6C33-41A8-8EBE-1CBEE4767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2EE539-2DFA-4541-B626-DABE6F2DCF9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8848B9-9295-4ECB-A3D7-018676B25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F78BF6-DE18-459A-B19C-F7967652E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1E297D-054F-4893-9351-C218553A3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9B63D6-72C1-4284-851B-6F6434C1C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3578-E426-47AC-B2D3-33AD4BEA2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D0D3CC-B0FE-4421-AEBB-FC07D531E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F808EF-26D9-47BD-A239-323F39E4A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2E80B6-6477-4F4D-89F8-67C0D0DE5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D1D9B4-C0A1-4FD8-BFEB-89EDED977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2F1C1C-41F4-4EBD-866C-9D2ED849B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B93249-3F9E-426A-A8C2-85FCF9AC5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9DB399-CC5F-4183-91E1-BAAE742656D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5E55-186E-4BCD-9B23-AD661B121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93E5-F179-497D-A909-8AFC4E6A4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20AC-D7B9-4C31-8618-6E59CE439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953B-07B5-4571-AAAB-10D99CA09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B3C2-C077-453F-9904-213BB8297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654F-6311-4167-8147-1DD4B3303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1027"/>
            <p:cNvSpPr/>
            <p:nvPr/>
          </p:nvSpPr>
          <p:spPr>
            <a:xfrm>
              <a:off x="2590920" y="6120"/>
              <a:ext cx="2757240" cy="687816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1028"/>
            <p:cNvSpPr/>
            <p:nvPr/>
          </p:nvSpPr>
          <p:spPr>
            <a:xfrm>
              <a:off x="0" y="2880"/>
              <a:ext cx="2757600" cy="68720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1029"/>
            <p:cNvSpPr/>
            <p:nvPr/>
          </p:nvSpPr>
          <p:spPr>
            <a:xfrm>
              <a:off x="5943600" y="7560"/>
              <a:ext cx="2760840" cy="68734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1030"/>
            <p:cNvSpPr/>
            <p:nvPr/>
          </p:nvSpPr>
          <p:spPr>
            <a:xfrm>
              <a:off x="3048120" y="0"/>
              <a:ext cx="3301920" cy="686412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1031"/>
            <p:cNvSpPr/>
            <p:nvPr/>
          </p:nvSpPr>
          <p:spPr>
            <a:xfrm>
              <a:off x="185760" y="168120"/>
              <a:ext cx="5562720" cy="24379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1032"/>
            <p:cNvSpPr/>
            <p:nvPr/>
          </p:nvSpPr>
          <p:spPr>
            <a:xfrm flipH="1" rot="2703000">
              <a:off x="1285200" y="1230120"/>
              <a:ext cx="4038480" cy="16002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1033"/>
            <p:cNvSpPr/>
            <p:nvPr/>
          </p:nvSpPr>
          <p:spPr>
            <a:xfrm>
              <a:off x="131760" y="91800"/>
              <a:ext cx="5562720" cy="24379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34"/>
            <p:cNvSpPr/>
            <p:nvPr/>
          </p:nvSpPr>
          <p:spPr>
            <a:xfrm rot="18703800">
              <a:off x="-1561680" y="1666080"/>
              <a:ext cx="5562360" cy="24382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035"/>
            <p:cNvSpPr/>
            <p:nvPr/>
          </p:nvSpPr>
          <p:spPr>
            <a:xfrm rot="19294800">
              <a:off x="2112840" y="1463040"/>
              <a:ext cx="5705640" cy="27540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1036"/>
            <p:cNvSpPr/>
            <p:nvPr/>
          </p:nvSpPr>
          <p:spPr>
            <a:xfrm flipH="1" rot="2085000">
              <a:off x="2951280" y="1386720"/>
              <a:ext cx="5562360" cy="24382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Freeform 1037"/>
            <p:cNvSpPr/>
            <p:nvPr/>
          </p:nvSpPr>
          <p:spPr>
            <a:xfrm>
              <a:off x="6746760" y="2880"/>
              <a:ext cx="1729080" cy="36270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Rectangle 1038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039"/>
            <p:cNvSpPr/>
            <p:nvPr/>
          </p:nvSpPr>
          <p:spPr>
            <a:xfrm>
              <a:off x="2590920" y="6294240"/>
              <a:ext cx="2757240" cy="6058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040"/>
            <p:cNvSpPr/>
            <p:nvPr/>
          </p:nvSpPr>
          <p:spPr>
            <a:xfrm>
              <a:off x="0" y="6294240"/>
              <a:ext cx="2757600" cy="6044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041"/>
            <p:cNvSpPr/>
            <p:nvPr/>
          </p:nvSpPr>
          <p:spPr>
            <a:xfrm>
              <a:off x="5943600" y="6294240"/>
              <a:ext cx="2760840" cy="6058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042"/>
            <p:cNvSpPr/>
            <p:nvPr/>
          </p:nvSpPr>
          <p:spPr>
            <a:xfrm>
              <a:off x="3048120" y="6294240"/>
              <a:ext cx="3301920" cy="60444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Rectangle 1043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1044"/>
            <p:cNvSpPr/>
            <p:nvPr/>
          </p:nvSpPr>
          <p:spPr>
            <a:xfrm>
              <a:off x="4100400" y="6233760"/>
              <a:ext cx="1644840" cy="66636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1045"/>
            <p:cNvSpPr/>
            <p:nvPr/>
          </p:nvSpPr>
          <p:spPr>
            <a:xfrm flipH="1" rot="18897000">
              <a:off x="2358720" y="6182640"/>
              <a:ext cx="1682640" cy="7621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Freeform 1046"/>
            <p:cNvSpPr/>
            <p:nvPr/>
          </p:nvSpPr>
          <p:spPr>
            <a:xfrm flipH="1" rot="18897000">
              <a:off x="1215720" y="6182640"/>
              <a:ext cx="1682640" cy="7621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1047"/>
            <p:cNvSpPr/>
            <p:nvPr/>
          </p:nvSpPr>
          <p:spPr>
            <a:xfrm flipH="1" rot="18897000">
              <a:off x="48240" y="6132960"/>
              <a:ext cx="1641240" cy="7729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1048"/>
            <p:cNvSpPr/>
            <p:nvPr/>
          </p:nvSpPr>
          <p:spPr>
            <a:xfrm flipH="1" flipV="1">
              <a:off x="913680" y="6221160"/>
              <a:ext cx="5638680" cy="6854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Freeform 1049"/>
            <p:cNvSpPr/>
            <p:nvPr/>
          </p:nvSpPr>
          <p:spPr>
            <a:xfrm flipH="1" flipV="1">
              <a:off x="380520" y="6221160"/>
              <a:ext cx="2438640" cy="6854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Freeform 1050"/>
            <p:cNvSpPr/>
            <p:nvPr/>
          </p:nvSpPr>
          <p:spPr>
            <a:xfrm flipH="1" flipV="1">
              <a:off x="4819680" y="6297480"/>
              <a:ext cx="2114640" cy="6076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Freeform 1051"/>
            <p:cNvSpPr/>
            <p:nvPr/>
          </p:nvSpPr>
          <p:spPr>
            <a:xfrm flipH="1" flipV="1">
              <a:off x="6324480" y="6221160"/>
              <a:ext cx="2438640" cy="6854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Freeform 1052"/>
            <p:cNvSpPr/>
            <p:nvPr/>
          </p:nvSpPr>
          <p:spPr>
            <a:xfrm flipH="1" flipV="1">
              <a:off x="5486400" y="6221160"/>
              <a:ext cx="3657600" cy="6854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Rectangle 1053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CB528-3D54-4FEE-BA3F-8D00A1325F51}" type="slidenum">
              <a:rPr b="0" lang="fr-F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Text Box 1059"/>
          <p:cNvSpPr/>
          <p:nvPr/>
        </p:nvSpPr>
        <p:spPr>
          <a:xfrm>
            <a:off x="152280" y="6324480"/>
            <a:ext cx="8763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Text Box 1060"/>
          <p:cNvSpPr/>
          <p:nvPr/>
        </p:nvSpPr>
        <p:spPr>
          <a:xfrm>
            <a:off x="0" y="640080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Text Box 1061"/>
          <p:cNvSpPr/>
          <p:nvPr/>
        </p:nvSpPr>
        <p:spPr>
          <a:xfrm>
            <a:off x="1440" y="6383160"/>
            <a:ext cx="9144000" cy="4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Auteur : Karen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Date de création : 30 septembre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Page </a:t>
            </a:r>
            <a:fld id="{D1AF1851-6AE0-42D5-8D97-83EFC44FEC3A}" type="slidenum">
              <a:rPr b="0" lang="fr-FR" sz="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Nom du fichier :  28-Présentation de projet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Date de modification :  30 septembre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Emplacement :  C:\polo\communication\présentations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N°de version :  1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Text Box 1062"/>
          <p:cNvSpPr/>
          <p:nvPr/>
        </p:nvSpPr>
        <p:spPr>
          <a:xfrm>
            <a:off x="0" y="0"/>
            <a:ext cx="9144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Polo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Présentation de projet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        Livrable N°28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2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4" name="Freeform 3"/>
            <p:cNvSpPr/>
            <p:nvPr/>
          </p:nvSpPr>
          <p:spPr>
            <a:xfrm>
              <a:off x="2590920" y="-7920"/>
              <a:ext cx="2757240" cy="68785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4"/>
            <p:cNvSpPr/>
            <p:nvPr/>
          </p:nvSpPr>
          <p:spPr>
            <a:xfrm>
              <a:off x="0" y="-11160"/>
              <a:ext cx="2757600" cy="68724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5"/>
            <p:cNvSpPr/>
            <p:nvPr/>
          </p:nvSpPr>
          <p:spPr>
            <a:xfrm>
              <a:off x="5943600" y="-6480"/>
              <a:ext cx="2760840" cy="68738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6"/>
            <p:cNvSpPr/>
            <p:nvPr/>
          </p:nvSpPr>
          <p:spPr>
            <a:xfrm>
              <a:off x="3048120" y="-14400"/>
              <a:ext cx="3301920" cy="686448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7"/>
            <p:cNvSpPr/>
            <p:nvPr/>
          </p:nvSpPr>
          <p:spPr>
            <a:xfrm>
              <a:off x="185760" y="154080"/>
              <a:ext cx="5562720" cy="24382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Freeform 8"/>
            <p:cNvSpPr/>
            <p:nvPr/>
          </p:nvSpPr>
          <p:spPr>
            <a:xfrm flipH="1" rot="2703000">
              <a:off x="1285920" y="1215720"/>
              <a:ext cx="4038840" cy="16002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Freeform 9"/>
            <p:cNvSpPr/>
            <p:nvPr/>
          </p:nvSpPr>
          <p:spPr>
            <a:xfrm>
              <a:off x="131760" y="77760"/>
              <a:ext cx="5562720" cy="24382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Freeform 10"/>
            <p:cNvSpPr/>
            <p:nvPr/>
          </p:nvSpPr>
          <p:spPr>
            <a:xfrm rot="18703800">
              <a:off x="-1562400" y="1652400"/>
              <a:ext cx="5562720" cy="24382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Freeform 11"/>
            <p:cNvSpPr/>
            <p:nvPr/>
          </p:nvSpPr>
          <p:spPr>
            <a:xfrm rot="19294800">
              <a:off x="2112840" y="1449000"/>
              <a:ext cx="5705640" cy="275436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Freeform 12"/>
            <p:cNvSpPr/>
            <p:nvPr/>
          </p:nvSpPr>
          <p:spPr>
            <a:xfrm flipH="1" rot="2085000">
              <a:off x="2950920" y="1372680"/>
              <a:ext cx="5562360" cy="24386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Freeform 13"/>
            <p:cNvSpPr/>
            <p:nvPr/>
          </p:nvSpPr>
          <p:spPr>
            <a:xfrm>
              <a:off x="6746760" y="-11160"/>
              <a:ext cx="1729080" cy="362736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Rectangle 14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Freeform 15"/>
            <p:cNvSpPr/>
            <p:nvPr/>
          </p:nvSpPr>
          <p:spPr>
            <a:xfrm>
              <a:off x="2590920" y="3948120"/>
              <a:ext cx="2757240" cy="6062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Freeform 16"/>
            <p:cNvSpPr/>
            <p:nvPr/>
          </p:nvSpPr>
          <p:spPr>
            <a:xfrm>
              <a:off x="0" y="3948120"/>
              <a:ext cx="2757600" cy="60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17"/>
            <p:cNvSpPr/>
            <p:nvPr/>
          </p:nvSpPr>
          <p:spPr>
            <a:xfrm>
              <a:off x="5943600" y="3948120"/>
              <a:ext cx="2760840" cy="6062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Freeform 18"/>
            <p:cNvSpPr/>
            <p:nvPr/>
          </p:nvSpPr>
          <p:spPr>
            <a:xfrm>
              <a:off x="3048120" y="3948120"/>
              <a:ext cx="3301920" cy="60480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Rectangle 19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Freeform 20"/>
            <p:cNvSpPr/>
            <p:nvPr/>
          </p:nvSpPr>
          <p:spPr>
            <a:xfrm>
              <a:off x="4100400" y="3887640"/>
              <a:ext cx="1644840" cy="6667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Freeform 21"/>
            <p:cNvSpPr/>
            <p:nvPr/>
          </p:nvSpPr>
          <p:spPr>
            <a:xfrm flipH="1" rot="18897000">
              <a:off x="2358720" y="3836880"/>
              <a:ext cx="1683000" cy="76176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Freeform 22"/>
            <p:cNvSpPr/>
            <p:nvPr/>
          </p:nvSpPr>
          <p:spPr>
            <a:xfrm flipH="1" rot="18897000">
              <a:off x="1215720" y="3836880"/>
              <a:ext cx="1683000" cy="76176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Freeform 23"/>
            <p:cNvSpPr/>
            <p:nvPr/>
          </p:nvSpPr>
          <p:spPr>
            <a:xfrm flipH="1" rot="18897000">
              <a:off x="47160" y="3786840"/>
              <a:ext cx="1641600" cy="7729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Freeform 24"/>
            <p:cNvSpPr/>
            <p:nvPr/>
          </p:nvSpPr>
          <p:spPr>
            <a:xfrm flipH="1" flipV="1">
              <a:off x="913680" y="3874320"/>
              <a:ext cx="5638680" cy="685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Freeform 25"/>
            <p:cNvSpPr/>
            <p:nvPr/>
          </p:nvSpPr>
          <p:spPr>
            <a:xfrm flipH="1" flipV="1">
              <a:off x="380520" y="3874320"/>
              <a:ext cx="2438640" cy="685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Freeform 26"/>
            <p:cNvSpPr/>
            <p:nvPr/>
          </p:nvSpPr>
          <p:spPr>
            <a:xfrm flipH="1" flipV="1">
              <a:off x="4819680" y="3950640"/>
              <a:ext cx="2114640" cy="6080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Freeform 27"/>
            <p:cNvSpPr/>
            <p:nvPr/>
          </p:nvSpPr>
          <p:spPr>
            <a:xfrm flipH="1" flipV="1">
              <a:off x="6324480" y="3874320"/>
              <a:ext cx="2438640" cy="685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Freeform 28"/>
            <p:cNvSpPr/>
            <p:nvPr/>
          </p:nvSpPr>
          <p:spPr>
            <a:xfrm flipH="1" flipV="1">
              <a:off x="5486400" y="3874320"/>
              <a:ext cx="3657600" cy="685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Rectangle 29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Rectangle 30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Rectangle 31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03" name="Picture 32" descr="D:\FRONTPAGE THEMES\BLITZ\BTZBUL1A.GIF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" name="Text Box 38"/>
          <p:cNvSpPr/>
          <p:nvPr/>
        </p:nvSpPr>
        <p:spPr>
          <a:xfrm>
            <a:off x="152280" y="6324480"/>
            <a:ext cx="8763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Text Box 39"/>
          <p:cNvSpPr/>
          <p:nvPr/>
        </p:nvSpPr>
        <p:spPr>
          <a:xfrm>
            <a:off x="0" y="640080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Text Box 40"/>
          <p:cNvSpPr/>
          <p:nvPr/>
        </p:nvSpPr>
        <p:spPr>
          <a:xfrm>
            <a:off x="1440" y="6383160"/>
            <a:ext cx="9144000" cy="4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Auteur : Karen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Date de création :  30/09/2000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Page </a:t>
            </a:r>
            <a:fld id="{6F39D85C-AEF1-4D6C-A7BC-43A217C82BE0}" type="slidenum">
              <a:rPr b="0" lang="fr-FR" sz="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Nom du fichier :  28-Présentation de projet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Date de modification : 30/09/2000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Emplacement :  C\polo\communicatio\présentations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N°de version : 1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Text Box 41"/>
          <p:cNvSpPr/>
          <p:nvPr/>
        </p:nvSpPr>
        <p:spPr>
          <a:xfrm>
            <a:off x="0" y="0"/>
            <a:ext cx="9144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Polo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Présentation de projet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             Livrable N°28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BE10F-553A-467D-8DA2-C549C398EAF5}" type="slidenum">
              <a:rPr b="0" lang="fr-F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Group 1026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50" name="Freeform 1027"/>
            <p:cNvSpPr/>
            <p:nvPr/>
          </p:nvSpPr>
          <p:spPr>
            <a:xfrm>
              <a:off x="2590920" y="6120"/>
              <a:ext cx="2757240" cy="687816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Freeform 1028"/>
            <p:cNvSpPr/>
            <p:nvPr/>
          </p:nvSpPr>
          <p:spPr>
            <a:xfrm>
              <a:off x="0" y="2880"/>
              <a:ext cx="2757600" cy="68720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Freeform 1029"/>
            <p:cNvSpPr/>
            <p:nvPr/>
          </p:nvSpPr>
          <p:spPr>
            <a:xfrm>
              <a:off x="5943600" y="7560"/>
              <a:ext cx="2760840" cy="68734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Freeform 1030"/>
            <p:cNvSpPr/>
            <p:nvPr/>
          </p:nvSpPr>
          <p:spPr>
            <a:xfrm>
              <a:off x="3048120" y="0"/>
              <a:ext cx="3301920" cy="686412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Freeform 1031"/>
            <p:cNvSpPr/>
            <p:nvPr/>
          </p:nvSpPr>
          <p:spPr>
            <a:xfrm>
              <a:off x="185760" y="168120"/>
              <a:ext cx="5562720" cy="24379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Freeform 1032"/>
            <p:cNvSpPr/>
            <p:nvPr/>
          </p:nvSpPr>
          <p:spPr>
            <a:xfrm flipH="1" rot="2703000">
              <a:off x="1285200" y="1230120"/>
              <a:ext cx="4038480" cy="16002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Freeform 1033"/>
            <p:cNvSpPr/>
            <p:nvPr/>
          </p:nvSpPr>
          <p:spPr>
            <a:xfrm>
              <a:off x="131760" y="91800"/>
              <a:ext cx="5562720" cy="24379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Freeform 1034"/>
            <p:cNvSpPr/>
            <p:nvPr/>
          </p:nvSpPr>
          <p:spPr>
            <a:xfrm rot="18703800">
              <a:off x="-1561680" y="1666080"/>
              <a:ext cx="5562360" cy="24382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Freeform 1035"/>
            <p:cNvSpPr/>
            <p:nvPr/>
          </p:nvSpPr>
          <p:spPr>
            <a:xfrm rot="19294800">
              <a:off x="2112840" y="1463040"/>
              <a:ext cx="5705640" cy="27540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Freeform 1036"/>
            <p:cNvSpPr/>
            <p:nvPr/>
          </p:nvSpPr>
          <p:spPr>
            <a:xfrm flipH="1" rot="2085000">
              <a:off x="2951280" y="1386720"/>
              <a:ext cx="5562360" cy="24382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Freeform 1037"/>
            <p:cNvSpPr/>
            <p:nvPr/>
          </p:nvSpPr>
          <p:spPr>
            <a:xfrm>
              <a:off x="6746760" y="2880"/>
              <a:ext cx="1729080" cy="36270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Rectangle 1038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Freeform 1039"/>
            <p:cNvSpPr/>
            <p:nvPr/>
          </p:nvSpPr>
          <p:spPr>
            <a:xfrm>
              <a:off x="2590920" y="6294240"/>
              <a:ext cx="2757240" cy="6058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Freeform 1040"/>
            <p:cNvSpPr/>
            <p:nvPr/>
          </p:nvSpPr>
          <p:spPr>
            <a:xfrm>
              <a:off x="0" y="6294240"/>
              <a:ext cx="2757600" cy="6044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Freeform 1041"/>
            <p:cNvSpPr/>
            <p:nvPr/>
          </p:nvSpPr>
          <p:spPr>
            <a:xfrm>
              <a:off x="5943600" y="6294240"/>
              <a:ext cx="2760840" cy="6058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Freeform 1042"/>
            <p:cNvSpPr/>
            <p:nvPr/>
          </p:nvSpPr>
          <p:spPr>
            <a:xfrm>
              <a:off x="3048120" y="6294240"/>
              <a:ext cx="3301920" cy="60444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Rectangle 1043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Freeform 1044"/>
            <p:cNvSpPr/>
            <p:nvPr/>
          </p:nvSpPr>
          <p:spPr>
            <a:xfrm>
              <a:off x="4100400" y="6233760"/>
              <a:ext cx="1644840" cy="66636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Freeform 1045"/>
            <p:cNvSpPr/>
            <p:nvPr/>
          </p:nvSpPr>
          <p:spPr>
            <a:xfrm flipH="1" rot="18897000">
              <a:off x="2358720" y="6182640"/>
              <a:ext cx="1682640" cy="7621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Freeform 1046"/>
            <p:cNvSpPr/>
            <p:nvPr/>
          </p:nvSpPr>
          <p:spPr>
            <a:xfrm flipH="1" rot="18897000">
              <a:off x="1215720" y="6182640"/>
              <a:ext cx="1682640" cy="7621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Freeform 1047"/>
            <p:cNvSpPr/>
            <p:nvPr/>
          </p:nvSpPr>
          <p:spPr>
            <a:xfrm flipH="1" rot="18897000">
              <a:off x="48240" y="6132960"/>
              <a:ext cx="1641240" cy="7729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Freeform 1048"/>
            <p:cNvSpPr/>
            <p:nvPr/>
          </p:nvSpPr>
          <p:spPr>
            <a:xfrm flipH="1" flipV="1">
              <a:off x="913680" y="6221160"/>
              <a:ext cx="5638680" cy="6854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Freeform 1049"/>
            <p:cNvSpPr/>
            <p:nvPr/>
          </p:nvSpPr>
          <p:spPr>
            <a:xfrm flipH="1" flipV="1">
              <a:off x="380520" y="6221160"/>
              <a:ext cx="2438640" cy="6854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Freeform 1050"/>
            <p:cNvSpPr/>
            <p:nvPr/>
          </p:nvSpPr>
          <p:spPr>
            <a:xfrm flipH="1" flipV="1">
              <a:off x="4819680" y="6297480"/>
              <a:ext cx="2114640" cy="6076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Freeform 1051"/>
            <p:cNvSpPr/>
            <p:nvPr/>
          </p:nvSpPr>
          <p:spPr>
            <a:xfrm flipH="1" flipV="1">
              <a:off x="6324480" y="6221160"/>
              <a:ext cx="2438640" cy="6854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Freeform 1052"/>
            <p:cNvSpPr/>
            <p:nvPr/>
          </p:nvSpPr>
          <p:spPr>
            <a:xfrm flipH="1" flipV="1">
              <a:off x="5486400" y="6221160"/>
              <a:ext cx="3657600" cy="6854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Rectangle 1053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7" name="Text Box 1059"/>
          <p:cNvSpPr/>
          <p:nvPr/>
        </p:nvSpPr>
        <p:spPr>
          <a:xfrm>
            <a:off x="152280" y="6324480"/>
            <a:ext cx="8763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Text Box 1060"/>
          <p:cNvSpPr/>
          <p:nvPr/>
        </p:nvSpPr>
        <p:spPr>
          <a:xfrm>
            <a:off x="0" y="640080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Text Box 1061"/>
          <p:cNvSpPr/>
          <p:nvPr/>
        </p:nvSpPr>
        <p:spPr>
          <a:xfrm>
            <a:off x="1440" y="6383160"/>
            <a:ext cx="9144000" cy="4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Auteur : Karen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Date de création : 30 septembre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Page </a:t>
            </a:r>
            <a:fld id="{1E40A76D-ABD2-48C5-84B0-E1A5E484650A}" type="slidenum">
              <a:rPr b="0" lang="fr-FR" sz="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Nom du fichier :  28-Présentation de projet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Date de modification :  30 septembre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Emplacement :  C:\polo\communication\présentations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N°de version :  1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Text Box 1062"/>
          <p:cNvSpPr/>
          <p:nvPr/>
        </p:nvSpPr>
        <p:spPr>
          <a:xfrm>
            <a:off x="0" y="0"/>
            <a:ext cx="9144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Polo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Présentation de projet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        Livrable N°28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7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sldNum" idx="8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FDAAA-9247-4489-9683-EAF76FE534A6}" type="slidenum">
              <a:rPr b="0" lang="fr-F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7162920" y="472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ffcc00"/>
                </a:solidFill>
                <a:latin typeface="Arial Black"/>
              </a:rPr>
              <a:t>Rapport final</a:t>
            </a:r>
            <a:endParaRPr b="0" lang="en-US" sz="7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1676520" y="4571640"/>
            <a:ext cx="640080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cc00"/>
                </a:solidFill>
                <a:latin typeface="Arial Black"/>
              </a:rPr>
              <a:t>Ce qui a été réalisé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Le logiciel de gestion des stoc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Le site opérationnel de ven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Une communication vers les cl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Objectifs complémentaires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itiation à la micro-informatiq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Sensibilisation à l’ensemble des techniques mises en œuv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19040" y="8377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cc00"/>
                </a:solidFill>
                <a:latin typeface="Arial Black"/>
              </a:rPr>
              <a:t>Les problèmes rencontré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Le planning trop serré dès le dépa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La disponibilité des acteurs de terr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Le développement en RAD du site (logique difficile à mettre en œuvr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La réalisation de l’interface graphique du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cc00"/>
                </a:solidFill>
                <a:latin typeface="Arial Black"/>
              </a:rPr>
              <a:t>Ce qu’il faut améliorer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L’organisation du repor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La finesse de la planif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La rigueur dans la communication opérationnelle (compte rendus écrits synthétiqu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cc00"/>
                </a:solidFill>
                <a:latin typeface="Arial Black"/>
              </a:rPr>
              <a:t>Ce qu’il faut renouveler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Le mode de fonctionnement avec le commanditai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La mise en place des rôles de chacun (temps pris pour la définition des fiches de post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La gestion de la communication promotionnel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cc00"/>
                </a:solidFill>
                <a:latin typeface="Arial Black"/>
              </a:rPr>
              <a:t>Remerciement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À Philippe qui a consacré beaucoup de son temps personnel au proj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À Claudio pour sa rigue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À François pour sa disponibilit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À Henri pour la confiance accordé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07T00:48:07Z</dcterms:created>
  <dc:creator>EFII-CAPS</dc:creator>
  <dc:description/>
  <dc:language>en-US</dc:language>
  <cp:lastModifiedBy>Utilisateur Windows</cp:lastModifiedBy>
  <dcterms:modified xsi:type="dcterms:W3CDTF">2008-06-18T06:50:03Z</dcterms:modified>
  <cp:revision>19</cp:revision>
  <dc:subject>O3-MODELES</dc:subject>
  <dc:title>Présentation de projet</dc:title>
</cp:coreProperties>
</file>