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E35-DDA3-4BC1-9E27-2F7DB2E3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CBF-DA18-4B72-A247-246C515D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4B5-8BB6-4566-BDE6-346C913F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231-6582-490E-8AE5-0EFFB3EF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6FB-B47E-4F7E-A162-D005B77A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FD2-D810-4DF4-9EEE-832EF7DA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FDE-F301-41F9-B28C-72C6F64A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3DA-CEEC-4E36-9598-633D53D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6E5-EE7A-40E8-8694-DE3660DE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7A6-E497-4604-8B8C-EAFC4556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F65-613C-4AB9-8CDF-11187337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45D-E07F-4E72-8B68-CBAD928D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1440" y="6383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création :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Page </a:t>
            </a:r>
            <a:fld id="{D816299D-6B0F-4D25-89A9-2BC527BFF02E}" type="slidenum">
              <a:rPr b="0" lang="fr-FR" sz="6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om du fichier :  27-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modification :  03 juillet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Emplacement  :C:\polo\communication\réunions\comité de pilotage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°de version : 1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Livrable N°27</a:t>
            </a:r>
            <a:endParaRPr b="0" lang="en-US" sz="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7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0" y="6156360"/>
            <a:ext cx="9144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1C1BDF49-18C8-4F7E-AF00-7650430B63E9}" type="slidenum">
              <a:rPr b="0" lang="fr-F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Rapport flash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Livrable N°27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2476-3062-4C1F-98BE-E95867C937B0}" type="slidenum">
              <a:rPr b="0" lang="fr-F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Comité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de</a:t>
            </a:r>
            <a:br>
              <a:rPr sz="10600"/>
            </a:br>
            <a:r>
              <a:rPr b="1" lang="fr-FR" sz="10600" spc="-1" strike="noStrike">
                <a:solidFill>
                  <a:srgbClr val="ebd189"/>
                </a:solidFill>
                <a:latin typeface="Arial"/>
              </a:rPr>
              <a:t>pilotage</a:t>
            </a:r>
            <a:endParaRPr b="0" lang="en-US" sz="10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Comité de pilo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05 juin au 03 juille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Henri, Philippe, Kar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hases du projet à examiner 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lace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ise en production du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État du prévu / réali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99136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Problèmes rencontré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blèm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Disponibilité de Christoph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Solutions proposé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Faire faire la comm. par le C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Intégrer un nouveau responsable de la commun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44:49Z</dcterms:modified>
  <cp:revision>16</cp:revision>
  <dc:subject>O3-MODELES</dc:subject>
  <dc:title>Rapport flash </dc:title>
</cp:coreProperties>
</file>