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C49-5B33-4ED2-8BA6-DB19E8EE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E2B-4742-4777-B4BD-7B6117D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942-E92C-4319-B685-DB25E7EE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EF5-D1EF-47E2-97B9-7276BA01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15B-C8A4-4FE4-BCC3-3EB8AA98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FF09-172B-4D3B-802F-FB8F9CF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1E9-AD5B-4449-BD56-3D21C94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7C1-DFAA-4BD5-9ED1-4AB7694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F24-5F7C-4B2D-8A4B-9FEC9F2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A5A-418D-4713-863E-7776B86A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DB58-335C-4F17-AA85-BDD16EA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9CD-FBA7-4065-9ABF-AD0F221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462-C48F-4735-A40E-8A5919C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29A-DA5A-4F35-87CC-6BCC143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07A7-1972-477A-BDD8-9F81B91A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0D68-3565-4476-80C8-1FA69AAC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74B-551F-45AB-9182-0C83B690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67CB4-FD6C-46B3-A4E8-75DB75D60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EE4AA-7C29-4BE7-B7BB-F6F0B96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CDA3B-410D-40EC-A057-A617D67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8DC68-80EC-450F-B7A0-DE6D7D2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2B208-3439-4CBA-81B1-634ADC43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E76-6D27-475A-94C5-CAEEAFC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7E40E-0A07-4965-9E86-63D743DD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90BA6-7F72-4219-92B5-3A4DEA45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38B5D-21FA-4AC4-BF02-12C26BF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D8DBD-5460-4D26-8FD3-C3E5594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257FB-2591-47FB-AC84-B7175F88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E946F-28F5-433E-8129-932B7C8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2906C-B6B6-40AA-A434-CCCADC6F9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82F-1039-4B3D-8D05-A691096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DE1-0305-46F8-8413-5249C9E3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21F-D015-4FB6-9B41-4120944D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BAE-F03F-47C0-B786-B40CE7B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73E-CCD6-4672-A5E0-96ED186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2D4-9D0E-4CB6-9FD9-7991FD5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EF14-2523-4B6E-AD73-3B2ECD2F4C3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12C9D012-4243-4CDC-A4FC-EBFFE6DDBA8F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38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AA2E089C-63A9-4C35-985B-D5024993E70B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\polo\communicatio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F21-E0B0-4DBD-B33A-ACDDF62BC19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50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2ADEB9A0-69D5-490A-94FC-B06ECE05A178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934-EFC1-4EB1-9B4B-4FB37BB2031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logiciel de gestion des st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ite opérationnel de v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communication vers le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complémentair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itiation à la micro-inform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nsibilisation à l’ensemble des techniques mises en œuv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lanning trop serré dès le dé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isponibilité des acteurs de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développement en RAD du site (logique difficile à mettre en œuv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éalisation de l’interface graphique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du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inesse de la plan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igueur dans la communication opérationnelle (compte rendus écrits synthétiq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mode de fonctionnement avec le commandi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ise en place des rôles de chacun (temps pris pour la définition des fiches de po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gestion de la communication promot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Philippe qui a consacré beaucoup de son temps personnel a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Claudio pour sa rig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François pour sa disponi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Henri pour la confiance accord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50:03Z</dcterms:modified>
  <cp:revision>19</cp:revision>
  <dc:subject>O3-MODELES</dc:subject>
  <dc:title>Présentation de projet</dc:title>
</cp:coreProperties>
</file>