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3192-B296-42D4-83F7-9655F01EF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AD25-F1F7-4F11-908D-BFC6B6B4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9234-DDEC-4BA0-A257-A47D0E4B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14DC-C247-404E-820E-E1991AB5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C887-D0D6-4AEB-943C-CC326942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7835-701F-433D-9879-AB473F36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F632-FDEE-48FA-9F1E-BC91BE86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CAEC-56BB-403E-B367-AC6527DB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906F-F305-49DB-AC5D-68FEB84C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12C7-D8A4-4DA8-A3CB-7C4EA7D0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F1F0-9016-42E5-A8ED-573C70BF3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841E-8309-4FB0-91FA-2AC391678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prstGeom prst="pie">
            <a:avLst/>
          </a:pr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4"/>
          <p:cNvSpPr/>
          <p:nvPr/>
        </p:nvSpPr>
        <p:spPr>
          <a:xfrm>
            <a:off x="1192320" y="353880"/>
            <a:ext cx="2266920" cy="227016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5"/>
          <p:cNvSpPr/>
          <p:nvPr/>
        </p:nvSpPr>
        <p:spPr>
          <a:xfrm>
            <a:off x="2532240" y="1270080"/>
            <a:ext cx="3670200" cy="367164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6"/>
          <p:cNvSpPr/>
          <p:nvPr/>
        </p:nvSpPr>
        <p:spPr>
          <a:xfrm>
            <a:off x="3240" y="4797360"/>
            <a:ext cx="3417840" cy="2097000"/>
          </a:xfrm>
          <a:prstGeom prst="pie">
            <a:avLst/>
          </a:pr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7"/>
          <p:cNvSpPr/>
          <p:nvPr/>
        </p:nvSpPr>
        <p:spPr>
          <a:xfrm>
            <a:off x="4494240" y="4425840"/>
            <a:ext cx="2263680" cy="226404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8"/>
          <p:cNvSpPr/>
          <p:nvPr/>
        </p:nvSpPr>
        <p:spPr>
          <a:xfrm>
            <a:off x="5646600" y="487440"/>
            <a:ext cx="2928960" cy="293040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9"/>
          <p:cNvSpPr/>
          <p:nvPr/>
        </p:nvSpPr>
        <p:spPr>
          <a:xfrm>
            <a:off x="7147080" y="2556000"/>
            <a:ext cx="2008080" cy="399708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Text Box 17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" name="Text Box 22"/>
          <p:cNvSpPr/>
          <p:nvPr/>
        </p:nvSpPr>
        <p:spPr>
          <a:xfrm>
            <a:off x="1440" y="638316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Auteur : Karen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Date de création : 03 juillet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                                                                Page </a:t>
            </a:r>
            <a:fld id="{BC711A2A-9A4A-4CED-BA50-64BE22DB249E}" type="slidenum">
              <a:rPr b="0" lang="fr-FR" sz="6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Nom du fichier :  27-Rapport flash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Date de modification :  03 juillet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Emplacement  :C:\polo\communication\réunions\comité de pilotage 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N°de version : 1</a:t>
            </a:r>
            <a:endParaRPr b="0" lang="en-US" sz="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" name="Text Box 23"/>
          <p:cNvSpPr/>
          <p:nvPr/>
        </p:nvSpPr>
        <p:spPr>
          <a:xfrm>
            <a:off x="0" y="0"/>
            <a:ext cx="9144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Polo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                                                                   Rapport flash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        Livrable N°27</a:t>
            </a:r>
            <a:endParaRPr b="0" lang="en-US" sz="6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2"/>
          <p:cNvSpPr/>
          <p:nvPr/>
        </p:nvSpPr>
        <p:spPr>
          <a:xfrm>
            <a:off x="-11160" y="1836720"/>
            <a:ext cx="2268720" cy="2709720"/>
          </a:xfrm>
          <a:prstGeom prst="pie">
            <a:avLst/>
          </a:pr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" name="Freeform 3"/>
          <p:cNvSpPr/>
          <p:nvPr/>
        </p:nvSpPr>
        <p:spPr>
          <a:xfrm>
            <a:off x="108000" y="15840"/>
            <a:ext cx="838080" cy="787320"/>
          </a:xfrm>
          <a:prstGeom prst="pie">
            <a:avLst/>
          </a:pr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Freeform 4"/>
          <p:cNvSpPr/>
          <p:nvPr/>
        </p:nvSpPr>
        <p:spPr>
          <a:xfrm>
            <a:off x="1192320" y="353880"/>
            <a:ext cx="2266920" cy="227016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5"/>
          <p:cNvSpPr/>
          <p:nvPr/>
        </p:nvSpPr>
        <p:spPr>
          <a:xfrm>
            <a:off x="2532240" y="1270080"/>
            <a:ext cx="3670200" cy="367164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3240" y="4797360"/>
            <a:ext cx="3417840" cy="2097000"/>
          </a:xfrm>
          <a:prstGeom prst="pie">
            <a:avLst/>
          </a:pr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494240" y="4425840"/>
            <a:ext cx="2263680" cy="226404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8"/>
          <p:cNvSpPr/>
          <p:nvPr/>
        </p:nvSpPr>
        <p:spPr>
          <a:xfrm>
            <a:off x="5646600" y="487440"/>
            <a:ext cx="2928960" cy="293040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9"/>
          <p:cNvSpPr/>
          <p:nvPr/>
        </p:nvSpPr>
        <p:spPr>
          <a:xfrm>
            <a:off x="7147080" y="2556000"/>
            <a:ext cx="2008080" cy="399708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10"/>
          <p:cNvSpPr/>
          <p:nvPr/>
        </p:nvSpPr>
        <p:spPr>
          <a:xfrm rot="16200000">
            <a:off x="3977280" y="-853200"/>
            <a:ext cx="1722600" cy="342900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7" name="Picture 11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7"/>
          <p:cNvSpPr/>
          <p:nvPr/>
        </p:nvSpPr>
        <p:spPr>
          <a:xfrm>
            <a:off x="152280" y="632448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0" y="6156360"/>
            <a:ext cx="9144000" cy="7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Auteur :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Date de création :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Page </a:t>
            </a:r>
            <a:fld id="{4245949A-6EB6-48DC-A435-92BDDBC94B70}" type="slidenum">
              <a:rPr b="0" lang="fr-FR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Nom du fichier : 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Date de modification : 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Emplacement : 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N°de version : 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Projet X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Rapport flash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Livrable N°27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4290-6E6B-4C69-B174-741DFB95BCFE}" type="slidenum">
              <a:rPr b="0" lang="fr-FR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600" spc="-1" strike="noStrike">
                <a:solidFill>
                  <a:srgbClr val="ebd189"/>
                </a:solidFill>
                <a:latin typeface="Arial"/>
              </a:rPr>
              <a:t>Comité</a:t>
            </a:r>
            <a:br>
              <a:rPr sz="10600"/>
            </a:br>
            <a:r>
              <a:rPr b="1" lang="fr-FR" sz="10600" spc="-1" strike="noStrike">
                <a:solidFill>
                  <a:srgbClr val="ebd189"/>
                </a:solidFill>
                <a:latin typeface="Arial"/>
              </a:rPr>
              <a:t>de</a:t>
            </a:r>
            <a:br>
              <a:rPr sz="10600"/>
            </a:br>
            <a:r>
              <a:rPr b="1" lang="fr-FR" sz="10600" spc="-1" strike="noStrike">
                <a:solidFill>
                  <a:srgbClr val="ebd189"/>
                </a:solidFill>
                <a:latin typeface="Arial"/>
              </a:rPr>
              <a:t>pilotage</a:t>
            </a:r>
            <a:endParaRPr b="0" lang="en-US" sz="106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026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bd189"/>
                </a:solidFill>
                <a:latin typeface="Arial"/>
              </a:rPr>
              <a:t>Comité de pilotag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03 juillet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05 juin au 03 juillet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Henri, Philippe, Kare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hases du projet à examiner 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Mise en place du si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Mise en production du si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bd189"/>
                </a:solidFill>
                <a:latin typeface="Arial"/>
              </a:rPr>
              <a:t>État du prévu / réalisé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76320" y="1752480"/>
            <a:ext cx="899136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bd189"/>
                </a:solidFill>
                <a:latin typeface="Arial"/>
              </a:rPr>
              <a:t>Problèmes rencontré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blèm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Disponibilité de Christoph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Solutions proposé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Faire faire la comm. par le CP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Intégrer un nouveau responsable de la commun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0:48:07Z</dcterms:created>
  <dc:creator>EFII-CAPS</dc:creator>
  <dc:description/>
  <dc:language>en-US</dc:language>
  <cp:lastModifiedBy>Utilisateur Windows</cp:lastModifiedBy>
  <dcterms:modified xsi:type="dcterms:W3CDTF">2008-06-18T06:44:49Z</dcterms:modified>
  <cp:revision>16</cp:revision>
  <dc:subject>O3-MODELES</dc:subject>
  <dc:title>Rapport flash </dc:title>
</cp:coreProperties>
</file>