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45F-B128-4C4C-A06A-3B25FC76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081-51CF-43BC-9128-D57D6268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737-1E6B-4681-9416-78F739DE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BA5-0E39-449D-9A18-F4211194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E233-8673-4A56-8EE1-2D234A5B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5E1E-9E8C-4EB5-9845-CF40C3CE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152A-B72D-42A0-8CFF-04E12F9E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F05E-6E15-4769-8DA6-5621C714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DD85-8070-4D39-80BD-C9E369FA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95FA-8D89-4728-85AC-342DA2F1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21AD-B366-4F77-A2A4-81EF5792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CB7-E408-4FC2-842E-4FB62249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675C-3608-49A8-B26A-6F1E1E31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28D2-A426-4A17-B823-A65E789C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35B8-8169-4803-BB98-9FAEBDF6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5D18-779F-4DAB-B56A-87B25C09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C382-BB68-44A3-A979-2ED85E2D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A974E-8C2C-4A2A-9569-204FDF73A8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ECEA4-6EC6-4F2D-B4E3-B0054E3E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AE953-3D55-4C3C-B1BF-7BF2487A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D31A2-A0AF-406F-8CC6-480160B2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78F8B-6805-4FFC-94ED-908BFC1E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33F-0FFF-45E7-BF03-D5CD8504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33CC2-BBDE-4138-A02E-7AA61E04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D87D6-72A6-4263-A3EB-BA5DDA57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443C2-0269-4AC3-9AF2-E968FB1C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76BBB-26B4-43C8-9C05-58083378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03741-96EF-4A2B-8CE5-60FB6F44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2DBBA-87E6-4509-934D-91EE8129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56954-F8FD-4713-82B5-A1E3168A9B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D90-2299-46C2-BC2F-89ABB5F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52A-CC96-4EC4-AA04-67C9341D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BDB-F7F8-4819-8391-42500901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A3A-A298-4AE2-908D-B9DE4A10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2F8-6C49-4B4A-9E17-37BC478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217-A80F-4662-AAAC-00908DD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1027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036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037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1049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1050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1051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1052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4DB7-3B2E-4FCB-8BB6-6CE04AA8F2EB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Text Box 1059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Text Box 1060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Text Box 106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6276C396-A314-4B52-A68D-635CAA09BA62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:\polo\communication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Text Box 106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38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 30/09/2000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E437666C-E911-419A-A174-7F50F2D04307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30/09/2000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\polo\communicatio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0" y="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ABF2-D5A4-482C-9581-B524B49838D6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026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50" name="Freeform 1027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028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1029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030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031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032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033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034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035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036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037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1038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039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040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041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042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1043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044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045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46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047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048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049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050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051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052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053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059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60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6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CB94BC06-0835-4758-A363-1FD54C22C765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:\polo\communication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6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8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C02F-906E-4627-8B13-1BAB4947AB05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cc00"/>
                </a:solidFill>
                <a:latin typeface="Arial Black"/>
              </a:rPr>
              <a:t>Rapport final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i a été réalis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logiciel de gestion des st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site opérationnel de v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e communication vers le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jectifs complémentair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itiation à la micro-informa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ensibilisation à l’ensemble des techniques mises en œuv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9040" y="8377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es problèmes rencontré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planning trop serré dès le dé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disponibilité des acteurs de ter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développement en RAD du site (logique difficile à mettre en œuv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éalisation de l’interface graphique du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’il faut améli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organisation du 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finesse de la plan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igueur dans la communication opérationnelle (compte rendus écrits synthétiqu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’il faut renouvel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mode de fonctionnement avec le commandit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mise en place des rôles de chacun (temps pris pour la définition des fiches de po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gestion de la communication promotionn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Remerci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Philippe qui a consacré beaucoup de son temps personnel au proj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Claudio pour sa rigu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François pour sa disponibil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Henri pour la confiance accord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8T06:50:03Z</dcterms:modified>
  <cp:revision>19</cp:revision>
  <dc:subject>O3-MODELES</dc:subject>
  <dc:title>Présentation de projet</dc:title>
</cp:coreProperties>
</file>