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78E-CD70-4A1B-90ED-E4D404D1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39B-FFA7-4696-AF27-1926BC9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6AA-272B-4614-859D-93D333B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689-2512-4648-8A9F-A18FBBA5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64B-4E34-44E1-A2F6-6D283799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53F-2EC6-4829-9212-6DC1FD7F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C82-EFE3-4E89-B29C-F0F483A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98F-728B-4240-B5E9-079EBECF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0AF-4AD7-4926-A630-F40EF211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0A6-C7FA-4816-8C70-DFA4A5F7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CD8-2EEE-4BD6-ACB6-5E1DF00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668-BB94-409E-BBFD-798B5E1B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1440" y="6383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F0ABF443-486A-4AC2-9113-43BD2E0C49B9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 27-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 :C:\polo\communication\réunions\comité de pilotage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1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7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313BFBB8-EE33-427F-B590-65E94C6F811D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99D1-2F53-4F87-BC07-6A2A7F674D83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5 juin au 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Henri, Philippe, Kar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hases du projet à examiner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lace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roduction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É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9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blèm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Disponibilité de Christop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Faire faire la comm. par le C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Intégrer un nouveau responsable de la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44:49Z</dcterms:modified>
  <cp:revision>16</cp:revision>
  <dc:subject>O3-MODELES</dc:subject>
  <dc:title>Rapport flash </dc:title>
</cp:coreProperties>
</file>